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086-83B8-495B-99B6-01D52440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487-FF29-457F-9689-DF180BDC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2DF-B2DB-4820-9F14-0324099B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AE7-22E6-4119-89FF-9D3C8B71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6E02-BAB7-45C8-A863-085D7AE1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C60E-44AD-43F3-85C8-CBFF4DD8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9F1C-4236-4929-A5C9-8014F221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8655-27CD-4177-9AB7-5012AB6A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3EDE-8BF4-46A4-9CAB-56330AF0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E3F1-182E-49FE-8CA9-F3D4889A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C847-12CB-4609-8872-C176E3CC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3D0-6854-4466-A0BF-BF423F0A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A7FA-E1C9-4522-865C-A513FD55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BB97-8E5F-49BA-B0C9-728437B0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70BF-315F-42BD-97FA-660310E4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55F0-38BD-4E44-8A16-817DA4D1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57A7-1362-4772-83CD-C6E7C03B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DF2F-CA66-4EF4-8F72-5755C835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35A0E-3DA8-4C7C-B849-250247FF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5DB0-77B4-4FD0-B440-9BE65975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5F32-F72A-42F8-9CF2-22878208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2068-D97E-42EE-BF95-2960F5B7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B1A-E57E-44E4-B5BC-93B0EE49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A970-BA79-465E-B2B4-312A7CDD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FED4-5CB7-478A-90D5-7485A2BE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E926-6E5E-4B4A-BE84-5298F35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5775-1358-469D-BBB4-1FEE76E1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E85B-C9E8-42E5-B4B6-ECBC2E5C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FDE6-A668-4053-8B4C-B54BD7E3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89E6-2A9C-4DA5-953C-5D06C46E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DD441-8FBA-44E3-BFA8-2DB2BEDE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9776-5194-4A76-A738-5FF793CA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6739-6F4C-4DF1-A7DE-C4E95FD2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877-1615-48BC-8B58-F3E3D2ED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3FEC-3CDA-4786-B0BA-F6E3B77F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8A468-C145-4447-88F4-237A652A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AA32-4BE1-4CCA-B4B8-CA423CA3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9CD5-9111-4D69-A9AA-33C7F8FB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C27B-9C18-4A9C-9B6D-10735C8A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A335C-2C12-4D14-8C01-BEC11063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1924-E3AC-4A6C-81E0-44FE2B1B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DA75-0AC9-45CA-AC76-A499F011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0B8D2-E720-48BD-8FF3-EAF6D682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E9AF8-2333-4395-BC24-873C284B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30F-F0E3-4628-A862-E77FD802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182BC-B082-43BF-8A76-22DB30E2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41F9C-09F1-47A5-9A23-83D3EBB1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8A947-BC8B-462F-B101-B0452AB2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0180-84A4-45DC-9D68-5EEA4915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57A5-C32E-4290-AD66-CBE74326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7F7B-5DAE-4453-8FF8-0C579710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83C0C-CF2C-4814-98DC-6400203E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3CEF4-91E3-420F-B4B7-8F083FED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5C0BA-77AF-462E-AE5C-A178AE7C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F952-CD90-41E1-B3A0-8868960E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A58-C8C9-4CF8-8F70-A3829F4C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9E9D5-9796-408C-89EA-87103F8A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0E2-B844-4094-A5E9-3160A8A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B3E-DF8F-4622-A90F-69653F4B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784-A4EA-43E5-9543-436F9487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E0F6C-D99A-4AE8-B97C-EA0DDF67C45C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565200" y="744120"/>
            <a:ext cx="8005680" cy="5350320"/>
            <a:chOff x="565200" y="744120"/>
            <a:chExt cx="8005680" cy="5350320"/>
          </a:xfrm>
        </p:grpSpPr>
        <p:sp>
          <p:nvSpPr>
            <p:cNvPr id="44" name="Freeform 6"/>
            <p:cNvSpPr/>
            <p:nvPr/>
          </p:nvSpPr>
          <p:spPr>
            <a:xfrm>
              <a:off x="6114600" y="1685520"/>
              <a:ext cx="245628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 flipH="1" flipV="1">
              <a:off x="564840" y="743760"/>
              <a:ext cx="245664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6484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3FAA5-BD5F-455E-ABEE-6966AFD5E1FD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54040" y="6453360"/>
            <a:ext cx="121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91CB2-0C07-459D-90CC-F76007FB6698}" type="slidenum"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E1445-3312-4255-A8A4-1E445B7027CD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5032D-2E4E-4E81-919A-0DE0DF433852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0728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191b0e"/>
                </a:solidFill>
                <a:latin typeface="Franklin Gothic Book"/>
              </a:rPr>
              <a:t>ИГРОВАЯ ДЕЯТЕЛЬНОСТЬ КАК СРЕДСТВО ФОРМИРОВАНИЯ ПОЛОЖИТЕЛЬНОЙ МОТИВАЦИИ К ОБУЧЕНИЮ У ДЕТЕЙ С ЗАДЕРЖКОЙ ПСИХИЧЕСКОГО РАЗВИТИЯ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6227640" y="60930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оставитель: Толмачева Анна Сергее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1655640" y="0"/>
            <a:ext cx="58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e13ad"/>
                </a:solidFill>
                <a:latin typeface="Franklin Gothic Book"/>
                <a:ea typeface="Times New Roman"/>
              </a:rPr>
              <a:t>Четвёртый    лишний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611280" y="912960"/>
            <a:ext cx="8281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Цель: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развитие умения классифицировать предметы по существенным признакам и обобщать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Дидактический материал: 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ять карточек, на каждой карточке изображены четыре предмета; три предмета связаны между собой каким-либо общим признаком, а четвертый — лишний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арианты карточек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1) сапог, тарелка, тапок, ботинок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2) вилка, тарелка, яблоко, кастрюля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3) яблоко, груша, виноград, огурец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4) помидор, морковь, машина, картофель;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5) шапка, машина, самолет, поезд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611280" y="4221000"/>
            <a:ext cx="842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Описание задания. 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Ребенку поочередно показывают карточки. Психолог говорит: «Посмотри на эти предметы; их — четыре, три предмета как-то связаны между собой, что-то у них есть общее, похожее, а четвертый — лишний, его нужно убрать. Покажи и назови этот предмет». Если ребенок затрудняется с ответом, психолог должен объяснить правильный ответ на примере первой карточки. </a:t>
            </a:r>
            <a:r>
              <a:rPr b="0" i="1" lang="ru-RU" sz="2000" spc="-1" strike="noStrike">
                <a:solidFill>
                  <a:srgbClr val="000000"/>
                </a:solidFill>
                <a:latin typeface="Franklin Gothic Book"/>
              </a:rPr>
              <a:t>(Сапог, тапок, ботинок — это обувь, а тарелка — это не обувь, а посуда.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781520" y="2825640"/>
            <a:ext cx="4283280" cy="3940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4097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2"/>
          <p:cNvSpPr/>
          <p:nvPr/>
        </p:nvSpPr>
        <p:spPr>
          <a:xfrm>
            <a:off x="468360" y="12600"/>
            <a:ext cx="8496360" cy="47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e13ad"/>
                </a:solidFill>
                <a:latin typeface="Open Sans"/>
              </a:rPr>
              <a:t>Яблоко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Цель:</a:t>
            </a: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обучение способности: концентрировать внимание; уметь сосредоточиваться на зрительной информации; находить отличительные признаки похожих предметов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Дидактический материал: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три похожих яблок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Описание игры.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Воспитатель: «Когда люди собирают урожай? </a:t>
            </a: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(Осенью.)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А какое сейчас время года? </a:t>
            </a: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(Осень.)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Вот яблоко. Постарайся внимательно рассмотреть его, запомнить его цвет, пятна, прожилки. Потом я возьму твое яблоко, перемешаю его с другими, а ты должен будешь найти свое яблоко»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На изучение яблока ребенку дается 3 мин. После этого воспитатель перемешивает яблоки. Затем ребенок ищет свое яблоко. После того как ребенок найдет свое яблоко, воспитатель дарит его ребенку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124000" y="4470480"/>
            <a:ext cx="55800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2"/>
          <p:cNvSpPr/>
          <p:nvPr/>
        </p:nvSpPr>
        <p:spPr>
          <a:xfrm>
            <a:off x="614520" y="11592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e13ad"/>
                </a:solidFill>
                <a:latin typeface="Open Sans"/>
              </a:rPr>
              <a:t>Хлопни в ладоши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614520" y="885960"/>
            <a:ext cx="849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Цель:</a:t>
            </a: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обучение способности к переключению внимания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Описание задания.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Воспитатель говорит ребенку: «Сейчас я буду называть разные слова. Когда я назову какое-нибудь животное – хлопни в ладоши». Слова: стол, книга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лошадь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стул, дверь, виноград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собака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ножницы, книга, туфли, карандаш, мяч, окно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кошка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сапоги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коза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стекло, дом, дорога, яблоко, дерево, ковер, лев, стена, крыша, арбуз, санки, снег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тигр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кровать, тетрадь, вилка, лед, елка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заяц, волк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галстук, лимон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медведь,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дыня, чайник, тарелка, полка, масло, пальто, 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белк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9" name="Picture 16" descr=""/>
          <p:cNvPicPr/>
          <p:nvPr/>
        </p:nvPicPr>
        <p:blipFill>
          <a:blip r:embed="rId1"/>
          <a:stretch/>
        </p:blipFill>
        <p:spPr>
          <a:xfrm>
            <a:off x="1116000" y="3754440"/>
            <a:ext cx="77040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539640" y="-4680"/>
            <a:ext cx="8425080" cy="68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e13ad"/>
                </a:solidFill>
                <a:latin typeface="Open Sans"/>
              </a:rPr>
              <a:t>У оленя дом большой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Цель:</a:t>
            </a: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развитие умения использовать мнемонические приемы для запоминания текст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Описание задания.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Ребенок знакомится с игрой. Воспитатель, проговаривая текст игры, сопровождает его движениям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У оленя дом большой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Дети скрещивают руки над головой, изображая крышу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Он глядит в свое окошко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Руки перед лицом изображают окно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Заяц по лесу бежит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Производят движение руками, как при беге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В дверь к нему стучит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Кулачком имитируют стук в дверь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Стук-стук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- Дверь открой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Там в лесу охотник злой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Большим пальцем через плечо показывают, что сзади охотник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- Заяц, заяц, забегай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Лапу подавай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Open Sans"/>
              </a:rPr>
              <a:t>Вытягивают руки вперед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Повторить 3-4 раза в медленном темпе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2"/>
          <p:cNvSpPr/>
          <p:nvPr/>
        </p:nvSpPr>
        <p:spPr>
          <a:xfrm>
            <a:off x="525600" y="-14400"/>
            <a:ext cx="860580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e13ad"/>
                </a:solidFill>
                <a:latin typeface="Open Sans"/>
              </a:rPr>
              <a:t>Что забыл нарисовать художник?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Цель:</a:t>
            </a: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развитие наблюдательности, умения использовать при восприятии свой прошлый опыт и знания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Дидактический материал: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набор карточек (4 шт.). На первой карточке нарисована лиса без хвоста, на второй – расческа без зубчиков, на третьей – машина без колес, на четвертой – рыба без плавников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Open Sans"/>
              </a:rPr>
              <a:t>Описание задания.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Ребенку</a:t>
            </a:r>
            <a:r>
              <a:rPr b="1" lang="ru-RU" sz="20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Open Sans"/>
              </a:rPr>
              <a:t>предлагается поочередно каждая карточка, и воспитатель спрашивает: «Что забыл нарисовать художник?»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rcRect l="0" t="21783" r="0" b="0"/>
          <a:stretch/>
        </p:blipFill>
        <p:spPr>
          <a:xfrm>
            <a:off x="5796000" y="4076640"/>
            <a:ext cx="3031920" cy="988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1332000" y="5445000"/>
            <a:ext cx="3240000" cy="1330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3"/>
          <a:stretch/>
        </p:blipFill>
        <p:spPr>
          <a:xfrm>
            <a:off x="5148360" y="5065560"/>
            <a:ext cx="3557520" cy="1710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"/>
          <p:cNvPicPr/>
          <p:nvPr/>
        </p:nvPicPr>
        <p:blipFill>
          <a:blip r:embed="rId4"/>
          <a:srcRect l="35675" t="0" r="0" b="0"/>
          <a:stretch/>
        </p:blipFill>
        <p:spPr>
          <a:xfrm>
            <a:off x="2421000" y="3887640"/>
            <a:ext cx="29224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 Толмачева</dc:creator>
  <dc:description/>
  <dc:language>en-US</dc:language>
  <cp:lastModifiedBy>Анна Толмачева</cp:lastModifiedBy>
  <dcterms:modified xsi:type="dcterms:W3CDTF">2022-02-13T15:26:01Z</dcterms:modified>
  <cp:revision>53</cp:revision>
  <dc:subject/>
  <dc:title>Слайд 1</dc:title>
</cp:coreProperties>
</file>