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42E-9D5C-4135-B4CD-5F1469C8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7BA-3F87-4D84-A30D-35874A2F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3E8-AF12-4389-824A-D218E5B9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4CF-0B2B-49AA-A654-2E885576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395B-ED4E-4443-AEEF-D89A1818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3D0B-2FFC-4020-873B-96DB46E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F01D-1769-487F-9306-82BAFC5C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EE89-9534-45F2-956C-559D1EB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0B5A-B21E-4140-9F44-7A0DAAF7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F057-9444-4E99-9636-82DEC38B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291-BEFB-44CC-9971-9A73756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67E-AE2A-4356-B7BE-0AD6D039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BE4B-9C29-4D41-B96D-77C32F2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9DC1-1966-41B4-9E33-3398024B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7BE-3F2F-4C3C-85A2-9EF8672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CAF2-82BC-45B2-9BF0-ED80A195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B90-DE19-46BF-BF38-410370D5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EC62-F243-4F7B-BA0C-09BF55AF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71D0-35AD-4342-B9E5-890C655A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0A84-1964-4548-82ED-E78CD0F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E249-94C7-46EF-967F-E2F8E72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7EA20-2BD5-47E8-86AA-906EB1DB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87D-E474-4917-A282-DE023F7E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4BE2-7CA5-4C01-A176-BB95FBC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932B-7979-4DA7-9AB3-197337D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A290-16ED-48BC-8D43-E6B3046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2A68-A744-4996-8207-AC671F8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FEE4-324B-4D6B-8075-2A10C84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FC02-FFD6-42C0-8950-721A81A1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363B-8287-4432-93B7-1DFCE861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6E9D-1A93-499D-BE7B-2DA6F132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A9EF-1F13-4599-B88F-B338F69D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1DE3-77CA-4F5B-BAC5-D78E0CC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570-BE43-48E5-91A3-0C1D31DD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5235-4B1E-442F-9720-90D374D4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8C49-46D4-432F-88B8-152D5E3D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5B01-5064-4894-B8E8-D151C7C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6F96-9268-4568-A5EF-B39E635D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96C5-83CD-4C2F-A744-00F7A5E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9F0F0-F4F1-4BD6-A67B-5676960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CB85-05E4-42CA-B531-A3447B8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34D2-8C9C-4929-8AB6-07487562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30F8-9297-4BB2-8912-4655CB2A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1195-1026-4BBD-90D4-F65A36C9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FB8-71DC-4A4B-8B72-D865AB4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F898-7B20-4B16-B388-91DD2B4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FBD5-4E49-4658-A641-7DCFAD63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CF0A-7CBB-471E-8F04-C9F162D6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227FD-2117-4201-921B-A8C42AB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A047-60B8-4F0F-98F0-117BAC77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E0572-AF01-4FC4-8B45-E6FB0F0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8086-8B31-4896-B438-8CF08AB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A7B18-D4DB-45D9-A809-2F83F27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803A-0138-403B-BDF2-8C9B8CE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360E-34AE-4914-9BAD-6749FFA9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D84-4F5F-4BCE-AFA3-3AF7384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8F45-8939-4832-863B-53D9154D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87B-1B3E-4D4F-BE36-358D02F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671-A188-42AF-999D-13E260A2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A81-F8E6-4C41-B96D-E6D4047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434DD-F6B1-4CA0-B651-3291DE7BA960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40FA6-7605-43A7-AD35-49B17B6C410D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C2F01-3D4F-4097-9403-7C2033373A51}" type="slidenum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9666B-3B67-4422-8270-C68ECD071293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396C8-9EB2-4BCA-9330-DB86B51D66F6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0728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191b0e"/>
                </a:solidFill>
                <a:latin typeface="Franklin Gothic Book"/>
              </a:rPr>
              <a:t>ИГРОВАЯ ДЕЯТЕЛЬНОСТЬ КАК СРЕДСТВО ФОРМИРОВАНИЯ ПОЛОЖИТЕЛЬНОЙ МОТИВАЦИИ К ОБУЧЕНИЮ У ДЕТЕЙ С ЗАДЕРЖКОЙ ПСИХИЧЕСКОГО РАЗВИТИЯ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227640" y="6093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оставитель: Толмачева Анна Серге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1655640" y="0"/>
            <a:ext cx="58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Franklin Gothic Book"/>
                <a:ea typeface="Times New Roman"/>
              </a:rPr>
              <a:t>Четвёртый    лишний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611280" y="912960"/>
            <a:ext cx="828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азвитие умения классифицировать предметы по существенным признакам и обобщать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Дидактический 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ять карточек, на каждой карточке изображены четыре предмета; три предмета связаны между собой каким-либо общим признаком, а четвертый — лишний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арианты карточек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1) сапог, тарелка, тапок, ботинок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2) вилка, тарелка, яблоко, кастрюля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3) яблоко, груша, виноград, огурец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4) помидор, морковь, машина, картофель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5) шапка, машина, самолет, поезд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11280" y="422100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ебенку поочередно показывают карточки. Психолог говорит: «Посмотри на эти предметы; их — четыре, три предмета как-то связаны между собой, что-то у них есть общее, похожее, а четвертый — лишний, его нужно убрать. Покажи и назови этот предмет». Если ребенок затрудняется с ответом, психолог должен объяснить правильный ответ на примере первой карточки. </a:t>
            </a: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(Сапог, тапок, ботинок — это обувь, а тарелка — это не обувь, а посуда.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781520" y="2825640"/>
            <a:ext cx="4283280" cy="394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4097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468360" y="12600"/>
            <a:ext cx="8496360" cy="47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Яблоко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обучение способности: концентрировать внимание; уметь сосредоточиваться на зрительной информации; находить отличительные признаки похожих предмето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Дидактический 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три похожих яблок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игры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оспитатель: «Когда люди собирают урожай? </a:t>
            </a: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(Осенью.)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А какое сейчас время года? </a:t>
            </a: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(Осень.)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от яблоко. Постарайся внимательно рассмотреть его, запомнить его цвет, пятна, прожилки. Потом я возьму твое яблоко, перемешаю его с другими, а ты должен будешь найти свое яблоко»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На изучение яблока ребенку дается 3 мин. После этого воспитатель перемешивает яблоки. Затем ребенок ищет свое яблоко. После того как ребенок найдет свое яблоко, воспитатель дарит его ребенк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124000" y="4470480"/>
            <a:ext cx="5580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2"/>
          <p:cNvSpPr/>
          <p:nvPr/>
        </p:nvSpPr>
        <p:spPr>
          <a:xfrm>
            <a:off x="614520" y="11592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Хлопни в ладоши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614520" y="885960"/>
            <a:ext cx="849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обучение способности к переключению внимания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оспитатель говорит ребенку: «Сейчас я буду называть разные слова. Когда я назову какое-нибудь животное – хлопни в ладоши». Слова: стол, книга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лошадь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тул, дверь, виноград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собака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ножницы, книга, туфли, карандаш, мяч, окно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кошка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апоги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коза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текло, дом, дорога, яблоко, дерево, ковер, лев, стена, крыша, арбуз, санки, снег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тигр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кровать, тетрадь, вилка, лед, елка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заяц, волк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галстук, лимон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медведь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дыня, чайник, тарелка, полка, масло, пальто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белк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1116000" y="3754440"/>
            <a:ext cx="7704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539640" y="-4680"/>
            <a:ext cx="842508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У оленя дом большой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азвитие умения использовать мнемонические приемы для запоминания текст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ебенок знакомится с игрой. Воспитатель, проговаривая текст игры, сопровождает его движениям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У оленя дом большой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Дети скрещивают руки над головой, изображая крыш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Он глядит в свое окошк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Руки перед лицом изображают окн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Заяц по лесу бежит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Производят движение руками, как при бег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 дверь к нему стучит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Кулачком имитируют стук в дверь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тук-стук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- Дверь откро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Там в лесу охотник зло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Большим пальцем через плечо показывают, что сзади охотник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- Заяц, заяц, забега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Лапу подава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Вытягивают руки вперед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Повторить 3-4 раза в медленном темп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525600" y="-14400"/>
            <a:ext cx="860580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Что забыл нарисовать художник?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азвитие наблюдательности, умения использовать при восприятии свой прошлый опыт и знания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Дидактический 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набор карточек (4 шт.). На первой карточке нарисована лиса без хвоста, на второй – расческа без зубчиков, на третьей – машина без колес, на четвертой – рыба без плавнико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ебенку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предлагается поочередно каждая карточка, и воспитатель спрашивает: «Что забыл нарисовать художник?»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0" t="21783" r="0" b="0"/>
          <a:stretch/>
        </p:blipFill>
        <p:spPr>
          <a:xfrm>
            <a:off x="5796000" y="4076640"/>
            <a:ext cx="3031920" cy="988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1332000" y="5445000"/>
            <a:ext cx="3240000" cy="1330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5148360" y="5065560"/>
            <a:ext cx="3557520" cy="171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4"/>
          <a:srcRect l="35675" t="0" r="0" b="0"/>
          <a:stretch/>
        </p:blipFill>
        <p:spPr>
          <a:xfrm>
            <a:off x="2421000" y="3887640"/>
            <a:ext cx="2922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Толмачева</dc:creator>
  <dc:description/>
  <dc:language>en-US</dc:language>
  <cp:lastModifiedBy>Анна Толмачева</cp:lastModifiedBy>
  <dcterms:modified xsi:type="dcterms:W3CDTF">2022-02-13T15:26:01Z</dcterms:modified>
  <cp:revision>53</cp:revision>
  <dc:subject/>
  <dc:title>Слайд 1</dc:title>
</cp:coreProperties>
</file>