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png" ContentType="image/png"/>
  <Override PartName="/ppt/media/image8.wmf" ContentType="image/x-wmf"/>
  <Override PartName="/ppt/media/image13.png" ContentType="image/png"/>
  <Override PartName="/ppt/media/image19.gif" ContentType="image/gif"/>
  <Override PartName="/ppt/media/image1.gif" ContentType="image/gif"/>
  <Override PartName="/ppt/media/image6.jpeg" ContentType="image/jpeg"/>
  <Override PartName="/ppt/media/image10.png" ContentType="image/png"/>
  <Override PartName="/ppt/media/image18.gif" ContentType="image/gif"/>
  <Override PartName="/ppt/media/image17.gif" ContentType="image/gif"/>
  <Override PartName="/ppt/media/image16.gif" ContentType="image/gif"/>
  <Override PartName="/ppt/media/image15.wmf" ContentType="image/x-wmf"/>
  <Override PartName="/ppt/media/image14.png" ContentType="image/png"/>
  <Override PartName="/ppt/media/image2.gif" ContentType="image/gif"/>
  <Override PartName="/ppt/media/image11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9540-7CBB-4BF6-A31F-70B6C6DD4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57DA-B7C5-47E1-960E-4D5CE2631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28BF-0DA9-4610-BE76-BCFC52EE3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6304-9295-4A3E-BD36-E67F5090A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3A9B1-068B-484E-9FD9-33E806937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36B91-EF26-4898-9A19-C128E3A8F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F5E1E-E288-46B4-8E2F-B7FD4ECB7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24ECF-A9C4-49D6-AA2D-EB0EA78BD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08712-AB9C-4CAD-804F-787B1C587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F796D-FE36-49A5-BFE2-8C8FEC9A6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270C4-627D-4884-A53F-751817BB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401F-C3D0-4214-B5A9-370D4419B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CF6EF-B65D-430F-BBC7-C1B637DB8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EFE7F-97A9-4BC7-98A3-C7EAA2639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FF899-09D2-4234-A999-7DE1E70D0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B8EFA-AFFC-4135-8B38-0A4D3AB07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61F9C-10F0-4418-AF7C-1FEBEC54D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3E32-1419-4D39-93A2-2EB484272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5C0D-196D-4AF0-9704-89A40D63D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4FC2-C0B4-482C-8080-D4DDF3480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3B4F-2F0B-4886-83F9-7C55860AF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634B-0B9E-4F07-9B89-FDC169E4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E8F0-DA2C-444A-9FA7-3DEB04D37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BF24-B835-4EFC-AB6D-B07F40598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854A6-04D8-40CF-AA11-C16EE69CAF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F2AE0-8724-4376-8D09-5B6D893F346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3.xml"/><Relationship Id="rId3" Type="http://schemas.openxmlformats.org/officeDocument/2006/relationships/slide" Target="slide7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8.xml"/><Relationship Id="rId8" Type="http://schemas.openxmlformats.org/officeDocument/2006/relationships/slide" Target="slide14.xml"/><Relationship Id="rId9" Type="http://schemas.openxmlformats.org/officeDocument/2006/relationships/slide" Target="slide9.xml"/><Relationship Id="rId10" Type="http://schemas.openxmlformats.org/officeDocument/2006/relationships/slide" Target="slide10.xml"/><Relationship Id="rId11" Type="http://schemas.openxmlformats.org/officeDocument/2006/relationships/slide" Target="slide12.xml"/><Relationship Id="rId12" Type="http://schemas.openxmlformats.org/officeDocument/2006/relationships/slide" Target="slide11.xml"/><Relationship Id="rId13" Type="http://schemas.openxmlformats.org/officeDocument/2006/relationships/slide" Target="slide13.xml"/><Relationship Id="rId14" Type="http://schemas.openxmlformats.org/officeDocument/2006/relationships/slide" Target="slide20.xml"/><Relationship Id="rId15" Type="http://schemas.openxmlformats.org/officeDocument/2006/relationships/slide" Target="slide15.xml"/><Relationship Id="rId16" Type="http://schemas.openxmlformats.org/officeDocument/2006/relationships/slide" Target="slide16.xml"/><Relationship Id="rId17" Type="http://schemas.openxmlformats.org/officeDocument/2006/relationships/slide" Target="slide17.xml"/><Relationship Id="rId18" Type="http://schemas.openxmlformats.org/officeDocument/2006/relationships/slide" Target="slide19.xml"/><Relationship Id="rId19" Type="http://schemas.openxmlformats.org/officeDocument/2006/relationships/slide" Target="slide18.xml"/><Relationship Id="rId20" Type="http://schemas.openxmlformats.org/officeDocument/2006/relationships/slide" Target="slide25.xml"/><Relationship Id="rId21" Type="http://schemas.openxmlformats.org/officeDocument/2006/relationships/slide" Target="slide21.xml"/><Relationship Id="rId22" Type="http://schemas.openxmlformats.org/officeDocument/2006/relationships/slide" Target="slide22.xml"/><Relationship Id="rId23" Type="http://schemas.openxmlformats.org/officeDocument/2006/relationships/slide" Target="slide22.xml"/><Relationship Id="rId24" Type="http://schemas.openxmlformats.org/officeDocument/2006/relationships/slide" Target="slide23.xml"/><Relationship Id="rId25" Type="http://schemas.openxmlformats.org/officeDocument/2006/relationships/slide" Target="slide24.xml"/><Relationship Id="rId26" Type="http://schemas.openxmlformats.org/officeDocument/2006/relationships/slide" Target="slide31.xml"/><Relationship Id="rId27" Type="http://schemas.openxmlformats.org/officeDocument/2006/relationships/slide" Target="slide26.xml"/><Relationship Id="rId28" Type="http://schemas.openxmlformats.org/officeDocument/2006/relationships/slide" Target="slide27.xml"/><Relationship Id="rId29" Type="http://schemas.openxmlformats.org/officeDocument/2006/relationships/slide" Target="slide28.xml"/><Relationship Id="rId30" Type="http://schemas.openxmlformats.org/officeDocument/2006/relationships/slide" Target="slide29.xml"/><Relationship Id="rId31" Type="http://schemas.openxmlformats.org/officeDocument/2006/relationships/slide" Target="slide30.xml"/><Relationship Id="rId32" Type="http://schemas.openxmlformats.org/officeDocument/2006/relationships/slide" Target="slide37.xml"/><Relationship Id="rId33" Type="http://schemas.openxmlformats.org/officeDocument/2006/relationships/slide" Target="slide32.xml"/><Relationship Id="rId34" Type="http://schemas.openxmlformats.org/officeDocument/2006/relationships/slide" Target="slide33.xml"/><Relationship Id="rId35" Type="http://schemas.openxmlformats.org/officeDocument/2006/relationships/slide" Target="slide34.xml"/><Relationship Id="rId36" Type="http://schemas.openxmlformats.org/officeDocument/2006/relationships/slide" Target="slide35.xml"/><Relationship Id="rId37" Type="http://schemas.openxmlformats.org/officeDocument/2006/relationships/slide" Target="slide36.xml"/><Relationship Id="rId3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" Target="slide30.xml"/><Relationship Id="rId3" Type="http://schemas.openxmlformats.org/officeDocument/2006/relationships/slide" Target="slide29.xml"/><Relationship Id="rId4" Type="http://schemas.openxmlformats.org/officeDocument/2006/relationships/slide" Target="slide30.xml"/><Relationship Id="rId5" Type="http://schemas.openxmlformats.org/officeDocument/2006/relationships/slide" Target="slide30.xml"/><Relationship Id="rId6" Type="http://schemas.openxmlformats.org/officeDocument/2006/relationships/image" Target="../media/image19.gif"/><Relationship Id="rId7" Type="http://schemas.openxmlformats.org/officeDocument/2006/relationships/slide" Target="slide2.xml"/><Relationship Id="rId8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25.xml"/><Relationship Id="rId3" Type="http://schemas.openxmlformats.org/officeDocument/2006/relationships/slide" Target="slide25.xml"/><Relationship Id="rId4" Type="http://schemas.openxmlformats.org/officeDocument/2006/relationships/slide" Target="slide24.xml"/><Relationship Id="rId5" Type="http://schemas.openxmlformats.org/officeDocument/2006/relationships/slide" Target="slide24.xml"/><Relationship Id="rId6" Type="http://schemas.openxmlformats.org/officeDocument/2006/relationships/slide" Target="slide25.xml"/><Relationship Id="rId7" Type="http://schemas.openxmlformats.org/officeDocument/2006/relationships/image" Target="../media/image19.gif"/><Relationship Id="rId8" Type="http://schemas.openxmlformats.org/officeDocument/2006/relationships/slide" Target="slide2.xml"/><Relationship Id="rId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" Target="slide30.xml"/><Relationship Id="rId3" Type="http://schemas.openxmlformats.org/officeDocument/2006/relationships/slide" Target="slide29.xml"/><Relationship Id="rId4" Type="http://schemas.openxmlformats.org/officeDocument/2006/relationships/slide" Target="slide30.xml"/><Relationship Id="rId5" Type="http://schemas.openxmlformats.org/officeDocument/2006/relationships/image" Target="../media/image19.gif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gi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gi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gi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gi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gi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4525920" y="260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WordArt 5"/>
          <p:cNvSpPr txBox="1"/>
          <p:nvPr/>
        </p:nvSpPr>
        <p:spPr>
          <a:xfrm>
            <a:off x="2500200" y="3286080"/>
            <a:ext cx="6120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Игра-викторина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0" name="WordArt 8"/>
          <p:cNvSpPr txBox="1"/>
          <p:nvPr/>
        </p:nvSpPr>
        <p:spPr>
          <a:xfrm>
            <a:off x="500040" y="1000080"/>
            <a:ext cx="8389800" cy="150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В поисках новых открытий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1" name="WordArt 9"/>
          <p:cNvSpPr txBox="1"/>
          <p:nvPr/>
        </p:nvSpPr>
        <p:spPr>
          <a:xfrm>
            <a:off x="1403280" y="4581360"/>
            <a:ext cx="446400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2" name="Picture 10" descr="AG00098_"/>
          <p:cNvPicPr/>
          <p:nvPr/>
        </p:nvPicPr>
        <p:blipFill>
          <a:blip r:embed="rId1"/>
          <a:stretch/>
        </p:blipFill>
        <p:spPr>
          <a:xfrm>
            <a:off x="785880" y="2643120"/>
            <a:ext cx="7643880" cy="135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1"/>
          <p:cNvSpPr/>
          <p:nvPr/>
        </p:nvSpPr>
        <p:spPr>
          <a:xfrm>
            <a:off x="1000080" y="5214960"/>
            <a:ext cx="7715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ccff"/>
                </a:solidFill>
                <a:latin typeface="Arial"/>
                <a:ea typeface="Times New Roman"/>
              </a:rPr>
              <a:t>Краснодарский край МАОУ СОШ№ 1 Новопокровского райо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ccff"/>
                </a:solidFill>
                <a:latin typeface="Arial"/>
                <a:ea typeface="Times New Roman"/>
              </a:rPr>
              <a:t>Андриенко Ольга Николаевна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 Black"/>
              </a:rPr>
              <a:t>Знатоки профессий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4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Arial"/>
              </a:rPr>
              <a:t>            –</a:t>
            </a:r>
            <a:r>
              <a:rPr b="1" i="1" lang="en-US" sz="3200" spc="-1" strike="noStrike">
                <a:solidFill>
                  <a:srgbClr val="161616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161616"/>
                </a:solidFill>
                <a:latin typeface="Arial"/>
              </a:rPr>
              <a:t>изучает человеческий организм, предупреждает болезни, ставит диагноз, назначает лечение, принимает решение о трудоспособности человека, проводит обследование и лечение, организует консультации и консилиум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5" descr="AG00098_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185" name="AutoShape 10">
            <a:hlinkClick r:id="rId2" action="ppaction://hlinksldjump"/>
          </p:cNvPr>
          <p:cNvSpPr/>
          <p:nvPr/>
        </p:nvSpPr>
        <p:spPr>
          <a:xfrm>
            <a:off x="8352000" y="6137280"/>
            <a:ext cx="792000" cy="72072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3735" h="21600">
                <a:moveTo>
                  <a:pt x="0" y="0"/>
                </a:moveTo>
                <a:lnTo>
                  <a:pt x="23735" y="0"/>
                </a:lnTo>
                <a:lnTo>
                  <a:pt x="23735" y="21600"/>
                </a:lnTo>
                <a:lnTo>
                  <a:pt x="0" y="21600"/>
                </a:lnTo>
                <a:close/>
              </a:path>
              <a:path fill="lightenLess" w="23735" h="21600">
                <a:moveTo>
                  <a:pt x="0" y="0"/>
                </a:moveTo>
                <a:lnTo>
                  <a:pt x="23735" y="0"/>
                </a:lnTo>
                <a:lnTo>
                  <a:pt x="22335" y="1400"/>
                </a:lnTo>
                <a:lnTo>
                  <a:pt x="1400" y="1400"/>
                </a:lnTo>
                <a:close/>
              </a:path>
              <a:path fill="darken" w="23735" h="21600">
                <a:moveTo>
                  <a:pt x="23735" y="0"/>
                </a:moveTo>
                <a:lnTo>
                  <a:pt x="23735" y="21600"/>
                </a:lnTo>
                <a:lnTo>
                  <a:pt x="22335" y="20200"/>
                </a:lnTo>
                <a:lnTo>
                  <a:pt x="22335" y="1400"/>
                </a:lnTo>
                <a:close/>
              </a:path>
              <a:path fill="darkenLess" w="23735" h="21600">
                <a:moveTo>
                  <a:pt x="237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35" y="20200"/>
                </a:lnTo>
                <a:close/>
              </a:path>
              <a:path fill="lighten" w="237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35" h="21600">
                <a:moveTo>
                  <a:pt x="11868" y="3837"/>
                </a:moveTo>
                <a:lnTo>
                  <a:pt x="14444" y="6448"/>
                </a:lnTo>
                <a:lnTo>
                  <a:pt x="14444" y="4707"/>
                </a:lnTo>
                <a:lnTo>
                  <a:pt x="16219" y="4707"/>
                </a:lnTo>
                <a:lnTo>
                  <a:pt x="16219" y="8224"/>
                </a:lnTo>
                <a:lnTo>
                  <a:pt x="18831" y="10800"/>
                </a:lnTo>
                <a:lnTo>
                  <a:pt x="17177" y="10800"/>
                </a:lnTo>
                <a:lnTo>
                  <a:pt x="17177" y="17989"/>
                </a:lnTo>
                <a:lnTo>
                  <a:pt x="6558" y="17989"/>
                </a:lnTo>
                <a:lnTo>
                  <a:pt x="6558" y="10800"/>
                </a:lnTo>
                <a:lnTo>
                  <a:pt x="4905" y="10800"/>
                </a:lnTo>
                <a:close/>
              </a:path>
              <a:path fill="darkenLess" w="23735" h="21600">
                <a:moveTo>
                  <a:pt x="14444" y="6448"/>
                </a:moveTo>
                <a:lnTo>
                  <a:pt x="14444" y="4707"/>
                </a:lnTo>
                <a:lnTo>
                  <a:pt x="16219" y="4707"/>
                </a:lnTo>
                <a:lnTo>
                  <a:pt x="16219" y="8224"/>
                </a:lnTo>
                <a:close/>
              </a:path>
              <a:path fill="darkenLess" w="23735" h="21600">
                <a:moveTo>
                  <a:pt x="10945" y="14299"/>
                </a:moveTo>
                <a:lnTo>
                  <a:pt x="12790" y="14299"/>
                </a:lnTo>
                <a:lnTo>
                  <a:pt x="12790" y="17989"/>
                </a:lnTo>
                <a:lnTo>
                  <a:pt x="17177" y="17989"/>
                </a:lnTo>
                <a:lnTo>
                  <a:pt x="17177" y="10800"/>
                </a:lnTo>
                <a:lnTo>
                  <a:pt x="6558" y="10800"/>
                </a:lnTo>
                <a:lnTo>
                  <a:pt x="6558" y="17989"/>
                </a:lnTo>
                <a:lnTo>
                  <a:pt x="10945" y="17989"/>
                </a:lnTo>
                <a:close/>
              </a:path>
            </a:pathLst>
          </a:cu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Прямоугольник 5" descr=""/>
          <p:cNvPicPr/>
          <p:nvPr/>
        </p:nvPicPr>
        <p:blipFill>
          <a:blip r:embed="rId3"/>
          <a:stretch/>
        </p:blipFill>
        <p:spPr>
          <a:xfrm>
            <a:off x="171360" y="1914480"/>
            <a:ext cx="2028960" cy="6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 Black"/>
              </a:rPr>
              <a:t>Знатоки професси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263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616"/>
                </a:solidFill>
                <a:latin typeface="Arial"/>
              </a:rPr>
              <a:t>                 </a:t>
            </a:r>
            <a:r>
              <a:rPr b="1" lang="en-US" sz="3200" spc="-1" strike="noStrike">
                <a:solidFill>
                  <a:srgbClr val="161616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161616"/>
                </a:solidFill>
                <a:latin typeface="Arial"/>
              </a:rPr>
              <a:t>  профессия, в которой используется преимущественно только мускульная физическая сила человека для выполнения простых рабочих операц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5" descr="AG00098_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190" name="AutoShape 8">
            <a:hlinkClick r:id="rId2" action="ppaction://hlinksldjump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Прямоугольник 5" descr=""/>
          <p:cNvPicPr/>
          <p:nvPr/>
        </p:nvPicPr>
        <p:blipFill>
          <a:blip r:embed="rId3"/>
          <a:stretch/>
        </p:blipFill>
        <p:spPr>
          <a:xfrm>
            <a:off x="171360" y="1901880"/>
            <a:ext cx="2644920" cy="6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 Black"/>
              </a:rPr>
              <a:t>Знатоки професси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66135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161616"/>
                </a:solidFill>
                <a:latin typeface="Arial"/>
              </a:rPr>
              <a:t>                  </a:t>
            </a:r>
            <a:r>
              <a:rPr b="1" lang="en-US" sz="3200" spc="-1" strike="noStrike">
                <a:solidFill>
                  <a:srgbClr val="161616"/>
                </a:solidFill>
                <a:latin typeface="Arial"/>
              </a:rPr>
              <a:t> –</a:t>
            </a:r>
            <a:r>
              <a:rPr b="1" i="1" lang="en-US" sz="3200" spc="-1" strike="noStrike">
                <a:solidFill>
                  <a:srgbClr val="16161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61616"/>
                </a:solidFill>
                <a:latin typeface="Arial"/>
              </a:rPr>
              <a:t>оценивает качество пищевого или вкусового продукта по виду, вкусу и запаху на пищевых производствах, в системе общественного питания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5" descr="AG00098_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195" name="AutoShape 6">
            <a:hlinkClick r:id="rId2" action="ppaction://hlinksldjump"/>
          </p:cNvPr>
          <p:cNvSpPr/>
          <p:nvPr/>
        </p:nvSpPr>
        <p:spPr>
          <a:xfrm>
            <a:off x="8317080" y="6031080"/>
            <a:ext cx="826920" cy="826920"/>
          </a:xfrm>
          <a:custGeom>
            <a:avLst/>
            <a:gdLst>
              <a:gd name="textAreaLeft" fmla="*/ 53280 w 826920"/>
              <a:gd name="textAreaRight" fmla="*/ 773640 w 826920"/>
              <a:gd name="textAreaTop" fmla="*/ 53280 h 826920"/>
              <a:gd name="textAreaBottom" fmla="*/ 773640 h 82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Прямоугольник 5" descr=""/>
          <p:cNvPicPr/>
          <p:nvPr/>
        </p:nvPicPr>
        <p:blipFill>
          <a:blip r:embed="rId3"/>
          <a:stretch/>
        </p:blipFill>
        <p:spPr>
          <a:xfrm>
            <a:off x="1036800" y="1981080"/>
            <a:ext cx="2895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0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1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 Black"/>
              </a:rPr>
              <a:t>Знатоки професси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66135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616"/>
                </a:solidFill>
                <a:latin typeface="Arial"/>
              </a:rPr>
              <a:t>                           </a:t>
            </a:r>
            <a:r>
              <a:rPr b="0" lang="en-US" sz="3200" spc="-1" strike="noStrike">
                <a:solidFill>
                  <a:srgbClr val="161616"/>
                </a:solidFill>
                <a:latin typeface="Arial"/>
              </a:rPr>
              <a:t>– </a:t>
            </a:r>
            <a:r>
              <a:rPr b="0" lang="en-US" sz="3200" spc="-1" strike="noStrike">
                <a:solidFill>
                  <a:srgbClr val="161616"/>
                </a:solidFill>
                <a:latin typeface="Arial"/>
              </a:rPr>
              <a:t>выполняет вспомогательные работы по уходу за животными, кормит их, убирает помещения, чистит животных, стойла и проходы; оказывает помощь в лечении животных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Picture 7" descr="AG00098_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200" name="AutoShape 8">
            <a:hlinkClick r:id="rId2" action="ppaction://hlinksldjump"/>
          </p:cNvPr>
          <p:cNvSpPr/>
          <p:nvPr/>
        </p:nvSpPr>
        <p:spPr>
          <a:xfrm>
            <a:off x="8423280" y="6246720"/>
            <a:ext cx="720720" cy="611280"/>
          </a:xfrm>
          <a:custGeom>
            <a:avLst/>
            <a:gdLst>
              <a:gd name="textAreaLeft" fmla="*/ 39600 w 720720"/>
              <a:gd name="textAreaRight" fmla="*/ 681120 w 72072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5465" h="21600">
                <a:moveTo>
                  <a:pt x="0" y="0"/>
                </a:moveTo>
                <a:lnTo>
                  <a:pt x="25465" y="0"/>
                </a:lnTo>
                <a:lnTo>
                  <a:pt x="25465" y="21600"/>
                </a:lnTo>
                <a:lnTo>
                  <a:pt x="0" y="21600"/>
                </a:lnTo>
                <a:close/>
              </a:path>
              <a:path fill="lightenLess" w="25465" h="21600">
                <a:moveTo>
                  <a:pt x="0" y="0"/>
                </a:moveTo>
                <a:lnTo>
                  <a:pt x="25465" y="0"/>
                </a:lnTo>
                <a:lnTo>
                  <a:pt x="24065" y="1400"/>
                </a:lnTo>
                <a:lnTo>
                  <a:pt x="1400" y="1400"/>
                </a:lnTo>
                <a:close/>
              </a:path>
              <a:path fill="darken" w="25465" h="21600">
                <a:moveTo>
                  <a:pt x="25465" y="0"/>
                </a:moveTo>
                <a:lnTo>
                  <a:pt x="25465" y="21600"/>
                </a:lnTo>
                <a:lnTo>
                  <a:pt x="24065" y="20200"/>
                </a:lnTo>
                <a:lnTo>
                  <a:pt x="24065" y="1400"/>
                </a:lnTo>
                <a:close/>
              </a:path>
              <a:path fill="darkenLess" w="25465" h="21600">
                <a:moveTo>
                  <a:pt x="254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65" y="20200"/>
                </a:lnTo>
                <a:close/>
              </a:path>
              <a:path fill="lighten" w="254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65" h="21600">
                <a:moveTo>
                  <a:pt x="12732" y="3837"/>
                </a:moveTo>
                <a:lnTo>
                  <a:pt x="15309" y="6448"/>
                </a:lnTo>
                <a:lnTo>
                  <a:pt x="15309" y="4707"/>
                </a:lnTo>
                <a:lnTo>
                  <a:pt x="17084" y="4707"/>
                </a:lnTo>
                <a:lnTo>
                  <a:pt x="17084" y="8224"/>
                </a:lnTo>
                <a:lnTo>
                  <a:pt x="19695" y="10800"/>
                </a:lnTo>
                <a:lnTo>
                  <a:pt x="18042" y="10800"/>
                </a:lnTo>
                <a:lnTo>
                  <a:pt x="18042" y="17989"/>
                </a:lnTo>
                <a:lnTo>
                  <a:pt x="7423" y="17989"/>
                </a:lnTo>
                <a:lnTo>
                  <a:pt x="7423" y="10800"/>
                </a:lnTo>
                <a:lnTo>
                  <a:pt x="5769" y="10800"/>
                </a:lnTo>
                <a:close/>
              </a:path>
              <a:path fill="darkenLess" w="25465" h="21600">
                <a:moveTo>
                  <a:pt x="15309" y="6448"/>
                </a:moveTo>
                <a:lnTo>
                  <a:pt x="15309" y="4707"/>
                </a:lnTo>
                <a:lnTo>
                  <a:pt x="17084" y="4707"/>
                </a:lnTo>
                <a:lnTo>
                  <a:pt x="17084" y="8224"/>
                </a:lnTo>
                <a:close/>
              </a:path>
              <a:path fill="darkenLess" w="25465" h="21600">
                <a:moveTo>
                  <a:pt x="11810" y="14299"/>
                </a:moveTo>
                <a:lnTo>
                  <a:pt x="13655" y="14299"/>
                </a:lnTo>
                <a:lnTo>
                  <a:pt x="13655" y="17989"/>
                </a:lnTo>
                <a:lnTo>
                  <a:pt x="18042" y="17989"/>
                </a:lnTo>
                <a:lnTo>
                  <a:pt x="18042" y="10800"/>
                </a:lnTo>
                <a:lnTo>
                  <a:pt x="7423" y="10800"/>
                </a:lnTo>
                <a:lnTo>
                  <a:pt x="7423" y="17989"/>
                </a:lnTo>
                <a:lnTo>
                  <a:pt x="11810" y="17989"/>
                </a:lnTo>
                <a:close/>
              </a:path>
            </a:pathLst>
          </a:cu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Прямоугольник 5" descr=""/>
          <p:cNvPicPr/>
          <p:nvPr/>
        </p:nvPicPr>
        <p:blipFill>
          <a:blip r:embed="rId3"/>
          <a:stretch/>
        </p:blipFill>
        <p:spPr>
          <a:xfrm>
            <a:off x="749160" y="1901880"/>
            <a:ext cx="3170520" cy="5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0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5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 Black"/>
              </a:rPr>
              <a:t>Знатоки професси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8080" y="1989000"/>
            <a:ext cx="66866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161616"/>
                </a:solidFill>
                <a:latin typeface="Arial"/>
              </a:rPr>
              <a:t>                        –</a:t>
            </a:r>
            <a:r>
              <a:rPr b="1" i="1" lang="en-US" sz="3200" spc="-1" strike="noStrike">
                <a:solidFill>
                  <a:srgbClr val="16161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6161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61616"/>
                </a:solidFill>
                <a:latin typeface="Arial"/>
              </a:rPr>
              <a:t>объезжает на спецмашине торговые организации; принимает выручку торговых предприятий, сберегательных касс, обменных пунктов; отвозит её в банк, оформляя соответствующий документ.</a:t>
            </a:r>
            <a:br>
              <a:rPr sz="3200"/>
            </a:br>
            <a:r>
              <a:rPr b="0" lang="en-US" sz="4400" spc="-1" strike="noStrike">
                <a:solidFill>
                  <a:srgbClr val="16161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Picture 5" descr="AG00098_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205" name="AutoShape 6">
            <a:hlinkClick r:id="rId2" action="ppaction://hlinksldjump"/>
          </p:cNvPr>
          <p:cNvSpPr/>
          <p:nvPr/>
        </p:nvSpPr>
        <p:spPr>
          <a:xfrm>
            <a:off x="8352000" y="6102360"/>
            <a:ext cx="792000" cy="755640"/>
          </a:xfrm>
          <a:custGeom>
            <a:avLst/>
            <a:gdLst>
              <a:gd name="textAreaLeft" fmla="*/ 48960 w 792000"/>
              <a:gd name="textAreaRight" fmla="*/ 743040 w 792000"/>
              <a:gd name="textAreaTop" fmla="*/ 48960 h 755640"/>
              <a:gd name="textAreaBottom" fmla="*/ 706680 h 755640"/>
            </a:gdLst>
            <a:ahLst/>
            <a:rect l="textAreaLeft" t="textAreaTop" r="textAreaRight" b="textAreaBottom"/>
            <a:pathLst>
              <a:path w="22639" h="21600">
                <a:moveTo>
                  <a:pt x="0" y="0"/>
                </a:moveTo>
                <a:lnTo>
                  <a:pt x="22639" y="0"/>
                </a:lnTo>
                <a:lnTo>
                  <a:pt x="22639" y="21600"/>
                </a:lnTo>
                <a:lnTo>
                  <a:pt x="0" y="21600"/>
                </a:lnTo>
                <a:close/>
              </a:path>
              <a:path fill="lightenLess" w="22639" h="21600">
                <a:moveTo>
                  <a:pt x="0" y="0"/>
                </a:moveTo>
                <a:lnTo>
                  <a:pt x="22639" y="0"/>
                </a:lnTo>
                <a:lnTo>
                  <a:pt x="21239" y="1400"/>
                </a:lnTo>
                <a:lnTo>
                  <a:pt x="1400" y="1400"/>
                </a:lnTo>
                <a:close/>
              </a:path>
              <a:path fill="darken" w="22639" h="21600">
                <a:moveTo>
                  <a:pt x="22639" y="0"/>
                </a:moveTo>
                <a:lnTo>
                  <a:pt x="22639" y="21600"/>
                </a:lnTo>
                <a:lnTo>
                  <a:pt x="21239" y="20200"/>
                </a:lnTo>
                <a:lnTo>
                  <a:pt x="21239" y="1400"/>
                </a:lnTo>
                <a:close/>
              </a:path>
              <a:path fill="darkenLess" w="22639" h="21600">
                <a:moveTo>
                  <a:pt x="22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39" y="20200"/>
                </a:lnTo>
                <a:close/>
              </a:path>
              <a:path fill="lighten" w="22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39" h="21600">
                <a:moveTo>
                  <a:pt x="11319" y="3837"/>
                </a:moveTo>
                <a:lnTo>
                  <a:pt x="13896" y="6448"/>
                </a:lnTo>
                <a:lnTo>
                  <a:pt x="13896" y="4707"/>
                </a:lnTo>
                <a:lnTo>
                  <a:pt x="15671" y="4707"/>
                </a:lnTo>
                <a:lnTo>
                  <a:pt x="15671" y="8224"/>
                </a:lnTo>
                <a:lnTo>
                  <a:pt x="18282" y="10800"/>
                </a:lnTo>
                <a:lnTo>
                  <a:pt x="16629" y="10800"/>
                </a:lnTo>
                <a:lnTo>
                  <a:pt x="16629" y="17989"/>
                </a:lnTo>
                <a:lnTo>
                  <a:pt x="6010" y="17989"/>
                </a:lnTo>
                <a:lnTo>
                  <a:pt x="6010" y="10800"/>
                </a:lnTo>
                <a:lnTo>
                  <a:pt x="4356" y="10800"/>
                </a:lnTo>
                <a:close/>
              </a:path>
              <a:path fill="darkenLess" w="22639" h="21600">
                <a:moveTo>
                  <a:pt x="13896" y="6448"/>
                </a:moveTo>
                <a:lnTo>
                  <a:pt x="13896" y="4707"/>
                </a:lnTo>
                <a:lnTo>
                  <a:pt x="15671" y="4707"/>
                </a:lnTo>
                <a:lnTo>
                  <a:pt x="15671" y="8224"/>
                </a:lnTo>
                <a:close/>
              </a:path>
              <a:path fill="darkenLess" w="22639" h="21600">
                <a:moveTo>
                  <a:pt x="10397" y="14299"/>
                </a:moveTo>
                <a:lnTo>
                  <a:pt x="12242" y="14299"/>
                </a:lnTo>
                <a:lnTo>
                  <a:pt x="12242" y="17989"/>
                </a:lnTo>
                <a:lnTo>
                  <a:pt x="16629" y="17989"/>
                </a:lnTo>
                <a:lnTo>
                  <a:pt x="16629" y="10800"/>
                </a:lnTo>
                <a:lnTo>
                  <a:pt x="6010" y="10800"/>
                </a:lnTo>
                <a:lnTo>
                  <a:pt x="6010" y="17989"/>
                </a:lnTo>
                <a:lnTo>
                  <a:pt x="10397" y="17989"/>
                </a:lnTo>
                <a:close/>
              </a:path>
            </a:pathLst>
          </a:cu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Прямоугольник 5" descr=""/>
          <p:cNvPicPr/>
          <p:nvPr/>
        </p:nvPicPr>
        <p:blipFill>
          <a:blip r:embed="rId3"/>
          <a:stretch/>
        </p:blipFill>
        <p:spPr>
          <a:xfrm>
            <a:off x="749160" y="2054160"/>
            <a:ext cx="2889360" cy="6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0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25e0"/>
                </a:solidFill>
                <a:latin typeface="Arial Black"/>
              </a:rPr>
              <a:t>Кто по професси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99680" y="1905120"/>
            <a:ext cx="4071960" cy="13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А.П. Гайдар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Picture 5" descr="AG00098_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210" name="AutoShape 7"/>
          <p:cNvSpPr/>
          <p:nvPr/>
        </p:nvSpPr>
        <p:spPr>
          <a:xfrm>
            <a:off x="714240" y="3857760"/>
            <a:ext cx="5832720" cy="1428480"/>
          </a:xfrm>
          <a:custGeom>
            <a:avLst/>
            <a:gdLst>
              <a:gd name="textAreaLeft" fmla="*/ 92520 w 5832720"/>
              <a:gd name="textAreaRight" fmla="*/ 5740200 w 5832720"/>
              <a:gd name="textAreaTop" fmla="*/ 92520 h 1428480"/>
              <a:gd name="textAreaBottom" fmla="*/ 1335960 h 1428480"/>
            </a:gdLst>
            <a:ahLst/>
            <a:rect l="textAreaLeft" t="textAreaTop" r="textAreaRight" b="textAreaBottom"/>
            <a:pathLst>
              <a:path w="88180" h="21600">
                <a:moveTo>
                  <a:pt x="0" y="0"/>
                </a:moveTo>
                <a:lnTo>
                  <a:pt x="88180" y="0"/>
                </a:lnTo>
                <a:lnTo>
                  <a:pt x="88180" y="21600"/>
                </a:lnTo>
                <a:lnTo>
                  <a:pt x="0" y="21600"/>
                </a:lnTo>
                <a:close/>
              </a:path>
              <a:path fill="lightenLess" w="88180" h="21600">
                <a:moveTo>
                  <a:pt x="0" y="0"/>
                </a:moveTo>
                <a:lnTo>
                  <a:pt x="88180" y="0"/>
                </a:lnTo>
                <a:lnTo>
                  <a:pt x="86780" y="1400"/>
                </a:lnTo>
                <a:lnTo>
                  <a:pt x="1400" y="1400"/>
                </a:lnTo>
                <a:close/>
              </a:path>
              <a:path fill="darken" w="88180" h="21600">
                <a:moveTo>
                  <a:pt x="88180" y="0"/>
                </a:moveTo>
                <a:lnTo>
                  <a:pt x="88180" y="21600"/>
                </a:lnTo>
                <a:lnTo>
                  <a:pt x="86780" y="20200"/>
                </a:lnTo>
                <a:lnTo>
                  <a:pt x="86780" y="1400"/>
                </a:lnTo>
                <a:close/>
              </a:path>
              <a:path fill="darkenLess" w="88180" h="21600">
                <a:moveTo>
                  <a:pt x="88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6780" y="20200"/>
                </a:lnTo>
                <a:close/>
              </a:path>
              <a:path fill="lighten" w="88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вет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мандир полк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асной Арм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AutoShape 8">
            <a:hlinkClick r:id="rId2" action="ppaction://hlinksldjump"/>
          </p:cNvPr>
          <p:cNvSpPr/>
          <p:nvPr/>
        </p:nvSpPr>
        <p:spPr>
          <a:xfrm>
            <a:off x="8028000" y="5373720"/>
            <a:ext cx="900000" cy="1008000"/>
          </a:xfrm>
          <a:custGeom>
            <a:avLst/>
            <a:gdLst>
              <a:gd name="textAreaLeft" fmla="*/ 58320 w 900000"/>
              <a:gd name="textAreaRight" fmla="*/ 841680 w 900000"/>
              <a:gd name="textAreaTop" fmla="*/ 58320 h 1008000"/>
              <a:gd name="textAreaBottom" fmla="*/ 949680 h 1008000"/>
            </a:gdLst>
            <a:ahLst/>
            <a:rect l="textAreaLeft" t="textAreaTop" r="textAreaRight" b="textAreaBottom"/>
            <a:pathLst>
              <a:path w="21600" h="24191">
                <a:moveTo>
                  <a:pt x="0" y="0"/>
                </a:moveTo>
                <a:lnTo>
                  <a:pt x="21600" y="0"/>
                </a:lnTo>
                <a:lnTo>
                  <a:pt x="21600" y="24191"/>
                </a:lnTo>
                <a:lnTo>
                  <a:pt x="0" y="24191"/>
                </a:lnTo>
                <a:close/>
              </a:path>
              <a:path fill="lightenLess" w="21600" h="2419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91">
                <a:moveTo>
                  <a:pt x="21600" y="0"/>
                </a:moveTo>
                <a:lnTo>
                  <a:pt x="21600" y="24191"/>
                </a:lnTo>
                <a:lnTo>
                  <a:pt x="20200" y="22791"/>
                </a:lnTo>
                <a:lnTo>
                  <a:pt x="20200" y="1400"/>
                </a:lnTo>
                <a:close/>
              </a:path>
              <a:path fill="darkenLess" w="21600" h="24191">
                <a:moveTo>
                  <a:pt x="21600" y="24191"/>
                </a:moveTo>
                <a:lnTo>
                  <a:pt x="0" y="24191"/>
                </a:lnTo>
                <a:lnTo>
                  <a:pt x="1400" y="22791"/>
                </a:lnTo>
                <a:lnTo>
                  <a:pt x="20200" y="22791"/>
                </a:lnTo>
                <a:close/>
              </a:path>
              <a:path fill="lighten" w="21600" h="24191">
                <a:moveTo>
                  <a:pt x="0" y="2419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91"/>
                </a:lnTo>
                <a:close/>
              </a:path>
              <a:path fill="darken" w="21600" h="24191">
                <a:moveTo>
                  <a:pt x="10800" y="5133"/>
                </a:moveTo>
                <a:lnTo>
                  <a:pt x="13376" y="7744"/>
                </a:lnTo>
                <a:lnTo>
                  <a:pt x="13376" y="6003"/>
                </a:lnTo>
                <a:lnTo>
                  <a:pt x="15152" y="6003"/>
                </a:lnTo>
                <a:lnTo>
                  <a:pt x="15152" y="9519"/>
                </a:lnTo>
                <a:lnTo>
                  <a:pt x="17763" y="12095"/>
                </a:lnTo>
                <a:lnTo>
                  <a:pt x="16109" y="12095"/>
                </a:lnTo>
                <a:lnTo>
                  <a:pt x="16109" y="19285"/>
                </a:lnTo>
                <a:lnTo>
                  <a:pt x="5491" y="19285"/>
                </a:lnTo>
                <a:lnTo>
                  <a:pt x="5491" y="12095"/>
                </a:lnTo>
                <a:lnTo>
                  <a:pt x="3837" y="12095"/>
                </a:lnTo>
                <a:close/>
              </a:path>
              <a:path fill="darkenLess" w="21600" h="24191">
                <a:moveTo>
                  <a:pt x="13376" y="7744"/>
                </a:moveTo>
                <a:lnTo>
                  <a:pt x="13376" y="6003"/>
                </a:lnTo>
                <a:lnTo>
                  <a:pt x="15152" y="6003"/>
                </a:lnTo>
                <a:lnTo>
                  <a:pt x="15152" y="9519"/>
                </a:lnTo>
                <a:close/>
              </a:path>
              <a:path fill="darkenLess" w="21600" h="24191">
                <a:moveTo>
                  <a:pt x="9877" y="15594"/>
                </a:moveTo>
                <a:lnTo>
                  <a:pt x="11723" y="15594"/>
                </a:lnTo>
                <a:lnTo>
                  <a:pt x="11723" y="19285"/>
                </a:lnTo>
                <a:lnTo>
                  <a:pt x="16109" y="19285"/>
                </a:lnTo>
                <a:lnTo>
                  <a:pt x="16109" y="12095"/>
                </a:lnTo>
                <a:lnTo>
                  <a:pt x="5491" y="12095"/>
                </a:lnTo>
                <a:lnTo>
                  <a:pt x="5491" y="19285"/>
                </a:lnTo>
                <a:lnTo>
                  <a:pt x="9877" y="19285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2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25e0"/>
                </a:solidFill>
                <a:latin typeface="Arial Black"/>
              </a:rPr>
              <a:t>Кто по професси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71320" y="2142720"/>
            <a:ext cx="47862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Н.В. Гогол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5" descr="AG00098_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215" name="AutoShape 8"/>
          <p:cNvSpPr/>
          <p:nvPr/>
        </p:nvSpPr>
        <p:spPr>
          <a:xfrm>
            <a:off x="571680" y="3857760"/>
            <a:ext cx="4214520" cy="1857240"/>
          </a:xfrm>
          <a:custGeom>
            <a:avLst/>
            <a:gdLst>
              <a:gd name="textAreaLeft" fmla="*/ 120240 w 4214520"/>
              <a:gd name="textAreaRight" fmla="*/ 4094280 w 4214520"/>
              <a:gd name="textAreaTop" fmla="*/ 120240 h 1857240"/>
              <a:gd name="textAreaBottom" fmla="*/ 1737000 h 1857240"/>
            </a:gdLst>
            <a:ahLst/>
            <a:rect l="textAreaLeft" t="textAreaTop" r="textAreaRight" b="textAreaBottom"/>
            <a:pathLst>
              <a:path w="49010" h="21600">
                <a:moveTo>
                  <a:pt x="0" y="0"/>
                </a:moveTo>
                <a:lnTo>
                  <a:pt x="49010" y="0"/>
                </a:lnTo>
                <a:lnTo>
                  <a:pt x="49010" y="21600"/>
                </a:lnTo>
                <a:lnTo>
                  <a:pt x="0" y="21600"/>
                </a:lnTo>
                <a:close/>
              </a:path>
              <a:path fill="lightenLess" w="49010" h="21600">
                <a:moveTo>
                  <a:pt x="0" y="0"/>
                </a:moveTo>
                <a:lnTo>
                  <a:pt x="49010" y="0"/>
                </a:lnTo>
                <a:lnTo>
                  <a:pt x="47610" y="1400"/>
                </a:lnTo>
                <a:lnTo>
                  <a:pt x="1400" y="1400"/>
                </a:lnTo>
                <a:close/>
              </a:path>
              <a:path fill="darken" w="49010" h="21600">
                <a:moveTo>
                  <a:pt x="49010" y="0"/>
                </a:moveTo>
                <a:lnTo>
                  <a:pt x="49010" y="21600"/>
                </a:lnTo>
                <a:lnTo>
                  <a:pt x="47610" y="20200"/>
                </a:lnTo>
                <a:lnTo>
                  <a:pt x="47610" y="1400"/>
                </a:lnTo>
                <a:close/>
              </a:path>
              <a:path fill="darkenLess" w="49010" h="21600">
                <a:moveTo>
                  <a:pt x="49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10" y="20200"/>
                </a:lnTo>
                <a:close/>
              </a:path>
              <a:path fill="lighten" w="49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вет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анцелярский чиновн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департамент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utoShape 9">
            <a:hlinkClick r:id="rId2" action="ppaction://hlinksldjump"/>
          </p:cNvPr>
          <p:cNvSpPr/>
          <p:nvPr/>
        </p:nvSpPr>
        <p:spPr>
          <a:xfrm>
            <a:off x="8101080" y="5373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Рисунок 1" descr=""/>
          <p:cNvPicPr/>
          <p:nvPr/>
        </p:nvPicPr>
        <p:blipFill>
          <a:blip r:embed="rId3"/>
          <a:stretch/>
        </p:blipFill>
        <p:spPr>
          <a:xfrm>
            <a:off x="5072040" y="2071800"/>
            <a:ext cx="3227400" cy="33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0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9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25e0"/>
                </a:solidFill>
                <a:latin typeface="Arial Black"/>
              </a:rPr>
              <a:t>Кто по професси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56760" y="1904760"/>
            <a:ext cx="4643640" cy="116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А.С. Грибоедо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5" descr="AG00098_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221" name="AutoShape 8"/>
          <p:cNvSpPr/>
          <p:nvPr/>
        </p:nvSpPr>
        <p:spPr>
          <a:xfrm>
            <a:off x="714240" y="4000680"/>
            <a:ext cx="4165560" cy="1773000"/>
          </a:xfrm>
          <a:custGeom>
            <a:avLst/>
            <a:gdLst>
              <a:gd name="textAreaLeft" fmla="*/ 114840 w 4165560"/>
              <a:gd name="textAreaRight" fmla="*/ 4050720 w 4165560"/>
              <a:gd name="textAreaTop" fmla="*/ 114840 h 1773000"/>
              <a:gd name="textAreaBottom" fmla="*/ 1658160 h 1773000"/>
            </a:gdLst>
            <a:ahLst/>
            <a:rect l="textAreaLeft" t="textAreaTop" r="textAreaRight" b="textAreaBottom"/>
            <a:pathLst>
              <a:path w="50742" h="21600">
                <a:moveTo>
                  <a:pt x="0" y="0"/>
                </a:moveTo>
                <a:lnTo>
                  <a:pt x="50742" y="0"/>
                </a:lnTo>
                <a:lnTo>
                  <a:pt x="50742" y="21600"/>
                </a:lnTo>
                <a:lnTo>
                  <a:pt x="0" y="21600"/>
                </a:lnTo>
                <a:close/>
              </a:path>
              <a:path fill="lightenLess" w="50742" h="21600">
                <a:moveTo>
                  <a:pt x="0" y="0"/>
                </a:moveTo>
                <a:lnTo>
                  <a:pt x="50742" y="0"/>
                </a:lnTo>
                <a:lnTo>
                  <a:pt x="49342" y="1400"/>
                </a:lnTo>
                <a:lnTo>
                  <a:pt x="1400" y="1400"/>
                </a:lnTo>
                <a:close/>
              </a:path>
              <a:path fill="darken" w="50742" h="21600">
                <a:moveTo>
                  <a:pt x="50742" y="0"/>
                </a:moveTo>
                <a:lnTo>
                  <a:pt x="50742" y="21600"/>
                </a:lnTo>
                <a:lnTo>
                  <a:pt x="49342" y="20200"/>
                </a:lnTo>
                <a:lnTo>
                  <a:pt x="49342" y="1400"/>
                </a:lnTo>
                <a:close/>
              </a:path>
              <a:path fill="darkenLess" w="50742" h="21600">
                <a:moveTo>
                  <a:pt x="507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342" y="20200"/>
                </a:lnTo>
                <a:close/>
              </a:path>
              <a:path fill="lighten" w="507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вет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лава Русског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сольства в Перс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AutoShape 9">
            <a:hlinkClick r:id="rId2" action="ppaction://hlinksldjump"/>
          </p:cNvPr>
          <p:cNvSpPr/>
          <p:nvPr/>
        </p:nvSpPr>
        <p:spPr>
          <a:xfrm>
            <a:off x="7885080" y="5373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0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7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25e0"/>
                </a:solidFill>
                <a:latin typeface="Arial Black"/>
              </a:rPr>
              <a:t>Кто по професси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28760" y="2071800"/>
            <a:ext cx="464328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Н.М. Карамзин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5" descr="AG00098_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7"/>
          <p:cNvSpPr/>
          <p:nvPr/>
        </p:nvSpPr>
        <p:spPr>
          <a:xfrm>
            <a:off x="500040" y="4929120"/>
            <a:ext cx="3929040" cy="1042920"/>
          </a:xfrm>
          <a:custGeom>
            <a:avLst/>
            <a:gdLst>
              <a:gd name="textAreaLeft" fmla="*/ 67320 w 3929040"/>
              <a:gd name="textAreaRight" fmla="*/ 3861720 w 392904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81354" h="21600">
                <a:moveTo>
                  <a:pt x="0" y="0"/>
                </a:moveTo>
                <a:lnTo>
                  <a:pt x="81354" y="0"/>
                </a:lnTo>
                <a:lnTo>
                  <a:pt x="81354" y="21600"/>
                </a:lnTo>
                <a:lnTo>
                  <a:pt x="0" y="21600"/>
                </a:lnTo>
                <a:close/>
              </a:path>
              <a:path fill="lightenLess" w="81354" h="21600">
                <a:moveTo>
                  <a:pt x="0" y="0"/>
                </a:moveTo>
                <a:lnTo>
                  <a:pt x="81354" y="0"/>
                </a:lnTo>
                <a:lnTo>
                  <a:pt x="79954" y="1400"/>
                </a:lnTo>
                <a:lnTo>
                  <a:pt x="1400" y="1400"/>
                </a:lnTo>
                <a:close/>
              </a:path>
              <a:path fill="darken" w="81354" h="21600">
                <a:moveTo>
                  <a:pt x="81354" y="0"/>
                </a:moveTo>
                <a:lnTo>
                  <a:pt x="81354" y="21600"/>
                </a:lnTo>
                <a:lnTo>
                  <a:pt x="79954" y="20200"/>
                </a:lnTo>
                <a:lnTo>
                  <a:pt x="79954" y="1400"/>
                </a:lnTo>
                <a:close/>
              </a:path>
              <a:path fill="darkenLess" w="81354" h="21600">
                <a:moveTo>
                  <a:pt x="813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954" y="20200"/>
                </a:lnTo>
                <a:close/>
              </a:path>
              <a:path fill="lighten" w="813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вет: истор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AutoShape 8">
            <a:hlinkClick r:id="rId2" action="ppaction://hlinksldjump"/>
          </p:cNvPr>
          <p:cNvSpPr/>
          <p:nvPr/>
        </p:nvSpPr>
        <p:spPr>
          <a:xfrm>
            <a:off x="8101080" y="5373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0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25e0"/>
                </a:solidFill>
                <a:latin typeface="Arial Black"/>
              </a:rPr>
              <a:t>Кто по професси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29" name="Picture 5" descr="AG00098_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230" name="AutoShape 7"/>
          <p:cNvSpPr/>
          <p:nvPr/>
        </p:nvSpPr>
        <p:spPr>
          <a:xfrm>
            <a:off x="285840" y="4643280"/>
            <a:ext cx="4813200" cy="1043280"/>
          </a:xfrm>
          <a:custGeom>
            <a:avLst/>
            <a:gdLst>
              <a:gd name="textAreaLeft" fmla="*/ 67320 w 4813200"/>
              <a:gd name="textAreaRight" fmla="*/ 4745880 w 481320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99625" h="21600">
                <a:moveTo>
                  <a:pt x="0" y="0"/>
                </a:moveTo>
                <a:lnTo>
                  <a:pt x="99625" y="0"/>
                </a:lnTo>
                <a:lnTo>
                  <a:pt x="99625" y="21600"/>
                </a:lnTo>
                <a:lnTo>
                  <a:pt x="0" y="21600"/>
                </a:lnTo>
                <a:close/>
              </a:path>
              <a:path fill="lightenLess" w="99625" h="21600">
                <a:moveTo>
                  <a:pt x="0" y="0"/>
                </a:moveTo>
                <a:lnTo>
                  <a:pt x="99625" y="0"/>
                </a:lnTo>
                <a:lnTo>
                  <a:pt x="98225" y="1400"/>
                </a:lnTo>
                <a:lnTo>
                  <a:pt x="1400" y="1400"/>
                </a:lnTo>
                <a:close/>
              </a:path>
              <a:path fill="darken" w="99625" h="21600">
                <a:moveTo>
                  <a:pt x="99625" y="0"/>
                </a:moveTo>
                <a:lnTo>
                  <a:pt x="99625" y="21600"/>
                </a:lnTo>
                <a:lnTo>
                  <a:pt x="98225" y="20200"/>
                </a:lnTo>
                <a:lnTo>
                  <a:pt x="98225" y="1400"/>
                </a:lnTo>
                <a:close/>
              </a:path>
              <a:path fill="darkenLess" w="99625" h="21600">
                <a:moveTo>
                  <a:pt x="996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225" y="20200"/>
                </a:lnTo>
                <a:close/>
              </a:path>
              <a:path fill="lighten" w="996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твет: вра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8"/>
          <p:cNvSpPr/>
          <p:nvPr/>
        </p:nvSpPr>
        <p:spPr>
          <a:xfrm>
            <a:off x="785880" y="2133720"/>
            <a:ext cx="3357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А.П. Чехо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AutoShape 9">
            <a:hlinkClick r:id="rId2" action="ppaction://hlinksldjump"/>
          </p:cNvPr>
          <p:cNvSpPr/>
          <p:nvPr/>
        </p:nvSpPr>
        <p:spPr>
          <a:xfrm>
            <a:off x="8101080" y="5373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0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3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7"/>
          <p:cNvSpPr/>
          <p:nvPr/>
        </p:nvSpPr>
        <p:spPr>
          <a:xfrm>
            <a:off x="0" y="2997360"/>
            <a:ext cx="3995640" cy="3988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дающиеся люди 20 ве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0" y="3645000"/>
            <a:ext cx="3981600" cy="3988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натоки професс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0" y="4292640"/>
            <a:ext cx="3995640" cy="3988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то по професс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0" y="4937040"/>
            <a:ext cx="4000680" cy="3988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бери лишне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13"/>
          <p:cNvSpPr/>
          <p:nvPr/>
        </p:nvSpPr>
        <p:spPr>
          <a:xfrm>
            <a:off x="47520" y="6345360"/>
            <a:ext cx="3996000" cy="3988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натоки терминов</a:t>
            </a:r>
            <a:r>
              <a:rPr b="0" lang="ru-RU" sz="2000" spc="-1" strike="noStrike" u="sng">
                <a:solidFill>
                  <a:srgbClr val="99ff66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15"/>
          <p:cNvSpPr/>
          <p:nvPr/>
        </p:nvSpPr>
        <p:spPr>
          <a:xfrm>
            <a:off x="0" y="5589720"/>
            <a:ext cx="3995640" cy="45972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награмм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WordArt 18"/>
          <p:cNvSpPr txBox="1"/>
          <p:nvPr/>
        </p:nvSpPr>
        <p:spPr>
          <a:xfrm>
            <a:off x="539640" y="404640"/>
            <a:ext cx="7604280" cy="20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05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92d05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атегории вопросов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92d05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" name="AutoShape 19">
            <a:hlinkClick r:id="rId2" action="ppaction://hlinksldjump"/>
          </p:cNvPr>
          <p:cNvSpPr/>
          <p:nvPr/>
        </p:nvSpPr>
        <p:spPr>
          <a:xfrm>
            <a:off x="4716360" y="3068640"/>
            <a:ext cx="432000" cy="50328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03280"/>
              <a:gd name="textAreaBottom" fmla="*/ 475560 h 503280"/>
            </a:gdLst>
            <a:ahLst/>
            <a:rect l="textAreaLeft" t="textAreaTop" r="textAreaRight" b="textAreaBottom"/>
            <a:pathLst>
              <a:path w="21600" h="25161">
                <a:moveTo>
                  <a:pt x="0" y="0"/>
                </a:moveTo>
                <a:lnTo>
                  <a:pt x="21600" y="0"/>
                </a:lnTo>
                <a:lnTo>
                  <a:pt x="21600" y="25161"/>
                </a:lnTo>
                <a:lnTo>
                  <a:pt x="0" y="25161"/>
                </a:lnTo>
                <a:close/>
              </a:path>
              <a:path fill="lightenLess" w="21600" h="251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61">
                <a:moveTo>
                  <a:pt x="21600" y="0"/>
                </a:moveTo>
                <a:lnTo>
                  <a:pt x="21600" y="25161"/>
                </a:lnTo>
                <a:lnTo>
                  <a:pt x="20200" y="23761"/>
                </a:lnTo>
                <a:lnTo>
                  <a:pt x="20200" y="1400"/>
                </a:lnTo>
                <a:close/>
              </a:path>
              <a:path fill="darkenLess" w="21600" h="25161">
                <a:moveTo>
                  <a:pt x="21600" y="25161"/>
                </a:moveTo>
                <a:lnTo>
                  <a:pt x="0" y="25161"/>
                </a:lnTo>
                <a:lnTo>
                  <a:pt x="1400" y="23761"/>
                </a:lnTo>
                <a:lnTo>
                  <a:pt x="20200" y="23761"/>
                </a:lnTo>
                <a:close/>
              </a:path>
              <a:path fill="lighten" w="21600" h="25161">
                <a:moveTo>
                  <a:pt x="0" y="251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61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20">
            <a:hlinkClick r:id="rId3" action="ppaction://hlinksldjump"/>
          </p:cNvPr>
          <p:cNvSpPr/>
          <p:nvPr/>
        </p:nvSpPr>
        <p:spPr>
          <a:xfrm>
            <a:off x="7380360" y="3068640"/>
            <a:ext cx="431640" cy="503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3280"/>
              <a:gd name="textAreaBottom" fmla="*/ 475560 h 503280"/>
            </a:gdLst>
            <a:ahLst/>
            <a:rect l="textAreaLeft" t="textAreaTop" r="textAreaRight" b="textAreaBottom"/>
            <a:pathLst>
              <a:path w="21600" h="25182">
                <a:moveTo>
                  <a:pt x="0" y="0"/>
                </a:moveTo>
                <a:lnTo>
                  <a:pt x="21600" y="0"/>
                </a:lnTo>
                <a:lnTo>
                  <a:pt x="21600" y="25182"/>
                </a:lnTo>
                <a:lnTo>
                  <a:pt x="0" y="25182"/>
                </a:lnTo>
                <a:close/>
              </a:path>
              <a:path fill="lightenLess" w="21600" h="251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2">
                <a:moveTo>
                  <a:pt x="21600" y="0"/>
                </a:moveTo>
                <a:lnTo>
                  <a:pt x="21600" y="25182"/>
                </a:lnTo>
                <a:lnTo>
                  <a:pt x="20200" y="23782"/>
                </a:lnTo>
                <a:lnTo>
                  <a:pt x="20200" y="1400"/>
                </a:lnTo>
                <a:close/>
              </a:path>
              <a:path fill="darkenLess" w="21600" h="25182">
                <a:moveTo>
                  <a:pt x="21600" y="25182"/>
                </a:moveTo>
                <a:lnTo>
                  <a:pt x="0" y="25182"/>
                </a:lnTo>
                <a:lnTo>
                  <a:pt x="1400" y="23782"/>
                </a:lnTo>
                <a:lnTo>
                  <a:pt x="20200" y="23782"/>
                </a:lnTo>
                <a:close/>
              </a:path>
              <a:path fill="lighten" w="21600" h="25182">
                <a:moveTo>
                  <a:pt x="0" y="2518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2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21">
            <a:hlinkClick r:id="rId4" action="ppaction://hlinksldjump"/>
          </p:cNvPr>
          <p:cNvSpPr/>
          <p:nvPr/>
        </p:nvSpPr>
        <p:spPr>
          <a:xfrm>
            <a:off x="5364000" y="3068640"/>
            <a:ext cx="432000" cy="50328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03280"/>
              <a:gd name="textAreaBottom" fmla="*/ 475560 h 503280"/>
            </a:gdLst>
            <a:ahLst/>
            <a:rect l="textAreaLeft" t="textAreaTop" r="textAreaRight" b="textAreaBottom"/>
            <a:pathLst>
              <a:path w="21600" h="25161">
                <a:moveTo>
                  <a:pt x="0" y="0"/>
                </a:moveTo>
                <a:lnTo>
                  <a:pt x="21600" y="0"/>
                </a:lnTo>
                <a:lnTo>
                  <a:pt x="21600" y="25161"/>
                </a:lnTo>
                <a:lnTo>
                  <a:pt x="0" y="25161"/>
                </a:lnTo>
                <a:close/>
              </a:path>
              <a:path fill="lightenLess" w="21600" h="251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61">
                <a:moveTo>
                  <a:pt x="21600" y="0"/>
                </a:moveTo>
                <a:lnTo>
                  <a:pt x="21600" y="25161"/>
                </a:lnTo>
                <a:lnTo>
                  <a:pt x="20200" y="23761"/>
                </a:lnTo>
                <a:lnTo>
                  <a:pt x="20200" y="1400"/>
                </a:lnTo>
                <a:close/>
              </a:path>
              <a:path fill="darkenLess" w="21600" h="25161">
                <a:moveTo>
                  <a:pt x="21600" y="25161"/>
                </a:moveTo>
                <a:lnTo>
                  <a:pt x="0" y="25161"/>
                </a:lnTo>
                <a:lnTo>
                  <a:pt x="1400" y="23761"/>
                </a:lnTo>
                <a:lnTo>
                  <a:pt x="20200" y="23761"/>
                </a:lnTo>
                <a:close/>
              </a:path>
              <a:path fill="lighten" w="21600" h="25161">
                <a:moveTo>
                  <a:pt x="0" y="251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61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22">
            <a:hlinkClick r:id="rId5" action="ppaction://hlinksldjump"/>
          </p:cNvPr>
          <p:cNvSpPr/>
          <p:nvPr/>
        </p:nvSpPr>
        <p:spPr>
          <a:xfrm>
            <a:off x="6084720" y="3068640"/>
            <a:ext cx="432000" cy="50328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03280"/>
              <a:gd name="textAreaBottom" fmla="*/ 475560 h 503280"/>
            </a:gdLst>
            <a:ahLst/>
            <a:rect l="textAreaLeft" t="textAreaTop" r="textAreaRight" b="textAreaBottom"/>
            <a:pathLst>
              <a:path w="21600" h="25161">
                <a:moveTo>
                  <a:pt x="0" y="0"/>
                </a:moveTo>
                <a:lnTo>
                  <a:pt x="21600" y="0"/>
                </a:lnTo>
                <a:lnTo>
                  <a:pt x="21600" y="25161"/>
                </a:lnTo>
                <a:lnTo>
                  <a:pt x="0" y="25161"/>
                </a:lnTo>
                <a:close/>
              </a:path>
              <a:path fill="lightenLess" w="21600" h="251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61">
                <a:moveTo>
                  <a:pt x="21600" y="0"/>
                </a:moveTo>
                <a:lnTo>
                  <a:pt x="21600" y="25161"/>
                </a:lnTo>
                <a:lnTo>
                  <a:pt x="20200" y="23761"/>
                </a:lnTo>
                <a:lnTo>
                  <a:pt x="20200" y="1400"/>
                </a:lnTo>
                <a:close/>
              </a:path>
              <a:path fill="darkenLess" w="21600" h="25161">
                <a:moveTo>
                  <a:pt x="21600" y="25161"/>
                </a:moveTo>
                <a:lnTo>
                  <a:pt x="0" y="25161"/>
                </a:lnTo>
                <a:lnTo>
                  <a:pt x="1400" y="23761"/>
                </a:lnTo>
                <a:lnTo>
                  <a:pt x="20200" y="23761"/>
                </a:lnTo>
                <a:close/>
              </a:path>
              <a:path fill="lighten" w="21600" h="25161">
                <a:moveTo>
                  <a:pt x="0" y="251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61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23">
            <a:hlinkClick r:id="rId6" action="ppaction://hlinksldjump"/>
          </p:cNvPr>
          <p:cNvSpPr/>
          <p:nvPr/>
        </p:nvSpPr>
        <p:spPr>
          <a:xfrm>
            <a:off x="6732720" y="3068640"/>
            <a:ext cx="431640" cy="503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3280"/>
              <a:gd name="textAreaBottom" fmla="*/ 475560 h 503280"/>
            </a:gdLst>
            <a:ahLst/>
            <a:rect l="textAreaLeft" t="textAreaTop" r="textAreaRight" b="textAreaBottom"/>
            <a:pathLst>
              <a:path w="21600" h="25182">
                <a:moveTo>
                  <a:pt x="0" y="0"/>
                </a:moveTo>
                <a:lnTo>
                  <a:pt x="21600" y="0"/>
                </a:lnTo>
                <a:lnTo>
                  <a:pt x="21600" y="25182"/>
                </a:lnTo>
                <a:lnTo>
                  <a:pt x="0" y="25182"/>
                </a:lnTo>
                <a:close/>
              </a:path>
              <a:path fill="lightenLess" w="21600" h="251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2">
                <a:moveTo>
                  <a:pt x="21600" y="0"/>
                </a:moveTo>
                <a:lnTo>
                  <a:pt x="21600" y="25182"/>
                </a:lnTo>
                <a:lnTo>
                  <a:pt x="20200" y="23782"/>
                </a:lnTo>
                <a:lnTo>
                  <a:pt x="20200" y="1400"/>
                </a:lnTo>
                <a:close/>
              </a:path>
              <a:path fill="darkenLess" w="21600" h="25182">
                <a:moveTo>
                  <a:pt x="21600" y="25182"/>
                </a:moveTo>
                <a:lnTo>
                  <a:pt x="0" y="25182"/>
                </a:lnTo>
                <a:lnTo>
                  <a:pt x="1400" y="23782"/>
                </a:lnTo>
                <a:lnTo>
                  <a:pt x="20200" y="23782"/>
                </a:lnTo>
                <a:close/>
              </a:path>
              <a:path fill="lighten" w="21600" h="25182">
                <a:moveTo>
                  <a:pt x="0" y="2518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2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24">
            <a:hlinkClick r:id="rId7" action="ppaction://hlinksldjump"/>
          </p:cNvPr>
          <p:cNvSpPr/>
          <p:nvPr/>
        </p:nvSpPr>
        <p:spPr>
          <a:xfrm>
            <a:off x="8101080" y="3068640"/>
            <a:ext cx="431640" cy="503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3280"/>
              <a:gd name="textAreaBottom" fmla="*/ 475560 h 503280"/>
            </a:gdLst>
            <a:ahLst/>
            <a:rect l="textAreaLeft" t="textAreaTop" r="textAreaRight" b="textAreaBottom"/>
            <a:pathLst>
              <a:path w="21600" h="25182">
                <a:moveTo>
                  <a:pt x="0" y="0"/>
                </a:moveTo>
                <a:lnTo>
                  <a:pt x="21600" y="0"/>
                </a:lnTo>
                <a:lnTo>
                  <a:pt x="21600" y="25182"/>
                </a:lnTo>
                <a:lnTo>
                  <a:pt x="0" y="25182"/>
                </a:lnTo>
                <a:close/>
              </a:path>
              <a:path fill="lightenLess" w="21600" h="251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2">
                <a:moveTo>
                  <a:pt x="21600" y="0"/>
                </a:moveTo>
                <a:lnTo>
                  <a:pt x="21600" y="25182"/>
                </a:lnTo>
                <a:lnTo>
                  <a:pt x="20200" y="23782"/>
                </a:lnTo>
                <a:lnTo>
                  <a:pt x="20200" y="1400"/>
                </a:lnTo>
                <a:close/>
              </a:path>
              <a:path fill="darkenLess" w="21600" h="25182">
                <a:moveTo>
                  <a:pt x="21600" y="25182"/>
                </a:moveTo>
                <a:lnTo>
                  <a:pt x="0" y="25182"/>
                </a:lnTo>
                <a:lnTo>
                  <a:pt x="1400" y="23782"/>
                </a:lnTo>
                <a:lnTo>
                  <a:pt x="20200" y="23782"/>
                </a:lnTo>
                <a:close/>
              </a:path>
              <a:path fill="lighten" w="21600" h="25182">
                <a:moveTo>
                  <a:pt x="0" y="2518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2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25">
            <a:hlinkClick r:id="rId8" action="ppaction://hlinksldjump"/>
          </p:cNvPr>
          <p:cNvSpPr/>
          <p:nvPr/>
        </p:nvSpPr>
        <p:spPr>
          <a:xfrm>
            <a:off x="8101080" y="3645000"/>
            <a:ext cx="431640" cy="503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3280"/>
              <a:gd name="textAreaBottom" fmla="*/ 475560 h 503280"/>
            </a:gdLst>
            <a:ahLst/>
            <a:rect l="textAreaLeft" t="textAreaTop" r="textAreaRight" b="textAreaBottom"/>
            <a:pathLst>
              <a:path w="21600" h="25182">
                <a:moveTo>
                  <a:pt x="0" y="0"/>
                </a:moveTo>
                <a:lnTo>
                  <a:pt x="21600" y="0"/>
                </a:lnTo>
                <a:lnTo>
                  <a:pt x="21600" y="25182"/>
                </a:lnTo>
                <a:lnTo>
                  <a:pt x="0" y="25182"/>
                </a:lnTo>
                <a:close/>
              </a:path>
              <a:path fill="lightenLess" w="21600" h="251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2">
                <a:moveTo>
                  <a:pt x="21600" y="0"/>
                </a:moveTo>
                <a:lnTo>
                  <a:pt x="21600" y="25182"/>
                </a:lnTo>
                <a:lnTo>
                  <a:pt x="20200" y="23782"/>
                </a:lnTo>
                <a:lnTo>
                  <a:pt x="20200" y="1400"/>
                </a:lnTo>
                <a:close/>
              </a:path>
              <a:path fill="darkenLess" w="21600" h="25182">
                <a:moveTo>
                  <a:pt x="21600" y="25182"/>
                </a:moveTo>
                <a:lnTo>
                  <a:pt x="0" y="25182"/>
                </a:lnTo>
                <a:lnTo>
                  <a:pt x="1400" y="23782"/>
                </a:lnTo>
                <a:lnTo>
                  <a:pt x="20200" y="23782"/>
                </a:lnTo>
                <a:close/>
              </a:path>
              <a:path fill="lighten" w="21600" h="25182">
                <a:moveTo>
                  <a:pt x="0" y="2518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2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26">
            <a:hlinkClick r:id="rId9" action="ppaction://hlinksldjump"/>
          </p:cNvPr>
          <p:cNvSpPr/>
          <p:nvPr/>
        </p:nvSpPr>
        <p:spPr>
          <a:xfrm>
            <a:off x="4716360" y="3645000"/>
            <a:ext cx="432000" cy="50328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03280"/>
              <a:gd name="textAreaBottom" fmla="*/ 475560 h 503280"/>
            </a:gdLst>
            <a:ahLst/>
            <a:rect l="textAreaLeft" t="textAreaTop" r="textAreaRight" b="textAreaBottom"/>
            <a:pathLst>
              <a:path w="21600" h="25161">
                <a:moveTo>
                  <a:pt x="0" y="0"/>
                </a:moveTo>
                <a:lnTo>
                  <a:pt x="21600" y="0"/>
                </a:lnTo>
                <a:lnTo>
                  <a:pt x="21600" y="25161"/>
                </a:lnTo>
                <a:lnTo>
                  <a:pt x="0" y="25161"/>
                </a:lnTo>
                <a:close/>
              </a:path>
              <a:path fill="lightenLess" w="21600" h="251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61">
                <a:moveTo>
                  <a:pt x="21600" y="0"/>
                </a:moveTo>
                <a:lnTo>
                  <a:pt x="21600" y="25161"/>
                </a:lnTo>
                <a:lnTo>
                  <a:pt x="20200" y="23761"/>
                </a:lnTo>
                <a:lnTo>
                  <a:pt x="20200" y="1400"/>
                </a:lnTo>
                <a:close/>
              </a:path>
              <a:path fill="darkenLess" w="21600" h="25161">
                <a:moveTo>
                  <a:pt x="21600" y="25161"/>
                </a:moveTo>
                <a:lnTo>
                  <a:pt x="0" y="25161"/>
                </a:lnTo>
                <a:lnTo>
                  <a:pt x="1400" y="23761"/>
                </a:lnTo>
                <a:lnTo>
                  <a:pt x="20200" y="23761"/>
                </a:lnTo>
                <a:close/>
              </a:path>
              <a:path fill="lighten" w="21600" h="25161">
                <a:moveTo>
                  <a:pt x="0" y="251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61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27">
            <a:hlinkClick r:id="rId10" action="ppaction://hlinksldjump"/>
          </p:cNvPr>
          <p:cNvSpPr/>
          <p:nvPr/>
        </p:nvSpPr>
        <p:spPr>
          <a:xfrm>
            <a:off x="5364000" y="3645000"/>
            <a:ext cx="432000" cy="50328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03280"/>
              <a:gd name="textAreaBottom" fmla="*/ 475560 h 503280"/>
            </a:gdLst>
            <a:ahLst/>
            <a:rect l="textAreaLeft" t="textAreaTop" r="textAreaRight" b="textAreaBottom"/>
            <a:pathLst>
              <a:path w="21600" h="25161">
                <a:moveTo>
                  <a:pt x="0" y="0"/>
                </a:moveTo>
                <a:lnTo>
                  <a:pt x="21600" y="0"/>
                </a:lnTo>
                <a:lnTo>
                  <a:pt x="21600" y="25161"/>
                </a:lnTo>
                <a:lnTo>
                  <a:pt x="0" y="25161"/>
                </a:lnTo>
                <a:close/>
              </a:path>
              <a:path fill="lightenLess" w="21600" h="251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61">
                <a:moveTo>
                  <a:pt x="21600" y="0"/>
                </a:moveTo>
                <a:lnTo>
                  <a:pt x="21600" y="25161"/>
                </a:lnTo>
                <a:lnTo>
                  <a:pt x="20200" y="23761"/>
                </a:lnTo>
                <a:lnTo>
                  <a:pt x="20200" y="1400"/>
                </a:lnTo>
                <a:close/>
              </a:path>
              <a:path fill="darkenLess" w="21600" h="25161">
                <a:moveTo>
                  <a:pt x="21600" y="25161"/>
                </a:moveTo>
                <a:lnTo>
                  <a:pt x="0" y="25161"/>
                </a:lnTo>
                <a:lnTo>
                  <a:pt x="1400" y="23761"/>
                </a:lnTo>
                <a:lnTo>
                  <a:pt x="20200" y="23761"/>
                </a:lnTo>
                <a:close/>
              </a:path>
              <a:path fill="lighten" w="21600" h="25161">
                <a:moveTo>
                  <a:pt x="0" y="251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61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28">
            <a:hlinkClick r:id="rId11" action="ppaction://hlinksldjump"/>
          </p:cNvPr>
          <p:cNvSpPr/>
          <p:nvPr/>
        </p:nvSpPr>
        <p:spPr>
          <a:xfrm>
            <a:off x="6732720" y="3645000"/>
            <a:ext cx="431640" cy="503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3280"/>
              <a:gd name="textAreaBottom" fmla="*/ 475560 h 503280"/>
            </a:gdLst>
            <a:ahLst/>
            <a:rect l="textAreaLeft" t="textAreaTop" r="textAreaRight" b="textAreaBottom"/>
            <a:pathLst>
              <a:path w="21600" h="25182">
                <a:moveTo>
                  <a:pt x="0" y="0"/>
                </a:moveTo>
                <a:lnTo>
                  <a:pt x="21600" y="0"/>
                </a:lnTo>
                <a:lnTo>
                  <a:pt x="21600" y="25182"/>
                </a:lnTo>
                <a:lnTo>
                  <a:pt x="0" y="25182"/>
                </a:lnTo>
                <a:close/>
              </a:path>
              <a:path fill="lightenLess" w="21600" h="251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2">
                <a:moveTo>
                  <a:pt x="21600" y="0"/>
                </a:moveTo>
                <a:lnTo>
                  <a:pt x="21600" y="25182"/>
                </a:lnTo>
                <a:lnTo>
                  <a:pt x="20200" y="23782"/>
                </a:lnTo>
                <a:lnTo>
                  <a:pt x="20200" y="1400"/>
                </a:lnTo>
                <a:close/>
              </a:path>
              <a:path fill="darkenLess" w="21600" h="25182">
                <a:moveTo>
                  <a:pt x="21600" y="25182"/>
                </a:moveTo>
                <a:lnTo>
                  <a:pt x="0" y="25182"/>
                </a:lnTo>
                <a:lnTo>
                  <a:pt x="1400" y="23782"/>
                </a:lnTo>
                <a:lnTo>
                  <a:pt x="20200" y="23782"/>
                </a:lnTo>
                <a:close/>
              </a:path>
              <a:path fill="lighten" w="21600" h="25182">
                <a:moveTo>
                  <a:pt x="0" y="2518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2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29">
            <a:hlinkClick r:id="rId12" action="ppaction://hlinksldjump"/>
          </p:cNvPr>
          <p:cNvSpPr/>
          <p:nvPr/>
        </p:nvSpPr>
        <p:spPr>
          <a:xfrm>
            <a:off x="6084720" y="3645000"/>
            <a:ext cx="432000" cy="50328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03280"/>
              <a:gd name="textAreaBottom" fmla="*/ 475560 h 503280"/>
            </a:gdLst>
            <a:ahLst/>
            <a:rect l="textAreaLeft" t="textAreaTop" r="textAreaRight" b="textAreaBottom"/>
            <a:pathLst>
              <a:path w="21600" h="25161">
                <a:moveTo>
                  <a:pt x="0" y="0"/>
                </a:moveTo>
                <a:lnTo>
                  <a:pt x="21600" y="0"/>
                </a:lnTo>
                <a:lnTo>
                  <a:pt x="21600" y="25161"/>
                </a:lnTo>
                <a:lnTo>
                  <a:pt x="0" y="25161"/>
                </a:lnTo>
                <a:close/>
              </a:path>
              <a:path fill="lightenLess" w="21600" h="251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61">
                <a:moveTo>
                  <a:pt x="21600" y="0"/>
                </a:moveTo>
                <a:lnTo>
                  <a:pt x="21600" y="25161"/>
                </a:lnTo>
                <a:lnTo>
                  <a:pt x="20200" y="23761"/>
                </a:lnTo>
                <a:lnTo>
                  <a:pt x="20200" y="1400"/>
                </a:lnTo>
                <a:close/>
              </a:path>
              <a:path fill="darkenLess" w="21600" h="25161">
                <a:moveTo>
                  <a:pt x="21600" y="25161"/>
                </a:moveTo>
                <a:lnTo>
                  <a:pt x="0" y="25161"/>
                </a:lnTo>
                <a:lnTo>
                  <a:pt x="1400" y="23761"/>
                </a:lnTo>
                <a:lnTo>
                  <a:pt x="20200" y="23761"/>
                </a:lnTo>
                <a:close/>
              </a:path>
              <a:path fill="lighten" w="21600" h="25161">
                <a:moveTo>
                  <a:pt x="0" y="251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61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30">
            <a:hlinkClick r:id="rId13" action="ppaction://hlinksldjump"/>
          </p:cNvPr>
          <p:cNvSpPr/>
          <p:nvPr/>
        </p:nvSpPr>
        <p:spPr>
          <a:xfrm>
            <a:off x="7380360" y="3645000"/>
            <a:ext cx="431640" cy="503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3280"/>
              <a:gd name="textAreaBottom" fmla="*/ 475560 h 503280"/>
            </a:gdLst>
            <a:ahLst/>
            <a:rect l="textAreaLeft" t="textAreaTop" r="textAreaRight" b="textAreaBottom"/>
            <a:pathLst>
              <a:path w="21600" h="25182">
                <a:moveTo>
                  <a:pt x="0" y="0"/>
                </a:moveTo>
                <a:lnTo>
                  <a:pt x="21600" y="0"/>
                </a:lnTo>
                <a:lnTo>
                  <a:pt x="21600" y="25182"/>
                </a:lnTo>
                <a:lnTo>
                  <a:pt x="0" y="25182"/>
                </a:lnTo>
                <a:close/>
              </a:path>
              <a:path fill="lightenLess" w="21600" h="251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2">
                <a:moveTo>
                  <a:pt x="21600" y="0"/>
                </a:moveTo>
                <a:lnTo>
                  <a:pt x="21600" y="25182"/>
                </a:lnTo>
                <a:lnTo>
                  <a:pt x="20200" y="23782"/>
                </a:lnTo>
                <a:lnTo>
                  <a:pt x="20200" y="1400"/>
                </a:lnTo>
                <a:close/>
              </a:path>
              <a:path fill="darkenLess" w="21600" h="25182">
                <a:moveTo>
                  <a:pt x="21600" y="25182"/>
                </a:moveTo>
                <a:lnTo>
                  <a:pt x="0" y="25182"/>
                </a:lnTo>
                <a:lnTo>
                  <a:pt x="1400" y="23782"/>
                </a:lnTo>
                <a:lnTo>
                  <a:pt x="20200" y="23782"/>
                </a:lnTo>
                <a:close/>
              </a:path>
              <a:path fill="lighten" w="21600" h="25182">
                <a:moveTo>
                  <a:pt x="0" y="2518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2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31">
            <a:hlinkClick r:id="rId14" action="ppaction://hlinksldjump"/>
          </p:cNvPr>
          <p:cNvSpPr/>
          <p:nvPr/>
        </p:nvSpPr>
        <p:spPr>
          <a:xfrm>
            <a:off x="8101080" y="4292640"/>
            <a:ext cx="431640" cy="503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3280"/>
              <a:gd name="textAreaBottom" fmla="*/ 475560 h 503280"/>
            </a:gdLst>
            <a:ahLst/>
            <a:rect l="textAreaLeft" t="textAreaTop" r="textAreaRight" b="textAreaBottom"/>
            <a:pathLst>
              <a:path w="21600" h="25182">
                <a:moveTo>
                  <a:pt x="0" y="0"/>
                </a:moveTo>
                <a:lnTo>
                  <a:pt x="21600" y="0"/>
                </a:lnTo>
                <a:lnTo>
                  <a:pt x="21600" y="25182"/>
                </a:lnTo>
                <a:lnTo>
                  <a:pt x="0" y="25182"/>
                </a:lnTo>
                <a:close/>
              </a:path>
              <a:path fill="lightenLess" w="21600" h="251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2">
                <a:moveTo>
                  <a:pt x="21600" y="0"/>
                </a:moveTo>
                <a:lnTo>
                  <a:pt x="21600" y="25182"/>
                </a:lnTo>
                <a:lnTo>
                  <a:pt x="20200" y="23782"/>
                </a:lnTo>
                <a:lnTo>
                  <a:pt x="20200" y="1400"/>
                </a:lnTo>
                <a:close/>
              </a:path>
              <a:path fill="darkenLess" w="21600" h="25182">
                <a:moveTo>
                  <a:pt x="21600" y="25182"/>
                </a:moveTo>
                <a:lnTo>
                  <a:pt x="0" y="25182"/>
                </a:lnTo>
                <a:lnTo>
                  <a:pt x="1400" y="23782"/>
                </a:lnTo>
                <a:lnTo>
                  <a:pt x="20200" y="23782"/>
                </a:lnTo>
                <a:close/>
              </a:path>
              <a:path fill="lighten" w="21600" h="25182">
                <a:moveTo>
                  <a:pt x="0" y="2518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2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32">
            <a:hlinkClick r:id="rId15" action="ppaction://hlinksldjump"/>
          </p:cNvPr>
          <p:cNvSpPr/>
          <p:nvPr/>
        </p:nvSpPr>
        <p:spPr>
          <a:xfrm>
            <a:off x="4716360" y="4292640"/>
            <a:ext cx="432000" cy="50328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03280"/>
              <a:gd name="textAreaBottom" fmla="*/ 475560 h 503280"/>
            </a:gdLst>
            <a:ahLst/>
            <a:rect l="textAreaLeft" t="textAreaTop" r="textAreaRight" b="textAreaBottom"/>
            <a:pathLst>
              <a:path w="21600" h="25161">
                <a:moveTo>
                  <a:pt x="0" y="0"/>
                </a:moveTo>
                <a:lnTo>
                  <a:pt x="21600" y="0"/>
                </a:lnTo>
                <a:lnTo>
                  <a:pt x="21600" y="25161"/>
                </a:lnTo>
                <a:lnTo>
                  <a:pt x="0" y="25161"/>
                </a:lnTo>
                <a:close/>
              </a:path>
              <a:path fill="lightenLess" w="21600" h="251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61">
                <a:moveTo>
                  <a:pt x="21600" y="0"/>
                </a:moveTo>
                <a:lnTo>
                  <a:pt x="21600" y="25161"/>
                </a:lnTo>
                <a:lnTo>
                  <a:pt x="20200" y="23761"/>
                </a:lnTo>
                <a:lnTo>
                  <a:pt x="20200" y="1400"/>
                </a:lnTo>
                <a:close/>
              </a:path>
              <a:path fill="darkenLess" w="21600" h="25161">
                <a:moveTo>
                  <a:pt x="21600" y="25161"/>
                </a:moveTo>
                <a:lnTo>
                  <a:pt x="0" y="25161"/>
                </a:lnTo>
                <a:lnTo>
                  <a:pt x="1400" y="23761"/>
                </a:lnTo>
                <a:lnTo>
                  <a:pt x="20200" y="23761"/>
                </a:lnTo>
                <a:close/>
              </a:path>
              <a:path fill="lighten" w="21600" h="25161">
                <a:moveTo>
                  <a:pt x="0" y="251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61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33">
            <a:hlinkClick r:id="rId16" action="ppaction://hlinksldjump"/>
          </p:cNvPr>
          <p:cNvSpPr/>
          <p:nvPr/>
        </p:nvSpPr>
        <p:spPr>
          <a:xfrm>
            <a:off x="5364000" y="4292640"/>
            <a:ext cx="432000" cy="50328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03280"/>
              <a:gd name="textAreaBottom" fmla="*/ 475560 h 503280"/>
            </a:gdLst>
            <a:ahLst/>
            <a:rect l="textAreaLeft" t="textAreaTop" r="textAreaRight" b="textAreaBottom"/>
            <a:pathLst>
              <a:path w="21600" h="25161">
                <a:moveTo>
                  <a:pt x="0" y="0"/>
                </a:moveTo>
                <a:lnTo>
                  <a:pt x="21600" y="0"/>
                </a:lnTo>
                <a:lnTo>
                  <a:pt x="21600" y="25161"/>
                </a:lnTo>
                <a:lnTo>
                  <a:pt x="0" y="25161"/>
                </a:lnTo>
                <a:close/>
              </a:path>
              <a:path fill="lightenLess" w="21600" h="251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61">
                <a:moveTo>
                  <a:pt x="21600" y="0"/>
                </a:moveTo>
                <a:lnTo>
                  <a:pt x="21600" y="25161"/>
                </a:lnTo>
                <a:lnTo>
                  <a:pt x="20200" y="23761"/>
                </a:lnTo>
                <a:lnTo>
                  <a:pt x="20200" y="1400"/>
                </a:lnTo>
                <a:close/>
              </a:path>
              <a:path fill="darkenLess" w="21600" h="25161">
                <a:moveTo>
                  <a:pt x="21600" y="25161"/>
                </a:moveTo>
                <a:lnTo>
                  <a:pt x="0" y="25161"/>
                </a:lnTo>
                <a:lnTo>
                  <a:pt x="1400" y="23761"/>
                </a:lnTo>
                <a:lnTo>
                  <a:pt x="20200" y="23761"/>
                </a:lnTo>
                <a:close/>
              </a:path>
              <a:path fill="lighten" w="21600" h="25161">
                <a:moveTo>
                  <a:pt x="0" y="251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61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34">
            <a:hlinkClick r:id="rId17" action="ppaction://hlinksldjump"/>
          </p:cNvPr>
          <p:cNvSpPr/>
          <p:nvPr/>
        </p:nvSpPr>
        <p:spPr>
          <a:xfrm>
            <a:off x="6084720" y="4292640"/>
            <a:ext cx="432000" cy="50328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03280"/>
              <a:gd name="textAreaBottom" fmla="*/ 475560 h 503280"/>
            </a:gdLst>
            <a:ahLst/>
            <a:rect l="textAreaLeft" t="textAreaTop" r="textAreaRight" b="textAreaBottom"/>
            <a:pathLst>
              <a:path w="21600" h="25161">
                <a:moveTo>
                  <a:pt x="0" y="0"/>
                </a:moveTo>
                <a:lnTo>
                  <a:pt x="21600" y="0"/>
                </a:lnTo>
                <a:lnTo>
                  <a:pt x="21600" y="25161"/>
                </a:lnTo>
                <a:lnTo>
                  <a:pt x="0" y="25161"/>
                </a:lnTo>
                <a:close/>
              </a:path>
              <a:path fill="lightenLess" w="21600" h="251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61">
                <a:moveTo>
                  <a:pt x="21600" y="0"/>
                </a:moveTo>
                <a:lnTo>
                  <a:pt x="21600" y="25161"/>
                </a:lnTo>
                <a:lnTo>
                  <a:pt x="20200" y="23761"/>
                </a:lnTo>
                <a:lnTo>
                  <a:pt x="20200" y="1400"/>
                </a:lnTo>
                <a:close/>
              </a:path>
              <a:path fill="darkenLess" w="21600" h="25161">
                <a:moveTo>
                  <a:pt x="21600" y="25161"/>
                </a:moveTo>
                <a:lnTo>
                  <a:pt x="0" y="25161"/>
                </a:lnTo>
                <a:lnTo>
                  <a:pt x="1400" y="23761"/>
                </a:lnTo>
                <a:lnTo>
                  <a:pt x="20200" y="23761"/>
                </a:lnTo>
                <a:close/>
              </a:path>
              <a:path fill="lighten" w="21600" h="25161">
                <a:moveTo>
                  <a:pt x="0" y="251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61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35">
            <a:hlinkClick r:id="rId18" action="ppaction://hlinksldjump"/>
          </p:cNvPr>
          <p:cNvSpPr/>
          <p:nvPr/>
        </p:nvSpPr>
        <p:spPr>
          <a:xfrm>
            <a:off x="7380360" y="4292640"/>
            <a:ext cx="431640" cy="503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3280"/>
              <a:gd name="textAreaBottom" fmla="*/ 475560 h 503280"/>
            </a:gdLst>
            <a:ahLst/>
            <a:rect l="textAreaLeft" t="textAreaTop" r="textAreaRight" b="textAreaBottom"/>
            <a:pathLst>
              <a:path w="21600" h="25182">
                <a:moveTo>
                  <a:pt x="0" y="0"/>
                </a:moveTo>
                <a:lnTo>
                  <a:pt x="21600" y="0"/>
                </a:lnTo>
                <a:lnTo>
                  <a:pt x="21600" y="25182"/>
                </a:lnTo>
                <a:lnTo>
                  <a:pt x="0" y="25182"/>
                </a:lnTo>
                <a:close/>
              </a:path>
              <a:path fill="lightenLess" w="21600" h="251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2">
                <a:moveTo>
                  <a:pt x="21600" y="0"/>
                </a:moveTo>
                <a:lnTo>
                  <a:pt x="21600" y="25182"/>
                </a:lnTo>
                <a:lnTo>
                  <a:pt x="20200" y="23782"/>
                </a:lnTo>
                <a:lnTo>
                  <a:pt x="20200" y="1400"/>
                </a:lnTo>
                <a:close/>
              </a:path>
              <a:path fill="darkenLess" w="21600" h="25182">
                <a:moveTo>
                  <a:pt x="21600" y="25182"/>
                </a:moveTo>
                <a:lnTo>
                  <a:pt x="0" y="25182"/>
                </a:lnTo>
                <a:lnTo>
                  <a:pt x="1400" y="23782"/>
                </a:lnTo>
                <a:lnTo>
                  <a:pt x="20200" y="23782"/>
                </a:lnTo>
                <a:close/>
              </a:path>
              <a:path fill="lighten" w="21600" h="25182">
                <a:moveTo>
                  <a:pt x="0" y="2518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2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36">
            <a:hlinkClick r:id="rId19" action="ppaction://hlinksldjump"/>
          </p:cNvPr>
          <p:cNvSpPr/>
          <p:nvPr/>
        </p:nvSpPr>
        <p:spPr>
          <a:xfrm>
            <a:off x="6732720" y="4292640"/>
            <a:ext cx="431640" cy="503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3280"/>
              <a:gd name="textAreaBottom" fmla="*/ 475560 h 503280"/>
            </a:gdLst>
            <a:ahLst/>
            <a:rect l="textAreaLeft" t="textAreaTop" r="textAreaRight" b="textAreaBottom"/>
            <a:pathLst>
              <a:path w="21600" h="25182">
                <a:moveTo>
                  <a:pt x="0" y="0"/>
                </a:moveTo>
                <a:lnTo>
                  <a:pt x="21600" y="0"/>
                </a:lnTo>
                <a:lnTo>
                  <a:pt x="21600" y="25182"/>
                </a:lnTo>
                <a:lnTo>
                  <a:pt x="0" y="25182"/>
                </a:lnTo>
                <a:close/>
              </a:path>
              <a:path fill="lightenLess" w="21600" h="251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2">
                <a:moveTo>
                  <a:pt x="21600" y="0"/>
                </a:moveTo>
                <a:lnTo>
                  <a:pt x="21600" y="25182"/>
                </a:lnTo>
                <a:lnTo>
                  <a:pt x="20200" y="23782"/>
                </a:lnTo>
                <a:lnTo>
                  <a:pt x="20200" y="1400"/>
                </a:lnTo>
                <a:close/>
              </a:path>
              <a:path fill="darkenLess" w="21600" h="25182">
                <a:moveTo>
                  <a:pt x="21600" y="25182"/>
                </a:moveTo>
                <a:lnTo>
                  <a:pt x="0" y="25182"/>
                </a:lnTo>
                <a:lnTo>
                  <a:pt x="1400" y="23782"/>
                </a:lnTo>
                <a:lnTo>
                  <a:pt x="20200" y="23782"/>
                </a:lnTo>
                <a:close/>
              </a:path>
              <a:path fill="lighten" w="21600" h="25182">
                <a:moveTo>
                  <a:pt x="0" y="2518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2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37">
            <a:hlinkClick r:id="rId20" action="ppaction://hlinksldjump"/>
          </p:cNvPr>
          <p:cNvSpPr/>
          <p:nvPr/>
        </p:nvSpPr>
        <p:spPr>
          <a:xfrm>
            <a:off x="8101080" y="4869000"/>
            <a:ext cx="431640" cy="503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3280"/>
              <a:gd name="textAreaBottom" fmla="*/ 475560 h 503280"/>
            </a:gdLst>
            <a:ahLst/>
            <a:rect l="textAreaLeft" t="textAreaTop" r="textAreaRight" b="textAreaBottom"/>
            <a:pathLst>
              <a:path w="21600" h="25182">
                <a:moveTo>
                  <a:pt x="0" y="0"/>
                </a:moveTo>
                <a:lnTo>
                  <a:pt x="21600" y="0"/>
                </a:lnTo>
                <a:lnTo>
                  <a:pt x="21600" y="25182"/>
                </a:lnTo>
                <a:lnTo>
                  <a:pt x="0" y="25182"/>
                </a:lnTo>
                <a:close/>
              </a:path>
              <a:path fill="lightenLess" w="21600" h="251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2">
                <a:moveTo>
                  <a:pt x="21600" y="0"/>
                </a:moveTo>
                <a:lnTo>
                  <a:pt x="21600" y="25182"/>
                </a:lnTo>
                <a:lnTo>
                  <a:pt x="20200" y="23782"/>
                </a:lnTo>
                <a:lnTo>
                  <a:pt x="20200" y="1400"/>
                </a:lnTo>
                <a:close/>
              </a:path>
              <a:path fill="darkenLess" w="21600" h="25182">
                <a:moveTo>
                  <a:pt x="21600" y="25182"/>
                </a:moveTo>
                <a:lnTo>
                  <a:pt x="0" y="25182"/>
                </a:lnTo>
                <a:lnTo>
                  <a:pt x="1400" y="23782"/>
                </a:lnTo>
                <a:lnTo>
                  <a:pt x="20200" y="23782"/>
                </a:lnTo>
                <a:close/>
              </a:path>
              <a:path fill="lighten" w="21600" h="25182">
                <a:moveTo>
                  <a:pt x="0" y="2518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2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38">
            <a:hlinkClick r:id="rId21" action="ppaction://hlinksldjump"/>
          </p:cNvPr>
          <p:cNvSpPr/>
          <p:nvPr/>
        </p:nvSpPr>
        <p:spPr>
          <a:xfrm>
            <a:off x="4716360" y="4869000"/>
            <a:ext cx="432000" cy="50328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03280"/>
              <a:gd name="textAreaBottom" fmla="*/ 475560 h 503280"/>
            </a:gdLst>
            <a:ahLst/>
            <a:rect l="textAreaLeft" t="textAreaTop" r="textAreaRight" b="textAreaBottom"/>
            <a:pathLst>
              <a:path w="21600" h="25161">
                <a:moveTo>
                  <a:pt x="0" y="0"/>
                </a:moveTo>
                <a:lnTo>
                  <a:pt x="21600" y="0"/>
                </a:lnTo>
                <a:lnTo>
                  <a:pt x="21600" y="25161"/>
                </a:lnTo>
                <a:lnTo>
                  <a:pt x="0" y="25161"/>
                </a:lnTo>
                <a:close/>
              </a:path>
              <a:path fill="lightenLess" w="21600" h="251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61">
                <a:moveTo>
                  <a:pt x="21600" y="0"/>
                </a:moveTo>
                <a:lnTo>
                  <a:pt x="21600" y="25161"/>
                </a:lnTo>
                <a:lnTo>
                  <a:pt x="20200" y="23761"/>
                </a:lnTo>
                <a:lnTo>
                  <a:pt x="20200" y="1400"/>
                </a:lnTo>
                <a:close/>
              </a:path>
              <a:path fill="darkenLess" w="21600" h="25161">
                <a:moveTo>
                  <a:pt x="21600" y="25161"/>
                </a:moveTo>
                <a:lnTo>
                  <a:pt x="0" y="25161"/>
                </a:lnTo>
                <a:lnTo>
                  <a:pt x="1400" y="23761"/>
                </a:lnTo>
                <a:lnTo>
                  <a:pt x="20200" y="23761"/>
                </a:lnTo>
                <a:close/>
              </a:path>
              <a:path fill="lighten" w="21600" h="25161">
                <a:moveTo>
                  <a:pt x="0" y="251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61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39">
            <a:hlinkClick r:id="rId22" action="ppaction://hlinksldjump"/>
          </p:cNvPr>
          <p:cNvSpPr/>
          <p:nvPr/>
        </p:nvSpPr>
        <p:spPr>
          <a:xfrm>
            <a:off x="5364000" y="4869000"/>
            <a:ext cx="432000" cy="50328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03280"/>
              <a:gd name="textAreaBottom" fmla="*/ 475560 h 503280"/>
            </a:gdLst>
            <a:ahLst/>
            <a:rect l="textAreaLeft" t="textAreaTop" r="textAreaRight" b="textAreaBottom"/>
            <a:pathLst>
              <a:path w="21600" h="25161">
                <a:moveTo>
                  <a:pt x="0" y="0"/>
                </a:moveTo>
                <a:lnTo>
                  <a:pt x="21600" y="0"/>
                </a:lnTo>
                <a:lnTo>
                  <a:pt x="21600" y="25161"/>
                </a:lnTo>
                <a:lnTo>
                  <a:pt x="0" y="25161"/>
                </a:lnTo>
                <a:close/>
              </a:path>
              <a:path fill="lightenLess" w="21600" h="251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61">
                <a:moveTo>
                  <a:pt x="21600" y="0"/>
                </a:moveTo>
                <a:lnTo>
                  <a:pt x="21600" y="25161"/>
                </a:lnTo>
                <a:lnTo>
                  <a:pt x="20200" y="23761"/>
                </a:lnTo>
                <a:lnTo>
                  <a:pt x="20200" y="1400"/>
                </a:lnTo>
                <a:close/>
              </a:path>
              <a:path fill="darkenLess" w="21600" h="25161">
                <a:moveTo>
                  <a:pt x="21600" y="25161"/>
                </a:moveTo>
                <a:lnTo>
                  <a:pt x="0" y="25161"/>
                </a:lnTo>
                <a:lnTo>
                  <a:pt x="1400" y="23761"/>
                </a:lnTo>
                <a:lnTo>
                  <a:pt x="20200" y="23761"/>
                </a:lnTo>
                <a:close/>
              </a:path>
              <a:path fill="lighten" w="21600" h="25161">
                <a:moveTo>
                  <a:pt x="0" y="251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61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40">
            <a:hlinkClick r:id="rId23" action="ppaction://hlinksldjump"/>
          </p:cNvPr>
          <p:cNvSpPr/>
          <p:nvPr/>
        </p:nvSpPr>
        <p:spPr>
          <a:xfrm>
            <a:off x="6084720" y="4869000"/>
            <a:ext cx="432000" cy="50328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03280"/>
              <a:gd name="textAreaBottom" fmla="*/ 475560 h 503280"/>
            </a:gdLst>
            <a:ahLst/>
            <a:rect l="textAreaLeft" t="textAreaTop" r="textAreaRight" b="textAreaBottom"/>
            <a:pathLst>
              <a:path w="21600" h="25161">
                <a:moveTo>
                  <a:pt x="0" y="0"/>
                </a:moveTo>
                <a:lnTo>
                  <a:pt x="21600" y="0"/>
                </a:lnTo>
                <a:lnTo>
                  <a:pt x="21600" y="25161"/>
                </a:lnTo>
                <a:lnTo>
                  <a:pt x="0" y="25161"/>
                </a:lnTo>
                <a:close/>
              </a:path>
              <a:path fill="lightenLess" w="21600" h="251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61">
                <a:moveTo>
                  <a:pt x="21600" y="0"/>
                </a:moveTo>
                <a:lnTo>
                  <a:pt x="21600" y="25161"/>
                </a:lnTo>
                <a:lnTo>
                  <a:pt x="20200" y="23761"/>
                </a:lnTo>
                <a:lnTo>
                  <a:pt x="20200" y="1400"/>
                </a:lnTo>
                <a:close/>
              </a:path>
              <a:path fill="darkenLess" w="21600" h="25161">
                <a:moveTo>
                  <a:pt x="21600" y="25161"/>
                </a:moveTo>
                <a:lnTo>
                  <a:pt x="0" y="25161"/>
                </a:lnTo>
                <a:lnTo>
                  <a:pt x="1400" y="23761"/>
                </a:lnTo>
                <a:lnTo>
                  <a:pt x="20200" y="23761"/>
                </a:lnTo>
                <a:close/>
              </a:path>
              <a:path fill="lighten" w="21600" h="25161">
                <a:moveTo>
                  <a:pt x="0" y="251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61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41">
            <a:hlinkClick r:id="rId24" action="ppaction://hlinksldjump"/>
          </p:cNvPr>
          <p:cNvSpPr/>
          <p:nvPr/>
        </p:nvSpPr>
        <p:spPr>
          <a:xfrm>
            <a:off x="6732720" y="4869000"/>
            <a:ext cx="431640" cy="503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3280"/>
              <a:gd name="textAreaBottom" fmla="*/ 475560 h 503280"/>
            </a:gdLst>
            <a:ahLst/>
            <a:rect l="textAreaLeft" t="textAreaTop" r="textAreaRight" b="textAreaBottom"/>
            <a:pathLst>
              <a:path w="21600" h="25182">
                <a:moveTo>
                  <a:pt x="0" y="0"/>
                </a:moveTo>
                <a:lnTo>
                  <a:pt x="21600" y="0"/>
                </a:lnTo>
                <a:lnTo>
                  <a:pt x="21600" y="25182"/>
                </a:lnTo>
                <a:lnTo>
                  <a:pt x="0" y="25182"/>
                </a:lnTo>
                <a:close/>
              </a:path>
              <a:path fill="lightenLess" w="21600" h="251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2">
                <a:moveTo>
                  <a:pt x="21600" y="0"/>
                </a:moveTo>
                <a:lnTo>
                  <a:pt x="21600" y="25182"/>
                </a:lnTo>
                <a:lnTo>
                  <a:pt x="20200" y="23782"/>
                </a:lnTo>
                <a:lnTo>
                  <a:pt x="20200" y="1400"/>
                </a:lnTo>
                <a:close/>
              </a:path>
              <a:path fill="darkenLess" w="21600" h="25182">
                <a:moveTo>
                  <a:pt x="21600" y="25182"/>
                </a:moveTo>
                <a:lnTo>
                  <a:pt x="0" y="25182"/>
                </a:lnTo>
                <a:lnTo>
                  <a:pt x="1400" y="23782"/>
                </a:lnTo>
                <a:lnTo>
                  <a:pt x="20200" y="23782"/>
                </a:lnTo>
                <a:close/>
              </a:path>
              <a:path fill="lighten" w="21600" h="25182">
                <a:moveTo>
                  <a:pt x="0" y="2518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2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42">
            <a:hlinkClick r:id="rId25" action="ppaction://hlinksldjump"/>
          </p:cNvPr>
          <p:cNvSpPr/>
          <p:nvPr/>
        </p:nvSpPr>
        <p:spPr>
          <a:xfrm>
            <a:off x="7380360" y="4869000"/>
            <a:ext cx="431640" cy="503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3280"/>
              <a:gd name="textAreaBottom" fmla="*/ 475560 h 503280"/>
            </a:gdLst>
            <a:ahLst/>
            <a:rect l="textAreaLeft" t="textAreaTop" r="textAreaRight" b="textAreaBottom"/>
            <a:pathLst>
              <a:path w="21600" h="25182">
                <a:moveTo>
                  <a:pt x="0" y="0"/>
                </a:moveTo>
                <a:lnTo>
                  <a:pt x="21600" y="0"/>
                </a:lnTo>
                <a:lnTo>
                  <a:pt x="21600" y="25182"/>
                </a:lnTo>
                <a:lnTo>
                  <a:pt x="0" y="25182"/>
                </a:lnTo>
                <a:close/>
              </a:path>
              <a:path fill="lightenLess" w="21600" h="251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2">
                <a:moveTo>
                  <a:pt x="21600" y="0"/>
                </a:moveTo>
                <a:lnTo>
                  <a:pt x="21600" y="25182"/>
                </a:lnTo>
                <a:lnTo>
                  <a:pt x="20200" y="23782"/>
                </a:lnTo>
                <a:lnTo>
                  <a:pt x="20200" y="1400"/>
                </a:lnTo>
                <a:close/>
              </a:path>
              <a:path fill="darkenLess" w="21600" h="25182">
                <a:moveTo>
                  <a:pt x="21600" y="25182"/>
                </a:moveTo>
                <a:lnTo>
                  <a:pt x="0" y="25182"/>
                </a:lnTo>
                <a:lnTo>
                  <a:pt x="1400" y="23782"/>
                </a:lnTo>
                <a:lnTo>
                  <a:pt x="20200" y="23782"/>
                </a:lnTo>
                <a:close/>
              </a:path>
              <a:path fill="lighten" w="21600" h="25182">
                <a:moveTo>
                  <a:pt x="0" y="2518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2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43">
            <a:hlinkClick r:id="rId26" action="ppaction://hlinksldjump"/>
          </p:cNvPr>
          <p:cNvSpPr/>
          <p:nvPr/>
        </p:nvSpPr>
        <p:spPr>
          <a:xfrm>
            <a:off x="8101080" y="5516640"/>
            <a:ext cx="431640" cy="503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3280"/>
              <a:gd name="textAreaBottom" fmla="*/ 475560 h 503280"/>
            </a:gdLst>
            <a:ahLst/>
            <a:rect l="textAreaLeft" t="textAreaTop" r="textAreaRight" b="textAreaBottom"/>
            <a:pathLst>
              <a:path w="21600" h="25182">
                <a:moveTo>
                  <a:pt x="0" y="0"/>
                </a:moveTo>
                <a:lnTo>
                  <a:pt x="21600" y="0"/>
                </a:lnTo>
                <a:lnTo>
                  <a:pt x="21600" y="25182"/>
                </a:lnTo>
                <a:lnTo>
                  <a:pt x="0" y="25182"/>
                </a:lnTo>
                <a:close/>
              </a:path>
              <a:path fill="lightenLess" w="21600" h="251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2">
                <a:moveTo>
                  <a:pt x="21600" y="0"/>
                </a:moveTo>
                <a:lnTo>
                  <a:pt x="21600" y="25182"/>
                </a:lnTo>
                <a:lnTo>
                  <a:pt x="20200" y="23782"/>
                </a:lnTo>
                <a:lnTo>
                  <a:pt x="20200" y="1400"/>
                </a:lnTo>
                <a:close/>
              </a:path>
              <a:path fill="darkenLess" w="21600" h="25182">
                <a:moveTo>
                  <a:pt x="21600" y="25182"/>
                </a:moveTo>
                <a:lnTo>
                  <a:pt x="0" y="25182"/>
                </a:lnTo>
                <a:lnTo>
                  <a:pt x="1400" y="23782"/>
                </a:lnTo>
                <a:lnTo>
                  <a:pt x="20200" y="23782"/>
                </a:lnTo>
                <a:close/>
              </a:path>
              <a:path fill="lighten" w="21600" h="25182">
                <a:moveTo>
                  <a:pt x="0" y="2518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2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44">
            <a:hlinkClick r:id="rId27" action="ppaction://hlinksldjump"/>
          </p:cNvPr>
          <p:cNvSpPr/>
          <p:nvPr/>
        </p:nvSpPr>
        <p:spPr>
          <a:xfrm>
            <a:off x="4716360" y="5516640"/>
            <a:ext cx="432000" cy="50328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03280"/>
              <a:gd name="textAreaBottom" fmla="*/ 475560 h 503280"/>
            </a:gdLst>
            <a:ahLst/>
            <a:rect l="textAreaLeft" t="textAreaTop" r="textAreaRight" b="textAreaBottom"/>
            <a:pathLst>
              <a:path w="21600" h="25161">
                <a:moveTo>
                  <a:pt x="0" y="0"/>
                </a:moveTo>
                <a:lnTo>
                  <a:pt x="21600" y="0"/>
                </a:lnTo>
                <a:lnTo>
                  <a:pt x="21600" y="25161"/>
                </a:lnTo>
                <a:lnTo>
                  <a:pt x="0" y="25161"/>
                </a:lnTo>
                <a:close/>
              </a:path>
              <a:path fill="lightenLess" w="21600" h="251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61">
                <a:moveTo>
                  <a:pt x="21600" y="0"/>
                </a:moveTo>
                <a:lnTo>
                  <a:pt x="21600" y="25161"/>
                </a:lnTo>
                <a:lnTo>
                  <a:pt x="20200" y="23761"/>
                </a:lnTo>
                <a:lnTo>
                  <a:pt x="20200" y="1400"/>
                </a:lnTo>
                <a:close/>
              </a:path>
              <a:path fill="darkenLess" w="21600" h="25161">
                <a:moveTo>
                  <a:pt x="21600" y="25161"/>
                </a:moveTo>
                <a:lnTo>
                  <a:pt x="0" y="25161"/>
                </a:lnTo>
                <a:lnTo>
                  <a:pt x="1400" y="23761"/>
                </a:lnTo>
                <a:lnTo>
                  <a:pt x="20200" y="23761"/>
                </a:lnTo>
                <a:close/>
              </a:path>
              <a:path fill="lighten" w="21600" h="25161">
                <a:moveTo>
                  <a:pt x="0" y="251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61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45">
            <a:hlinkClick r:id="rId28" action="ppaction://hlinksldjump"/>
          </p:cNvPr>
          <p:cNvSpPr/>
          <p:nvPr/>
        </p:nvSpPr>
        <p:spPr>
          <a:xfrm>
            <a:off x="5364000" y="5516640"/>
            <a:ext cx="432000" cy="50328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03280"/>
              <a:gd name="textAreaBottom" fmla="*/ 475560 h 503280"/>
            </a:gdLst>
            <a:ahLst/>
            <a:rect l="textAreaLeft" t="textAreaTop" r="textAreaRight" b="textAreaBottom"/>
            <a:pathLst>
              <a:path w="21600" h="25161">
                <a:moveTo>
                  <a:pt x="0" y="0"/>
                </a:moveTo>
                <a:lnTo>
                  <a:pt x="21600" y="0"/>
                </a:lnTo>
                <a:lnTo>
                  <a:pt x="21600" y="25161"/>
                </a:lnTo>
                <a:lnTo>
                  <a:pt x="0" y="25161"/>
                </a:lnTo>
                <a:close/>
              </a:path>
              <a:path fill="lightenLess" w="21600" h="251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61">
                <a:moveTo>
                  <a:pt x="21600" y="0"/>
                </a:moveTo>
                <a:lnTo>
                  <a:pt x="21600" y="25161"/>
                </a:lnTo>
                <a:lnTo>
                  <a:pt x="20200" y="23761"/>
                </a:lnTo>
                <a:lnTo>
                  <a:pt x="20200" y="1400"/>
                </a:lnTo>
                <a:close/>
              </a:path>
              <a:path fill="darkenLess" w="21600" h="25161">
                <a:moveTo>
                  <a:pt x="21600" y="25161"/>
                </a:moveTo>
                <a:lnTo>
                  <a:pt x="0" y="25161"/>
                </a:lnTo>
                <a:lnTo>
                  <a:pt x="1400" y="23761"/>
                </a:lnTo>
                <a:lnTo>
                  <a:pt x="20200" y="23761"/>
                </a:lnTo>
                <a:close/>
              </a:path>
              <a:path fill="lighten" w="21600" h="25161">
                <a:moveTo>
                  <a:pt x="0" y="251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61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46">
            <a:hlinkClick r:id="rId29" action="ppaction://hlinksldjump"/>
          </p:cNvPr>
          <p:cNvSpPr/>
          <p:nvPr/>
        </p:nvSpPr>
        <p:spPr>
          <a:xfrm>
            <a:off x="6084720" y="5516640"/>
            <a:ext cx="432000" cy="50328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03280"/>
              <a:gd name="textAreaBottom" fmla="*/ 475560 h 503280"/>
            </a:gdLst>
            <a:ahLst/>
            <a:rect l="textAreaLeft" t="textAreaTop" r="textAreaRight" b="textAreaBottom"/>
            <a:pathLst>
              <a:path w="21600" h="25161">
                <a:moveTo>
                  <a:pt x="0" y="0"/>
                </a:moveTo>
                <a:lnTo>
                  <a:pt x="21600" y="0"/>
                </a:lnTo>
                <a:lnTo>
                  <a:pt x="21600" y="25161"/>
                </a:lnTo>
                <a:lnTo>
                  <a:pt x="0" y="25161"/>
                </a:lnTo>
                <a:close/>
              </a:path>
              <a:path fill="lightenLess" w="21600" h="251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61">
                <a:moveTo>
                  <a:pt x="21600" y="0"/>
                </a:moveTo>
                <a:lnTo>
                  <a:pt x="21600" y="25161"/>
                </a:lnTo>
                <a:lnTo>
                  <a:pt x="20200" y="23761"/>
                </a:lnTo>
                <a:lnTo>
                  <a:pt x="20200" y="1400"/>
                </a:lnTo>
                <a:close/>
              </a:path>
              <a:path fill="darkenLess" w="21600" h="25161">
                <a:moveTo>
                  <a:pt x="21600" y="25161"/>
                </a:moveTo>
                <a:lnTo>
                  <a:pt x="0" y="25161"/>
                </a:lnTo>
                <a:lnTo>
                  <a:pt x="1400" y="23761"/>
                </a:lnTo>
                <a:lnTo>
                  <a:pt x="20200" y="23761"/>
                </a:lnTo>
                <a:close/>
              </a:path>
              <a:path fill="lighten" w="21600" h="25161">
                <a:moveTo>
                  <a:pt x="0" y="251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61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47">
            <a:hlinkClick r:id="rId30" action="ppaction://hlinksldjump"/>
          </p:cNvPr>
          <p:cNvSpPr/>
          <p:nvPr/>
        </p:nvSpPr>
        <p:spPr>
          <a:xfrm>
            <a:off x="6732720" y="5516640"/>
            <a:ext cx="431640" cy="503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3280"/>
              <a:gd name="textAreaBottom" fmla="*/ 475560 h 503280"/>
            </a:gdLst>
            <a:ahLst/>
            <a:rect l="textAreaLeft" t="textAreaTop" r="textAreaRight" b="textAreaBottom"/>
            <a:pathLst>
              <a:path w="21600" h="25182">
                <a:moveTo>
                  <a:pt x="0" y="0"/>
                </a:moveTo>
                <a:lnTo>
                  <a:pt x="21600" y="0"/>
                </a:lnTo>
                <a:lnTo>
                  <a:pt x="21600" y="25182"/>
                </a:lnTo>
                <a:lnTo>
                  <a:pt x="0" y="25182"/>
                </a:lnTo>
                <a:close/>
              </a:path>
              <a:path fill="lightenLess" w="21600" h="251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2">
                <a:moveTo>
                  <a:pt x="21600" y="0"/>
                </a:moveTo>
                <a:lnTo>
                  <a:pt x="21600" y="25182"/>
                </a:lnTo>
                <a:lnTo>
                  <a:pt x="20200" y="23782"/>
                </a:lnTo>
                <a:lnTo>
                  <a:pt x="20200" y="1400"/>
                </a:lnTo>
                <a:close/>
              </a:path>
              <a:path fill="darkenLess" w="21600" h="25182">
                <a:moveTo>
                  <a:pt x="21600" y="25182"/>
                </a:moveTo>
                <a:lnTo>
                  <a:pt x="0" y="25182"/>
                </a:lnTo>
                <a:lnTo>
                  <a:pt x="1400" y="23782"/>
                </a:lnTo>
                <a:lnTo>
                  <a:pt x="20200" y="23782"/>
                </a:lnTo>
                <a:close/>
              </a:path>
              <a:path fill="lighten" w="21600" h="25182">
                <a:moveTo>
                  <a:pt x="0" y="2518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2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48">
            <a:hlinkClick r:id="rId31" action="ppaction://hlinksldjump"/>
          </p:cNvPr>
          <p:cNvSpPr/>
          <p:nvPr/>
        </p:nvSpPr>
        <p:spPr>
          <a:xfrm>
            <a:off x="7380360" y="5516640"/>
            <a:ext cx="431640" cy="503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3280"/>
              <a:gd name="textAreaBottom" fmla="*/ 475560 h 503280"/>
            </a:gdLst>
            <a:ahLst/>
            <a:rect l="textAreaLeft" t="textAreaTop" r="textAreaRight" b="textAreaBottom"/>
            <a:pathLst>
              <a:path w="21600" h="25182">
                <a:moveTo>
                  <a:pt x="0" y="0"/>
                </a:moveTo>
                <a:lnTo>
                  <a:pt x="21600" y="0"/>
                </a:lnTo>
                <a:lnTo>
                  <a:pt x="21600" y="25182"/>
                </a:lnTo>
                <a:lnTo>
                  <a:pt x="0" y="25182"/>
                </a:lnTo>
                <a:close/>
              </a:path>
              <a:path fill="lightenLess" w="21600" h="251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2">
                <a:moveTo>
                  <a:pt x="21600" y="0"/>
                </a:moveTo>
                <a:lnTo>
                  <a:pt x="21600" y="25182"/>
                </a:lnTo>
                <a:lnTo>
                  <a:pt x="20200" y="23782"/>
                </a:lnTo>
                <a:lnTo>
                  <a:pt x="20200" y="1400"/>
                </a:lnTo>
                <a:close/>
              </a:path>
              <a:path fill="darkenLess" w="21600" h="25182">
                <a:moveTo>
                  <a:pt x="21600" y="25182"/>
                </a:moveTo>
                <a:lnTo>
                  <a:pt x="0" y="25182"/>
                </a:lnTo>
                <a:lnTo>
                  <a:pt x="1400" y="23782"/>
                </a:lnTo>
                <a:lnTo>
                  <a:pt x="20200" y="23782"/>
                </a:lnTo>
                <a:close/>
              </a:path>
              <a:path fill="lighten" w="21600" h="25182">
                <a:moveTo>
                  <a:pt x="0" y="2518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2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49">
            <a:hlinkClick r:id="rId32" action="ppaction://hlinksldjump"/>
          </p:cNvPr>
          <p:cNvSpPr/>
          <p:nvPr/>
        </p:nvSpPr>
        <p:spPr>
          <a:xfrm>
            <a:off x="8101080" y="6093000"/>
            <a:ext cx="431640" cy="5029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2920"/>
              <a:gd name="textAreaBottom" fmla="*/ 475200 h 502920"/>
            </a:gdLst>
            <a:ahLst/>
            <a:rect l="textAreaLeft" t="textAreaTop" r="textAreaRight" b="textAreaBottom"/>
            <a:pathLst>
              <a:path w="21600" h="25164">
                <a:moveTo>
                  <a:pt x="0" y="0"/>
                </a:moveTo>
                <a:lnTo>
                  <a:pt x="21600" y="0"/>
                </a:lnTo>
                <a:lnTo>
                  <a:pt x="21600" y="25164"/>
                </a:lnTo>
                <a:lnTo>
                  <a:pt x="0" y="25164"/>
                </a:lnTo>
                <a:close/>
              </a:path>
              <a:path fill="lightenLess" w="21600" h="251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64">
                <a:moveTo>
                  <a:pt x="21600" y="0"/>
                </a:moveTo>
                <a:lnTo>
                  <a:pt x="21600" y="25164"/>
                </a:lnTo>
                <a:lnTo>
                  <a:pt x="20200" y="23764"/>
                </a:lnTo>
                <a:lnTo>
                  <a:pt x="20200" y="1400"/>
                </a:lnTo>
                <a:close/>
              </a:path>
              <a:path fill="darkenLess" w="21600" h="25164">
                <a:moveTo>
                  <a:pt x="21600" y="25164"/>
                </a:moveTo>
                <a:lnTo>
                  <a:pt x="0" y="25164"/>
                </a:lnTo>
                <a:lnTo>
                  <a:pt x="1400" y="23764"/>
                </a:lnTo>
                <a:lnTo>
                  <a:pt x="20200" y="23764"/>
                </a:lnTo>
                <a:close/>
              </a:path>
              <a:path fill="lighten" w="21600" h="25164">
                <a:moveTo>
                  <a:pt x="0" y="251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64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AutoShape 50">
            <a:hlinkClick r:id="rId33" action="ppaction://hlinksldjump"/>
          </p:cNvPr>
          <p:cNvSpPr/>
          <p:nvPr/>
        </p:nvSpPr>
        <p:spPr>
          <a:xfrm>
            <a:off x="4716360" y="6093000"/>
            <a:ext cx="432000" cy="50292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02920"/>
              <a:gd name="textAreaBottom" fmla="*/ 475200 h 502920"/>
            </a:gdLst>
            <a:ahLst/>
            <a:rect l="textAreaLeft" t="textAreaTop" r="textAreaRight" b="textAreaBottom"/>
            <a:pathLst>
              <a:path w="21600" h="25143">
                <a:moveTo>
                  <a:pt x="0" y="0"/>
                </a:moveTo>
                <a:lnTo>
                  <a:pt x="21600" y="0"/>
                </a:lnTo>
                <a:lnTo>
                  <a:pt x="21600" y="25143"/>
                </a:lnTo>
                <a:lnTo>
                  <a:pt x="0" y="25143"/>
                </a:lnTo>
                <a:close/>
              </a:path>
              <a:path fill="lightenLess" w="21600" h="251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43">
                <a:moveTo>
                  <a:pt x="21600" y="0"/>
                </a:moveTo>
                <a:lnTo>
                  <a:pt x="21600" y="25143"/>
                </a:lnTo>
                <a:lnTo>
                  <a:pt x="20200" y="23743"/>
                </a:lnTo>
                <a:lnTo>
                  <a:pt x="20200" y="1400"/>
                </a:lnTo>
                <a:close/>
              </a:path>
              <a:path fill="darkenLess" w="21600" h="25143">
                <a:moveTo>
                  <a:pt x="21600" y="25143"/>
                </a:moveTo>
                <a:lnTo>
                  <a:pt x="0" y="25143"/>
                </a:lnTo>
                <a:lnTo>
                  <a:pt x="1400" y="23743"/>
                </a:lnTo>
                <a:lnTo>
                  <a:pt x="20200" y="23743"/>
                </a:lnTo>
                <a:close/>
              </a:path>
              <a:path fill="lighten" w="21600" h="25143">
                <a:moveTo>
                  <a:pt x="0" y="251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43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AutoShape 51">
            <a:hlinkClick r:id="rId34" action="ppaction://hlinksldjump"/>
          </p:cNvPr>
          <p:cNvSpPr/>
          <p:nvPr/>
        </p:nvSpPr>
        <p:spPr>
          <a:xfrm>
            <a:off x="5364000" y="6093000"/>
            <a:ext cx="432000" cy="50292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02920"/>
              <a:gd name="textAreaBottom" fmla="*/ 475200 h 502920"/>
            </a:gdLst>
            <a:ahLst/>
            <a:rect l="textAreaLeft" t="textAreaTop" r="textAreaRight" b="textAreaBottom"/>
            <a:pathLst>
              <a:path w="21600" h="25143">
                <a:moveTo>
                  <a:pt x="0" y="0"/>
                </a:moveTo>
                <a:lnTo>
                  <a:pt x="21600" y="0"/>
                </a:lnTo>
                <a:lnTo>
                  <a:pt x="21600" y="25143"/>
                </a:lnTo>
                <a:lnTo>
                  <a:pt x="0" y="25143"/>
                </a:lnTo>
                <a:close/>
              </a:path>
              <a:path fill="lightenLess" w="21600" h="251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43">
                <a:moveTo>
                  <a:pt x="21600" y="0"/>
                </a:moveTo>
                <a:lnTo>
                  <a:pt x="21600" y="25143"/>
                </a:lnTo>
                <a:lnTo>
                  <a:pt x="20200" y="23743"/>
                </a:lnTo>
                <a:lnTo>
                  <a:pt x="20200" y="1400"/>
                </a:lnTo>
                <a:close/>
              </a:path>
              <a:path fill="darkenLess" w="21600" h="25143">
                <a:moveTo>
                  <a:pt x="21600" y="25143"/>
                </a:moveTo>
                <a:lnTo>
                  <a:pt x="0" y="25143"/>
                </a:lnTo>
                <a:lnTo>
                  <a:pt x="1400" y="23743"/>
                </a:lnTo>
                <a:lnTo>
                  <a:pt x="20200" y="23743"/>
                </a:lnTo>
                <a:close/>
              </a:path>
              <a:path fill="lighten" w="21600" h="25143">
                <a:moveTo>
                  <a:pt x="0" y="251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43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AutoShape 52">
            <a:hlinkClick r:id="rId35" action="ppaction://hlinksldjump"/>
          </p:cNvPr>
          <p:cNvSpPr/>
          <p:nvPr/>
        </p:nvSpPr>
        <p:spPr>
          <a:xfrm>
            <a:off x="6084720" y="6093000"/>
            <a:ext cx="432000" cy="50292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02920"/>
              <a:gd name="textAreaBottom" fmla="*/ 475200 h 502920"/>
            </a:gdLst>
            <a:ahLst/>
            <a:rect l="textAreaLeft" t="textAreaTop" r="textAreaRight" b="textAreaBottom"/>
            <a:pathLst>
              <a:path w="21600" h="25143">
                <a:moveTo>
                  <a:pt x="0" y="0"/>
                </a:moveTo>
                <a:lnTo>
                  <a:pt x="21600" y="0"/>
                </a:lnTo>
                <a:lnTo>
                  <a:pt x="21600" y="25143"/>
                </a:lnTo>
                <a:lnTo>
                  <a:pt x="0" y="25143"/>
                </a:lnTo>
                <a:close/>
              </a:path>
              <a:path fill="lightenLess" w="21600" h="251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43">
                <a:moveTo>
                  <a:pt x="21600" y="0"/>
                </a:moveTo>
                <a:lnTo>
                  <a:pt x="21600" y="25143"/>
                </a:lnTo>
                <a:lnTo>
                  <a:pt x="20200" y="23743"/>
                </a:lnTo>
                <a:lnTo>
                  <a:pt x="20200" y="1400"/>
                </a:lnTo>
                <a:close/>
              </a:path>
              <a:path fill="darkenLess" w="21600" h="25143">
                <a:moveTo>
                  <a:pt x="21600" y="25143"/>
                </a:moveTo>
                <a:lnTo>
                  <a:pt x="0" y="25143"/>
                </a:lnTo>
                <a:lnTo>
                  <a:pt x="1400" y="23743"/>
                </a:lnTo>
                <a:lnTo>
                  <a:pt x="20200" y="23743"/>
                </a:lnTo>
                <a:close/>
              </a:path>
              <a:path fill="lighten" w="21600" h="25143">
                <a:moveTo>
                  <a:pt x="0" y="251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43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AutoShape 53">
            <a:hlinkClick r:id="rId36" action="ppaction://hlinksldjump"/>
          </p:cNvPr>
          <p:cNvSpPr/>
          <p:nvPr/>
        </p:nvSpPr>
        <p:spPr>
          <a:xfrm>
            <a:off x="6732720" y="6093000"/>
            <a:ext cx="431640" cy="5029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2920"/>
              <a:gd name="textAreaBottom" fmla="*/ 475200 h 502920"/>
            </a:gdLst>
            <a:ahLst/>
            <a:rect l="textAreaLeft" t="textAreaTop" r="textAreaRight" b="textAreaBottom"/>
            <a:pathLst>
              <a:path w="21600" h="25164">
                <a:moveTo>
                  <a:pt x="0" y="0"/>
                </a:moveTo>
                <a:lnTo>
                  <a:pt x="21600" y="0"/>
                </a:lnTo>
                <a:lnTo>
                  <a:pt x="21600" y="25164"/>
                </a:lnTo>
                <a:lnTo>
                  <a:pt x="0" y="25164"/>
                </a:lnTo>
                <a:close/>
              </a:path>
              <a:path fill="lightenLess" w="21600" h="251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64">
                <a:moveTo>
                  <a:pt x="21600" y="0"/>
                </a:moveTo>
                <a:lnTo>
                  <a:pt x="21600" y="25164"/>
                </a:lnTo>
                <a:lnTo>
                  <a:pt x="20200" y="23764"/>
                </a:lnTo>
                <a:lnTo>
                  <a:pt x="20200" y="1400"/>
                </a:lnTo>
                <a:close/>
              </a:path>
              <a:path fill="darkenLess" w="21600" h="25164">
                <a:moveTo>
                  <a:pt x="21600" y="25164"/>
                </a:moveTo>
                <a:lnTo>
                  <a:pt x="0" y="25164"/>
                </a:lnTo>
                <a:lnTo>
                  <a:pt x="1400" y="23764"/>
                </a:lnTo>
                <a:lnTo>
                  <a:pt x="20200" y="23764"/>
                </a:lnTo>
                <a:close/>
              </a:path>
              <a:path fill="lighten" w="21600" h="25164">
                <a:moveTo>
                  <a:pt x="0" y="251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64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utoShape 54">
            <a:hlinkClick r:id="rId37" action="ppaction://hlinksldjump"/>
          </p:cNvPr>
          <p:cNvSpPr/>
          <p:nvPr/>
        </p:nvSpPr>
        <p:spPr>
          <a:xfrm>
            <a:off x="7380360" y="6093000"/>
            <a:ext cx="431640" cy="5029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2920"/>
              <a:gd name="textAreaBottom" fmla="*/ 475200 h 502920"/>
            </a:gdLst>
            <a:ahLst/>
            <a:rect l="textAreaLeft" t="textAreaTop" r="textAreaRight" b="textAreaBottom"/>
            <a:pathLst>
              <a:path w="21600" h="25164">
                <a:moveTo>
                  <a:pt x="0" y="0"/>
                </a:moveTo>
                <a:lnTo>
                  <a:pt x="21600" y="0"/>
                </a:lnTo>
                <a:lnTo>
                  <a:pt x="21600" y="25164"/>
                </a:lnTo>
                <a:lnTo>
                  <a:pt x="0" y="25164"/>
                </a:lnTo>
                <a:close/>
              </a:path>
              <a:path fill="lightenLess" w="21600" h="251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64">
                <a:moveTo>
                  <a:pt x="21600" y="0"/>
                </a:moveTo>
                <a:lnTo>
                  <a:pt x="21600" y="25164"/>
                </a:lnTo>
                <a:lnTo>
                  <a:pt x="20200" y="23764"/>
                </a:lnTo>
                <a:lnTo>
                  <a:pt x="20200" y="1400"/>
                </a:lnTo>
                <a:close/>
              </a:path>
              <a:path fill="darkenLess" w="21600" h="25164">
                <a:moveTo>
                  <a:pt x="21600" y="25164"/>
                </a:moveTo>
                <a:lnTo>
                  <a:pt x="0" y="25164"/>
                </a:lnTo>
                <a:lnTo>
                  <a:pt x="1400" y="23764"/>
                </a:lnTo>
                <a:lnTo>
                  <a:pt x="20200" y="23764"/>
                </a:lnTo>
                <a:close/>
              </a:path>
              <a:path fill="lighten" w="21600" h="25164">
                <a:moveTo>
                  <a:pt x="0" y="251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64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45" nodeType="clickEffect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50" nodeType="clickEffect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55" nodeType="clickEffect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60" nodeType="clickEffect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65" nodeType="clickEffect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70" nodeType="clickEffect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75" nodeType="clickEffect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80" nodeType="clickEffect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85" nodeType="clickEffect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90" nodeType="clickEffect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95" nodeType="clickEffect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00" nodeType="clickEffect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105" nodeType="clickEffect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10" nodeType="clickEffect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115" nodeType="clickEffect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120" nodeType="clickEffect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25" nodeType="clickEffect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130" nodeType="clickEffect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35" nodeType="clickEffect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140" nodeType="clickEffect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145" nodeType="clickEffect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150" nodeType="clickEffect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155" nodeType="clickEffect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160" nodeType="clickEffect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165" nodeType="clickEffect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170" nodeType="clickEffect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175" nodeType="clickEffect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180" nodeType="clickEffect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185" nodeType="clickEffect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190" nodeType="clickEffect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195" nodeType="clickEffect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200" nodeType="clickEffect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205" nodeType="clickEffect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210" nodeType="clickEffect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215" nodeType="clickEffect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9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220" nodeType="clickEffect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25e0"/>
                </a:solidFill>
                <a:latin typeface="Arial Black"/>
              </a:rPr>
              <a:t>Кто по професси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0040" y="2071440"/>
            <a:ext cx="3952800" cy="123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В. Шекспир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6" descr="AG00098_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236" name="AutoShape 8"/>
          <p:cNvSpPr/>
          <p:nvPr/>
        </p:nvSpPr>
        <p:spPr>
          <a:xfrm>
            <a:off x="857160" y="4929120"/>
            <a:ext cx="4599000" cy="1042920"/>
          </a:xfrm>
          <a:custGeom>
            <a:avLst/>
            <a:gdLst>
              <a:gd name="textAreaLeft" fmla="*/ 67320 w 4599000"/>
              <a:gd name="textAreaRight" fmla="*/ 4531680 w 459900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95225" h="21600">
                <a:moveTo>
                  <a:pt x="0" y="0"/>
                </a:moveTo>
                <a:lnTo>
                  <a:pt x="95225" y="0"/>
                </a:lnTo>
                <a:lnTo>
                  <a:pt x="95225" y="21600"/>
                </a:lnTo>
                <a:lnTo>
                  <a:pt x="0" y="21600"/>
                </a:lnTo>
                <a:close/>
              </a:path>
              <a:path fill="lightenLess" w="95225" h="21600">
                <a:moveTo>
                  <a:pt x="0" y="0"/>
                </a:moveTo>
                <a:lnTo>
                  <a:pt x="95225" y="0"/>
                </a:lnTo>
                <a:lnTo>
                  <a:pt x="93825" y="1400"/>
                </a:lnTo>
                <a:lnTo>
                  <a:pt x="1400" y="1400"/>
                </a:lnTo>
                <a:close/>
              </a:path>
              <a:path fill="darken" w="95225" h="21600">
                <a:moveTo>
                  <a:pt x="95225" y="0"/>
                </a:moveTo>
                <a:lnTo>
                  <a:pt x="95225" y="21600"/>
                </a:lnTo>
                <a:lnTo>
                  <a:pt x="93825" y="20200"/>
                </a:lnTo>
                <a:lnTo>
                  <a:pt x="93825" y="1400"/>
                </a:lnTo>
                <a:close/>
              </a:path>
              <a:path fill="darkenLess" w="95225" h="21600">
                <a:moveTo>
                  <a:pt x="952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3825" y="20200"/>
                </a:lnTo>
                <a:close/>
              </a:path>
              <a:path fill="lighten" w="952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вет: акте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AutoShape 9">
            <a:hlinkClick r:id="rId2" action="ppaction://hlinksldjump"/>
          </p:cNvPr>
          <p:cNvSpPr/>
          <p:nvPr/>
        </p:nvSpPr>
        <p:spPr>
          <a:xfrm>
            <a:off x="8101080" y="5373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0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1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 Black"/>
              </a:rPr>
              <a:t>Убери лишне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4094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Слесар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Токар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Тка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Сборщ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Фрезеровщ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755640" y="5877000"/>
            <a:ext cx="7201080" cy="790560"/>
          </a:xfrm>
          <a:prstGeom prst="rect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ка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AutoShape 8">
            <a:hlinkClick r:id="rId1" action="ppaction://hlinksldjump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9" descr="AG00054_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2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0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8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6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 Black"/>
              </a:rPr>
              <a:t>Убери лишне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4094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25e0"/>
                </a:solidFill>
                <a:latin typeface="Arial"/>
              </a:rPr>
              <a:t>Чесальщиц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25e0"/>
                </a:solidFill>
                <a:latin typeface="Arial"/>
              </a:rPr>
              <a:t>Прядильщиц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25e0"/>
                </a:solidFill>
                <a:latin typeface="Arial"/>
              </a:rPr>
              <a:t>Валяльщиц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25e0"/>
                </a:solidFill>
                <a:latin typeface="Arial"/>
              </a:rPr>
              <a:t>Крановщиц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25e0"/>
                </a:solidFill>
                <a:latin typeface="Arial"/>
              </a:rPr>
              <a:t>Ткачих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971640" y="5734080"/>
            <a:ext cx="6912000" cy="914400"/>
          </a:xfrm>
          <a:prstGeom prst="rect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рановщиц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5">
            <a:hlinkClick r:id="rId1" action="ppaction://hlinksldjump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Picture 11" descr="AG00054_"/>
          <p:cNvPicPr/>
          <p:nvPr/>
        </p:nvPicPr>
        <p:blipFill>
          <a:blip r:embed="rId2"/>
          <a:stretch/>
        </p:blipFill>
        <p:spPr>
          <a:xfrm>
            <a:off x="0" y="1413000"/>
            <a:ext cx="9144000" cy="2109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2" descr="AG00054_"/>
          <p:cNvPicPr/>
          <p:nvPr/>
        </p:nvPicPr>
        <p:blipFill>
          <a:blip r:embed="rId3"/>
          <a:stretch/>
        </p:blipFill>
        <p:spPr>
          <a:xfrm>
            <a:off x="0" y="1413000"/>
            <a:ext cx="9144000" cy="21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0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3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1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 Black"/>
              </a:rPr>
              <a:t>Убери лишне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4021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25e0"/>
                </a:solidFill>
                <a:latin typeface="Arial"/>
              </a:rPr>
              <a:t>Мукомо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25e0"/>
                </a:solidFill>
                <a:latin typeface="Arial"/>
              </a:rPr>
              <a:t>Кондит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25e0"/>
                </a:solidFill>
                <a:latin typeface="Arial"/>
              </a:rPr>
              <a:t>Пекар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25e0"/>
                </a:solidFill>
                <a:latin typeface="Arial"/>
              </a:rPr>
              <a:t>Учител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25e0"/>
                </a:solidFill>
                <a:latin typeface="Arial"/>
              </a:rPr>
              <a:t>Техноло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1042920" y="5589720"/>
            <a:ext cx="6842160" cy="914400"/>
          </a:xfrm>
          <a:prstGeom prst="rect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чител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AutoShape 6">
            <a:hlinkClick r:id="rId1" action="ppaction://hlinksldjump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icture 8" descr="AG00054_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2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nodeType="clickEffect" fill="hold">
                      <p:stCondLst>
                        <p:cond delay="0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8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6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 Black"/>
              </a:rPr>
              <a:t>Убери лишне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25e0"/>
                </a:solidFill>
                <a:latin typeface="Arial"/>
              </a:rPr>
              <a:t>Дизайн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25e0"/>
                </a:solidFill>
                <a:latin typeface="Arial"/>
              </a:rPr>
              <a:t>Модель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25e0"/>
                </a:solidFill>
                <a:latin typeface="Arial"/>
              </a:rPr>
              <a:t>Конструкт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25e0"/>
                </a:solidFill>
                <a:latin typeface="Arial"/>
              </a:rPr>
              <a:t>Закройщ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25e0"/>
                </a:solidFill>
                <a:latin typeface="Arial"/>
              </a:rPr>
              <a:t>Слесар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900000" y="5661000"/>
            <a:ext cx="7056720" cy="914400"/>
          </a:xfrm>
          <a:prstGeom prst="rect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лесар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AutoShape 5">
            <a:hlinkClick r:id="rId1" action="ppaction://hlinksldjump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6" descr="AG00054_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2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0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3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1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 Black"/>
              </a:rPr>
              <a:t>Убери лишне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086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25e0"/>
                </a:solidFill>
                <a:latin typeface="Arial"/>
              </a:rPr>
              <a:t>Комбайн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25e0"/>
                </a:solidFill>
                <a:latin typeface="Arial"/>
              </a:rPr>
              <a:t>Тракторис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25e0"/>
                </a:solidFill>
                <a:latin typeface="Arial"/>
              </a:rPr>
              <a:t>Окулис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25e0"/>
                </a:solidFill>
                <a:latin typeface="Arial"/>
              </a:rPr>
              <a:t>Агрон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25e0"/>
                </a:solidFill>
                <a:latin typeface="Arial"/>
              </a:rPr>
              <a:t>Механ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900000" y="5734080"/>
            <a:ext cx="7056720" cy="914400"/>
          </a:xfrm>
          <a:prstGeom prst="rect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кулис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AutoShape 5">
            <a:hlinkClick r:id="rId1" action="ppaction://hlinksldjump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11" descr="AG00054_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2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nodeType="clickEffect" fill="hold">
                      <p:stCondLst>
                        <p:cond delay="0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8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6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1213920" y="1905120"/>
            <a:ext cx="6357960" cy="23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МОЕТСЕТС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00080" y="5084640"/>
            <a:ext cx="685800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ff"/>
                </a:solidFill>
                <a:latin typeface="Arial"/>
              </a:rPr>
              <a:t>Ответ: тестоме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6" name="Group 11"/>
          <p:cNvGrpSpPr/>
          <p:nvPr/>
        </p:nvGrpSpPr>
        <p:grpSpPr>
          <a:xfrm>
            <a:off x="539640" y="189000"/>
            <a:ext cx="8137800" cy="1368360"/>
            <a:chOff x="539640" y="189000"/>
            <a:chExt cx="8137800" cy="1368360"/>
          </a:xfrm>
        </p:grpSpPr>
        <p:sp>
          <p:nvSpPr>
            <p:cNvPr id="267" name="Oval 12">
              <a:hlinkClick r:id="rId1" action="ppaction://hlinksldjump"/>
            </p:cNvPr>
            <p:cNvSpPr/>
            <p:nvPr/>
          </p:nvSpPr>
          <p:spPr>
            <a:xfrm>
              <a:off x="539640" y="189000"/>
              <a:ext cx="1513080" cy="136836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68" name="Picture 13" descr="AG00053_"/>
            <p:cNvPicPr/>
            <p:nvPr/>
          </p:nvPicPr>
          <p:blipFill>
            <a:blip r:embed="rId2"/>
            <a:stretch/>
          </p:blipFill>
          <p:spPr>
            <a:xfrm>
              <a:off x="1908000" y="1413000"/>
              <a:ext cx="6769440" cy="1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WordArt 14"/>
            <p:cNvSpPr txBox="1"/>
            <p:nvPr/>
          </p:nvSpPr>
          <p:spPr>
            <a:xfrm>
              <a:off x="2071800" y="428760"/>
              <a:ext cx="6143400" cy="642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Анаграммы</a:t>
              </a:r>
              <a:endPara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</p:grpSp>
      <p:pic>
        <p:nvPicPr>
          <p:cNvPr id="270" name="Picture 5" descr="AG00129_"/>
          <p:cNvPicPr/>
          <p:nvPr/>
        </p:nvPicPr>
        <p:blipFill>
          <a:blip r:embed="rId3"/>
          <a:stretch/>
        </p:blipFill>
        <p:spPr>
          <a:xfrm>
            <a:off x="539640" y="189000"/>
            <a:ext cx="1584360" cy="1368360"/>
          </a:xfrm>
          <a:prstGeom prst="rect">
            <a:avLst/>
          </a:prstGeom>
          <a:ln w="0">
            <a:noFill/>
          </a:ln>
        </p:spPr>
      </p:pic>
      <p:sp>
        <p:nvSpPr>
          <p:cNvPr id="271" name="AutoShape 16">
            <a:hlinkClick r:id="rId4" action="ppaction://hlinksldjump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0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6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857160" y="2205000"/>
            <a:ext cx="7786800" cy="15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ТИОКРЕДН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85560" y="4500360"/>
            <a:ext cx="5156280" cy="14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2025e0"/>
                </a:solidFill>
                <a:latin typeface="Arial"/>
              </a:rPr>
              <a:t>Ответ: кондите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4" name="Group 8"/>
          <p:cNvGrpSpPr/>
          <p:nvPr/>
        </p:nvGrpSpPr>
        <p:grpSpPr>
          <a:xfrm>
            <a:off x="468360" y="260280"/>
            <a:ext cx="8137080" cy="1368360"/>
            <a:chOff x="468360" y="260280"/>
            <a:chExt cx="8137080" cy="1368360"/>
          </a:xfrm>
        </p:grpSpPr>
        <p:sp>
          <p:nvSpPr>
            <p:cNvPr id="275" name="Oval 9">
              <a:hlinkClick r:id="rId1" action="ppaction://hlinksldjump"/>
            </p:cNvPr>
            <p:cNvSpPr/>
            <p:nvPr/>
          </p:nvSpPr>
          <p:spPr>
            <a:xfrm>
              <a:off x="468360" y="260280"/>
              <a:ext cx="1512720" cy="136836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76" name="Picture 10" descr="AG00053_"/>
            <p:cNvPicPr/>
            <p:nvPr/>
          </p:nvPicPr>
          <p:blipFill>
            <a:blip r:embed="rId2"/>
            <a:stretch/>
          </p:blipFill>
          <p:spPr>
            <a:xfrm>
              <a:off x="1836360" y="1484280"/>
              <a:ext cx="6769080" cy="1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WordArt 11"/>
            <p:cNvSpPr txBox="1"/>
            <p:nvPr/>
          </p:nvSpPr>
          <p:spPr>
            <a:xfrm>
              <a:off x="2773080" y="547560"/>
              <a:ext cx="4392360" cy="657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Анаграмма</a:t>
              </a:r>
              <a:endPara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</p:grpSp>
      <p:pic>
        <p:nvPicPr>
          <p:cNvPr id="278" name="Picture 5" descr="AG00129_"/>
          <p:cNvPicPr/>
          <p:nvPr/>
        </p:nvPicPr>
        <p:blipFill>
          <a:blip r:embed="rId3"/>
          <a:stretch/>
        </p:blipFill>
        <p:spPr>
          <a:xfrm>
            <a:off x="468360" y="260280"/>
            <a:ext cx="1511280" cy="1440000"/>
          </a:xfrm>
          <a:prstGeom prst="rect">
            <a:avLst/>
          </a:prstGeom>
          <a:ln w="0">
            <a:noFill/>
          </a:ln>
        </p:spPr>
      </p:pic>
      <p:sp>
        <p:nvSpPr>
          <p:cNvPr id="279" name="AutoShape 14">
            <a:hlinkClick r:id="rId4" action="ppaction://hlinksldjump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nodeType="clickEffect" fill="hold">
                      <p:stCondLst>
                        <p:cond delay="0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5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5" dur="1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1714320" y="2060280"/>
            <a:ext cx="6375240" cy="19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НЙИДРЕАЗ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626920" y="5373360"/>
            <a:ext cx="501660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ff"/>
                </a:solidFill>
                <a:latin typeface="Arial"/>
              </a:rPr>
              <a:t>Ответ: дизайне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2" name="Group 8"/>
          <p:cNvGrpSpPr/>
          <p:nvPr/>
        </p:nvGrpSpPr>
        <p:grpSpPr>
          <a:xfrm>
            <a:off x="468360" y="260280"/>
            <a:ext cx="8137080" cy="1368360"/>
            <a:chOff x="468360" y="260280"/>
            <a:chExt cx="8137080" cy="1368360"/>
          </a:xfrm>
        </p:grpSpPr>
        <p:sp>
          <p:nvSpPr>
            <p:cNvPr id="283" name="Oval 9">
              <a:hlinkClick r:id="rId1" action="ppaction://hlinksldjump"/>
            </p:cNvPr>
            <p:cNvSpPr/>
            <p:nvPr/>
          </p:nvSpPr>
          <p:spPr>
            <a:xfrm>
              <a:off x="468360" y="260280"/>
              <a:ext cx="1512720" cy="136836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84" name="Picture 10" descr="AG00053_"/>
            <p:cNvPicPr/>
            <p:nvPr/>
          </p:nvPicPr>
          <p:blipFill>
            <a:blip r:embed="rId2"/>
            <a:stretch/>
          </p:blipFill>
          <p:spPr>
            <a:xfrm>
              <a:off x="1836360" y="1484280"/>
              <a:ext cx="6769080" cy="1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WordArt 11"/>
            <p:cNvSpPr txBox="1"/>
            <p:nvPr/>
          </p:nvSpPr>
          <p:spPr>
            <a:xfrm>
              <a:off x="2773080" y="547560"/>
              <a:ext cx="4392360" cy="657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аНАГРАММА</a:t>
              </a:r>
              <a:endPara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</p:grpSp>
      <p:pic>
        <p:nvPicPr>
          <p:cNvPr id="286" name="Picture 5" descr="AG00129_"/>
          <p:cNvPicPr/>
          <p:nvPr/>
        </p:nvPicPr>
        <p:blipFill>
          <a:blip r:embed="rId3"/>
          <a:stretch/>
        </p:blipFill>
        <p:spPr>
          <a:xfrm>
            <a:off x="395280" y="260280"/>
            <a:ext cx="1584360" cy="1440000"/>
          </a:xfrm>
          <a:prstGeom prst="rect">
            <a:avLst/>
          </a:prstGeom>
          <a:ln w="0">
            <a:noFill/>
          </a:ln>
        </p:spPr>
      </p:pic>
      <p:sp>
        <p:nvSpPr>
          <p:cNvPr id="287" name="AutoShape 12">
            <a:hlinkClick r:id="rId4" action="ppaction://hlinksldjump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nodeType="clickEffect" fill="hold">
                      <p:stCondLst>
                        <p:cond delay="0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4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4" dur="10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2916360" y="2060280"/>
            <a:ext cx="507816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ГОКЭЛО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771640" y="5445000"/>
            <a:ext cx="4586400" cy="65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ff"/>
                </a:solidFill>
                <a:latin typeface="Arial"/>
              </a:rPr>
              <a:t>Ответ: эколог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0" name="Group 8"/>
          <p:cNvGrpSpPr/>
          <p:nvPr/>
        </p:nvGrpSpPr>
        <p:grpSpPr>
          <a:xfrm>
            <a:off x="468360" y="260280"/>
            <a:ext cx="8137080" cy="1368360"/>
            <a:chOff x="468360" y="260280"/>
            <a:chExt cx="8137080" cy="1368360"/>
          </a:xfrm>
        </p:grpSpPr>
        <p:sp>
          <p:nvSpPr>
            <p:cNvPr id="291" name="Oval 9">
              <a:hlinkClick r:id="rId1" action="ppaction://hlinksldjump"/>
            </p:cNvPr>
            <p:cNvSpPr/>
            <p:nvPr/>
          </p:nvSpPr>
          <p:spPr>
            <a:xfrm>
              <a:off x="468360" y="260280"/>
              <a:ext cx="1512720" cy="136836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92" name="Picture 10" descr="AG00053_"/>
            <p:cNvPicPr/>
            <p:nvPr/>
          </p:nvPicPr>
          <p:blipFill>
            <a:blip r:embed="rId2"/>
            <a:stretch/>
          </p:blipFill>
          <p:spPr>
            <a:xfrm>
              <a:off x="1836360" y="1484280"/>
              <a:ext cx="6769080" cy="1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WordArt 11"/>
            <p:cNvSpPr txBox="1"/>
            <p:nvPr/>
          </p:nvSpPr>
          <p:spPr>
            <a:xfrm>
              <a:off x="2773080" y="547560"/>
              <a:ext cx="4392360" cy="657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Анаграмма</a:t>
              </a:r>
              <a:endPara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</p:grpSp>
      <p:pic>
        <p:nvPicPr>
          <p:cNvPr id="294" name="Picture 5" descr="AG00129_"/>
          <p:cNvPicPr/>
          <p:nvPr/>
        </p:nvPicPr>
        <p:blipFill>
          <a:blip r:embed="rId3"/>
          <a:stretch/>
        </p:blipFill>
        <p:spPr>
          <a:xfrm>
            <a:off x="468360" y="260280"/>
            <a:ext cx="1511280" cy="1368360"/>
          </a:xfrm>
          <a:prstGeom prst="rect">
            <a:avLst/>
          </a:prstGeom>
          <a:ln w="0">
            <a:noFill/>
          </a:ln>
        </p:spPr>
      </p:pic>
      <p:sp>
        <p:nvSpPr>
          <p:cNvPr id="295" name="AutoShape 14">
            <a:hlinkClick r:id="rId4" action="ppaction://hlinksldjump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nodeType="clickEffect" fill="hold">
                      <p:stCondLst>
                        <p:cond delay="0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3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3" dur="1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ff"/>
                </a:solidFill>
                <a:latin typeface="Arial Black"/>
              </a:rPr>
              <a:t>  </a:t>
            </a:r>
            <a:r>
              <a:rPr b="1" lang="ru-RU" sz="3600" spc="-1" strike="noStrike">
                <a:solidFill>
                  <a:srgbClr val="c00000"/>
                </a:solidFill>
                <a:latin typeface="Arial Black"/>
              </a:rPr>
              <a:t>Выдающиеся люди 20 века</a:t>
            </a:r>
            <a:br>
              <a:rPr sz="3600"/>
            </a:b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143320" y="1785960"/>
            <a:ext cx="3571560" cy="37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твет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Уильям Генри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Гейтс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II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AutoShape 8">
            <a:hlinkClick r:id="rId1" action="ppaction://hlinksldjump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9" descr="AG00117_"/>
          <p:cNvPicPr/>
          <p:nvPr/>
        </p:nvPicPr>
        <p:blipFill>
          <a:blip r:embed="rId2"/>
          <a:stretch/>
        </p:blipFill>
        <p:spPr>
          <a:xfrm>
            <a:off x="0" y="1268280"/>
            <a:ext cx="9144000" cy="1540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bill"/>
          <p:cNvPicPr/>
          <p:nvPr/>
        </p:nvPicPr>
        <p:blipFill>
          <a:blip r:embed="rId3"/>
          <a:stretch/>
        </p:blipFill>
        <p:spPr>
          <a:xfrm>
            <a:off x="500040" y="1500120"/>
            <a:ext cx="357192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285840" y="1904760"/>
            <a:ext cx="8572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УБОДОЛЬЗРЕИСТ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285920" y="5444640"/>
            <a:ext cx="6572160" cy="7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ff"/>
                </a:solidFill>
                <a:latin typeface="Arial"/>
              </a:rPr>
              <a:t>Ответ: бульдозерис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8" name="Group 8"/>
          <p:cNvGrpSpPr/>
          <p:nvPr/>
        </p:nvGrpSpPr>
        <p:grpSpPr>
          <a:xfrm>
            <a:off x="468360" y="260280"/>
            <a:ext cx="8137080" cy="1368360"/>
            <a:chOff x="468360" y="260280"/>
            <a:chExt cx="8137080" cy="1368360"/>
          </a:xfrm>
        </p:grpSpPr>
        <p:sp>
          <p:nvSpPr>
            <p:cNvPr id="299" name="Oval 9">
              <a:hlinkClick r:id="rId1" action="ppaction://hlinksldjump"/>
            </p:cNvPr>
            <p:cNvSpPr/>
            <p:nvPr/>
          </p:nvSpPr>
          <p:spPr>
            <a:xfrm>
              <a:off x="468360" y="260280"/>
              <a:ext cx="1512720" cy="136836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00" name="Picture 10" descr="AG00053_"/>
            <p:cNvPicPr/>
            <p:nvPr/>
          </p:nvPicPr>
          <p:blipFill>
            <a:blip r:embed="rId2"/>
            <a:stretch/>
          </p:blipFill>
          <p:spPr>
            <a:xfrm>
              <a:off x="1836360" y="1484280"/>
              <a:ext cx="6769080" cy="1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WordArt 11"/>
            <p:cNvSpPr txBox="1"/>
            <p:nvPr/>
          </p:nvSpPr>
          <p:spPr>
            <a:xfrm>
              <a:off x="2773080" y="547560"/>
              <a:ext cx="4392360" cy="657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Анаграмма</a:t>
              </a:r>
              <a:endPara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</p:grpSp>
      <p:pic>
        <p:nvPicPr>
          <p:cNvPr id="302" name="Picture 5" descr="AG00129_"/>
          <p:cNvPicPr/>
          <p:nvPr/>
        </p:nvPicPr>
        <p:blipFill>
          <a:blip r:embed="rId3"/>
          <a:stretch/>
        </p:blipFill>
        <p:spPr>
          <a:xfrm>
            <a:off x="468360" y="260280"/>
            <a:ext cx="1511280" cy="1368360"/>
          </a:xfrm>
          <a:prstGeom prst="rect">
            <a:avLst/>
          </a:prstGeom>
          <a:ln w="0">
            <a:noFill/>
          </a:ln>
        </p:spPr>
      </p:pic>
      <p:sp>
        <p:nvSpPr>
          <p:cNvPr id="303" name="AutoShape 12">
            <a:hlinkClick r:id="rId4" action="ppaction://hlinksldjump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nodeType="clickEffect" fill="hold">
                      <p:stCondLst>
                        <p:cond delay="0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2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2" dur="10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2123640" y="1916280"/>
            <a:ext cx="6735960" cy="20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АЛМЯР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5" name="Group 12"/>
          <p:cNvGrpSpPr/>
          <p:nvPr/>
        </p:nvGrpSpPr>
        <p:grpSpPr>
          <a:xfrm>
            <a:off x="468360" y="260280"/>
            <a:ext cx="8137080" cy="1368360"/>
            <a:chOff x="468360" y="260280"/>
            <a:chExt cx="8137080" cy="1368360"/>
          </a:xfrm>
        </p:grpSpPr>
        <p:sp>
          <p:nvSpPr>
            <p:cNvPr id="306" name="Oval 13">
              <a:hlinkClick r:id="rId1" action="ppaction://hlinksldjump"/>
            </p:cNvPr>
            <p:cNvSpPr/>
            <p:nvPr/>
          </p:nvSpPr>
          <p:spPr>
            <a:xfrm>
              <a:off x="468360" y="260280"/>
              <a:ext cx="1512720" cy="136836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07" name="Picture 14" descr="AG00053_"/>
            <p:cNvPicPr/>
            <p:nvPr/>
          </p:nvPicPr>
          <p:blipFill>
            <a:blip r:embed="rId2"/>
            <a:stretch/>
          </p:blipFill>
          <p:spPr>
            <a:xfrm>
              <a:off x="1836360" y="1484280"/>
              <a:ext cx="6769080" cy="1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WordArt 15"/>
            <p:cNvSpPr txBox="1"/>
            <p:nvPr/>
          </p:nvSpPr>
          <p:spPr>
            <a:xfrm>
              <a:off x="2773080" y="547560"/>
              <a:ext cx="4392360" cy="657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Анаграмма</a:t>
              </a:r>
              <a:endPara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</p:grpSp>
      <p:pic>
        <p:nvPicPr>
          <p:cNvPr id="309" name="Picture 9" descr="AG00129_"/>
          <p:cNvPicPr/>
          <p:nvPr/>
        </p:nvPicPr>
        <p:blipFill>
          <a:blip r:embed="rId3"/>
          <a:stretch/>
        </p:blipFill>
        <p:spPr>
          <a:xfrm>
            <a:off x="395280" y="260280"/>
            <a:ext cx="1584360" cy="1368360"/>
          </a:xfrm>
          <a:prstGeom prst="rect">
            <a:avLst/>
          </a:prstGeom>
          <a:ln w="0">
            <a:noFill/>
          </a:ln>
        </p:spPr>
      </p:pic>
      <p:sp>
        <p:nvSpPr>
          <p:cNvPr id="310" name="AutoShape 16">
            <a:hlinkClick r:id="rId4" action="ppaction://hlinksldjump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000160" y="5516280"/>
            <a:ext cx="585792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ff"/>
                </a:solidFill>
                <a:latin typeface="Arial"/>
              </a:rPr>
              <a:t>Ответ: маля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0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1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8512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Знаток терминов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42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Объединение сходных профессий в группы по какому-либо признаку- это 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66ff66"/>
                </a:solidFill>
                <a:uFillTx/>
                <a:latin typeface="Times New Roman"/>
              </a:rPr>
              <a:t>1. </a:t>
            </a:r>
            <a:r>
              <a:rPr b="0" lang="ru-RU" sz="4000" spc="-1" strike="noStrike" u="sng">
                <a:solidFill>
                  <a:srgbClr val="99ff66"/>
                </a:solidFill>
                <a:uFillTx/>
                <a:latin typeface="Times New Roman"/>
                <a:hlinkClick r:id="rId1" action="ppaction://hlinksldjump"/>
              </a:rPr>
              <a:t>Типология професси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66ff66"/>
                </a:solidFill>
                <a:uFillTx/>
                <a:latin typeface="Times New Roman"/>
              </a:rPr>
              <a:t>2. </a:t>
            </a:r>
            <a:r>
              <a:rPr b="0" lang="ru-RU" sz="4000" spc="-1" strike="noStrike" u="sng">
                <a:solidFill>
                  <a:srgbClr val="99ff66"/>
                </a:solidFill>
                <a:uFillTx/>
                <a:latin typeface="Times New Roman"/>
                <a:hlinkClick r:id="rId2" action="ppaction://hlinksldjump"/>
              </a:rPr>
              <a:t>Систематизация професси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66ff66"/>
                </a:solidFill>
                <a:uFillTx/>
                <a:latin typeface="Times New Roman"/>
              </a:rPr>
              <a:t>3. </a:t>
            </a:r>
            <a:r>
              <a:rPr b="0" lang="ru-RU" sz="4000" spc="-1" strike="noStrike" u="sng">
                <a:solidFill>
                  <a:srgbClr val="99ff66"/>
                </a:solidFill>
                <a:uFillTx/>
                <a:latin typeface="Times New Roman"/>
                <a:hlinkClick r:id="rId3" action="ppaction://hlinksldjump"/>
              </a:rPr>
              <a:t>Классификация професси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66ff66"/>
                </a:solidFill>
                <a:uFillTx/>
                <a:latin typeface="Times New Roman"/>
              </a:rPr>
              <a:t>4. </a:t>
            </a:r>
            <a:r>
              <a:rPr b="0" lang="ru-RU" sz="4000" spc="-1" strike="noStrike" u="sng">
                <a:solidFill>
                  <a:srgbClr val="99ff66"/>
                </a:solidFill>
                <a:uFillTx/>
                <a:latin typeface="Times New Roman"/>
                <a:hlinkClick r:id="rId4" action="ppaction://hlinksldjump"/>
              </a:rPr>
              <a:t>Схематизация </a:t>
            </a:r>
            <a:r>
              <a:rPr b="0" lang="ru-RU" sz="4000" spc="-1" strike="noStrike" u="sng">
                <a:solidFill>
                  <a:srgbClr val="99ff66"/>
                </a:solidFill>
                <a:uFillTx/>
                <a:latin typeface="Times New Roman"/>
                <a:hlinkClick r:id="rId5" action="ppaction://hlinksldjump"/>
              </a:rPr>
              <a:t>професси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94920" y="6093000"/>
            <a:ext cx="6808680" cy="62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Ответ: </a:t>
            </a: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Классификация професс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5" name="Picture 6" descr="AG00046_"/>
          <p:cNvPicPr/>
          <p:nvPr/>
        </p:nvPicPr>
        <p:blipFill>
          <a:blip r:embed="rId6"/>
          <a:stretch/>
        </p:blipFill>
        <p:spPr>
          <a:xfrm>
            <a:off x="0" y="112536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316" name="AutoShape 7">
            <a:hlinkClick r:id="rId7" action="ppaction://hlinksldjump"/>
          </p:cNvPr>
          <p:cNvSpPr/>
          <p:nvPr/>
        </p:nvSpPr>
        <p:spPr>
          <a:xfrm>
            <a:off x="8101080" y="580536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10800" y="3841"/>
                </a:moveTo>
                <a:lnTo>
                  <a:pt x="13376" y="6452"/>
                </a:ln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lnTo>
                  <a:pt x="17763" y="10804"/>
                </a:lnTo>
                <a:lnTo>
                  <a:pt x="16109" y="10804"/>
                </a:lnTo>
                <a:lnTo>
                  <a:pt x="16109" y="17993"/>
                </a:lnTo>
                <a:lnTo>
                  <a:pt x="5491" y="17993"/>
                </a:lnTo>
                <a:lnTo>
                  <a:pt x="5491" y="10804"/>
                </a:lnTo>
                <a:lnTo>
                  <a:pt x="3837" y="10804"/>
                </a:lnTo>
                <a:close/>
              </a:path>
              <a:path fill="darkenLess" w="21600" h="21607">
                <a:moveTo>
                  <a:pt x="13376" y="6452"/>
                </a:move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close/>
              </a:path>
              <a:path fill="darkenLess" w="21600" h="21607">
                <a:moveTo>
                  <a:pt x="9877" y="14303"/>
                </a:moveTo>
                <a:lnTo>
                  <a:pt x="11723" y="14303"/>
                </a:lnTo>
                <a:lnTo>
                  <a:pt x="11723" y="17993"/>
                </a:lnTo>
                <a:lnTo>
                  <a:pt x="16109" y="17993"/>
                </a:lnTo>
                <a:lnTo>
                  <a:pt x="16109" y="10804"/>
                </a:lnTo>
                <a:lnTo>
                  <a:pt x="5491" y="10804"/>
                </a:lnTo>
                <a:lnTo>
                  <a:pt x="5491" y="17993"/>
                </a:lnTo>
                <a:lnTo>
                  <a:pt x="9877" y="17993"/>
                </a:lnTo>
                <a:close/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nodeType="clickEffect" fill="hold">
                      <p:stCondLst>
                        <p:cond delay="0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7" dur="1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Знаток терминов</a:t>
            </a:r>
            <a:r>
              <a:rPr b="1" lang="ru-RU" sz="4400" spc="-1" strike="noStrike">
                <a:solidFill>
                  <a:srgbClr val="ffffb7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«Для того, чтобы люди находили … в своей работе, необходимы три условия: работа должна быть им по силам, она не должна быть изнуряющей и ей обязательно должен сопутствовать успех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жон Реск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99ff66"/>
                </a:solidFill>
                <a:uFillTx/>
                <a:latin typeface="Times New Roman"/>
                <a:hlinkClick r:id="rId1" action="ppaction://hlinksldjump"/>
              </a:rPr>
              <a:t>1. </a:t>
            </a:r>
            <a:r>
              <a:rPr b="0" lang="ru-RU" sz="4000" spc="-1" strike="noStrike" u="sng">
                <a:solidFill>
                  <a:srgbClr val="99ff66"/>
                </a:solidFill>
                <a:uFillTx/>
                <a:latin typeface="Times New Roman"/>
                <a:hlinkClick r:id="rId2" action="ppaction://hlinksldjump"/>
              </a:rPr>
              <a:t>Удач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1aff1a"/>
                </a:solidFill>
                <a:uFillTx/>
                <a:latin typeface="Times New Roman"/>
              </a:rPr>
              <a:t>2. Р</a:t>
            </a:r>
            <a:r>
              <a:rPr b="0" lang="ru-RU" sz="4000" spc="-1" strike="noStrike" u="sng">
                <a:solidFill>
                  <a:srgbClr val="99ff66"/>
                </a:solidFill>
                <a:uFillTx/>
                <a:latin typeface="Times New Roman"/>
                <a:hlinkClick r:id="rId3" action="ppaction://hlinksldjump"/>
              </a:rPr>
              <a:t>азочаров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1aff1a"/>
                </a:solidFill>
                <a:uFillTx/>
                <a:latin typeface="Times New Roman"/>
              </a:rPr>
              <a:t>3</a:t>
            </a:r>
            <a:r>
              <a:rPr b="0" lang="ru-RU" sz="4000" spc="-1" strike="noStrike" u="sng">
                <a:solidFill>
                  <a:srgbClr val="99ff66"/>
                </a:solidFill>
                <a:uFillTx/>
                <a:latin typeface="Times New Roman"/>
                <a:hlinkClick r:id="rId4" action="ppaction://hlinksldjump"/>
              </a:rPr>
              <a:t>. </a:t>
            </a:r>
            <a:r>
              <a:rPr b="0" lang="ru-RU" sz="4000" spc="-1" strike="noStrike" u="sng">
                <a:solidFill>
                  <a:srgbClr val="99ff66"/>
                </a:solidFill>
                <a:uFillTx/>
                <a:latin typeface="Times New Roman"/>
                <a:hlinkClick r:id="rId5" action="ppaction://hlinksldjump"/>
              </a:rPr>
              <a:t>Счасть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1aff1a"/>
                </a:solidFill>
                <a:uFillTx/>
                <a:latin typeface="Times New Roman"/>
              </a:rPr>
              <a:t>4. Г</a:t>
            </a:r>
            <a:r>
              <a:rPr b="0" lang="ru-RU" sz="4000" spc="-1" strike="noStrike" u="sng">
                <a:solidFill>
                  <a:srgbClr val="99ff66"/>
                </a:solidFill>
                <a:uFillTx/>
                <a:latin typeface="Times New Roman"/>
                <a:hlinkClick r:id="rId6" action="ppaction://hlinksldjump"/>
              </a:rPr>
              <a:t>ор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1042560" y="6021000"/>
            <a:ext cx="59770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Ответ: счасть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Picture 6" descr="AG00046_"/>
          <p:cNvPicPr/>
          <p:nvPr/>
        </p:nvPicPr>
        <p:blipFill>
          <a:blip r:embed="rId7"/>
          <a:stretch/>
        </p:blipFill>
        <p:spPr>
          <a:xfrm>
            <a:off x="0" y="98100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321" name="AutoShape 7">
            <a:hlinkClick r:id="rId8" action="ppaction://hlinksldjump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0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9" dur="1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Знатоки терминов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786880" cy="20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marL="191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Вставьте слово: «… - деятельность человека, направленная на создание общественно полезного результата, товаров и услуг»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1918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191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1aff1a"/>
                </a:solidFill>
                <a:uFillTx/>
                <a:latin typeface="Times New Roman"/>
              </a:rPr>
              <a:t>1. </a:t>
            </a:r>
            <a:r>
              <a:rPr b="0" lang="ru-RU" sz="3600" spc="-1" strike="noStrike" u="sng">
                <a:solidFill>
                  <a:srgbClr val="99ff66"/>
                </a:solidFill>
                <a:uFillTx/>
                <a:latin typeface="Times New Roman"/>
                <a:hlinkClick r:id="rId1" action="ppaction://hlinksldjump"/>
              </a:rPr>
              <a:t>Призва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191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1aff1a"/>
                </a:solidFill>
                <a:uFillTx/>
                <a:latin typeface="Times New Roman"/>
              </a:rPr>
              <a:t>2. </a:t>
            </a:r>
            <a:r>
              <a:rPr b="0" lang="ru-RU" sz="3600" spc="-1" strike="noStrike" u="sng">
                <a:solidFill>
                  <a:srgbClr val="99ff66"/>
                </a:solidFill>
                <a:uFillTx/>
                <a:latin typeface="Times New Roman"/>
                <a:hlinkClick r:id="rId2" action="ppaction://hlinksldjump"/>
              </a:rPr>
              <a:t>Професс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191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1aff1a"/>
                </a:solidFill>
                <a:uFillTx/>
                <a:latin typeface="Times New Roman"/>
              </a:rPr>
              <a:t>3</a:t>
            </a:r>
            <a:r>
              <a:rPr b="0" lang="ru-RU" sz="3600" spc="-1" strike="noStrike" u="sng">
                <a:solidFill>
                  <a:srgbClr val="99ff66"/>
                </a:solidFill>
                <a:uFillTx/>
                <a:latin typeface="Times New Roman"/>
                <a:hlinkClick r:id="rId3" action="ppaction://hlinksldjump"/>
              </a:rPr>
              <a:t>. Тру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191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1aff1a"/>
                </a:solidFill>
                <a:uFillTx/>
                <a:latin typeface="Times New Roman"/>
              </a:rPr>
              <a:t>4. </a:t>
            </a:r>
            <a:r>
              <a:rPr b="0" lang="ru-RU" sz="3600" spc="-1" strike="noStrike" u="sng">
                <a:solidFill>
                  <a:srgbClr val="99ff66"/>
                </a:solidFill>
                <a:uFillTx/>
                <a:latin typeface="Times New Roman"/>
                <a:hlinkClick r:id="rId4" action="ppaction://hlinksldjump"/>
              </a:rPr>
              <a:t>Учеб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4" name="Picture 9" descr="AG00046_"/>
          <p:cNvPicPr/>
          <p:nvPr/>
        </p:nvPicPr>
        <p:blipFill>
          <a:blip r:embed="rId5"/>
          <a:stretch/>
        </p:blipFill>
        <p:spPr>
          <a:xfrm>
            <a:off x="0" y="126828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10">
            <a:hlinkClick r:id="rId6" action="ppaction://hlinksldjump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Rectangle 12"/>
          <p:cNvSpPr/>
          <p:nvPr/>
        </p:nvSpPr>
        <p:spPr>
          <a:xfrm>
            <a:off x="3357720" y="5929200"/>
            <a:ext cx="43923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Ответ: Тру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nodeType="clickEffect" fill="hold">
                      <p:stCondLst>
                        <p:cond delay="0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8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Знатоки терминов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285840" y="1557000"/>
            <a:ext cx="885816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бщий или развернутый перечень требований, предъявляемых данной профессией, специальностью или должностью к человеку называетс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1aff1a"/>
                </a:solidFill>
                <a:uFillTx/>
                <a:latin typeface="Times New Roman"/>
              </a:rPr>
              <a:t>1. Профописание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1aff1a"/>
                </a:solidFill>
                <a:uFillTx/>
                <a:latin typeface="Times New Roman"/>
              </a:rPr>
              <a:t>2. Диаграмм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1aff1a"/>
                </a:solidFill>
                <a:uFillTx/>
                <a:latin typeface="Times New Roman"/>
              </a:rPr>
              <a:t>3. Профессиограмм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1aff1a"/>
                </a:solidFill>
                <a:uFillTx/>
                <a:latin typeface="Times New Roman"/>
              </a:rPr>
              <a:t>4. Профориентаци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1571400" y="6072120"/>
            <a:ext cx="590364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Ответ: Профессиограм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Picture 6" descr="AG00046_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331" name="AutoShape 7"/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nodeType="clickEffect" fill="hold">
                      <p:stCondLst>
                        <p:cond delay="0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4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7" dur="1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8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Знатоки терминов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71080" y="1643040"/>
            <a:ext cx="9086760" cy="38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бщий или развернутый перечень требований, предъявляемых данной профессией, специальностью или должностью к человеку называетс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66ff66"/>
                </a:solidFill>
                <a:uFillTx/>
                <a:latin typeface="Times New Roman"/>
              </a:rPr>
              <a:t>1. Профописание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66ff66"/>
                </a:solidFill>
                <a:uFillTx/>
                <a:latin typeface="Times New Roman"/>
              </a:rPr>
              <a:t>2. Диаграмм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66ff66"/>
                </a:solidFill>
                <a:uFillTx/>
                <a:latin typeface="Times New Roman"/>
              </a:rPr>
              <a:t>3. Профессиограмм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66ff66"/>
                </a:solidFill>
                <a:uFillTx/>
                <a:latin typeface="Times New Roman"/>
              </a:rPr>
              <a:t>4. Профориентаци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1042560" y="5950080"/>
            <a:ext cx="6265800" cy="43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Ответ: Профессиограм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5" name="Picture 6" descr="AG00046_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336" name="AutoShape 7"/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nodeType="clickEffect" fill="hold">
                      <p:stCondLst>
                        <p:cond delay="0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4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6" dur="10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Знатоки терминов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914400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ставьте пропущенное слово: «Мы всегда начинаем больше … людей после того, как попробуем делать их работу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Уилыш Фед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1aff1a"/>
                </a:solidFill>
                <a:uFillTx/>
                <a:latin typeface="Times New Roman"/>
              </a:rPr>
              <a:t>1. Уважа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1aff1a"/>
                </a:solidFill>
                <a:uFillTx/>
                <a:latin typeface="Times New Roman"/>
              </a:rPr>
              <a:t>2. Люби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1aff1a"/>
                </a:solidFill>
                <a:uFillTx/>
                <a:latin typeface="Times New Roman"/>
              </a:rPr>
              <a:t>3. Понима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1aff1a"/>
                </a:solidFill>
                <a:uFillTx/>
                <a:latin typeface="Times New Roman"/>
              </a:rPr>
              <a:t>4. Презира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143160" y="5857560"/>
            <a:ext cx="4464000" cy="50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Ответ: уважа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0" name="Picture 11" descr="AG00046_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341" name="AutoShape 12"/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nodeType="clickEffect" fill="hold">
                      <p:stCondLst>
                        <p:cond delay="0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9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0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0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9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8" dur="10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85840" y="244440"/>
            <a:ext cx="855648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ff"/>
                </a:solidFill>
                <a:latin typeface="Arial Black"/>
              </a:rPr>
              <a:t>      </a:t>
            </a:r>
            <a:r>
              <a:rPr b="1" lang="ru-RU" sz="3600" spc="-1" strike="noStrike">
                <a:solidFill>
                  <a:srgbClr val="c00000"/>
                </a:solidFill>
                <a:latin typeface="Arial Black"/>
              </a:rPr>
              <a:t>Выдающиеся люди 20 века</a:t>
            </a:r>
            <a:br>
              <a:rPr sz="3600"/>
            </a:b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57880" y="2499840"/>
            <a:ext cx="300024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твет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Габриэль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Шанел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AutoShape 8">
            <a:hlinkClick r:id="rId1" action="ppaction://hlinksldjump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9" descr="AG00117_"/>
          <p:cNvPicPr/>
          <p:nvPr/>
        </p:nvPicPr>
        <p:blipFill>
          <a:blip r:embed="rId2"/>
          <a:stretch/>
        </p:blipFill>
        <p:spPr>
          <a:xfrm>
            <a:off x="0" y="1268280"/>
            <a:ext cx="9144000" cy="1540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chanel-1"/>
          <p:cNvPicPr/>
          <p:nvPr/>
        </p:nvPicPr>
        <p:blipFill>
          <a:blip r:embed="rId3"/>
          <a:stretch/>
        </p:blipFill>
        <p:spPr>
          <a:xfrm>
            <a:off x="500040" y="1643040"/>
            <a:ext cx="4000680" cy="48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ff"/>
                </a:solidFill>
                <a:latin typeface="Arial Black"/>
              </a:rPr>
              <a:t>       </a:t>
            </a:r>
            <a:r>
              <a:rPr b="1" lang="ru-RU" sz="3600" spc="-1" strike="noStrike">
                <a:solidFill>
                  <a:srgbClr val="c00000"/>
                </a:solidFill>
                <a:latin typeface="Arial Black"/>
              </a:rPr>
              <a:t>Выдающиеся люди 20 века</a:t>
            </a:r>
            <a:br>
              <a:rPr sz="3600"/>
            </a:b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5715000" y="2428920"/>
            <a:ext cx="25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Уол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Дисне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11">
            <a:hlinkClick r:id="rId1" action="ppaction://hlinksldjump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12" descr="AG00117_"/>
          <p:cNvPicPr/>
          <p:nvPr/>
        </p:nvPicPr>
        <p:blipFill>
          <a:blip r:embed="rId2"/>
          <a:stretch/>
        </p:blipFill>
        <p:spPr>
          <a:xfrm>
            <a:off x="0" y="1268280"/>
            <a:ext cx="9144000" cy="1540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disney"/>
          <p:cNvPicPr/>
          <p:nvPr/>
        </p:nvPicPr>
        <p:blipFill>
          <a:blip r:embed="rId3"/>
          <a:stretch/>
        </p:blipFill>
        <p:spPr>
          <a:xfrm>
            <a:off x="571680" y="1714680"/>
            <a:ext cx="385740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ff"/>
                </a:solidFill>
                <a:latin typeface="Arial Black"/>
              </a:rPr>
              <a:t>       </a:t>
            </a:r>
            <a:r>
              <a:rPr b="1" lang="ru-RU" sz="3600" spc="-1" strike="noStrike">
                <a:solidFill>
                  <a:srgbClr val="c00000"/>
                </a:solidFill>
                <a:latin typeface="Arial Black"/>
              </a:rPr>
              <a:t>Выдающиеся люди 20 века</a:t>
            </a:r>
            <a:br>
              <a:rPr sz="3600"/>
            </a:b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928840" y="2499840"/>
            <a:ext cx="252108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твет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Том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лай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AutoShape 6">
            <a:hlinkClick r:id="rId1" action="ppaction://hlinksldjump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18" descr="AG00117_"/>
          <p:cNvPicPr/>
          <p:nvPr/>
        </p:nvPicPr>
        <p:blipFill>
          <a:blip r:embed="rId2"/>
          <a:stretch/>
        </p:blipFill>
        <p:spPr>
          <a:xfrm>
            <a:off x="0" y="1268280"/>
            <a:ext cx="9144000" cy="1540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klimin_1_s"/>
          <p:cNvPicPr/>
          <p:nvPr/>
        </p:nvPicPr>
        <p:blipFill>
          <a:blip r:embed="rId3"/>
          <a:stretch/>
        </p:blipFill>
        <p:spPr>
          <a:xfrm>
            <a:off x="285840" y="1682640"/>
            <a:ext cx="528624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0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ff"/>
                </a:solidFill>
                <a:latin typeface="Arial Black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Arial Black"/>
              </a:rPr>
              <a:t>Выдающиеся люди 20 века</a:t>
            </a:r>
            <a:br>
              <a:rPr sz="3600"/>
            </a:b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57880" y="3428640"/>
            <a:ext cx="351792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твет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Генр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Фор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AutoShape 7">
            <a:hlinkClick r:id="rId1" action="ppaction://hlinksldjump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8" descr="AG00117_"/>
          <p:cNvPicPr/>
          <p:nvPr/>
        </p:nvPicPr>
        <p:blipFill>
          <a:blip r:embed="rId2"/>
          <a:stretch/>
        </p:blipFill>
        <p:spPr>
          <a:xfrm>
            <a:off x="0" y="1268280"/>
            <a:ext cx="9144000" cy="15408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1" descr=""/>
          <p:cNvPicPr/>
          <p:nvPr/>
        </p:nvPicPr>
        <p:blipFill>
          <a:blip r:embed="rId3"/>
          <a:stretch/>
        </p:blipFill>
        <p:spPr>
          <a:xfrm>
            <a:off x="714240" y="1571760"/>
            <a:ext cx="37148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0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8080" y="2934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ff"/>
                </a:solidFill>
                <a:latin typeface="Arial Black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Arial Black"/>
              </a:rPr>
              <a:t>Выдающиеся люди 20 века</a:t>
            </a:r>
            <a:br>
              <a:rPr sz="3600"/>
            </a:b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71480" y="5651280"/>
            <a:ext cx="4319640" cy="120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твет: А. Эйнштей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utoShape 6">
            <a:hlinkClick r:id="rId1" action="ppaction://hlinksldjump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7" descr="AG00117_"/>
          <p:cNvPicPr/>
          <p:nvPr/>
        </p:nvPicPr>
        <p:blipFill>
          <a:blip r:embed="rId2"/>
          <a:stretch/>
        </p:blipFill>
        <p:spPr>
          <a:xfrm>
            <a:off x="0" y="1268280"/>
            <a:ext cx="9144000" cy="15408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1" descr=""/>
          <p:cNvPicPr/>
          <p:nvPr/>
        </p:nvPicPr>
        <p:blipFill>
          <a:blip r:embed="rId3"/>
          <a:stretch/>
        </p:blipFill>
        <p:spPr>
          <a:xfrm>
            <a:off x="1143000" y="1714680"/>
            <a:ext cx="514368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0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 Black"/>
              </a:rPr>
              <a:t>Знатоки професси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26920" y="1915920"/>
            <a:ext cx="6121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616"/>
                </a:solidFill>
                <a:latin typeface="Arial"/>
              </a:rPr>
              <a:t>                   – </a:t>
            </a:r>
            <a:r>
              <a:rPr b="0" lang="en-US" sz="3200" spc="-1" strike="noStrike">
                <a:solidFill>
                  <a:srgbClr val="161616"/>
                </a:solidFill>
                <a:latin typeface="Arial"/>
              </a:rPr>
              <a:t>деловой человек, предприниматель,  лицо занимающееся собственным бизнесом, имеющее свое дело в целях получения прибыли или иной выгод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9" descr="AG00098_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180" name="AutoShape 10">
            <a:hlinkClick r:id="rId2" action="ppaction://hlinksldjump"/>
          </p:cNvPr>
          <p:cNvSpPr/>
          <p:nvPr/>
        </p:nvSpPr>
        <p:spPr>
          <a:xfrm>
            <a:off x="8423280" y="621036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12018" y="3837"/>
                </a:moveTo>
                <a:lnTo>
                  <a:pt x="14594" y="6448"/>
                </a:ln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lnTo>
                  <a:pt x="18981" y="10800"/>
                </a:lnTo>
                <a:lnTo>
                  <a:pt x="17327" y="10800"/>
                </a:lnTo>
                <a:lnTo>
                  <a:pt x="17327" y="17989"/>
                </a:lnTo>
                <a:lnTo>
                  <a:pt x="6709" y="17989"/>
                </a:lnTo>
                <a:lnTo>
                  <a:pt x="6709" y="10800"/>
                </a:lnTo>
                <a:lnTo>
                  <a:pt x="5055" y="10800"/>
                </a:lnTo>
                <a:close/>
              </a:path>
              <a:path fill="darkenLess" w="24036" h="21600">
                <a:moveTo>
                  <a:pt x="14594" y="6448"/>
                </a:move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close/>
              </a:path>
              <a:path fill="darkenLess" w="24036" h="21600">
                <a:moveTo>
                  <a:pt x="11095" y="14299"/>
                </a:moveTo>
                <a:lnTo>
                  <a:pt x="12941" y="14299"/>
                </a:lnTo>
                <a:lnTo>
                  <a:pt x="12941" y="17989"/>
                </a:lnTo>
                <a:lnTo>
                  <a:pt x="17327" y="17989"/>
                </a:lnTo>
                <a:lnTo>
                  <a:pt x="17327" y="10800"/>
                </a:lnTo>
                <a:lnTo>
                  <a:pt x="6709" y="10800"/>
                </a:lnTo>
                <a:lnTo>
                  <a:pt x="6709" y="17989"/>
                </a:lnTo>
                <a:lnTo>
                  <a:pt x="11095" y="17989"/>
                </a:lnTo>
                <a:close/>
              </a:path>
            </a:pathLst>
          </a:cu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Прямоугольник 2" descr=""/>
          <p:cNvPicPr/>
          <p:nvPr/>
        </p:nvPicPr>
        <p:blipFill>
          <a:blip r:embed="rId3"/>
          <a:stretch/>
        </p:blipFill>
        <p:spPr>
          <a:xfrm>
            <a:off x="103320" y="1908000"/>
            <a:ext cx="288900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7T11:28:32Z</dcterms:created>
  <dc:creator>Антонова М.Н.</dc:creator>
  <dc:description/>
  <dc:language>en-US</dc:language>
  <cp:lastModifiedBy>309</cp:lastModifiedBy>
  <dcterms:modified xsi:type="dcterms:W3CDTF">2022-02-13T11:33:01Z</dcterms:modified>
  <cp:revision>69</cp:revision>
  <dc:subject>Правильное питание</dc:subject>
  <dc:title>Игротека</dc:title>
</cp:coreProperties>
</file>