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9.gif" ContentType="image/gif"/>
  <Override PartName="/ppt/media/image1.gif" ContentType="image/gif"/>
  <Override PartName="/ppt/media/image6.jpeg" ContentType="image/jpeg"/>
  <Override PartName="/ppt/media/image10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15.wmf" ContentType="image/x-wmf"/>
  <Override PartName="/ppt/media/image14.png" ContentType="image/png"/>
  <Override PartName="/ppt/media/image2.gif" ContentType="image/gif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E6D-AF18-4B42-B5C9-C73C0725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20B-2173-4BC3-99C8-9867F4BD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4BE-37E9-4099-AB8F-5ED048BA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EAF-A255-476F-9D88-C31B1B5C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4C4A-F9D8-4EF8-818F-C294BB65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DC55-FAED-4568-B74E-C546BF15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AE05-0CD8-4068-98EB-04F8D8E1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9746-144F-4B08-94B9-FB8AA292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B835-1311-4776-A268-F279523E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A947-7260-4309-A273-5CE0487D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5ABA-75AA-40E5-8A2A-FDF0F6B4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E55-5489-4A86-B69D-DDB0E9FB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A1FF-DC57-4A17-96D2-0628CD81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1E1E-6113-4C0E-BDE9-2F1F216A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F932-62DE-4735-86F3-01543D2C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18C0-BC3C-4765-B35D-AE48A738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22EE-E17E-439C-A25B-AC919CD3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A83-23C7-4CB7-9EE8-367AA1D4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400-11E7-41E0-8595-457F508D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113-908B-4674-8AFE-C0E8447E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A45-9F97-49BF-8478-DA2A4302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5F3-045E-40BE-9A2A-154E75C4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812-A38E-4632-9EF1-093909A2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5CF-785D-46F9-9E35-8820249A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E618-B255-4A41-A364-D17C73EF5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23DB-AADB-42BC-808D-41FCA79909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14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2.xml"/><Relationship Id="rId12" Type="http://schemas.openxmlformats.org/officeDocument/2006/relationships/slide" Target="slide11.xml"/><Relationship Id="rId13" Type="http://schemas.openxmlformats.org/officeDocument/2006/relationships/slide" Target="slide13.xml"/><Relationship Id="rId14" Type="http://schemas.openxmlformats.org/officeDocument/2006/relationships/slide" Target="slide20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9.xml"/><Relationship Id="rId19" Type="http://schemas.openxmlformats.org/officeDocument/2006/relationships/slide" Target="slide18.xml"/><Relationship Id="rId20" Type="http://schemas.openxmlformats.org/officeDocument/2006/relationships/slide" Target="slide25.xml"/><Relationship Id="rId21" Type="http://schemas.openxmlformats.org/officeDocument/2006/relationships/slide" Target="slide21.xml"/><Relationship Id="rId22" Type="http://schemas.openxmlformats.org/officeDocument/2006/relationships/slide" Target="slide22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31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7.xml"/><Relationship Id="rId33" Type="http://schemas.openxmlformats.org/officeDocument/2006/relationships/slide" Target="slide32.xml"/><Relationship Id="rId34" Type="http://schemas.openxmlformats.org/officeDocument/2006/relationships/slide" Target="slide33.xml"/><Relationship Id="rId35" Type="http://schemas.openxmlformats.org/officeDocument/2006/relationships/slide" Target="slide34.xml"/><Relationship Id="rId36" Type="http://schemas.openxmlformats.org/officeDocument/2006/relationships/slide" Target="slide35.xml"/><Relationship Id="rId37" Type="http://schemas.openxmlformats.org/officeDocument/2006/relationships/slide" Target="slide36.xml"/><Relationship Id="rId3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image" Target="../media/image19.gif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" Target="slide25.xml"/><Relationship Id="rId7" Type="http://schemas.openxmlformats.org/officeDocument/2006/relationships/image" Target="../media/image19.gif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image" Target="../media/image19.gi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525920" y="26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2500200" y="32860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Игра-викторина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500040" y="1000080"/>
            <a:ext cx="8389800" cy="15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 поисках новых открытий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WordArt 9"/>
          <p:cNvSpPr txBox="1"/>
          <p:nvPr/>
        </p:nvSpPr>
        <p:spPr>
          <a:xfrm>
            <a:off x="1403280" y="4581360"/>
            <a:ext cx="4464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2" name="Picture 10" descr="AG00098_"/>
          <p:cNvPicPr/>
          <p:nvPr/>
        </p:nvPicPr>
        <p:blipFill>
          <a:blip r:embed="rId1"/>
          <a:stretch/>
        </p:blipFill>
        <p:spPr>
          <a:xfrm>
            <a:off x="785880" y="2643120"/>
            <a:ext cx="7643880" cy="135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1000080" y="5214960"/>
            <a:ext cx="771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ccff"/>
                </a:solidFill>
                <a:latin typeface="Arial"/>
                <a:ea typeface="Times New Roman"/>
              </a:rPr>
              <a:t>Краснодарский край МАОУ СОШ№ 1 Новопокров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ccff"/>
                </a:solidFill>
                <a:latin typeface="Arial"/>
                <a:ea typeface="Times New Roman"/>
              </a:rPr>
              <a:t>Андриенко Ольга Николаев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 Black"/>
              </a:rPr>
              <a:t>Знатоки профессий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            –</a:t>
            </a:r>
            <a:r>
              <a:rPr b="1" i="1" lang="en-US" sz="3200" spc="-1" strike="noStrike">
                <a:solidFill>
                  <a:srgbClr val="16161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изучает человеческий организм, предупреждает болезни, ставит диагноз, назначает лечение, принимает решение о трудоспособности человека, проводит обследование и лечение, организует консультации и консилиу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0">
            <a:hlinkClick r:id="rId2" action="ppaction://hlinksldjump"/>
          </p:cNvPr>
          <p:cNvSpPr/>
          <p:nvPr/>
        </p:nvSpPr>
        <p:spPr>
          <a:xfrm>
            <a:off x="8352000" y="613728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3837"/>
                </a:moveTo>
                <a:lnTo>
                  <a:pt x="14444" y="6448"/>
                </a:ln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lnTo>
                  <a:pt x="18831" y="10800"/>
                </a:lnTo>
                <a:lnTo>
                  <a:pt x="17177" y="10800"/>
                </a:lnTo>
                <a:lnTo>
                  <a:pt x="17177" y="17989"/>
                </a:lnTo>
                <a:lnTo>
                  <a:pt x="6558" y="17989"/>
                </a:lnTo>
                <a:lnTo>
                  <a:pt x="6558" y="10800"/>
                </a:lnTo>
                <a:lnTo>
                  <a:pt x="4905" y="10800"/>
                </a:lnTo>
                <a:close/>
              </a:path>
              <a:path fill="darkenLess" w="23735" h="21600">
                <a:moveTo>
                  <a:pt x="14444" y="6448"/>
                </a:move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close/>
              </a:path>
              <a:path fill="darkenLess" w="23735" h="21600">
                <a:moveTo>
                  <a:pt x="10945" y="14299"/>
                </a:moveTo>
                <a:lnTo>
                  <a:pt x="12790" y="14299"/>
                </a:lnTo>
                <a:lnTo>
                  <a:pt x="12790" y="17989"/>
                </a:lnTo>
                <a:lnTo>
                  <a:pt x="17177" y="17989"/>
                </a:lnTo>
                <a:lnTo>
                  <a:pt x="17177" y="10800"/>
                </a:lnTo>
                <a:lnTo>
                  <a:pt x="6558" y="10800"/>
                </a:lnTo>
                <a:lnTo>
                  <a:pt x="6558" y="17989"/>
                </a:lnTo>
                <a:lnTo>
                  <a:pt x="10945" y="17989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Прямоугольник 5" descr=""/>
          <p:cNvPicPr/>
          <p:nvPr/>
        </p:nvPicPr>
        <p:blipFill>
          <a:blip r:embed="rId3"/>
          <a:stretch/>
        </p:blipFill>
        <p:spPr>
          <a:xfrm>
            <a:off x="171360" y="1914480"/>
            <a:ext cx="202896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 Black"/>
              </a:rPr>
              <a:t>Знатоки професс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263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  профессия, в которой используется преимущественно только мускульная физическая сила человека для выполнения простых рабочих опер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8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Прямоугольник 5" descr=""/>
          <p:cNvPicPr/>
          <p:nvPr/>
        </p:nvPicPr>
        <p:blipFill>
          <a:blip r:embed="rId3"/>
          <a:stretch/>
        </p:blipFill>
        <p:spPr>
          <a:xfrm>
            <a:off x="171360" y="1901880"/>
            <a:ext cx="26449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 Black"/>
              </a:rPr>
              <a:t>Знатоки професс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613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61616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 –</a:t>
            </a:r>
            <a:r>
              <a:rPr b="1" i="1" lang="en-US" sz="32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оценивает качество пищевого или вкусового продукта по виду, вкусу и запаху на пищевых производствах, в системе общественного питания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>
            <a:hlinkClick r:id="rId2" action="ppaction://hlinksldjump"/>
          </p:cNvPr>
          <p:cNvSpPr/>
          <p:nvPr/>
        </p:nvSpPr>
        <p:spPr>
          <a:xfrm>
            <a:off x="8317080" y="6031080"/>
            <a:ext cx="826920" cy="82692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Прямоугольник 5" descr=""/>
          <p:cNvPicPr/>
          <p:nvPr/>
        </p:nvPicPr>
        <p:blipFill>
          <a:blip r:embed="rId3"/>
          <a:stretch/>
        </p:blipFill>
        <p:spPr>
          <a:xfrm>
            <a:off x="1036800" y="1981080"/>
            <a:ext cx="2895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 Black"/>
              </a:rPr>
              <a:t>Знатоки професс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613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выполняет вспомогательные работы по уходу за животными, кормит их, убирает помещения, чистит животных, стойла и проходы; оказывает помощь в лечении животны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7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8">
            <a:hlinkClick r:id="rId2" action="ppaction://hlinksldjump"/>
          </p:cNvPr>
          <p:cNvSpPr/>
          <p:nvPr/>
        </p:nvSpPr>
        <p:spPr>
          <a:xfrm>
            <a:off x="84232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12732" y="3837"/>
                </a:moveTo>
                <a:lnTo>
                  <a:pt x="15309" y="6448"/>
                </a:lnTo>
                <a:lnTo>
                  <a:pt x="15309" y="4707"/>
                </a:lnTo>
                <a:lnTo>
                  <a:pt x="17084" y="4707"/>
                </a:lnTo>
                <a:lnTo>
                  <a:pt x="17084" y="8224"/>
                </a:lnTo>
                <a:lnTo>
                  <a:pt x="19695" y="10800"/>
                </a:lnTo>
                <a:lnTo>
                  <a:pt x="18042" y="10800"/>
                </a:lnTo>
                <a:lnTo>
                  <a:pt x="18042" y="17989"/>
                </a:lnTo>
                <a:lnTo>
                  <a:pt x="7423" y="17989"/>
                </a:lnTo>
                <a:lnTo>
                  <a:pt x="7423" y="10800"/>
                </a:lnTo>
                <a:lnTo>
                  <a:pt x="5769" y="10800"/>
                </a:lnTo>
                <a:close/>
              </a:path>
              <a:path fill="darkenLess" w="25465" h="21600">
                <a:moveTo>
                  <a:pt x="15309" y="6448"/>
                </a:moveTo>
                <a:lnTo>
                  <a:pt x="15309" y="4707"/>
                </a:lnTo>
                <a:lnTo>
                  <a:pt x="17084" y="4707"/>
                </a:lnTo>
                <a:lnTo>
                  <a:pt x="17084" y="8224"/>
                </a:lnTo>
                <a:close/>
              </a:path>
              <a:path fill="darkenLess" w="25465" h="21600">
                <a:moveTo>
                  <a:pt x="11810" y="14299"/>
                </a:moveTo>
                <a:lnTo>
                  <a:pt x="13655" y="14299"/>
                </a:lnTo>
                <a:lnTo>
                  <a:pt x="13655" y="17989"/>
                </a:lnTo>
                <a:lnTo>
                  <a:pt x="18042" y="17989"/>
                </a:lnTo>
                <a:lnTo>
                  <a:pt x="18042" y="10800"/>
                </a:lnTo>
                <a:lnTo>
                  <a:pt x="7423" y="10800"/>
                </a:lnTo>
                <a:lnTo>
                  <a:pt x="7423" y="17989"/>
                </a:lnTo>
                <a:lnTo>
                  <a:pt x="11810" y="17989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Прямоугольник 5" descr=""/>
          <p:cNvPicPr/>
          <p:nvPr/>
        </p:nvPicPr>
        <p:blipFill>
          <a:blip r:embed="rId3"/>
          <a:stretch/>
        </p:blipFill>
        <p:spPr>
          <a:xfrm>
            <a:off x="749160" y="1901880"/>
            <a:ext cx="31705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 Black"/>
              </a:rPr>
              <a:t>Знатоки професс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89000"/>
            <a:ext cx="6686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                        –</a:t>
            </a:r>
            <a:r>
              <a:rPr b="1" i="1" lang="en-US" sz="32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объезжает на спецмашине торговые организации; принимает выручку торговых предприятий, сберегательных касс, обменных пунктов; отвозит её в банк, оформляя соответствующий документ.</a:t>
            </a:r>
            <a:br>
              <a:rPr sz="3200"/>
            </a:br>
            <a:r>
              <a:rPr b="0" lang="en-US" sz="4400" spc="-1" strike="noStrike">
                <a:solidFill>
                  <a:srgbClr val="16161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6">
            <a:hlinkClick r:id="rId2" action="ppaction://hlinksldjump"/>
          </p:cNvPr>
          <p:cNvSpPr/>
          <p:nvPr/>
        </p:nvSpPr>
        <p:spPr>
          <a:xfrm>
            <a:off x="8352000" y="6102360"/>
            <a:ext cx="792000" cy="755640"/>
          </a:xfrm>
          <a:custGeom>
            <a:avLst/>
            <a:gdLst>
              <a:gd name="textAreaLeft" fmla="*/ 48960 w 792000"/>
              <a:gd name="textAreaRight" fmla="*/ 743040 w 792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2639" h="21600">
                <a:moveTo>
                  <a:pt x="0" y="0"/>
                </a:moveTo>
                <a:lnTo>
                  <a:pt x="22639" y="0"/>
                </a:lnTo>
                <a:lnTo>
                  <a:pt x="22639" y="21600"/>
                </a:lnTo>
                <a:lnTo>
                  <a:pt x="0" y="21600"/>
                </a:lnTo>
                <a:close/>
              </a:path>
              <a:path fill="lightenLess" w="22639" h="21600">
                <a:moveTo>
                  <a:pt x="0" y="0"/>
                </a:moveTo>
                <a:lnTo>
                  <a:pt x="22639" y="0"/>
                </a:lnTo>
                <a:lnTo>
                  <a:pt x="21239" y="1400"/>
                </a:lnTo>
                <a:lnTo>
                  <a:pt x="1400" y="1400"/>
                </a:lnTo>
                <a:close/>
              </a:path>
              <a:path fill="darken" w="22639" h="21600">
                <a:moveTo>
                  <a:pt x="22639" y="0"/>
                </a:moveTo>
                <a:lnTo>
                  <a:pt x="22639" y="21600"/>
                </a:lnTo>
                <a:lnTo>
                  <a:pt x="21239" y="20200"/>
                </a:lnTo>
                <a:lnTo>
                  <a:pt x="21239" y="1400"/>
                </a:lnTo>
                <a:close/>
              </a:path>
              <a:path fill="darkenLess" w="22639" h="21600">
                <a:moveTo>
                  <a:pt x="22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9" y="20200"/>
                </a:lnTo>
                <a:close/>
              </a:path>
              <a:path fill="lighten" w="22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9" h="21600">
                <a:moveTo>
                  <a:pt x="11319" y="3837"/>
                </a:moveTo>
                <a:lnTo>
                  <a:pt x="13896" y="6448"/>
                </a:lnTo>
                <a:lnTo>
                  <a:pt x="13896" y="4707"/>
                </a:lnTo>
                <a:lnTo>
                  <a:pt x="15671" y="4707"/>
                </a:lnTo>
                <a:lnTo>
                  <a:pt x="15671" y="8224"/>
                </a:lnTo>
                <a:lnTo>
                  <a:pt x="18282" y="10800"/>
                </a:lnTo>
                <a:lnTo>
                  <a:pt x="16629" y="10800"/>
                </a:lnTo>
                <a:lnTo>
                  <a:pt x="16629" y="17989"/>
                </a:lnTo>
                <a:lnTo>
                  <a:pt x="6010" y="17989"/>
                </a:lnTo>
                <a:lnTo>
                  <a:pt x="6010" y="10800"/>
                </a:lnTo>
                <a:lnTo>
                  <a:pt x="4356" y="10800"/>
                </a:lnTo>
                <a:close/>
              </a:path>
              <a:path fill="darkenLess" w="22639" h="21600">
                <a:moveTo>
                  <a:pt x="13896" y="6448"/>
                </a:moveTo>
                <a:lnTo>
                  <a:pt x="13896" y="4707"/>
                </a:lnTo>
                <a:lnTo>
                  <a:pt x="15671" y="4707"/>
                </a:lnTo>
                <a:lnTo>
                  <a:pt x="15671" y="8224"/>
                </a:lnTo>
                <a:close/>
              </a:path>
              <a:path fill="darkenLess" w="22639" h="21600">
                <a:moveTo>
                  <a:pt x="10397" y="14299"/>
                </a:moveTo>
                <a:lnTo>
                  <a:pt x="12242" y="14299"/>
                </a:lnTo>
                <a:lnTo>
                  <a:pt x="12242" y="17989"/>
                </a:lnTo>
                <a:lnTo>
                  <a:pt x="16629" y="17989"/>
                </a:lnTo>
                <a:lnTo>
                  <a:pt x="16629" y="10800"/>
                </a:lnTo>
                <a:lnTo>
                  <a:pt x="6010" y="10800"/>
                </a:lnTo>
                <a:lnTo>
                  <a:pt x="6010" y="17989"/>
                </a:lnTo>
                <a:lnTo>
                  <a:pt x="10397" y="17989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Прямоугольник 5" descr=""/>
          <p:cNvPicPr/>
          <p:nvPr/>
        </p:nvPicPr>
        <p:blipFill>
          <a:blip r:embed="rId3"/>
          <a:stretch/>
        </p:blipFill>
        <p:spPr>
          <a:xfrm>
            <a:off x="749160" y="2054160"/>
            <a:ext cx="288936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25e0"/>
                </a:solidFill>
                <a:latin typeface="Arial Black"/>
              </a:rPr>
              <a:t>Кто по профе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9680" y="1905120"/>
            <a:ext cx="407196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.П. Гайда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7"/>
          <p:cNvSpPr/>
          <p:nvPr/>
        </p:nvSpPr>
        <p:spPr>
          <a:xfrm>
            <a:off x="714240" y="3857760"/>
            <a:ext cx="5832720" cy="1428480"/>
          </a:xfrm>
          <a:custGeom>
            <a:avLst/>
            <a:gdLst>
              <a:gd name="textAreaLeft" fmla="*/ 92520 w 5832720"/>
              <a:gd name="textAreaRight" fmla="*/ 5740200 w 5832720"/>
              <a:gd name="textAreaTop" fmla="*/ 92520 h 1428480"/>
              <a:gd name="textAreaBottom" fmla="*/ 1335960 h 1428480"/>
            </a:gdLst>
            <a:ahLst/>
            <a:rect l="textAreaLeft" t="textAreaTop" r="textAreaRight" b="textAreaBottom"/>
            <a:pathLst>
              <a:path w="88180" h="21600">
                <a:moveTo>
                  <a:pt x="0" y="0"/>
                </a:moveTo>
                <a:lnTo>
                  <a:pt x="88180" y="0"/>
                </a:lnTo>
                <a:lnTo>
                  <a:pt x="88180" y="21600"/>
                </a:lnTo>
                <a:lnTo>
                  <a:pt x="0" y="21600"/>
                </a:lnTo>
                <a:close/>
              </a:path>
              <a:path fill="lightenLess" w="88180" h="21600">
                <a:moveTo>
                  <a:pt x="0" y="0"/>
                </a:moveTo>
                <a:lnTo>
                  <a:pt x="88180" y="0"/>
                </a:lnTo>
                <a:lnTo>
                  <a:pt x="86780" y="1400"/>
                </a:lnTo>
                <a:lnTo>
                  <a:pt x="1400" y="1400"/>
                </a:lnTo>
                <a:close/>
              </a:path>
              <a:path fill="darken" w="88180" h="21600">
                <a:moveTo>
                  <a:pt x="88180" y="0"/>
                </a:moveTo>
                <a:lnTo>
                  <a:pt x="88180" y="21600"/>
                </a:lnTo>
                <a:lnTo>
                  <a:pt x="86780" y="20200"/>
                </a:lnTo>
                <a:lnTo>
                  <a:pt x="86780" y="1400"/>
                </a:lnTo>
                <a:close/>
              </a:path>
              <a:path fill="darkenLess" w="88180" h="21600">
                <a:moveTo>
                  <a:pt x="88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780" y="20200"/>
                </a:lnTo>
                <a:close/>
              </a:path>
              <a:path fill="lighten" w="88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андир пол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асной Арм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8">
            <a:hlinkClick r:id="rId2" action="ppaction://hlinksldjump"/>
          </p:cNvPr>
          <p:cNvSpPr/>
          <p:nvPr/>
        </p:nvSpPr>
        <p:spPr>
          <a:xfrm>
            <a:off x="8028000" y="5373720"/>
            <a:ext cx="900000" cy="1008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1008000"/>
              <a:gd name="textAreaBottom" fmla="*/ 949680 h 1008000"/>
            </a:gdLst>
            <a:ahLst/>
            <a:rect l="textAreaLeft" t="textAreaTop" r="textAreaRight" b="textAreaBottom"/>
            <a:pathLst>
              <a:path w="21600" h="24191">
                <a:moveTo>
                  <a:pt x="0" y="0"/>
                </a:moveTo>
                <a:lnTo>
                  <a:pt x="21600" y="0"/>
                </a:lnTo>
                <a:lnTo>
                  <a:pt x="21600" y="24191"/>
                </a:lnTo>
                <a:lnTo>
                  <a:pt x="0" y="24191"/>
                </a:lnTo>
                <a:close/>
              </a:path>
              <a:path fill="lightenLess" w="21600" h="241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91">
                <a:moveTo>
                  <a:pt x="21600" y="0"/>
                </a:moveTo>
                <a:lnTo>
                  <a:pt x="21600" y="24191"/>
                </a:lnTo>
                <a:lnTo>
                  <a:pt x="20200" y="22791"/>
                </a:lnTo>
                <a:lnTo>
                  <a:pt x="20200" y="1400"/>
                </a:lnTo>
                <a:close/>
              </a:path>
              <a:path fill="darkenLess" w="21600" h="24191">
                <a:moveTo>
                  <a:pt x="21600" y="24191"/>
                </a:moveTo>
                <a:lnTo>
                  <a:pt x="0" y="24191"/>
                </a:lnTo>
                <a:lnTo>
                  <a:pt x="1400" y="22791"/>
                </a:lnTo>
                <a:lnTo>
                  <a:pt x="20200" y="22791"/>
                </a:lnTo>
                <a:close/>
              </a:path>
              <a:path fill="lighten" w="21600" h="24191">
                <a:moveTo>
                  <a:pt x="0" y="241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91"/>
                </a:lnTo>
                <a:close/>
              </a:path>
              <a:path fill="darken" w="21600" h="24191">
                <a:moveTo>
                  <a:pt x="10800" y="5133"/>
                </a:moveTo>
                <a:lnTo>
                  <a:pt x="13376" y="7744"/>
                </a:lnTo>
                <a:lnTo>
                  <a:pt x="13376" y="6003"/>
                </a:lnTo>
                <a:lnTo>
                  <a:pt x="15152" y="6003"/>
                </a:lnTo>
                <a:lnTo>
                  <a:pt x="15152" y="9519"/>
                </a:lnTo>
                <a:lnTo>
                  <a:pt x="17763" y="12095"/>
                </a:lnTo>
                <a:lnTo>
                  <a:pt x="16109" y="12095"/>
                </a:lnTo>
                <a:lnTo>
                  <a:pt x="16109" y="19285"/>
                </a:lnTo>
                <a:lnTo>
                  <a:pt x="5491" y="19285"/>
                </a:lnTo>
                <a:lnTo>
                  <a:pt x="5491" y="12095"/>
                </a:lnTo>
                <a:lnTo>
                  <a:pt x="3837" y="12095"/>
                </a:lnTo>
                <a:close/>
              </a:path>
              <a:path fill="darkenLess" w="21600" h="24191">
                <a:moveTo>
                  <a:pt x="13376" y="7744"/>
                </a:moveTo>
                <a:lnTo>
                  <a:pt x="13376" y="6003"/>
                </a:lnTo>
                <a:lnTo>
                  <a:pt x="15152" y="6003"/>
                </a:lnTo>
                <a:lnTo>
                  <a:pt x="15152" y="9519"/>
                </a:lnTo>
                <a:close/>
              </a:path>
              <a:path fill="darkenLess" w="21600" h="24191">
                <a:moveTo>
                  <a:pt x="9877" y="15594"/>
                </a:moveTo>
                <a:lnTo>
                  <a:pt x="11723" y="15594"/>
                </a:lnTo>
                <a:lnTo>
                  <a:pt x="11723" y="19285"/>
                </a:lnTo>
                <a:lnTo>
                  <a:pt x="16109" y="19285"/>
                </a:lnTo>
                <a:lnTo>
                  <a:pt x="16109" y="12095"/>
                </a:lnTo>
                <a:lnTo>
                  <a:pt x="5491" y="12095"/>
                </a:lnTo>
                <a:lnTo>
                  <a:pt x="5491" y="19285"/>
                </a:lnTo>
                <a:lnTo>
                  <a:pt x="9877" y="19285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25e0"/>
                </a:solidFill>
                <a:latin typeface="Arial Black"/>
              </a:rPr>
              <a:t>Кто по профе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2142720"/>
            <a:ext cx="47862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.В. Гого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8"/>
          <p:cNvSpPr/>
          <p:nvPr/>
        </p:nvSpPr>
        <p:spPr>
          <a:xfrm>
            <a:off x="571680" y="3857760"/>
            <a:ext cx="4214520" cy="1857240"/>
          </a:xfrm>
          <a:custGeom>
            <a:avLst/>
            <a:gdLst>
              <a:gd name="textAreaLeft" fmla="*/ 120240 w 4214520"/>
              <a:gd name="textAreaRight" fmla="*/ 4094280 w 4214520"/>
              <a:gd name="textAreaTop" fmla="*/ 120240 h 1857240"/>
              <a:gd name="textAreaBottom" fmla="*/ 1737000 h 1857240"/>
            </a:gdLst>
            <a:ahLst/>
            <a:rect l="textAreaLeft" t="textAreaTop" r="textAreaRight" b="textAreaBottom"/>
            <a:pathLst>
              <a:path w="49010" h="21600">
                <a:moveTo>
                  <a:pt x="0" y="0"/>
                </a:moveTo>
                <a:lnTo>
                  <a:pt x="49010" y="0"/>
                </a:lnTo>
                <a:lnTo>
                  <a:pt x="49010" y="21600"/>
                </a:lnTo>
                <a:lnTo>
                  <a:pt x="0" y="21600"/>
                </a:lnTo>
                <a:close/>
              </a:path>
              <a:path fill="lightenLess" w="49010" h="21600">
                <a:moveTo>
                  <a:pt x="0" y="0"/>
                </a:moveTo>
                <a:lnTo>
                  <a:pt x="49010" y="0"/>
                </a:lnTo>
                <a:lnTo>
                  <a:pt x="47610" y="1400"/>
                </a:lnTo>
                <a:lnTo>
                  <a:pt x="1400" y="1400"/>
                </a:lnTo>
                <a:close/>
              </a:path>
              <a:path fill="darken" w="49010" h="21600">
                <a:moveTo>
                  <a:pt x="49010" y="0"/>
                </a:moveTo>
                <a:lnTo>
                  <a:pt x="49010" y="21600"/>
                </a:lnTo>
                <a:lnTo>
                  <a:pt x="47610" y="20200"/>
                </a:lnTo>
                <a:lnTo>
                  <a:pt x="47610" y="1400"/>
                </a:lnTo>
                <a:close/>
              </a:path>
              <a:path fill="darkenLess" w="49010" h="21600">
                <a:moveTo>
                  <a:pt x="49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10" y="20200"/>
                </a:lnTo>
                <a:close/>
              </a:path>
              <a:path fill="lighten" w="49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нцелярский чинов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департамен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9">
            <a:hlinkClick r:id="rId2" action="ppaction://hlinksldjump"/>
          </p:cNvPr>
          <p:cNvSpPr/>
          <p:nvPr/>
        </p:nvSpPr>
        <p:spPr>
          <a:xfrm>
            <a:off x="810108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Рисунок 1" descr=""/>
          <p:cNvPicPr/>
          <p:nvPr/>
        </p:nvPicPr>
        <p:blipFill>
          <a:blip r:embed="rId3"/>
          <a:stretch/>
        </p:blipFill>
        <p:spPr>
          <a:xfrm>
            <a:off x="5072040" y="2071800"/>
            <a:ext cx="322740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25e0"/>
                </a:solidFill>
                <a:latin typeface="Arial Black"/>
              </a:rPr>
              <a:t>Кто по профе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56760" y="1904760"/>
            <a:ext cx="4643640" cy="11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.С. Грибоед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8"/>
          <p:cNvSpPr/>
          <p:nvPr/>
        </p:nvSpPr>
        <p:spPr>
          <a:xfrm>
            <a:off x="714240" y="4000680"/>
            <a:ext cx="4165560" cy="1773000"/>
          </a:xfrm>
          <a:custGeom>
            <a:avLst/>
            <a:gdLst>
              <a:gd name="textAreaLeft" fmla="*/ 114840 w 4165560"/>
              <a:gd name="textAreaRight" fmla="*/ 4050720 w 4165560"/>
              <a:gd name="textAreaTop" fmla="*/ 114840 h 1773000"/>
              <a:gd name="textAreaBottom" fmla="*/ 1658160 h 1773000"/>
            </a:gdLst>
            <a:ahLst/>
            <a:rect l="textAreaLeft" t="textAreaTop" r="textAreaRight" b="textAreaBottom"/>
            <a:pathLst>
              <a:path w="50742" h="21600">
                <a:moveTo>
                  <a:pt x="0" y="0"/>
                </a:moveTo>
                <a:lnTo>
                  <a:pt x="50742" y="0"/>
                </a:lnTo>
                <a:lnTo>
                  <a:pt x="50742" y="21600"/>
                </a:lnTo>
                <a:lnTo>
                  <a:pt x="0" y="21600"/>
                </a:lnTo>
                <a:close/>
              </a:path>
              <a:path fill="lightenLess" w="50742" h="21600">
                <a:moveTo>
                  <a:pt x="0" y="0"/>
                </a:moveTo>
                <a:lnTo>
                  <a:pt x="50742" y="0"/>
                </a:lnTo>
                <a:lnTo>
                  <a:pt x="49342" y="1400"/>
                </a:lnTo>
                <a:lnTo>
                  <a:pt x="1400" y="1400"/>
                </a:lnTo>
                <a:close/>
              </a:path>
              <a:path fill="darken" w="50742" h="21600">
                <a:moveTo>
                  <a:pt x="50742" y="0"/>
                </a:moveTo>
                <a:lnTo>
                  <a:pt x="50742" y="21600"/>
                </a:lnTo>
                <a:lnTo>
                  <a:pt x="49342" y="20200"/>
                </a:lnTo>
                <a:lnTo>
                  <a:pt x="49342" y="1400"/>
                </a:lnTo>
                <a:close/>
              </a:path>
              <a:path fill="darkenLess" w="50742" h="21600">
                <a:moveTo>
                  <a:pt x="507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342" y="20200"/>
                </a:lnTo>
                <a:close/>
              </a:path>
              <a:path fill="lighten" w="507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лава Русск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ольства в Пер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9">
            <a:hlinkClick r:id="rId2" action="ppaction://hlinksldjump"/>
          </p:cNvPr>
          <p:cNvSpPr/>
          <p:nvPr/>
        </p:nvSpPr>
        <p:spPr>
          <a:xfrm>
            <a:off x="788508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25e0"/>
                </a:solidFill>
                <a:latin typeface="Arial Black"/>
              </a:rPr>
              <a:t>Кто по профе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28760" y="2071800"/>
            <a:ext cx="4643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.М. Карамз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7"/>
          <p:cNvSpPr/>
          <p:nvPr/>
        </p:nvSpPr>
        <p:spPr>
          <a:xfrm>
            <a:off x="500040" y="4929120"/>
            <a:ext cx="3929040" cy="1042920"/>
          </a:xfrm>
          <a:custGeom>
            <a:avLst/>
            <a:gdLst>
              <a:gd name="textAreaLeft" fmla="*/ 67320 w 3929040"/>
              <a:gd name="textAreaRight" fmla="*/ 3861720 w 39290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81354" h="21600">
                <a:moveTo>
                  <a:pt x="0" y="0"/>
                </a:moveTo>
                <a:lnTo>
                  <a:pt x="81354" y="0"/>
                </a:lnTo>
                <a:lnTo>
                  <a:pt x="81354" y="21600"/>
                </a:lnTo>
                <a:lnTo>
                  <a:pt x="0" y="21600"/>
                </a:lnTo>
                <a:close/>
              </a:path>
              <a:path fill="lightenLess" w="81354" h="21600">
                <a:moveTo>
                  <a:pt x="0" y="0"/>
                </a:moveTo>
                <a:lnTo>
                  <a:pt x="81354" y="0"/>
                </a:lnTo>
                <a:lnTo>
                  <a:pt x="79954" y="1400"/>
                </a:lnTo>
                <a:lnTo>
                  <a:pt x="1400" y="1400"/>
                </a:lnTo>
                <a:close/>
              </a:path>
              <a:path fill="darken" w="81354" h="21600">
                <a:moveTo>
                  <a:pt x="81354" y="0"/>
                </a:moveTo>
                <a:lnTo>
                  <a:pt x="81354" y="21600"/>
                </a:lnTo>
                <a:lnTo>
                  <a:pt x="79954" y="20200"/>
                </a:lnTo>
                <a:lnTo>
                  <a:pt x="79954" y="1400"/>
                </a:lnTo>
                <a:close/>
              </a:path>
              <a:path fill="darkenLess" w="81354" h="21600">
                <a:moveTo>
                  <a:pt x="81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954" y="20200"/>
                </a:lnTo>
                <a:close/>
              </a:path>
              <a:path fill="lighten" w="81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вет: истор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8">
            <a:hlinkClick r:id="rId2" action="ppaction://hlinksldjump"/>
          </p:cNvPr>
          <p:cNvSpPr/>
          <p:nvPr/>
        </p:nvSpPr>
        <p:spPr>
          <a:xfrm>
            <a:off x="810108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25e0"/>
                </a:solidFill>
                <a:latin typeface="Arial Black"/>
              </a:rPr>
              <a:t>Кто по профе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9" name="Picture 5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7"/>
          <p:cNvSpPr/>
          <p:nvPr/>
        </p:nvSpPr>
        <p:spPr>
          <a:xfrm>
            <a:off x="285840" y="4643280"/>
            <a:ext cx="4813200" cy="1043280"/>
          </a:xfrm>
          <a:custGeom>
            <a:avLst/>
            <a:gdLst>
              <a:gd name="textAreaLeft" fmla="*/ 67320 w 4813200"/>
              <a:gd name="textAreaRight" fmla="*/ 4745880 w 481320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99625" h="21600">
                <a:moveTo>
                  <a:pt x="0" y="0"/>
                </a:moveTo>
                <a:lnTo>
                  <a:pt x="99625" y="0"/>
                </a:lnTo>
                <a:lnTo>
                  <a:pt x="99625" y="21600"/>
                </a:lnTo>
                <a:lnTo>
                  <a:pt x="0" y="21600"/>
                </a:lnTo>
                <a:close/>
              </a:path>
              <a:path fill="lightenLess" w="99625" h="21600">
                <a:moveTo>
                  <a:pt x="0" y="0"/>
                </a:moveTo>
                <a:lnTo>
                  <a:pt x="99625" y="0"/>
                </a:lnTo>
                <a:lnTo>
                  <a:pt x="98225" y="1400"/>
                </a:lnTo>
                <a:lnTo>
                  <a:pt x="1400" y="1400"/>
                </a:lnTo>
                <a:close/>
              </a:path>
              <a:path fill="darken" w="99625" h="21600">
                <a:moveTo>
                  <a:pt x="99625" y="0"/>
                </a:moveTo>
                <a:lnTo>
                  <a:pt x="99625" y="21600"/>
                </a:lnTo>
                <a:lnTo>
                  <a:pt x="98225" y="20200"/>
                </a:lnTo>
                <a:lnTo>
                  <a:pt x="98225" y="1400"/>
                </a:lnTo>
                <a:close/>
              </a:path>
              <a:path fill="darkenLess" w="99625" h="21600">
                <a:moveTo>
                  <a:pt x="99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225" y="20200"/>
                </a:lnTo>
                <a:close/>
              </a:path>
              <a:path fill="lighten" w="99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вет: вра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785880" y="2133720"/>
            <a:ext cx="335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.П. Чех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9">
            <a:hlinkClick r:id="rId2" action="ppaction://hlinksldjump"/>
          </p:cNvPr>
          <p:cNvSpPr/>
          <p:nvPr/>
        </p:nvSpPr>
        <p:spPr>
          <a:xfrm>
            <a:off x="810108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7"/>
          <p:cNvSpPr/>
          <p:nvPr/>
        </p:nvSpPr>
        <p:spPr>
          <a:xfrm>
            <a:off x="0" y="2997360"/>
            <a:ext cx="399564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дающиеся люди 20 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0" y="3645000"/>
            <a:ext cx="398160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токи професс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0" y="4292640"/>
            <a:ext cx="399564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то по професс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0" y="4937040"/>
            <a:ext cx="400068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бери лишн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47520" y="6345360"/>
            <a:ext cx="399600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токи терминов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0" y="5589720"/>
            <a:ext cx="39956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18"/>
          <p:cNvSpPr txBox="1"/>
          <p:nvPr/>
        </p:nvSpPr>
        <p:spPr>
          <a:xfrm>
            <a:off x="539640" y="404640"/>
            <a:ext cx="7604280" cy="20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2d05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тегории вопросов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2d05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AutoShape 19">
            <a:hlinkClick r:id="rId2" action="ppaction://hlinksldjump"/>
          </p:cNvPr>
          <p:cNvSpPr/>
          <p:nvPr/>
        </p:nvSpPr>
        <p:spPr>
          <a:xfrm>
            <a:off x="4716360" y="3068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20">
            <a:hlinkClick r:id="rId3" action="ppaction://hlinksldjump"/>
          </p:cNvPr>
          <p:cNvSpPr/>
          <p:nvPr/>
        </p:nvSpPr>
        <p:spPr>
          <a:xfrm>
            <a:off x="7380360" y="3068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1">
            <a:hlinkClick r:id="rId4" action="ppaction://hlinksldjump"/>
          </p:cNvPr>
          <p:cNvSpPr/>
          <p:nvPr/>
        </p:nvSpPr>
        <p:spPr>
          <a:xfrm>
            <a:off x="5364000" y="3068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2">
            <a:hlinkClick r:id="rId5" action="ppaction://hlinksldjump"/>
          </p:cNvPr>
          <p:cNvSpPr/>
          <p:nvPr/>
        </p:nvSpPr>
        <p:spPr>
          <a:xfrm>
            <a:off x="6084720" y="3068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3">
            <a:hlinkClick r:id="rId6" action="ppaction://hlinksldjump"/>
          </p:cNvPr>
          <p:cNvSpPr/>
          <p:nvPr/>
        </p:nvSpPr>
        <p:spPr>
          <a:xfrm>
            <a:off x="6732720" y="3068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4">
            <a:hlinkClick r:id="rId7" action="ppaction://hlinksldjump"/>
          </p:cNvPr>
          <p:cNvSpPr/>
          <p:nvPr/>
        </p:nvSpPr>
        <p:spPr>
          <a:xfrm>
            <a:off x="8101080" y="3068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5">
            <a:hlinkClick r:id="rId8" action="ppaction://hlinksldjump"/>
          </p:cNvPr>
          <p:cNvSpPr/>
          <p:nvPr/>
        </p:nvSpPr>
        <p:spPr>
          <a:xfrm>
            <a:off x="8101080" y="364500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6">
            <a:hlinkClick r:id="rId9" action="ppaction://hlinksldjump"/>
          </p:cNvPr>
          <p:cNvSpPr/>
          <p:nvPr/>
        </p:nvSpPr>
        <p:spPr>
          <a:xfrm>
            <a:off x="4716360" y="364500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7">
            <a:hlinkClick r:id="rId10" action="ppaction://hlinksldjump"/>
          </p:cNvPr>
          <p:cNvSpPr/>
          <p:nvPr/>
        </p:nvSpPr>
        <p:spPr>
          <a:xfrm>
            <a:off x="5364000" y="364500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8">
            <a:hlinkClick r:id="rId11" action="ppaction://hlinksldjump"/>
          </p:cNvPr>
          <p:cNvSpPr/>
          <p:nvPr/>
        </p:nvSpPr>
        <p:spPr>
          <a:xfrm>
            <a:off x="6732720" y="364500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9">
            <a:hlinkClick r:id="rId12" action="ppaction://hlinksldjump"/>
          </p:cNvPr>
          <p:cNvSpPr/>
          <p:nvPr/>
        </p:nvSpPr>
        <p:spPr>
          <a:xfrm>
            <a:off x="6084720" y="364500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30">
            <a:hlinkClick r:id="rId13" action="ppaction://hlinksldjump"/>
          </p:cNvPr>
          <p:cNvSpPr/>
          <p:nvPr/>
        </p:nvSpPr>
        <p:spPr>
          <a:xfrm>
            <a:off x="7380360" y="364500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1">
            <a:hlinkClick r:id="rId14" action="ppaction://hlinksldjump"/>
          </p:cNvPr>
          <p:cNvSpPr/>
          <p:nvPr/>
        </p:nvSpPr>
        <p:spPr>
          <a:xfrm>
            <a:off x="8101080" y="4292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2">
            <a:hlinkClick r:id="rId15" action="ppaction://hlinksldjump"/>
          </p:cNvPr>
          <p:cNvSpPr/>
          <p:nvPr/>
        </p:nvSpPr>
        <p:spPr>
          <a:xfrm>
            <a:off x="4716360" y="4292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3">
            <a:hlinkClick r:id="rId16" action="ppaction://hlinksldjump"/>
          </p:cNvPr>
          <p:cNvSpPr/>
          <p:nvPr/>
        </p:nvSpPr>
        <p:spPr>
          <a:xfrm>
            <a:off x="5364000" y="4292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4">
            <a:hlinkClick r:id="rId17" action="ppaction://hlinksldjump"/>
          </p:cNvPr>
          <p:cNvSpPr/>
          <p:nvPr/>
        </p:nvSpPr>
        <p:spPr>
          <a:xfrm>
            <a:off x="6084720" y="4292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5">
            <a:hlinkClick r:id="rId18" action="ppaction://hlinksldjump"/>
          </p:cNvPr>
          <p:cNvSpPr/>
          <p:nvPr/>
        </p:nvSpPr>
        <p:spPr>
          <a:xfrm>
            <a:off x="7380360" y="4292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6">
            <a:hlinkClick r:id="rId19" action="ppaction://hlinksldjump"/>
          </p:cNvPr>
          <p:cNvSpPr/>
          <p:nvPr/>
        </p:nvSpPr>
        <p:spPr>
          <a:xfrm>
            <a:off x="6732720" y="4292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7">
            <a:hlinkClick r:id="rId20" action="ppaction://hlinksldjump"/>
          </p:cNvPr>
          <p:cNvSpPr/>
          <p:nvPr/>
        </p:nvSpPr>
        <p:spPr>
          <a:xfrm>
            <a:off x="8101080" y="486900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8">
            <a:hlinkClick r:id="rId21" action="ppaction://hlinksldjump"/>
          </p:cNvPr>
          <p:cNvSpPr/>
          <p:nvPr/>
        </p:nvSpPr>
        <p:spPr>
          <a:xfrm>
            <a:off x="4716360" y="486900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9">
            <a:hlinkClick r:id="rId22" action="ppaction://hlinksldjump"/>
          </p:cNvPr>
          <p:cNvSpPr/>
          <p:nvPr/>
        </p:nvSpPr>
        <p:spPr>
          <a:xfrm>
            <a:off x="5364000" y="486900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0">
            <a:hlinkClick r:id="rId23" action="ppaction://hlinksldjump"/>
          </p:cNvPr>
          <p:cNvSpPr/>
          <p:nvPr/>
        </p:nvSpPr>
        <p:spPr>
          <a:xfrm>
            <a:off x="6084720" y="486900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1">
            <a:hlinkClick r:id="rId24" action="ppaction://hlinksldjump"/>
          </p:cNvPr>
          <p:cNvSpPr/>
          <p:nvPr/>
        </p:nvSpPr>
        <p:spPr>
          <a:xfrm>
            <a:off x="6732720" y="486900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2">
            <a:hlinkClick r:id="rId25" action="ppaction://hlinksldjump"/>
          </p:cNvPr>
          <p:cNvSpPr/>
          <p:nvPr/>
        </p:nvSpPr>
        <p:spPr>
          <a:xfrm>
            <a:off x="7380360" y="486900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3">
            <a:hlinkClick r:id="rId26" action="ppaction://hlinksldjump"/>
          </p:cNvPr>
          <p:cNvSpPr/>
          <p:nvPr/>
        </p:nvSpPr>
        <p:spPr>
          <a:xfrm>
            <a:off x="8101080" y="5516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4">
            <a:hlinkClick r:id="rId27" action="ppaction://hlinksldjump"/>
          </p:cNvPr>
          <p:cNvSpPr/>
          <p:nvPr/>
        </p:nvSpPr>
        <p:spPr>
          <a:xfrm>
            <a:off x="4716360" y="5516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5">
            <a:hlinkClick r:id="rId28" action="ppaction://hlinksldjump"/>
          </p:cNvPr>
          <p:cNvSpPr/>
          <p:nvPr/>
        </p:nvSpPr>
        <p:spPr>
          <a:xfrm>
            <a:off x="5364000" y="5516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6">
            <a:hlinkClick r:id="rId29" action="ppaction://hlinksldjump"/>
          </p:cNvPr>
          <p:cNvSpPr/>
          <p:nvPr/>
        </p:nvSpPr>
        <p:spPr>
          <a:xfrm>
            <a:off x="6084720" y="551664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7">
            <a:hlinkClick r:id="rId30" action="ppaction://hlinksldjump"/>
          </p:cNvPr>
          <p:cNvSpPr/>
          <p:nvPr/>
        </p:nvSpPr>
        <p:spPr>
          <a:xfrm>
            <a:off x="6732720" y="5516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8">
            <a:hlinkClick r:id="rId31" action="ppaction://hlinksldjump"/>
          </p:cNvPr>
          <p:cNvSpPr/>
          <p:nvPr/>
        </p:nvSpPr>
        <p:spPr>
          <a:xfrm>
            <a:off x="7380360" y="551664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9">
            <a:hlinkClick r:id="rId32" action="ppaction://hlinksldjump"/>
          </p:cNvPr>
          <p:cNvSpPr/>
          <p:nvPr/>
        </p:nvSpPr>
        <p:spPr>
          <a:xfrm>
            <a:off x="8101080" y="6093000"/>
            <a:ext cx="431640" cy="5029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2920"/>
              <a:gd name="textAreaBottom" fmla="*/ 475200 h 50292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lnTo>
                  <a:pt x="21600" y="0"/>
                </a:lnTo>
                <a:lnTo>
                  <a:pt x="21600" y="25164"/>
                </a:lnTo>
                <a:lnTo>
                  <a:pt x="0" y="25164"/>
                </a:lnTo>
                <a:close/>
              </a:path>
              <a:path fill="lightenLess" w="21600" h="251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4">
                <a:moveTo>
                  <a:pt x="21600" y="0"/>
                </a:moveTo>
                <a:lnTo>
                  <a:pt x="21600" y="25164"/>
                </a:lnTo>
                <a:lnTo>
                  <a:pt x="20200" y="23764"/>
                </a:lnTo>
                <a:lnTo>
                  <a:pt x="20200" y="1400"/>
                </a:lnTo>
                <a:close/>
              </a:path>
              <a:path fill="darkenLess" w="21600" h="25164">
                <a:moveTo>
                  <a:pt x="21600" y="25164"/>
                </a:moveTo>
                <a:lnTo>
                  <a:pt x="0" y="25164"/>
                </a:lnTo>
                <a:lnTo>
                  <a:pt x="1400" y="23764"/>
                </a:lnTo>
                <a:lnTo>
                  <a:pt x="20200" y="23764"/>
                </a:lnTo>
                <a:close/>
              </a:path>
              <a:path fill="lighten" w="21600" h="25164">
                <a:moveTo>
                  <a:pt x="0" y="251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4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50">
            <a:hlinkClick r:id="rId33" action="ppaction://hlinksldjump"/>
          </p:cNvPr>
          <p:cNvSpPr/>
          <p:nvPr/>
        </p:nvSpPr>
        <p:spPr>
          <a:xfrm>
            <a:off x="4716360" y="6093000"/>
            <a:ext cx="432000" cy="50292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2920"/>
              <a:gd name="textAreaBottom" fmla="*/ 475200 h 502920"/>
            </a:gdLst>
            <a:ahLst/>
            <a:rect l="textAreaLeft" t="textAreaTop" r="textAreaRight" b="textAreaBottom"/>
            <a:pathLst>
              <a:path w="21600" h="25143">
                <a:moveTo>
                  <a:pt x="0" y="0"/>
                </a:moveTo>
                <a:lnTo>
                  <a:pt x="21600" y="0"/>
                </a:lnTo>
                <a:lnTo>
                  <a:pt x="21600" y="25143"/>
                </a:lnTo>
                <a:lnTo>
                  <a:pt x="0" y="25143"/>
                </a:lnTo>
                <a:close/>
              </a:path>
              <a:path fill="lightenLess" w="21600" h="25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43">
                <a:moveTo>
                  <a:pt x="21600" y="0"/>
                </a:moveTo>
                <a:lnTo>
                  <a:pt x="21600" y="25143"/>
                </a:lnTo>
                <a:lnTo>
                  <a:pt x="20200" y="23743"/>
                </a:lnTo>
                <a:lnTo>
                  <a:pt x="20200" y="1400"/>
                </a:lnTo>
                <a:close/>
              </a:path>
              <a:path fill="darkenLess" w="21600" h="25143">
                <a:moveTo>
                  <a:pt x="21600" y="25143"/>
                </a:moveTo>
                <a:lnTo>
                  <a:pt x="0" y="25143"/>
                </a:lnTo>
                <a:lnTo>
                  <a:pt x="1400" y="23743"/>
                </a:lnTo>
                <a:lnTo>
                  <a:pt x="20200" y="23743"/>
                </a:lnTo>
                <a:close/>
              </a:path>
              <a:path fill="lighten" w="21600" h="25143">
                <a:moveTo>
                  <a:pt x="0" y="25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4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51">
            <a:hlinkClick r:id="rId34" action="ppaction://hlinksldjump"/>
          </p:cNvPr>
          <p:cNvSpPr/>
          <p:nvPr/>
        </p:nvSpPr>
        <p:spPr>
          <a:xfrm>
            <a:off x="5364000" y="6093000"/>
            <a:ext cx="432000" cy="50292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2920"/>
              <a:gd name="textAreaBottom" fmla="*/ 475200 h 502920"/>
            </a:gdLst>
            <a:ahLst/>
            <a:rect l="textAreaLeft" t="textAreaTop" r="textAreaRight" b="textAreaBottom"/>
            <a:pathLst>
              <a:path w="21600" h="25143">
                <a:moveTo>
                  <a:pt x="0" y="0"/>
                </a:moveTo>
                <a:lnTo>
                  <a:pt x="21600" y="0"/>
                </a:lnTo>
                <a:lnTo>
                  <a:pt x="21600" y="25143"/>
                </a:lnTo>
                <a:lnTo>
                  <a:pt x="0" y="25143"/>
                </a:lnTo>
                <a:close/>
              </a:path>
              <a:path fill="lightenLess" w="21600" h="25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43">
                <a:moveTo>
                  <a:pt x="21600" y="0"/>
                </a:moveTo>
                <a:lnTo>
                  <a:pt x="21600" y="25143"/>
                </a:lnTo>
                <a:lnTo>
                  <a:pt x="20200" y="23743"/>
                </a:lnTo>
                <a:lnTo>
                  <a:pt x="20200" y="1400"/>
                </a:lnTo>
                <a:close/>
              </a:path>
              <a:path fill="darkenLess" w="21600" h="25143">
                <a:moveTo>
                  <a:pt x="21600" y="25143"/>
                </a:moveTo>
                <a:lnTo>
                  <a:pt x="0" y="25143"/>
                </a:lnTo>
                <a:lnTo>
                  <a:pt x="1400" y="23743"/>
                </a:lnTo>
                <a:lnTo>
                  <a:pt x="20200" y="23743"/>
                </a:lnTo>
                <a:close/>
              </a:path>
              <a:path fill="lighten" w="21600" h="25143">
                <a:moveTo>
                  <a:pt x="0" y="25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4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52">
            <a:hlinkClick r:id="rId35" action="ppaction://hlinksldjump"/>
          </p:cNvPr>
          <p:cNvSpPr/>
          <p:nvPr/>
        </p:nvSpPr>
        <p:spPr>
          <a:xfrm>
            <a:off x="6084720" y="6093000"/>
            <a:ext cx="432000" cy="50292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2920"/>
              <a:gd name="textAreaBottom" fmla="*/ 475200 h 502920"/>
            </a:gdLst>
            <a:ahLst/>
            <a:rect l="textAreaLeft" t="textAreaTop" r="textAreaRight" b="textAreaBottom"/>
            <a:pathLst>
              <a:path w="21600" h="25143">
                <a:moveTo>
                  <a:pt x="0" y="0"/>
                </a:moveTo>
                <a:lnTo>
                  <a:pt x="21600" y="0"/>
                </a:lnTo>
                <a:lnTo>
                  <a:pt x="21600" y="25143"/>
                </a:lnTo>
                <a:lnTo>
                  <a:pt x="0" y="25143"/>
                </a:lnTo>
                <a:close/>
              </a:path>
              <a:path fill="lightenLess" w="21600" h="25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43">
                <a:moveTo>
                  <a:pt x="21600" y="0"/>
                </a:moveTo>
                <a:lnTo>
                  <a:pt x="21600" y="25143"/>
                </a:lnTo>
                <a:lnTo>
                  <a:pt x="20200" y="23743"/>
                </a:lnTo>
                <a:lnTo>
                  <a:pt x="20200" y="1400"/>
                </a:lnTo>
                <a:close/>
              </a:path>
              <a:path fill="darkenLess" w="21600" h="25143">
                <a:moveTo>
                  <a:pt x="21600" y="25143"/>
                </a:moveTo>
                <a:lnTo>
                  <a:pt x="0" y="25143"/>
                </a:lnTo>
                <a:lnTo>
                  <a:pt x="1400" y="23743"/>
                </a:lnTo>
                <a:lnTo>
                  <a:pt x="20200" y="23743"/>
                </a:lnTo>
                <a:close/>
              </a:path>
              <a:path fill="lighten" w="21600" h="25143">
                <a:moveTo>
                  <a:pt x="0" y="25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4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53">
            <a:hlinkClick r:id="rId36" action="ppaction://hlinksldjump"/>
          </p:cNvPr>
          <p:cNvSpPr/>
          <p:nvPr/>
        </p:nvSpPr>
        <p:spPr>
          <a:xfrm>
            <a:off x="6732720" y="6093000"/>
            <a:ext cx="431640" cy="5029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2920"/>
              <a:gd name="textAreaBottom" fmla="*/ 475200 h 50292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lnTo>
                  <a:pt x="21600" y="0"/>
                </a:lnTo>
                <a:lnTo>
                  <a:pt x="21600" y="25164"/>
                </a:lnTo>
                <a:lnTo>
                  <a:pt x="0" y="25164"/>
                </a:lnTo>
                <a:close/>
              </a:path>
              <a:path fill="lightenLess" w="21600" h="251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4">
                <a:moveTo>
                  <a:pt x="21600" y="0"/>
                </a:moveTo>
                <a:lnTo>
                  <a:pt x="21600" y="25164"/>
                </a:lnTo>
                <a:lnTo>
                  <a:pt x="20200" y="23764"/>
                </a:lnTo>
                <a:lnTo>
                  <a:pt x="20200" y="1400"/>
                </a:lnTo>
                <a:close/>
              </a:path>
              <a:path fill="darkenLess" w="21600" h="25164">
                <a:moveTo>
                  <a:pt x="21600" y="25164"/>
                </a:moveTo>
                <a:lnTo>
                  <a:pt x="0" y="25164"/>
                </a:lnTo>
                <a:lnTo>
                  <a:pt x="1400" y="23764"/>
                </a:lnTo>
                <a:lnTo>
                  <a:pt x="20200" y="23764"/>
                </a:lnTo>
                <a:close/>
              </a:path>
              <a:path fill="lighten" w="21600" h="25164">
                <a:moveTo>
                  <a:pt x="0" y="251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4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4">
            <a:hlinkClick r:id="rId37" action="ppaction://hlinksldjump"/>
          </p:cNvPr>
          <p:cNvSpPr/>
          <p:nvPr/>
        </p:nvSpPr>
        <p:spPr>
          <a:xfrm>
            <a:off x="7380360" y="6093000"/>
            <a:ext cx="431640" cy="5029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2920"/>
              <a:gd name="textAreaBottom" fmla="*/ 475200 h 50292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lnTo>
                  <a:pt x="21600" y="0"/>
                </a:lnTo>
                <a:lnTo>
                  <a:pt x="21600" y="25164"/>
                </a:lnTo>
                <a:lnTo>
                  <a:pt x="0" y="25164"/>
                </a:lnTo>
                <a:close/>
              </a:path>
              <a:path fill="lightenLess" w="21600" h="251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4">
                <a:moveTo>
                  <a:pt x="21600" y="0"/>
                </a:moveTo>
                <a:lnTo>
                  <a:pt x="21600" y="25164"/>
                </a:lnTo>
                <a:lnTo>
                  <a:pt x="20200" y="23764"/>
                </a:lnTo>
                <a:lnTo>
                  <a:pt x="20200" y="1400"/>
                </a:lnTo>
                <a:close/>
              </a:path>
              <a:path fill="darkenLess" w="21600" h="25164">
                <a:moveTo>
                  <a:pt x="21600" y="25164"/>
                </a:moveTo>
                <a:lnTo>
                  <a:pt x="0" y="25164"/>
                </a:lnTo>
                <a:lnTo>
                  <a:pt x="1400" y="23764"/>
                </a:lnTo>
                <a:lnTo>
                  <a:pt x="20200" y="23764"/>
                </a:lnTo>
                <a:close/>
              </a:path>
              <a:path fill="lighten" w="21600" h="25164">
                <a:moveTo>
                  <a:pt x="0" y="251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4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25e0"/>
                </a:solidFill>
                <a:latin typeface="Arial Black"/>
              </a:rPr>
              <a:t>Кто по профе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0040" y="2071440"/>
            <a:ext cx="3952800" cy="12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. Шекспи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8"/>
          <p:cNvSpPr/>
          <p:nvPr/>
        </p:nvSpPr>
        <p:spPr>
          <a:xfrm>
            <a:off x="857160" y="4929120"/>
            <a:ext cx="4599000" cy="1042920"/>
          </a:xfrm>
          <a:custGeom>
            <a:avLst/>
            <a:gdLst>
              <a:gd name="textAreaLeft" fmla="*/ 67320 w 4599000"/>
              <a:gd name="textAreaRight" fmla="*/ 4531680 w 4599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95225" h="21600">
                <a:moveTo>
                  <a:pt x="0" y="0"/>
                </a:moveTo>
                <a:lnTo>
                  <a:pt x="95225" y="0"/>
                </a:lnTo>
                <a:lnTo>
                  <a:pt x="95225" y="21600"/>
                </a:lnTo>
                <a:lnTo>
                  <a:pt x="0" y="21600"/>
                </a:lnTo>
                <a:close/>
              </a:path>
              <a:path fill="lightenLess" w="95225" h="21600">
                <a:moveTo>
                  <a:pt x="0" y="0"/>
                </a:moveTo>
                <a:lnTo>
                  <a:pt x="95225" y="0"/>
                </a:lnTo>
                <a:lnTo>
                  <a:pt x="93825" y="1400"/>
                </a:lnTo>
                <a:lnTo>
                  <a:pt x="1400" y="1400"/>
                </a:lnTo>
                <a:close/>
              </a:path>
              <a:path fill="darken" w="95225" h="21600">
                <a:moveTo>
                  <a:pt x="95225" y="0"/>
                </a:moveTo>
                <a:lnTo>
                  <a:pt x="95225" y="21600"/>
                </a:lnTo>
                <a:lnTo>
                  <a:pt x="93825" y="20200"/>
                </a:lnTo>
                <a:lnTo>
                  <a:pt x="93825" y="1400"/>
                </a:lnTo>
                <a:close/>
              </a:path>
              <a:path fill="darkenLess" w="95225" h="21600">
                <a:moveTo>
                  <a:pt x="952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825" y="20200"/>
                </a:lnTo>
                <a:close/>
              </a:path>
              <a:path fill="lighten" w="952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вет: ак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9">
            <a:hlinkClick r:id="rId2" action="ppaction://hlinksldjump"/>
          </p:cNvPr>
          <p:cNvSpPr/>
          <p:nvPr/>
        </p:nvSpPr>
        <p:spPr>
          <a:xfrm>
            <a:off x="810108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Убери лишне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09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Слеса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Тока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Тка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Сборщ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Фрезеровщ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55640" y="5877000"/>
            <a:ext cx="7201080" cy="79056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ка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9" descr="AG00054_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Убери лишне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09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Чесальщ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Прядильщ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Валяльщ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Крановщ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Ткачи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971640" y="5734080"/>
            <a:ext cx="691200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новщи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5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AG00054_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210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AG00054_"/>
          <p:cNvPicPr/>
          <p:nvPr/>
        </p:nvPicPr>
        <p:blipFill>
          <a:blip r:embed="rId3"/>
          <a:stretch/>
        </p:blipFill>
        <p:spPr>
          <a:xfrm>
            <a:off x="0" y="1413000"/>
            <a:ext cx="9144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Убери лишне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021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5e0"/>
                </a:solidFill>
                <a:latin typeface="Arial"/>
              </a:rPr>
              <a:t>Муком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5e0"/>
                </a:solidFill>
                <a:latin typeface="Arial"/>
              </a:rPr>
              <a:t>Конд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5e0"/>
                </a:solidFill>
                <a:latin typeface="Arial"/>
              </a:rPr>
              <a:t>Пека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5e0"/>
                </a:solidFill>
                <a:latin typeface="Arial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5e0"/>
                </a:solidFill>
                <a:latin typeface="Arial"/>
              </a:rPr>
              <a:t>Техн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042920" y="5589720"/>
            <a:ext cx="684216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6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8" descr="AG00054_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Убери лишне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Дизай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Модель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Конструк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Закройщ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Слеса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900000" y="5661000"/>
            <a:ext cx="705672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есар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6" descr="AG00054_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Убери лишне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086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Комбай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Трактор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Окул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Агро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5e0"/>
                </a:solidFill>
                <a:latin typeface="Arial"/>
              </a:rPr>
              <a:t>Меха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900000" y="5734080"/>
            <a:ext cx="705672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ули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5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11" descr="AG00054_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0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213920" y="1905120"/>
            <a:ext cx="635796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МОЕТСЕТС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0080" y="5084640"/>
            <a:ext cx="68580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Arial"/>
              </a:rPr>
              <a:t>Ответ: тестоме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11"/>
          <p:cNvGrpSpPr/>
          <p:nvPr/>
        </p:nvGrpSpPr>
        <p:grpSpPr>
          <a:xfrm>
            <a:off x="539640" y="189000"/>
            <a:ext cx="8137800" cy="1368360"/>
            <a:chOff x="539640" y="189000"/>
            <a:chExt cx="8137800" cy="1368360"/>
          </a:xfrm>
        </p:grpSpPr>
        <p:sp>
          <p:nvSpPr>
            <p:cNvPr id="267" name="Oval 12">
              <a:hlinkClick r:id="rId1" action="ppaction://hlinksldjump"/>
            </p:cNvPr>
            <p:cNvSpPr/>
            <p:nvPr/>
          </p:nvSpPr>
          <p:spPr>
            <a:xfrm>
              <a:off x="539640" y="189000"/>
              <a:ext cx="151308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8" name="Picture 13" descr="AG00053_"/>
            <p:cNvPicPr/>
            <p:nvPr/>
          </p:nvPicPr>
          <p:blipFill>
            <a:blip r:embed="rId2"/>
            <a:stretch/>
          </p:blipFill>
          <p:spPr>
            <a:xfrm>
              <a:off x="1908000" y="1413000"/>
              <a:ext cx="676944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WordArt 14"/>
            <p:cNvSpPr txBox="1"/>
            <p:nvPr/>
          </p:nvSpPr>
          <p:spPr>
            <a:xfrm>
              <a:off x="2071800" y="428760"/>
              <a:ext cx="61434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Анаграммы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270" name="Picture 5" descr="AG00129_"/>
          <p:cNvPicPr/>
          <p:nvPr/>
        </p:nvPicPr>
        <p:blipFill>
          <a:blip r:embed="rId3"/>
          <a:stretch/>
        </p:blipFill>
        <p:spPr>
          <a:xfrm>
            <a:off x="539640" y="189000"/>
            <a:ext cx="1584360" cy="136836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16">
            <a:hlinkClick r:id="rId4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57160" y="2205000"/>
            <a:ext cx="778680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ТИОКРЕД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5560" y="4500360"/>
            <a:ext cx="515628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025e0"/>
                </a:solidFill>
                <a:latin typeface="Arial"/>
              </a:rPr>
              <a:t>Ответ: конди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8"/>
          <p:cNvGrpSpPr/>
          <p:nvPr/>
        </p:nvGrpSpPr>
        <p:grpSpPr>
          <a:xfrm>
            <a:off x="468360" y="260280"/>
            <a:ext cx="8137080" cy="1368360"/>
            <a:chOff x="468360" y="260280"/>
            <a:chExt cx="8137080" cy="1368360"/>
          </a:xfrm>
        </p:grpSpPr>
        <p:sp>
          <p:nvSpPr>
            <p:cNvPr id="275" name="Oval 9">
              <a:hlinkClick r:id="rId1" action="ppaction://hlinksldjump"/>
            </p:cNvPr>
            <p:cNvSpPr/>
            <p:nvPr/>
          </p:nvSpPr>
          <p:spPr>
            <a:xfrm>
              <a:off x="468360" y="260280"/>
              <a:ext cx="151272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6" name="Picture 10" descr="AG00053_"/>
            <p:cNvPicPr/>
            <p:nvPr/>
          </p:nvPicPr>
          <p:blipFill>
            <a:blip r:embed="rId2"/>
            <a:stretch/>
          </p:blipFill>
          <p:spPr>
            <a:xfrm>
              <a:off x="1836360" y="1484280"/>
              <a:ext cx="67690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WordArt 11"/>
            <p:cNvSpPr txBox="1"/>
            <p:nvPr/>
          </p:nvSpPr>
          <p:spPr>
            <a:xfrm>
              <a:off x="2773080" y="547560"/>
              <a:ext cx="439236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Анаграмма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278" name="Picture 5" descr="AG00129_"/>
          <p:cNvPicPr/>
          <p:nvPr/>
        </p:nvPicPr>
        <p:blipFill>
          <a:blip r:embed="rId3"/>
          <a:stretch/>
        </p:blipFill>
        <p:spPr>
          <a:xfrm>
            <a:off x="468360" y="260280"/>
            <a:ext cx="1511280" cy="14400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14">
            <a:hlinkClick r:id="rId4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714320" y="2060280"/>
            <a:ext cx="6375240" cy="19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ЙИДРЕАЗ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26920" y="5373360"/>
            <a:ext cx="5016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Ответ: дизайн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8"/>
          <p:cNvGrpSpPr/>
          <p:nvPr/>
        </p:nvGrpSpPr>
        <p:grpSpPr>
          <a:xfrm>
            <a:off x="468360" y="260280"/>
            <a:ext cx="8137080" cy="1368360"/>
            <a:chOff x="468360" y="260280"/>
            <a:chExt cx="8137080" cy="1368360"/>
          </a:xfrm>
        </p:grpSpPr>
        <p:sp>
          <p:nvSpPr>
            <p:cNvPr id="283" name="Oval 9">
              <a:hlinkClick r:id="rId1" action="ppaction://hlinksldjump"/>
            </p:cNvPr>
            <p:cNvSpPr/>
            <p:nvPr/>
          </p:nvSpPr>
          <p:spPr>
            <a:xfrm>
              <a:off x="468360" y="260280"/>
              <a:ext cx="151272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4" name="Picture 10" descr="AG00053_"/>
            <p:cNvPicPr/>
            <p:nvPr/>
          </p:nvPicPr>
          <p:blipFill>
            <a:blip r:embed="rId2"/>
            <a:stretch/>
          </p:blipFill>
          <p:spPr>
            <a:xfrm>
              <a:off x="1836360" y="1484280"/>
              <a:ext cx="67690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WordArt 11"/>
            <p:cNvSpPr txBox="1"/>
            <p:nvPr/>
          </p:nvSpPr>
          <p:spPr>
            <a:xfrm>
              <a:off x="2773080" y="547560"/>
              <a:ext cx="439236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аНАГРАММА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286" name="Picture 5" descr="AG00129_"/>
          <p:cNvPicPr/>
          <p:nvPr/>
        </p:nvPicPr>
        <p:blipFill>
          <a:blip r:embed="rId3"/>
          <a:stretch/>
        </p:blipFill>
        <p:spPr>
          <a:xfrm>
            <a:off x="395280" y="260280"/>
            <a:ext cx="1584360" cy="144000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12">
            <a:hlinkClick r:id="rId4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916360" y="2060280"/>
            <a:ext cx="5078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ГОКЭЛ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771640" y="5445000"/>
            <a:ext cx="45864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Ответ: эколо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Group 8"/>
          <p:cNvGrpSpPr/>
          <p:nvPr/>
        </p:nvGrpSpPr>
        <p:grpSpPr>
          <a:xfrm>
            <a:off x="468360" y="260280"/>
            <a:ext cx="8137080" cy="1368360"/>
            <a:chOff x="468360" y="260280"/>
            <a:chExt cx="8137080" cy="1368360"/>
          </a:xfrm>
        </p:grpSpPr>
        <p:sp>
          <p:nvSpPr>
            <p:cNvPr id="291" name="Oval 9">
              <a:hlinkClick r:id="rId1" action="ppaction://hlinksldjump"/>
            </p:cNvPr>
            <p:cNvSpPr/>
            <p:nvPr/>
          </p:nvSpPr>
          <p:spPr>
            <a:xfrm>
              <a:off x="468360" y="260280"/>
              <a:ext cx="151272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2" name="Picture 10" descr="AG00053_"/>
            <p:cNvPicPr/>
            <p:nvPr/>
          </p:nvPicPr>
          <p:blipFill>
            <a:blip r:embed="rId2"/>
            <a:stretch/>
          </p:blipFill>
          <p:spPr>
            <a:xfrm>
              <a:off x="1836360" y="1484280"/>
              <a:ext cx="67690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WordArt 11"/>
            <p:cNvSpPr txBox="1"/>
            <p:nvPr/>
          </p:nvSpPr>
          <p:spPr>
            <a:xfrm>
              <a:off x="2773080" y="547560"/>
              <a:ext cx="439236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Анаграмма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294" name="Picture 5" descr="AG00129_"/>
          <p:cNvPicPr/>
          <p:nvPr/>
        </p:nvPicPr>
        <p:blipFill>
          <a:blip r:embed="rId3"/>
          <a:stretch/>
        </p:blipFill>
        <p:spPr>
          <a:xfrm>
            <a:off x="468360" y="260280"/>
            <a:ext cx="1511280" cy="136836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14">
            <a:hlinkClick r:id="rId4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Выдающиеся люди 20 век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143320" y="1785960"/>
            <a:ext cx="357156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ильям Генр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ейтс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8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9" descr="AG00117_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bill"/>
          <p:cNvPicPr/>
          <p:nvPr/>
        </p:nvPicPr>
        <p:blipFill>
          <a:blip r:embed="rId3"/>
          <a:stretch/>
        </p:blipFill>
        <p:spPr>
          <a:xfrm>
            <a:off x="500040" y="1500120"/>
            <a:ext cx="35719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85840" y="1904760"/>
            <a:ext cx="8572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УБОДОЛЬЗРЕИС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85920" y="5444640"/>
            <a:ext cx="6572160" cy="7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Ответ: бульдозери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468360" y="260280"/>
            <a:ext cx="8137080" cy="1368360"/>
            <a:chOff x="468360" y="260280"/>
            <a:chExt cx="8137080" cy="1368360"/>
          </a:xfrm>
        </p:grpSpPr>
        <p:sp>
          <p:nvSpPr>
            <p:cNvPr id="299" name="Oval 9">
              <a:hlinkClick r:id="rId1" action="ppaction://hlinksldjump"/>
            </p:cNvPr>
            <p:cNvSpPr/>
            <p:nvPr/>
          </p:nvSpPr>
          <p:spPr>
            <a:xfrm>
              <a:off x="468360" y="260280"/>
              <a:ext cx="151272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0" name="Picture 10" descr="AG00053_"/>
            <p:cNvPicPr/>
            <p:nvPr/>
          </p:nvPicPr>
          <p:blipFill>
            <a:blip r:embed="rId2"/>
            <a:stretch/>
          </p:blipFill>
          <p:spPr>
            <a:xfrm>
              <a:off x="1836360" y="1484280"/>
              <a:ext cx="67690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WordArt 11"/>
            <p:cNvSpPr txBox="1"/>
            <p:nvPr/>
          </p:nvSpPr>
          <p:spPr>
            <a:xfrm>
              <a:off x="2773080" y="547560"/>
              <a:ext cx="439236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Анаграмма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302" name="Picture 5" descr="AG00129_"/>
          <p:cNvPicPr/>
          <p:nvPr/>
        </p:nvPicPr>
        <p:blipFill>
          <a:blip r:embed="rId3"/>
          <a:stretch/>
        </p:blipFill>
        <p:spPr>
          <a:xfrm>
            <a:off x="468360" y="260280"/>
            <a:ext cx="1511280" cy="136836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12">
            <a:hlinkClick r:id="rId4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2123640" y="1916280"/>
            <a:ext cx="6735960" cy="20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АЛМЯ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Group 12"/>
          <p:cNvGrpSpPr/>
          <p:nvPr/>
        </p:nvGrpSpPr>
        <p:grpSpPr>
          <a:xfrm>
            <a:off x="468360" y="260280"/>
            <a:ext cx="8137080" cy="1368360"/>
            <a:chOff x="468360" y="260280"/>
            <a:chExt cx="8137080" cy="1368360"/>
          </a:xfrm>
        </p:grpSpPr>
        <p:sp>
          <p:nvSpPr>
            <p:cNvPr id="306" name="Oval 13">
              <a:hlinkClick r:id="rId1" action="ppaction://hlinksldjump"/>
            </p:cNvPr>
            <p:cNvSpPr/>
            <p:nvPr/>
          </p:nvSpPr>
          <p:spPr>
            <a:xfrm>
              <a:off x="468360" y="260280"/>
              <a:ext cx="1512720" cy="136836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7" name="Picture 14" descr="AG00053_"/>
            <p:cNvPicPr/>
            <p:nvPr/>
          </p:nvPicPr>
          <p:blipFill>
            <a:blip r:embed="rId2"/>
            <a:stretch/>
          </p:blipFill>
          <p:spPr>
            <a:xfrm>
              <a:off x="1836360" y="1484280"/>
              <a:ext cx="67690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WordArt 15"/>
            <p:cNvSpPr txBox="1"/>
            <p:nvPr/>
          </p:nvSpPr>
          <p:spPr>
            <a:xfrm>
              <a:off x="2773080" y="547560"/>
              <a:ext cx="439236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Анаграмма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309" name="Picture 9" descr="AG00129_"/>
          <p:cNvPicPr/>
          <p:nvPr/>
        </p:nvPicPr>
        <p:blipFill>
          <a:blip r:embed="rId3"/>
          <a:stretch/>
        </p:blipFill>
        <p:spPr>
          <a:xfrm>
            <a:off x="395280" y="260280"/>
            <a:ext cx="1584360" cy="136836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16">
            <a:hlinkClick r:id="rId4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000160" y="5516280"/>
            <a:ext cx="58579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Ответ: маля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Знаток термин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ъединение сходных профессий в группы по какому-либо признаку- это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ff66"/>
                </a:solidFill>
                <a:uFillTx/>
                <a:latin typeface="Times New Roman"/>
              </a:rPr>
              <a:t>1. 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1" action="ppaction://hlinksldjump"/>
              </a:rPr>
              <a:t>Типология професс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ff66"/>
                </a:solidFill>
                <a:uFillTx/>
                <a:latin typeface="Times New Roman"/>
              </a:rPr>
              <a:t>2. 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2" action="ppaction://hlinksldjump"/>
              </a:rPr>
              <a:t>Систематизация професс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ff66"/>
                </a:solidFill>
                <a:uFillTx/>
                <a:latin typeface="Times New Roman"/>
              </a:rPr>
              <a:t>3. 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3" action="ppaction://hlinksldjump"/>
              </a:rPr>
              <a:t>Классификация професс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ff66"/>
                </a:solidFill>
                <a:uFillTx/>
                <a:latin typeface="Times New Roman"/>
              </a:rPr>
              <a:t>4. 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4" action="ppaction://hlinksldjump"/>
              </a:rPr>
              <a:t>Схематизация 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5" action="ppaction://hlinksldjump"/>
              </a:rPr>
              <a:t>професс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94920" y="6093000"/>
            <a:ext cx="680868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твет: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Классификация професс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6" descr="AG00046_"/>
          <p:cNvPicPr/>
          <p:nvPr/>
        </p:nvPicPr>
        <p:blipFill>
          <a:blip r:embed="rId6"/>
          <a:stretch/>
        </p:blipFill>
        <p:spPr>
          <a:xfrm>
            <a:off x="0" y="112536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7">
            <a:hlinkClick r:id="rId7" action="ppaction://hlinksldjump"/>
          </p:cNvPr>
          <p:cNvSpPr/>
          <p:nvPr/>
        </p:nvSpPr>
        <p:spPr>
          <a:xfrm>
            <a:off x="8101080" y="580536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7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наток терминов</a:t>
            </a: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Для того, чтобы люди находили … в своей работе, необходимы три условия: работа должна быть им по силам, она не должна быть изнуряющей и ей обязательно должен сопутствовать успех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жон Реск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1" action="ppaction://hlinksldjump"/>
              </a:rPr>
              <a:t>1. 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2" action="ppaction://hlinksldjump"/>
              </a:rPr>
              <a:t>Удач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aff1a"/>
                </a:solidFill>
                <a:uFillTx/>
                <a:latin typeface="Times New Roman"/>
              </a:rPr>
              <a:t>2. Р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3" action="ppaction://hlinksldjump"/>
              </a:rPr>
              <a:t>азочар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aff1a"/>
                </a:solidFill>
                <a:uFillTx/>
                <a:latin typeface="Times New Roman"/>
              </a:rPr>
              <a:t>3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4" action="ppaction://hlinksldjump"/>
              </a:rPr>
              <a:t>. 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5" action="ppaction://hlinksldjump"/>
              </a:rPr>
              <a:t>Счасть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aff1a"/>
                </a:solidFill>
                <a:uFillTx/>
                <a:latin typeface="Times New Roman"/>
              </a:rPr>
              <a:t>4. Г</a:t>
            </a:r>
            <a:r>
              <a:rPr b="0" lang="ru-RU" sz="4000" spc="-1" strike="noStrike" u="sng">
                <a:solidFill>
                  <a:srgbClr val="99ff66"/>
                </a:solidFill>
                <a:uFillTx/>
                <a:latin typeface="Times New Roman"/>
                <a:hlinkClick r:id="rId6" action="ppaction://hlinksldjump"/>
              </a:rPr>
              <a:t>о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042560" y="6021000"/>
            <a:ext cx="5977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Ответ: счаст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6" descr="AG00046_"/>
          <p:cNvPicPr/>
          <p:nvPr/>
        </p:nvPicPr>
        <p:blipFill>
          <a:blip r:embed="rId7"/>
          <a:stretch/>
        </p:blipFill>
        <p:spPr>
          <a:xfrm>
            <a:off x="0" y="98100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7">
            <a:hlinkClick r:id="rId8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Знатоки термин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ставьте слово: «… - деятельность человека, направленная на создание общественно полезного результата, товаров и услуг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aff1a"/>
                </a:solidFill>
                <a:uFillTx/>
                <a:latin typeface="Times New Roman"/>
              </a:rPr>
              <a:t>1. </a:t>
            </a:r>
            <a:r>
              <a:rPr b="0" lang="ru-RU" sz="3600" spc="-1" strike="noStrike" u="sng">
                <a:solidFill>
                  <a:srgbClr val="99ff66"/>
                </a:solidFill>
                <a:uFillTx/>
                <a:latin typeface="Times New Roman"/>
                <a:hlinkClick r:id="rId1" action="ppaction://hlinksldjump"/>
              </a:rPr>
              <a:t>Приз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aff1a"/>
                </a:solidFill>
                <a:uFillTx/>
                <a:latin typeface="Times New Roman"/>
              </a:rPr>
              <a:t>2. </a:t>
            </a:r>
            <a:r>
              <a:rPr b="0" lang="ru-RU" sz="3600" spc="-1" strike="noStrike" u="sng">
                <a:solidFill>
                  <a:srgbClr val="99ff66"/>
                </a:solidFill>
                <a:uFillTx/>
                <a:latin typeface="Times New Roman"/>
                <a:hlinkClick r:id="rId2" action="ppaction://hlinksldjump"/>
              </a:rPr>
              <a:t>Професс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aff1a"/>
                </a:solidFill>
                <a:uFillTx/>
                <a:latin typeface="Times New Roman"/>
              </a:rPr>
              <a:t>3</a:t>
            </a:r>
            <a:r>
              <a:rPr b="0" lang="ru-RU" sz="3600" spc="-1" strike="noStrike" u="sng">
                <a:solidFill>
                  <a:srgbClr val="99ff66"/>
                </a:solidFill>
                <a:uFillTx/>
                <a:latin typeface="Times New Roman"/>
                <a:hlinkClick r:id="rId3" action="ppaction://hlinksldjump"/>
              </a:rPr>
              <a:t>. Тр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aff1a"/>
                </a:solidFill>
                <a:uFillTx/>
                <a:latin typeface="Times New Roman"/>
              </a:rPr>
              <a:t>4. </a:t>
            </a:r>
            <a:r>
              <a:rPr b="0" lang="ru-RU" sz="3600" spc="-1" strike="noStrike" u="sng">
                <a:solidFill>
                  <a:srgbClr val="99ff66"/>
                </a:solidFill>
                <a:uFillTx/>
                <a:latin typeface="Times New Roman"/>
                <a:hlinkClick r:id="rId4" action="ppaction://hlinksldjump"/>
              </a:rPr>
              <a:t>Уче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9" descr="AG00046_"/>
          <p:cNvPicPr/>
          <p:nvPr/>
        </p:nvPicPr>
        <p:blipFill>
          <a:blip r:embed="rId5"/>
          <a:stretch/>
        </p:blipFill>
        <p:spPr>
          <a:xfrm>
            <a:off x="0" y="1268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0">
            <a:hlinkClick r:id="rId6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3357720" y="5929200"/>
            <a:ext cx="4392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Ответ: Тр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Знатоки термин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85840" y="1557000"/>
            <a:ext cx="885816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щий или развернутый перечень требований, предъявляемых данной профессией, специальностью или должностью к человеку называ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aff1a"/>
                </a:solidFill>
                <a:uFillTx/>
                <a:latin typeface="Times New Roman"/>
              </a:rPr>
              <a:t>1. Профописа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aff1a"/>
                </a:solidFill>
                <a:uFillTx/>
                <a:latin typeface="Times New Roman"/>
              </a:rPr>
              <a:t>2. Диаграмм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aff1a"/>
                </a:solidFill>
                <a:uFillTx/>
                <a:latin typeface="Times New Roman"/>
              </a:rPr>
              <a:t>3. Профессиограмм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aff1a"/>
                </a:solidFill>
                <a:uFillTx/>
                <a:latin typeface="Times New Roman"/>
              </a:rPr>
              <a:t>4. Профориент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571400" y="6072120"/>
            <a:ext cx="590364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твет: Профессиограм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6" descr="AG00046_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7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Знатоки термин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71080" y="1643040"/>
            <a:ext cx="90867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щий или развернутый перечень требований, предъявляемых данной профессией, специальностью или должностью к человеку называ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66"/>
                </a:solidFill>
                <a:uFillTx/>
                <a:latin typeface="Times New Roman"/>
              </a:rPr>
              <a:t>1. Профописа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66"/>
                </a:solidFill>
                <a:uFillTx/>
                <a:latin typeface="Times New Roman"/>
              </a:rPr>
              <a:t>2. Диаграм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66"/>
                </a:solidFill>
                <a:uFillTx/>
                <a:latin typeface="Times New Roman"/>
              </a:rPr>
              <a:t>3. Профессиограм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66"/>
                </a:solidFill>
                <a:uFillTx/>
                <a:latin typeface="Times New Roman"/>
              </a:rPr>
              <a:t>4. Профориентац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042560" y="5950080"/>
            <a:ext cx="62658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твет: Профессиограм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6" descr="AG00046_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7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Знатоки термин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ставьте пропущенное слово: «Мы всегда начинаем больше … людей после того, как попробуем делать их работу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илыш Фед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aff1a"/>
                </a:solidFill>
                <a:uFillTx/>
                <a:latin typeface="Times New Roman"/>
              </a:rPr>
              <a:t>1. Уваж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aff1a"/>
                </a:solidFill>
                <a:uFillTx/>
                <a:latin typeface="Times New Roman"/>
              </a:rPr>
              <a:t>2. Люб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aff1a"/>
                </a:solidFill>
                <a:uFillTx/>
                <a:latin typeface="Times New Roman"/>
              </a:rPr>
              <a:t>3. Поним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aff1a"/>
                </a:solidFill>
                <a:uFillTx/>
                <a:latin typeface="Times New Roman"/>
              </a:rPr>
              <a:t>4. Презир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43160" y="5857560"/>
            <a:ext cx="4464000" cy="5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Ответ: уваж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11" descr="AG00046_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12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5840" y="244440"/>
            <a:ext cx="8556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 Black"/>
              </a:rPr>
              <a:t>      </a:t>
            </a: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Выдающиеся люди 20 век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57880" y="2499840"/>
            <a:ext cx="30002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абриэл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Шан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8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9" descr="AG00117_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chanel-1"/>
          <p:cNvPicPr/>
          <p:nvPr/>
        </p:nvPicPr>
        <p:blipFill>
          <a:blip r:embed="rId3"/>
          <a:stretch/>
        </p:blipFill>
        <p:spPr>
          <a:xfrm>
            <a:off x="500040" y="1643040"/>
            <a:ext cx="40006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Выдающиеся люди 20 век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5715000" y="2428920"/>
            <a:ext cx="25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ол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исн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1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2" descr="AG00117_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disney"/>
          <p:cNvPicPr/>
          <p:nvPr/>
        </p:nvPicPr>
        <p:blipFill>
          <a:blip r:embed="rId3"/>
          <a:stretch/>
        </p:blipFill>
        <p:spPr>
          <a:xfrm>
            <a:off x="571680" y="1714680"/>
            <a:ext cx="38574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Выдающиеся люди 20 век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28840" y="2499840"/>
            <a:ext cx="2521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о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й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6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8" descr="AG00117_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klimin_1_s"/>
          <p:cNvPicPr/>
          <p:nvPr/>
        </p:nvPicPr>
        <p:blipFill>
          <a:blip r:embed="rId3"/>
          <a:stretch/>
        </p:blipFill>
        <p:spPr>
          <a:xfrm>
            <a:off x="285840" y="1682640"/>
            <a:ext cx="528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Выдающиеся люди 20 век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57880" y="3428640"/>
            <a:ext cx="35179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Ген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Фор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7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AG00117_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" descr=""/>
          <p:cNvPicPr/>
          <p:nvPr/>
        </p:nvPicPr>
        <p:blipFill>
          <a:blip r:embed="rId3"/>
          <a:stretch/>
        </p:blipFill>
        <p:spPr>
          <a:xfrm>
            <a:off x="714240" y="1571760"/>
            <a:ext cx="37148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2934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Выдающиеся люди 20 век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71480" y="5651280"/>
            <a:ext cx="431964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: А. Эйнштей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" descr="AG00117_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3"/>
          <a:stretch/>
        </p:blipFill>
        <p:spPr>
          <a:xfrm>
            <a:off x="1143000" y="1714680"/>
            <a:ext cx="51436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 Black"/>
              </a:rPr>
              <a:t>Знатоки професс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6121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                   – 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деловой человек, предприниматель,  лицо занимающееся собственным бизнесом, имеющее свое дело в целях получения прибыли или иной выг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9" descr="AG00098_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0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Прямоугольник 2" descr=""/>
          <p:cNvPicPr/>
          <p:nvPr/>
        </p:nvPicPr>
        <p:blipFill>
          <a:blip r:embed="rId3"/>
          <a:stretch/>
        </p:blipFill>
        <p:spPr>
          <a:xfrm>
            <a:off x="103320" y="1908000"/>
            <a:ext cx="2889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1:28:32Z</dcterms:created>
  <dc:creator>Антонова М.Н.</dc:creator>
  <dc:description/>
  <dc:language>en-US</dc:language>
  <cp:lastModifiedBy>309</cp:lastModifiedBy>
  <dcterms:modified xsi:type="dcterms:W3CDTF">2022-02-13T11:33:01Z</dcterms:modified>
  <cp:revision>69</cp:revision>
  <dc:subject>Правильное питание</dc:subject>
  <dc:title>Игротека</dc:title>
</cp:coreProperties>
</file>