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4DB-AC38-4C9C-B073-5C3A1CFE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8E8-1CC2-4FFF-8B0C-D56963DF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AFD-674F-49EB-B50B-E6B22A1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0AC-6C62-4F5F-972A-388DCD35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C941-9F3B-4DB7-8675-9FFD675F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45F2-96C2-476F-BD0B-B3B09D64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B714-26D9-4C8A-BF3F-E116D783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F1F6-445B-4B0D-8204-ABB076A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B6D6-7309-478D-9B33-8DC0AA19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3A0-B6D6-4D37-B786-80C6F22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1310-178D-4163-9427-FDC2AE7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476-1F5F-4694-88E5-D1D6BCC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AFD6-501B-4ABD-9FD1-6160421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378B-3FE5-4FA6-ACC8-D3E68FAF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A63F-93E2-4EBB-ADF7-CB9FD52F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D81B-61BF-4CE9-8F47-AA3DB068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6EB1-2A7A-44DA-8B78-3F270AD2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0CCE-CA37-4F1C-8BAC-624DBB39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C5F4-431B-4BFB-9178-FA3EF595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A6C4-A552-4D9E-9A1A-9B05460E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06DA-CED7-456E-AC13-F55C2880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0EE4-08C9-434B-BC0E-BEB7EDD3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BF1-0AE6-40F6-9A35-4EC82786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F7D1-49C9-450C-8600-B94D23FD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5769-C682-4863-9095-0DEDD9D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19E3-C4B5-4F28-A149-4E31591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60F3-5CCB-4E16-B6B1-EDE0A1B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3631-8E76-4DA5-9245-BB70AC86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1E07-C1CD-4F20-BB5A-93D7ABD3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5C43-26F2-43E4-8F95-2CE498B7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33E1-0D48-4773-85D1-7F4A773D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7B8E-E798-435E-A88B-CEBCC80A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DC84-D0B5-477C-8CF3-28DCB90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F82-A535-46C7-9E89-FF1C3689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08E8-7F3D-4B0C-87D8-AD2D1CB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5895-E4DF-45D7-8231-BF8DBEAF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525B-99D3-4063-A27E-4BD50C5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1201-92D2-4AD7-B98C-E88FF270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D6FA-32FF-4A9E-9845-EEC0FFC1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E12B-E399-4F49-BAEF-E572A0EA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375C-BE64-4358-8574-A14CB21F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3CC0-AF65-48F1-8A25-4FBA1C32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21009-272C-4D67-9028-5B9036F1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6C4-E788-4123-8A0B-4C543A2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2BD-632D-4EDD-8A71-079F9C3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D75-1242-490F-84D2-03DA491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38A-25EE-4848-A44D-B1777FD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B99-5FB5-4F54-8A24-1DB41E54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FE3-59DA-4080-86C5-14CD8376EAF3}" type="slidenum">
              <a:rPr b="0" lang="ru-RU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741-4FA4-4AF8-A65F-18B7F8B5C27C}" type="slidenum">
              <a:rPr b="0" lang="ru-RU" sz="36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D4E5-D9F5-4505-8E9E-BFDB3E9CCD42}" type="slidenum">
              <a:rPr b="0" lang="ru-RU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112935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1E3B-1B55-403D-AC54-756B11D37CFF}" type="slidenum">
              <a:rPr b="0" lang="ru-RU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2880" y="1081080"/>
            <a:ext cx="11464920" cy="27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Century Schoolbook"/>
              </a:rPr>
              <a:t>Успенская церковь </a:t>
            </a:r>
            <a:br>
              <a:rPr sz="6500"/>
            </a:br>
            <a:r>
              <a:rPr b="0" lang="ru-RU" sz="6500" spc="-1" strike="noStrike">
                <a:solidFill>
                  <a:srgbClr val="ffffff"/>
                </a:solidFill>
                <a:latin typeface="Century Schoolbook"/>
              </a:rPr>
              <a:t>                      села Космозеро</a:t>
            </a:r>
            <a:endParaRPr b="0" lang="en-US" sz="6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705200" y="5756040"/>
            <a:ext cx="739296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Выполнили: </a:t>
            </a:r>
            <a:r>
              <a:rPr b="0" lang="ru-RU" sz="2400" spc="-1" strike="noStrike">
                <a:solidFill>
                  <a:srgbClr val="edf1e7"/>
                </a:solidFill>
                <a:latin typeface="Century Schoolbook"/>
              </a:rPr>
              <a:t>Шулепин Захар</a:t>
            </a: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 и </a:t>
            </a:r>
            <a:r>
              <a:rPr b="0" lang="ru-RU" sz="2400" spc="-1" strike="noStrike">
                <a:solidFill>
                  <a:srgbClr val="edf1e7"/>
                </a:solidFill>
                <a:latin typeface="Century Schoolbook"/>
              </a:rPr>
              <a:t>Неверов Матвей</a:t>
            </a: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учащиеся МАОУ «школа №22», 4 А класса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1320840" y="344520"/>
            <a:ext cx="11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d9d9"/>
                </a:solidFill>
                <a:latin typeface="Century Schoolbook"/>
              </a:rPr>
              <a:t>Проект по окружающему миру: «Макет русской церкви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2" descr="Картинки по запросу Успенская церковь с.Космозеро"/>
          <p:cNvPicPr/>
          <p:nvPr/>
        </p:nvPicPr>
        <p:blipFill>
          <a:blip r:embed="rId1"/>
          <a:stretch/>
        </p:blipFill>
        <p:spPr>
          <a:xfrm>
            <a:off x="1320840" y="3278160"/>
            <a:ext cx="2538360" cy="34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36640" y="225360"/>
            <a:ext cx="55069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365040" y="1170000"/>
            <a:ext cx="3057480" cy="54356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2"/>
          <a:stretch/>
        </p:blipFill>
        <p:spPr>
          <a:xfrm>
            <a:off x="4040280" y="1170000"/>
            <a:ext cx="3057480" cy="54356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"/>
          <p:cNvPicPr/>
          <p:nvPr/>
        </p:nvPicPr>
        <p:blipFill>
          <a:blip r:embed="rId3"/>
          <a:stretch/>
        </p:blipFill>
        <p:spPr>
          <a:xfrm>
            <a:off x="7662960" y="1170000"/>
            <a:ext cx="30574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67160" y="193680"/>
            <a:ext cx="523224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РАБОТА ГОТОВ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4" name="Объект 3" descr=""/>
          <p:cNvPicPr/>
          <p:nvPr/>
        </p:nvPicPr>
        <p:blipFill>
          <a:blip r:embed="rId1"/>
          <a:stretch/>
        </p:blipFill>
        <p:spPr>
          <a:xfrm>
            <a:off x="3608280" y="1197000"/>
            <a:ext cx="3056040" cy="54324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"/>
          <p:cNvPicPr/>
          <p:nvPr/>
        </p:nvPicPr>
        <p:blipFill>
          <a:blip r:embed="rId2"/>
          <a:stretch/>
        </p:blipFill>
        <p:spPr>
          <a:xfrm>
            <a:off x="603360" y="1197000"/>
            <a:ext cx="2404800" cy="5432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3"/>
          <a:stretch/>
        </p:blipFill>
        <p:spPr>
          <a:xfrm>
            <a:off x="7262640" y="1197000"/>
            <a:ext cx="34848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1293560" cy="51292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5"/>
          <p:cNvSpPr/>
          <p:nvPr/>
        </p:nvSpPr>
        <p:spPr>
          <a:xfrm>
            <a:off x="0" y="5129280"/>
            <a:ext cx="11293560" cy="1728720"/>
          </a:xfrm>
          <a:prstGeom prst="rect">
            <a:avLst/>
          </a:prstGeom>
          <a:solidFill>
            <a:srgbClr val="353537"/>
          </a:solidFill>
          <a:ln w="1404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8120" y="5673600"/>
            <a:ext cx="51339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1800" y="364680"/>
            <a:ext cx="96915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2160" y="13442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зучить архитектуру русских церквей 18-19 веков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6" name="Picture 2" descr="Картинки по запросу архитектура русских церквей"/>
          <p:cNvPicPr/>
          <p:nvPr/>
        </p:nvPicPr>
        <p:blipFill>
          <a:blip r:embed="rId1"/>
          <a:stretch/>
        </p:blipFill>
        <p:spPr>
          <a:xfrm>
            <a:off x="2021040" y="1727280"/>
            <a:ext cx="3073320" cy="4727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Картинки по запросу архитектура русских церквей"/>
          <p:cNvPicPr/>
          <p:nvPr/>
        </p:nvPicPr>
        <p:blipFill>
          <a:blip r:embed="rId2"/>
          <a:stretch/>
        </p:blipFill>
        <p:spPr>
          <a:xfrm>
            <a:off x="5638680" y="1731960"/>
            <a:ext cx="3510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6520" y="365040"/>
            <a:ext cx="29397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8920" y="1297080"/>
            <a:ext cx="10794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иллюстрации, рисунки, фотографии с видами русских церкв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етить храм, посмотреть его устройств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историю создания Успенской церкви с. Космозер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обрать материал для изготов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кета Успенской церкви (деревян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пажки, фольга, проволок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думать этапы изготовления маке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бор и представление готовой работ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Picture 2" descr="Картинки по запросу архитектура русских церквей"/>
          <p:cNvPicPr/>
          <p:nvPr/>
        </p:nvPicPr>
        <p:blipFill>
          <a:blip r:embed="rId1"/>
          <a:stretch/>
        </p:blipFill>
        <p:spPr>
          <a:xfrm>
            <a:off x="6966000" y="35244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86120" y="390240"/>
            <a:ext cx="29671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Ы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38120" y="1734840"/>
            <a:ext cx="4896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литературы, интернет-источник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Picture 4" descr="Картинки по запросу успенская церковь из спичек космозеро"/>
          <p:cNvPicPr/>
          <p:nvPr/>
        </p:nvPicPr>
        <p:blipFill>
          <a:blip r:embed="rId1"/>
          <a:stretch/>
        </p:blipFill>
        <p:spPr>
          <a:xfrm>
            <a:off x="6626160" y="1662120"/>
            <a:ext cx="3095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1800" y="212760"/>
            <a:ext cx="969156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БАЗА ИССЛЕДОВАНИЯ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5120" y="115380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сские церкви, построенные в 18-19 век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6" name="Picture 2" descr="Картинки по запросу русские церкви 18 века"/>
          <p:cNvPicPr/>
          <p:nvPr/>
        </p:nvPicPr>
        <p:blipFill>
          <a:blip r:embed="rId1"/>
          <a:stretch/>
        </p:blipFill>
        <p:spPr>
          <a:xfrm>
            <a:off x="306360" y="4211640"/>
            <a:ext cx="1911240" cy="25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Картинки по запросу русские церкви 18 века"/>
          <p:cNvPicPr/>
          <p:nvPr/>
        </p:nvPicPr>
        <p:blipFill>
          <a:blip r:embed="rId2"/>
          <a:stretch/>
        </p:blipFill>
        <p:spPr>
          <a:xfrm>
            <a:off x="2306520" y="2611440"/>
            <a:ext cx="30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артинки по запросу русские церкви 18 века"/>
          <p:cNvPicPr/>
          <p:nvPr/>
        </p:nvPicPr>
        <p:blipFill>
          <a:blip r:embed="rId3"/>
          <a:stretch/>
        </p:blipFill>
        <p:spPr>
          <a:xfrm>
            <a:off x="5424480" y="4152960"/>
            <a:ext cx="3133800" cy="2604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Картинки по запросу русские церкви 18 века"/>
          <p:cNvPicPr/>
          <p:nvPr/>
        </p:nvPicPr>
        <p:blipFill>
          <a:blip r:embed="rId4"/>
          <a:stretch/>
        </p:blipFill>
        <p:spPr>
          <a:xfrm>
            <a:off x="5424480" y="1728720"/>
            <a:ext cx="3133800" cy="2351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Картинки по запросу русские церкви 18 века"/>
          <p:cNvPicPr/>
          <p:nvPr/>
        </p:nvPicPr>
        <p:blipFill>
          <a:blip r:embed="rId5"/>
          <a:stretch/>
        </p:blipFill>
        <p:spPr>
          <a:xfrm>
            <a:off x="8621640" y="1730520"/>
            <a:ext cx="2476440" cy="2352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Картинки по запросу русские церкви 18 века"/>
          <p:cNvPicPr/>
          <p:nvPr/>
        </p:nvPicPr>
        <p:blipFill>
          <a:blip r:embed="rId6"/>
          <a:stretch/>
        </p:blipFill>
        <p:spPr>
          <a:xfrm>
            <a:off x="306360" y="1728720"/>
            <a:ext cx="1911240" cy="2355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Картинки по запросу русские церкви 18 века"/>
          <p:cNvPicPr/>
          <p:nvPr/>
        </p:nvPicPr>
        <p:blipFill>
          <a:blip r:embed="rId7"/>
          <a:stretch/>
        </p:blipFill>
        <p:spPr>
          <a:xfrm>
            <a:off x="8628120" y="4183200"/>
            <a:ext cx="24699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17400" y="85680"/>
            <a:ext cx="46767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095960" y="1266480"/>
            <a:ext cx="40910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началу XVIII века относят создание одного из красивейших в республике Карелии в Заонежье возле Онежского озера церковного архитектурного ансамбля, включавшего зимнюю Успенскую церковь (1720г), летнюю, тоже шатровую церковь Александра Свирского (1770г), в 30-е гг. XIXв. появилась колоколь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5" name="Рисунок 5" descr=""/>
          <p:cNvPicPr/>
          <p:nvPr/>
        </p:nvPicPr>
        <p:blipFill>
          <a:blip r:embed="rId1"/>
          <a:stretch/>
        </p:blipFill>
        <p:spPr>
          <a:xfrm>
            <a:off x="1058760" y="1165320"/>
            <a:ext cx="41133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" descr=""/>
          <p:cNvPicPr/>
          <p:nvPr/>
        </p:nvPicPr>
        <p:blipFill>
          <a:blip r:embed="rId1"/>
          <a:stretch/>
        </p:blipFill>
        <p:spPr>
          <a:xfrm>
            <a:off x="6486480" y="4145040"/>
            <a:ext cx="4640400" cy="252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97360" y="84240"/>
            <a:ext cx="45288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9440" y="1015920"/>
            <a:ext cx="10910880" cy="55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дьба Космозера и его церквей была непрост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ремя финской оккупации в этом крупном селе находился концлагерь, откуда мало кто возвращался. В 1942г. сгорели церковь Александра Свирского и колокольня. С того времени сохранилась Успенская церковь (1720г) со стройным шатром, стоящим на сравнительно невысоком восьмиграннике. Эти сооружения составляли стройный комплекс, который по силе эмоциональн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действия мог соперничать с самыми известными архитектурными ансамблями Севе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 церкви по своей архитекту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адлежали к храмам типа восьмер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четверике, получившем широко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ространение в России начи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семнадцатого 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7" descr=""/>
          <p:cNvPicPr/>
          <p:nvPr/>
        </p:nvPicPr>
        <p:blipFill>
          <a:blip r:embed="rId1"/>
          <a:stretch/>
        </p:blipFill>
        <p:spPr>
          <a:xfrm>
            <a:off x="79200" y="3079800"/>
            <a:ext cx="3167280" cy="36511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"/>
          <p:cNvPicPr/>
          <p:nvPr/>
        </p:nvPicPr>
        <p:blipFill>
          <a:blip r:embed="rId2"/>
          <a:stretch/>
        </p:blipFill>
        <p:spPr>
          <a:xfrm>
            <a:off x="3246480" y="3079800"/>
            <a:ext cx="5481720" cy="3647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"/>
          <p:cNvPicPr/>
          <p:nvPr/>
        </p:nvPicPr>
        <p:blipFill>
          <a:blip r:embed="rId3"/>
          <a:stretch/>
        </p:blipFill>
        <p:spPr>
          <a:xfrm>
            <a:off x="8728200" y="3075120"/>
            <a:ext cx="2465280" cy="3647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71320" y="233280"/>
            <a:ext cx="62406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СТОЯЩЕЕ ВРЕМ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6680" y="1117080"/>
            <a:ext cx="1082844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йчас село живо. Здесь сохранился исторический ландшафт с пашнями и сенокосными угодьями. Жилая застройка тоже уникальна – это огромные дома-комплексы с избами и дворами-сараями. Часть из них взята на учет  как памятники архитекту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92080" y="60480"/>
            <a:ext cx="52722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5" name="Объект 3" descr=""/>
          <p:cNvPicPr/>
          <p:nvPr/>
        </p:nvPicPr>
        <p:blipFill>
          <a:blip r:embed="rId1"/>
          <a:stretch/>
        </p:blipFill>
        <p:spPr>
          <a:xfrm>
            <a:off x="401760" y="1068480"/>
            <a:ext cx="4925880" cy="27716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"/>
          <p:cNvPicPr/>
          <p:nvPr/>
        </p:nvPicPr>
        <p:blipFill>
          <a:blip r:embed="rId2"/>
          <a:stretch/>
        </p:blipFill>
        <p:spPr>
          <a:xfrm>
            <a:off x="401760" y="3946680"/>
            <a:ext cx="4932360" cy="27748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"/>
          <p:cNvPicPr/>
          <p:nvPr/>
        </p:nvPicPr>
        <p:blipFill>
          <a:blip r:embed="rId3"/>
          <a:stretch/>
        </p:blipFill>
        <p:spPr>
          <a:xfrm>
            <a:off x="5842080" y="1068480"/>
            <a:ext cx="4925880" cy="2771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8" descr=""/>
          <p:cNvPicPr/>
          <p:nvPr/>
        </p:nvPicPr>
        <p:blipFill>
          <a:blip r:embed="rId4"/>
          <a:stretch/>
        </p:blipFill>
        <p:spPr>
          <a:xfrm>
            <a:off x="5842080" y="3946680"/>
            <a:ext cx="4925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4:24:14Z</dcterms:created>
  <dc:creator>Юля Неверова</dc:creator>
  <dc:description/>
  <dc:language>en-US</dc:language>
  <cp:lastModifiedBy>79159</cp:lastModifiedBy>
  <dcterms:modified xsi:type="dcterms:W3CDTF">2022-02-12T21:58:27Z</dcterms:modified>
  <cp:revision>22</cp:revision>
  <dc:subject/>
  <dc:title>Успенская церковь                        д.Космозеро</dc:title>
</cp:coreProperties>
</file>