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D1699-7484-4B50-AC65-0C3BF6913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61800" y="365040"/>
            <a:ext cx="96915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62160" y="1828440"/>
            <a:ext cx="85946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262160" y="4101480"/>
            <a:ext cx="85946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1FB91-D1A7-44CF-AFC5-74862BC53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61800" y="365040"/>
            <a:ext cx="96915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62160" y="182844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666400" y="182844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262160" y="410148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666400" y="410148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E4199-F8BA-4AC8-8CFA-C587045DF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61800" y="365040"/>
            <a:ext cx="96915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62160" y="1828440"/>
            <a:ext cx="27673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168080" y="1828440"/>
            <a:ext cx="27673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074360" y="1828440"/>
            <a:ext cx="27673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262160" y="4101480"/>
            <a:ext cx="27673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168080" y="4101480"/>
            <a:ext cx="27673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074360" y="4101480"/>
            <a:ext cx="27673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63CE9-90BD-46EC-A984-0F76E8EA3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BF459-20B6-4326-9237-8D3FD67DF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61800" y="365040"/>
            <a:ext cx="96915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62160" y="1828440"/>
            <a:ext cx="859464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CA09F-297F-422F-BE1B-AC320F004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61800" y="365040"/>
            <a:ext cx="96915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62160" y="1828440"/>
            <a:ext cx="85946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7F02D-9E8D-4970-BB32-FBCED13AF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61800" y="365040"/>
            <a:ext cx="96915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62160" y="1828440"/>
            <a:ext cx="41940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666400" y="1828440"/>
            <a:ext cx="41940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3F78F-292D-406A-B204-373975A2E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61800" y="365040"/>
            <a:ext cx="96915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866E4-C71E-4F3F-9E1B-3ACD720D3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261800" y="365040"/>
            <a:ext cx="969156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53C8E-38A5-401E-8B6C-3CCE95DBC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1800" y="365040"/>
            <a:ext cx="96915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62160" y="182844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666400" y="1828440"/>
            <a:ext cx="41940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262160" y="410148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2402E-A32C-44FA-8CC1-D09702490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61800" y="365040"/>
            <a:ext cx="96915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262160" y="1828440"/>
            <a:ext cx="859464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3A94F-480A-4B67-9702-D78FB9D82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61800" y="365040"/>
            <a:ext cx="96915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62160" y="1828440"/>
            <a:ext cx="41940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666400" y="182844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666400" y="410148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EB09D-5605-4569-AF88-93E4816C4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61800" y="365040"/>
            <a:ext cx="96915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62160" y="182844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666400" y="182844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62160" y="4101480"/>
            <a:ext cx="85946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A1EA4-8957-48FF-9DCF-59C52F58C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61800" y="365040"/>
            <a:ext cx="96915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62160" y="1828440"/>
            <a:ext cx="85946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262160" y="4101480"/>
            <a:ext cx="85946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3525B-D0B1-45B7-9921-C5254E1BC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61800" y="365040"/>
            <a:ext cx="96915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62160" y="182844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666400" y="182844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262160" y="410148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666400" y="410148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067C1-A750-42E0-B0D2-D71C4B7A1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61800" y="365040"/>
            <a:ext cx="96915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62160" y="1828440"/>
            <a:ext cx="27673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8080" y="1828440"/>
            <a:ext cx="27673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7074360" y="1828440"/>
            <a:ext cx="27673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262160" y="4101480"/>
            <a:ext cx="27673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4168080" y="4101480"/>
            <a:ext cx="27673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7074360" y="4101480"/>
            <a:ext cx="27673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C9FDC-1F76-4F7C-8EFD-CF50980D2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CAEB34-1B50-4C78-8F9B-E1E8F206B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61800" y="365040"/>
            <a:ext cx="96915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262160" y="1828440"/>
            <a:ext cx="859464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E1FF18-B97A-4CC2-B38B-5A8752F39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61800" y="365040"/>
            <a:ext cx="96915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62160" y="1828440"/>
            <a:ext cx="85946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74AE11-F997-4EE9-A846-8F593D66D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61800" y="365040"/>
            <a:ext cx="96915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62160" y="1828440"/>
            <a:ext cx="41940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666400" y="1828440"/>
            <a:ext cx="41940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88026B-8D4A-44DF-AFCC-C9C45006E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61800" y="365040"/>
            <a:ext cx="96915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857029-2CCC-4CB9-BFF3-1EDDC4BAA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61800" y="365040"/>
            <a:ext cx="96915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62160" y="1828440"/>
            <a:ext cx="85946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DF842-0AAE-4C83-BF0A-86A511F0B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1261800" y="365040"/>
            <a:ext cx="969156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E54724-1FD9-4BBF-993E-3108E107E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61800" y="365040"/>
            <a:ext cx="96915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62160" y="182844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666400" y="1828440"/>
            <a:ext cx="41940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262160" y="410148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96A281-8884-489B-A9C6-9D24118D5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61800" y="365040"/>
            <a:ext cx="96915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62160" y="1828440"/>
            <a:ext cx="41940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666400" y="182844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666400" y="410148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969C72-2567-4548-AFFB-AED1B131B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61800" y="365040"/>
            <a:ext cx="96915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62160" y="182844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666400" y="182844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262160" y="4101480"/>
            <a:ext cx="85946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C62501-ADE3-455D-912F-E1A64220B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61800" y="365040"/>
            <a:ext cx="96915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62160" y="1828440"/>
            <a:ext cx="85946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1262160" y="4101480"/>
            <a:ext cx="85946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FC13D9-E363-4F04-A857-85847B5A8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61800" y="365040"/>
            <a:ext cx="96915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62160" y="182844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666400" y="182844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262160" y="410148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5666400" y="410148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35E33C-8674-43AB-B9EF-2A648E865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61800" y="365040"/>
            <a:ext cx="96915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262160" y="1828440"/>
            <a:ext cx="27673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168080" y="1828440"/>
            <a:ext cx="27673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7074360" y="1828440"/>
            <a:ext cx="27673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1262160" y="4101480"/>
            <a:ext cx="27673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4168080" y="4101480"/>
            <a:ext cx="27673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7074360" y="4101480"/>
            <a:ext cx="27673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28569E-26D7-4D7E-9FD9-66609E669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013CF7-99AE-477B-9886-D8BD9199A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61800" y="365040"/>
            <a:ext cx="96915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1262160" y="1828440"/>
            <a:ext cx="859464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50114A-661F-4DF2-BF79-94B8C6E2C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61800" y="365040"/>
            <a:ext cx="96915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262160" y="1828440"/>
            <a:ext cx="85946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1D1798-6884-4870-BD29-19C0D3CA1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61800" y="365040"/>
            <a:ext cx="96915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62160" y="1828440"/>
            <a:ext cx="41940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666400" y="1828440"/>
            <a:ext cx="41940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700EF-F29A-4264-936F-B3565085A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61800" y="365040"/>
            <a:ext cx="96915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262160" y="1828440"/>
            <a:ext cx="41940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666400" y="1828440"/>
            <a:ext cx="41940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FC5DBE-7A40-4522-AC8D-74ECBDC0E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61800" y="365040"/>
            <a:ext cx="96915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8F0510-B6DA-4FF5-B1E1-D24C509F0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1261800" y="365040"/>
            <a:ext cx="969156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921088-6A1D-4B47-B481-62424249F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61800" y="365040"/>
            <a:ext cx="96915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62160" y="182844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666400" y="1828440"/>
            <a:ext cx="41940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262160" y="410148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0BA7D2-AEDA-43E6-B537-71BA7445A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61800" y="365040"/>
            <a:ext cx="96915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262160" y="1828440"/>
            <a:ext cx="41940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5666400" y="182844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5666400" y="410148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2DC1A6-3F86-4F86-959E-7F5DD754B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61800" y="365040"/>
            <a:ext cx="96915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262160" y="182844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5666400" y="182844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262160" y="4101480"/>
            <a:ext cx="85946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C3888D-61AA-46C8-8D24-332CCECCD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61800" y="365040"/>
            <a:ext cx="96915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62160" y="1828440"/>
            <a:ext cx="85946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1262160" y="4101480"/>
            <a:ext cx="85946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2F32D8-4B8F-49D8-A934-DD0F3F973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261800" y="365040"/>
            <a:ext cx="96915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262160" y="182844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5666400" y="182844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1262160" y="410148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5666400" y="410148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FA12E4-88AF-4DAC-9369-07D2D0819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261800" y="365040"/>
            <a:ext cx="96915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262160" y="1828440"/>
            <a:ext cx="27673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168080" y="1828440"/>
            <a:ext cx="27673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7074360" y="1828440"/>
            <a:ext cx="27673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1262160" y="4101480"/>
            <a:ext cx="27673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4168080" y="4101480"/>
            <a:ext cx="27673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7074360" y="4101480"/>
            <a:ext cx="27673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7F7A3B-AC60-4619-BD4E-E81E2BDA0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61800" y="365040"/>
            <a:ext cx="96915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F2771-D308-4DD9-9ECA-D4D0307C5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261800" y="365040"/>
            <a:ext cx="969156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C4971-8A91-409E-A4E1-FC534256B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61800" y="365040"/>
            <a:ext cx="96915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62160" y="182844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666400" y="1828440"/>
            <a:ext cx="41940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262160" y="410148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713E7-4235-4658-BA63-6EEFD40B8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61800" y="365040"/>
            <a:ext cx="96915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62160" y="1828440"/>
            <a:ext cx="41940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666400" y="182844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666400" y="410148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C79B6-A630-40D4-AAF6-701858C87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61800" y="365040"/>
            <a:ext cx="96915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62160" y="182844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666400" y="1828440"/>
            <a:ext cx="419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262160" y="4101480"/>
            <a:ext cx="85946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E4B5E-8CC5-4868-87C9-B928F6564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11293560" y="0"/>
            <a:ext cx="914400" cy="6858000"/>
          </a:xfrm>
          <a:prstGeom prst="rect">
            <a:avLst/>
          </a:prstGeom>
          <a:solidFill>
            <a:srgbClr val="3535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261800" y="365040"/>
            <a:ext cx="96915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Schoolboo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62160" y="1828440"/>
            <a:ext cx="85946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6f6f7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45720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6f6f7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73008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6f6f7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00476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6f6f7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27944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6f6f7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27944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27944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16200000">
            <a:off x="10798200" y="998640"/>
            <a:ext cx="1905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d9d9d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d9d9db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16200000">
            <a:off x="9959760" y="4046400"/>
            <a:ext cx="3581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11293560" y="6171840"/>
            <a:ext cx="914400" cy="593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3600" spc="-1" strike="noStrike">
                <a:solidFill>
                  <a:srgbClr val="8e8e94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08012-C367-40B2-995E-CE7FBE23436E}" type="slidenum">
              <a:rPr b="0" lang="ru-RU" sz="3600" spc="-1" strike="noStrike">
                <a:solidFill>
                  <a:srgbClr val="8e8e94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353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6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6f6f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61800" y="365040"/>
            <a:ext cx="96915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Schoolboo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262160" y="1828440"/>
            <a:ext cx="85946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6f6f7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45720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6f6f7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73008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6f6f7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00476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6f6f7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27944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6f6f7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27944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27944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 rot="16200000">
            <a:off x="10798200" y="998640"/>
            <a:ext cx="1905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 rot="16200000">
            <a:off x="9959760" y="4046400"/>
            <a:ext cx="3581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11293560" y="6171840"/>
            <a:ext cx="914400" cy="593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36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C7E8E-548E-462C-A413-8A21FF7E81E6}" type="slidenum">
              <a:rPr b="0" lang="ru-RU" sz="3600" spc="-1" strike="noStrike">
                <a:solidFill>
                  <a:srgbClr val="a6a6a6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6"/>
          <p:cNvSpPr/>
          <p:nvPr/>
        </p:nvSpPr>
        <p:spPr>
          <a:xfrm>
            <a:off x="11293560" y="0"/>
            <a:ext cx="914400" cy="6858000"/>
          </a:xfrm>
          <a:prstGeom prst="rect">
            <a:avLst/>
          </a:prstGeom>
          <a:solidFill>
            <a:srgbClr val="3535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6f6f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61800" y="365040"/>
            <a:ext cx="96915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Schoolboo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1262160" y="1828440"/>
            <a:ext cx="85946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6f6f7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45720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6f6f7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73008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6f6f7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00476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6f6f7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27944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6f6f7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27944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27944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 rot="16200000">
            <a:off x="10798200" y="998640"/>
            <a:ext cx="1905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d9d9d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d9d9db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 rot="16200000">
            <a:off x="9959760" y="4046400"/>
            <a:ext cx="3581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11293560" y="6171840"/>
            <a:ext cx="914400" cy="593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3600" spc="-1" strike="noStrike">
                <a:solidFill>
                  <a:srgbClr val="8e8e94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DAB49-18DC-42EF-B531-3ED5C159CB1A}" type="slidenum">
              <a:rPr b="0" lang="ru-RU" sz="3600" spc="-1" strike="noStrike">
                <a:solidFill>
                  <a:srgbClr val="8e8e94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6"/>
          <p:cNvSpPr/>
          <p:nvPr/>
        </p:nvSpPr>
        <p:spPr>
          <a:xfrm>
            <a:off x="11293560" y="0"/>
            <a:ext cx="914400" cy="6858000"/>
          </a:xfrm>
          <a:prstGeom prst="rect">
            <a:avLst/>
          </a:prstGeom>
          <a:solidFill>
            <a:srgbClr val="3535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8" name="Rectangle 7"/>
          <p:cNvSpPr/>
          <p:nvPr/>
        </p:nvSpPr>
        <p:spPr>
          <a:xfrm>
            <a:off x="0" y="5105520"/>
            <a:ext cx="11293560" cy="1752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61800" y="365040"/>
            <a:ext cx="96915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Schoolboo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1262160" y="1828440"/>
            <a:ext cx="85946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6f6f7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45720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6f6f7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73008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6f6f7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00476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6f6f7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27944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6f6f7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27944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27944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 rot="16200000">
            <a:off x="10798200" y="998640"/>
            <a:ext cx="1905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d9d9d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d9d9db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 rot="16200000">
            <a:off x="9959760" y="4046400"/>
            <a:ext cx="3581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11293560" y="6171840"/>
            <a:ext cx="914400" cy="593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3600" spc="-1" strike="noStrike">
                <a:solidFill>
                  <a:srgbClr val="8e8e94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6E9B4-26CB-405D-8A06-3DA8902EBC98}" type="slidenum">
              <a:rPr b="0" lang="ru-RU" sz="3600" spc="-1" strike="noStrike">
                <a:solidFill>
                  <a:srgbClr val="8e8e94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32880" y="1081080"/>
            <a:ext cx="11464920" cy="27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500" spc="-1" strike="noStrike">
                <a:solidFill>
                  <a:srgbClr val="ffffff"/>
                </a:solidFill>
                <a:latin typeface="Century Schoolbook"/>
              </a:rPr>
              <a:t>Успенская церковь </a:t>
            </a:r>
            <a:br>
              <a:rPr sz="6500"/>
            </a:br>
            <a:r>
              <a:rPr b="0" lang="ru-RU" sz="6500" spc="-1" strike="noStrike">
                <a:solidFill>
                  <a:srgbClr val="ffffff"/>
                </a:solidFill>
                <a:latin typeface="Century Schoolbook"/>
              </a:rPr>
              <a:t>                      села Космозеро</a:t>
            </a:r>
            <a:endParaRPr b="0" lang="en-US" sz="65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4705200" y="5756040"/>
            <a:ext cx="7392960" cy="94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bfbfbf"/>
                </a:solidFill>
                <a:latin typeface="Century Schoolbook"/>
              </a:rPr>
              <a:t>Выполнили: </a:t>
            </a:r>
            <a:r>
              <a:rPr b="0" lang="ru-RU" sz="2400" spc="-1" strike="noStrike">
                <a:solidFill>
                  <a:srgbClr val="edf1e7"/>
                </a:solidFill>
                <a:latin typeface="Century Schoolbook"/>
              </a:rPr>
              <a:t>Шулепин Захар</a:t>
            </a:r>
            <a:r>
              <a:rPr b="0" lang="ru-RU" sz="2400" spc="-1" strike="noStrike">
                <a:solidFill>
                  <a:srgbClr val="bfbfbf"/>
                </a:solidFill>
                <a:latin typeface="Century Schoolbook"/>
              </a:rPr>
              <a:t> и </a:t>
            </a:r>
            <a:r>
              <a:rPr b="0" lang="ru-RU" sz="2400" spc="-1" strike="noStrike">
                <a:solidFill>
                  <a:srgbClr val="edf1e7"/>
                </a:solidFill>
                <a:latin typeface="Century Schoolbook"/>
              </a:rPr>
              <a:t>Неверов Матвей</a:t>
            </a:r>
            <a:r>
              <a:rPr b="0" lang="ru-RU" sz="2400" spc="-1" strike="noStrike">
                <a:solidFill>
                  <a:srgbClr val="bfbfbf"/>
                </a:solidFill>
                <a:latin typeface="Century Schoolbook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bfbfbf"/>
                </a:solidFill>
                <a:latin typeface="Century Schoolbook"/>
              </a:rPr>
              <a:t>         </a:t>
            </a:r>
            <a:r>
              <a:rPr b="0" lang="ru-RU" sz="2400" spc="-1" strike="noStrike">
                <a:solidFill>
                  <a:srgbClr val="bfbfbf"/>
                </a:solidFill>
                <a:latin typeface="Century Schoolbook"/>
              </a:rPr>
              <a:t>учащиеся МАОУ «школа №22», 4 А класса.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72" name="TextBox 3"/>
          <p:cNvSpPr/>
          <p:nvPr/>
        </p:nvSpPr>
        <p:spPr>
          <a:xfrm>
            <a:off x="1320840" y="344520"/>
            <a:ext cx="1135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9d9d9"/>
                </a:solidFill>
                <a:latin typeface="Century Schoolbook"/>
              </a:rPr>
              <a:t>Проект по окружающему миру: «Макет русской церкви»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173" name="Picture 2" descr="Картинки по запросу Успенская церковь с.Космозеро"/>
          <p:cNvPicPr/>
          <p:nvPr/>
        </p:nvPicPr>
        <p:blipFill>
          <a:blip r:embed="rId1"/>
          <a:stretch/>
        </p:blipFill>
        <p:spPr>
          <a:xfrm>
            <a:off x="1320840" y="3278160"/>
            <a:ext cx="2538360" cy="341964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2636640" y="225360"/>
            <a:ext cx="550692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entury Schoolbook"/>
              </a:rPr>
              <a:t>ЭТАПЫ РАБОТЫ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210" name="Объект 3" descr=""/>
          <p:cNvPicPr/>
          <p:nvPr/>
        </p:nvPicPr>
        <p:blipFill>
          <a:blip r:embed="rId1"/>
          <a:stretch/>
        </p:blipFill>
        <p:spPr>
          <a:xfrm>
            <a:off x="365040" y="1170000"/>
            <a:ext cx="3057480" cy="5435640"/>
          </a:xfrm>
          <a:prstGeom prst="rect">
            <a:avLst/>
          </a:prstGeom>
          <a:ln w="0">
            <a:noFill/>
          </a:ln>
        </p:spPr>
      </p:pic>
      <p:pic>
        <p:nvPicPr>
          <p:cNvPr id="211" name="Рисунок 4" descr=""/>
          <p:cNvPicPr/>
          <p:nvPr/>
        </p:nvPicPr>
        <p:blipFill>
          <a:blip r:embed="rId2"/>
          <a:stretch/>
        </p:blipFill>
        <p:spPr>
          <a:xfrm>
            <a:off x="4040280" y="1170000"/>
            <a:ext cx="3057480" cy="5435640"/>
          </a:xfrm>
          <a:prstGeom prst="rect">
            <a:avLst/>
          </a:prstGeom>
          <a:ln w="0">
            <a:noFill/>
          </a:ln>
        </p:spPr>
      </p:pic>
      <p:pic>
        <p:nvPicPr>
          <p:cNvPr id="212" name="Рисунок 5" descr=""/>
          <p:cNvPicPr/>
          <p:nvPr/>
        </p:nvPicPr>
        <p:blipFill>
          <a:blip r:embed="rId3"/>
          <a:stretch/>
        </p:blipFill>
        <p:spPr>
          <a:xfrm>
            <a:off x="7662960" y="1170000"/>
            <a:ext cx="3057480" cy="54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567160" y="193680"/>
            <a:ext cx="5232240" cy="876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entury Schoolbook"/>
              </a:rPr>
              <a:t>РАБОТА ГОТОВА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214" name="Объект 3" descr=""/>
          <p:cNvPicPr/>
          <p:nvPr/>
        </p:nvPicPr>
        <p:blipFill>
          <a:blip r:embed="rId1"/>
          <a:stretch/>
        </p:blipFill>
        <p:spPr>
          <a:xfrm>
            <a:off x="3608280" y="1197000"/>
            <a:ext cx="3056040" cy="5432400"/>
          </a:xfrm>
          <a:prstGeom prst="rect">
            <a:avLst/>
          </a:prstGeom>
          <a:ln w="0">
            <a:noFill/>
          </a:ln>
        </p:spPr>
      </p:pic>
      <p:pic>
        <p:nvPicPr>
          <p:cNvPr id="215" name="Рисунок 4" descr=""/>
          <p:cNvPicPr/>
          <p:nvPr/>
        </p:nvPicPr>
        <p:blipFill>
          <a:blip r:embed="rId2"/>
          <a:stretch/>
        </p:blipFill>
        <p:spPr>
          <a:xfrm>
            <a:off x="603360" y="1197000"/>
            <a:ext cx="2404800" cy="5432400"/>
          </a:xfrm>
          <a:prstGeom prst="rect">
            <a:avLst/>
          </a:prstGeom>
          <a:ln w="0">
            <a:noFill/>
          </a:ln>
        </p:spPr>
      </p:pic>
      <p:pic>
        <p:nvPicPr>
          <p:cNvPr id="216" name="Рисунок 6" descr=""/>
          <p:cNvPicPr/>
          <p:nvPr/>
        </p:nvPicPr>
        <p:blipFill>
          <a:blip r:embed="rId3"/>
          <a:stretch/>
        </p:blipFill>
        <p:spPr>
          <a:xfrm>
            <a:off x="7262640" y="1197000"/>
            <a:ext cx="3484800" cy="54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Рисунок 4" descr=""/>
          <p:cNvPicPr/>
          <p:nvPr/>
        </p:nvPicPr>
        <p:blipFill>
          <a:blip r:embed="rId1"/>
          <a:stretch/>
        </p:blipFill>
        <p:spPr>
          <a:xfrm>
            <a:off x="0" y="0"/>
            <a:ext cx="11293560" cy="5129280"/>
          </a:xfrm>
          <a:prstGeom prst="rect">
            <a:avLst/>
          </a:prstGeom>
          <a:ln w="0">
            <a:noFill/>
          </a:ln>
        </p:spPr>
      </p:pic>
      <p:sp>
        <p:nvSpPr>
          <p:cNvPr id="218" name="Прямоугольник 5"/>
          <p:cNvSpPr/>
          <p:nvPr/>
        </p:nvSpPr>
        <p:spPr>
          <a:xfrm>
            <a:off x="0" y="5129280"/>
            <a:ext cx="11293560" cy="1728720"/>
          </a:xfrm>
          <a:prstGeom prst="rect">
            <a:avLst/>
          </a:prstGeom>
          <a:solidFill>
            <a:srgbClr val="353537"/>
          </a:solidFill>
          <a:ln w="14040">
            <a:solidFill>
              <a:srgbClr val="5050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868120" y="5673600"/>
            <a:ext cx="5133960" cy="64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entury Schoolbook"/>
              </a:rPr>
              <a:t>СПАСИБО ЗА ВНИМАНИЕ!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261800" y="364680"/>
            <a:ext cx="96915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entury Schoolbook"/>
              </a:rPr>
              <a:t>ЦЕЛЬ: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1262160" y="1344240"/>
            <a:ext cx="85946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«Изучить архитектуру русских церквей 18-19 веков»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176" name="Picture 2" descr="Картинки по запросу архитектура русских церквей"/>
          <p:cNvPicPr/>
          <p:nvPr/>
        </p:nvPicPr>
        <p:blipFill>
          <a:blip r:embed="rId1"/>
          <a:stretch/>
        </p:blipFill>
        <p:spPr>
          <a:xfrm>
            <a:off x="2021040" y="1727280"/>
            <a:ext cx="3073320" cy="472752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4" descr="Картинки по запросу архитектура русских церквей"/>
          <p:cNvPicPr/>
          <p:nvPr/>
        </p:nvPicPr>
        <p:blipFill>
          <a:blip r:embed="rId2"/>
          <a:stretch/>
        </p:blipFill>
        <p:spPr>
          <a:xfrm>
            <a:off x="5638680" y="1731960"/>
            <a:ext cx="351000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16520" y="365040"/>
            <a:ext cx="2939760" cy="874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entury Schoolbook"/>
              </a:rPr>
              <a:t>ЗАДАЧИ: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88920" y="1297080"/>
            <a:ext cx="1079496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150000"/>
              </a:lnSpc>
              <a:buClr>
                <a:srgbClr val="6f6f7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изучить иллюстрации, рисунки, фотографии с видами русских церквей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182520" indent="-182520">
              <a:lnSpc>
                <a:spcPct val="150000"/>
              </a:lnSpc>
              <a:buClr>
                <a:srgbClr val="6f6f7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осетить храм, посмотреть его устройство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182520" indent="-182520">
              <a:lnSpc>
                <a:spcPct val="150000"/>
              </a:lnSpc>
              <a:buClr>
                <a:srgbClr val="6f6f7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изучить историю создания Успенской церкви с. Космозеро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182520" indent="-182520">
              <a:lnSpc>
                <a:spcPct val="150000"/>
              </a:lnSpc>
              <a:buClr>
                <a:srgbClr val="6f6f7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одобрать материал для изготовления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182520" indent="-1825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макета Успенской церкви (деревянные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182520" indent="-1825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шпажки, фольга, проволока)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182520" indent="-182520">
              <a:lnSpc>
                <a:spcPct val="150000"/>
              </a:lnSpc>
              <a:buClr>
                <a:srgbClr val="6f6f7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родумать этапы изготовления макета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182520" indent="-182520">
              <a:lnSpc>
                <a:spcPct val="150000"/>
              </a:lnSpc>
              <a:buClr>
                <a:srgbClr val="6f6f7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сбор и представление готовой работы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180" name="Picture 2" descr="Картинки по запросу архитектура русских церквей"/>
          <p:cNvPicPr/>
          <p:nvPr/>
        </p:nvPicPr>
        <p:blipFill>
          <a:blip r:embed="rId1"/>
          <a:stretch/>
        </p:blipFill>
        <p:spPr>
          <a:xfrm>
            <a:off x="6966000" y="3524400"/>
            <a:ext cx="3505320" cy="26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786120" y="390240"/>
            <a:ext cx="2967120" cy="93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entury Schoolbook"/>
              </a:rPr>
              <a:t>МЕТОДЫ: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1338120" y="1734840"/>
            <a:ext cx="48960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6f6f7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Изучение литературы, интернет-источников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182520" indent="-182520"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buClr>
                <a:srgbClr val="6f6f7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Моделирование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183" name="Picture 4" descr="Картинки по запросу успенская церковь из спичек космозеро"/>
          <p:cNvPicPr/>
          <p:nvPr/>
        </p:nvPicPr>
        <p:blipFill>
          <a:blip r:embed="rId1"/>
          <a:stretch/>
        </p:blipFill>
        <p:spPr>
          <a:xfrm>
            <a:off x="6626160" y="1662120"/>
            <a:ext cx="3095640" cy="46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261800" y="212760"/>
            <a:ext cx="9691560" cy="814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entury Schoolbook"/>
              </a:rPr>
              <a:t>БАЗА ИССЛЕДОВАНИЯ: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65120" y="1153800"/>
            <a:ext cx="85946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5000"/>
              </a:lnSpc>
              <a:spcBef>
                <a:spcPts val="1400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Русские церкви, построенные в 18-19 веках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186" name="Picture 2" descr="Картинки по запросу русские церкви 18 века"/>
          <p:cNvPicPr/>
          <p:nvPr/>
        </p:nvPicPr>
        <p:blipFill>
          <a:blip r:embed="rId1"/>
          <a:stretch/>
        </p:blipFill>
        <p:spPr>
          <a:xfrm>
            <a:off x="306360" y="4211640"/>
            <a:ext cx="1911240" cy="254628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4" descr="Картинки по запросу русские церкви 18 века"/>
          <p:cNvPicPr/>
          <p:nvPr/>
        </p:nvPicPr>
        <p:blipFill>
          <a:blip r:embed="rId2"/>
          <a:stretch/>
        </p:blipFill>
        <p:spPr>
          <a:xfrm>
            <a:off x="2306520" y="2611440"/>
            <a:ext cx="3000600" cy="320040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6" descr="Картинки по запросу русские церкви 18 века"/>
          <p:cNvPicPr/>
          <p:nvPr/>
        </p:nvPicPr>
        <p:blipFill>
          <a:blip r:embed="rId3"/>
          <a:stretch/>
        </p:blipFill>
        <p:spPr>
          <a:xfrm>
            <a:off x="5424480" y="4152960"/>
            <a:ext cx="3133800" cy="260496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8" descr="Картинки по запросу русские церкви 18 века"/>
          <p:cNvPicPr/>
          <p:nvPr/>
        </p:nvPicPr>
        <p:blipFill>
          <a:blip r:embed="rId4"/>
          <a:stretch/>
        </p:blipFill>
        <p:spPr>
          <a:xfrm>
            <a:off x="5424480" y="1728720"/>
            <a:ext cx="3133800" cy="235116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12" descr="Картинки по запросу русские церкви 18 века"/>
          <p:cNvPicPr/>
          <p:nvPr/>
        </p:nvPicPr>
        <p:blipFill>
          <a:blip r:embed="rId5"/>
          <a:stretch/>
        </p:blipFill>
        <p:spPr>
          <a:xfrm>
            <a:off x="8621640" y="1730520"/>
            <a:ext cx="2476440" cy="2352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4" descr="Картинки по запросу русские церкви 18 века"/>
          <p:cNvPicPr/>
          <p:nvPr/>
        </p:nvPicPr>
        <p:blipFill>
          <a:blip r:embed="rId6"/>
          <a:stretch/>
        </p:blipFill>
        <p:spPr>
          <a:xfrm>
            <a:off x="306360" y="1728720"/>
            <a:ext cx="1911240" cy="235584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18" descr="Картинки по запросу русские церкви 18 века"/>
          <p:cNvPicPr/>
          <p:nvPr/>
        </p:nvPicPr>
        <p:blipFill>
          <a:blip r:embed="rId7"/>
          <a:stretch/>
        </p:blipFill>
        <p:spPr>
          <a:xfrm>
            <a:off x="8628120" y="4183200"/>
            <a:ext cx="2469960" cy="26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317400" y="85680"/>
            <a:ext cx="4676760" cy="954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entury Schoolbook"/>
              </a:rPr>
              <a:t>ИЗ ИСТОРИИ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7095960" y="1266480"/>
            <a:ext cx="4091040" cy="482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5000"/>
              </a:lnSpc>
              <a:spcBef>
                <a:spcPts val="1400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К началу XVIII века относят создание одного из красивейших в республике Карелии в Заонежье возле Онежского озера церковного архитектурного ансамбля, включавшего зимнюю Успенскую церковь (1720г), летнюю, тоже шатровую церковь Александра Свирского (1770г), в 30-е гг. XIXв. появилась колокольня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85000"/>
              </a:lnSpc>
              <a:spcBef>
                <a:spcPts val="1400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195" name="Рисунок 5" descr=""/>
          <p:cNvPicPr/>
          <p:nvPr/>
        </p:nvPicPr>
        <p:blipFill>
          <a:blip r:embed="rId1"/>
          <a:stretch/>
        </p:blipFill>
        <p:spPr>
          <a:xfrm>
            <a:off x="1058760" y="1165320"/>
            <a:ext cx="4113360" cy="41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Рисунок 3" descr=""/>
          <p:cNvPicPr/>
          <p:nvPr/>
        </p:nvPicPr>
        <p:blipFill>
          <a:blip r:embed="rId1"/>
          <a:stretch/>
        </p:blipFill>
        <p:spPr>
          <a:xfrm>
            <a:off x="6486480" y="4145040"/>
            <a:ext cx="4640400" cy="2528640"/>
          </a:xfrm>
          <a:prstGeom prst="rect">
            <a:avLst/>
          </a:prstGeom>
          <a:ln w="0">
            <a:noFill/>
          </a:ln>
        </p:spPr>
      </p:pic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997360" y="84240"/>
            <a:ext cx="4528800" cy="931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entury Schoolbook"/>
              </a:rPr>
              <a:t>ИЗ ИСТОРИИ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09440" y="1015920"/>
            <a:ext cx="10910880" cy="55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Судьба Космозера и его церквей была непростой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о время финской оккупации в этом крупном селе находился концлагерь, откуда мало кто возвращался. В 1942г. сгорели церковь Александра Свирского и колокольня. С того времени сохранилась Успенская церковь (1720г) со стройным шатром, стоящим на сравнительно невысоком восьмиграннике. Эти сооружения составляли стройный комплекс, который по силе эмоционального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оздействия мог соперничать с самыми известными архитектурными ансамблями Севера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Обе церкви по своей архитектуре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ринадлежали к храмам типа восьмерик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на четверике, получившем широкое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распространение в России начиная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с семнадцатого века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Рисунок 7" descr=""/>
          <p:cNvPicPr/>
          <p:nvPr/>
        </p:nvPicPr>
        <p:blipFill>
          <a:blip r:embed="rId1"/>
          <a:stretch/>
        </p:blipFill>
        <p:spPr>
          <a:xfrm>
            <a:off x="79200" y="3079800"/>
            <a:ext cx="3167280" cy="3651120"/>
          </a:xfrm>
          <a:prstGeom prst="rect">
            <a:avLst/>
          </a:prstGeom>
          <a:ln w="0">
            <a:noFill/>
          </a:ln>
        </p:spPr>
      </p:pic>
      <p:pic>
        <p:nvPicPr>
          <p:cNvPr id="200" name="Рисунок 3" descr=""/>
          <p:cNvPicPr/>
          <p:nvPr/>
        </p:nvPicPr>
        <p:blipFill>
          <a:blip r:embed="rId2"/>
          <a:stretch/>
        </p:blipFill>
        <p:spPr>
          <a:xfrm>
            <a:off x="3246480" y="3079800"/>
            <a:ext cx="5481720" cy="3647880"/>
          </a:xfrm>
          <a:prstGeom prst="rect">
            <a:avLst/>
          </a:prstGeom>
          <a:ln w="0">
            <a:noFill/>
          </a:ln>
        </p:spPr>
      </p:pic>
      <p:pic>
        <p:nvPicPr>
          <p:cNvPr id="201" name="Рисунок 5" descr=""/>
          <p:cNvPicPr/>
          <p:nvPr/>
        </p:nvPicPr>
        <p:blipFill>
          <a:blip r:embed="rId3"/>
          <a:stretch/>
        </p:blipFill>
        <p:spPr>
          <a:xfrm>
            <a:off x="8728200" y="3075120"/>
            <a:ext cx="2465280" cy="3647880"/>
          </a:xfrm>
          <a:prstGeom prst="rect">
            <a:avLst/>
          </a:prstGeom>
          <a:ln w="0">
            <a:noFill/>
          </a:ln>
        </p:spPr>
      </p:pic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371320" y="233280"/>
            <a:ext cx="6240600" cy="806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entury Schoolbook"/>
              </a:rPr>
              <a:t>НАСТОЯЩЕЕ ВРЕМЯ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256680" y="1117080"/>
            <a:ext cx="10828440" cy="506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Сейчас село живо. Здесь сохранился исторический ландшафт с пашнями и сенокосными угодьями. Жилая застройка тоже уникальна – это огромные дома-комплексы с избами и дворами-сараями. Часть из них взята на учет  как памятники архитектуры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692080" y="60480"/>
            <a:ext cx="5272200" cy="90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entury Schoolbook"/>
              </a:rPr>
              <a:t>ЭТАПЫ РАБОТЫ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205" name="Объект 3" descr=""/>
          <p:cNvPicPr/>
          <p:nvPr/>
        </p:nvPicPr>
        <p:blipFill>
          <a:blip r:embed="rId1"/>
          <a:stretch/>
        </p:blipFill>
        <p:spPr>
          <a:xfrm>
            <a:off x="401760" y="1068480"/>
            <a:ext cx="4925880" cy="2771640"/>
          </a:xfrm>
          <a:prstGeom prst="rect">
            <a:avLst/>
          </a:prstGeom>
          <a:ln w="0">
            <a:noFill/>
          </a:ln>
        </p:spPr>
      </p:pic>
      <p:pic>
        <p:nvPicPr>
          <p:cNvPr id="206" name="Рисунок 5" descr=""/>
          <p:cNvPicPr/>
          <p:nvPr/>
        </p:nvPicPr>
        <p:blipFill>
          <a:blip r:embed="rId2"/>
          <a:stretch/>
        </p:blipFill>
        <p:spPr>
          <a:xfrm>
            <a:off x="401760" y="3946680"/>
            <a:ext cx="4932360" cy="2774880"/>
          </a:xfrm>
          <a:prstGeom prst="rect">
            <a:avLst/>
          </a:prstGeom>
          <a:ln w="0">
            <a:noFill/>
          </a:ln>
        </p:spPr>
      </p:pic>
      <p:pic>
        <p:nvPicPr>
          <p:cNvPr id="207" name="Рисунок 6" descr=""/>
          <p:cNvPicPr/>
          <p:nvPr/>
        </p:nvPicPr>
        <p:blipFill>
          <a:blip r:embed="rId3"/>
          <a:stretch/>
        </p:blipFill>
        <p:spPr>
          <a:xfrm>
            <a:off x="5842080" y="1068480"/>
            <a:ext cx="4925880" cy="2771640"/>
          </a:xfrm>
          <a:prstGeom prst="rect">
            <a:avLst/>
          </a:prstGeom>
          <a:ln w="0">
            <a:noFill/>
          </a:ln>
        </p:spPr>
      </p:pic>
      <p:pic>
        <p:nvPicPr>
          <p:cNvPr id="208" name="Рисунок 8" descr=""/>
          <p:cNvPicPr/>
          <p:nvPr/>
        </p:nvPicPr>
        <p:blipFill>
          <a:blip r:embed="rId4"/>
          <a:stretch/>
        </p:blipFill>
        <p:spPr>
          <a:xfrm>
            <a:off x="5842080" y="3946680"/>
            <a:ext cx="4925880" cy="27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4-09T14:24:14Z</dcterms:created>
  <dc:creator>Юля Неверова</dc:creator>
  <dc:description/>
  <dc:language>en-US</dc:language>
  <cp:lastModifiedBy>79159</cp:lastModifiedBy>
  <dcterms:modified xsi:type="dcterms:W3CDTF">2022-02-12T21:58:27Z</dcterms:modified>
  <cp:revision>22</cp:revision>
  <dc:subject/>
  <dc:title>Успенская церковь                        д.Космозеро</dc:title>
</cp:coreProperties>
</file>