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BEA-45FE-43DB-8D06-73C95620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2A2-99EF-4813-931F-4F90E4A4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2E5-55CC-487C-97B7-ADDAFC1D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BBB-AD82-4CB5-BCBA-E3D57D91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1C11-8424-4C01-8CF6-042EC42C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9AC1-CDEE-4D5B-8FBE-79C5F06C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F7DD-72A4-4DC2-A2E2-D6BF9403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5E80-1A9C-40D5-B61E-D8F10E64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E758-1361-4A9C-967D-AC075019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D3B3-EE95-4738-90F1-F05B7989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FBD9-0288-4B8A-A586-582C5A69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64D-612D-4AE4-A719-0E497031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D8C1-CEBD-4DF9-9894-84B891E5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E5EA-509C-4208-BD83-1884A2D9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AE40-41D0-4917-828C-5A689F70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67C9-D683-402C-8655-E304E0E5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E6DC-408A-46A9-ABA1-D7ACC098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B61-AA94-4B7D-B9CA-1114FD22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1D7-E830-4DB8-B6BF-41D9999E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2D2-6F1C-4325-A75C-DC632220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252-2D96-4EAF-82D8-3FBBD946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7BD-4EEE-4D61-ACF9-4640FB78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98B-47A7-4214-89F4-4F9BEB8B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9A5-E3D7-49E8-9AFC-E0671214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AED7-E22A-4700-B510-6F33B5981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A3C8-4440-4C73-80CF-326E3916D5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s://www.youtube.com/watch?v=jAd4pYDM1T8&amp;t=24s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476360" y="692280"/>
            <a:ext cx="7056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русского язы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8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701640" y="428760"/>
            <a:ext cx="757080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ЙДИ СКАЗУЕМЫЕ, ПОСТАВЬ К НИМ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563400" y="1568520"/>
            <a:ext cx="61088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ступила золотая  ос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324000" y="2492280"/>
            <a:ext cx="79484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 опушкам лесов растут гриб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D:\клипарты\грибы\370bfa835f23.png"/>
          <p:cNvPicPr/>
          <p:nvPr/>
        </p:nvPicPr>
        <p:blipFill>
          <a:blip r:embed="rId1"/>
          <a:stretch/>
        </p:blipFill>
        <p:spPr>
          <a:xfrm>
            <a:off x="6672240" y="4581360"/>
            <a:ext cx="2471760" cy="227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http://s58.radikal.ru/i161/1008/62/dc0bb01853a0.jpg"/>
          <p:cNvPicPr/>
          <p:nvPr/>
        </p:nvPicPr>
        <p:blipFill>
          <a:blip r:embed="rId2"/>
          <a:stretch/>
        </p:blipFill>
        <p:spPr>
          <a:xfrm>
            <a:off x="442800" y="4724280"/>
            <a:ext cx="2762280" cy="19195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395280" y="3573360"/>
            <a:ext cx="799308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лесу краснеют гроздья ряб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701640" y="428760"/>
            <a:ext cx="757080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1547640" y="18446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сделала?  Наступ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476360" y="1905120"/>
            <a:ext cx="5688000" cy="647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187280" y="2924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делают?  Раст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1187280" y="2781360"/>
            <a:ext cx="6480360" cy="836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0680" y="4076640"/>
            <a:ext cx="799308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делают? Красне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411280" y="1708200"/>
            <a:ext cx="3673440" cy="17920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900000" y="549360"/>
            <a:ext cx="77756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ассмотри рисунок и прочитай текст к нему. Вместо во­просов подбери по смыслу пропущенные сказуе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042920" y="3645000"/>
            <a:ext cx="748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омко (что сделала?) ворона в лесу. Это она песню (что делала?). От крика трава к земле (что сделала?). С цветов лепестки (что сделали?). А птицы под крыло головы (что сделали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 И. Бурце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ши. Вместо вопросов вставляй сказуе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какие вопросы отвечает сказуе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701640" y="428760"/>
            <a:ext cx="757080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900000" y="1557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ромко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ричал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ворона в лесу. Это она песню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ел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От крика трава к земле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ижалась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С цветов лепестки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летел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А птицы под крыло головы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прятал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По И. Бурцев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1" descr=""/>
          <p:cNvPicPr/>
          <p:nvPr/>
        </p:nvPicPr>
        <p:blipFill>
          <a:blip r:embed="rId1"/>
          <a:stretch/>
        </p:blipFill>
        <p:spPr>
          <a:xfrm>
            <a:off x="2030400" y="-49320"/>
            <a:ext cx="4724280" cy="1397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 flipV="1" rot="10800000">
            <a:off x="1116000" y="1946880"/>
            <a:ext cx="74167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нового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сказуем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19080"/>
            <a:ext cx="7632720" cy="11509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2195640" y="2852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48 стр.35, выучить правило на с.3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s://bipbap.ru/wp-content/uploads/2018/01/img8.jpg"/>
          <p:cNvPicPr/>
          <p:nvPr/>
        </p:nvPicPr>
        <p:blipFill>
          <a:blip r:embed="rId1"/>
          <a:stretch/>
        </p:blipFill>
        <p:spPr>
          <a:xfrm>
            <a:off x="539640" y="311040"/>
            <a:ext cx="7920000" cy="5832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1403280" y="2565360"/>
            <a:ext cx="65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тдых наш конч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бота </a:t>
            </a: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чин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сердно будем </a:t>
            </a: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ы трудить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тобы чему-то науч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ttps://bipbap.ru/wp-content/uploads/2018/01/img8.jpg"/>
          <p:cNvPicPr/>
          <p:nvPr/>
        </p:nvPicPr>
        <p:blipFill>
          <a:blip r:embed="rId1"/>
          <a:srcRect l="20720" t="35701" r="20240" b="22320"/>
          <a:stretch/>
        </p:blipFill>
        <p:spPr>
          <a:xfrm>
            <a:off x="5364000" y="404640"/>
            <a:ext cx="2989440" cy="1729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692360" y="3284640"/>
            <a:ext cx="619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сторожно вет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 калитки выш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стучал в окошк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бежал по крыш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1332000" y="115920"/>
            <a:ext cx="6553080" cy="265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тайте стихо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чем в нем говор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помощью каких слов автор передал, что происходило с  вет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Что обозначают эти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332000" y="2708280"/>
            <a:ext cx="6408720" cy="228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ЫЕ   ЧЛЕНЫ ПРЕДЛОЖЕНИЯ. СКАЗУЕМО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1619280" y="765000"/>
            <a:ext cx="525636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611280" y="260280"/>
            <a:ext cx="784836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черкни двумя чертами названия дей­ствий в каждом предло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зываются эти слова в предложе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вь вопросы к сказуе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сдел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ец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ов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поё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ветке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2549520" y="333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971640" y="3357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а запоёт на ветке пти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дремлет лес густ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л месяц из-за ту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ют грибные дож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2843280" y="476280"/>
            <a:ext cx="33843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826920" y="1413000"/>
            <a:ext cx="7921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а запоёт на ветке пти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дремлет лес густ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л месяц из-за ту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ют грибные дож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2700360" y="126828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дел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инус 23"/>
          <p:cNvSpPr/>
          <p:nvPr/>
        </p:nvSpPr>
        <p:spPr>
          <a:xfrm>
            <a:off x="2124000" y="1943280"/>
            <a:ext cx="2016360" cy="45720"/>
          </a:xfrm>
          <a:custGeom>
            <a:avLst/>
            <a:gdLst/>
            <a:ahLst/>
            <a:rect l="l" t="t" r="r" b="b"/>
            <a:pathLst>
              <a:path w="2016125" h="46038">
                <a:moveTo>
                  <a:pt x="267237" y="17605"/>
                </a:moveTo>
                <a:lnTo>
                  <a:pt x="1748888" y="17605"/>
                </a:lnTo>
                <a:lnTo>
                  <a:pt x="1748888" y="28433"/>
                </a:lnTo>
                <a:lnTo>
                  <a:pt x="267237" y="28433"/>
                </a:lnTo>
                <a:lnTo>
                  <a:pt x="267237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инус 25"/>
          <p:cNvSpPr/>
          <p:nvPr/>
        </p:nvSpPr>
        <p:spPr>
          <a:xfrm>
            <a:off x="2124000" y="1989000"/>
            <a:ext cx="2016360" cy="71640"/>
          </a:xfrm>
          <a:custGeom>
            <a:avLst/>
            <a:gdLst/>
            <a:ahLst/>
            <a:rect l="l" t="t" r="r" b="b"/>
            <a:pathLst>
              <a:path w="2016125" h="71437">
                <a:moveTo>
                  <a:pt x="267237" y="27318"/>
                </a:moveTo>
                <a:lnTo>
                  <a:pt x="1748888" y="27318"/>
                </a:lnTo>
                <a:lnTo>
                  <a:pt x="1748888" y="44119"/>
                </a:lnTo>
                <a:lnTo>
                  <a:pt x="267237" y="44119"/>
                </a:lnTo>
                <a:lnTo>
                  <a:pt x="267237" y="2731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инус 26"/>
          <p:cNvSpPr/>
          <p:nvPr/>
        </p:nvSpPr>
        <p:spPr>
          <a:xfrm>
            <a:off x="1835280" y="3213000"/>
            <a:ext cx="2449440" cy="46080"/>
          </a:xfrm>
          <a:custGeom>
            <a:avLst/>
            <a:gdLst/>
            <a:ahLst/>
            <a:rect l="l" t="t" r="r" b="b"/>
            <a:pathLst>
              <a:path w="2449513" h="46038">
                <a:moveTo>
                  <a:pt x="324683" y="17605"/>
                </a:moveTo>
                <a:lnTo>
                  <a:pt x="2124830" y="17605"/>
                </a:lnTo>
                <a:lnTo>
                  <a:pt x="2124830" y="28433"/>
                </a:lnTo>
                <a:lnTo>
                  <a:pt x="324683" y="28433"/>
                </a:lnTo>
                <a:lnTo>
                  <a:pt x="324683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инус 27"/>
          <p:cNvSpPr/>
          <p:nvPr/>
        </p:nvSpPr>
        <p:spPr>
          <a:xfrm>
            <a:off x="1835280" y="3308400"/>
            <a:ext cx="2449440" cy="49320"/>
          </a:xfrm>
          <a:custGeom>
            <a:avLst/>
            <a:gdLst/>
            <a:ahLst/>
            <a:rect l="l" t="t" r="r" b="b"/>
            <a:pathLst>
              <a:path w="2449513" h="49213">
                <a:moveTo>
                  <a:pt x="324683" y="18819"/>
                </a:moveTo>
                <a:lnTo>
                  <a:pt x="2124830" y="18819"/>
                </a:lnTo>
                <a:lnTo>
                  <a:pt x="2124830" y="30394"/>
                </a:lnTo>
                <a:lnTo>
                  <a:pt x="324683" y="30394"/>
                </a:lnTo>
                <a:lnTo>
                  <a:pt x="324683" y="188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инус 28"/>
          <p:cNvSpPr/>
          <p:nvPr/>
        </p:nvSpPr>
        <p:spPr>
          <a:xfrm>
            <a:off x="611280" y="4365720"/>
            <a:ext cx="2232000" cy="71280"/>
          </a:xfrm>
          <a:custGeom>
            <a:avLst/>
            <a:gdLst/>
            <a:ahLst/>
            <a:rect l="l" t="t" r="r" b="b"/>
            <a:pathLst>
              <a:path w="2232025" h="71438">
                <a:moveTo>
                  <a:pt x="295855" y="27318"/>
                </a:moveTo>
                <a:lnTo>
                  <a:pt x="1936170" y="27318"/>
                </a:lnTo>
                <a:lnTo>
                  <a:pt x="1936170" y="44120"/>
                </a:lnTo>
                <a:lnTo>
                  <a:pt x="295855" y="44120"/>
                </a:lnTo>
                <a:lnTo>
                  <a:pt x="295855" y="2731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инус 29"/>
          <p:cNvSpPr/>
          <p:nvPr/>
        </p:nvSpPr>
        <p:spPr>
          <a:xfrm>
            <a:off x="611280" y="4437000"/>
            <a:ext cx="2232000" cy="71640"/>
          </a:xfrm>
          <a:custGeom>
            <a:avLst/>
            <a:gdLst/>
            <a:ahLst/>
            <a:rect l="l" t="t" r="r" b="b"/>
            <a:pathLst>
              <a:path w="2232025" h="71437">
                <a:moveTo>
                  <a:pt x="295855" y="27318"/>
                </a:moveTo>
                <a:lnTo>
                  <a:pt x="1936170" y="27318"/>
                </a:lnTo>
                <a:lnTo>
                  <a:pt x="1936170" y="44119"/>
                </a:lnTo>
                <a:lnTo>
                  <a:pt x="295855" y="44119"/>
                </a:lnTo>
                <a:lnTo>
                  <a:pt x="295855" y="2731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инус 30"/>
          <p:cNvSpPr/>
          <p:nvPr/>
        </p:nvSpPr>
        <p:spPr>
          <a:xfrm>
            <a:off x="684360" y="5589720"/>
            <a:ext cx="1726920" cy="46080"/>
          </a:xfrm>
          <a:custGeom>
            <a:avLst/>
            <a:gdLst/>
            <a:ahLst/>
            <a:rect l="l" t="t" r="r" b="b"/>
            <a:pathLst>
              <a:path w="1727200" h="46037">
                <a:moveTo>
                  <a:pt x="228940" y="17605"/>
                </a:moveTo>
                <a:lnTo>
                  <a:pt x="1498260" y="17605"/>
                </a:lnTo>
                <a:lnTo>
                  <a:pt x="1498260" y="28432"/>
                </a:lnTo>
                <a:lnTo>
                  <a:pt x="228940" y="28432"/>
                </a:lnTo>
                <a:lnTo>
                  <a:pt x="228940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инус 31"/>
          <p:cNvSpPr/>
          <p:nvPr/>
        </p:nvSpPr>
        <p:spPr>
          <a:xfrm>
            <a:off x="684360" y="5635800"/>
            <a:ext cx="1726920" cy="96840"/>
          </a:xfrm>
          <a:custGeom>
            <a:avLst/>
            <a:gdLst/>
            <a:ahLst/>
            <a:rect l="l" t="t" r="r" b="b"/>
            <a:pathLst>
              <a:path w="1727200" h="96838">
                <a:moveTo>
                  <a:pt x="228940" y="37031"/>
                </a:moveTo>
                <a:lnTo>
                  <a:pt x="1498260" y="37031"/>
                </a:lnTo>
                <a:lnTo>
                  <a:pt x="1498260" y="59807"/>
                </a:lnTo>
                <a:lnTo>
                  <a:pt x="228940" y="59807"/>
                </a:lnTo>
                <a:lnTo>
                  <a:pt x="228940" y="370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2"/>
          <p:cNvSpPr/>
          <p:nvPr/>
        </p:nvSpPr>
        <p:spPr>
          <a:xfrm>
            <a:off x="2124000" y="2492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дел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849240" y="35514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дела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849240" y="4859280"/>
            <a:ext cx="22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116000" y="213372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уемое обозначает действие, о котором говорится в предложен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уемое отвечает на вопросы: что дела­ет? что делал? что сделает? и друг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1619280" y="765000"/>
            <a:ext cx="5256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Еленга\Desktop\2015-10-01_174304.png"/>
          <p:cNvPicPr/>
          <p:nvPr/>
        </p:nvPicPr>
        <p:blipFill>
          <a:blip r:embed="rId1"/>
          <a:stretch/>
        </p:blipFill>
        <p:spPr>
          <a:xfrm>
            <a:off x="2268360" y="1484280"/>
            <a:ext cx="4650120" cy="37227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3" name="Прямоугольник 2" descr=""/>
          <p:cNvPicPr/>
          <p:nvPr/>
        </p:nvPicPr>
        <p:blipFill>
          <a:blip r:embed="rId2"/>
          <a:stretch/>
        </p:blipFill>
        <p:spPr>
          <a:xfrm>
            <a:off x="1390680" y="249120"/>
            <a:ext cx="6259320" cy="9464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1547640" y="5445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Танец-игра с ускорением для детей "Мы пойдём налево" / Dance for kids. Наше всё! - 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Windows User</cp:lastModifiedBy>
  <dcterms:modified xsi:type="dcterms:W3CDTF">2022-02-13T08:04:29Z</dcterms:modified>
  <cp:revision>50</cp:revision>
  <dc:subject/>
  <dc:title>Слайд 1</dc:title>
</cp:coreProperties>
</file>