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24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0.png" ContentType="image/png"/>
  <Override PartName="/ppt/media/image27.jpeg" ContentType="image/jpeg"/>
  <Override PartName="/ppt/media/image16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7455-9B54-4932-9D2C-80E3137DB3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40EC-712D-480F-98BD-B2C4AD4509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E0EF-33CD-4B7B-B979-C8F5E5129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F18C-3FF1-43C5-9FD8-87BC17AF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17F0-6E37-467E-A32D-C19E2C8FE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9CCE-1AC7-42A5-AE3D-E32485AAE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59AE-3C6E-4B7F-9660-F7FE2F3D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C4C0-CAB2-4D0F-9477-F80A5C4C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5620-A2AB-48B5-86E5-736E29B8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DA1E-2276-4234-B287-38F517F0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08E6-2F8C-4DF4-8706-AFBFB932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688A-16C4-4572-9548-7549BD69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B2EC-249E-4955-A3A5-F6418D09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BD23-5016-49C9-990C-3F6B778B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3168-FAA5-48AF-97A0-12B7C91CC43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2268360" y="1971000"/>
            <a:ext cx="5397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е друг другу поверну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друг другу улыбну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 мне скорей вы поверните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мне тоже улыбните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 сейчас проверь, дружо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ы готов начать уро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Скругленный прямоугольник 5" descr=""/>
          <p:cNvPicPr/>
          <p:nvPr/>
        </p:nvPicPr>
        <p:blipFill>
          <a:blip r:embed="rId1"/>
          <a:stretch/>
        </p:blipFill>
        <p:spPr>
          <a:xfrm>
            <a:off x="665280" y="384120"/>
            <a:ext cx="733896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9"/>
          <p:cNvSpPr/>
          <p:nvPr/>
        </p:nvSpPr>
        <p:spPr>
          <a:xfrm>
            <a:off x="2928960" y="2000160"/>
            <a:ext cx="4065480" cy="5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 общего у всех модел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1571760" y="3344760"/>
            <a:ext cx="291276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 Модель не является точной копией объекта оригин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5572080" y="3344760"/>
            <a:ext cx="285768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2.  Модель отражает только часть признаков оригин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AutoShape 12"/>
          <p:cNvCxnSpPr>
            <a:stCxn id="85" idx="2"/>
          </p:cNvCxnSpPr>
          <p:nvPr/>
        </p:nvCxnSpPr>
        <p:spPr>
          <a:xfrm flipH="1">
            <a:off x="2754000" y="2547720"/>
            <a:ext cx="2206800" cy="79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AutoShape 13"/>
          <p:cNvCxnSpPr>
            <a:endCxn id="87" idx="0"/>
          </p:cNvCxnSpPr>
          <p:nvPr/>
        </p:nvCxnSpPr>
        <p:spPr>
          <a:xfrm>
            <a:off x="4928760" y="2571480"/>
            <a:ext cx="2072520" cy="77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90" name="Прямоугольник 7" descr=""/>
          <p:cNvPicPr/>
          <p:nvPr/>
        </p:nvPicPr>
        <p:blipFill>
          <a:blip r:embed="rId1"/>
          <a:stretch/>
        </p:blipFill>
        <p:spPr>
          <a:xfrm>
            <a:off x="2755800" y="493560"/>
            <a:ext cx="34689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"/>
          <p:cNvSpPr/>
          <p:nvPr/>
        </p:nvSpPr>
        <p:spPr>
          <a:xfrm>
            <a:off x="3000240" y="1928880"/>
            <a:ext cx="4330800" cy="5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ды мод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785960" y="3255840"/>
            <a:ext cx="2884320" cy="5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турные мод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5440320" y="3255840"/>
            <a:ext cx="2846520" cy="5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формационные мод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1785960" y="4043520"/>
            <a:ext cx="288432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меры: муляжи, мак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5440320" y="4043520"/>
            <a:ext cx="284652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меры: формула, схе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AutoShape 8"/>
          <p:cNvCxnSpPr>
            <a:stCxn id="91" idx="2"/>
          </p:cNvCxnSpPr>
          <p:nvPr/>
        </p:nvCxnSpPr>
        <p:spPr>
          <a:xfrm flipH="1">
            <a:off x="2766240" y="2486160"/>
            <a:ext cx="2399400" cy="77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AutoShape 9"/>
          <p:cNvCxnSpPr>
            <a:stCxn id="91" idx="2"/>
          </p:cNvCxnSpPr>
          <p:nvPr/>
        </p:nvCxnSpPr>
        <p:spPr>
          <a:xfrm>
            <a:off x="5164560" y="2486160"/>
            <a:ext cx="2342520" cy="76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AutoShape 10"/>
          <p:cNvCxnSpPr/>
          <p:nvPr/>
        </p:nvCxnSpPr>
        <p:spPr>
          <a:xfrm>
            <a:off x="3214440" y="3857400"/>
            <a:ext cx="108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AutoShape 11"/>
          <p:cNvCxnSpPr/>
          <p:nvPr/>
        </p:nvCxnSpPr>
        <p:spPr>
          <a:xfrm flipH="1">
            <a:off x="6786360" y="3857400"/>
            <a:ext cx="21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00" name="Прямоугольник 12" descr=""/>
          <p:cNvPicPr/>
          <p:nvPr/>
        </p:nvPicPr>
        <p:blipFill>
          <a:blip r:embed="rId1"/>
          <a:stretch/>
        </p:blipFill>
        <p:spPr>
          <a:xfrm>
            <a:off x="2755800" y="493560"/>
            <a:ext cx="34689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3"/>
          <p:cNvSpPr/>
          <p:nvPr/>
        </p:nvSpPr>
        <p:spPr>
          <a:xfrm>
            <a:off x="2979720" y="1285920"/>
            <a:ext cx="3540240" cy="100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информационных мод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AutoShape 14"/>
          <p:cNvCxnSpPr>
            <a:endCxn id="103" idx="0"/>
          </p:cNvCxnSpPr>
          <p:nvPr/>
        </p:nvCxnSpPr>
        <p:spPr>
          <a:xfrm flipH="1">
            <a:off x="2544480" y="2284920"/>
            <a:ext cx="226296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5"/>
          <p:cNvCxnSpPr>
            <a:endCxn id="105" idx="0"/>
          </p:cNvCxnSpPr>
          <p:nvPr/>
        </p:nvCxnSpPr>
        <p:spPr>
          <a:xfrm>
            <a:off x="4856040" y="2286000"/>
            <a:ext cx="116640" cy="78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6"/>
          <p:cNvCxnSpPr>
            <a:endCxn id="107" idx="0"/>
          </p:cNvCxnSpPr>
          <p:nvPr/>
        </p:nvCxnSpPr>
        <p:spPr>
          <a:xfrm>
            <a:off x="4929120" y="2285640"/>
            <a:ext cx="250416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Rectangle 17"/>
          <p:cNvSpPr/>
          <p:nvPr/>
        </p:nvSpPr>
        <p:spPr>
          <a:xfrm>
            <a:off x="1357200" y="3071880"/>
            <a:ext cx="2376720" cy="171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ки, фотогра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8"/>
          <p:cNvSpPr/>
          <p:nvPr/>
        </p:nvSpPr>
        <p:spPr>
          <a:xfrm>
            <a:off x="3841920" y="3071880"/>
            <a:ext cx="2260440" cy="171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ш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, графики, схемы, диаграммы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6221520" y="3071880"/>
            <a:ext cx="2422440" cy="171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есные описания, форму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Прямоугольник 10" descr=""/>
          <p:cNvPicPr/>
          <p:nvPr/>
        </p:nvPicPr>
        <p:blipFill>
          <a:blip r:embed="rId1"/>
          <a:stretch/>
        </p:blipFill>
        <p:spPr>
          <a:xfrm>
            <a:off x="2895480" y="133200"/>
            <a:ext cx="34689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дивидуальная работа (проверка знаний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каждый правильный ответ – 1 бал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зн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2"/>
          <p:cNvGrpSpPr/>
          <p:nvPr/>
        </p:nvGrpSpPr>
        <p:grpSpPr>
          <a:xfrm>
            <a:off x="1000080" y="1781280"/>
            <a:ext cx="7643520" cy="3701880"/>
            <a:chOff x="1000080" y="1781280"/>
            <a:chExt cx="7643520" cy="3701880"/>
          </a:xfrm>
        </p:grpSpPr>
        <p:sp>
          <p:nvSpPr>
            <p:cNvPr id="113" name="Rectangle 3"/>
            <p:cNvSpPr/>
            <p:nvPr/>
          </p:nvSpPr>
          <p:spPr>
            <a:xfrm>
              <a:off x="2925000" y="2453040"/>
              <a:ext cx="3814920" cy="35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Манеке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"/>
            <p:cNvSpPr/>
            <p:nvPr/>
          </p:nvSpPr>
          <p:spPr>
            <a:xfrm>
              <a:off x="2925000" y="3159360"/>
              <a:ext cx="3814920" cy="35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Муля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5"/>
            <p:cNvSpPr/>
            <p:nvPr/>
          </p:nvSpPr>
          <p:spPr>
            <a:xfrm>
              <a:off x="2925000" y="1781280"/>
              <a:ext cx="3814920" cy="35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Математическая формул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2925000" y="3871800"/>
              <a:ext cx="3814920" cy="35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Оглавление книг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7"/>
            <p:cNvSpPr/>
            <p:nvPr/>
          </p:nvSpPr>
          <p:spPr>
            <a:xfrm>
              <a:off x="2925000" y="4496760"/>
              <a:ext cx="3814920" cy="35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Авиамоде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8"/>
            <p:cNvSpPr/>
            <p:nvPr/>
          </p:nvSpPr>
          <p:spPr>
            <a:xfrm>
              <a:off x="2925000" y="5124960"/>
              <a:ext cx="3814920" cy="35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рограмма телепереда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9"/>
            <p:cNvSpPr/>
            <p:nvPr/>
          </p:nvSpPr>
          <p:spPr>
            <a:xfrm>
              <a:off x="1000080" y="2285280"/>
              <a:ext cx="1428480" cy="221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Информационная моде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0"/>
            <p:cNvSpPr/>
            <p:nvPr/>
          </p:nvSpPr>
          <p:spPr>
            <a:xfrm>
              <a:off x="7429320" y="2285280"/>
              <a:ext cx="1214280" cy="242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Натурная  моде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1" name="Прямая со стрелкой 13"/>
          <p:cNvCxnSpPr>
            <a:stCxn id="119" idx="3"/>
            <a:endCxn id="115" idx="1"/>
          </p:cNvCxnSpPr>
          <p:nvPr/>
        </p:nvCxnSpPr>
        <p:spPr>
          <a:xfrm flipV="1">
            <a:off x="2428920" y="1960200"/>
            <a:ext cx="497520" cy="143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Прямая со стрелкой 15"/>
          <p:cNvCxnSpPr>
            <a:stCxn id="119" idx="3"/>
            <a:endCxn id="116" idx="1"/>
          </p:cNvCxnSpPr>
          <p:nvPr/>
        </p:nvCxnSpPr>
        <p:spPr>
          <a:xfrm>
            <a:off x="2428920" y="3392640"/>
            <a:ext cx="497520" cy="65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Прямая со стрелкой 17"/>
          <p:cNvCxnSpPr>
            <a:stCxn id="119" idx="3"/>
            <a:endCxn id="118" idx="1"/>
          </p:cNvCxnSpPr>
          <p:nvPr/>
        </p:nvCxnSpPr>
        <p:spPr>
          <a:xfrm>
            <a:off x="2428920" y="3392280"/>
            <a:ext cx="497520" cy="191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4" name="Прямая со стрелкой 20"/>
          <p:cNvCxnSpPr>
            <a:stCxn id="120" idx="1"/>
            <a:endCxn id="113" idx="3"/>
          </p:cNvCxnSpPr>
          <p:nvPr/>
        </p:nvCxnSpPr>
        <p:spPr>
          <a:xfrm flipH="1" flipV="1">
            <a:off x="6740280" y="2631600"/>
            <a:ext cx="689760" cy="869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5" name="Прямая со стрелкой 22"/>
          <p:cNvCxnSpPr>
            <a:stCxn id="120" idx="1"/>
            <a:endCxn id="114" idx="3"/>
          </p:cNvCxnSpPr>
          <p:nvPr/>
        </p:nvCxnSpPr>
        <p:spPr>
          <a:xfrm flipH="1" flipV="1">
            <a:off x="6740280" y="3337920"/>
            <a:ext cx="689760" cy="16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6" name="Прямая со стрелкой 24"/>
          <p:cNvCxnSpPr>
            <a:stCxn id="120" idx="1"/>
            <a:endCxn id="117" idx="3"/>
          </p:cNvCxnSpPr>
          <p:nvPr/>
        </p:nvCxnSpPr>
        <p:spPr>
          <a:xfrm flipH="1">
            <a:off x="6740280" y="3500280"/>
            <a:ext cx="689760" cy="117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 «Выбери модели среди объектов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каждый правильный ответ – 1 бал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908000" y="2949480"/>
          <a:ext cx="6551640" cy="2362320"/>
        </p:xfrm>
        <a:graphic>
          <a:graphicData uri="http://schemas.openxmlformats.org/drawingml/2006/table">
            <a:tbl>
              <a:tblPr/>
              <a:tblGrid>
                <a:gridCol w="1638360"/>
                <a:gridCol w="1638360"/>
                <a:gridCol w="1636920"/>
                <a:gridCol w="1638000"/>
              </a:tblGrid>
              <a:tr h="66708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т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е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ляж ябл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66708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ссей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моби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к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овый зам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6216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ч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льтфиль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хема метр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жеднев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66708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кройка фарту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с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спор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 «Укажите модели для решения задач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177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каждый правильный ответ – 1 бал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124000" y="2997360"/>
          <a:ext cx="6096240" cy="29527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0060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Натурная мод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Информационная мод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600">
                <a:tc gridSpan="2"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Родители хотят объяснить своему ребенку, что такое само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060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600">
                <a:tc gridSpan="2"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ассажир хочет выбрать место в салоне самол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060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600">
                <a:tc gridSpan="2"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Будущего пилота необходимо научить управлять самолет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060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3960">
                <a:tc gridSpan="2"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Инженер-конструктор представляет новую по конструкции модель самоле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060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веду я ими круг.</a:t>
            </a:r>
            <a:br>
              <a:rPr sz="5400"/>
            </a:br>
            <a:r>
              <a:rPr b="0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веду я ими круг,</a:t>
            </a:r>
            <a:br>
              <a:rPr sz="5400"/>
            </a:br>
            <a:r>
              <a:rPr b="0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ляжу на мир вокруг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Прямоугольник 3" descr=""/>
          <p:cNvPicPr/>
          <p:nvPr/>
        </p:nvPicPr>
        <p:blipFill>
          <a:blip r:embed="rId1"/>
          <a:stretch/>
        </p:blipFill>
        <p:spPr>
          <a:xfrm>
            <a:off x="1122480" y="225360"/>
            <a:ext cx="675324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547280" y="3213000"/>
            <a:ext cx="713916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н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2 бал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чно верн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 бал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ерн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0 бал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Заголовок 1" descr=""/>
          <p:cNvPicPr/>
          <p:nvPr/>
        </p:nvPicPr>
        <p:blipFill>
          <a:blip r:embed="rId1"/>
          <a:stretch/>
        </p:blipFill>
        <p:spPr>
          <a:xfrm>
            <a:off x="463680" y="689040"/>
            <a:ext cx="8216640" cy="115236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4"/>
          <p:cNvGrpSpPr/>
          <p:nvPr/>
        </p:nvGrpSpPr>
        <p:grpSpPr>
          <a:xfrm>
            <a:off x="5691240" y="4365720"/>
            <a:ext cx="2948400" cy="1923840"/>
            <a:chOff x="5691240" y="4365720"/>
            <a:chExt cx="2948400" cy="1923840"/>
          </a:xfrm>
        </p:grpSpPr>
        <p:sp>
          <p:nvSpPr>
            <p:cNvPr id="138" name="Rectangle 5"/>
            <p:cNvSpPr/>
            <p:nvPr/>
          </p:nvSpPr>
          <p:spPr>
            <a:xfrm>
              <a:off x="5724360" y="4365720"/>
              <a:ext cx="2839320" cy="19238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desk1"/>
            <p:cNvSpPr/>
            <p:nvPr/>
          </p:nvSpPr>
          <p:spPr>
            <a:xfrm rot="5400000">
              <a:off x="6562080" y="5157360"/>
              <a:ext cx="725040" cy="419400"/>
            </a:xfrm>
            <a:custGeom>
              <a:avLst/>
              <a:gdLst>
                <a:gd name="textAreaLeft" fmla="*/ 33480 w 725040"/>
                <a:gd name="textAreaRight" fmla="*/ 691560 w 725040"/>
                <a:gd name="textAreaTop" fmla="*/ 19080 h 419400"/>
                <a:gd name="textAreaBottom" fmla="*/ 400320 h 41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chair3"/>
            <p:cNvSpPr/>
            <p:nvPr/>
          </p:nvSpPr>
          <p:spPr>
            <a:xfrm>
              <a:off x="7591680" y="4947840"/>
              <a:ext cx="419400" cy="270720"/>
            </a:xfrm>
            <a:custGeom>
              <a:avLst/>
              <a:gdLst>
                <a:gd name="textAreaLeft" fmla="*/ 93960 w 419400"/>
                <a:gd name="textAreaRight" fmla="*/ 327240 w 419400"/>
                <a:gd name="textAreaTop" fmla="*/ 83160 h 270720"/>
                <a:gd name="textAreaBottom" fmla="*/ 246600 h 27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661" y="21600"/>
                  </a:moveTo>
                  <a:lnTo>
                    <a:pt x="11964" y="21600"/>
                  </a:lnTo>
                  <a:lnTo>
                    <a:pt x="12969" y="21477"/>
                  </a:lnTo>
                  <a:lnTo>
                    <a:pt x="13951" y="21379"/>
                  </a:lnTo>
                  <a:lnTo>
                    <a:pt x="14742" y="21134"/>
                  </a:lnTo>
                  <a:lnTo>
                    <a:pt x="15575" y="20765"/>
                  </a:lnTo>
                  <a:lnTo>
                    <a:pt x="16152" y="20520"/>
                  </a:lnTo>
                  <a:lnTo>
                    <a:pt x="16579" y="20225"/>
                  </a:lnTo>
                  <a:lnTo>
                    <a:pt x="16942" y="19857"/>
                  </a:lnTo>
                  <a:lnTo>
                    <a:pt x="17455" y="20520"/>
                  </a:lnTo>
                  <a:lnTo>
                    <a:pt x="17989" y="21011"/>
                  </a:lnTo>
                  <a:lnTo>
                    <a:pt x="18459" y="21379"/>
                  </a:lnTo>
                  <a:lnTo>
                    <a:pt x="19079" y="21477"/>
                  </a:lnTo>
                  <a:lnTo>
                    <a:pt x="19656" y="21477"/>
                  </a:lnTo>
                  <a:lnTo>
                    <a:pt x="20275" y="21379"/>
                  </a:lnTo>
                  <a:lnTo>
                    <a:pt x="20660" y="21011"/>
                  </a:lnTo>
                  <a:lnTo>
                    <a:pt x="21173" y="20643"/>
                  </a:lnTo>
                  <a:lnTo>
                    <a:pt x="21386" y="20225"/>
                  </a:lnTo>
                  <a:lnTo>
                    <a:pt x="21600" y="19636"/>
                  </a:lnTo>
                  <a:lnTo>
                    <a:pt x="21600" y="19145"/>
                  </a:lnTo>
                  <a:lnTo>
                    <a:pt x="21600" y="18605"/>
                  </a:lnTo>
                  <a:lnTo>
                    <a:pt x="21386" y="18115"/>
                  </a:lnTo>
                  <a:lnTo>
                    <a:pt x="21066" y="17525"/>
                  </a:lnTo>
                  <a:lnTo>
                    <a:pt x="20660" y="17108"/>
                  </a:lnTo>
                  <a:lnTo>
                    <a:pt x="20275" y="16740"/>
                  </a:lnTo>
                  <a:lnTo>
                    <a:pt x="20275" y="10628"/>
                  </a:lnTo>
                  <a:lnTo>
                    <a:pt x="20275" y="5695"/>
                  </a:lnTo>
                  <a:lnTo>
                    <a:pt x="20275" y="5105"/>
                  </a:lnTo>
                  <a:lnTo>
                    <a:pt x="20190" y="4492"/>
                  </a:lnTo>
                  <a:lnTo>
                    <a:pt x="19976" y="4075"/>
                  </a:lnTo>
                  <a:lnTo>
                    <a:pt x="19763" y="3485"/>
                  </a:lnTo>
                  <a:lnTo>
                    <a:pt x="19442" y="2995"/>
                  </a:lnTo>
                  <a:lnTo>
                    <a:pt x="19079" y="2455"/>
                  </a:lnTo>
                  <a:lnTo>
                    <a:pt x="18673" y="2086"/>
                  </a:lnTo>
                  <a:lnTo>
                    <a:pt x="18139" y="1620"/>
                  </a:lnTo>
                  <a:lnTo>
                    <a:pt x="17562" y="1325"/>
                  </a:lnTo>
                  <a:lnTo>
                    <a:pt x="16836" y="957"/>
                  </a:lnTo>
                  <a:lnTo>
                    <a:pt x="16045" y="589"/>
                  </a:lnTo>
                  <a:lnTo>
                    <a:pt x="15169" y="344"/>
                  </a:lnTo>
                  <a:lnTo>
                    <a:pt x="14272" y="245"/>
                  </a:lnTo>
                  <a:lnTo>
                    <a:pt x="13182" y="123"/>
                  </a:lnTo>
                  <a:lnTo>
                    <a:pt x="12028" y="0"/>
                  </a:lnTo>
                  <a:lnTo>
                    <a:pt x="10832" y="0"/>
                  </a:lnTo>
                  <a:lnTo>
                    <a:pt x="9572" y="0"/>
                  </a:lnTo>
                  <a:lnTo>
                    <a:pt x="8418" y="123"/>
                  </a:lnTo>
                  <a:lnTo>
                    <a:pt x="7328" y="245"/>
                  </a:lnTo>
                  <a:lnTo>
                    <a:pt x="6431" y="344"/>
                  </a:lnTo>
                  <a:lnTo>
                    <a:pt x="5555" y="589"/>
                  </a:lnTo>
                  <a:lnTo>
                    <a:pt x="4764" y="957"/>
                  </a:lnTo>
                  <a:lnTo>
                    <a:pt x="4038" y="1325"/>
                  </a:lnTo>
                  <a:lnTo>
                    <a:pt x="3461" y="1620"/>
                  </a:lnTo>
                  <a:lnTo>
                    <a:pt x="2927" y="2086"/>
                  </a:lnTo>
                  <a:lnTo>
                    <a:pt x="2521" y="2455"/>
                  </a:lnTo>
                  <a:lnTo>
                    <a:pt x="2158" y="2995"/>
                  </a:lnTo>
                  <a:lnTo>
                    <a:pt x="1837" y="3485"/>
                  </a:lnTo>
                  <a:lnTo>
                    <a:pt x="1624" y="4075"/>
                  </a:lnTo>
                  <a:lnTo>
                    <a:pt x="1410" y="4492"/>
                  </a:lnTo>
                  <a:lnTo>
                    <a:pt x="1303" y="5105"/>
                  </a:lnTo>
                  <a:lnTo>
                    <a:pt x="1303" y="5695"/>
                  </a:lnTo>
                  <a:lnTo>
                    <a:pt x="1303" y="10874"/>
                  </a:lnTo>
                  <a:lnTo>
                    <a:pt x="1303" y="16740"/>
                  </a:lnTo>
                  <a:lnTo>
                    <a:pt x="940" y="17108"/>
                  </a:lnTo>
                  <a:lnTo>
                    <a:pt x="534" y="17525"/>
                  </a:lnTo>
                  <a:lnTo>
                    <a:pt x="214" y="18115"/>
                  </a:lnTo>
                  <a:lnTo>
                    <a:pt x="0" y="18605"/>
                  </a:lnTo>
                  <a:lnTo>
                    <a:pt x="0" y="19145"/>
                  </a:lnTo>
                  <a:lnTo>
                    <a:pt x="0" y="19636"/>
                  </a:lnTo>
                  <a:lnTo>
                    <a:pt x="214" y="20225"/>
                  </a:lnTo>
                  <a:lnTo>
                    <a:pt x="427" y="20643"/>
                  </a:lnTo>
                  <a:lnTo>
                    <a:pt x="833" y="21011"/>
                  </a:lnTo>
                  <a:lnTo>
                    <a:pt x="1303" y="21379"/>
                  </a:lnTo>
                  <a:lnTo>
                    <a:pt x="1944" y="21477"/>
                  </a:lnTo>
                  <a:lnTo>
                    <a:pt x="2521" y="21477"/>
                  </a:lnTo>
                  <a:lnTo>
                    <a:pt x="3141" y="21379"/>
                  </a:lnTo>
                  <a:lnTo>
                    <a:pt x="3611" y="21011"/>
                  </a:lnTo>
                  <a:lnTo>
                    <a:pt x="4145" y="20520"/>
                  </a:lnTo>
                  <a:lnTo>
                    <a:pt x="4658" y="19857"/>
                  </a:lnTo>
                  <a:lnTo>
                    <a:pt x="4914" y="20225"/>
                  </a:lnTo>
                  <a:lnTo>
                    <a:pt x="5448" y="20520"/>
                  </a:lnTo>
                  <a:lnTo>
                    <a:pt x="6025" y="20765"/>
                  </a:lnTo>
                  <a:lnTo>
                    <a:pt x="6751" y="21134"/>
                  </a:lnTo>
                  <a:lnTo>
                    <a:pt x="7542" y="21379"/>
                  </a:lnTo>
                  <a:lnTo>
                    <a:pt x="8418" y="21477"/>
                  </a:lnTo>
                  <a:lnTo>
                    <a:pt x="9465" y="21600"/>
                  </a:lnTo>
                  <a:lnTo>
                    <a:pt x="10661" y="21600"/>
                  </a:lnTo>
                  <a:close/>
                </a:path>
                <a:path w="21600" h="21600">
                  <a:moveTo>
                    <a:pt x="17049" y="19857"/>
                  </a:moveTo>
                  <a:lnTo>
                    <a:pt x="17049" y="19268"/>
                  </a:lnTo>
                  <a:lnTo>
                    <a:pt x="17049" y="18016"/>
                  </a:lnTo>
                  <a:lnTo>
                    <a:pt x="17049" y="16274"/>
                  </a:lnTo>
                  <a:lnTo>
                    <a:pt x="17049" y="14114"/>
                  </a:lnTo>
                  <a:lnTo>
                    <a:pt x="17049" y="11880"/>
                  </a:lnTo>
                  <a:lnTo>
                    <a:pt x="17049" y="9843"/>
                  </a:lnTo>
                  <a:lnTo>
                    <a:pt x="17049" y="8100"/>
                  </a:lnTo>
                  <a:lnTo>
                    <a:pt x="17049" y="7069"/>
                  </a:lnTo>
                  <a:lnTo>
                    <a:pt x="16942" y="6725"/>
                  </a:lnTo>
                  <a:lnTo>
                    <a:pt x="16836" y="6357"/>
                  </a:lnTo>
                  <a:lnTo>
                    <a:pt x="16686" y="6112"/>
                  </a:lnTo>
                  <a:lnTo>
                    <a:pt x="16472" y="5768"/>
                  </a:lnTo>
                  <a:lnTo>
                    <a:pt x="15746" y="5351"/>
                  </a:lnTo>
                  <a:lnTo>
                    <a:pt x="14849" y="4983"/>
                  </a:lnTo>
                  <a:lnTo>
                    <a:pt x="13951" y="4615"/>
                  </a:lnTo>
                  <a:lnTo>
                    <a:pt x="12862" y="4369"/>
                  </a:lnTo>
                  <a:lnTo>
                    <a:pt x="11879" y="4271"/>
                  </a:lnTo>
                  <a:lnTo>
                    <a:pt x="10832" y="4197"/>
                  </a:lnTo>
                  <a:lnTo>
                    <a:pt x="9828" y="4271"/>
                  </a:lnTo>
                  <a:lnTo>
                    <a:pt x="8845" y="4369"/>
                  </a:lnTo>
                  <a:lnTo>
                    <a:pt x="7734" y="4615"/>
                  </a:lnTo>
                  <a:lnTo>
                    <a:pt x="6751" y="4983"/>
                  </a:lnTo>
                  <a:lnTo>
                    <a:pt x="5961" y="5351"/>
                  </a:lnTo>
                  <a:lnTo>
                    <a:pt x="5234" y="5768"/>
                  </a:lnTo>
                  <a:lnTo>
                    <a:pt x="4914" y="6112"/>
                  </a:lnTo>
                  <a:lnTo>
                    <a:pt x="4764" y="6357"/>
                  </a:lnTo>
                  <a:lnTo>
                    <a:pt x="4658" y="6725"/>
                  </a:lnTo>
                  <a:lnTo>
                    <a:pt x="4658" y="7069"/>
                  </a:lnTo>
                  <a:lnTo>
                    <a:pt x="4658" y="8100"/>
                  </a:lnTo>
                  <a:lnTo>
                    <a:pt x="4658" y="9843"/>
                  </a:lnTo>
                  <a:lnTo>
                    <a:pt x="4658" y="11880"/>
                  </a:lnTo>
                  <a:lnTo>
                    <a:pt x="4658" y="14114"/>
                  </a:lnTo>
                  <a:lnTo>
                    <a:pt x="4658" y="16274"/>
                  </a:lnTo>
                  <a:lnTo>
                    <a:pt x="4658" y="18016"/>
                  </a:lnTo>
                  <a:lnTo>
                    <a:pt x="4658" y="19268"/>
                  </a:lnTo>
                  <a:lnTo>
                    <a:pt x="4658" y="19857"/>
                  </a:lnTo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desk2"/>
            <p:cNvSpPr/>
            <p:nvPr/>
          </p:nvSpPr>
          <p:spPr>
            <a:xfrm rot="10308600">
              <a:off x="5724000" y="4509360"/>
              <a:ext cx="631440" cy="507600"/>
            </a:xfrm>
            <a:custGeom>
              <a:avLst/>
              <a:gdLst>
                <a:gd name="textAreaLeft" fmla="*/ 29160 w 631440"/>
                <a:gd name="textAreaRight" fmla="*/ 602280 w 631440"/>
                <a:gd name="textAreaTop" fmla="*/ 277200 h 507600"/>
                <a:gd name="textAreaBottom" fmla="*/ 484200 h 50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21600" y="0"/>
                  </a:lnTo>
                  <a:lnTo>
                    <a:pt x="21600" y="12800"/>
                  </a:lnTo>
                  <a:lnTo>
                    <a:pt x="12800" y="21600"/>
                  </a:lnTo>
                  <a:lnTo>
                    <a:pt x="0" y="21600"/>
                  </a:lnTo>
                  <a:lnTo>
                    <a:pt x="0" y="10800"/>
                  </a:lnTo>
                  <a:lnTo>
                    <a:pt x="5400" y="10800"/>
                  </a:lnTo>
                  <a:lnTo>
                    <a:pt x="10800" y="5400"/>
                  </a:lnTo>
                  <a:lnTo>
                    <a:pt x="10800" y="0"/>
                  </a:lnTo>
                  <a:close/>
                </a:path>
              </a:pathLst>
            </a:cu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desk1"/>
            <p:cNvSpPr/>
            <p:nvPr/>
          </p:nvSpPr>
          <p:spPr>
            <a:xfrm>
              <a:off x="7132680" y="5250960"/>
              <a:ext cx="838800" cy="362520"/>
            </a:xfrm>
            <a:custGeom>
              <a:avLst/>
              <a:gdLst>
                <a:gd name="textAreaLeft" fmla="*/ 38520 w 838800"/>
                <a:gd name="textAreaRight" fmla="*/ 800280 w 838800"/>
                <a:gd name="textAreaTop" fmla="*/ 16560 h 362520"/>
                <a:gd name="textAreaBottom" fmla="*/ 345960 h 36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door"/>
            <p:cNvSpPr/>
            <p:nvPr/>
          </p:nvSpPr>
          <p:spPr>
            <a:xfrm rot="16893600">
              <a:off x="8216640" y="5150880"/>
              <a:ext cx="362520" cy="419400"/>
            </a:xfrm>
            <a:custGeom>
              <a:avLst/>
              <a:gdLst>
                <a:gd name="textAreaLeft" fmla="*/ 44640 w 362520"/>
                <a:gd name="textAreaRight" fmla="*/ 225000 w 362520"/>
                <a:gd name="textAreaTop" fmla="*/ 217080 h 419400"/>
                <a:gd name="textAreaBottom" fmla="*/ 391320 h 41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21600"/>
                  </a:moveTo>
                  <a:lnTo>
                    <a:pt x="6007" y="127"/>
                  </a:lnTo>
                  <a:lnTo>
                    <a:pt x="4665" y="2541"/>
                  </a:lnTo>
                  <a:lnTo>
                    <a:pt x="3579" y="5209"/>
                  </a:lnTo>
                  <a:lnTo>
                    <a:pt x="2492" y="8259"/>
                  </a:lnTo>
                  <a:lnTo>
                    <a:pt x="1598" y="11308"/>
                  </a:lnTo>
                  <a:lnTo>
                    <a:pt x="959" y="14739"/>
                  </a:lnTo>
                  <a:lnTo>
                    <a:pt x="383" y="18169"/>
                  </a:lnTo>
                  <a:lnTo>
                    <a:pt x="0" y="216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ilecab3"/>
            <p:cNvSpPr/>
            <p:nvPr/>
          </p:nvSpPr>
          <p:spPr>
            <a:xfrm rot="16200000">
              <a:off x="5457960" y="5371920"/>
              <a:ext cx="725040" cy="192240"/>
            </a:xfrm>
            <a:custGeom>
              <a:avLst/>
              <a:gdLst>
                <a:gd name="textAreaLeft" fmla="*/ 33480 w 725040"/>
                <a:gd name="textAreaRight" fmla="*/ 689760 w 725040"/>
                <a:gd name="textAreaTop" fmla="*/ 4320 h 192240"/>
                <a:gd name="textAreaBottom" fmla="*/ 16704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788" y="0"/>
                  </a:moveTo>
                  <a:lnTo>
                    <a:pt x="0" y="0"/>
                  </a:lnTo>
                  <a:lnTo>
                    <a:pt x="0" y="10800"/>
                  </a:lnTo>
                  <a:lnTo>
                    <a:pt x="0" y="19099"/>
                  </a:lnTo>
                  <a:lnTo>
                    <a:pt x="8466" y="19099"/>
                  </a:lnTo>
                  <a:lnTo>
                    <a:pt x="8490" y="19440"/>
                  </a:lnTo>
                  <a:lnTo>
                    <a:pt x="8537" y="20008"/>
                  </a:lnTo>
                  <a:lnTo>
                    <a:pt x="8607" y="20349"/>
                  </a:lnTo>
                  <a:lnTo>
                    <a:pt x="8701" y="20691"/>
                  </a:lnTo>
                  <a:lnTo>
                    <a:pt x="8842" y="21145"/>
                  </a:lnTo>
                  <a:lnTo>
                    <a:pt x="9053" y="21373"/>
                  </a:lnTo>
                  <a:lnTo>
                    <a:pt x="9264" y="21600"/>
                  </a:lnTo>
                  <a:lnTo>
                    <a:pt x="9545" y="21600"/>
                  </a:lnTo>
                  <a:lnTo>
                    <a:pt x="10718" y="21600"/>
                  </a:lnTo>
                  <a:lnTo>
                    <a:pt x="11891" y="21600"/>
                  </a:lnTo>
                  <a:lnTo>
                    <a:pt x="12266" y="21600"/>
                  </a:lnTo>
                  <a:lnTo>
                    <a:pt x="12477" y="21429"/>
                  </a:lnTo>
                  <a:lnTo>
                    <a:pt x="12618" y="21202"/>
                  </a:lnTo>
                  <a:lnTo>
                    <a:pt x="12758" y="20861"/>
                  </a:lnTo>
                  <a:lnTo>
                    <a:pt x="12922" y="20349"/>
                  </a:lnTo>
                  <a:lnTo>
                    <a:pt x="12993" y="19952"/>
                  </a:lnTo>
                  <a:lnTo>
                    <a:pt x="13016" y="19440"/>
                  </a:lnTo>
                  <a:lnTo>
                    <a:pt x="13063" y="19099"/>
                  </a:lnTo>
                  <a:lnTo>
                    <a:pt x="21600" y="19099"/>
                  </a:lnTo>
                  <a:lnTo>
                    <a:pt x="21600" y="10800"/>
                  </a:lnTo>
                  <a:lnTo>
                    <a:pt x="21600" y="0"/>
                  </a:lnTo>
                  <a:lnTo>
                    <a:pt x="10788" y="0"/>
                  </a:lnTo>
                  <a:close/>
                  <a:moveTo>
                    <a:pt x="9053" y="19099"/>
                  </a:moveTo>
                  <a:lnTo>
                    <a:pt x="9053" y="19440"/>
                  </a:lnTo>
                  <a:lnTo>
                    <a:pt x="9076" y="19611"/>
                  </a:lnTo>
                  <a:lnTo>
                    <a:pt x="9123" y="19781"/>
                  </a:lnTo>
                  <a:lnTo>
                    <a:pt x="9193" y="20008"/>
                  </a:lnTo>
                  <a:lnTo>
                    <a:pt x="9264" y="20179"/>
                  </a:lnTo>
                  <a:lnTo>
                    <a:pt x="9334" y="20293"/>
                  </a:lnTo>
                  <a:lnTo>
                    <a:pt x="9405" y="20349"/>
                  </a:lnTo>
                  <a:lnTo>
                    <a:pt x="9545" y="20349"/>
                  </a:lnTo>
                  <a:lnTo>
                    <a:pt x="11891" y="20349"/>
                  </a:lnTo>
                  <a:lnTo>
                    <a:pt x="12031" y="20349"/>
                  </a:lnTo>
                  <a:lnTo>
                    <a:pt x="12172" y="20236"/>
                  </a:lnTo>
                  <a:lnTo>
                    <a:pt x="12266" y="20179"/>
                  </a:lnTo>
                  <a:lnTo>
                    <a:pt x="12336" y="20008"/>
                  </a:lnTo>
                  <a:lnTo>
                    <a:pt x="12383" y="19838"/>
                  </a:lnTo>
                  <a:lnTo>
                    <a:pt x="12430" y="19611"/>
                  </a:lnTo>
                  <a:lnTo>
                    <a:pt x="12477" y="19440"/>
                  </a:lnTo>
                  <a:lnTo>
                    <a:pt x="12477" y="19099"/>
                  </a:lnTo>
                  <a:lnTo>
                    <a:pt x="9053" y="19099"/>
                  </a:lnTo>
                  <a:close/>
                </a:path>
                <a:path w="21600" h="21600">
                  <a:moveTo>
                    <a:pt x="9053" y="19099"/>
                  </a:moveTo>
                  <a:lnTo>
                    <a:pt x="0" y="19099"/>
                  </a:lnTo>
                  <a:lnTo>
                    <a:pt x="21600" y="19099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phone3"/>
            <p:cNvSpPr/>
            <p:nvPr/>
          </p:nvSpPr>
          <p:spPr>
            <a:xfrm rot="4980000">
              <a:off x="6899400" y="5507640"/>
              <a:ext cx="183240" cy="211680"/>
            </a:xfrm>
            <a:custGeom>
              <a:avLst/>
              <a:gdLst>
                <a:gd name="textAreaLeft" fmla="*/ 1440 w 183240"/>
                <a:gd name="textAreaRight" fmla="*/ 181800 w 183240"/>
                <a:gd name="textAreaTop" fmla="*/ 230760 h 211680"/>
                <a:gd name="textAreaBottom" fmla="*/ 397440 h 21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692" y="21600"/>
                  </a:moveTo>
                  <a:lnTo>
                    <a:pt x="21600" y="21600"/>
                  </a:lnTo>
                  <a:lnTo>
                    <a:pt x="21600" y="10684"/>
                  </a:lnTo>
                  <a:lnTo>
                    <a:pt x="21600" y="0"/>
                  </a:lnTo>
                  <a:lnTo>
                    <a:pt x="10190" y="0"/>
                  </a:lnTo>
                  <a:lnTo>
                    <a:pt x="0" y="0"/>
                  </a:lnTo>
                  <a:lnTo>
                    <a:pt x="0" y="10916"/>
                  </a:lnTo>
                  <a:lnTo>
                    <a:pt x="0" y="21600"/>
                  </a:lnTo>
                  <a:lnTo>
                    <a:pt x="10692" y="21600"/>
                  </a:lnTo>
                  <a:close/>
                </a:path>
                <a:path w="21600" h="21600">
                  <a:moveTo>
                    <a:pt x="3552" y="13565"/>
                  </a:moveTo>
                  <a:lnTo>
                    <a:pt x="3552" y="14206"/>
                  </a:lnTo>
                  <a:lnTo>
                    <a:pt x="3409" y="14584"/>
                  </a:lnTo>
                  <a:lnTo>
                    <a:pt x="3050" y="15021"/>
                  </a:lnTo>
                  <a:lnTo>
                    <a:pt x="2619" y="15429"/>
                  </a:lnTo>
                  <a:lnTo>
                    <a:pt x="2296" y="15836"/>
                  </a:lnTo>
                  <a:lnTo>
                    <a:pt x="2045" y="16244"/>
                  </a:lnTo>
                  <a:lnTo>
                    <a:pt x="1902" y="16564"/>
                  </a:lnTo>
                  <a:lnTo>
                    <a:pt x="1794" y="17001"/>
                  </a:lnTo>
                  <a:lnTo>
                    <a:pt x="1830" y="17466"/>
                  </a:lnTo>
                  <a:lnTo>
                    <a:pt x="2009" y="17932"/>
                  </a:lnTo>
                  <a:lnTo>
                    <a:pt x="2260" y="18311"/>
                  </a:lnTo>
                  <a:lnTo>
                    <a:pt x="2548" y="18718"/>
                  </a:lnTo>
                  <a:lnTo>
                    <a:pt x="3050" y="19126"/>
                  </a:lnTo>
                  <a:lnTo>
                    <a:pt x="3552" y="19533"/>
                  </a:lnTo>
                  <a:lnTo>
                    <a:pt x="4342" y="19737"/>
                  </a:lnTo>
                  <a:lnTo>
                    <a:pt x="5095" y="19737"/>
                  </a:lnTo>
                  <a:lnTo>
                    <a:pt x="5849" y="19737"/>
                  </a:lnTo>
                  <a:lnTo>
                    <a:pt x="6351" y="19533"/>
                  </a:lnTo>
                  <a:lnTo>
                    <a:pt x="7140" y="19126"/>
                  </a:lnTo>
                  <a:lnTo>
                    <a:pt x="7535" y="18747"/>
                  </a:lnTo>
                  <a:lnTo>
                    <a:pt x="7894" y="18311"/>
                  </a:lnTo>
                  <a:lnTo>
                    <a:pt x="8145" y="17903"/>
                  </a:lnTo>
                  <a:lnTo>
                    <a:pt x="8324" y="17408"/>
                  </a:lnTo>
                  <a:lnTo>
                    <a:pt x="8324" y="16942"/>
                  </a:lnTo>
                  <a:lnTo>
                    <a:pt x="8252" y="16593"/>
                  </a:lnTo>
                  <a:lnTo>
                    <a:pt x="8145" y="16244"/>
                  </a:lnTo>
                  <a:lnTo>
                    <a:pt x="7894" y="15836"/>
                  </a:lnTo>
                  <a:lnTo>
                    <a:pt x="7571" y="15429"/>
                  </a:lnTo>
                  <a:lnTo>
                    <a:pt x="7140" y="15021"/>
                  </a:lnTo>
                  <a:lnTo>
                    <a:pt x="6853" y="14613"/>
                  </a:lnTo>
                  <a:lnTo>
                    <a:pt x="6602" y="14206"/>
                  </a:lnTo>
                  <a:lnTo>
                    <a:pt x="6602" y="13565"/>
                  </a:lnTo>
                  <a:lnTo>
                    <a:pt x="6602" y="8035"/>
                  </a:lnTo>
                  <a:lnTo>
                    <a:pt x="6602" y="7598"/>
                  </a:lnTo>
                  <a:lnTo>
                    <a:pt x="6853" y="6987"/>
                  </a:lnTo>
                  <a:lnTo>
                    <a:pt x="7212" y="6579"/>
                  </a:lnTo>
                  <a:lnTo>
                    <a:pt x="7643" y="6171"/>
                  </a:lnTo>
                  <a:lnTo>
                    <a:pt x="7894" y="5764"/>
                  </a:lnTo>
                  <a:lnTo>
                    <a:pt x="8037" y="5531"/>
                  </a:lnTo>
                  <a:lnTo>
                    <a:pt x="8252" y="5153"/>
                  </a:lnTo>
                  <a:lnTo>
                    <a:pt x="8360" y="4599"/>
                  </a:lnTo>
                  <a:lnTo>
                    <a:pt x="8288" y="4134"/>
                  </a:lnTo>
                  <a:lnTo>
                    <a:pt x="8145" y="3697"/>
                  </a:lnTo>
                  <a:lnTo>
                    <a:pt x="7894" y="3289"/>
                  </a:lnTo>
                  <a:lnTo>
                    <a:pt x="7499" y="2853"/>
                  </a:lnTo>
                  <a:lnTo>
                    <a:pt x="7033" y="2533"/>
                  </a:lnTo>
                  <a:lnTo>
                    <a:pt x="6387" y="2242"/>
                  </a:lnTo>
                  <a:lnTo>
                    <a:pt x="5849" y="2067"/>
                  </a:lnTo>
                  <a:lnTo>
                    <a:pt x="5095" y="1950"/>
                  </a:lnTo>
                  <a:lnTo>
                    <a:pt x="4234" y="2038"/>
                  </a:lnTo>
                  <a:lnTo>
                    <a:pt x="3552" y="2271"/>
                  </a:lnTo>
                  <a:lnTo>
                    <a:pt x="3050" y="2504"/>
                  </a:lnTo>
                  <a:lnTo>
                    <a:pt x="2548" y="2882"/>
                  </a:lnTo>
                  <a:lnTo>
                    <a:pt x="2225" y="3231"/>
                  </a:lnTo>
                  <a:lnTo>
                    <a:pt x="1973" y="3697"/>
                  </a:lnTo>
                  <a:lnTo>
                    <a:pt x="1794" y="4308"/>
                  </a:lnTo>
                  <a:lnTo>
                    <a:pt x="1794" y="4745"/>
                  </a:lnTo>
                  <a:lnTo>
                    <a:pt x="1866" y="5123"/>
                  </a:lnTo>
                  <a:lnTo>
                    <a:pt x="2045" y="5560"/>
                  </a:lnTo>
                  <a:lnTo>
                    <a:pt x="2296" y="5851"/>
                  </a:lnTo>
                  <a:lnTo>
                    <a:pt x="2548" y="6171"/>
                  </a:lnTo>
                  <a:lnTo>
                    <a:pt x="3014" y="6608"/>
                  </a:lnTo>
                  <a:lnTo>
                    <a:pt x="3301" y="6987"/>
                  </a:lnTo>
                  <a:lnTo>
                    <a:pt x="3552" y="7598"/>
                  </a:lnTo>
                  <a:lnTo>
                    <a:pt x="3552" y="8035"/>
                  </a:lnTo>
                  <a:lnTo>
                    <a:pt x="3552" y="13565"/>
                  </a:lnTo>
                  <a:close/>
                </a:path>
                <a:path w="21600" h="21600">
                  <a:moveTo>
                    <a:pt x="10154" y="1863"/>
                  </a:moveTo>
                  <a:lnTo>
                    <a:pt x="19088" y="1863"/>
                  </a:lnTo>
                  <a:lnTo>
                    <a:pt x="19088" y="8238"/>
                  </a:lnTo>
                  <a:lnTo>
                    <a:pt x="10154" y="8238"/>
                  </a:lnTo>
                  <a:lnTo>
                    <a:pt x="10154" y="1863"/>
                  </a:lnTo>
                  <a:moveTo>
                    <a:pt x="10441" y="10101"/>
                  </a:moveTo>
                  <a:lnTo>
                    <a:pt x="10441" y="9461"/>
                  </a:lnTo>
                  <a:lnTo>
                    <a:pt x="18837" y="9461"/>
                  </a:lnTo>
                  <a:lnTo>
                    <a:pt x="18837" y="10101"/>
                  </a:lnTo>
                  <a:lnTo>
                    <a:pt x="10441" y="10101"/>
                  </a:lnTo>
                  <a:moveTo>
                    <a:pt x="11374" y="11004"/>
                  </a:moveTo>
                  <a:lnTo>
                    <a:pt x="12630" y="11004"/>
                  </a:lnTo>
                  <a:lnTo>
                    <a:pt x="12630" y="12226"/>
                  </a:lnTo>
                  <a:lnTo>
                    <a:pt x="11374" y="12226"/>
                  </a:lnTo>
                  <a:lnTo>
                    <a:pt x="11374" y="11004"/>
                  </a:lnTo>
                  <a:moveTo>
                    <a:pt x="13993" y="11004"/>
                  </a:moveTo>
                  <a:lnTo>
                    <a:pt x="15249" y="11004"/>
                  </a:lnTo>
                  <a:lnTo>
                    <a:pt x="15249" y="12226"/>
                  </a:lnTo>
                  <a:lnTo>
                    <a:pt x="13993" y="12226"/>
                  </a:lnTo>
                  <a:lnTo>
                    <a:pt x="13993" y="11004"/>
                  </a:lnTo>
                  <a:moveTo>
                    <a:pt x="16649" y="11004"/>
                  </a:moveTo>
                  <a:lnTo>
                    <a:pt x="17904" y="11004"/>
                  </a:lnTo>
                  <a:lnTo>
                    <a:pt x="17904" y="12226"/>
                  </a:lnTo>
                  <a:lnTo>
                    <a:pt x="16649" y="12226"/>
                  </a:lnTo>
                  <a:lnTo>
                    <a:pt x="16649" y="11004"/>
                  </a:lnTo>
                  <a:moveTo>
                    <a:pt x="11374" y="12954"/>
                  </a:moveTo>
                  <a:lnTo>
                    <a:pt x="12630" y="12954"/>
                  </a:lnTo>
                  <a:lnTo>
                    <a:pt x="12630" y="14177"/>
                  </a:lnTo>
                  <a:lnTo>
                    <a:pt x="11374" y="14177"/>
                  </a:lnTo>
                  <a:lnTo>
                    <a:pt x="11374" y="12954"/>
                  </a:lnTo>
                  <a:moveTo>
                    <a:pt x="13993" y="12954"/>
                  </a:moveTo>
                  <a:lnTo>
                    <a:pt x="15249" y="12954"/>
                  </a:lnTo>
                  <a:lnTo>
                    <a:pt x="15249" y="14177"/>
                  </a:lnTo>
                  <a:lnTo>
                    <a:pt x="13993" y="14177"/>
                  </a:lnTo>
                  <a:lnTo>
                    <a:pt x="13993" y="12954"/>
                  </a:lnTo>
                  <a:moveTo>
                    <a:pt x="16649" y="12954"/>
                  </a:moveTo>
                  <a:lnTo>
                    <a:pt x="17904" y="12954"/>
                  </a:lnTo>
                  <a:lnTo>
                    <a:pt x="17904" y="14177"/>
                  </a:lnTo>
                  <a:lnTo>
                    <a:pt x="16649" y="14177"/>
                  </a:lnTo>
                  <a:lnTo>
                    <a:pt x="16649" y="12954"/>
                  </a:lnTo>
                  <a:moveTo>
                    <a:pt x="11374" y="14905"/>
                  </a:moveTo>
                  <a:lnTo>
                    <a:pt x="12630" y="14905"/>
                  </a:lnTo>
                  <a:lnTo>
                    <a:pt x="12630" y="16127"/>
                  </a:lnTo>
                  <a:lnTo>
                    <a:pt x="11374" y="16127"/>
                  </a:lnTo>
                  <a:lnTo>
                    <a:pt x="11374" y="14905"/>
                  </a:lnTo>
                  <a:moveTo>
                    <a:pt x="13993" y="14905"/>
                  </a:moveTo>
                  <a:lnTo>
                    <a:pt x="15249" y="14905"/>
                  </a:lnTo>
                  <a:lnTo>
                    <a:pt x="15249" y="16127"/>
                  </a:lnTo>
                  <a:lnTo>
                    <a:pt x="13993" y="16127"/>
                  </a:lnTo>
                  <a:lnTo>
                    <a:pt x="13993" y="14905"/>
                  </a:lnTo>
                  <a:moveTo>
                    <a:pt x="16649" y="14905"/>
                  </a:moveTo>
                  <a:lnTo>
                    <a:pt x="17904" y="14905"/>
                  </a:lnTo>
                  <a:lnTo>
                    <a:pt x="17904" y="16127"/>
                  </a:lnTo>
                  <a:lnTo>
                    <a:pt x="16649" y="16127"/>
                  </a:lnTo>
                  <a:lnTo>
                    <a:pt x="16649" y="14905"/>
                  </a:lnTo>
                  <a:moveTo>
                    <a:pt x="11374" y="16855"/>
                  </a:moveTo>
                  <a:lnTo>
                    <a:pt x="12630" y="16855"/>
                  </a:lnTo>
                  <a:lnTo>
                    <a:pt x="12630" y="18078"/>
                  </a:lnTo>
                  <a:lnTo>
                    <a:pt x="11374" y="18078"/>
                  </a:lnTo>
                  <a:lnTo>
                    <a:pt x="11374" y="16855"/>
                  </a:lnTo>
                  <a:moveTo>
                    <a:pt x="13993" y="16855"/>
                  </a:moveTo>
                  <a:lnTo>
                    <a:pt x="15249" y="16855"/>
                  </a:lnTo>
                  <a:lnTo>
                    <a:pt x="15249" y="18078"/>
                  </a:lnTo>
                  <a:lnTo>
                    <a:pt x="13993" y="18078"/>
                  </a:lnTo>
                  <a:lnTo>
                    <a:pt x="13993" y="16855"/>
                  </a:lnTo>
                  <a:moveTo>
                    <a:pt x="16649" y="16855"/>
                  </a:moveTo>
                  <a:lnTo>
                    <a:pt x="17904" y="16855"/>
                  </a:lnTo>
                  <a:lnTo>
                    <a:pt x="17904" y="18078"/>
                  </a:lnTo>
                  <a:lnTo>
                    <a:pt x="16649" y="18078"/>
                  </a:lnTo>
                  <a:lnTo>
                    <a:pt x="16649" y="16855"/>
                  </a:lnTo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PC"/>
            <p:cNvSpPr/>
            <p:nvPr/>
          </p:nvSpPr>
          <p:spPr>
            <a:xfrm rot="7892400">
              <a:off x="5805000" y="4575240"/>
              <a:ext cx="362520" cy="313560"/>
            </a:xfrm>
            <a:custGeom>
              <a:avLst/>
              <a:gdLst>
                <a:gd name="textAreaLeft" fmla="*/ 46800 w 362520"/>
                <a:gd name="textAreaRight" fmla="*/ 320040 w 362520"/>
                <a:gd name="textAreaTop" fmla="*/ 56520 h 313560"/>
                <a:gd name="textAreaBottom" fmla="*/ 207000 h 31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10851"/>
                  </a:moveTo>
                  <a:lnTo>
                    <a:pt x="21600" y="0"/>
                  </a:lnTo>
                  <a:lnTo>
                    <a:pt x="10823" y="0"/>
                  </a:lnTo>
                  <a:lnTo>
                    <a:pt x="0" y="0"/>
                  </a:lnTo>
                  <a:lnTo>
                    <a:pt x="0" y="10919"/>
                  </a:lnTo>
                  <a:lnTo>
                    <a:pt x="0" y="19328"/>
                  </a:lnTo>
                  <a:lnTo>
                    <a:pt x="5924" y="19328"/>
                  </a:lnTo>
                  <a:lnTo>
                    <a:pt x="6494" y="21600"/>
                  </a:lnTo>
                  <a:lnTo>
                    <a:pt x="10663" y="21600"/>
                  </a:lnTo>
                  <a:lnTo>
                    <a:pt x="15334" y="21600"/>
                  </a:lnTo>
                  <a:lnTo>
                    <a:pt x="15904" y="19328"/>
                  </a:lnTo>
                  <a:lnTo>
                    <a:pt x="21600" y="19328"/>
                  </a:lnTo>
                  <a:lnTo>
                    <a:pt x="21600" y="10851"/>
                  </a:lnTo>
                  <a:close/>
                </a:path>
                <a:path w="21600" h="21600">
                  <a:moveTo>
                    <a:pt x="15904" y="19328"/>
                  </a:moveTo>
                  <a:lnTo>
                    <a:pt x="16861" y="14750"/>
                  </a:lnTo>
                  <a:lnTo>
                    <a:pt x="19367" y="14750"/>
                  </a:lnTo>
                  <a:lnTo>
                    <a:pt x="19367" y="3459"/>
                  </a:lnTo>
                  <a:lnTo>
                    <a:pt x="2461" y="3459"/>
                  </a:lnTo>
                  <a:lnTo>
                    <a:pt x="2461" y="14750"/>
                  </a:lnTo>
                  <a:lnTo>
                    <a:pt x="4967" y="14750"/>
                  </a:lnTo>
                  <a:lnTo>
                    <a:pt x="5924" y="19159"/>
                  </a:lnTo>
                  <a:moveTo>
                    <a:pt x="15904" y="19328"/>
                  </a:moveTo>
                  <a:lnTo>
                    <a:pt x="16861" y="14750"/>
                  </a:lnTo>
                  <a:lnTo>
                    <a:pt x="2461" y="14750"/>
                  </a:lnTo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plant"/>
            <p:cNvSpPr/>
            <p:nvPr/>
          </p:nvSpPr>
          <p:spPr>
            <a:xfrm>
              <a:off x="5724360" y="5906160"/>
              <a:ext cx="443520" cy="383400"/>
            </a:xfrm>
            <a:custGeom>
              <a:avLst/>
              <a:gdLst>
                <a:gd name="textAreaLeft" fmla="*/ 145800 w 443520"/>
                <a:gd name="textAreaRight" fmla="*/ 298800 w 443520"/>
                <a:gd name="textAreaTop" fmla="*/ 179280 h 383400"/>
                <a:gd name="textAreaBottom" fmla="*/ 240840 h 38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8" y="9002"/>
                  </a:moveTo>
                  <a:lnTo>
                    <a:pt x="9254" y="8422"/>
                  </a:lnTo>
                  <a:lnTo>
                    <a:pt x="9139" y="7935"/>
                  </a:lnTo>
                  <a:lnTo>
                    <a:pt x="8819" y="7355"/>
                  </a:lnTo>
                  <a:lnTo>
                    <a:pt x="8475" y="6728"/>
                  </a:lnTo>
                  <a:lnTo>
                    <a:pt x="8040" y="6287"/>
                  </a:lnTo>
                  <a:lnTo>
                    <a:pt x="7421" y="5707"/>
                  </a:lnTo>
                  <a:lnTo>
                    <a:pt x="6574" y="5429"/>
                  </a:lnTo>
                  <a:lnTo>
                    <a:pt x="5452" y="5313"/>
                  </a:lnTo>
                  <a:lnTo>
                    <a:pt x="4856" y="5220"/>
                  </a:lnTo>
                  <a:lnTo>
                    <a:pt x="4169" y="5220"/>
                  </a:lnTo>
                  <a:lnTo>
                    <a:pt x="3665" y="5104"/>
                  </a:lnTo>
                  <a:lnTo>
                    <a:pt x="3001" y="4872"/>
                  </a:lnTo>
                  <a:lnTo>
                    <a:pt x="2497" y="4756"/>
                  </a:lnTo>
                  <a:lnTo>
                    <a:pt x="2062" y="4408"/>
                  </a:lnTo>
                  <a:lnTo>
                    <a:pt x="1603" y="4083"/>
                  </a:lnTo>
                  <a:lnTo>
                    <a:pt x="1283" y="3689"/>
                  </a:lnTo>
                  <a:lnTo>
                    <a:pt x="1283" y="4315"/>
                  </a:lnTo>
                  <a:lnTo>
                    <a:pt x="1489" y="5104"/>
                  </a:lnTo>
                  <a:lnTo>
                    <a:pt x="1832" y="6055"/>
                  </a:lnTo>
                  <a:lnTo>
                    <a:pt x="2382" y="6914"/>
                  </a:lnTo>
                  <a:lnTo>
                    <a:pt x="2680" y="7471"/>
                  </a:lnTo>
                  <a:lnTo>
                    <a:pt x="3115" y="7935"/>
                  </a:lnTo>
                  <a:lnTo>
                    <a:pt x="3573" y="8213"/>
                  </a:lnTo>
                  <a:lnTo>
                    <a:pt x="4077" y="8654"/>
                  </a:lnTo>
                  <a:lnTo>
                    <a:pt x="4627" y="9002"/>
                  </a:lnTo>
                  <a:lnTo>
                    <a:pt x="5245" y="9234"/>
                  </a:lnTo>
                  <a:lnTo>
                    <a:pt x="6024" y="9443"/>
                  </a:lnTo>
                  <a:lnTo>
                    <a:pt x="6757" y="9628"/>
                  </a:lnTo>
                  <a:lnTo>
                    <a:pt x="5177" y="10069"/>
                  </a:lnTo>
                  <a:lnTo>
                    <a:pt x="3963" y="10649"/>
                  </a:lnTo>
                  <a:lnTo>
                    <a:pt x="3344" y="11044"/>
                  </a:lnTo>
                  <a:lnTo>
                    <a:pt x="2886" y="11600"/>
                  </a:lnTo>
                  <a:lnTo>
                    <a:pt x="2497" y="12041"/>
                  </a:lnTo>
                  <a:lnTo>
                    <a:pt x="1947" y="12343"/>
                  </a:lnTo>
                  <a:lnTo>
                    <a:pt x="1168" y="12668"/>
                  </a:lnTo>
                  <a:lnTo>
                    <a:pt x="0" y="12900"/>
                  </a:lnTo>
                  <a:lnTo>
                    <a:pt x="435" y="13248"/>
                  </a:lnTo>
                  <a:lnTo>
                    <a:pt x="779" y="13456"/>
                  </a:lnTo>
                  <a:lnTo>
                    <a:pt x="1283" y="13642"/>
                  </a:lnTo>
                  <a:lnTo>
                    <a:pt x="1718" y="13758"/>
                  </a:lnTo>
                  <a:lnTo>
                    <a:pt x="2680" y="13851"/>
                  </a:lnTo>
                  <a:lnTo>
                    <a:pt x="3573" y="13758"/>
                  </a:lnTo>
                  <a:lnTo>
                    <a:pt x="4512" y="13526"/>
                  </a:lnTo>
                  <a:lnTo>
                    <a:pt x="5360" y="13248"/>
                  </a:lnTo>
                  <a:lnTo>
                    <a:pt x="6139" y="12900"/>
                  </a:lnTo>
                  <a:lnTo>
                    <a:pt x="6757" y="12552"/>
                  </a:lnTo>
                  <a:lnTo>
                    <a:pt x="6459" y="13132"/>
                  </a:lnTo>
                  <a:lnTo>
                    <a:pt x="6139" y="13642"/>
                  </a:lnTo>
                  <a:lnTo>
                    <a:pt x="5910" y="14199"/>
                  </a:lnTo>
                  <a:lnTo>
                    <a:pt x="5681" y="14663"/>
                  </a:lnTo>
                  <a:lnTo>
                    <a:pt x="5681" y="15150"/>
                  </a:lnTo>
                  <a:lnTo>
                    <a:pt x="5681" y="15730"/>
                  </a:lnTo>
                  <a:lnTo>
                    <a:pt x="5681" y="16241"/>
                  </a:lnTo>
                  <a:lnTo>
                    <a:pt x="5795" y="16913"/>
                  </a:lnTo>
                  <a:lnTo>
                    <a:pt x="5910" y="17586"/>
                  </a:lnTo>
                  <a:lnTo>
                    <a:pt x="5910" y="18213"/>
                  </a:lnTo>
                  <a:lnTo>
                    <a:pt x="5795" y="18885"/>
                  </a:lnTo>
                  <a:lnTo>
                    <a:pt x="5566" y="19396"/>
                  </a:lnTo>
                  <a:lnTo>
                    <a:pt x="5245" y="19976"/>
                  </a:lnTo>
                  <a:lnTo>
                    <a:pt x="4971" y="20370"/>
                  </a:lnTo>
                  <a:lnTo>
                    <a:pt x="4512" y="20811"/>
                  </a:lnTo>
                  <a:lnTo>
                    <a:pt x="4077" y="21043"/>
                  </a:lnTo>
                  <a:lnTo>
                    <a:pt x="5177" y="20927"/>
                  </a:lnTo>
                  <a:lnTo>
                    <a:pt x="6253" y="20486"/>
                  </a:lnTo>
                  <a:lnTo>
                    <a:pt x="7421" y="19976"/>
                  </a:lnTo>
                  <a:lnTo>
                    <a:pt x="8361" y="19187"/>
                  </a:lnTo>
                  <a:lnTo>
                    <a:pt x="8819" y="18769"/>
                  </a:lnTo>
                  <a:lnTo>
                    <a:pt x="9139" y="18213"/>
                  </a:lnTo>
                  <a:lnTo>
                    <a:pt x="9437" y="17772"/>
                  </a:lnTo>
                  <a:lnTo>
                    <a:pt x="9643" y="17261"/>
                  </a:lnTo>
                  <a:lnTo>
                    <a:pt x="9872" y="16681"/>
                  </a:lnTo>
                  <a:lnTo>
                    <a:pt x="9872" y="16171"/>
                  </a:lnTo>
                  <a:lnTo>
                    <a:pt x="9872" y="15614"/>
                  </a:lnTo>
                  <a:lnTo>
                    <a:pt x="9758" y="15057"/>
                  </a:lnTo>
                  <a:lnTo>
                    <a:pt x="10216" y="15498"/>
                  </a:lnTo>
                  <a:lnTo>
                    <a:pt x="10537" y="16241"/>
                  </a:lnTo>
                  <a:lnTo>
                    <a:pt x="10834" y="17145"/>
                  </a:lnTo>
                  <a:lnTo>
                    <a:pt x="11041" y="18213"/>
                  </a:lnTo>
                  <a:lnTo>
                    <a:pt x="11155" y="19187"/>
                  </a:lnTo>
                  <a:lnTo>
                    <a:pt x="11155" y="20185"/>
                  </a:lnTo>
                  <a:lnTo>
                    <a:pt x="11155" y="20579"/>
                  </a:lnTo>
                  <a:lnTo>
                    <a:pt x="11041" y="21043"/>
                  </a:lnTo>
                  <a:lnTo>
                    <a:pt x="10926" y="21391"/>
                  </a:lnTo>
                  <a:lnTo>
                    <a:pt x="10766" y="21600"/>
                  </a:lnTo>
                  <a:lnTo>
                    <a:pt x="11499" y="21484"/>
                  </a:lnTo>
                  <a:lnTo>
                    <a:pt x="12323" y="21043"/>
                  </a:lnTo>
                  <a:lnTo>
                    <a:pt x="13102" y="20370"/>
                  </a:lnTo>
                  <a:lnTo>
                    <a:pt x="13606" y="19628"/>
                  </a:lnTo>
                  <a:lnTo>
                    <a:pt x="13950" y="19071"/>
                  </a:lnTo>
                  <a:lnTo>
                    <a:pt x="14064" y="18677"/>
                  </a:lnTo>
                  <a:lnTo>
                    <a:pt x="14179" y="18097"/>
                  </a:lnTo>
                  <a:lnTo>
                    <a:pt x="14293" y="17586"/>
                  </a:lnTo>
                  <a:lnTo>
                    <a:pt x="14179" y="16913"/>
                  </a:lnTo>
                  <a:lnTo>
                    <a:pt x="14064" y="16241"/>
                  </a:lnTo>
                  <a:lnTo>
                    <a:pt x="13835" y="15614"/>
                  </a:lnTo>
                  <a:lnTo>
                    <a:pt x="13560" y="14872"/>
                  </a:lnTo>
                  <a:lnTo>
                    <a:pt x="13950" y="14941"/>
                  </a:lnTo>
                  <a:lnTo>
                    <a:pt x="14408" y="15150"/>
                  </a:lnTo>
                  <a:lnTo>
                    <a:pt x="14843" y="15266"/>
                  </a:lnTo>
                  <a:lnTo>
                    <a:pt x="15232" y="15614"/>
                  </a:lnTo>
                  <a:lnTo>
                    <a:pt x="15576" y="15846"/>
                  </a:lnTo>
                  <a:lnTo>
                    <a:pt x="15897" y="16171"/>
                  </a:lnTo>
                  <a:lnTo>
                    <a:pt x="16126" y="16473"/>
                  </a:lnTo>
                  <a:lnTo>
                    <a:pt x="16240" y="16913"/>
                  </a:lnTo>
                  <a:lnTo>
                    <a:pt x="16515" y="17261"/>
                  </a:lnTo>
                  <a:lnTo>
                    <a:pt x="17088" y="17586"/>
                  </a:lnTo>
                  <a:lnTo>
                    <a:pt x="17798" y="17865"/>
                  </a:lnTo>
                  <a:lnTo>
                    <a:pt x="18576" y="18097"/>
                  </a:lnTo>
                  <a:lnTo>
                    <a:pt x="19424" y="18213"/>
                  </a:lnTo>
                  <a:lnTo>
                    <a:pt x="20317" y="18213"/>
                  </a:lnTo>
                  <a:lnTo>
                    <a:pt x="21050" y="18213"/>
                  </a:lnTo>
                  <a:lnTo>
                    <a:pt x="21600" y="17865"/>
                  </a:lnTo>
                  <a:lnTo>
                    <a:pt x="21165" y="17656"/>
                  </a:lnTo>
                  <a:lnTo>
                    <a:pt x="20592" y="17470"/>
                  </a:lnTo>
                  <a:lnTo>
                    <a:pt x="20088" y="17029"/>
                  </a:lnTo>
                  <a:lnTo>
                    <a:pt x="19653" y="16681"/>
                  </a:lnTo>
                  <a:lnTo>
                    <a:pt x="19195" y="16241"/>
                  </a:lnTo>
                  <a:lnTo>
                    <a:pt x="18920" y="15962"/>
                  </a:lnTo>
                  <a:lnTo>
                    <a:pt x="18576" y="15498"/>
                  </a:lnTo>
                  <a:lnTo>
                    <a:pt x="18576" y="15057"/>
                  </a:lnTo>
                  <a:lnTo>
                    <a:pt x="18485" y="14756"/>
                  </a:lnTo>
                  <a:lnTo>
                    <a:pt x="18256" y="14199"/>
                  </a:lnTo>
                  <a:lnTo>
                    <a:pt x="17912" y="13526"/>
                  </a:lnTo>
                  <a:lnTo>
                    <a:pt x="17523" y="13016"/>
                  </a:lnTo>
                  <a:lnTo>
                    <a:pt x="16973" y="12436"/>
                  </a:lnTo>
                  <a:lnTo>
                    <a:pt x="16355" y="12041"/>
                  </a:lnTo>
                  <a:lnTo>
                    <a:pt x="16011" y="11832"/>
                  </a:lnTo>
                  <a:lnTo>
                    <a:pt x="15690" y="11716"/>
                  </a:lnTo>
                  <a:lnTo>
                    <a:pt x="15232" y="11716"/>
                  </a:lnTo>
                  <a:lnTo>
                    <a:pt x="14843" y="11716"/>
                  </a:lnTo>
                  <a:lnTo>
                    <a:pt x="15461" y="11252"/>
                  </a:lnTo>
                  <a:lnTo>
                    <a:pt x="16126" y="10858"/>
                  </a:lnTo>
                  <a:lnTo>
                    <a:pt x="16973" y="10649"/>
                  </a:lnTo>
                  <a:lnTo>
                    <a:pt x="17798" y="10417"/>
                  </a:lnTo>
                  <a:lnTo>
                    <a:pt x="18806" y="10301"/>
                  </a:lnTo>
                  <a:lnTo>
                    <a:pt x="19653" y="10301"/>
                  </a:lnTo>
                  <a:lnTo>
                    <a:pt x="20478" y="10417"/>
                  </a:lnTo>
                  <a:lnTo>
                    <a:pt x="21256" y="10533"/>
                  </a:lnTo>
                  <a:lnTo>
                    <a:pt x="20707" y="9837"/>
                  </a:lnTo>
                  <a:lnTo>
                    <a:pt x="19859" y="9234"/>
                  </a:lnTo>
                  <a:lnTo>
                    <a:pt x="18806" y="8538"/>
                  </a:lnTo>
                  <a:lnTo>
                    <a:pt x="17637" y="8144"/>
                  </a:lnTo>
                  <a:lnTo>
                    <a:pt x="16973" y="8027"/>
                  </a:lnTo>
                  <a:lnTo>
                    <a:pt x="16355" y="7935"/>
                  </a:lnTo>
                  <a:lnTo>
                    <a:pt x="15805" y="7935"/>
                  </a:lnTo>
                  <a:lnTo>
                    <a:pt x="15118" y="8027"/>
                  </a:lnTo>
                  <a:lnTo>
                    <a:pt x="14614" y="8144"/>
                  </a:lnTo>
                  <a:lnTo>
                    <a:pt x="14064" y="8422"/>
                  </a:lnTo>
                  <a:lnTo>
                    <a:pt x="13606" y="8886"/>
                  </a:lnTo>
                  <a:lnTo>
                    <a:pt x="13217" y="9327"/>
                  </a:lnTo>
                  <a:lnTo>
                    <a:pt x="13606" y="8538"/>
                  </a:lnTo>
                  <a:lnTo>
                    <a:pt x="13950" y="7935"/>
                  </a:lnTo>
                  <a:lnTo>
                    <a:pt x="14293" y="7123"/>
                  </a:lnTo>
                  <a:lnTo>
                    <a:pt x="14499" y="6519"/>
                  </a:lnTo>
                  <a:lnTo>
                    <a:pt x="14614" y="5823"/>
                  </a:lnTo>
                  <a:lnTo>
                    <a:pt x="14614" y="5220"/>
                  </a:lnTo>
                  <a:lnTo>
                    <a:pt x="14408" y="4524"/>
                  </a:lnTo>
                  <a:lnTo>
                    <a:pt x="14064" y="3898"/>
                  </a:lnTo>
                  <a:lnTo>
                    <a:pt x="13606" y="3225"/>
                  </a:lnTo>
                  <a:lnTo>
                    <a:pt x="13331" y="2598"/>
                  </a:lnTo>
                  <a:lnTo>
                    <a:pt x="13102" y="2042"/>
                  </a:lnTo>
                  <a:lnTo>
                    <a:pt x="12896" y="1485"/>
                  </a:lnTo>
                  <a:lnTo>
                    <a:pt x="12781" y="1090"/>
                  </a:lnTo>
                  <a:lnTo>
                    <a:pt x="12667" y="626"/>
                  </a:lnTo>
                  <a:lnTo>
                    <a:pt x="12667" y="278"/>
                  </a:lnTo>
                  <a:lnTo>
                    <a:pt x="12667" y="0"/>
                  </a:lnTo>
                  <a:lnTo>
                    <a:pt x="12163" y="394"/>
                  </a:lnTo>
                  <a:lnTo>
                    <a:pt x="11728" y="974"/>
                  </a:lnTo>
                  <a:lnTo>
                    <a:pt x="11155" y="1601"/>
                  </a:lnTo>
                  <a:lnTo>
                    <a:pt x="10766" y="2390"/>
                  </a:lnTo>
                  <a:lnTo>
                    <a:pt x="10330" y="3109"/>
                  </a:lnTo>
                  <a:lnTo>
                    <a:pt x="10101" y="3898"/>
                  </a:lnTo>
                  <a:lnTo>
                    <a:pt x="9987" y="4524"/>
                  </a:lnTo>
                  <a:lnTo>
                    <a:pt x="10101" y="5220"/>
                  </a:lnTo>
                  <a:lnTo>
                    <a:pt x="10216" y="5823"/>
                  </a:lnTo>
                  <a:lnTo>
                    <a:pt x="10330" y="6403"/>
                  </a:lnTo>
                  <a:lnTo>
                    <a:pt x="10330" y="6914"/>
                  </a:lnTo>
                  <a:lnTo>
                    <a:pt x="10216" y="7471"/>
                  </a:lnTo>
                  <a:lnTo>
                    <a:pt x="10101" y="7935"/>
                  </a:lnTo>
                  <a:lnTo>
                    <a:pt x="9872" y="8329"/>
                  </a:lnTo>
                  <a:lnTo>
                    <a:pt x="9643" y="8654"/>
                  </a:lnTo>
                  <a:lnTo>
                    <a:pt x="9368" y="900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ilecab3"/>
            <p:cNvSpPr/>
            <p:nvPr/>
          </p:nvSpPr>
          <p:spPr>
            <a:xfrm rot="5400000">
              <a:off x="8234280" y="4562280"/>
              <a:ext cx="340200" cy="317520"/>
            </a:xfrm>
            <a:custGeom>
              <a:avLst/>
              <a:gdLst>
                <a:gd name="textAreaLeft" fmla="*/ 15480 w 340200"/>
                <a:gd name="textAreaRight" fmla="*/ 323640 w 340200"/>
                <a:gd name="textAreaTop" fmla="*/ 7560 h 317520"/>
                <a:gd name="textAreaBottom" fmla="*/ 27576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788" y="0"/>
                  </a:moveTo>
                  <a:lnTo>
                    <a:pt x="0" y="0"/>
                  </a:lnTo>
                  <a:lnTo>
                    <a:pt x="0" y="10800"/>
                  </a:lnTo>
                  <a:lnTo>
                    <a:pt x="0" y="19099"/>
                  </a:lnTo>
                  <a:lnTo>
                    <a:pt x="8466" y="19099"/>
                  </a:lnTo>
                  <a:lnTo>
                    <a:pt x="8490" y="19440"/>
                  </a:lnTo>
                  <a:lnTo>
                    <a:pt x="8537" y="20008"/>
                  </a:lnTo>
                  <a:lnTo>
                    <a:pt x="8607" y="20349"/>
                  </a:lnTo>
                  <a:lnTo>
                    <a:pt x="8701" y="20691"/>
                  </a:lnTo>
                  <a:lnTo>
                    <a:pt x="8842" y="21145"/>
                  </a:lnTo>
                  <a:lnTo>
                    <a:pt x="9053" y="21373"/>
                  </a:lnTo>
                  <a:lnTo>
                    <a:pt x="9264" y="21600"/>
                  </a:lnTo>
                  <a:lnTo>
                    <a:pt x="9545" y="21600"/>
                  </a:lnTo>
                  <a:lnTo>
                    <a:pt x="10718" y="21600"/>
                  </a:lnTo>
                  <a:lnTo>
                    <a:pt x="11891" y="21600"/>
                  </a:lnTo>
                  <a:lnTo>
                    <a:pt x="12266" y="21600"/>
                  </a:lnTo>
                  <a:lnTo>
                    <a:pt x="12477" y="21429"/>
                  </a:lnTo>
                  <a:lnTo>
                    <a:pt x="12618" y="21202"/>
                  </a:lnTo>
                  <a:lnTo>
                    <a:pt x="12758" y="20861"/>
                  </a:lnTo>
                  <a:lnTo>
                    <a:pt x="12922" y="20349"/>
                  </a:lnTo>
                  <a:lnTo>
                    <a:pt x="12993" y="19952"/>
                  </a:lnTo>
                  <a:lnTo>
                    <a:pt x="13016" y="19440"/>
                  </a:lnTo>
                  <a:lnTo>
                    <a:pt x="13063" y="19099"/>
                  </a:lnTo>
                  <a:lnTo>
                    <a:pt x="21600" y="19099"/>
                  </a:lnTo>
                  <a:lnTo>
                    <a:pt x="21600" y="10800"/>
                  </a:lnTo>
                  <a:lnTo>
                    <a:pt x="21600" y="0"/>
                  </a:lnTo>
                  <a:lnTo>
                    <a:pt x="10788" y="0"/>
                  </a:lnTo>
                  <a:close/>
                  <a:moveTo>
                    <a:pt x="9053" y="19099"/>
                  </a:moveTo>
                  <a:lnTo>
                    <a:pt x="9053" y="19440"/>
                  </a:lnTo>
                  <a:lnTo>
                    <a:pt x="9076" y="19611"/>
                  </a:lnTo>
                  <a:lnTo>
                    <a:pt x="9123" y="19781"/>
                  </a:lnTo>
                  <a:lnTo>
                    <a:pt x="9193" y="20008"/>
                  </a:lnTo>
                  <a:lnTo>
                    <a:pt x="9264" y="20179"/>
                  </a:lnTo>
                  <a:lnTo>
                    <a:pt x="9334" y="20293"/>
                  </a:lnTo>
                  <a:lnTo>
                    <a:pt x="9405" y="20349"/>
                  </a:lnTo>
                  <a:lnTo>
                    <a:pt x="9545" y="20349"/>
                  </a:lnTo>
                  <a:lnTo>
                    <a:pt x="11891" y="20349"/>
                  </a:lnTo>
                  <a:lnTo>
                    <a:pt x="12031" y="20349"/>
                  </a:lnTo>
                  <a:lnTo>
                    <a:pt x="12172" y="20236"/>
                  </a:lnTo>
                  <a:lnTo>
                    <a:pt x="12266" y="20179"/>
                  </a:lnTo>
                  <a:lnTo>
                    <a:pt x="12336" y="20008"/>
                  </a:lnTo>
                  <a:lnTo>
                    <a:pt x="12383" y="19838"/>
                  </a:lnTo>
                  <a:lnTo>
                    <a:pt x="12430" y="19611"/>
                  </a:lnTo>
                  <a:lnTo>
                    <a:pt x="12477" y="19440"/>
                  </a:lnTo>
                  <a:lnTo>
                    <a:pt x="12477" y="19099"/>
                  </a:lnTo>
                  <a:lnTo>
                    <a:pt x="9053" y="19099"/>
                  </a:lnTo>
                  <a:close/>
                </a:path>
                <a:path w="21600" h="21600">
                  <a:moveTo>
                    <a:pt x="9053" y="19099"/>
                  </a:moveTo>
                  <a:lnTo>
                    <a:pt x="0" y="19099"/>
                  </a:lnTo>
                  <a:lnTo>
                    <a:pt x="21600" y="19099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chair3"/>
            <p:cNvSpPr/>
            <p:nvPr/>
          </p:nvSpPr>
          <p:spPr>
            <a:xfrm>
              <a:off x="7172280" y="4947840"/>
              <a:ext cx="419400" cy="270720"/>
            </a:xfrm>
            <a:custGeom>
              <a:avLst/>
              <a:gdLst>
                <a:gd name="textAreaLeft" fmla="*/ 93960 w 419400"/>
                <a:gd name="textAreaRight" fmla="*/ 327240 w 419400"/>
                <a:gd name="textAreaTop" fmla="*/ 83160 h 270720"/>
                <a:gd name="textAreaBottom" fmla="*/ 246600 h 27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661" y="21600"/>
                  </a:moveTo>
                  <a:lnTo>
                    <a:pt x="11964" y="21600"/>
                  </a:lnTo>
                  <a:lnTo>
                    <a:pt x="12969" y="21477"/>
                  </a:lnTo>
                  <a:lnTo>
                    <a:pt x="13951" y="21379"/>
                  </a:lnTo>
                  <a:lnTo>
                    <a:pt x="14742" y="21134"/>
                  </a:lnTo>
                  <a:lnTo>
                    <a:pt x="15575" y="20765"/>
                  </a:lnTo>
                  <a:lnTo>
                    <a:pt x="16152" y="20520"/>
                  </a:lnTo>
                  <a:lnTo>
                    <a:pt x="16579" y="20225"/>
                  </a:lnTo>
                  <a:lnTo>
                    <a:pt x="16942" y="19857"/>
                  </a:lnTo>
                  <a:lnTo>
                    <a:pt x="17455" y="20520"/>
                  </a:lnTo>
                  <a:lnTo>
                    <a:pt x="17989" y="21011"/>
                  </a:lnTo>
                  <a:lnTo>
                    <a:pt x="18459" y="21379"/>
                  </a:lnTo>
                  <a:lnTo>
                    <a:pt x="19079" y="21477"/>
                  </a:lnTo>
                  <a:lnTo>
                    <a:pt x="19656" y="21477"/>
                  </a:lnTo>
                  <a:lnTo>
                    <a:pt x="20275" y="21379"/>
                  </a:lnTo>
                  <a:lnTo>
                    <a:pt x="20660" y="21011"/>
                  </a:lnTo>
                  <a:lnTo>
                    <a:pt x="21173" y="20643"/>
                  </a:lnTo>
                  <a:lnTo>
                    <a:pt x="21386" y="20225"/>
                  </a:lnTo>
                  <a:lnTo>
                    <a:pt x="21600" y="19636"/>
                  </a:lnTo>
                  <a:lnTo>
                    <a:pt x="21600" y="19145"/>
                  </a:lnTo>
                  <a:lnTo>
                    <a:pt x="21600" y="18605"/>
                  </a:lnTo>
                  <a:lnTo>
                    <a:pt x="21386" y="18115"/>
                  </a:lnTo>
                  <a:lnTo>
                    <a:pt x="21066" y="17525"/>
                  </a:lnTo>
                  <a:lnTo>
                    <a:pt x="20660" y="17108"/>
                  </a:lnTo>
                  <a:lnTo>
                    <a:pt x="20275" y="16740"/>
                  </a:lnTo>
                  <a:lnTo>
                    <a:pt x="20275" y="10628"/>
                  </a:lnTo>
                  <a:lnTo>
                    <a:pt x="20275" y="5695"/>
                  </a:lnTo>
                  <a:lnTo>
                    <a:pt x="20275" y="5105"/>
                  </a:lnTo>
                  <a:lnTo>
                    <a:pt x="20190" y="4492"/>
                  </a:lnTo>
                  <a:lnTo>
                    <a:pt x="19976" y="4075"/>
                  </a:lnTo>
                  <a:lnTo>
                    <a:pt x="19763" y="3485"/>
                  </a:lnTo>
                  <a:lnTo>
                    <a:pt x="19442" y="2995"/>
                  </a:lnTo>
                  <a:lnTo>
                    <a:pt x="19079" y="2455"/>
                  </a:lnTo>
                  <a:lnTo>
                    <a:pt x="18673" y="2086"/>
                  </a:lnTo>
                  <a:lnTo>
                    <a:pt x="18139" y="1620"/>
                  </a:lnTo>
                  <a:lnTo>
                    <a:pt x="17562" y="1325"/>
                  </a:lnTo>
                  <a:lnTo>
                    <a:pt x="16836" y="957"/>
                  </a:lnTo>
                  <a:lnTo>
                    <a:pt x="16045" y="589"/>
                  </a:lnTo>
                  <a:lnTo>
                    <a:pt x="15169" y="344"/>
                  </a:lnTo>
                  <a:lnTo>
                    <a:pt x="14272" y="245"/>
                  </a:lnTo>
                  <a:lnTo>
                    <a:pt x="13182" y="123"/>
                  </a:lnTo>
                  <a:lnTo>
                    <a:pt x="12028" y="0"/>
                  </a:lnTo>
                  <a:lnTo>
                    <a:pt x="10832" y="0"/>
                  </a:lnTo>
                  <a:lnTo>
                    <a:pt x="9572" y="0"/>
                  </a:lnTo>
                  <a:lnTo>
                    <a:pt x="8418" y="123"/>
                  </a:lnTo>
                  <a:lnTo>
                    <a:pt x="7328" y="245"/>
                  </a:lnTo>
                  <a:lnTo>
                    <a:pt x="6431" y="344"/>
                  </a:lnTo>
                  <a:lnTo>
                    <a:pt x="5555" y="589"/>
                  </a:lnTo>
                  <a:lnTo>
                    <a:pt x="4764" y="957"/>
                  </a:lnTo>
                  <a:lnTo>
                    <a:pt x="4038" y="1325"/>
                  </a:lnTo>
                  <a:lnTo>
                    <a:pt x="3461" y="1620"/>
                  </a:lnTo>
                  <a:lnTo>
                    <a:pt x="2927" y="2086"/>
                  </a:lnTo>
                  <a:lnTo>
                    <a:pt x="2521" y="2455"/>
                  </a:lnTo>
                  <a:lnTo>
                    <a:pt x="2158" y="2995"/>
                  </a:lnTo>
                  <a:lnTo>
                    <a:pt x="1837" y="3485"/>
                  </a:lnTo>
                  <a:lnTo>
                    <a:pt x="1624" y="4075"/>
                  </a:lnTo>
                  <a:lnTo>
                    <a:pt x="1410" y="4492"/>
                  </a:lnTo>
                  <a:lnTo>
                    <a:pt x="1303" y="5105"/>
                  </a:lnTo>
                  <a:lnTo>
                    <a:pt x="1303" y="5695"/>
                  </a:lnTo>
                  <a:lnTo>
                    <a:pt x="1303" y="10874"/>
                  </a:lnTo>
                  <a:lnTo>
                    <a:pt x="1303" y="16740"/>
                  </a:lnTo>
                  <a:lnTo>
                    <a:pt x="940" y="17108"/>
                  </a:lnTo>
                  <a:lnTo>
                    <a:pt x="534" y="17525"/>
                  </a:lnTo>
                  <a:lnTo>
                    <a:pt x="214" y="18115"/>
                  </a:lnTo>
                  <a:lnTo>
                    <a:pt x="0" y="18605"/>
                  </a:lnTo>
                  <a:lnTo>
                    <a:pt x="0" y="19145"/>
                  </a:lnTo>
                  <a:lnTo>
                    <a:pt x="0" y="19636"/>
                  </a:lnTo>
                  <a:lnTo>
                    <a:pt x="214" y="20225"/>
                  </a:lnTo>
                  <a:lnTo>
                    <a:pt x="427" y="20643"/>
                  </a:lnTo>
                  <a:lnTo>
                    <a:pt x="833" y="21011"/>
                  </a:lnTo>
                  <a:lnTo>
                    <a:pt x="1303" y="21379"/>
                  </a:lnTo>
                  <a:lnTo>
                    <a:pt x="1944" y="21477"/>
                  </a:lnTo>
                  <a:lnTo>
                    <a:pt x="2521" y="21477"/>
                  </a:lnTo>
                  <a:lnTo>
                    <a:pt x="3141" y="21379"/>
                  </a:lnTo>
                  <a:lnTo>
                    <a:pt x="3611" y="21011"/>
                  </a:lnTo>
                  <a:lnTo>
                    <a:pt x="4145" y="20520"/>
                  </a:lnTo>
                  <a:lnTo>
                    <a:pt x="4658" y="19857"/>
                  </a:lnTo>
                  <a:lnTo>
                    <a:pt x="4914" y="20225"/>
                  </a:lnTo>
                  <a:lnTo>
                    <a:pt x="5448" y="20520"/>
                  </a:lnTo>
                  <a:lnTo>
                    <a:pt x="6025" y="20765"/>
                  </a:lnTo>
                  <a:lnTo>
                    <a:pt x="6751" y="21134"/>
                  </a:lnTo>
                  <a:lnTo>
                    <a:pt x="7542" y="21379"/>
                  </a:lnTo>
                  <a:lnTo>
                    <a:pt x="8418" y="21477"/>
                  </a:lnTo>
                  <a:lnTo>
                    <a:pt x="9465" y="21600"/>
                  </a:lnTo>
                  <a:lnTo>
                    <a:pt x="10661" y="21600"/>
                  </a:lnTo>
                  <a:close/>
                </a:path>
                <a:path w="21600" h="21600">
                  <a:moveTo>
                    <a:pt x="17049" y="19857"/>
                  </a:moveTo>
                  <a:lnTo>
                    <a:pt x="17049" y="19268"/>
                  </a:lnTo>
                  <a:lnTo>
                    <a:pt x="17049" y="18016"/>
                  </a:lnTo>
                  <a:lnTo>
                    <a:pt x="17049" y="16274"/>
                  </a:lnTo>
                  <a:lnTo>
                    <a:pt x="17049" y="14114"/>
                  </a:lnTo>
                  <a:lnTo>
                    <a:pt x="17049" y="11880"/>
                  </a:lnTo>
                  <a:lnTo>
                    <a:pt x="17049" y="9843"/>
                  </a:lnTo>
                  <a:lnTo>
                    <a:pt x="17049" y="8100"/>
                  </a:lnTo>
                  <a:lnTo>
                    <a:pt x="17049" y="7069"/>
                  </a:lnTo>
                  <a:lnTo>
                    <a:pt x="16942" y="6725"/>
                  </a:lnTo>
                  <a:lnTo>
                    <a:pt x="16836" y="6357"/>
                  </a:lnTo>
                  <a:lnTo>
                    <a:pt x="16686" y="6112"/>
                  </a:lnTo>
                  <a:lnTo>
                    <a:pt x="16472" y="5768"/>
                  </a:lnTo>
                  <a:lnTo>
                    <a:pt x="15746" y="5351"/>
                  </a:lnTo>
                  <a:lnTo>
                    <a:pt x="14849" y="4983"/>
                  </a:lnTo>
                  <a:lnTo>
                    <a:pt x="13951" y="4615"/>
                  </a:lnTo>
                  <a:lnTo>
                    <a:pt x="12862" y="4369"/>
                  </a:lnTo>
                  <a:lnTo>
                    <a:pt x="11879" y="4271"/>
                  </a:lnTo>
                  <a:lnTo>
                    <a:pt x="10832" y="4197"/>
                  </a:lnTo>
                  <a:lnTo>
                    <a:pt x="9828" y="4271"/>
                  </a:lnTo>
                  <a:lnTo>
                    <a:pt x="8845" y="4369"/>
                  </a:lnTo>
                  <a:lnTo>
                    <a:pt x="7734" y="4615"/>
                  </a:lnTo>
                  <a:lnTo>
                    <a:pt x="6751" y="4983"/>
                  </a:lnTo>
                  <a:lnTo>
                    <a:pt x="5961" y="5351"/>
                  </a:lnTo>
                  <a:lnTo>
                    <a:pt x="5234" y="5768"/>
                  </a:lnTo>
                  <a:lnTo>
                    <a:pt x="4914" y="6112"/>
                  </a:lnTo>
                  <a:lnTo>
                    <a:pt x="4764" y="6357"/>
                  </a:lnTo>
                  <a:lnTo>
                    <a:pt x="4658" y="6725"/>
                  </a:lnTo>
                  <a:lnTo>
                    <a:pt x="4658" y="7069"/>
                  </a:lnTo>
                  <a:lnTo>
                    <a:pt x="4658" y="8100"/>
                  </a:lnTo>
                  <a:lnTo>
                    <a:pt x="4658" y="9843"/>
                  </a:lnTo>
                  <a:lnTo>
                    <a:pt x="4658" y="11880"/>
                  </a:lnTo>
                  <a:lnTo>
                    <a:pt x="4658" y="14114"/>
                  </a:lnTo>
                  <a:lnTo>
                    <a:pt x="4658" y="16274"/>
                  </a:lnTo>
                  <a:lnTo>
                    <a:pt x="4658" y="18016"/>
                  </a:lnTo>
                  <a:lnTo>
                    <a:pt x="4658" y="19268"/>
                  </a:lnTo>
                  <a:lnTo>
                    <a:pt x="4658" y="19857"/>
                  </a:lnTo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chair3"/>
            <p:cNvSpPr/>
            <p:nvPr/>
          </p:nvSpPr>
          <p:spPr>
            <a:xfrm rot="10800000">
              <a:off x="7171920" y="5635080"/>
              <a:ext cx="419400" cy="270720"/>
            </a:xfrm>
            <a:custGeom>
              <a:avLst/>
              <a:gdLst>
                <a:gd name="textAreaLeft" fmla="*/ 93960 w 419400"/>
                <a:gd name="textAreaRight" fmla="*/ 327240 w 419400"/>
                <a:gd name="textAreaTop" fmla="*/ 83160 h 270720"/>
                <a:gd name="textAreaBottom" fmla="*/ 246600 h 27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661" y="21600"/>
                  </a:moveTo>
                  <a:lnTo>
                    <a:pt x="11964" y="21600"/>
                  </a:lnTo>
                  <a:lnTo>
                    <a:pt x="12969" y="21477"/>
                  </a:lnTo>
                  <a:lnTo>
                    <a:pt x="13951" y="21379"/>
                  </a:lnTo>
                  <a:lnTo>
                    <a:pt x="14742" y="21134"/>
                  </a:lnTo>
                  <a:lnTo>
                    <a:pt x="15575" y="20765"/>
                  </a:lnTo>
                  <a:lnTo>
                    <a:pt x="16152" y="20520"/>
                  </a:lnTo>
                  <a:lnTo>
                    <a:pt x="16579" y="20225"/>
                  </a:lnTo>
                  <a:lnTo>
                    <a:pt x="16942" y="19857"/>
                  </a:lnTo>
                  <a:lnTo>
                    <a:pt x="17455" y="20520"/>
                  </a:lnTo>
                  <a:lnTo>
                    <a:pt x="17989" y="21011"/>
                  </a:lnTo>
                  <a:lnTo>
                    <a:pt x="18459" y="21379"/>
                  </a:lnTo>
                  <a:lnTo>
                    <a:pt x="19079" y="21477"/>
                  </a:lnTo>
                  <a:lnTo>
                    <a:pt x="19656" y="21477"/>
                  </a:lnTo>
                  <a:lnTo>
                    <a:pt x="20275" y="21379"/>
                  </a:lnTo>
                  <a:lnTo>
                    <a:pt x="20660" y="21011"/>
                  </a:lnTo>
                  <a:lnTo>
                    <a:pt x="21173" y="20643"/>
                  </a:lnTo>
                  <a:lnTo>
                    <a:pt x="21386" y="20225"/>
                  </a:lnTo>
                  <a:lnTo>
                    <a:pt x="21600" y="19636"/>
                  </a:lnTo>
                  <a:lnTo>
                    <a:pt x="21600" y="19145"/>
                  </a:lnTo>
                  <a:lnTo>
                    <a:pt x="21600" y="18605"/>
                  </a:lnTo>
                  <a:lnTo>
                    <a:pt x="21386" y="18115"/>
                  </a:lnTo>
                  <a:lnTo>
                    <a:pt x="21066" y="17525"/>
                  </a:lnTo>
                  <a:lnTo>
                    <a:pt x="20660" y="17108"/>
                  </a:lnTo>
                  <a:lnTo>
                    <a:pt x="20275" y="16740"/>
                  </a:lnTo>
                  <a:lnTo>
                    <a:pt x="20275" y="10628"/>
                  </a:lnTo>
                  <a:lnTo>
                    <a:pt x="20275" y="5695"/>
                  </a:lnTo>
                  <a:lnTo>
                    <a:pt x="20275" y="5105"/>
                  </a:lnTo>
                  <a:lnTo>
                    <a:pt x="20190" y="4492"/>
                  </a:lnTo>
                  <a:lnTo>
                    <a:pt x="19976" y="4075"/>
                  </a:lnTo>
                  <a:lnTo>
                    <a:pt x="19763" y="3485"/>
                  </a:lnTo>
                  <a:lnTo>
                    <a:pt x="19442" y="2995"/>
                  </a:lnTo>
                  <a:lnTo>
                    <a:pt x="19079" y="2455"/>
                  </a:lnTo>
                  <a:lnTo>
                    <a:pt x="18673" y="2086"/>
                  </a:lnTo>
                  <a:lnTo>
                    <a:pt x="18139" y="1620"/>
                  </a:lnTo>
                  <a:lnTo>
                    <a:pt x="17562" y="1325"/>
                  </a:lnTo>
                  <a:lnTo>
                    <a:pt x="16836" y="957"/>
                  </a:lnTo>
                  <a:lnTo>
                    <a:pt x="16045" y="589"/>
                  </a:lnTo>
                  <a:lnTo>
                    <a:pt x="15169" y="344"/>
                  </a:lnTo>
                  <a:lnTo>
                    <a:pt x="14272" y="245"/>
                  </a:lnTo>
                  <a:lnTo>
                    <a:pt x="13182" y="123"/>
                  </a:lnTo>
                  <a:lnTo>
                    <a:pt x="12028" y="0"/>
                  </a:lnTo>
                  <a:lnTo>
                    <a:pt x="10832" y="0"/>
                  </a:lnTo>
                  <a:lnTo>
                    <a:pt x="9572" y="0"/>
                  </a:lnTo>
                  <a:lnTo>
                    <a:pt x="8418" y="123"/>
                  </a:lnTo>
                  <a:lnTo>
                    <a:pt x="7328" y="245"/>
                  </a:lnTo>
                  <a:lnTo>
                    <a:pt x="6431" y="344"/>
                  </a:lnTo>
                  <a:lnTo>
                    <a:pt x="5555" y="589"/>
                  </a:lnTo>
                  <a:lnTo>
                    <a:pt x="4764" y="957"/>
                  </a:lnTo>
                  <a:lnTo>
                    <a:pt x="4038" y="1325"/>
                  </a:lnTo>
                  <a:lnTo>
                    <a:pt x="3461" y="1620"/>
                  </a:lnTo>
                  <a:lnTo>
                    <a:pt x="2927" y="2086"/>
                  </a:lnTo>
                  <a:lnTo>
                    <a:pt x="2521" y="2455"/>
                  </a:lnTo>
                  <a:lnTo>
                    <a:pt x="2158" y="2995"/>
                  </a:lnTo>
                  <a:lnTo>
                    <a:pt x="1837" y="3485"/>
                  </a:lnTo>
                  <a:lnTo>
                    <a:pt x="1624" y="4075"/>
                  </a:lnTo>
                  <a:lnTo>
                    <a:pt x="1410" y="4492"/>
                  </a:lnTo>
                  <a:lnTo>
                    <a:pt x="1303" y="5105"/>
                  </a:lnTo>
                  <a:lnTo>
                    <a:pt x="1303" y="5695"/>
                  </a:lnTo>
                  <a:lnTo>
                    <a:pt x="1303" y="10874"/>
                  </a:lnTo>
                  <a:lnTo>
                    <a:pt x="1303" y="16740"/>
                  </a:lnTo>
                  <a:lnTo>
                    <a:pt x="940" y="17108"/>
                  </a:lnTo>
                  <a:lnTo>
                    <a:pt x="534" y="17525"/>
                  </a:lnTo>
                  <a:lnTo>
                    <a:pt x="214" y="18115"/>
                  </a:lnTo>
                  <a:lnTo>
                    <a:pt x="0" y="18605"/>
                  </a:lnTo>
                  <a:lnTo>
                    <a:pt x="0" y="19145"/>
                  </a:lnTo>
                  <a:lnTo>
                    <a:pt x="0" y="19636"/>
                  </a:lnTo>
                  <a:lnTo>
                    <a:pt x="214" y="20225"/>
                  </a:lnTo>
                  <a:lnTo>
                    <a:pt x="427" y="20643"/>
                  </a:lnTo>
                  <a:lnTo>
                    <a:pt x="833" y="21011"/>
                  </a:lnTo>
                  <a:lnTo>
                    <a:pt x="1303" y="21379"/>
                  </a:lnTo>
                  <a:lnTo>
                    <a:pt x="1944" y="21477"/>
                  </a:lnTo>
                  <a:lnTo>
                    <a:pt x="2521" y="21477"/>
                  </a:lnTo>
                  <a:lnTo>
                    <a:pt x="3141" y="21379"/>
                  </a:lnTo>
                  <a:lnTo>
                    <a:pt x="3611" y="21011"/>
                  </a:lnTo>
                  <a:lnTo>
                    <a:pt x="4145" y="20520"/>
                  </a:lnTo>
                  <a:lnTo>
                    <a:pt x="4658" y="19857"/>
                  </a:lnTo>
                  <a:lnTo>
                    <a:pt x="4914" y="20225"/>
                  </a:lnTo>
                  <a:lnTo>
                    <a:pt x="5448" y="20520"/>
                  </a:lnTo>
                  <a:lnTo>
                    <a:pt x="6025" y="20765"/>
                  </a:lnTo>
                  <a:lnTo>
                    <a:pt x="6751" y="21134"/>
                  </a:lnTo>
                  <a:lnTo>
                    <a:pt x="7542" y="21379"/>
                  </a:lnTo>
                  <a:lnTo>
                    <a:pt x="8418" y="21477"/>
                  </a:lnTo>
                  <a:lnTo>
                    <a:pt x="9465" y="21600"/>
                  </a:lnTo>
                  <a:lnTo>
                    <a:pt x="10661" y="21600"/>
                  </a:lnTo>
                  <a:close/>
                </a:path>
                <a:path w="21600" h="21600">
                  <a:moveTo>
                    <a:pt x="17049" y="19857"/>
                  </a:moveTo>
                  <a:lnTo>
                    <a:pt x="17049" y="19268"/>
                  </a:lnTo>
                  <a:lnTo>
                    <a:pt x="17049" y="18016"/>
                  </a:lnTo>
                  <a:lnTo>
                    <a:pt x="17049" y="16274"/>
                  </a:lnTo>
                  <a:lnTo>
                    <a:pt x="17049" y="14114"/>
                  </a:lnTo>
                  <a:lnTo>
                    <a:pt x="17049" y="11880"/>
                  </a:lnTo>
                  <a:lnTo>
                    <a:pt x="17049" y="9843"/>
                  </a:lnTo>
                  <a:lnTo>
                    <a:pt x="17049" y="8100"/>
                  </a:lnTo>
                  <a:lnTo>
                    <a:pt x="17049" y="7069"/>
                  </a:lnTo>
                  <a:lnTo>
                    <a:pt x="16942" y="6725"/>
                  </a:lnTo>
                  <a:lnTo>
                    <a:pt x="16836" y="6357"/>
                  </a:lnTo>
                  <a:lnTo>
                    <a:pt x="16686" y="6112"/>
                  </a:lnTo>
                  <a:lnTo>
                    <a:pt x="16472" y="5768"/>
                  </a:lnTo>
                  <a:lnTo>
                    <a:pt x="15746" y="5351"/>
                  </a:lnTo>
                  <a:lnTo>
                    <a:pt x="14849" y="4983"/>
                  </a:lnTo>
                  <a:lnTo>
                    <a:pt x="13951" y="4615"/>
                  </a:lnTo>
                  <a:lnTo>
                    <a:pt x="12862" y="4369"/>
                  </a:lnTo>
                  <a:lnTo>
                    <a:pt x="11879" y="4271"/>
                  </a:lnTo>
                  <a:lnTo>
                    <a:pt x="10832" y="4197"/>
                  </a:lnTo>
                  <a:lnTo>
                    <a:pt x="9828" y="4271"/>
                  </a:lnTo>
                  <a:lnTo>
                    <a:pt x="8845" y="4369"/>
                  </a:lnTo>
                  <a:lnTo>
                    <a:pt x="7734" y="4615"/>
                  </a:lnTo>
                  <a:lnTo>
                    <a:pt x="6751" y="4983"/>
                  </a:lnTo>
                  <a:lnTo>
                    <a:pt x="5961" y="5351"/>
                  </a:lnTo>
                  <a:lnTo>
                    <a:pt x="5234" y="5768"/>
                  </a:lnTo>
                  <a:lnTo>
                    <a:pt x="4914" y="6112"/>
                  </a:lnTo>
                  <a:lnTo>
                    <a:pt x="4764" y="6357"/>
                  </a:lnTo>
                  <a:lnTo>
                    <a:pt x="4658" y="6725"/>
                  </a:lnTo>
                  <a:lnTo>
                    <a:pt x="4658" y="7069"/>
                  </a:lnTo>
                  <a:lnTo>
                    <a:pt x="4658" y="8100"/>
                  </a:lnTo>
                  <a:lnTo>
                    <a:pt x="4658" y="9843"/>
                  </a:lnTo>
                  <a:lnTo>
                    <a:pt x="4658" y="11880"/>
                  </a:lnTo>
                  <a:lnTo>
                    <a:pt x="4658" y="14114"/>
                  </a:lnTo>
                  <a:lnTo>
                    <a:pt x="4658" y="16274"/>
                  </a:lnTo>
                  <a:lnTo>
                    <a:pt x="4658" y="18016"/>
                  </a:lnTo>
                  <a:lnTo>
                    <a:pt x="4658" y="19268"/>
                  </a:lnTo>
                  <a:lnTo>
                    <a:pt x="4658" y="19857"/>
                  </a:lnTo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chair3"/>
            <p:cNvSpPr/>
            <p:nvPr/>
          </p:nvSpPr>
          <p:spPr>
            <a:xfrm rot="10800000">
              <a:off x="7591320" y="5635080"/>
              <a:ext cx="419400" cy="270720"/>
            </a:xfrm>
            <a:custGeom>
              <a:avLst/>
              <a:gdLst>
                <a:gd name="textAreaLeft" fmla="*/ 93960 w 419400"/>
                <a:gd name="textAreaRight" fmla="*/ 327240 w 419400"/>
                <a:gd name="textAreaTop" fmla="*/ 83160 h 270720"/>
                <a:gd name="textAreaBottom" fmla="*/ 246600 h 27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661" y="21600"/>
                  </a:moveTo>
                  <a:lnTo>
                    <a:pt x="11964" y="21600"/>
                  </a:lnTo>
                  <a:lnTo>
                    <a:pt x="12969" y="21477"/>
                  </a:lnTo>
                  <a:lnTo>
                    <a:pt x="13951" y="21379"/>
                  </a:lnTo>
                  <a:lnTo>
                    <a:pt x="14742" y="21134"/>
                  </a:lnTo>
                  <a:lnTo>
                    <a:pt x="15575" y="20765"/>
                  </a:lnTo>
                  <a:lnTo>
                    <a:pt x="16152" y="20520"/>
                  </a:lnTo>
                  <a:lnTo>
                    <a:pt x="16579" y="20225"/>
                  </a:lnTo>
                  <a:lnTo>
                    <a:pt x="16942" y="19857"/>
                  </a:lnTo>
                  <a:lnTo>
                    <a:pt x="17455" y="20520"/>
                  </a:lnTo>
                  <a:lnTo>
                    <a:pt x="17989" y="21011"/>
                  </a:lnTo>
                  <a:lnTo>
                    <a:pt x="18459" y="21379"/>
                  </a:lnTo>
                  <a:lnTo>
                    <a:pt x="19079" y="21477"/>
                  </a:lnTo>
                  <a:lnTo>
                    <a:pt x="19656" y="21477"/>
                  </a:lnTo>
                  <a:lnTo>
                    <a:pt x="20275" y="21379"/>
                  </a:lnTo>
                  <a:lnTo>
                    <a:pt x="20660" y="21011"/>
                  </a:lnTo>
                  <a:lnTo>
                    <a:pt x="21173" y="20643"/>
                  </a:lnTo>
                  <a:lnTo>
                    <a:pt x="21386" y="20225"/>
                  </a:lnTo>
                  <a:lnTo>
                    <a:pt x="21600" y="19636"/>
                  </a:lnTo>
                  <a:lnTo>
                    <a:pt x="21600" y="19145"/>
                  </a:lnTo>
                  <a:lnTo>
                    <a:pt x="21600" y="18605"/>
                  </a:lnTo>
                  <a:lnTo>
                    <a:pt x="21386" y="18115"/>
                  </a:lnTo>
                  <a:lnTo>
                    <a:pt x="21066" y="17525"/>
                  </a:lnTo>
                  <a:lnTo>
                    <a:pt x="20660" y="17108"/>
                  </a:lnTo>
                  <a:lnTo>
                    <a:pt x="20275" y="16740"/>
                  </a:lnTo>
                  <a:lnTo>
                    <a:pt x="20275" y="10628"/>
                  </a:lnTo>
                  <a:lnTo>
                    <a:pt x="20275" y="5695"/>
                  </a:lnTo>
                  <a:lnTo>
                    <a:pt x="20275" y="5105"/>
                  </a:lnTo>
                  <a:lnTo>
                    <a:pt x="20190" y="4492"/>
                  </a:lnTo>
                  <a:lnTo>
                    <a:pt x="19976" y="4075"/>
                  </a:lnTo>
                  <a:lnTo>
                    <a:pt x="19763" y="3485"/>
                  </a:lnTo>
                  <a:lnTo>
                    <a:pt x="19442" y="2995"/>
                  </a:lnTo>
                  <a:lnTo>
                    <a:pt x="19079" y="2455"/>
                  </a:lnTo>
                  <a:lnTo>
                    <a:pt x="18673" y="2086"/>
                  </a:lnTo>
                  <a:lnTo>
                    <a:pt x="18139" y="1620"/>
                  </a:lnTo>
                  <a:lnTo>
                    <a:pt x="17562" y="1325"/>
                  </a:lnTo>
                  <a:lnTo>
                    <a:pt x="16836" y="957"/>
                  </a:lnTo>
                  <a:lnTo>
                    <a:pt x="16045" y="589"/>
                  </a:lnTo>
                  <a:lnTo>
                    <a:pt x="15169" y="344"/>
                  </a:lnTo>
                  <a:lnTo>
                    <a:pt x="14272" y="245"/>
                  </a:lnTo>
                  <a:lnTo>
                    <a:pt x="13182" y="123"/>
                  </a:lnTo>
                  <a:lnTo>
                    <a:pt x="12028" y="0"/>
                  </a:lnTo>
                  <a:lnTo>
                    <a:pt x="10832" y="0"/>
                  </a:lnTo>
                  <a:lnTo>
                    <a:pt x="9572" y="0"/>
                  </a:lnTo>
                  <a:lnTo>
                    <a:pt x="8418" y="123"/>
                  </a:lnTo>
                  <a:lnTo>
                    <a:pt x="7328" y="245"/>
                  </a:lnTo>
                  <a:lnTo>
                    <a:pt x="6431" y="344"/>
                  </a:lnTo>
                  <a:lnTo>
                    <a:pt x="5555" y="589"/>
                  </a:lnTo>
                  <a:lnTo>
                    <a:pt x="4764" y="957"/>
                  </a:lnTo>
                  <a:lnTo>
                    <a:pt x="4038" y="1325"/>
                  </a:lnTo>
                  <a:lnTo>
                    <a:pt x="3461" y="1620"/>
                  </a:lnTo>
                  <a:lnTo>
                    <a:pt x="2927" y="2086"/>
                  </a:lnTo>
                  <a:lnTo>
                    <a:pt x="2521" y="2455"/>
                  </a:lnTo>
                  <a:lnTo>
                    <a:pt x="2158" y="2995"/>
                  </a:lnTo>
                  <a:lnTo>
                    <a:pt x="1837" y="3485"/>
                  </a:lnTo>
                  <a:lnTo>
                    <a:pt x="1624" y="4075"/>
                  </a:lnTo>
                  <a:lnTo>
                    <a:pt x="1410" y="4492"/>
                  </a:lnTo>
                  <a:lnTo>
                    <a:pt x="1303" y="5105"/>
                  </a:lnTo>
                  <a:lnTo>
                    <a:pt x="1303" y="5695"/>
                  </a:lnTo>
                  <a:lnTo>
                    <a:pt x="1303" y="10874"/>
                  </a:lnTo>
                  <a:lnTo>
                    <a:pt x="1303" y="16740"/>
                  </a:lnTo>
                  <a:lnTo>
                    <a:pt x="940" y="17108"/>
                  </a:lnTo>
                  <a:lnTo>
                    <a:pt x="534" y="17525"/>
                  </a:lnTo>
                  <a:lnTo>
                    <a:pt x="214" y="18115"/>
                  </a:lnTo>
                  <a:lnTo>
                    <a:pt x="0" y="18605"/>
                  </a:lnTo>
                  <a:lnTo>
                    <a:pt x="0" y="19145"/>
                  </a:lnTo>
                  <a:lnTo>
                    <a:pt x="0" y="19636"/>
                  </a:lnTo>
                  <a:lnTo>
                    <a:pt x="214" y="20225"/>
                  </a:lnTo>
                  <a:lnTo>
                    <a:pt x="427" y="20643"/>
                  </a:lnTo>
                  <a:lnTo>
                    <a:pt x="833" y="21011"/>
                  </a:lnTo>
                  <a:lnTo>
                    <a:pt x="1303" y="21379"/>
                  </a:lnTo>
                  <a:lnTo>
                    <a:pt x="1944" y="21477"/>
                  </a:lnTo>
                  <a:lnTo>
                    <a:pt x="2521" y="21477"/>
                  </a:lnTo>
                  <a:lnTo>
                    <a:pt x="3141" y="21379"/>
                  </a:lnTo>
                  <a:lnTo>
                    <a:pt x="3611" y="21011"/>
                  </a:lnTo>
                  <a:lnTo>
                    <a:pt x="4145" y="20520"/>
                  </a:lnTo>
                  <a:lnTo>
                    <a:pt x="4658" y="19857"/>
                  </a:lnTo>
                  <a:lnTo>
                    <a:pt x="4914" y="20225"/>
                  </a:lnTo>
                  <a:lnTo>
                    <a:pt x="5448" y="20520"/>
                  </a:lnTo>
                  <a:lnTo>
                    <a:pt x="6025" y="20765"/>
                  </a:lnTo>
                  <a:lnTo>
                    <a:pt x="6751" y="21134"/>
                  </a:lnTo>
                  <a:lnTo>
                    <a:pt x="7542" y="21379"/>
                  </a:lnTo>
                  <a:lnTo>
                    <a:pt x="8418" y="21477"/>
                  </a:lnTo>
                  <a:lnTo>
                    <a:pt x="9465" y="21600"/>
                  </a:lnTo>
                  <a:lnTo>
                    <a:pt x="10661" y="21600"/>
                  </a:lnTo>
                  <a:close/>
                </a:path>
                <a:path w="21600" h="21600">
                  <a:moveTo>
                    <a:pt x="17049" y="19857"/>
                  </a:moveTo>
                  <a:lnTo>
                    <a:pt x="17049" y="19268"/>
                  </a:lnTo>
                  <a:lnTo>
                    <a:pt x="17049" y="18016"/>
                  </a:lnTo>
                  <a:lnTo>
                    <a:pt x="17049" y="16274"/>
                  </a:lnTo>
                  <a:lnTo>
                    <a:pt x="17049" y="14114"/>
                  </a:lnTo>
                  <a:lnTo>
                    <a:pt x="17049" y="11880"/>
                  </a:lnTo>
                  <a:lnTo>
                    <a:pt x="17049" y="9843"/>
                  </a:lnTo>
                  <a:lnTo>
                    <a:pt x="17049" y="8100"/>
                  </a:lnTo>
                  <a:lnTo>
                    <a:pt x="17049" y="7069"/>
                  </a:lnTo>
                  <a:lnTo>
                    <a:pt x="16942" y="6725"/>
                  </a:lnTo>
                  <a:lnTo>
                    <a:pt x="16836" y="6357"/>
                  </a:lnTo>
                  <a:lnTo>
                    <a:pt x="16686" y="6112"/>
                  </a:lnTo>
                  <a:lnTo>
                    <a:pt x="16472" y="5768"/>
                  </a:lnTo>
                  <a:lnTo>
                    <a:pt x="15746" y="5351"/>
                  </a:lnTo>
                  <a:lnTo>
                    <a:pt x="14849" y="4983"/>
                  </a:lnTo>
                  <a:lnTo>
                    <a:pt x="13951" y="4615"/>
                  </a:lnTo>
                  <a:lnTo>
                    <a:pt x="12862" y="4369"/>
                  </a:lnTo>
                  <a:lnTo>
                    <a:pt x="11879" y="4271"/>
                  </a:lnTo>
                  <a:lnTo>
                    <a:pt x="10832" y="4197"/>
                  </a:lnTo>
                  <a:lnTo>
                    <a:pt x="9828" y="4271"/>
                  </a:lnTo>
                  <a:lnTo>
                    <a:pt x="8845" y="4369"/>
                  </a:lnTo>
                  <a:lnTo>
                    <a:pt x="7734" y="4615"/>
                  </a:lnTo>
                  <a:lnTo>
                    <a:pt x="6751" y="4983"/>
                  </a:lnTo>
                  <a:lnTo>
                    <a:pt x="5961" y="5351"/>
                  </a:lnTo>
                  <a:lnTo>
                    <a:pt x="5234" y="5768"/>
                  </a:lnTo>
                  <a:lnTo>
                    <a:pt x="4914" y="6112"/>
                  </a:lnTo>
                  <a:lnTo>
                    <a:pt x="4764" y="6357"/>
                  </a:lnTo>
                  <a:lnTo>
                    <a:pt x="4658" y="6725"/>
                  </a:lnTo>
                  <a:lnTo>
                    <a:pt x="4658" y="7069"/>
                  </a:lnTo>
                  <a:lnTo>
                    <a:pt x="4658" y="8100"/>
                  </a:lnTo>
                  <a:lnTo>
                    <a:pt x="4658" y="9843"/>
                  </a:lnTo>
                  <a:lnTo>
                    <a:pt x="4658" y="11880"/>
                  </a:lnTo>
                  <a:lnTo>
                    <a:pt x="4658" y="14114"/>
                  </a:lnTo>
                  <a:lnTo>
                    <a:pt x="4658" y="16274"/>
                  </a:lnTo>
                  <a:lnTo>
                    <a:pt x="4658" y="18016"/>
                  </a:lnTo>
                  <a:lnTo>
                    <a:pt x="4658" y="19268"/>
                  </a:lnTo>
                  <a:lnTo>
                    <a:pt x="4658" y="19857"/>
                  </a:lnTo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chair3"/>
            <p:cNvSpPr/>
            <p:nvPr/>
          </p:nvSpPr>
          <p:spPr>
            <a:xfrm rot="16200000">
              <a:off x="6330960" y="5243040"/>
              <a:ext cx="362520" cy="313200"/>
            </a:xfrm>
            <a:custGeom>
              <a:avLst/>
              <a:gdLst>
                <a:gd name="textAreaLeft" fmla="*/ 81000 w 362520"/>
                <a:gd name="textAreaRight" fmla="*/ 282600 w 362520"/>
                <a:gd name="textAreaTop" fmla="*/ 96120 h 313200"/>
                <a:gd name="textAreaBottom" fmla="*/ 285120 h 31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661" y="21600"/>
                  </a:moveTo>
                  <a:lnTo>
                    <a:pt x="11964" y="21600"/>
                  </a:lnTo>
                  <a:lnTo>
                    <a:pt x="12969" y="21477"/>
                  </a:lnTo>
                  <a:lnTo>
                    <a:pt x="13951" y="21379"/>
                  </a:lnTo>
                  <a:lnTo>
                    <a:pt x="14742" y="21134"/>
                  </a:lnTo>
                  <a:lnTo>
                    <a:pt x="15575" y="20765"/>
                  </a:lnTo>
                  <a:lnTo>
                    <a:pt x="16152" y="20520"/>
                  </a:lnTo>
                  <a:lnTo>
                    <a:pt x="16579" y="20225"/>
                  </a:lnTo>
                  <a:lnTo>
                    <a:pt x="16942" y="19857"/>
                  </a:lnTo>
                  <a:lnTo>
                    <a:pt x="17455" y="20520"/>
                  </a:lnTo>
                  <a:lnTo>
                    <a:pt x="17989" y="21011"/>
                  </a:lnTo>
                  <a:lnTo>
                    <a:pt x="18459" y="21379"/>
                  </a:lnTo>
                  <a:lnTo>
                    <a:pt x="19079" y="21477"/>
                  </a:lnTo>
                  <a:lnTo>
                    <a:pt x="19656" y="21477"/>
                  </a:lnTo>
                  <a:lnTo>
                    <a:pt x="20275" y="21379"/>
                  </a:lnTo>
                  <a:lnTo>
                    <a:pt x="20660" y="21011"/>
                  </a:lnTo>
                  <a:lnTo>
                    <a:pt x="21173" y="20643"/>
                  </a:lnTo>
                  <a:lnTo>
                    <a:pt x="21386" y="20225"/>
                  </a:lnTo>
                  <a:lnTo>
                    <a:pt x="21600" y="19636"/>
                  </a:lnTo>
                  <a:lnTo>
                    <a:pt x="21600" y="19145"/>
                  </a:lnTo>
                  <a:lnTo>
                    <a:pt x="21600" y="18605"/>
                  </a:lnTo>
                  <a:lnTo>
                    <a:pt x="21386" y="18115"/>
                  </a:lnTo>
                  <a:lnTo>
                    <a:pt x="21066" y="17525"/>
                  </a:lnTo>
                  <a:lnTo>
                    <a:pt x="20660" y="17108"/>
                  </a:lnTo>
                  <a:lnTo>
                    <a:pt x="20275" y="16740"/>
                  </a:lnTo>
                  <a:lnTo>
                    <a:pt x="20275" y="10628"/>
                  </a:lnTo>
                  <a:lnTo>
                    <a:pt x="20275" y="5695"/>
                  </a:lnTo>
                  <a:lnTo>
                    <a:pt x="20275" y="5105"/>
                  </a:lnTo>
                  <a:lnTo>
                    <a:pt x="20190" y="4492"/>
                  </a:lnTo>
                  <a:lnTo>
                    <a:pt x="19976" y="4075"/>
                  </a:lnTo>
                  <a:lnTo>
                    <a:pt x="19763" y="3485"/>
                  </a:lnTo>
                  <a:lnTo>
                    <a:pt x="19442" y="2995"/>
                  </a:lnTo>
                  <a:lnTo>
                    <a:pt x="19079" y="2455"/>
                  </a:lnTo>
                  <a:lnTo>
                    <a:pt x="18673" y="2086"/>
                  </a:lnTo>
                  <a:lnTo>
                    <a:pt x="18139" y="1620"/>
                  </a:lnTo>
                  <a:lnTo>
                    <a:pt x="17562" y="1325"/>
                  </a:lnTo>
                  <a:lnTo>
                    <a:pt x="16836" y="957"/>
                  </a:lnTo>
                  <a:lnTo>
                    <a:pt x="16045" y="589"/>
                  </a:lnTo>
                  <a:lnTo>
                    <a:pt x="15169" y="344"/>
                  </a:lnTo>
                  <a:lnTo>
                    <a:pt x="14272" y="245"/>
                  </a:lnTo>
                  <a:lnTo>
                    <a:pt x="13182" y="123"/>
                  </a:lnTo>
                  <a:lnTo>
                    <a:pt x="12028" y="0"/>
                  </a:lnTo>
                  <a:lnTo>
                    <a:pt x="10832" y="0"/>
                  </a:lnTo>
                  <a:lnTo>
                    <a:pt x="9572" y="0"/>
                  </a:lnTo>
                  <a:lnTo>
                    <a:pt x="8418" y="123"/>
                  </a:lnTo>
                  <a:lnTo>
                    <a:pt x="7328" y="245"/>
                  </a:lnTo>
                  <a:lnTo>
                    <a:pt x="6431" y="344"/>
                  </a:lnTo>
                  <a:lnTo>
                    <a:pt x="5555" y="589"/>
                  </a:lnTo>
                  <a:lnTo>
                    <a:pt x="4764" y="957"/>
                  </a:lnTo>
                  <a:lnTo>
                    <a:pt x="4038" y="1325"/>
                  </a:lnTo>
                  <a:lnTo>
                    <a:pt x="3461" y="1620"/>
                  </a:lnTo>
                  <a:lnTo>
                    <a:pt x="2927" y="2086"/>
                  </a:lnTo>
                  <a:lnTo>
                    <a:pt x="2521" y="2455"/>
                  </a:lnTo>
                  <a:lnTo>
                    <a:pt x="2158" y="2995"/>
                  </a:lnTo>
                  <a:lnTo>
                    <a:pt x="1837" y="3485"/>
                  </a:lnTo>
                  <a:lnTo>
                    <a:pt x="1624" y="4075"/>
                  </a:lnTo>
                  <a:lnTo>
                    <a:pt x="1410" y="4492"/>
                  </a:lnTo>
                  <a:lnTo>
                    <a:pt x="1303" y="5105"/>
                  </a:lnTo>
                  <a:lnTo>
                    <a:pt x="1303" y="5695"/>
                  </a:lnTo>
                  <a:lnTo>
                    <a:pt x="1303" y="10874"/>
                  </a:lnTo>
                  <a:lnTo>
                    <a:pt x="1303" y="16740"/>
                  </a:lnTo>
                  <a:lnTo>
                    <a:pt x="940" y="17108"/>
                  </a:lnTo>
                  <a:lnTo>
                    <a:pt x="534" y="17525"/>
                  </a:lnTo>
                  <a:lnTo>
                    <a:pt x="214" y="18115"/>
                  </a:lnTo>
                  <a:lnTo>
                    <a:pt x="0" y="18605"/>
                  </a:lnTo>
                  <a:lnTo>
                    <a:pt x="0" y="19145"/>
                  </a:lnTo>
                  <a:lnTo>
                    <a:pt x="0" y="19636"/>
                  </a:lnTo>
                  <a:lnTo>
                    <a:pt x="214" y="20225"/>
                  </a:lnTo>
                  <a:lnTo>
                    <a:pt x="427" y="20643"/>
                  </a:lnTo>
                  <a:lnTo>
                    <a:pt x="833" y="21011"/>
                  </a:lnTo>
                  <a:lnTo>
                    <a:pt x="1303" y="21379"/>
                  </a:lnTo>
                  <a:lnTo>
                    <a:pt x="1944" y="21477"/>
                  </a:lnTo>
                  <a:lnTo>
                    <a:pt x="2521" y="21477"/>
                  </a:lnTo>
                  <a:lnTo>
                    <a:pt x="3141" y="21379"/>
                  </a:lnTo>
                  <a:lnTo>
                    <a:pt x="3611" y="21011"/>
                  </a:lnTo>
                  <a:lnTo>
                    <a:pt x="4145" y="20520"/>
                  </a:lnTo>
                  <a:lnTo>
                    <a:pt x="4658" y="19857"/>
                  </a:lnTo>
                  <a:lnTo>
                    <a:pt x="4914" y="20225"/>
                  </a:lnTo>
                  <a:lnTo>
                    <a:pt x="5448" y="20520"/>
                  </a:lnTo>
                  <a:lnTo>
                    <a:pt x="6025" y="20765"/>
                  </a:lnTo>
                  <a:lnTo>
                    <a:pt x="6751" y="21134"/>
                  </a:lnTo>
                  <a:lnTo>
                    <a:pt x="7542" y="21379"/>
                  </a:lnTo>
                  <a:lnTo>
                    <a:pt x="8418" y="21477"/>
                  </a:lnTo>
                  <a:lnTo>
                    <a:pt x="9465" y="21600"/>
                  </a:lnTo>
                  <a:lnTo>
                    <a:pt x="10661" y="21600"/>
                  </a:lnTo>
                  <a:close/>
                </a:path>
                <a:path w="21600" h="21600">
                  <a:moveTo>
                    <a:pt x="17049" y="19857"/>
                  </a:moveTo>
                  <a:lnTo>
                    <a:pt x="17049" y="19268"/>
                  </a:lnTo>
                  <a:lnTo>
                    <a:pt x="17049" y="18016"/>
                  </a:lnTo>
                  <a:lnTo>
                    <a:pt x="17049" y="16274"/>
                  </a:lnTo>
                  <a:lnTo>
                    <a:pt x="17049" y="14114"/>
                  </a:lnTo>
                  <a:lnTo>
                    <a:pt x="17049" y="11880"/>
                  </a:lnTo>
                  <a:lnTo>
                    <a:pt x="17049" y="9843"/>
                  </a:lnTo>
                  <a:lnTo>
                    <a:pt x="17049" y="8100"/>
                  </a:lnTo>
                  <a:lnTo>
                    <a:pt x="17049" y="7069"/>
                  </a:lnTo>
                  <a:lnTo>
                    <a:pt x="16942" y="6725"/>
                  </a:lnTo>
                  <a:lnTo>
                    <a:pt x="16836" y="6357"/>
                  </a:lnTo>
                  <a:lnTo>
                    <a:pt x="16686" y="6112"/>
                  </a:lnTo>
                  <a:lnTo>
                    <a:pt x="16472" y="5768"/>
                  </a:lnTo>
                  <a:lnTo>
                    <a:pt x="15746" y="5351"/>
                  </a:lnTo>
                  <a:lnTo>
                    <a:pt x="14849" y="4983"/>
                  </a:lnTo>
                  <a:lnTo>
                    <a:pt x="13951" y="4615"/>
                  </a:lnTo>
                  <a:lnTo>
                    <a:pt x="12862" y="4369"/>
                  </a:lnTo>
                  <a:lnTo>
                    <a:pt x="11879" y="4271"/>
                  </a:lnTo>
                  <a:lnTo>
                    <a:pt x="10832" y="4197"/>
                  </a:lnTo>
                  <a:lnTo>
                    <a:pt x="9828" y="4271"/>
                  </a:lnTo>
                  <a:lnTo>
                    <a:pt x="8845" y="4369"/>
                  </a:lnTo>
                  <a:lnTo>
                    <a:pt x="7734" y="4615"/>
                  </a:lnTo>
                  <a:lnTo>
                    <a:pt x="6751" y="4983"/>
                  </a:lnTo>
                  <a:lnTo>
                    <a:pt x="5961" y="5351"/>
                  </a:lnTo>
                  <a:lnTo>
                    <a:pt x="5234" y="5768"/>
                  </a:lnTo>
                  <a:lnTo>
                    <a:pt x="4914" y="6112"/>
                  </a:lnTo>
                  <a:lnTo>
                    <a:pt x="4764" y="6357"/>
                  </a:lnTo>
                  <a:lnTo>
                    <a:pt x="4658" y="6725"/>
                  </a:lnTo>
                  <a:lnTo>
                    <a:pt x="4658" y="7069"/>
                  </a:lnTo>
                  <a:lnTo>
                    <a:pt x="4658" y="8100"/>
                  </a:lnTo>
                  <a:lnTo>
                    <a:pt x="4658" y="9843"/>
                  </a:lnTo>
                  <a:lnTo>
                    <a:pt x="4658" y="11880"/>
                  </a:lnTo>
                  <a:lnTo>
                    <a:pt x="4658" y="14114"/>
                  </a:lnTo>
                  <a:lnTo>
                    <a:pt x="4658" y="16274"/>
                  </a:lnTo>
                  <a:lnTo>
                    <a:pt x="4658" y="18016"/>
                  </a:lnTo>
                  <a:lnTo>
                    <a:pt x="4658" y="19268"/>
                  </a:lnTo>
                  <a:lnTo>
                    <a:pt x="4658" y="19857"/>
                  </a:lnTo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ilecab3"/>
            <p:cNvSpPr/>
            <p:nvPr/>
          </p:nvSpPr>
          <p:spPr>
            <a:xfrm rot="10800000">
              <a:off x="6715440" y="6098400"/>
              <a:ext cx="756720" cy="190800"/>
            </a:xfrm>
            <a:custGeom>
              <a:avLst/>
              <a:gdLst>
                <a:gd name="textAreaLeft" fmla="*/ 35280 w 756720"/>
                <a:gd name="textAreaRight" fmla="*/ 719640 w 756720"/>
                <a:gd name="textAreaTop" fmla="*/ 4320 h 190800"/>
                <a:gd name="textAreaBottom" fmla="*/ 165960 h 190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788" y="0"/>
                  </a:moveTo>
                  <a:lnTo>
                    <a:pt x="0" y="0"/>
                  </a:lnTo>
                  <a:lnTo>
                    <a:pt x="0" y="10800"/>
                  </a:lnTo>
                  <a:lnTo>
                    <a:pt x="0" y="19099"/>
                  </a:lnTo>
                  <a:lnTo>
                    <a:pt x="8466" y="19099"/>
                  </a:lnTo>
                  <a:lnTo>
                    <a:pt x="8490" y="19440"/>
                  </a:lnTo>
                  <a:lnTo>
                    <a:pt x="8537" y="20008"/>
                  </a:lnTo>
                  <a:lnTo>
                    <a:pt x="8607" y="20349"/>
                  </a:lnTo>
                  <a:lnTo>
                    <a:pt x="8701" y="20691"/>
                  </a:lnTo>
                  <a:lnTo>
                    <a:pt x="8842" y="21145"/>
                  </a:lnTo>
                  <a:lnTo>
                    <a:pt x="9053" y="21373"/>
                  </a:lnTo>
                  <a:lnTo>
                    <a:pt x="9264" y="21600"/>
                  </a:lnTo>
                  <a:lnTo>
                    <a:pt x="9545" y="21600"/>
                  </a:lnTo>
                  <a:lnTo>
                    <a:pt x="10718" y="21600"/>
                  </a:lnTo>
                  <a:lnTo>
                    <a:pt x="11891" y="21600"/>
                  </a:lnTo>
                  <a:lnTo>
                    <a:pt x="12266" y="21600"/>
                  </a:lnTo>
                  <a:lnTo>
                    <a:pt x="12477" y="21429"/>
                  </a:lnTo>
                  <a:lnTo>
                    <a:pt x="12618" y="21202"/>
                  </a:lnTo>
                  <a:lnTo>
                    <a:pt x="12758" y="20861"/>
                  </a:lnTo>
                  <a:lnTo>
                    <a:pt x="12922" y="20349"/>
                  </a:lnTo>
                  <a:lnTo>
                    <a:pt x="12993" y="19952"/>
                  </a:lnTo>
                  <a:lnTo>
                    <a:pt x="13016" y="19440"/>
                  </a:lnTo>
                  <a:lnTo>
                    <a:pt x="13063" y="19099"/>
                  </a:lnTo>
                  <a:lnTo>
                    <a:pt x="21600" y="19099"/>
                  </a:lnTo>
                  <a:lnTo>
                    <a:pt x="21600" y="10800"/>
                  </a:lnTo>
                  <a:lnTo>
                    <a:pt x="21600" y="0"/>
                  </a:lnTo>
                  <a:lnTo>
                    <a:pt x="10788" y="0"/>
                  </a:lnTo>
                  <a:close/>
                  <a:moveTo>
                    <a:pt x="9053" y="19099"/>
                  </a:moveTo>
                  <a:lnTo>
                    <a:pt x="9053" y="19440"/>
                  </a:lnTo>
                  <a:lnTo>
                    <a:pt x="9076" y="19611"/>
                  </a:lnTo>
                  <a:lnTo>
                    <a:pt x="9123" y="19781"/>
                  </a:lnTo>
                  <a:lnTo>
                    <a:pt x="9193" y="20008"/>
                  </a:lnTo>
                  <a:lnTo>
                    <a:pt x="9264" y="20179"/>
                  </a:lnTo>
                  <a:lnTo>
                    <a:pt x="9334" y="20293"/>
                  </a:lnTo>
                  <a:lnTo>
                    <a:pt x="9405" y="20349"/>
                  </a:lnTo>
                  <a:lnTo>
                    <a:pt x="9545" y="20349"/>
                  </a:lnTo>
                  <a:lnTo>
                    <a:pt x="11891" y="20349"/>
                  </a:lnTo>
                  <a:lnTo>
                    <a:pt x="12031" y="20349"/>
                  </a:lnTo>
                  <a:lnTo>
                    <a:pt x="12172" y="20236"/>
                  </a:lnTo>
                  <a:lnTo>
                    <a:pt x="12266" y="20179"/>
                  </a:lnTo>
                  <a:lnTo>
                    <a:pt x="12336" y="20008"/>
                  </a:lnTo>
                  <a:lnTo>
                    <a:pt x="12383" y="19838"/>
                  </a:lnTo>
                  <a:lnTo>
                    <a:pt x="12430" y="19611"/>
                  </a:lnTo>
                  <a:lnTo>
                    <a:pt x="12477" y="19440"/>
                  </a:lnTo>
                  <a:lnTo>
                    <a:pt x="12477" y="19099"/>
                  </a:lnTo>
                  <a:lnTo>
                    <a:pt x="9053" y="19099"/>
                  </a:lnTo>
                  <a:close/>
                </a:path>
                <a:path w="21600" h="21600">
                  <a:moveTo>
                    <a:pt x="9053" y="19099"/>
                  </a:moveTo>
                  <a:lnTo>
                    <a:pt x="0" y="19099"/>
                  </a:lnTo>
                  <a:lnTo>
                    <a:pt x="21600" y="19099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ilecab3"/>
            <p:cNvSpPr/>
            <p:nvPr/>
          </p:nvSpPr>
          <p:spPr>
            <a:xfrm rot="10800000">
              <a:off x="7516440" y="6098400"/>
              <a:ext cx="756720" cy="190800"/>
            </a:xfrm>
            <a:custGeom>
              <a:avLst/>
              <a:gdLst>
                <a:gd name="textAreaLeft" fmla="*/ 35280 w 756720"/>
                <a:gd name="textAreaRight" fmla="*/ 719640 w 756720"/>
                <a:gd name="textAreaTop" fmla="*/ 4320 h 190800"/>
                <a:gd name="textAreaBottom" fmla="*/ 165960 h 190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788" y="0"/>
                  </a:moveTo>
                  <a:lnTo>
                    <a:pt x="0" y="0"/>
                  </a:lnTo>
                  <a:lnTo>
                    <a:pt x="0" y="10800"/>
                  </a:lnTo>
                  <a:lnTo>
                    <a:pt x="0" y="19099"/>
                  </a:lnTo>
                  <a:lnTo>
                    <a:pt x="8466" y="19099"/>
                  </a:lnTo>
                  <a:lnTo>
                    <a:pt x="8490" y="19440"/>
                  </a:lnTo>
                  <a:lnTo>
                    <a:pt x="8537" y="20008"/>
                  </a:lnTo>
                  <a:lnTo>
                    <a:pt x="8607" y="20349"/>
                  </a:lnTo>
                  <a:lnTo>
                    <a:pt x="8701" y="20691"/>
                  </a:lnTo>
                  <a:lnTo>
                    <a:pt x="8842" y="21145"/>
                  </a:lnTo>
                  <a:lnTo>
                    <a:pt x="9053" y="21373"/>
                  </a:lnTo>
                  <a:lnTo>
                    <a:pt x="9264" y="21600"/>
                  </a:lnTo>
                  <a:lnTo>
                    <a:pt x="9545" y="21600"/>
                  </a:lnTo>
                  <a:lnTo>
                    <a:pt x="10718" y="21600"/>
                  </a:lnTo>
                  <a:lnTo>
                    <a:pt x="11891" y="21600"/>
                  </a:lnTo>
                  <a:lnTo>
                    <a:pt x="12266" y="21600"/>
                  </a:lnTo>
                  <a:lnTo>
                    <a:pt x="12477" y="21429"/>
                  </a:lnTo>
                  <a:lnTo>
                    <a:pt x="12618" y="21202"/>
                  </a:lnTo>
                  <a:lnTo>
                    <a:pt x="12758" y="20861"/>
                  </a:lnTo>
                  <a:lnTo>
                    <a:pt x="12922" y="20349"/>
                  </a:lnTo>
                  <a:lnTo>
                    <a:pt x="12993" y="19952"/>
                  </a:lnTo>
                  <a:lnTo>
                    <a:pt x="13016" y="19440"/>
                  </a:lnTo>
                  <a:lnTo>
                    <a:pt x="13063" y="19099"/>
                  </a:lnTo>
                  <a:lnTo>
                    <a:pt x="21600" y="19099"/>
                  </a:lnTo>
                  <a:lnTo>
                    <a:pt x="21600" y="10800"/>
                  </a:lnTo>
                  <a:lnTo>
                    <a:pt x="21600" y="0"/>
                  </a:lnTo>
                  <a:lnTo>
                    <a:pt x="10788" y="0"/>
                  </a:lnTo>
                  <a:close/>
                  <a:moveTo>
                    <a:pt x="9053" y="19099"/>
                  </a:moveTo>
                  <a:lnTo>
                    <a:pt x="9053" y="19440"/>
                  </a:lnTo>
                  <a:lnTo>
                    <a:pt x="9076" y="19611"/>
                  </a:lnTo>
                  <a:lnTo>
                    <a:pt x="9123" y="19781"/>
                  </a:lnTo>
                  <a:lnTo>
                    <a:pt x="9193" y="20008"/>
                  </a:lnTo>
                  <a:lnTo>
                    <a:pt x="9264" y="20179"/>
                  </a:lnTo>
                  <a:lnTo>
                    <a:pt x="9334" y="20293"/>
                  </a:lnTo>
                  <a:lnTo>
                    <a:pt x="9405" y="20349"/>
                  </a:lnTo>
                  <a:lnTo>
                    <a:pt x="9545" y="20349"/>
                  </a:lnTo>
                  <a:lnTo>
                    <a:pt x="11891" y="20349"/>
                  </a:lnTo>
                  <a:lnTo>
                    <a:pt x="12031" y="20349"/>
                  </a:lnTo>
                  <a:lnTo>
                    <a:pt x="12172" y="20236"/>
                  </a:lnTo>
                  <a:lnTo>
                    <a:pt x="12266" y="20179"/>
                  </a:lnTo>
                  <a:lnTo>
                    <a:pt x="12336" y="20008"/>
                  </a:lnTo>
                  <a:lnTo>
                    <a:pt x="12383" y="19838"/>
                  </a:lnTo>
                  <a:lnTo>
                    <a:pt x="12430" y="19611"/>
                  </a:lnTo>
                  <a:lnTo>
                    <a:pt x="12477" y="19440"/>
                  </a:lnTo>
                  <a:lnTo>
                    <a:pt x="12477" y="19099"/>
                  </a:lnTo>
                  <a:lnTo>
                    <a:pt x="9053" y="19099"/>
                  </a:lnTo>
                  <a:close/>
                </a:path>
                <a:path w="21600" h="21600">
                  <a:moveTo>
                    <a:pt x="9053" y="19099"/>
                  </a:moveTo>
                  <a:lnTo>
                    <a:pt x="0" y="19099"/>
                  </a:lnTo>
                  <a:lnTo>
                    <a:pt x="21600" y="19099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Прямоугольник 23"/>
          <p:cNvSpPr/>
          <p:nvPr/>
        </p:nvSpPr>
        <p:spPr>
          <a:xfrm>
            <a:off x="611280" y="198900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Практическая работа №8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«Создаём графические модели»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Заголовок 1" descr=""/>
          <p:cNvPicPr/>
          <p:nvPr/>
        </p:nvPicPr>
        <p:blipFill>
          <a:blip r:embed="rId1"/>
          <a:stretch/>
        </p:blipFill>
        <p:spPr>
          <a:xfrm>
            <a:off x="603360" y="274680"/>
            <a:ext cx="8242200" cy="1152360"/>
          </a:xfrm>
          <a:prstGeom prst="rect">
            <a:avLst/>
          </a:prstGeom>
          <a:ln w="0">
            <a:noFill/>
          </a:ln>
        </p:spPr>
      </p:pic>
      <p:sp>
        <p:nvSpPr>
          <p:cNvPr id="157" name="Содержимое 2"/>
          <p:cNvSpPr/>
          <p:nvPr/>
        </p:nvSpPr>
        <p:spPr>
          <a:xfrm>
            <a:off x="857160" y="1500120"/>
            <a:ext cx="7929720" cy="25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81080" indent="-20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10 - 11 баллов –  оценка «5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-20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7 - 9   баллов – оценка «4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4 – 6 баллов – оценка «3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Скругленный прямоугольник 5" descr=""/>
          <p:cNvPicPr/>
          <p:nvPr/>
        </p:nvPicPr>
        <p:blipFill>
          <a:blip r:embed="rId1"/>
          <a:stretch/>
        </p:blipFill>
        <p:spPr>
          <a:xfrm>
            <a:off x="390600" y="384120"/>
            <a:ext cx="7875360" cy="1195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1835280" y="1844640"/>
            <a:ext cx="6656400" cy="356544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Выноска-облако 2"/>
          <p:cNvSpPr/>
          <p:nvPr/>
        </p:nvSpPr>
        <p:spPr>
          <a:xfrm>
            <a:off x="1619280" y="2205000"/>
            <a:ext cx="6848280" cy="3924360"/>
          </a:xfrm>
          <a:prstGeom prst="cloudCallout">
            <a:avLst>
              <a:gd name="adj1" fmla="val 21750"/>
              <a:gd name="adj2" fmla="val 1333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1" descr=""/>
          <p:cNvPicPr/>
          <p:nvPr/>
        </p:nvPicPr>
        <p:blipFill>
          <a:blip r:embed="rId1"/>
          <a:stretch/>
        </p:blipFill>
        <p:spPr>
          <a:xfrm>
            <a:off x="2411280" y="2708280"/>
            <a:ext cx="5461200" cy="245916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29"/>
          <p:cNvSpPr/>
          <p:nvPr/>
        </p:nvSpPr>
        <p:spPr>
          <a:xfrm>
            <a:off x="2771640" y="119844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«Облако сл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Заголовок 1" descr=""/>
          <p:cNvPicPr/>
          <p:nvPr/>
        </p:nvPicPr>
        <p:blipFill>
          <a:blip r:embed="rId1"/>
          <a:stretch/>
        </p:blipFill>
        <p:spPr>
          <a:xfrm>
            <a:off x="463680" y="689040"/>
            <a:ext cx="8216640" cy="1152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&amp;Icy;&amp;ncy;&amp;fcy;&amp;ocy;&amp;rcy;&amp;mcy;&amp;acy;&amp;tcy;&amp;icy;&amp;kcy;&amp;acy; : &amp;ucy;&amp;chcy;&amp;iecy;&amp;bcy;&amp;ncy;&amp;icy;&amp;kcy; &amp;dcy;&amp;lcy;&amp;yacy; 6 &amp;kcy;&amp;lcy;&amp;acy;&amp;scy;&amp;scy;&amp;acy;"/>
          <p:cNvPicPr/>
          <p:nvPr/>
        </p:nvPicPr>
        <p:blipFill>
          <a:blip r:embed="rId2"/>
          <a:stretch/>
        </p:blipFill>
        <p:spPr>
          <a:xfrm>
            <a:off x="1652760" y="2571840"/>
            <a:ext cx="1082520" cy="156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Решебник по информатике"/>
          <p:cNvPicPr/>
          <p:nvPr/>
        </p:nvPicPr>
        <p:blipFill>
          <a:blip r:embed="rId3"/>
          <a:stretch/>
        </p:blipFill>
        <p:spPr>
          <a:xfrm>
            <a:off x="2050920" y="3716280"/>
            <a:ext cx="1370160" cy="190512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26"/>
          <p:cNvSpPr/>
          <p:nvPr/>
        </p:nvSpPr>
        <p:spPr>
          <a:xfrm>
            <a:off x="3564000" y="2565360"/>
            <a:ext cx="518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§9, РТ: №101, №103,№106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ьте кроссворд по теме «Информационное моделирование»(от 6 слов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1" descr=""/>
          <p:cNvPicPr/>
          <p:nvPr/>
        </p:nvPicPr>
        <p:blipFill>
          <a:blip r:embed="rId1"/>
          <a:stretch/>
        </p:blipFill>
        <p:spPr>
          <a:xfrm>
            <a:off x="139680" y="255600"/>
            <a:ext cx="8723160" cy="1152360"/>
          </a:xfrm>
          <a:prstGeom prst="rect">
            <a:avLst/>
          </a:prstGeom>
          <a:ln w="0">
            <a:noFill/>
          </a:ln>
        </p:spPr>
      </p:pic>
      <p:pic>
        <p:nvPicPr>
          <p:cNvPr id="53" name="Заголовок 1" descr=""/>
          <p:cNvPicPr/>
          <p:nvPr/>
        </p:nvPicPr>
        <p:blipFill>
          <a:blip r:embed="rId2"/>
          <a:stretch/>
        </p:blipFill>
        <p:spPr>
          <a:xfrm>
            <a:off x="152280" y="12600"/>
            <a:ext cx="8967960" cy="1359000"/>
          </a:xfrm>
          <a:prstGeom prst="rect">
            <a:avLst/>
          </a:prstGeom>
          <a:ln w="0">
            <a:noFill/>
          </a:ln>
        </p:spPr>
      </p:pic>
      <p:pic>
        <p:nvPicPr>
          <p:cNvPr id="54" name="Заголовок 1" descr=""/>
          <p:cNvPicPr/>
          <p:nvPr/>
        </p:nvPicPr>
        <p:blipFill>
          <a:blip r:embed="rId3"/>
          <a:stretch/>
        </p:blipFill>
        <p:spPr>
          <a:xfrm>
            <a:off x="103320" y="171360"/>
            <a:ext cx="9101160" cy="123048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10"/>
          <p:cNvSpPr/>
          <p:nvPr/>
        </p:nvSpPr>
        <p:spPr>
          <a:xfrm>
            <a:off x="1835280" y="1773360"/>
            <a:ext cx="6769080" cy="4392360"/>
          </a:xfrm>
          <a:prstGeom prst="rect">
            <a:avLst/>
          </a:prstGeom>
          <a:solidFill>
            <a:srgbClr val="bbe0e3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C:\Documents and Settings\user\Рабочий стол\Безимени3.gif"/>
          <p:cNvPicPr/>
          <p:nvPr/>
        </p:nvPicPr>
        <p:blipFill>
          <a:blip r:embed="rId4"/>
          <a:stretch/>
        </p:blipFill>
        <p:spPr>
          <a:xfrm>
            <a:off x="3475080" y="3933720"/>
            <a:ext cx="2897280" cy="2195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C:\Documents and Settings\user\Рабочий стол\Безимени-2.gif"/>
          <p:cNvPicPr/>
          <p:nvPr/>
        </p:nvPicPr>
        <p:blipFill>
          <a:blip r:embed="rId5"/>
          <a:srcRect l="8776" t="10864" r="0" b="8718"/>
          <a:stretch/>
        </p:blipFill>
        <p:spPr>
          <a:xfrm>
            <a:off x="4932360" y="1916280"/>
            <a:ext cx="3681360" cy="2019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C:\Documents and Settings\user\Рабочий стол\Безимени4.gif"/>
          <p:cNvPicPr/>
          <p:nvPr/>
        </p:nvPicPr>
        <p:blipFill>
          <a:blip r:embed="rId6"/>
          <a:srcRect l="10753" t="0" r="11269" b="0"/>
          <a:stretch/>
        </p:blipFill>
        <p:spPr>
          <a:xfrm>
            <a:off x="6443640" y="3789360"/>
            <a:ext cx="2016000" cy="2341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Documents and Settings\user\Рабочий стол\Безимени-1.gif"/>
          <p:cNvPicPr/>
          <p:nvPr/>
        </p:nvPicPr>
        <p:blipFill>
          <a:blip r:embed="rId7"/>
          <a:stretch/>
        </p:blipFill>
        <p:spPr>
          <a:xfrm>
            <a:off x="1763640" y="1727280"/>
            <a:ext cx="2808360" cy="31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адайте ребу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Прямоугольник 4" descr=""/>
          <p:cNvPicPr/>
          <p:nvPr/>
        </p:nvPicPr>
        <p:blipFill>
          <a:blip r:embed="rId1"/>
          <a:stretch/>
        </p:blipFill>
        <p:spPr>
          <a:xfrm>
            <a:off x="1468440" y="4541760"/>
            <a:ext cx="7267680" cy="1816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C:\Documents and Settings\Admin\Рабочий стол\Конкурс урок\комод.JPG"/>
          <p:cNvPicPr/>
          <p:nvPr/>
        </p:nvPicPr>
        <p:blipFill>
          <a:blip r:embed="rId2"/>
          <a:stretch/>
        </p:blipFill>
        <p:spPr>
          <a:xfrm>
            <a:off x="428760" y="2357280"/>
            <a:ext cx="82152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те словосочет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Прямоугольник 5" descr=""/>
          <p:cNvPicPr/>
          <p:nvPr/>
        </p:nvPicPr>
        <p:blipFill>
          <a:blip r:embed="rId1"/>
          <a:stretch/>
        </p:blipFill>
        <p:spPr>
          <a:xfrm>
            <a:off x="749160" y="2041560"/>
            <a:ext cx="785196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785760" y="1285560"/>
            <a:ext cx="500076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ое модел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Заголовок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7" name="Содержимое 2"/>
          <p:cNvSpPr/>
          <p:nvPr/>
        </p:nvSpPr>
        <p:spPr>
          <a:xfrm>
            <a:off x="1332000" y="1700280"/>
            <a:ext cx="2487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21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Узн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80" indent="21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80" indent="21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оня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80" indent="21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80" indent="21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80" indent="21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Научить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80" indent="21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80" indent="21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80" indent="21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80" indent="21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3780000" y="1573200"/>
            <a:ext cx="48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с какой целью создают мод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3780000" y="2754360"/>
            <a:ext cx="482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какие существуют модели и какими свойствами они облад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3851280" y="4508640"/>
            <a:ext cx="475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создавать графические модели с помощью компью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142720" y="1285560"/>
            <a:ext cx="65437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126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1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126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126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екен –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126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бус –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126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i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642960" y="135720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Модель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4572000" y="3500280"/>
            <a:ext cx="33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6"/>
          <p:cNvSpPr/>
          <p:nvPr/>
        </p:nvSpPr>
        <p:spPr>
          <a:xfrm>
            <a:off x="4289040" y="4071960"/>
            <a:ext cx="251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7"/>
          <p:cNvSpPr/>
          <p:nvPr/>
        </p:nvSpPr>
        <p:spPr>
          <a:xfrm>
            <a:off x="1429560" y="4714920"/>
            <a:ext cx="29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дел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8"/>
          <p:cNvSpPr/>
          <p:nvPr/>
        </p:nvSpPr>
        <p:spPr>
          <a:xfrm>
            <a:off x="2214720" y="1285920"/>
            <a:ext cx="6143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«объект-заместитель», а исходный объект – прототип или оригинал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9"/>
          <p:cNvSpPr/>
          <p:nvPr/>
        </p:nvSpPr>
        <p:spPr>
          <a:xfrm>
            <a:off x="4659840" y="4714920"/>
            <a:ext cx="398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создания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я модели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468360" y="2205000"/>
            <a:ext cx="169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Исходный объект - </a:t>
            </a: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прототи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6875640" y="2349360"/>
            <a:ext cx="1804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Объект-заместитель -</a:t>
            </a:r>
            <a:r>
              <a:rPr b="0" lang="ru-RU" sz="16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мод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http://www.skp-03.ru/upload/shop_1/4/2/1/item_4214/shop_items_catalog_image4214.png"/>
          <p:cNvPicPr/>
          <p:nvPr/>
        </p:nvPicPr>
        <p:blipFill>
          <a:blip r:embed="rId1"/>
          <a:stretch/>
        </p:blipFill>
        <p:spPr>
          <a:xfrm>
            <a:off x="7308720" y="3141720"/>
            <a:ext cx="1656000" cy="1655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http://www.funiweb.ir/wp-content/uploads/2011/12/planet-earth.jpg"/>
          <p:cNvPicPr/>
          <p:nvPr/>
        </p:nvPicPr>
        <p:blipFill>
          <a:blip r:embed="rId2"/>
          <a:stretch/>
        </p:blipFill>
        <p:spPr>
          <a:xfrm>
            <a:off x="900000" y="2997360"/>
            <a:ext cx="141300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бота в групп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н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3 бал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чно верно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2 бал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ерн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0 бал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Ирина</cp:lastModifiedBy>
  <dcterms:modified xsi:type="dcterms:W3CDTF">2017-02-02T21:30:46Z</dcterms:modified>
  <cp:revision>65</cp:revision>
  <dc:subject/>
  <dc:title>Diapositiva 1</dc:title>
</cp:coreProperties>
</file>