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DAB-B5E8-4E22-B853-6B84286C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8FC-9E69-49EA-9773-36DC215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414-6D8F-45DE-9874-4840E628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DA9-9209-40A4-9E5A-23549158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FF59-147E-4778-AD58-7E5FC6C2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3A26-5119-4E0B-866D-254D6DF1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1A93-98BE-4D11-B293-B545F37A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E42B-E568-4893-89AD-F0694FCD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DFBB-2C43-48A0-8693-64F70A69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5E19-882E-4295-87D8-B78BA5EE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15C0-3F1C-44C9-A861-C0B879E2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AE7-E58B-469C-AB89-F8AC76FD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EDBD-18F8-4BA2-9524-C10701B9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65F0-7198-4D7B-9F89-6606EAA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6C95-758D-4CA3-8C52-931A7C4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80F7-4614-4EF2-B375-D6EEF3F2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4950-EA60-4257-B3BD-F48F1AD3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742-4A62-4FA9-96E0-32D92CDE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E20-C0C8-4B94-9254-A7274470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ABA-5205-42F6-BA8A-7A7A628F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46D-1E17-412B-B261-B0025AD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C5E-165B-45C5-9914-0BE5CD18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98F-ADDE-4984-8079-0E62064E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D9C-4673-4428-B30E-DE75A737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74E6-E402-4520-BBE3-F57D269015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4D59-4818-4CAF-8B81-38231EC44F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s://www.youtube.com/watch?v=jAd4pYDM1T8&amp;t=24s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050920" y="1484280"/>
            <a:ext cx="59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рок русского язы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Calibri"/>
                <a:ea typeface="Times New Roman"/>
              </a:rPr>
              <a:t>5 класс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971640" y="549360"/>
            <a:ext cx="74880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ассмотри рисунок и прочитай текст. Опираясь на ри­сунок, закончи мысль в предложе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74800" y="2554200"/>
            <a:ext cx="5965920" cy="3328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24000" y="692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ле-Лукойе дотронулся до картины волшебной палоч­кой. И картина ожи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шелестели на деревьях ... . В них звонко запели ... . Облака понеслись по ... . (По Г.-Х. Андерсен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пиши получившийся тек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читай сказку Г.-Х. Андерсена «Оле-Лукойе». Ты узнаешь о добром волшебнике, который приходил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нах к хорошим дет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701640" y="692280"/>
            <a:ext cx="747072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539640" y="2133720"/>
            <a:ext cx="842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ле-Лукойе дотронулся до картины волшебной палоч­кой. И картина ожи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шелестели на деревьях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етв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. В них звонко запели птицы . Облака понеслись по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бу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Еленга\Desktop\2015-10-01_174304.png"/>
          <p:cNvPicPr/>
          <p:nvPr/>
        </p:nvPicPr>
        <p:blipFill>
          <a:blip r:embed="rId1"/>
          <a:stretch/>
        </p:blipFill>
        <p:spPr>
          <a:xfrm>
            <a:off x="2268360" y="1484280"/>
            <a:ext cx="4650120" cy="37227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Прямоугольник 2" descr=""/>
          <p:cNvPicPr/>
          <p:nvPr/>
        </p:nvPicPr>
        <p:blipFill>
          <a:blip r:embed="rId2"/>
          <a:stretch/>
        </p:blipFill>
        <p:spPr>
          <a:xfrm>
            <a:off x="1390680" y="249120"/>
            <a:ext cx="6259320" cy="946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1547640" y="5445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Танец-игра с ускорением для детей "Мы пойдём налево" / Dance for kids. Наше всё! - 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701640" y="428760"/>
            <a:ext cx="7902720" cy="106884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запись на доске. Определить, что это. Составить и записать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D:\клипарты\грибы\370bfa835f23.png"/>
          <p:cNvPicPr/>
          <p:nvPr/>
        </p:nvPicPr>
        <p:blipFill>
          <a:blip r:embed="rId1"/>
          <a:stretch/>
        </p:blipFill>
        <p:spPr>
          <a:xfrm>
            <a:off x="7451640" y="5356080"/>
            <a:ext cx="1397160" cy="128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539640" y="2276640"/>
            <a:ext cx="80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резки,  платья,  золотые,  надеть.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Березки надели золотые платья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Рассуждение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 это предложение, потому что слова стоят по порядку, связаны  по смыс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701640" y="428760"/>
            <a:ext cx="757080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826920" y="177336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редложение выражает законченную мысль, слова в предложении связаны друг с друг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2030400" y="-49320"/>
            <a:ext cx="4724280" cy="1397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 flipV="1" rot="10800000">
            <a:off x="1116000" y="1946880"/>
            <a:ext cx="74167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19080"/>
            <a:ext cx="7632720" cy="11509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2195640" y="2852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36 стр.29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правило на с.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s://bipbap.ru/wp-content/uploads/2018/01/img8.jpg"/>
          <p:cNvPicPr/>
          <p:nvPr/>
        </p:nvPicPr>
        <p:blipFill>
          <a:blip r:embed="rId1"/>
          <a:stretch/>
        </p:blipFill>
        <p:spPr>
          <a:xfrm>
            <a:off x="539640" y="311040"/>
            <a:ext cx="7920000" cy="583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5" descr=""/>
          <p:cNvPicPr/>
          <p:nvPr/>
        </p:nvPicPr>
        <p:blipFill>
          <a:blip r:embed="rId1"/>
          <a:stretch/>
        </p:blipFill>
        <p:spPr>
          <a:xfrm>
            <a:off x="307800" y="187200"/>
            <a:ext cx="8512200" cy="6389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1332000" y="404640"/>
            <a:ext cx="6408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- Найдите здесь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258920" y="2492280"/>
            <a:ext cx="691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уб, могучий, помахать, ветками, ему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тя  подошёл к ду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1619280" y="765000"/>
            <a:ext cx="5256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971640" y="249228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alibri"/>
              </a:rPr>
              <a:t>Предложение – это слово или несколько слов, связанных между собой по смыс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403280" y="350028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кричит впотьмах пет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сыпается паст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стуху с восходом надо За деревню выгнать ..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В. Степан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900000" y="620640"/>
            <a:ext cx="6767640" cy="22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читай стихо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 ком говорится в первом предложен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 каком пред­ложении говорится о пастух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акое предложение не за­конче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16000" y="2708280"/>
            <a:ext cx="691200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Выражение в предложении законченной мыс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332000" y="765000"/>
            <a:ext cx="590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95280" y="260280"/>
            <a:ext cx="810108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рактические упражнения  в выражении законченной мысли в предлож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549520" y="33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684360" y="256536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оставление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смотрите, ребята, в окно. О чём вы подумали? Выразите свою мысль одним предложением. Придумайте интересное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Что еще нужно знать о предложении? Прочитайте в рамке (по учебник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1619280" y="765000"/>
            <a:ext cx="525636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 ПРАВИЛ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863640" y="321300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ша речь состоит из предложени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ложение выражает законченную мыс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286000" y="620640"/>
            <a:ext cx="53816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АБОТА С УЧЕБНИ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487680" cy="4579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2968200" y="14040"/>
            <a:ext cx="3207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я картины К. П. Брюллова «Всадниц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056200" y="2781360"/>
            <a:ext cx="574560" cy="2087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5867280" y="2068920"/>
            <a:ext cx="30974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ловные обо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сьмо по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ментированное 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 с диал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сьменный пере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Windows User</cp:lastModifiedBy>
  <dcterms:modified xsi:type="dcterms:W3CDTF">2022-02-13T08:05:47Z</dcterms:modified>
  <cp:revision>59</cp:revision>
  <dc:subject/>
  <dc:title>Слайд 1</dc:title>
</cp:coreProperties>
</file>