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EDA-D0F1-4A52-9B15-5EC363D7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ED8-112A-49FF-99D1-E2DACBA6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F83-D18C-4C65-A869-0429AFE7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0E4-CCFF-44EF-83E3-C0902517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4962-7997-4600-91DD-7D36C624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DB8F-A0CF-4AC5-86C4-2DFE4E44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83EE-F924-43A6-A463-F5153EB2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C6DB-114F-4CE0-9EEA-3C088ACC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66BD-0475-4793-8645-9ABABA7C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D812-34E8-4371-AD35-4CB41176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2981-9148-45CE-9836-5F4717E6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7E0C-F09D-4ED1-8EC9-4DF45059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8001-FCA8-420E-8650-1208D533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12D0-6865-4D29-BB06-105A4313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F0DE-A488-42B0-9098-378BF141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42A4-4C5A-4437-B05A-A98D215B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AC38-4891-4AA9-8987-E7865E14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C3C-1F40-4426-A300-B41960F4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150-2C05-41BD-8E3D-19E00016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6E3-0058-433A-B137-302916E8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B55B-B244-44A4-96F6-7868A5B1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F38-CC09-4AE1-B0C2-A0A442E6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50E-4A16-4A9E-AD36-5947D065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9E1-B745-4D3D-BB0A-A18C7542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0F8B-B28C-42F4-B9EE-C25342E1F3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rcRect l="0" t="0" r="0" b="24081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DDEC-D1EF-4360-BDD4-C57DF6AD37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s://www.youtube.com/watch?v=jAd4pYDM1T8&amp;t=24s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050920" y="1484280"/>
            <a:ext cx="59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Calibri"/>
                <a:ea typeface="Times New Roman"/>
              </a:rPr>
              <a:t>Урок русского язы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Calibri"/>
                <a:ea typeface="Times New Roman"/>
              </a:rPr>
              <a:t>5 класс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971640" y="549360"/>
            <a:ext cx="748800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Рассмотри рисунок и прочитай текст. Опираясь на ри­сунок, закончи мысль в предложе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74800" y="2554200"/>
            <a:ext cx="5965920" cy="3328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324000" y="6922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ле-Лукойе дотронулся до картины волшебной палоч­кой. И картина ожи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шелестели на деревьях ... . В них звонко запели ... . Облака понеслись по ... . (По Г.-Х. Андерсен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пиши получившийся тек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читай сказку Г.-Х. Андерсена «Оле-Лукойе». Ты узнаешь о добром волшебнике, который приходил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снах к хорошим дет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701640" y="692280"/>
            <a:ext cx="7470720" cy="642600"/>
          </a:xfrm>
          <a:prstGeom prst="rect">
            <a:avLst/>
          </a:prstGeom>
          <a:solidFill>
            <a:srgbClr val="ffff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539640" y="2133720"/>
            <a:ext cx="842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ле-Лукойе дотронулся до картины волшебной палоч­кой. И картина ожи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шелестели на деревьях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етв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. В них звонко запели птицы . Облака понеслись по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ебу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Еленга\Desktop\2015-10-01_174304.png"/>
          <p:cNvPicPr/>
          <p:nvPr/>
        </p:nvPicPr>
        <p:blipFill>
          <a:blip r:embed="rId1"/>
          <a:stretch/>
        </p:blipFill>
        <p:spPr>
          <a:xfrm>
            <a:off x="2268360" y="1484280"/>
            <a:ext cx="4650120" cy="37227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8" name="Прямоугольник 2" descr=""/>
          <p:cNvPicPr/>
          <p:nvPr/>
        </p:nvPicPr>
        <p:blipFill>
          <a:blip r:embed="rId2"/>
          <a:stretch/>
        </p:blipFill>
        <p:spPr>
          <a:xfrm>
            <a:off x="1390680" y="249120"/>
            <a:ext cx="6259320" cy="9464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1547640" y="5445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Танец-игра с ускорением для детей "Мы пойдём налево" / Dance for kids. Наше всё! - 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701640" y="428760"/>
            <a:ext cx="7902720" cy="1068840"/>
          </a:xfrm>
          <a:prstGeom prst="rect">
            <a:avLst/>
          </a:prstGeom>
          <a:solidFill>
            <a:srgbClr val="ffff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запись на доске. Определить, что это. Составить и записать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D:\клипарты\грибы\370bfa835f23.png"/>
          <p:cNvPicPr/>
          <p:nvPr/>
        </p:nvPicPr>
        <p:blipFill>
          <a:blip r:embed="rId1"/>
          <a:stretch/>
        </p:blipFill>
        <p:spPr>
          <a:xfrm>
            <a:off x="7451640" y="5356080"/>
            <a:ext cx="1397160" cy="1285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539640" y="2276640"/>
            <a:ext cx="806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ерезки,  платья,  золотые,  надеть. 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Березки надели золотые платья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Рассуждение: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 это предложение, потому что слова стоят по порядку, связаны  по смыс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701640" y="428760"/>
            <a:ext cx="757080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826920" y="177336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редложение выражает законченную мысль, слова в предложении связаны друг с друг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2030400" y="-49320"/>
            <a:ext cx="4724280" cy="13971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 flipV="1" rot="10800000">
            <a:off x="1116000" y="1946880"/>
            <a:ext cx="741672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нового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такое предло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19080"/>
            <a:ext cx="7632720" cy="115092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2195640" y="2852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.36 стр.29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правило на с.2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s://bipbap.ru/wp-content/uploads/2018/01/img8.jpg"/>
          <p:cNvPicPr/>
          <p:nvPr/>
        </p:nvPicPr>
        <p:blipFill>
          <a:blip r:embed="rId1"/>
          <a:stretch/>
        </p:blipFill>
        <p:spPr>
          <a:xfrm>
            <a:off x="539640" y="311040"/>
            <a:ext cx="7920000" cy="5832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917640" y="617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5" descr=""/>
          <p:cNvPicPr/>
          <p:nvPr/>
        </p:nvPicPr>
        <p:blipFill>
          <a:blip r:embed="rId1"/>
          <a:stretch/>
        </p:blipFill>
        <p:spPr>
          <a:xfrm>
            <a:off x="307800" y="187200"/>
            <a:ext cx="8512200" cy="6389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1332000" y="404640"/>
            <a:ext cx="64087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- Найдите здесь 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1258920" y="2492280"/>
            <a:ext cx="691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уб, могучий, помахать, ветками, ему.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етя  подошёл к дуб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2"/>
          <p:cNvSpPr/>
          <p:nvPr/>
        </p:nvSpPr>
        <p:spPr>
          <a:xfrm>
            <a:off x="1619280" y="765000"/>
            <a:ext cx="52563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971640" y="2492280"/>
            <a:ext cx="72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Calibri"/>
              </a:rPr>
              <a:t>Предложение – это слово или несколько слов, связанных между собой по смысл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403280" y="3500280"/>
            <a:ext cx="60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кричит впотьмах пету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сыпается пасту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стуху с восходом надо За деревню выгнать ..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В. Степан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900000" y="620640"/>
            <a:ext cx="6767640" cy="22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читай стихотв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 ком говорится в первом предложен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 каком пред­ложении говорится о пастух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акое предложение не за­конче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16000" y="2708280"/>
            <a:ext cx="6912000" cy="256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Выражение в предложении законченной мыс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332000" y="765000"/>
            <a:ext cx="590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395280" y="260280"/>
            <a:ext cx="810108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Практические упражнения  в выражении законченной мысли в предлож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2549520" y="333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684360" y="2565360"/>
            <a:ext cx="7991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оставление пред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осмотрите, ребята, в окно. О чём вы подумали? Выразите свою мысль одним предложением. Придумайте интересное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Что еще нужно знать о предложении? Прочитайте в рамке (по учебник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1619280" y="765000"/>
            <a:ext cx="525636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 ПРАВИЛО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863640" y="321300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ша речь состоит из предложени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дложение выражает законченную мыс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286000" y="620640"/>
            <a:ext cx="53816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РАБОТА С УЧЕБНИ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487680" cy="4579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2968200" y="14040"/>
            <a:ext cx="320724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ция картины К. П. Брюллова «Всадниц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5056200" y="2781360"/>
            <a:ext cx="574560" cy="20876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5867280" y="2068920"/>
            <a:ext cx="309744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ловные обо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сьмо по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ментированное пись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та с диало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сьменный перес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Windows User</cp:lastModifiedBy>
  <dcterms:modified xsi:type="dcterms:W3CDTF">2022-02-13T08:05:47Z</dcterms:modified>
  <cp:revision>59</cp:revision>
  <dc:subject/>
  <dc:title>Слайд 1</dc:title>
</cp:coreProperties>
</file>