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E8C8-30BE-459A-BE92-2452F05B4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62B7-AD4B-4AB7-8905-EFE72563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022B-424D-443A-8C30-1B4DA26C4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16C3-085C-4B03-B211-24441F5C5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48C1-46AE-4CCC-A05A-AE11ABA77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0E9C-2455-459B-8467-26DFEFC2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3431-40A2-43D7-ABB9-5E264FD7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C3DF-682D-405C-A826-0F570B24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97BB-0DBD-41E6-9BD1-2F01FD8F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1152-C439-4338-A1D1-E6DD9061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0090-5F38-4550-815D-D5C14C5B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CACC-CC9E-4660-8341-2A930934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9686-1697-4CB0-BB73-74C8C83F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616C-FDEC-4F08-B16F-6E0FEC8E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D07E4-4593-4B6C-B901-E1D3FA37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1D41B-8841-427B-A34E-5910C699B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2AFF-D558-4D36-AEA1-137479595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10E7E-7DED-40C3-A537-4ECF8E32C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07892-2A26-41DF-9AAE-AC5967A8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611BD-2BBA-419F-981F-E28C3F56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16DD8-9480-40BD-A5DB-5B525297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75C36-5434-4CA6-AC55-F9A9E84F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AB17-77DD-41D3-9700-5418BE90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9AB9F-CA15-4D7F-920E-F1C61E0D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91DD2-6918-4F03-AD5E-B28C0B39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4FB73-219E-4D2F-BD3C-571F3E7C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4B14E-0461-4DEC-9BCA-4A178FBE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CB9E6-37CA-40DE-A7F3-BFAA0D0E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81C29-8CC8-4735-A8DC-010CE938F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6B943-E9D3-4522-AFFE-4C1B94426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4906A-8B1C-4E9C-AFF2-C69832FF0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97992-2084-4120-BE8E-54EAE4BD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ECB93-5122-4CCE-812A-18F410AB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7B46-F59F-4D83-8040-AB52D462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6976B-9F83-4483-87C4-7B5531D6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57DAA-3C0B-4E4C-B989-5C02FCC9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5F4AB-7977-4C62-816B-D1B3D4CD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36AE6-0A1A-4A21-9718-26DEF2FC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414EF-AD70-483A-B4FB-FCAA7835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F9872-2E0D-45DC-B414-5629F1B5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4ED23-C0AD-486D-9AD6-EEC46F5F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B11E5-1945-4413-938C-16F039DC8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68947-7AC3-46A0-A4BC-DE335C91A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E695-E8B2-4994-86C1-C94895B4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0C1A-58BA-41A6-82C8-B2F1F108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0E0B-C7D0-45A1-A985-CCC9E6A4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37BA-3E16-4FDB-BA25-0B2251C5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D82E-0902-42E7-8546-2558401E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66AEAE-A16B-48D3-B444-879C51AF7603}" type="slidenum">
              <a:rPr b="0" lang="en-US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 flipH="1">
            <a:off x="8227800" y="7920"/>
            <a:ext cx="3809880" cy="380988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Straight Connector 16"/>
          <p:cNvSpPr/>
          <p:nvPr/>
        </p:nvSpPr>
        <p:spPr>
          <a:xfrm flipH="1">
            <a:off x="6108480" y="92160"/>
            <a:ext cx="6080040" cy="608004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Straight Connector 18"/>
          <p:cNvSpPr/>
          <p:nvPr/>
        </p:nvSpPr>
        <p:spPr>
          <a:xfrm flipH="1">
            <a:off x="7236000" y="228600"/>
            <a:ext cx="4952880" cy="495288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Straight Connector 20"/>
          <p:cNvSpPr/>
          <p:nvPr/>
        </p:nvSpPr>
        <p:spPr>
          <a:xfrm flipH="1">
            <a:off x="7335360" y="31680"/>
            <a:ext cx="4853160" cy="4853160"/>
          </a:xfrm>
          <a:prstGeom prst="line">
            <a:avLst/>
          </a:prstGeom>
          <a:ln cap="rnd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Straight Connector 22"/>
          <p:cNvSpPr/>
          <p:nvPr/>
        </p:nvSpPr>
        <p:spPr>
          <a:xfrm flipH="1">
            <a:off x="7845120" y="609480"/>
            <a:ext cx="4343400" cy="4343400"/>
          </a:xfrm>
          <a:prstGeom prst="line">
            <a:avLst/>
          </a:prstGeom>
          <a:ln cap="rnd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4D190F-9C45-457E-B06D-061AA7FDBD67}" type="slidenum">
              <a:rPr b="0" lang="en-US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94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5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6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7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8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99" name="TextBox 12"/>
          <p:cNvSpPr/>
          <p:nvPr/>
        </p:nvSpPr>
        <p:spPr>
          <a:xfrm>
            <a:off x="531720" y="81288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TextBox 13"/>
          <p:cNvSpPr/>
          <p:nvPr/>
        </p:nvSpPr>
        <p:spPr>
          <a:xfrm>
            <a:off x="10285560" y="276876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E6D0FE-3213-46E3-8A38-4F5F1A901057}" type="slidenum">
              <a:rPr b="0" lang="en-US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143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4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5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6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7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48" name="TextBox 12"/>
          <p:cNvSpPr/>
          <p:nvPr/>
        </p:nvSpPr>
        <p:spPr>
          <a:xfrm>
            <a:off x="531720" y="81288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TextBox 13"/>
          <p:cNvSpPr/>
          <p:nvPr/>
        </p:nvSpPr>
        <p:spPr>
          <a:xfrm>
            <a:off x="10285560" y="276876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5FC58C-7445-44D8-A90E-CC65B4259DFC}" type="slidenum">
              <a:rPr b="0" lang="en-US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Текст 2" descr=""/>
          <p:cNvPicPr/>
          <p:nvPr/>
        </p:nvPicPr>
        <p:blipFill>
          <a:blip r:embed="rId1"/>
          <a:stretch/>
        </p:blipFill>
        <p:spPr>
          <a:xfrm>
            <a:off x="500040" y="542880"/>
            <a:ext cx="4784760" cy="5016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https://kokhma-biblio.ivn.muzkult.ru/media/2018/12/23/1215715311/zimnij_les.jpg"/>
          <p:cNvPicPr/>
          <p:nvPr/>
        </p:nvPicPr>
        <p:blipFill>
          <a:blip r:embed="rId2"/>
          <a:stretch/>
        </p:blipFill>
        <p:spPr>
          <a:xfrm>
            <a:off x="5103720" y="736560"/>
            <a:ext cx="681372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Заголовок 1"/>
          <p:cNvSpPr/>
          <p:nvPr/>
        </p:nvSpPr>
        <p:spPr>
          <a:xfrm>
            <a:off x="571680" y="10396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 животные, которые не засыпают на зиму и не готовят запасов, стараются перебраться поближе к человеческому жилью. Выходят из леса в поисках еды лоси и олени - лесники их обязательно подкармливают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8" name="Picture 2" descr="https://ds04.infourok.ru/uploads/ex/03e7/0013032e-0f98f424/img40.jpg"/>
          <p:cNvPicPr/>
          <p:nvPr/>
        </p:nvPicPr>
        <p:blipFill>
          <a:blip r:embed="rId1"/>
          <a:stretch/>
        </p:blipFill>
        <p:spPr>
          <a:xfrm>
            <a:off x="2225520" y="3254400"/>
            <a:ext cx="4357800" cy="32688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https://www.openforest.org.ua/wp-content/uploads/2019/01/12-01-15_140715.jpg"/>
          <p:cNvPicPr/>
          <p:nvPr/>
        </p:nvPicPr>
        <p:blipFill>
          <a:blip r:embed="rId2"/>
          <a:stretch/>
        </p:blipFill>
        <p:spPr>
          <a:xfrm>
            <a:off x="6908760" y="473040"/>
            <a:ext cx="461952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4000" y="160200"/>
            <a:ext cx="4344840" cy="105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НИЕ ЗАБАВЫ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1" name="Picture 8" descr="https://i.pinimg.com/originals/46/6f/da/466fda2c4258625189a768475598f243.jpg"/>
          <p:cNvPicPr/>
          <p:nvPr/>
        </p:nvPicPr>
        <p:blipFill>
          <a:blip r:embed="rId1"/>
          <a:stretch/>
        </p:blipFill>
        <p:spPr>
          <a:xfrm>
            <a:off x="9109080" y="299880"/>
            <a:ext cx="2575080" cy="36165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https://i2.wp.com/andrey-eltsov.ru/wp-content/uploads/2018/01/ZimZabavi2.jpg"/>
          <p:cNvPicPr/>
          <p:nvPr/>
        </p:nvPicPr>
        <p:blipFill>
          <a:blip r:embed="rId2"/>
          <a:stretch/>
        </p:blipFill>
        <p:spPr>
          <a:xfrm>
            <a:off x="4919760" y="3606840"/>
            <a:ext cx="3436920" cy="26114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https://cp14.nevsepic.com.ua/188/18724/1385071565-ravarm16753-1024x790.jpg"/>
          <p:cNvPicPr/>
          <p:nvPr/>
        </p:nvPicPr>
        <p:blipFill>
          <a:blip r:embed="rId3"/>
          <a:stretch/>
        </p:blipFill>
        <p:spPr>
          <a:xfrm>
            <a:off x="684360" y="1447920"/>
            <a:ext cx="3733560" cy="28796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https://avatars.mds.yandex.net/get-zen_doc/1707354/pub_5fccf4b18f8c7853ed904f6f_5fccf9cb702d845a1399ef7e/scale_1200"/>
          <p:cNvPicPr/>
          <p:nvPr/>
        </p:nvPicPr>
        <p:blipFill>
          <a:blip r:embed="rId4"/>
          <a:stretch/>
        </p:blipFill>
        <p:spPr>
          <a:xfrm>
            <a:off x="5294160" y="299880"/>
            <a:ext cx="3203640" cy="26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360" y="902880"/>
            <a:ext cx="8534160" cy="42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а наступает после осени. Зимой вся природа замирает, засыпает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Ночи зимой очень длинные, а дни совсем короткие. Небо затянуто серыми тучами, из-за которых очень редко проглядывает солнце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Даже если небо ясное и солнце ярко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ветит, то тепла оно не дает. Говорят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имой солнце светит,                                                               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о не греет». Морозно, идет снег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Чем больше выпадает снега, тем лучше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стений и животных. Снег укрывает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от мороза как одеяло. Частые ветры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ели наметают сугробы. Иногда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ляется иней, изморозь и гололед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в реках и прудах замерзает.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94" name="Picture 2" descr="https://cs1.livemaster.ru/storage/64/9f/f10cc9b9e329bb79efa03caebc0k--kartiny-i-panno-kartina-zima-zimnij-pejzazh-na-golubom-fone-4.jpg"/>
          <p:cNvPicPr/>
          <p:nvPr/>
        </p:nvPicPr>
        <p:blipFill>
          <a:blip r:embed="rId1"/>
          <a:stretch/>
        </p:blipFill>
        <p:spPr>
          <a:xfrm>
            <a:off x="6770520" y="1709640"/>
            <a:ext cx="387360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000" y="182160"/>
            <a:ext cx="9877320" cy="80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а длиться три месяца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96" name="Рисунок 3" descr=""/>
          <p:cNvPicPr/>
          <p:nvPr/>
        </p:nvPicPr>
        <p:blipFill>
          <a:blip r:embed="rId1"/>
          <a:stretch/>
        </p:blipFill>
        <p:spPr>
          <a:xfrm>
            <a:off x="2201760" y="1143000"/>
            <a:ext cx="68407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Рисунок 3" descr=""/>
          <p:cNvPicPr/>
          <p:nvPr/>
        </p:nvPicPr>
        <p:blipFill>
          <a:blip r:embed="rId1"/>
          <a:stretch/>
        </p:blipFill>
        <p:spPr>
          <a:xfrm>
            <a:off x="1569960" y="446040"/>
            <a:ext cx="79437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Рисунок 3" descr=""/>
          <p:cNvPicPr/>
          <p:nvPr/>
        </p:nvPicPr>
        <p:blipFill>
          <a:blip r:embed="rId1"/>
          <a:stretch/>
        </p:blipFill>
        <p:spPr>
          <a:xfrm>
            <a:off x="1114560" y="449280"/>
            <a:ext cx="803592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360" y="410760"/>
            <a:ext cx="9580320" cy="50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чего нужен снег зимой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г напитает землю водой, очищает воздух, даст ей отдохнуть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 на такой земле сможет вырастить хороший урожай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4000" y="297000"/>
            <a:ext cx="6630840" cy="454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венные деревья и кусты сбросили листья, но на некоторых (калина, рябина, терн, шиповник) остались плоды. Хвойные деревья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сны и ели) остались зелеными, на них созрели семена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1" name="Picture 2" descr="https://i.pinimg.com/originals/19/c3/e4/19c3e44c4a0c29d351121f9469f431f6.jpg"/>
          <p:cNvPicPr/>
          <p:nvPr/>
        </p:nvPicPr>
        <p:blipFill>
          <a:blip r:embed="rId1"/>
          <a:stretch/>
        </p:blipFill>
        <p:spPr>
          <a:xfrm>
            <a:off x="6419880" y="1363680"/>
            <a:ext cx="4610160" cy="51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4360" y="479520"/>
            <a:ext cx="8534160" cy="189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цы (синицы, вороны, дятлы, снегири)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таются к человеческому жилью, кормятся хлебными крошками, зернышками, семенами деревьев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3" name="Picture 2" descr="https://catherineasquithgallery.com/uploads/posts/2021-02/1613625713_96-p-fon-dlya-prezentatsii-ptitsi-zimoi-125.jpg"/>
          <p:cNvPicPr/>
          <p:nvPr/>
        </p:nvPicPr>
        <p:blipFill>
          <a:blip r:embed="rId1"/>
          <a:stretch/>
        </p:blipFill>
        <p:spPr>
          <a:xfrm>
            <a:off x="2239920" y="2244600"/>
            <a:ext cx="657216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4000" y="571320"/>
            <a:ext cx="5738760" cy="294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веди и ежи засыпают на всю зиму. Засыпают и лягушки, ящерицы, змеи. Белки, лисы, зайцы меняют летние шубки на зимние - другого цвета, с длинным, густым мехом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5" name="Picture 6" descr="https://activefisher.net/wp-content/uploads/1/b/f/1bfde5854b5599a46a953a9a053ecf38.jpg"/>
          <p:cNvPicPr/>
          <p:nvPr/>
        </p:nvPicPr>
        <p:blipFill>
          <a:blip r:embed="rId1"/>
          <a:stretch/>
        </p:blipFill>
        <p:spPr>
          <a:xfrm>
            <a:off x="6551640" y="293760"/>
            <a:ext cx="4952880" cy="37148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https://i.pinimg.com/originals/20/4e/be/204ebe9245290ce237da2e7e8443d9dc.jpg"/>
          <p:cNvPicPr/>
          <p:nvPr/>
        </p:nvPicPr>
        <p:blipFill>
          <a:blip r:embed="rId2"/>
          <a:stretch/>
        </p:blipFill>
        <p:spPr>
          <a:xfrm>
            <a:off x="1654200" y="3063960"/>
            <a:ext cx="4638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7T09:21:56Z</dcterms:created>
  <dc:creator>Анжелика</dc:creator>
  <dc:description/>
  <dc:language>en-US</dc:language>
  <cp:lastModifiedBy>Microsoft Office</cp:lastModifiedBy>
  <dcterms:modified xsi:type="dcterms:W3CDTF">2022-02-13T15:07:00Z</dcterms:modified>
  <cp:revision>19</cp:revision>
  <dc:subject/>
  <dc:title>Презентация PowerPoint</dc:title>
</cp:coreProperties>
</file>