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13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CAD65-ADF0-4E41-8394-BBE8BEE49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853416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84360" y="2573640"/>
            <a:ext cx="853416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94982-A83B-472E-AFFD-5C6D19D11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436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5728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6F169-8522-4E02-BEE7-011807842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70120" y="6854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455520" y="6854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84360" y="25736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70120" y="25736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455520" y="25736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19744-4ABE-4B92-A324-541222293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2276B-23B6-45AC-9CD7-76C4685FF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684360" y="685440"/>
            <a:ext cx="8534160" cy="36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233CB-0199-4012-A003-8A807C623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853416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5AA08-DFC5-4E2C-A4FD-ABB5DACF3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BE125-C044-4579-9266-5BE677BC1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2D7BA-0268-4E80-8F4E-89002AC34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684360" y="4487400"/>
            <a:ext cx="8534160" cy="698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ACE7A-25CC-4B20-B34A-EE5DBAA12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436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5AA80-B53C-4FB9-9ECA-7B5603130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84360" y="685440"/>
            <a:ext cx="8534160" cy="36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494C5-9B5C-445F-8369-C259E64A8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5728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7A442-0546-4814-955C-0872148C8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360" y="2573640"/>
            <a:ext cx="853416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191DF-EFDE-4B29-BC1E-DE628D0AD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853416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684360" y="2573640"/>
            <a:ext cx="853416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AA990-852F-4C4F-8532-AABAC19D7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436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05728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72A12-7BFF-4FE6-84F6-34C16A002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570120" y="6854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455520" y="6854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684360" y="25736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570120" y="25736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455520" y="25736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6B519-408B-4768-954F-5324978DB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3F51E9-B1B7-4AB9-8D67-9FF4D8EE3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684360" y="685440"/>
            <a:ext cx="8534160" cy="36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1712CA-0457-4DFD-BF56-5BF794191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853416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356D19-0C87-4C7C-A410-0C722D6D4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B97076-38BB-4146-9252-593107199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69A80C-88CC-455E-BD4A-A67F9AA13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853416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716AC-84D0-4BDD-BA85-739F56984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684360" y="4487400"/>
            <a:ext cx="8534160" cy="698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0CD2C3-CF5C-4150-AD03-5912B1B3C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8436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A9961F-E30A-43CC-97EE-6BED78FE0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05728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AC3AE6-FD8C-4C1D-9ECE-F9D77715F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4360" y="2573640"/>
            <a:ext cx="853416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2EC03B-B6ED-4DD0-A581-AE1C72006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853416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84360" y="2573640"/>
            <a:ext cx="853416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E93A89-A34E-479B-AC99-34BAC1BAF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8436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05728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451F80-115B-4BDF-843E-1EFA97A59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570120" y="6854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455520" y="6854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684360" y="25736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570120" y="25736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455520" y="25736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8DE932-F852-433C-8896-92C6536F1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3FA90F-CE72-4C7A-8A96-334FE46FD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684360" y="685440"/>
            <a:ext cx="8534160" cy="36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99BE5A-679F-4502-A6BA-7A0DAEB77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853416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E5ACC7-11E6-4C52-B510-4351FBA28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893B0-CE31-4920-9BAE-35911150D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F987BD-C212-4ED4-9255-6D2D3F7B9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3476BA-F19C-4533-BBC5-771CC05D9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684360" y="4487400"/>
            <a:ext cx="8534160" cy="698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775792-5B79-4681-BA53-3C6D3DF3D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436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19945C-891B-4E03-841A-52CADC8AB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05728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DB2C3E-1ACF-492B-B97D-67D008C88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84360" y="2573640"/>
            <a:ext cx="853416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9F469C-B3C0-4C31-9CB3-D0D4BB3DA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853416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684360" y="2573640"/>
            <a:ext cx="853416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5CFE20-69C8-457B-A7EA-5ABC81B37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8436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505728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BB5E88-B813-49E8-A482-B2C0D98FE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570120" y="6854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455520" y="6854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684360" y="25736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570120" y="25736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455520" y="25736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31951A-28B4-4193-A786-FA2572F50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33C2B-7092-4AE3-AD3F-A18E21E54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4360" y="4487400"/>
            <a:ext cx="8534160" cy="698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7D44D-5E01-4887-AC58-67963AB7F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436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6EC70-2D00-485E-A4F4-ADF690D82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5728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9B370-1292-453C-933B-280D98380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4360" y="2573640"/>
            <a:ext cx="853416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7CF20-9EC7-4070-9552-8E3AE35C2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"/>
          <p:cNvGrpSpPr/>
          <p:nvPr/>
        </p:nvGrpSpPr>
        <p:grpSpPr>
          <a:xfrm>
            <a:off x="9207360" y="2963880"/>
            <a:ext cx="2981520" cy="3208320"/>
            <a:chOff x="9207360" y="2963880"/>
            <a:chExt cx="2981520" cy="3208320"/>
          </a:xfrm>
        </p:grpSpPr>
        <p:sp>
          <p:nvSpPr>
            <p:cNvPr id="1" name="Straight Connector 7"/>
            <p:cNvSpPr/>
            <p:nvPr/>
          </p:nvSpPr>
          <p:spPr>
            <a:xfrm flipH="1">
              <a:off x="11275920" y="2963880"/>
              <a:ext cx="912960" cy="91260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2" name="Straight Connector 8"/>
            <p:cNvSpPr/>
            <p:nvPr/>
          </p:nvSpPr>
          <p:spPr>
            <a:xfrm flipH="1">
              <a:off x="9207360" y="3190680"/>
              <a:ext cx="2981520" cy="298152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3" name="Straight Connector 9"/>
            <p:cNvSpPr/>
            <p:nvPr/>
          </p:nvSpPr>
          <p:spPr>
            <a:xfrm flipH="1">
              <a:off x="10293120" y="3286080"/>
              <a:ext cx="1895760" cy="189540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4" name="Straight Connector 10"/>
            <p:cNvSpPr/>
            <p:nvPr/>
          </p:nvSpPr>
          <p:spPr>
            <a:xfrm flipH="1">
              <a:off x="10443600" y="3132000"/>
              <a:ext cx="1744920" cy="174456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5" name="Straight Connector 11"/>
            <p:cNvSpPr/>
            <p:nvPr/>
          </p:nvSpPr>
          <p:spPr>
            <a:xfrm flipH="1">
              <a:off x="10918800" y="3682800"/>
              <a:ext cx="1270080" cy="127008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684360" y="685440"/>
            <a:ext cx="853416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2" marL="12002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3" marL="15429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4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5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6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9903960" y="6172200"/>
            <a:ext cx="1600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a304a"/>
                </a:solidFill>
                <a:latin typeface="Century Gothic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a304a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684000" y="6172200"/>
            <a:ext cx="7543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10362960" y="5578200"/>
            <a:ext cx="114300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3200" spc="-1" strike="noStrike">
                <a:solidFill>
                  <a:srgbClr val="0a304a"/>
                </a:solidFill>
                <a:latin typeface="Century Gothic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4E544D2-AA22-4DEA-B7F9-8B3290DB8A05}" type="slidenum">
              <a:rPr b="0" lang="en-US" sz="3200" spc="-1" strike="noStrike">
                <a:solidFill>
                  <a:srgbClr val="0a304a"/>
                </a:solidFill>
                <a:latin typeface="Century Gothic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Straight Connector 15"/>
          <p:cNvSpPr/>
          <p:nvPr/>
        </p:nvSpPr>
        <p:spPr>
          <a:xfrm flipH="1">
            <a:off x="8227800" y="7920"/>
            <a:ext cx="3809880" cy="3809880"/>
          </a:xfrm>
          <a:prstGeom prst="line">
            <a:avLst/>
          </a:prstGeom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" name="Straight Connector 16"/>
          <p:cNvSpPr/>
          <p:nvPr/>
        </p:nvSpPr>
        <p:spPr>
          <a:xfrm flipH="1">
            <a:off x="6108480" y="92160"/>
            <a:ext cx="6080040" cy="6080040"/>
          </a:xfrm>
          <a:prstGeom prst="line">
            <a:avLst/>
          </a:prstGeom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Straight Connector 18"/>
          <p:cNvSpPr/>
          <p:nvPr/>
        </p:nvSpPr>
        <p:spPr>
          <a:xfrm flipH="1">
            <a:off x="7236000" y="228600"/>
            <a:ext cx="4952880" cy="4952880"/>
          </a:xfrm>
          <a:prstGeom prst="line">
            <a:avLst/>
          </a:prstGeom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Straight Connector 20"/>
          <p:cNvSpPr/>
          <p:nvPr/>
        </p:nvSpPr>
        <p:spPr>
          <a:xfrm flipH="1">
            <a:off x="7335360" y="31680"/>
            <a:ext cx="4853160" cy="4853160"/>
          </a:xfrm>
          <a:prstGeom prst="line">
            <a:avLst/>
          </a:prstGeom>
          <a:ln cap="rnd"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Straight Connector 22"/>
          <p:cNvSpPr/>
          <p:nvPr/>
        </p:nvSpPr>
        <p:spPr>
          <a:xfrm flipH="1">
            <a:off x="7845120" y="609480"/>
            <a:ext cx="4343400" cy="4343400"/>
          </a:xfrm>
          <a:prstGeom prst="line">
            <a:avLst/>
          </a:prstGeom>
          <a:ln cap="rnd"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4360" y="685440"/>
            <a:ext cx="853416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2" marL="12002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3" marL="15429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4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5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6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9903960" y="6172200"/>
            <a:ext cx="1600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a304a"/>
                </a:solidFill>
                <a:latin typeface="Century Gothic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a304a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684000" y="6172200"/>
            <a:ext cx="7543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10362960" y="5578200"/>
            <a:ext cx="114300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3200" spc="-1" strike="noStrike">
                <a:solidFill>
                  <a:srgbClr val="0a304a"/>
                </a:solidFill>
                <a:latin typeface="Century Gothic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DD2B9B-41BE-4383-A26F-48FE09E99308}" type="slidenum">
              <a:rPr b="0" lang="en-US" sz="3200" spc="-1" strike="noStrike">
                <a:solidFill>
                  <a:srgbClr val="0a304a"/>
                </a:solidFill>
                <a:latin typeface="Century Gothic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6"/>
          <p:cNvGrpSpPr/>
          <p:nvPr/>
        </p:nvGrpSpPr>
        <p:grpSpPr>
          <a:xfrm>
            <a:off x="9207360" y="2963880"/>
            <a:ext cx="2981520" cy="3208320"/>
            <a:chOff x="9207360" y="2963880"/>
            <a:chExt cx="2981520" cy="3208320"/>
          </a:xfrm>
        </p:grpSpPr>
        <p:sp>
          <p:nvSpPr>
            <p:cNvPr id="94" name="Straight Connector 7"/>
            <p:cNvSpPr/>
            <p:nvPr/>
          </p:nvSpPr>
          <p:spPr>
            <a:xfrm flipH="1">
              <a:off x="11275920" y="2963880"/>
              <a:ext cx="912960" cy="91260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95" name="Straight Connector 8"/>
            <p:cNvSpPr/>
            <p:nvPr/>
          </p:nvSpPr>
          <p:spPr>
            <a:xfrm flipH="1">
              <a:off x="9207360" y="3190680"/>
              <a:ext cx="2981520" cy="298152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96" name="Straight Connector 9"/>
            <p:cNvSpPr/>
            <p:nvPr/>
          </p:nvSpPr>
          <p:spPr>
            <a:xfrm flipH="1">
              <a:off x="10293120" y="3286080"/>
              <a:ext cx="1895760" cy="189540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97" name="Straight Connector 10"/>
            <p:cNvSpPr/>
            <p:nvPr/>
          </p:nvSpPr>
          <p:spPr>
            <a:xfrm flipH="1">
              <a:off x="10443600" y="3132000"/>
              <a:ext cx="1744920" cy="174456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98" name="Straight Connector 11"/>
            <p:cNvSpPr/>
            <p:nvPr/>
          </p:nvSpPr>
          <p:spPr>
            <a:xfrm flipH="1">
              <a:off x="10918800" y="3682800"/>
              <a:ext cx="1270080" cy="127008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99" name="TextBox 12"/>
          <p:cNvSpPr/>
          <p:nvPr/>
        </p:nvSpPr>
        <p:spPr>
          <a:xfrm>
            <a:off x="531720" y="812880"/>
            <a:ext cx="6098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entury Gothic"/>
              </a:rPr>
              <a:t>“</a:t>
            </a:r>
            <a:endParaRPr b="0" lang="en-US" sz="8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0" name="TextBox 13"/>
          <p:cNvSpPr/>
          <p:nvPr/>
        </p:nvSpPr>
        <p:spPr>
          <a:xfrm>
            <a:off x="10285560" y="2768760"/>
            <a:ext cx="60948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entury Gothic"/>
              </a:rPr>
              <a:t>”</a:t>
            </a:r>
            <a:endParaRPr b="0" lang="en-US" sz="8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4360" y="685440"/>
            <a:ext cx="853416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2" marL="12002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3" marL="15429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4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5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6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9903960" y="6172200"/>
            <a:ext cx="1600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a304a"/>
                </a:solidFill>
                <a:latin typeface="Century Gothic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a304a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684000" y="6172200"/>
            <a:ext cx="7543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10362960" y="5578200"/>
            <a:ext cx="114300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3200" spc="-1" strike="noStrike">
                <a:solidFill>
                  <a:srgbClr val="0a304a"/>
                </a:solidFill>
                <a:latin typeface="Century Gothic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CFC32D2-152F-4220-8C7D-ACE61B773279}" type="slidenum">
              <a:rPr b="0" lang="en-US" sz="3200" spc="-1" strike="noStrike">
                <a:solidFill>
                  <a:srgbClr val="0a304a"/>
                </a:solidFill>
                <a:latin typeface="Century Gothic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Group 6"/>
          <p:cNvGrpSpPr/>
          <p:nvPr/>
        </p:nvGrpSpPr>
        <p:grpSpPr>
          <a:xfrm>
            <a:off x="9207360" y="2963880"/>
            <a:ext cx="2981520" cy="3208320"/>
            <a:chOff x="9207360" y="2963880"/>
            <a:chExt cx="2981520" cy="3208320"/>
          </a:xfrm>
        </p:grpSpPr>
        <p:sp>
          <p:nvSpPr>
            <p:cNvPr id="143" name="Straight Connector 7"/>
            <p:cNvSpPr/>
            <p:nvPr/>
          </p:nvSpPr>
          <p:spPr>
            <a:xfrm flipH="1">
              <a:off x="11275920" y="2963880"/>
              <a:ext cx="912960" cy="91260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144" name="Straight Connector 8"/>
            <p:cNvSpPr/>
            <p:nvPr/>
          </p:nvSpPr>
          <p:spPr>
            <a:xfrm flipH="1">
              <a:off x="9207360" y="3190680"/>
              <a:ext cx="2981520" cy="298152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145" name="Straight Connector 9"/>
            <p:cNvSpPr/>
            <p:nvPr/>
          </p:nvSpPr>
          <p:spPr>
            <a:xfrm flipH="1">
              <a:off x="10293120" y="3286080"/>
              <a:ext cx="1895760" cy="189540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146" name="Straight Connector 10"/>
            <p:cNvSpPr/>
            <p:nvPr/>
          </p:nvSpPr>
          <p:spPr>
            <a:xfrm flipH="1">
              <a:off x="10443600" y="3132000"/>
              <a:ext cx="1744920" cy="174456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147" name="Straight Connector 11"/>
            <p:cNvSpPr/>
            <p:nvPr/>
          </p:nvSpPr>
          <p:spPr>
            <a:xfrm flipH="1">
              <a:off x="10918800" y="3682800"/>
              <a:ext cx="1270080" cy="127008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148" name="TextBox 12"/>
          <p:cNvSpPr/>
          <p:nvPr/>
        </p:nvSpPr>
        <p:spPr>
          <a:xfrm>
            <a:off x="531720" y="812880"/>
            <a:ext cx="6098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entury Gothic"/>
              </a:rPr>
              <a:t>“</a:t>
            </a:r>
            <a:endParaRPr b="0" lang="en-US" sz="8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9" name="TextBox 13"/>
          <p:cNvSpPr/>
          <p:nvPr/>
        </p:nvSpPr>
        <p:spPr>
          <a:xfrm>
            <a:off x="10285560" y="2768760"/>
            <a:ext cx="60948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entury Gothic"/>
              </a:rPr>
              <a:t>”</a:t>
            </a:r>
            <a:endParaRPr b="0" lang="en-US" sz="8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4360" y="685440"/>
            <a:ext cx="853416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2" marL="12002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3" marL="15429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4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5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6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9903960" y="6172200"/>
            <a:ext cx="1600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a304a"/>
                </a:solidFill>
                <a:latin typeface="Century Gothic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a304a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684000" y="6172200"/>
            <a:ext cx="7543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10362960" y="5578200"/>
            <a:ext cx="114300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3200" spc="-1" strike="noStrike">
                <a:solidFill>
                  <a:srgbClr val="0a304a"/>
                </a:solidFill>
                <a:latin typeface="Century Gothic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C91711-C234-462D-AAAA-EE248D89A475}" type="slidenum">
              <a:rPr b="0" lang="en-US" sz="3200" spc="-1" strike="noStrike">
                <a:solidFill>
                  <a:srgbClr val="0a304a"/>
                </a:solidFill>
                <a:latin typeface="Century Gothic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Текст 2" descr=""/>
          <p:cNvPicPr/>
          <p:nvPr/>
        </p:nvPicPr>
        <p:blipFill>
          <a:blip r:embed="rId1"/>
          <a:stretch/>
        </p:blipFill>
        <p:spPr>
          <a:xfrm>
            <a:off x="500040" y="542880"/>
            <a:ext cx="4784760" cy="501660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2" descr="https://kokhma-biblio.ivn.muzkult.ru/media/2018/12/23/1215715311/zimnij_les.jpg"/>
          <p:cNvPicPr/>
          <p:nvPr/>
        </p:nvPicPr>
        <p:blipFill>
          <a:blip r:embed="rId2"/>
          <a:stretch/>
        </p:blipFill>
        <p:spPr>
          <a:xfrm>
            <a:off x="5103720" y="736560"/>
            <a:ext cx="6813720" cy="48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Заголовок 1"/>
          <p:cNvSpPr/>
          <p:nvPr/>
        </p:nvSpPr>
        <p:spPr>
          <a:xfrm>
            <a:off x="571680" y="10396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 животные, которые не засыпают на зиму и не готовят запасов, стараются перебраться поближе к человеческому жилью. Выходят из леса в поисках еды лоси и олени - лесники их обязательно подкармливают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08" name="Picture 2" descr="https://ds04.infourok.ru/uploads/ex/03e7/0013032e-0f98f424/img40.jpg"/>
          <p:cNvPicPr/>
          <p:nvPr/>
        </p:nvPicPr>
        <p:blipFill>
          <a:blip r:embed="rId1"/>
          <a:stretch/>
        </p:blipFill>
        <p:spPr>
          <a:xfrm>
            <a:off x="2225520" y="3254400"/>
            <a:ext cx="4357800" cy="32688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4" descr="https://www.openforest.org.ua/wp-content/uploads/2019/01/12-01-15_140715.jpg"/>
          <p:cNvPicPr/>
          <p:nvPr/>
        </p:nvPicPr>
        <p:blipFill>
          <a:blip r:embed="rId2"/>
          <a:stretch/>
        </p:blipFill>
        <p:spPr>
          <a:xfrm>
            <a:off x="6908760" y="473040"/>
            <a:ext cx="4619520" cy="30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4000" y="160200"/>
            <a:ext cx="4344840" cy="1051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ИМНИЕ ЗАБАВЫ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11" name="Picture 8" descr="https://i.pinimg.com/originals/46/6f/da/466fda2c4258625189a768475598f243.jpg"/>
          <p:cNvPicPr/>
          <p:nvPr/>
        </p:nvPicPr>
        <p:blipFill>
          <a:blip r:embed="rId1"/>
          <a:stretch/>
        </p:blipFill>
        <p:spPr>
          <a:xfrm>
            <a:off x="9109080" y="299880"/>
            <a:ext cx="2575080" cy="361656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6" descr="https://i2.wp.com/andrey-eltsov.ru/wp-content/uploads/2018/01/ZimZabavi2.jpg"/>
          <p:cNvPicPr/>
          <p:nvPr/>
        </p:nvPicPr>
        <p:blipFill>
          <a:blip r:embed="rId2"/>
          <a:stretch/>
        </p:blipFill>
        <p:spPr>
          <a:xfrm>
            <a:off x="4919760" y="3606840"/>
            <a:ext cx="3436920" cy="261144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4" descr="https://cp14.nevsepic.com.ua/188/18724/1385071565-ravarm16753-1024x790.jpg"/>
          <p:cNvPicPr/>
          <p:nvPr/>
        </p:nvPicPr>
        <p:blipFill>
          <a:blip r:embed="rId3"/>
          <a:stretch/>
        </p:blipFill>
        <p:spPr>
          <a:xfrm>
            <a:off x="684360" y="1447920"/>
            <a:ext cx="3733560" cy="287964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10" descr="https://avatars.mds.yandex.net/get-zen_doc/1707354/pub_5fccf4b18f8c7853ed904f6f_5fccf9cb702d845a1399ef7e/scale_1200"/>
          <p:cNvPicPr/>
          <p:nvPr/>
        </p:nvPicPr>
        <p:blipFill>
          <a:blip r:embed="rId4"/>
          <a:stretch/>
        </p:blipFill>
        <p:spPr>
          <a:xfrm>
            <a:off x="5294160" y="299880"/>
            <a:ext cx="3203640" cy="26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4360" y="902880"/>
            <a:ext cx="8534160" cy="424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има наступает после осени. Зимой вся природа замирает, засыпает.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Ночи зимой очень длинные, а дни совсем короткие. Небо затянуто серыми тучами, из-за которых очень редко проглядывает солнце.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Даже если небо ясное и солнце ярко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ветит, то тепла оно не дает. Говорят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зимой солнце светит,                                                               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о не греет». Морозно, идет снег.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Чем больше выпадает снега, тем лучше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растений и животных. Снег укрывает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х от мороза как одеяло. Частые ветры,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ели наметают сугробы. Иногда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является иней, изморозь и гололед.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да в реках и прудах замерзает.</a:t>
            </a:r>
            <a:br>
              <a:rPr sz="2200"/>
            </a:b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94" name="Picture 2" descr="https://cs1.livemaster.ru/storage/64/9f/f10cc9b9e329bb79efa03caebc0k--kartiny-i-panno-kartina-zima-zimnij-pejzazh-na-golubom-fone-4.jpg"/>
          <p:cNvPicPr/>
          <p:nvPr/>
        </p:nvPicPr>
        <p:blipFill>
          <a:blip r:embed="rId1"/>
          <a:stretch/>
        </p:blipFill>
        <p:spPr>
          <a:xfrm>
            <a:off x="6770520" y="1709640"/>
            <a:ext cx="3873600" cy="43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4000" y="182160"/>
            <a:ext cx="9877320" cy="800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има длиться три месяца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96" name="Рисунок 3" descr=""/>
          <p:cNvPicPr/>
          <p:nvPr/>
        </p:nvPicPr>
        <p:blipFill>
          <a:blip r:embed="rId1"/>
          <a:stretch/>
        </p:blipFill>
        <p:spPr>
          <a:xfrm>
            <a:off x="2201760" y="1143000"/>
            <a:ext cx="6840720" cy="51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Рисунок 3" descr=""/>
          <p:cNvPicPr/>
          <p:nvPr/>
        </p:nvPicPr>
        <p:blipFill>
          <a:blip r:embed="rId1"/>
          <a:stretch/>
        </p:blipFill>
        <p:spPr>
          <a:xfrm>
            <a:off x="1569960" y="446040"/>
            <a:ext cx="794376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Рисунок 3" descr=""/>
          <p:cNvPicPr/>
          <p:nvPr/>
        </p:nvPicPr>
        <p:blipFill>
          <a:blip r:embed="rId1"/>
          <a:stretch/>
        </p:blipFill>
        <p:spPr>
          <a:xfrm>
            <a:off x="1114560" y="449280"/>
            <a:ext cx="8035920" cy="606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4360" y="410760"/>
            <a:ext cx="9580320" cy="504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чего нужен снег зимой?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ег напитает землю водой, очищает воздух, даст ей отдохнуть.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ловек на такой земле сможет вырастить хороший урожай.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4000" y="297000"/>
            <a:ext cx="6630840" cy="4549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5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ственные деревья и кусты сбросили листья, но на некоторых (калина, рябина, терн, шиповник) остались плоды. Хвойные деревья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осны и ели) остались зелеными, на них созрели семена.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01" name="Picture 2" descr="https://i.pinimg.com/originals/19/c3/e4/19c3e44c4a0c29d351121f9469f431f6.jpg"/>
          <p:cNvPicPr/>
          <p:nvPr/>
        </p:nvPicPr>
        <p:blipFill>
          <a:blip r:embed="rId1"/>
          <a:stretch/>
        </p:blipFill>
        <p:spPr>
          <a:xfrm>
            <a:off x="6419880" y="1363680"/>
            <a:ext cx="4610160" cy="51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4360" y="479520"/>
            <a:ext cx="8534160" cy="189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тицы (синицы, вороны, дятлы, снегири)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етаются к человеческому жилью, кормятся хлебными крошками, зернышками, семенами деревьев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03" name="Picture 2" descr="https://catherineasquithgallery.com/uploads/posts/2021-02/1613625713_96-p-fon-dlya-prezentatsii-ptitsi-zimoi-125.jpg"/>
          <p:cNvPicPr/>
          <p:nvPr/>
        </p:nvPicPr>
        <p:blipFill>
          <a:blip r:embed="rId1"/>
          <a:stretch/>
        </p:blipFill>
        <p:spPr>
          <a:xfrm>
            <a:off x="2239920" y="2244600"/>
            <a:ext cx="6572160" cy="41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4000" y="571320"/>
            <a:ext cx="5738760" cy="294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веди и ежи засыпают на всю зиму. Засыпают и лягушки, ящерицы, змеи. Белки, лисы, зайцы меняют летние шубки на зимние - другого цвета, с длинным, густым мехом.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05" name="Picture 6" descr="https://activefisher.net/wp-content/uploads/1/b/f/1bfde5854b5599a46a953a9a053ecf38.jpg"/>
          <p:cNvPicPr/>
          <p:nvPr/>
        </p:nvPicPr>
        <p:blipFill>
          <a:blip r:embed="rId1"/>
          <a:stretch/>
        </p:blipFill>
        <p:spPr>
          <a:xfrm>
            <a:off x="6551640" y="293760"/>
            <a:ext cx="4952880" cy="371484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4" descr="https://i.pinimg.com/originals/20/4e/be/204ebe9245290ce237da2e7e8443d9dc.jpg"/>
          <p:cNvPicPr/>
          <p:nvPr/>
        </p:nvPicPr>
        <p:blipFill>
          <a:blip r:embed="rId2"/>
          <a:stretch/>
        </p:blipFill>
        <p:spPr>
          <a:xfrm>
            <a:off x="1654200" y="3063960"/>
            <a:ext cx="46386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07T09:21:56Z</dcterms:created>
  <dc:creator>Анжелика</dc:creator>
  <dc:description/>
  <dc:language>en-US</dc:language>
  <cp:lastModifiedBy>Microsoft Office</cp:lastModifiedBy>
  <dcterms:modified xsi:type="dcterms:W3CDTF">2022-02-13T15:07:00Z</dcterms:modified>
  <cp:revision>19</cp:revision>
  <dc:subject/>
  <dc:title>Презентация PowerPoint</dc:title>
</cp:coreProperties>
</file>