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6321-7597-4726-B37F-64E5382E3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1733-8711-441E-89EF-71DD24B66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AF09-D8AF-4DE6-A86E-1C4C223F4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F108-E17B-4F25-B5E2-3B44698D5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1AA3-5EFC-43FC-B7F1-F8C53A1D29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7FE8-D0C1-4A97-9FCC-FB103D62E1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2ACB-9B3B-47AC-B9A9-46A749807E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A803-209F-4264-991F-7DFEFDF133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E938-2701-4069-AA42-8BD955D701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29CF-986F-47E5-AE2D-CE346F3D1C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CA1CA-B926-496A-B1C7-8C227575A4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972F-3BA5-4F3F-843D-3B7B774A5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6188-45C6-4F37-A20F-E336BCFC7C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69E3-370D-4E21-A86F-3A92E7FEB7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8532-D60D-4776-86EE-F120FCDDF7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7F2C-3035-4347-A647-E91FB0F9F1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C5E9-2527-4204-B031-4A5302D53E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D5A0-F05D-45B4-A5EB-DDF784E59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AEF2-8EA5-492C-A0F0-3F64DD2A8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4278-163C-484C-925A-0873CD262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71E1-6855-41D9-93FF-2F6B5E273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2594-DEF5-4CF8-B528-CA6FC035B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55DB-1321-4497-A896-6EA09BD6F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D437-BF50-46A2-89E4-5F6B23D0D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" y="-360"/>
            <a:ext cx="9142200" cy="6856560"/>
            <a:chOff x="-360" y="-360"/>
            <a:chExt cx="9142200" cy="6856560"/>
          </a:xfrm>
        </p:grpSpPr>
        <p:sp>
          <p:nvSpPr>
            <p:cNvPr id="1" name=""/>
            <p:cNvSpPr/>
            <p:nvPr/>
          </p:nvSpPr>
          <p:spPr>
            <a:xfrm>
              <a:off x="3124440" y="6704280"/>
              <a:ext cx="6016320" cy="1504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761680" y="1981440"/>
              <a:ext cx="379080" cy="42638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80" y="5256720"/>
              <a:ext cx="455400" cy="150480"/>
            </a:xfrm>
            <a:prstGeom prst="rect">
              <a:avLst/>
            </a:prstGeom>
            <a:solidFill>
              <a:srgbClr val="3333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80" y="5409000"/>
              <a:ext cx="455400" cy="14457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1680" y="1080"/>
              <a:ext cx="379080" cy="19785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714280" y="1080"/>
              <a:ext cx="3045240" cy="302760"/>
            </a:xfrm>
            <a:prstGeom prst="rect">
              <a:avLst/>
            </a:prstGeom>
            <a:solidFill>
              <a:srgbClr val="cac9a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8280" y="306000"/>
              <a:ext cx="531360" cy="759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80" y="1067400"/>
              <a:ext cx="455400" cy="418788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80" y="306000"/>
              <a:ext cx="455400" cy="7599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80" y="1080"/>
              <a:ext cx="988560" cy="302760"/>
            </a:xfrm>
            <a:prstGeom prst="rect">
              <a:avLst/>
            </a:prstGeom>
            <a:solidFill>
              <a:srgbClr val="99cc00"/>
            </a:solidFill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91800" y="1080"/>
              <a:ext cx="4721040" cy="3027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458280" y="304200"/>
              <a:ext cx="0" cy="6552000"/>
            </a:xfrm>
            <a:prstGeom prst="line">
              <a:avLst/>
            </a:prstGeom>
            <a:ln cap="sq"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8280" y="6704280"/>
              <a:ext cx="8682480" cy="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8761680" y="-360"/>
              <a:ext cx="0" cy="670428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80" y="306000"/>
              <a:ext cx="91396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5712840" y="458280"/>
              <a:ext cx="3429000" cy="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5714280" y="-360"/>
              <a:ext cx="0" cy="45828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61680" y="1981440"/>
              <a:ext cx="37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1800" y="1080"/>
              <a:ext cx="0" cy="106452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-360" y="1067400"/>
              <a:ext cx="9918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2667240" y="6244920"/>
              <a:ext cx="0" cy="61092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67240" y="6247080"/>
              <a:ext cx="6473520" cy="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-360" y="5256720"/>
              <a:ext cx="45828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-360" y="5409000"/>
              <a:ext cx="45828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"/>
          <p:cNvSpPr/>
          <p:nvPr/>
        </p:nvSpPr>
        <p:spPr>
          <a:xfrm>
            <a:off x="457200" y="626436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"/>
          <p:cNvSpPr/>
          <p:nvPr/>
        </p:nvSpPr>
        <p:spPr>
          <a:xfrm>
            <a:off x="3124080" y="626436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6552720" y="6267600"/>
            <a:ext cx="21322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325048-0EEB-49CC-98BD-AEE5D75EFAE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-360" y="-360"/>
            <a:ext cx="9142200" cy="6856560"/>
            <a:chOff x="-360" y="-360"/>
            <a:chExt cx="9142200" cy="6856560"/>
          </a:xfrm>
        </p:grpSpPr>
        <p:sp>
          <p:nvSpPr>
            <p:cNvPr id="67" name=""/>
            <p:cNvSpPr/>
            <p:nvPr/>
          </p:nvSpPr>
          <p:spPr>
            <a:xfrm>
              <a:off x="3124440" y="6704280"/>
              <a:ext cx="6016320" cy="1504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61680" y="1981440"/>
              <a:ext cx="379080" cy="42638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80" y="5256720"/>
              <a:ext cx="455400" cy="150480"/>
            </a:xfrm>
            <a:prstGeom prst="rect">
              <a:avLst/>
            </a:prstGeom>
            <a:solidFill>
              <a:srgbClr val="3333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" y="5409000"/>
              <a:ext cx="455400" cy="14457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761680" y="1080"/>
              <a:ext cx="379080" cy="19785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4280" y="1080"/>
              <a:ext cx="3045240" cy="302760"/>
            </a:xfrm>
            <a:prstGeom prst="rect">
              <a:avLst/>
            </a:prstGeom>
            <a:solidFill>
              <a:srgbClr val="cac9a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8280" y="306000"/>
              <a:ext cx="531360" cy="7599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80" y="1067400"/>
              <a:ext cx="455400" cy="418788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80" y="306000"/>
              <a:ext cx="455400" cy="7599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80" y="1080"/>
              <a:ext cx="988560" cy="302760"/>
            </a:xfrm>
            <a:prstGeom prst="rect">
              <a:avLst/>
            </a:prstGeom>
            <a:solidFill>
              <a:srgbClr val="99cc00"/>
            </a:solidFill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91800" y="1080"/>
              <a:ext cx="4721040" cy="3027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58280" y="304200"/>
              <a:ext cx="0" cy="6552000"/>
            </a:xfrm>
            <a:prstGeom prst="line">
              <a:avLst/>
            </a:prstGeom>
            <a:ln cap="sq"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8280" y="6704280"/>
              <a:ext cx="8682480" cy="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761680" y="-360"/>
              <a:ext cx="0" cy="670428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80" y="306000"/>
              <a:ext cx="91396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712840" y="458280"/>
              <a:ext cx="3429000" cy="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714280" y="-360"/>
              <a:ext cx="0" cy="45828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1680" y="1981440"/>
              <a:ext cx="3790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1800" y="1080"/>
              <a:ext cx="0" cy="106452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60" y="1067400"/>
              <a:ext cx="9918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667240" y="6244920"/>
              <a:ext cx="0" cy="61092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7240" y="6247080"/>
              <a:ext cx="6473520" cy="0"/>
            </a:xfrm>
            <a:prstGeom prst="line">
              <a:avLst/>
            </a:prstGeom>
            <a:ln cap="sq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-360" y="5256720"/>
              <a:ext cx="45828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-360" y="5409000"/>
              <a:ext cx="45828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626436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6436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2"/>
          </p:nvPr>
        </p:nvSpPr>
        <p:spPr>
          <a:xfrm>
            <a:off x="6552720" y="6264000"/>
            <a:ext cx="2132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4E1777-E436-4FB6-BB78-096C2B78C301}" type="slidenum">
              <a:rPr b="0" lang="ru-RU" sz="1000" spc="-1" strike="noStrike">
                <a:solidFill>
                  <a:srgbClr val="80808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28960" y="50720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300024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Страна моя родная. Природа России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Территория Дальнего Восто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84720" y="2133720"/>
            <a:ext cx="4535280" cy="431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0338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У России величавой</a:t>
            </a:r>
            <a:br>
              <a:rPr sz="2800"/>
            </a:b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На гербе орел двуглавый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9302" t="1940" r="0" b="0"/>
          <a:stretch/>
        </p:blipFill>
        <p:spPr>
          <a:xfrm>
            <a:off x="1214280" y="1357200"/>
            <a:ext cx="650088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57120" y="274680"/>
            <a:ext cx="857268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Century Gothic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Мы  Родину  не  выбираем  ,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     Но  если б был  выбор   у  нас ,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     Мы  выбрали  бы  эти  дали ,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     Где  с  вами    живём  сейчас.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4425840" y="32464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Животные и птицы обитющие на севере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000" y="1268280"/>
            <a:ext cx="6588000" cy="3600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516720" y="4797360"/>
            <a:ext cx="2297160" cy="1873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303280" cy="187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143240" y="4870440"/>
            <a:ext cx="2374920" cy="1789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693800" y="487044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Эта часть России - Сибирь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195560"/>
            <a:ext cx="820908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Хвойные леса Сибири - тайга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29296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А это животные живущие в тайге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71640" y="4510080"/>
            <a:ext cx="3673440" cy="237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437080" y="1701720"/>
            <a:ext cx="3313080" cy="2084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45080" y="3718080"/>
            <a:ext cx="3311640" cy="2665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42880" y="1414440"/>
            <a:ext cx="48211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Самое чистое озеро в мире-Байка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27008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Юг нашей Родины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3524040" cy="2921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16360" y="1125360"/>
            <a:ext cx="3487680" cy="2616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819600" cy="2593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39640" y="3429000"/>
            <a:ext cx="49690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2746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Century Gothic"/>
              </a:rPr>
              <a:t>Кавказ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6667560" cy="4991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24360" y="477720"/>
            <a:ext cx="3168720" cy="2737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588000" y="4726080"/>
            <a:ext cx="24321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7:25:46Z</dcterms:created>
  <dc:creator/>
  <dc:description/>
  <dc:language>en-US</dc:language>
  <cp:lastModifiedBy/>
  <dcterms:modified xsi:type="dcterms:W3CDTF">2013-11-22T12:35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46</vt:lpwstr>
  </property>
  <property fmtid="{D5CDD505-2E9C-101B-9397-08002B2CF9AE}" pid="3" name="_TemplateID">
    <vt:lpwstr>TC100690401049</vt:lpwstr>
  </property>
</Properties>
</file>