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5279-0ED1-4EBE-B2F1-71220B9E7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2BDD-2749-4A87-A496-F6AC3011B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2271-4762-407E-B0FF-E13B1E53A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661F-EF4A-4C69-B056-E2E55070B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91806-816A-4A20-9FEA-9690625FA5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CAE27-C969-4B18-B638-CBF67881AB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F5F1-A54D-4B90-98AE-C4052E5440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760E8-E4C3-40CF-B958-75001C8FF3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A3EEB-6D55-438C-9CAD-46841595D0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35A3D-5FFE-44CF-89CB-60BC2F5023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3D64B-3D72-445D-B2DF-A561AF5A57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36BF-9CF9-4A24-8A6A-6ABF3EC4F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B645E-62AF-4033-9BD4-9AEAAD8562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848F5-FF8B-46FC-B027-EDCEDDA992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1433B-B1DA-48EA-8E20-82CA53DCCF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982E7-A8BD-4E65-81C3-F30EC1A0A6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69C8-0E7E-4A74-B9A7-A4F35BCB89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03A9-8B08-483A-B087-DF530B91D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8619-AC22-462C-A3C6-2FE5D997F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D04A-AE2C-430F-AA79-320636CF5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A3D6-712E-4463-85AC-EC3ADDB25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D175-1639-4CB1-93DE-70F7424FD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F89F-EA1C-46B6-AB7A-D437AEC25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DB62-B2E7-42CD-82EB-8EF8ECA5C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0" y="-360"/>
            <a:ext cx="9142200" cy="6856560"/>
            <a:chOff x="-360" y="-360"/>
            <a:chExt cx="9142200" cy="6856560"/>
          </a:xfrm>
        </p:grpSpPr>
        <p:sp>
          <p:nvSpPr>
            <p:cNvPr id="1" name=""/>
            <p:cNvSpPr/>
            <p:nvPr/>
          </p:nvSpPr>
          <p:spPr>
            <a:xfrm>
              <a:off x="3124440" y="6704280"/>
              <a:ext cx="6016320" cy="15048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ebd7ff"/>
                </a:gs>
              </a:gsLst>
              <a:lin ang="108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761680" y="1981440"/>
              <a:ext cx="379080" cy="42638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80" y="5256720"/>
              <a:ext cx="455400" cy="150480"/>
            </a:xfrm>
            <a:prstGeom prst="rect">
              <a:avLst/>
            </a:prstGeom>
            <a:solidFill>
              <a:srgbClr val="3333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80" y="5409000"/>
              <a:ext cx="455400" cy="14457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1680" y="1080"/>
              <a:ext cx="379080" cy="19785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714280" y="1080"/>
              <a:ext cx="3045240" cy="302760"/>
            </a:xfrm>
            <a:prstGeom prst="rect">
              <a:avLst/>
            </a:prstGeom>
            <a:solidFill>
              <a:srgbClr val="cac9a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8280" y="306000"/>
              <a:ext cx="531360" cy="7599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80" y="1067400"/>
              <a:ext cx="455400" cy="418788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080" y="306000"/>
              <a:ext cx="455400" cy="7599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80" y="1080"/>
              <a:ext cx="988560" cy="302760"/>
            </a:xfrm>
            <a:prstGeom prst="rect">
              <a:avLst/>
            </a:prstGeom>
            <a:solidFill>
              <a:srgbClr val="99cc00"/>
            </a:solidFill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91800" y="1080"/>
              <a:ext cx="4721040" cy="3027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458280" y="304200"/>
              <a:ext cx="0" cy="6552000"/>
            </a:xfrm>
            <a:prstGeom prst="line">
              <a:avLst/>
            </a:prstGeom>
            <a:ln cap="sq"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58280" y="6704280"/>
              <a:ext cx="8682480" cy="0"/>
            </a:xfrm>
            <a:prstGeom prst="line">
              <a:avLst/>
            </a:prstGeom>
            <a:ln cap="sq"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8761680" y="-360"/>
              <a:ext cx="0" cy="6704280"/>
            </a:xfrm>
            <a:prstGeom prst="line">
              <a:avLst/>
            </a:prstGeom>
            <a:ln cap="sq"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80" y="306000"/>
              <a:ext cx="91396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5712840" y="458280"/>
              <a:ext cx="3429000" cy="0"/>
            </a:xfrm>
            <a:prstGeom prst="line">
              <a:avLst/>
            </a:prstGeom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>
              <a:off x="5714280" y="-360"/>
              <a:ext cx="0" cy="458280"/>
            </a:xfrm>
            <a:prstGeom prst="line">
              <a:avLst/>
            </a:prstGeom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61680" y="1981440"/>
              <a:ext cx="379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91800" y="1080"/>
              <a:ext cx="0" cy="1064520"/>
            </a:xfrm>
            <a:prstGeom prst="line">
              <a:avLst/>
            </a:prstGeom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-360" y="1067400"/>
              <a:ext cx="9918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2667240" y="6244920"/>
              <a:ext cx="0" cy="610920"/>
            </a:xfrm>
            <a:prstGeom prst="line">
              <a:avLst/>
            </a:prstGeom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667240" y="6247080"/>
              <a:ext cx="6473520" cy="0"/>
            </a:xfrm>
            <a:prstGeom prst="line">
              <a:avLst/>
            </a:prstGeom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-360" y="5256720"/>
              <a:ext cx="45828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-360" y="5409000"/>
              <a:ext cx="45828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"/>
          <p:cNvSpPr/>
          <p:nvPr/>
        </p:nvSpPr>
        <p:spPr>
          <a:xfrm>
            <a:off x="457200" y="626436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"/>
          <p:cNvSpPr/>
          <p:nvPr/>
        </p:nvSpPr>
        <p:spPr>
          <a:xfrm>
            <a:off x="3124080" y="626436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6552720" y="6267600"/>
            <a:ext cx="2132280" cy="38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7760DB-B734-4D74-BD9C-47FAB323DE3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-360" y="-360"/>
            <a:ext cx="9142200" cy="6856560"/>
            <a:chOff x="-360" y="-360"/>
            <a:chExt cx="9142200" cy="6856560"/>
          </a:xfrm>
        </p:grpSpPr>
        <p:sp>
          <p:nvSpPr>
            <p:cNvPr id="67" name=""/>
            <p:cNvSpPr/>
            <p:nvPr/>
          </p:nvSpPr>
          <p:spPr>
            <a:xfrm>
              <a:off x="3124440" y="6704280"/>
              <a:ext cx="6016320" cy="15048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ebd7ff"/>
                </a:gs>
              </a:gsLst>
              <a:lin ang="108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761680" y="1981440"/>
              <a:ext cx="379080" cy="42638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80" y="5256720"/>
              <a:ext cx="455400" cy="150480"/>
            </a:xfrm>
            <a:prstGeom prst="rect">
              <a:avLst/>
            </a:prstGeom>
            <a:solidFill>
              <a:srgbClr val="3333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0" y="5409000"/>
              <a:ext cx="455400" cy="14457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761680" y="1080"/>
              <a:ext cx="379080" cy="19785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14280" y="1080"/>
              <a:ext cx="3045240" cy="302760"/>
            </a:xfrm>
            <a:prstGeom prst="rect">
              <a:avLst/>
            </a:prstGeom>
            <a:solidFill>
              <a:srgbClr val="cac9a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8280" y="306000"/>
              <a:ext cx="531360" cy="7599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80" y="1067400"/>
              <a:ext cx="455400" cy="418788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80" y="306000"/>
              <a:ext cx="455400" cy="7599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80" y="1080"/>
              <a:ext cx="988560" cy="302760"/>
            </a:xfrm>
            <a:prstGeom prst="rect">
              <a:avLst/>
            </a:prstGeom>
            <a:solidFill>
              <a:srgbClr val="99cc00"/>
            </a:solidFill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91800" y="1080"/>
              <a:ext cx="4721040" cy="3027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58280" y="304200"/>
              <a:ext cx="0" cy="6552000"/>
            </a:xfrm>
            <a:prstGeom prst="line">
              <a:avLst/>
            </a:prstGeom>
            <a:ln cap="sq"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8280" y="6704280"/>
              <a:ext cx="8682480" cy="0"/>
            </a:xfrm>
            <a:prstGeom prst="line">
              <a:avLst/>
            </a:prstGeom>
            <a:ln cap="sq"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761680" y="-360"/>
              <a:ext cx="0" cy="6704280"/>
            </a:xfrm>
            <a:prstGeom prst="line">
              <a:avLst/>
            </a:prstGeom>
            <a:ln cap="sq"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80" y="306000"/>
              <a:ext cx="91396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712840" y="458280"/>
              <a:ext cx="3429000" cy="0"/>
            </a:xfrm>
            <a:prstGeom prst="line">
              <a:avLst/>
            </a:prstGeom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5714280" y="-360"/>
              <a:ext cx="0" cy="458280"/>
            </a:xfrm>
            <a:prstGeom prst="line">
              <a:avLst/>
            </a:prstGeom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1680" y="1981440"/>
              <a:ext cx="379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91800" y="1080"/>
              <a:ext cx="0" cy="1064520"/>
            </a:xfrm>
            <a:prstGeom prst="line">
              <a:avLst/>
            </a:prstGeom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60" y="1067400"/>
              <a:ext cx="9918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667240" y="6244920"/>
              <a:ext cx="0" cy="610920"/>
            </a:xfrm>
            <a:prstGeom prst="line">
              <a:avLst/>
            </a:prstGeom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67240" y="6247080"/>
              <a:ext cx="6473520" cy="0"/>
            </a:xfrm>
            <a:prstGeom prst="line">
              <a:avLst/>
            </a:prstGeom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-360" y="5256720"/>
              <a:ext cx="45828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-360" y="5409000"/>
              <a:ext cx="45828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626436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6436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2"/>
          </p:nvPr>
        </p:nvSpPr>
        <p:spPr>
          <a:xfrm>
            <a:off x="6552720" y="6264000"/>
            <a:ext cx="2132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58E3C39-26CF-4303-94FE-765B7BCB8096}" type="slidenum">
              <a:rPr b="0" lang="ru-RU" sz="1000" spc="-1" strike="noStrike">
                <a:solidFill>
                  <a:srgbClr val="80808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928960" y="50720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300024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Gothic"/>
              </a:rPr>
              <a:t>Страна моя родная. Природа России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Территория Дальнего Восток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284720" y="2133720"/>
            <a:ext cx="4535280" cy="4319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40338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У России величавой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На гербе орел двуглавый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9302" t="1940" r="0" b="0"/>
          <a:stretch/>
        </p:blipFill>
        <p:spPr>
          <a:xfrm>
            <a:off x="1214280" y="1357200"/>
            <a:ext cx="650088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57120" y="274680"/>
            <a:ext cx="857268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Century Gothic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Мы  Родину  не  выбираем  ,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     Но  если б был  выбор   у  нас ,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     Мы  выбрали  бы  эти  дали ,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     Где  с  вами    живём  сейчас.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12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32464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4425840" y="32464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Животные и птицы обитющие на севере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000" y="1268280"/>
            <a:ext cx="6588000" cy="3600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516720" y="4797360"/>
            <a:ext cx="2297160" cy="1873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516720" y="2997360"/>
            <a:ext cx="2303280" cy="1873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143240" y="4870440"/>
            <a:ext cx="2374920" cy="1789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693800" y="4870440"/>
            <a:ext cx="2376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Эта часть России - Сибирь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195560"/>
            <a:ext cx="820908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Хвойные леса Сибири - тайга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829296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А это животные живущие в тайге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71640" y="4510080"/>
            <a:ext cx="3673440" cy="237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437080" y="1701720"/>
            <a:ext cx="3313080" cy="2084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645080" y="3718080"/>
            <a:ext cx="3311640" cy="2665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42880" y="1414440"/>
            <a:ext cx="48211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Самое чистое озеро в мире-Байка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1270080"/>
            <a:ext cx="871380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Юг нашей Родины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508720" y="3860640"/>
            <a:ext cx="3524040" cy="2921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716360" y="1125360"/>
            <a:ext cx="3487680" cy="2616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3819600" cy="2593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39640" y="3429000"/>
            <a:ext cx="49690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2746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Кавказ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6667560" cy="4991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724360" y="477720"/>
            <a:ext cx="3168720" cy="2737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588000" y="4726080"/>
            <a:ext cx="2432160" cy="201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7:25:46Z</dcterms:created>
  <dc:creator/>
  <dc:description/>
  <dc:language>en-US</dc:language>
  <cp:lastModifiedBy/>
  <dcterms:modified xsi:type="dcterms:W3CDTF">2013-11-22T12:35:5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46</vt:lpwstr>
  </property>
  <property fmtid="{D5CDD505-2E9C-101B-9397-08002B2CF9AE}" pid="3" name="_TemplateID">
    <vt:lpwstr>TC100690401049</vt:lpwstr>
  </property>
</Properties>
</file>