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E37B-F330-495D-BBE4-66475806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410-C553-4D4A-9A0C-E2CA5D8A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6F5-248C-435F-BBBF-A4666622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CD9-8141-430E-B922-963EFF0D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611-93DE-4D97-BCE3-E601AE96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BE9-A169-4BF1-B83E-56C33A20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86E-9792-4F99-A1EA-2BBD3EB1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61D8-D764-4289-A6E6-6E2C044A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0D9-4701-4427-A5EC-6E37680D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03E-068F-4063-82FB-438FD771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F79-BED5-40CC-885F-2F143D02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710-5EE9-46AA-83D2-CF4AF1C8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FDFA-A5D2-47D4-B5B7-BB76D4C65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10080" y="4266720"/>
            <a:ext cx="3733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зовите Город-Гер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имволы Городов-Геро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648320" cy="5638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4038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зовите Город-Гер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7T06:59:46Z</dcterms:created>
  <dc:creator>Наталья Усанкина</dc:creator>
  <dc:description/>
  <dc:language>en-US</dc:language>
  <cp:lastModifiedBy>Lenovo G500</cp:lastModifiedBy>
  <dcterms:modified xsi:type="dcterms:W3CDTF">2022-02-14T11:23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