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FB8-99E9-4DBF-8B6F-DA6623B4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887-4BE0-4C30-867B-CB0B0BF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41C-BF11-4B4B-A520-18B69136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377-AF7D-4FA5-BBC8-3B1B2907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0F6-79E4-41CF-99FC-8B938CE8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A6E-60C4-43D5-8519-BB329C1A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C09-D2C6-498B-A54C-28903D2F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F1F-4327-4A83-9191-3D74A6E6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480-C84E-4045-9D04-D4AF3ABB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403-9176-481D-A39F-0E22C5E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168-C5AB-46AB-8D58-80AEE81C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7B7-C1AC-4B06-85A1-488CE0E7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BCD-2BC5-4A1C-B360-5E85342DE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10080" y="4266720"/>
            <a:ext cx="3733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зовите Город-Гер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имволы Городов-Геро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5638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40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зовите Город-Гер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06:59:46Z</dcterms:created>
  <dc:creator>Наталья Усанкина</dc:creator>
  <dc:description/>
  <dc:language>en-US</dc:language>
  <cp:lastModifiedBy>Lenovo G500</cp:lastModifiedBy>
  <dcterms:modified xsi:type="dcterms:W3CDTF">2022-02-14T11:23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