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8E-5BCC-4E66-B0F7-1E36145E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95D-7904-409A-A067-89E9685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8F2-0594-48F9-A904-8787BB1F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CC3-73A2-4A36-9E78-93B3D19B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545-1683-475E-9E82-809D056D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CF4-6431-4602-BAF2-9466023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A9D-E574-49D6-BD4D-15C688D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312-7861-4F1F-9E34-CD0A1DA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44A-556B-4F3A-BCA3-15727BF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4EC-395F-4B21-9466-CB91CB6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ABE-4D49-448F-AAD5-178C75A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5F6-2A84-4AF6-BE76-07E89BC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959-0B07-4ABE-8923-88076C12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272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СОШ с. Большие Оз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анкина Наталья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9537800">
            <a:off x="7314840" y="3266640"/>
            <a:ext cx="167652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236232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ЦЕТИ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727272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РИЛОЖЕНИЕ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К РАЗРАБОТКЕ УРОКА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О ТЕМЕ «АЦЕТИЛЕН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849400">
            <a:off x="609480" y="914400"/>
            <a:ext cx="1447920" cy="45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4377000">
            <a:off x="1170360" y="5382360"/>
            <a:ext cx="1466640" cy="45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5835600">
            <a:off x="4939560" y="1155600"/>
            <a:ext cx="15861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399000">
            <a:off x="3885840" y="4495320"/>
            <a:ext cx="1467000" cy="45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flipH="1" rot="20143800">
            <a:off x="1142640" y="3809880"/>
            <a:ext cx="1352520" cy="42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 rot="13365000">
            <a:off x="6552720" y="5866560"/>
            <a:ext cx="1600200" cy="4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2D7-7064-4133-BCF9-37D67EAC3B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а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≡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O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ализато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       O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g+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, Н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OH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H–C 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     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5760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33920" y="2742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200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1DC-36AD-4D30-BDDF-2A1E16D597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Полиме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имер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в присутствии активированного угл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акт. 600⁰ С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18429000">
            <a:off x="300600" y="2899800"/>
            <a:ext cx="1371600" cy="29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1523880" cy="297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2821200">
            <a:off x="1596240" y="2823120"/>
            <a:ext cx="1371600" cy="29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35812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D54-80EF-4C41-8217-3883EDBDF0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5499000" cy="579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65760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144792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Лампа - карби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447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Принцип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1F1-174C-4D87-9504-751C2C35EB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3238560"/>
            <a:ext cx="4000680" cy="3619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95F-4F12-432F-9B59-3C4F80FCBAE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ВХ                                              П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34290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514240" y="762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762120"/>
            <a:ext cx="1600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D40-0357-4458-8F64-A5C270773E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илен                                  уксусный альдегид                                    этиловый спирт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133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133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BCE-A877-4777-9AE3-FD5F4D6AB6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ПО ТЕМЕ: АЦЕТИ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Общая формула гомологического ряда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б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г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 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Гомологом пропина я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фенол           б) пентан         в) этилен            г) э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Алкинам не свойственна изомер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углеродной цепи;                        б) положения тройной 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межклассовая»                            г) пространственная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 цис – тран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- изом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кция гидратации возможна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этина;            б) бензола;           в) декана;           г) циклопен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личием тройной связи обусловлена возможность алкинов вступать в реа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орения;        б) замещения;        в) дегидрирования;         г) полимер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При гидратации этина в присутствии сульфата ртути (II) обра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СОН;            б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;                в) НСООН;         г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 Превращение ацетилена в бензол – это реакция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тримеризации;      б) дегидрирования;      в) восстановления;      г) окси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йдите ошибку в физических свойствах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аз, легче воздуха;                      б) чистый ацетилен не имеет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хорошо растворим в воде;          г) при смешивании в воздухом взрывооп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авнение получения ацетилена в лабора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;                 б) Са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2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Са(ОН)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ОН →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;               г) 2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3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Масса карбида кальция, содержащего 20 % примесей, необходимого для получения 28 л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64 г;             б) 12 г;           в) 100 г;           г) 3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F3B-A5F6-4512-8DD7-CBEABBE60C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Ы НА ТЕСТ ПО ТЕМЕ: АЦЕТИ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Общая формула гомологического ряда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    б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г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 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Гомологом пропина я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фенол               б) пентан              в) этилен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э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Алкинам не свойственна изомер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углеродной цепи;                         б) положения тройной 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межклассовая»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пространственная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 цис – тран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- изом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кция гидратации возможна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этина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б) бензола;            в) декана;           г) циклопен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личием тройной связи обусловлена возможность алкинов вступать в реа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орения;        б) замещения;         в) дегидрирования;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полимер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При гидратации этина в присутствии сульфата ртути (II) обра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СОН;            б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;                в) НСООН;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С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 Превращение ацетилена в бензол – это реакция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тримеризации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б) дегидрирования;      в) восстановления;      г) окис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йдите ошибку в физических свойствах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аз, легче воздуха;                        б) чистый ацетилен не имеет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хорошо растворим в воде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г) при смешивании в воздухом взрывооп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авнение получения ацетилена в лабора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;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Са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+ 2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 → 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+ Са(ОН)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ОН →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;               г) 2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3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Масса карбида кальция, содержащего 20% примесей, необходимого для получения 28 л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64 г;                   б) 12 г;                    в) 100 г;               г) 3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C32-8742-4530-ADBB-FC827FDD19B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-за сильнейшего окислителя – кислорода этот газ на Земле в естествен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стоянии существовать не может. Он хранится в специальных балло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57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257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естественном виде встречается на Уране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ки из углеводородов на поверхности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птун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тана, спутника Сату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21607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562720" y="3813120"/>
            <a:ext cx="358128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61F-FBC5-41E6-9783-0318A4D744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Шаростержневая модель ацети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дель Стюарта-Бригле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-H ≡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ЕНИЕ МОЛЕКУЛЫ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05520" cy="158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66688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841-1767-4888-BEA1-AA88F3FCBA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60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Не имеет запаха при н.у. Запах придают приме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Ацетилен легче воздуха, плотность его меньше, чем у воз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плав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- 80,6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кип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   - 83,8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граниченно растворяется в в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Неограниченно - в органических растворителях, например, в ацет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23880" y="3962520"/>
            <a:ext cx="876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76640"/>
            <a:ext cx="899172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Смеси ацетилена с кислородом взрываются (причем концентрация ацетилена не имеет значения). Также взрывоопасны смеси ацетилена с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2. Ацетилен взрывается при ударе (при нагреве до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500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⁰С, при сжатии до 2 МПа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комнатной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3. Струя ацетилена, выпущенная на воздух может загореться от малейшей искры, в том числе от разряда статического электричества с пальц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4. Взрывоопасность ацетилена уменьшается при разбавлении некоторыми другими газами. Поэтому ацетилен хранят в баллонах, заполненных, например, активированным углем,пропитанным ацетоном, в котором ацетилен растворяется под давлением в больших количествах</a:t>
            </a:r>
            <a:r>
              <a:rPr b="1" lang="en-US" sz="2400" spc="-1" strike="noStrike" baseline="-25000">
                <a:solidFill>
                  <a:srgbClr val="cc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805-AAEB-404E-96DC-782286AAC9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УЧ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сокотемпературный крекинг метана (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= 1500⁰ С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3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Дегидрирование алканов и алке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2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 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дролиз карбида каль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+2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= Ca(OH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+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↑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бид кальция получают в результате взаимодействия обожженной извести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ксом в электрических печах при температуре 1900 - 230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При этом происходи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ндотермическая химическая реакция (т. е. с поглощением тепла)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О + 3С = Са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СО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6D1-9FB5-45E2-A03B-C887C5AF8C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Реакция гор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ойная внутримолекулярная связь ацетилена обуславливает очень высокую уд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ту сгорания при разрыве этой связи. Пламя может достигать температуры 3200°С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славливает важнейшее промышленное применение ацетилена – высокотемператур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арка. Ацетилен используется при автогенной сварке и резке мет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BC8-B1E6-4688-AAEC-23C74B876E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логен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ста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Н ≡ СН + 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→ ВrСН = СНВ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C ≡ C – H + Br–Br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 – C = C –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а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rСН=СНВr + Вг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→ 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–СН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Br                                Br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C = C – H + Br–B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 –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 –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90C-D2D2-46D2-B5CD-3C99AB3A07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огалоген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Катализатором данной реакции является хлорид рт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g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g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Cl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= C–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C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7A2-42EA-4FD9-A776-53073CF6AE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ста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≡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Катализатор плат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ик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аллад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H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= C–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ад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Н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= C–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– C–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H                           H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E27-1816-4297-8B6F-0F7E79D8F3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1T14:50:27Z</dcterms:created>
  <dc:creator>Наталья Усанкина</dc:creator>
  <dc:description/>
  <dc:language>en-US</dc:language>
  <cp:lastModifiedBy>Lenovo G500</cp:lastModifiedBy>
  <dcterms:modified xsi:type="dcterms:W3CDTF">2022-02-14T18:18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