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7C4-BACE-4830-982F-D9192FA7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694-D03F-4D02-BC48-E9B2060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0FA-38C0-4DFC-B3AB-238EA24F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F30-3156-45CE-81DB-D3C00D3C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3DF-E216-4C9E-A82D-4FF9BA51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385-224E-4F2B-81F1-884628A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F0B-4B26-4CBF-90D0-628119D1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6D1-3D79-4B2A-91A7-3C022E53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EB3-5618-4BF4-B009-5294579F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5C3-2228-4133-8F12-41F6300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1C6-E183-4C12-A8FF-5F97290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07C-7308-4B61-951A-EAC0243E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9B95-C089-427D-9846-08283381F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7272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хим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ОУ СОШ с. Большие Оз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анкина Наталья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9537800">
            <a:off x="7314840" y="3266640"/>
            <a:ext cx="167652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236232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АЦЕТИ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727272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РИЛОЖЕНИЕ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К РАЗРАБОТКЕ УРОКА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О ТЕМЕ «АЦЕТИЛЕН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849400">
            <a:off x="609480" y="914400"/>
            <a:ext cx="1447920" cy="45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4377000">
            <a:off x="1170360" y="5382360"/>
            <a:ext cx="1466640" cy="45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5835600">
            <a:off x="4939560" y="1155600"/>
            <a:ext cx="1586160" cy="49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399000">
            <a:off x="3885840" y="4495320"/>
            <a:ext cx="1467000" cy="455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flipH="1" rot="20143800">
            <a:off x="1142640" y="3809880"/>
            <a:ext cx="1352520" cy="420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 rot="13365000">
            <a:off x="6552720" y="5866560"/>
            <a:ext cx="1600200" cy="4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C0A-4A0F-4E47-81C8-B247FE667E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драт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≡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HO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ализато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       O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g+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, Н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≡ C–H + H–OH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H–C =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     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5760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733920" y="2742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200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BA9-FE56-4B0B-BB1B-99E5CBD0DB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Полиме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имер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в присутствии активированного угл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акт. 600⁰ С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18429000">
            <a:off x="300600" y="2899800"/>
            <a:ext cx="1371600" cy="297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1523880" cy="297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 rot="2821200">
            <a:off x="1596240" y="2823120"/>
            <a:ext cx="1371600" cy="29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257800" y="2286000"/>
            <a:ext cx="358128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004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A25-5854-43CE-9168-98E29639B9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5499000" cy="579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365760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1447920"/>
            <a:ext cx="21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Лампа - карби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447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Принцип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D09-C42D-485C-816E-E72074B0CA0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3238560"/>
            <a:ext cx="4000680" cy="3619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271-0A07-4280-9F43-6DF9ABDAEBD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ВХ                                              П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3429000" cy="2219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514240" y="762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762120"/>
            <a:ext cx="1600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F4A-0828-46F3-829B-4B27F59AFC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ЕНИЕ АЦЕТИЛЕ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цетилен                                  уксусный альдегид                                    этиловый спирт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133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133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EE3-3458-43AD-BD20-CB8C13D1445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 ПО ТЕМЕ: АЦЕТИ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Общая формула гомологического ряда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б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в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г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 -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Гомологом пропина явл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фенол           б) пентан         в) этилен            г) э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Алкинам не свойственна изомер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углеродной цепи;                        б) положения тройной свя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межклассовая»                            г) пространственная 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 цис – тран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- изомер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акция гидратации возможна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этина;            б) бензола;           в) декана;           г) циклопент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личием тройной связи обусловлена возможность алкинов вступать в реа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орения;        б) замещения;        в) дегидрирования;         г) полимер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При гидратации этина в присутствии сульфата ртути (II) образ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НСОН;            б)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;                в) НСООН;         г)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 Превращение ацетилена в бензол – это реакция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тримеризации;      б) дегидрирования;      в) восстановления;      г) окси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йдите ошибку в физических свойствах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аз, легче воздуха;                      б) чистый ацетилен не имеет запа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хорошо растворим в воде;          г) при смешивании в воздухом взрывоопа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авнение получения ацетилена в лаборатор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;                 б) Са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2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Са(ОН)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ОН →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О;               г) 2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3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Масса карбида кальция, содержащего 20 % примесей, необходимого для получения 28 л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64 г;             б) 12 г;           в) 100 г;           г) 3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C7C-2D9B-42D5-AD2B-E4BE47F6866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Ы НА ТЕСТ ПО ТЕМЕ: АЦЕТИ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Общая формула гомологического ряда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    б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n-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г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n -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Гомологом пропина явл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фенол               б) пентан              в) этилен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э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Алкинам не свойственна изомер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углеродной цепи;                         б) положения тройной связ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межклассовая»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пространственная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 цис – тран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- изомер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акция гидратации возможна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этина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б) бензола;            в) декана;           г) циклопент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личием тройной связи обусловлена возможность алкинов вступать в реа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орения;        б) замещения;         в) дегидрирования;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полимер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При гидратации этина в присутствии сульфата ртути (II) образ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НСОН;            б)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;                в) НСООН;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 С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 Превращение ацетилена в бензол – это реакция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тримеризации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б) дегидрирования;      в) восстановления;      г) окис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Найдите ошибку в физических свойствах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газ, легче воздуха;                        б) чистый ацетилен не имеет запа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 хорошо растворим в воде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г) при смешивании в воздухом взрывоопа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авнение получения ацетилена в лаборатор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;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СаС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+ 2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 → С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+ Са(ОН)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НОН → 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О;               г) 2С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→ С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+ 3Н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Масса карбида кальция, содержащего 20% примесей, необходимого для получения 28 л ацетил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64 г;                   б) 12 г;                    в) 100 г;               г) 3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52E-BF97-4868-902C-1CB66719BD6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-за сильнейшего окислителя – кислорода этот газ на Земле в естествен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стоянии существовать не может. Он хранится в специальных балло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57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257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естественном виде встречается на Уране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еки из углеводородов на поверхности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птун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итана, спутника Сату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886200"/>
            <a:ext cx="216072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562720" y="3813120"/>
            <a:ext cx="3581280" cy="30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775-D72D-4AE4-8C94-7A1898B780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Шаростержневая модель ацети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дель Стюарта-Бригле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-H ≡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ЕНИЕ МОЛЕКУЛЫ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05520" cy="1587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66688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CA5-3C72-4AD6-844D-D9B35DD5E6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З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60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Не имеет запаха при н.у. Запах придают приме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Ацетилен легче воздуха, плотность его меньше, чем у возд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плав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- 80,6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кип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   - 83,8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граниченно растворяется в в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Неограниченно - в органических растворителях, например, в ацето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23880" y="3962520"/>
            <a:ext cx="8762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076640"/>
            <a:ext cx="899172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Смеси ацетилена с кислородом взрываются (причем концентрация ацетилена не имеет значения). Также взрывоопасны смеси ацетилена с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2. Ацетилен взрывается при ударе (при нагреве до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500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⁰С, при сжатии до 2 МПа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комнатной темп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3. Струя ацетилена, выпущенная на воздух может загореться от малейшей искры, в том числе от разряда статического электричества с пальц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4. Взрывоопасность ацетилена уменьшается при разбавлении некоторыми другими газами. Поэтому ацетилен хранят в баллонах, заполненных, например, активированным углем,пропитанным ацетоном, в котором ацетилен растворяется под давлением в больших количествах</a:t>
            </a:r>
            <a:r>
              <a:rPr b="1" lang="en-US" sz="2400" spc="-1" strike="noStrike" baseline="-25000">
                <a:solidFill>
                  <a:srgbClr val="cc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F50-A3EB-46D8-87FC-69943F1FBA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УЧЕНИЕ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сокотемпературный крекинг метана (пр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= 1500⁰ С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H≡CH +3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Дегидрирование алканов и алке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H≡CH +2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C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H≡CH + 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дролиз карбида каль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+2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= Ca(OH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+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↑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бид кальция получают в результате взаимодействия обожженной извести 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ксом в электрических печах при температуре 1900 - 230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При этом происходи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ндотермическая химическая реакция (т. е. с поглощением тепла)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О + 3С = СаС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СО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5E0-B294-4807-8AD1-8F73378E68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Реакция гор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ойная внутримолекулярная связь ацетилена обуславливает очень высокую уде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оту сгорания при разрыве этой связи. Пламя может достигать температуры 3200°С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славливает важнейшее промышленное применение ацетилена – высокотемператур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арка. Ацетилен используется при автогенной сварке и резке мет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8CF-5837-4C48-A940-DC25000FDD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логенир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ста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Н ≡ СН + В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→ ВrСН = СНВ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  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– C ≡ C – H + Br–Br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 – C = C –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ста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rСН=СНВr + Вг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→ В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–СНВr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  Br                                Br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– C = C – H + Br–B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 –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 –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CAC-29F7-4150-81F6-093D9A15D2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дрогалогенир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Катализатором данной реакции является хлорид рт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g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g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≡ C–H + H–Cl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–C = C–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C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646-F8E4-4161-863F-A2113669A2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Е СВОЙСТВА АЦЕТИ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Реакции при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дрир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ста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≡С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Катализатор плат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ик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аллад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≡ C–H + H–H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–C = C–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стад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СН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i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C = C–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–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–C – C–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  H                           H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899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963-980E-44E3-A3E2-E15DE2B3BD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1T14:50:27Z</dcterms:created>
  <dc:creator>Наталья Усанкина</dc:creator>
  <dc:description/>
  <dc:language>en-US</dc:language>
  <cp:lastModifiedBy>Lenovo G500</cp:lastModifiedBy>
  <dcterms:modified xsi:type="dcterms:W3CDTF">2022-02-14T18:18:2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