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20.jpeg" ContentType="image/jpeg"/>
  <Override PartName="/ppt/media/image12.png" ContentType="image/png"/>
  <Override PartName="/ppt/media/image3.jpeg" ContentType="image/jpeg"/>
  <Override PartName="/ppt/media/image60.jpeg" ContentType="image/jpeg"/>
  <Override PartName="/ppt/media/image24.jpeg" ContentType="image/jpeg"/>
  <Override PartName="/ppt/media/image61.jpeg" ContentType="image/jpeg"/>
  <Override PartName="/ppt/media/image29.jpeg" ContentType="image/jpeg"/>
  <Override PartName="/ppt/media/image25.jpeg" ContentType="image/jpeg"/>
  <Override PartName="/ppt/media/image21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17.png" ContentType="image/png"/>
  <Override PartName="/ppt/media/image16.jpeg" ContentType="image/jpeg"/>
  <Override PartName="/ppt/media/image19.jpeg" ContentType="image/jpeg"/>
  <Override PartName="/ppt/media/image51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2.jpeg" ContentType="image/jpeg"/>
  <Override PartName="/ppt/media/image1.png" ContentType="image/png"/>
  <Override PartName="/ppt/media/image23.jpeg" ContentType="image/jpeg"/>
  <Override PartName="/ppt/media/image8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27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57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43.png" ContentType="image/png"/>
  <Override PartName="/ppt/media/image55.jpeg" ContentType="image/jpeg"/>
  <Override PartName="/ppt/media/image56.jpeg" ContentType="image/jpeg"/>
  <Override PartName="/ppt/media/image58.jpeg" ContentType="image/jpeg"/>
  <Override PartName="/ppt/media/image59.jpeg" ContentType="image/jpeg"/>
  <Override PartName="/ppt/media/image6.png" ContentType="image/png"/>
  <Override PartName="/ppt/media/image42.jpeg" ContentType="image/jpe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0B6-85CA-4DC1-BDE7-4CD204EB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06CF-664D-49CB-AA5E-BA1B1153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DCD3-E68E-467B-97F2-650817D4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4E5-DF16-4F27-A23D-D0AB9370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5CE2-9CB2-4A6C-8BE6-54F29F02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7E78-4348-41A3-8478-C51450D8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C262-6B84-4ABB-857B-C6E087A8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12A6-26D0-4599-B6B8-9A1006C8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3171-03E7-483F-ABDD-60493AFA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ABCC-9B77-49D8-A720-FE81F999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43B9-8326-4407-AAFB-DB5AE1DF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D6F-598C-430E-A88D-7BA5ACC9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1872-4BAB-4DFC-9620-3344B6BE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83DF-77EA-410B-B288-5828C6F5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4153-6A7B-4B31-9D6F-93D61381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571F-C516-4160-AD41-EA9213A6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D0AB-6287-41E8-BDD6-C4DDF46A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6BFC2-A8C9-4956-9B64-491A1787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27A14-8E46-4457-82D0-1A5499C3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320A1-7ADD-47FA-827B-1DD4AC3C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64E2B-A575-4C5F-B968-84133078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1C4D7-16B7-4EFA-8722-856A982A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BF7-54CA-4F0B-A714-9C6E568C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BA081-E726-425D-8646-8905C366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42DAE-2E66-45BB-A0E5-F5E0ED41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7B92D-4F86-4763-B115-FD4085F3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90E02-0F00-4C77-81AD-FBC04C7B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20748-FD69-4525-B9BB-0C7B2A8F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1DBFE-A82C-4D54-A2B1-9C5DEBCC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2DC47-8C8E-4928-BFAE-B3024A80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DE256-2897-4C17-8AA8-4CEF8AD7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E6C4C-B454-4CD7-92C4-3CF03365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F086B-C305-4075-9946-B90B1C1C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E2CC-80BF-46C1-9EC4-D8186B73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385D3-8098-427D-A9E2-82BEE883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0749E-0567-4E49-A145-31A378F6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901E0-3A17-485E-938F-69269EFC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D09DA-C13D-4D47-AF43-DCEEA3C8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F1873-2B0B-4F2D-9785-07798BAC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7C9D1-D303-43D1-8765-2AA937AF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8A452-7534-4890-B487-326E12EC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650B0-65A7-455D-9066-C8338C1A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83DB0-58CC-4C39-A157-951C51CE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F6970-5098-4D05-A1AB-65FDA93B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4EF-71E2-486C-A9BA-0485D5A8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9B768-DEA7-4137-9017-68C181A5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578C2-81E2-4BD8-8A97-1C5DAA6B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B64F6-7DEE-425C-B378-F8132160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7108D-9A58-482B-B9F0-38A189BD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DBE95-C1FE-4EDB-A93A-74506C12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9A2E5-CB2F-42C2-BAF6-4C70B597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75BF4-4810-4E06-B205-C18DCABB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9680F-2AA3-4CA5-99A9-B64D90D5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A8D93-F646-453E-9DBD-0C3DE84B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34961-217D-4E99-ABA4-AFCF973E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1E5C-6157-47A6-84D0-013B5EBA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7C280-4813-4510-BE58-A26AF4DD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FBAE-506C-4310-BC5F-B75FE926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377E-1C3A-470C-B15D-9606E253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088-362D-48E1-A644-CAE13AED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E8D6-4AD5-4AAA-8FFA-419D0CBD6F6B}" type="slidenum">
              <a:rPr b="0" lang="ru-RU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0C4F-3C73-4066-B1E4-A6D912084058}" type="slidenum">
              <a:rPr b="0" lang="ru-RU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7B38-3049-4858-B5DB-AD969242FF46}" type="slidenum">
              <a:rPr b="0" lang="ru-RU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E654-3B9D-47F4-874A-778767F93BEC}" type="slidenum">
              <a:rPr b="0" lang="ru-RU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6251-D85F-4936-9AB7-37B03C0BD51A}" type="slidenum">
              <a:rPr b="0" lang="ru-RU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.pn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Презентация на тему: «Кубанские казаки –быт и традиции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56840" y="4643280"/>
            <a:ext cx="66438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Работу подготовила  воспитатель  подготовительной группы  компенсирующей направленности «Красная шапочка»                 Кириченко Ю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ятой угол - бож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9" descr="святой угол"/>
          <p:cNvPicPr/>
          <p:nvPr/>
        </p:nvPicPr>
        <p:blipFill>
          <a:blip r:embed="rId1"/>
          <a:stretch/>
        </p:blipFill>
        <p:spPr>
          <a:xfrm>
            <a:off x="938160" y="1805040"/>
            <a:ext cx="3076560" cy="4114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rushnik_hleb"/>
          <p:cNvPicPr/>
          <p:nvPr/>
        </p:nvPicPr>
        <p:blipFill>
          <a:blip r:embed="rId2"/>
          <a:stretch/>
        </p:blipFill>
        <p:spPr>
          <a:xfrm>
            <a:off x="5014800" y="1805040"/>
            <a:ext cx="330516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ши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7" descr="rushnik_mir"/>
          <p:cNvPicPr/>
          <p:nvPr/>
        </p:nvPicPr>
        <p:blipFill>
          <a:blip r:embed="rId1"/>
          <a:stretch/>
        </p:blipFill>
        <p:spPr>
          <a:xfrm>
            <a:off x="1123920" y="1981080"/>
            <a:ext cx="2933640" cy="4114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вышивка"/>
          <p:cNvPicPr/>
          <p:nvPr/>
        </p:nvPicPr>
        <p:blipFill>
          <a:blip r:embed="rId2"/>
          <a:stretch/>
        </p:blipFill>
        <p:spPr>
          <a:xfrm>
            <a:off x="5429160" y="1981080"/>
            <a:ext cx="2247840" cy="1981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колыбель"/>
          <p:cNvPicPr/>
          <p:nvPr/>
        </p:nvPicPr>
        <p:blipFill>
          <a:blip r:embed="rId3"/>
          <a:stretch/>
        </p:blipFill>
        <p:spPr>
          <a:xfrm>
            <a:off x="5810400" y="4114800"/>
            <a:ext cx="148572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уш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6" descr="rushnik_mir"/>
          <p:cNvPicPr/>
          <p:nvPr/>
        </p:nvPicPr>
        <p:blipFill>
          <a:blip r:embed="rId1"/>
          <a:stretch/>
        </p:blipFill>
        <p:spPr>
          <a:xfrm>
            <a:off x="863640" y="1600200"/>
            <a:ext cx="3225600" cy="4525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уголок_иконы"/>
          <p:cNvPicPr/>
          <p:nvPr/>
        </p:nvPicPr>
        <p:blipFill>
          <a:blip r:embed="rId2"/>
          <a:stretch/>
        </p:blipFill>
        <p:spPr>
          <a:xfrm>
            <a:off x="4762440" y="24336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тографии на стен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8" descr="фото и картины на стене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95280" y="2276640"/>
            <a:ext cx="4245120" cy="3384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казаки фото"/>
          <p:cNvPicPr/>
          <p:nvPr/>
        </p:nvPicPr>
        <p:blipFill>
          <a:blip r:embed="rId2"/>
          <a:stretch/>
        </p:blipFill>
        <p:spPr>
          <a:xfrm>
            <a:off x="5211720" y="1981080"/>
            <a:ext cx="2683080" cy="1981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казачаья семья"/>
          <p:cNvPicPr/>
          <p:nvPr/>
        </p:nvPicPr>
        <p:blipFill>
          <a:blip r:embed="rId3"/>
          <a:stretch/>
        </p:blipFill>
        <p:spPr>
          <a:xfrm>
            <a:off x="5095800" y="4114800"/>
            <a:ext cx="291456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тва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7" descr="утварь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26920" y="1773360"/>
            <a:ext cx="2808360" cy="4464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утюги"/>
          <p:cNvPicPr/>
          <p:nvPr/>
        </p:nvPicPr>
        <p:blipFill>
          <a:blip r:embed="rId2"/>
          <a:stretch/>
        </p:blipFill>
        <p:spPr>
          <a:xfrm>
            <a:off x="5234040" y="1981080"/>
            <a:ext cx="2638440" cy="1981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хата3"/>
          <p:cNvPicPr/>
          <p:nvPr/>
        </p:nvPicPr>
        <p:blipFill>
          <a:blip r:embed="rId3"/>
          <a:stretch/>
        </p:blipFill>
        <p:spPr>
          <a:xfrm>
            <a:off x="5234040" y="4114800"/>
            <a:ext cx="263844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иняная посу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12" descr="глечик"/>
          <p:cNvPicPr/>
          <p:nvPr/>
        </p:nvPicPr>
        <p:blipFill>
          <a:blip r:embed="rId1"/>
          <a:stretch/>
        </p:blipFill>
        <p:spPr>
          <a:xfrm>
            <a:off x="1547640" y="1844640"/>
            <a:ext cx="2086200" cy="2117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макитра"/>
          <p:cNvPicPr/>
          <p:nvPr/>
        </p:nvPicPr>
        <p:blipFill>
          <a:blip r:embed="rId2"/>
          <a:stretch/>
        </p:blipFill>
        <p:spPr>
          <a:xfrm>
            <a:off x="4932360" y="1844640"/>
            <a:ext cx="2735280" cy="2089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кринка"/>
          <p:cNvPicPr/>
          <p:nvPr/>
        </p:nvPicPr>
        <p:blipFill>
          <a:blip r:embed="rId3"/>
          <a:stretch/>
        </p:blipFill>
        <p:spPr>
          <a:xfrm>
            <a:off x="1619280" y="4149720"/>
            <a:ext cx="1622520" cy="2374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5" descr="махотка"/>
          <p:cNvPicPr/>
          <p:nvPr/>
        </p:nvPicPr>
        <p:blipFill>
          <a:blip r:embed="rId4"/>
          <a:stretch/>
        </p:blipFill>
        <p:spPr>
          <a:xfrm>
            <a:off x="5219640" y="4292640"/>
            <a:ext cx="2232000" cy="2197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меты для глаж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6" descr="рубель для глажки белья"/>
          <p:cNvPicPr/>
          <p:nvPr/>
        </p:nvPicPr>
        <p:blipFill>
          <a:blip r:embed="rId1"/>
          <a:stretch/>
        </p:blipFill>
        <p:spPr>
          <a:xfrm>
            <a:off x="2190600" y="207792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укодел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16" descr="русская печь"/>
          <p:cNvPicPr/>
          <p:nvPr/>
        </p:nvPicPr>
        <p:blipFill>
          <a:blip r:embed="rId1"/>
          <a:stretch/>
        </p:blipFill>
        <p:spPr>
          <a:xfrm>
            <a:off x="1052640" y="1981080"/>
            <a:ext cx="3076560" cy="4114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8" descr="половики"/>
          <p:cNvPicPr/>
          <p:nvPr/>
        </p:nvPicPr>
        <p:blipFill>
          <a:blip r:embed="rId2"/>
          <a:stretch/>
        </p:blipFill>
        <p:spPr>
          <a:xfrm>
            <a:off x="5234040" y="1981080"/>
            <a:ext cx="2638440" cy="1981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9" descr="костюмы_вышивка"/>
          <p:cNvPicPr/>
          <p:nvPr/>
        </p:nvPicPr>
        <p:blipFill>
          <a:blip r:embed="rId3"/>
          <a:stretch/>
        </p:blipFill>
        <p:spPr>
          <a:xfrm>
            <a:off x="5234040" y="4114800"/>
            <a:ext cx="263844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убах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7" descr="домотканная рубаха"/>
          <p:cNvPicPr/>
          <p:nvPr/>
        </p:nvPicPr>
        <p:blipFill>
          <a:blip r:embed="rId1"/>
          <a:stretch/>
        </p:blipFill>
        <p:spPr>
          <a:xfrm>
            <a:off x="566640" y="1600200"/>
            <a:ext cx="381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бешмет_рубаха"/>
          <p:cNvPicPr/>
          <p:nvPr/>
        </p:nvPicPr>
        <p:blipFill>
          <a:blip r:embed="rId2"/>
          <a:stretch/>
        </p:blipFill>
        <p:spPr>
          <a:xfrm>
            <a:off x="5124600" y="180504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шмет, архалук, черкес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7" descr="бешмет"/>
          <p:cNvPicPr/>
          <p:nvPr/>
        </p:nvPicPr>
        <p:blipFill>
          <a:blip r:embed="rId1"/>
          <a:stretch/>
        </p:blipFill>
        <p:spPr>
          <a:xfrm>
            <a:off x="1328760" y="1805040"/>
            <a:ext cx="2295360" cy="4114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архалук"/>
          <p:cNvPicPr/>
          <p:nvPr/>
        </p:nvPicPr>
        <p:blipFill>
          <a:blip r:embed="rId2"/>
          <a:stretch/>
        </p:blipFill>
        <p:spPr>
          <a:xfrm>
            <a:off x="5381640" y="180504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8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степь2"/>
          <p:cNvPicPr/>
          <p:nvPr/>
        </p:nvPicPr>
        <p:blipFill>
          <a:blip r:embed="rId1"/>
          <a:stretch/>
        </p:blipFill>
        <p:spPr>
          <a:xfrm>
            <a:off x="685800" y="728640"/>
            <a:ext cx="7772400" cy="5172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ашлык, бурка, папах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14" descr="башлык"/>
          <p:cNvPicPr/>
          <p:nvPr/>
        </p:nvPicPr>
        <p:blipFill>
          <a:blip r:embed="rId1"/>
          <a:stretch/>
        </p:blipFill>
        <p:spPr>
          <a:xfrm>
            <a:off x="1258920" y="1773360"/>
            <a:ext cx="2305080" cy="2447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5" descr="папаха"/>
          <p:cNvPicPr/>
          <p:nvPr/>
        </p:nvPicPr>
        <p:blipFill>
          <a:blip r:embed="rId2"/>
          <a:stretch/>
        </p:blipFill>
        <p:spPr>
          <a:xfrm>
            <a:off x="1187280" y="4437000"/>
            <a:ext cx="2264040" cy="1943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6" descr="бурка"/>
          <p:cNvPicPr/>
          <p:nvPr/>
        </p:nvPicPr>
        <p:blipFill>
          <a:blip r:embed="rId3"/>
          <a:stretch/>
        </p:blipFill>
        <p:spPr>
          <a:xfrm>
            <a:off x="5014800" y="1981080"/>
            <a:ext cx="307656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31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31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3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рюки, ичиги, газыр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14" descr="брюки казачьи"/>
          <p:cNvPicPr/>
          <p:nvPr/>
        </p:nvPicPr>
        <p:blipFill>
          <a:blip r:embed="rId1"/>
          <a:stretch/>
        </p:blipFill>
        <p:spPr>
          <a:xfrm>
            <a:off x="1047600" y="198108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6" descr="ичиги"/>
          <p:cNvPicPr/>
          <p:nvPr/>
        </p:nvPicPr>
        <p:blipFill>
          <a:blip r:embed="rId2"/>
          <a:stretch/>
        </p:blipFill>
        <p:spPr>
          <a:xfrm>
            <a:off x="5416560" y="1981080"/>
            <a:ext cx="2273400" cy="1981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9" descr="газыри"/>
          <p:cNvPicPr/>
          <p:nvPr/>
        </p:nvPicPr>
        <p:blipFill>
          <a:blip r:embed="rId3"/>
          <a:stretch/>
        </p:blipFill>
        <p:spPr>
          <a:xfrm>
            <a:off x="5195880" y="4114800"/>
            <a:ext cx="271476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3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3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зачья спра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10" descr="казачья справа"/>
          <p:cNvPicPr/>
          <p:nvPr/>
        </p:nvPicPr>
        <p:blipFill>
          <a:blip r:embed="rId1"/>
          <a:stretch/>
        </p:blipFill>
        <p:spPr>
          <a:xfrm>
            <a:off x="357120" y="1374840"/>
            <a:ext cx="3516480" cy="5054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оружие"/>
          <p:cNvPicPr/>
          <p:nvPr/>
        </p:nvPicPr>
        <p:blipFill>
          <a:blip r:embed="rId2"/>
          <a:stretch/>
        </p:blipFill>
        <p:spPr>
          <a:xfrm>
            <a:off x="4280040" y="2071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ружие – часть казачьей спра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6" descr="кинжал"/>
          <p:cNvPicPr/>
          <p:nvPr/>
        </p:nvPicPr>
        <p:blipFill>
          <a:blip r:embed="rId1"/>
          <a:stretch/>
        </p:blipFill>
        <p:spPr>
          <a:xfrm>
            <a:off x="981000" y="1981080"/>
            <a:ext cx="3219480" cy="19814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шашка"/>
          <p:cNvPicPr/>
          <p:nvPr/>
        </p:nvPicPr>
        <p:blipFill>
          <a:blip r:embed="rId2"/>
          <a:stretch/>
        </p:blipFill>
        <p:spPr>
          <a:xfrm>
            <a:off x="966960" y="4114800"/>
            <a:ext cx="3247920" cy="1981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стрелковое оружие"/>
          <p:cNvPicPr/>
          <p:nvPr/>
        </p:nvPicPr>
        <p:blipFill>
          <a:blip r:embed="rId3"/>
          <a:stretch/>
        </p:blipFill>
        <p:spPr>
          <a:xfrm>
            <a:off x="5186520" y="2238480"/>
            <a:ext cx="273348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рный дру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5" descr="черкеска и бешмет"/>
          <p:cNvPicPr/>
          <p:nvPr/>
        </p:nvPicPr>
        <p:blipFill>
          <a:blip r:embed="rId1"/>
          <a:stretch/>
        </p:blipFill>
        <p:spPr>
          <a:xfrm>
            <a:off x="1187280" y="160812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9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за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10" descr="казачка"/>
          <p:cNvPicPr/>
          <p:nvPr/>
        </p:nvPicPr>
        <p:blipFill>
          <a:blip r:embed="rId1"/>
          <a:stretch/>
        </p:blipFill>
        <p:spPr>
          <a:xfrm>
            <a:off x="1403280" y="1916280"/>
            <a:ext cx="6264360" cy="4321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енский костю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8" descr="рубаха"/>
          <p:cNvPicPr/>
          <p:nvPr/>
        </p:nvPicPr>
        <p:blipFill>
          <a:blip r:embed="rId1"/>
          <a:stretch/>
        </p:blipFill>
        <p:spPr>
          <a:xfrm>
            <a:off x="857160" y="1428840"/>
            <a:ext cx="3000600" cy="44686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C:\Users\Ivan\Desktop\53_714_2921_050c50adf25369bb92345c601ada6b.jpg"/>
          <p:cNvPicPr/>
          <p:nvPr/>
        </p:nvPicPr>
        <p:blipFill>
          <a:blip r:embed="rId3"/>
          <a:stretch/>
        </p:blipFill>
        <p:spPr>
          <a:xfrm>
            <a:off x="4929120" y="1311120"/>
            <a:ext cx="3571920" cy="4761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ро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Ivan\Desktop\unnamed.jpg"/>
          <p:cNvPicPr/>
          <p:nvPr/>
        </p:nvPicPr>
        <p:blipFill>
          <a:blip r:embed="rId3"/>
          <a:stretch/>
        </p:blipFill>
        <p:spPr>
          <a:xfrm>
            <a:off x="1071720" y="1214280"/>
            <a:ext cx="6929280" cy="5359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7" descr="казачаья семья"/>
          <p:cNvPicPr/>
          <p:nvPr/>
        </p:nvPicPr>
        <p:blipFill>
          <a:blip r:embed="rId1"/>
          <a:stretch/>
        </p:blipFill>
        <p:spPr>
          <a:xfrm>
            <a:off x="1397160" y="1703520"/>
            <a:ext cx="6349680" cy="4317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7" descr="1335122778081"/>
          <p:cNvPicPr/>
          <p:nvPr/>
        </p:nvPicPr>
        <p:blipFill>
          <a:blip r:embed="rId1"/>
          <a:stretch/>
        </p:blipFill>
        <p:spPr>
          <a:xfrm>
            <a:off x="2786040" y="1285920"/>
            <a:ext cx="3940200" cy="516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9" descr="Кубань_пейзаж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00000" y="549360"/>
            <a:ext cx="7559640" cy="567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степриимство каза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C:\Users\Ivan\Desktop\unnamed.jpg"/>
          <p:cNvPicPr/>
          <p:nvPr/>
        </p:nvPicPr>
        <p:blipFill>
          <a:blip r:embed="rId2"/>
          <a:stretch/>
        </p:blipFill>
        <p:spPr>
          <a:xfrm>
            <a:off x="642960" y="1285920"/>
            <a:ext cx="7894440" cy="5262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214200" y="1000080"/>
            <a:ext cx="403884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ffff"/>
                </a:solidFill>
                <a:latin typeface="Times New Roman"/>
              </a:rPr>
              <a:t>Рождество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457200" y="3789360"/>
            <a:ext cx="40384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4648320" y="3716280"/>
            <a:ext cx="403848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96" name="Picture 9" descr="1"/>
          <p:cNvPicPr/>
          <p:nvPr/>
        </p:nvPicPr>
        <p:blipFill>
          <a:blip r:embed="rId1"/>
          <a:stretch/>
        </p:blipFill>
        <p:spPr>
          <a:xfrm>
            <a:off x="285840" y="642960"/>
            <a:ext cx="3887640" cy="287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1" descr="rozhd%5F2"/>
          <p:cNvPicPr/>
          <p:nvPr/>
        </p:nvPicPr>
        <p:blipFill>
          <a:blip r:embed="rId2"/>
          <a:stretch/>
        </p:blipFill>
        <p:spPr>
          <a:xfrm>
            <a:off x="5580000" y="1413000"/>
            <a:ext cx="2133720" cy="17049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3" descr="main%5Fpict%5Fclip%5Fimage002%5F0008"/>
          <p:cNvPicPr/>
          <p:nvPr/>
        </p:nvPicPr>
        <p:blipFill>
          <a:blip r:embed="rId3"/>
          <a:stretch/>
        </p:blipFill>
        <p:spPr>
          <a:xfrm>
            <a:off x="4286160" y="714240"/>
            <a:ext cx="4537080" cy="28814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5" descr="kulichy"/>
          <p:cNvPicPr/>
          <p:nvPr/>
        </p:nvPicPr>
        <p:blipFill>
          <a:blip r:embed="rId4"/>
          <a:stretch/>
        </p:blipFill>
        <p:spPr>
          <a:xfrm>
            <a:off x="285840" y="4071960"/>
            <a:ext cx="4014720" cy="2500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7" descr="41705925"/>
          <p:cNvPicPr/>
          <p:nvPr/>
        </p:nvPicPr>
        <p:blipFill>
          <a:blip r:embed="rId5"/>
          <a:stretch/>
        </p:blipFill>
        <p:spPr>
          <a:xfrm>
            <a:off x="4786200" y="4000680"/>
            <a:ext cx="3714840" cy="2570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Кут"/>
          <p:cNvPicPr/>
          <p:nvPr/>
        </p:nvPicPr>
        <p:blipFill>
          <a:blip r:embed="rId1"/>
          <a:stretch/>
        </p:blipFill>
        <p:spPr>
          <a:xfrm>
            <a:off x="428760" y="928800"/>
            <a:ext cx="8197560" cy="5095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8" descr="Екатерина"/>
          <p:cNvPicPr/>
          <p:nvPr/>
        </p:nvPicPr>
        <p:blipFill>
          <a:blip r:embed="rId1"/>
          <a:stretch/>
        </p:blipFill>
        <p:spPr>
          <a:xfrm>
            <a:off x="971640" y="549360"/>
            <a:ext cx="7165800" cy="5975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5800" y="533160"/>
            <a:ext cx="7772400" cy="5562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Users\Ivan\Desktop\Kubanskie_kazaki_2.jpg"/>
          <p:cNvPicPr/>
          <p:nvPr/>
        </p:nvPicPr>
        <p:blipFill>
          <a:blip r:embed="rId2"/>
          <a:stretch/>
        </p:blipFill>
        <p:spPr>
          <a:xfrm>
            <a:off x="285840" y="1214280"/>
            <a:ext cx="8458200" cy="4508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лище каза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6" descr="хата"/>
          <p:cNvPicPr/>
          <p:nvPr/>
        </p:nvPicPr>
        <p:blipFill>
          <a:blip r:embed="rId1"/>
          <a:stretch/>
        </p:blipFill>
        <p:spPr>
          <a:xfrm>
            <a:off x="684360" y="1773360"/>
            <a:ext cx="763272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зачье подвор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:\Users\Ivan\Desktop\Снимок.PNG"/>
          <p:cNvPicPr/>
          <p:nvPr/>
        </p:nvPicPr>
        <p:blipFill>
          <a:blip r:embed="rId2"/>
          <a:stretch/>
        </p:blipFill>
        <p:spPr>
          <a:xfrm>
            <a:off x="285840" y="1285920"/>
            <a:ext cx="8426520" cy="5126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7,-86,-81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115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7,-86,-81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115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ликая х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5" descr="внутри хаты2"/>
          <p:cNvPicPr/>
          <p:nvPr/>
        </p:nvPicPr>
        <p:blipFill>
          <a:blip r:embed="rId1"/>
          <a:stretch/>
        </p:blipFill>
        <p:spPr>
          <a:xfrm>
            <a:off x="900000" y="1413000"/>
            <a:ext cx="7344000" cy="4968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бранство х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0" descr="колыбель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9640" y="1268280"/>
            <a:ext cx="3592800" cy="4969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1" descr="внутри хаты"/>
          <p:cNvPicPr/>
          <p:nvPr/>
        </p:nvPicPr>
        <p:blipFill>
          <a:blip r:embed="rId2"/>
          <a:stretch/>
        </p:blipFill>
        <p:spPr>
          <a:xfrm>
            <a:off x="4643280" y="1268280"/>
            <a:ext cx="3816360" cy="2333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6" descr="убранство"/>
          <p:cNvPicPr/>
          <p:nvPr/>
        </p:nvPicPr>
        <p:blipFill>
          <a:blip r:embed="rId3"/>
          <a:stretch/>
        </p:blipFill>
        <p:spPr>
          <a:xfrm>
            <a:off x="4643280" y="3860640"/>
            <a:ext cx="3745080" cy="2376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8:24:34Z</dcterms:created>
  <dc:creator>comp</dc:creator>
  <dc:description/>
  <cp:keywords/>
  <dc:language>en-US</dc:language>
  <cp:lastModifiedBy>Лилия</cp:lastModifiedBy>
  <dcterms:modified xsi:type="dcterms:W3CDTF">2022-02-14T18:53:09Z</dcterms:modified>
  <cp:revision>17</cp:revision>
  <dc:subject/>
  <dc:title>Построение шабл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61049</vt:lpwstr>
  </property>
</Properties>
</file>