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196-A46D-4206-A141-DB1C42D7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61D-8D3E-43A3-AD70-D9B904F3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0FE-6F7C-4FD7-94F2-24418679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606-6258-493A-A2C5-F019505F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9A9-E670-47E8-B2D3-D5853E52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B82-4940-410C-A9AD-4AEA1370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49E-BFB0-480B-8055-44A15AC9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4F7-5A84-4BC4-91ED-DC4A0E91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0CB-E37E-4CC0-9F4A-8EF915FB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D5B-3E03-4A4B-B8CC-CD9AEED8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96A-3E1C-4F95-A330-BD7C118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A60-85D0-4F08-AFC7-D219BDD8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B96C36-AC8D-47EC-BEF9-4EAEE0B5B14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1628640"/>
            <a:ext cx="777204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ование интерактивной доски в образовательной работе с детьми дошкольного возраст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39640" y="548640"/>
            <a:ext cx="921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Муниципальное автономное дошкольное образовательное  учрежд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Детский сад  «Раду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829840" y="4221000"/>
            <a:ext cx="317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дготовила : Иванова Г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1403640" y="1720800"/>
            <a:ext cx="76323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Работа с интерактивной доской позволила по-новому использовать в образовательной деятельности дидактические игры и упражнения, коммуникативные игры, проблемные ситуации, творческие задания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спользование интерактивной доски в совместной  и самостоятельной деятельности ребенка является одним из эффективных способов мотивации и индивидуализации обучения, развития творческих способностей и создания благоприятного эмоционального ф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003920" y="692640"/>
            <a:ext cx="138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2150640" y="1700640"/>
            <a:ext cx="6276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611640" y="548640"/>
            <a:ext cx="914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иоритетным направлением действующей дошкольной образовательной системы является внедрение прогрессивных технологических ресурсов. Интеграция инновационных разработок позволяет сделать занятия насыщенными, творческими, игровыми и увлекательными. Непринужденное вовлечение в образовательную систему содействует наиболее эффективному формированию интеллекта и творческого потенциала 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едущее место в сфере использования прогрессивных технологий в ДОУ занимают интерактивные доски. Их поэтапное внедрение в дошкольных образовательных организациях делает учебную программу более захватывающей и познавательно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Мультимедиа можно использовать для любой образовательной области, по любой теме. Качество и степень освоения учебного материала, как показывает практика, существенно возрастают. Помимо обеспечения богатой образовательной среды, здесь сказывается и то, что педагог, сократив время на воспроизведение информации, получает существенно больше времени на субъект, субъектное общение с дошкольник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791640" y="914040"/>
            <a:ext cx="525636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 экране доски дети могут выполнять задания практически так же, как на бумаге - соединять точки, рисовать, писать, что способствует формированию графических навыков. Педагоги могут показывать им на доске, каким образом выполнять задания на бумаге, например при обучении рисов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2051640" y="3304080"/>
            <a:ext cx="3456000" cy="1944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4" descr=""/>
          <p:cNvPicPr/>
          <p:nvPr/>
        </p:nvPicPr>
        <p:blipFill>
          <a:blip r:embed="rId3"/>
          <a:stretch/>
        </p:blipFill>
        <p:spPr>
          <a:xfrm>
            <a:off x="6360120" y="1287360"/>
            <a:ext cx="3213000" cy="35334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51" name="TextBox 2"/>
          <p:cNvSpPr/>
          <p:nvPr/>
        </p:nvSpPr>
        <p:spPr>
          <a:xfrm>
            <a:off x="3684240" y="53388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0" y="756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710280" y="1196640"/>
            <a:ext cx="92167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Д можно применять как обычный экран телевизора, монитор или диафиль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осмотр видео- , аудиофайлов,  диафильмов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осмотр презента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ослушивание истории еще раз, рассматривание иллюстраций и текста, спроецированных на большой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3855240" y="58500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4356000" y="2853000"/>
            <a:ext cx="5304960" cy="2445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827640" y="1026360"/>
            <a:ext cx="842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ыполняя задания, дети могут расставить изображения в определенном порядке, продолжить последовательность, установить соответствие, выполнить сортировку картинок или надписей по заданному признаку. На экране интерактивной доски можно работать с виртуальным конструктором, использовать ее для модел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771000" y="53388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5790600" y="2479680"/>
            <a:ext cx="3693240" cy="2600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0" name="Рисунок 5" descr=""/>
          <p:cNvPicPr/>
          <p:nvPr/>
        </p:nvPicPr>
        <p:blipFill>
          <a:blip r:embed="rId3"/>
          <a:stretch/>
        </p:blipFill>
        <p:spPr>
          <a:xfrm>
            <a:off x="1025640" y="2327400"/>
            <a:ext cx="3983400" cy="2784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52560" y="828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771000" y="42408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2"/>
          <a:stretch/>
        </p:blipFill>
        <p:spPr>
          <a:xfrm>
            <a:off x="683640" y="878040"/>
            <a:ext cx="3381480" cy="2035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4" name="Рисунок 4" descr=""/>
          <p:cNvPicPr/>
          <p:nvPr/>
        </p:nvPicPr>
        <p:blipFill>
          <a:blip r:embed="rId3"/>
          <a:stretch/>
        </p:blipFill>
        <p:spPr>
          <a:xfrm>
            <a:off x="1659600" y="3069000"/>
            <a:ext cx="3096000" cy="2196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5" name="Рисунок 5" descr=""/>
          <p:cNvPicPr/>
          <p:nvPr/>
        </p:nvPicPr>
        <p:blipFill>
          <a:blip r:embed="rId4"/>
          <a:stretch/>
        </p:blipFill>
        <p:spPr>
          <a:xfrm>
            <a:off x="4764600" y="849960"/>
            <a:ext cx="3112200" cy="2293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6" descr=""/>
          <p:cNvPicPr/>
          <p:nvPr/>
        </p:nvPicPr>
        <p:blipFill>
          <a:blip r:embed="rId5"/>
          <a:stretch/>
        </p:blipFill>
        <p:spPr>
          <a:xfrm>
            <a:off x="6373440" y="3190680"/>
            <a:ext cx="3033000" cy="2060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755640" y="2350800"/>
            <a:ext cx="4016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Рисование по клеточкам. Развивает у ребенка произвольное внимание, пространственное воображение, мелкую моторику пальцев рук, координацию движений, усид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3647880" y="62064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218920" y="1554840"/>
            <a:ext cx="3924720" cy="3346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3780000" y="476640"/>
            <a:ext cx="2719080" cy="63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3"/>
          <a:stretch/>
        </p:blipFill>
        <p:spPr>
          <a:xfrm>
            <a:off x="4860000" y="1614240"/>
            <a:ext cx="4839840" cy="36147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74" name="Прямоугольник 2"/>
          <p:cNvSpPr/>
          <p:nvPr/>
        </p:nvSpPr>
        <p:spPr>
          <a:xfrm>
            <a:off x="675000" y="916560"/>
            <a:ext cx="892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нтерактивные средства обучения, такие как интерактивные доски способствуют развитию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Внимания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Памяти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Мышления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Речи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Личности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Навыков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3780000" y="476640"/>
            <a:ext cx="2719080" cy="639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971640" y="13406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оведение физминуток и чистоговорок, становится более музыкальным. К физминуткам прикрепляется звуковая вкладка, это может быть песня и видеоролик). Проговаривание чистоговорок, выполняется по звуковому образц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"/>
          <p:cNvPicPr/>
          <p:nvPr/>
        </p:nvPicPr>
        <p:blipFill>
          <a:blip r:embed="rId3"/>
          <a:stretch/>
        </p:blipFill>
        <p:spPr>
          <a:xfrm>
            <a:off x="5724000" y="1412640"/>
            <a:ext cx="353484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  <Words>323</Words>
  <Paragraphs>28</Paragraphs>
  <Company>*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2T11:28:20Z</dcterms:created>
  <dc:creator>Админ</dc:creator>
  <dc:description/>
  <dc:language>en-US</dc:language>
  <cp:lastModifiedBy>Галина</cp:lastModifiedBy>
  <dcterms:modified xsi:type="dcterms:W3CDTF">2022-02-03T06:17:22Z</dcterms:modified>
  <cp:revision>42</cp:revision>
  <dc:subject/>
  <dc:title>Использование возможностей интерактивной доски в работе с детьми дошкольного возраст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