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40BC2-0ABE-4BAA-B153-5B4A88E007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49C84-E39F-401D-878D-BB504AD797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F3570-29E0-4008-91B4-6507462043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703ED-38A1-45D6-8DDE-03AC66024C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6375A-E9F6-482F-8453-65586C24FD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A945F-77A2-40BE-819A-1487163BD5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7A4D4-6FE5-4BC0-BE4A-6AFAE8C5CF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2D2EC-9DF3-4ED8-B72F-C4C0850B2A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E6387-F475-40D3-930F-156330CB6B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39BC1-1848-4C77-8075-AB23B47504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9911A-7C71-43AB-B7E2-632CF309BE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F6A58-5674-45C8-821B-6609A2CF29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B94E7-A5DF-4F5A-8372-8A770CE363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A90-E7C8-4E18-AD09-D338587F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E9A-1F72-4FD9-9571-0B9A0495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0BA-A001-4694-BF59-ED22DD9A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706-D1DE-4E34-B077-C86B9D72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F1D8-72B3-4053-A1F3-51B099FA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BC74-C722-4A02-8F1A-C0C1698F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9FB3-3927-417E-8D07-50C23406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B790-D83B-4315-A88B-7C4B5C0F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A8FB-A7E1-47B1-890A-CFD95101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67EC-211B-49D8-94F6-050BE925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6F36-7A74-4E1D-9857-E998BA78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B30-30D1-4B41-8989-A11F2DE4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C814-A58F-45BD-97D3-D4554F67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17C5-EF71-4382-99AA-2B480F1B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B2D3-2E41-4344-80C3-C374FE4E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E6FE-A6B6-4A1E-9939-9566A40B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2145-0D89-4D52-A6A1-8A603E90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F9A-6B76-4C04-97D3-4CA6EDB6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3F0-1D21-4C96-97F6-EDB70839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896-D57E-45AA-860C-68B174F1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8CA-C429-4F26-B80A-F1CC6BCB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136-6BB4-42AE-BF93-B56E033D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464-ADDA-45BA-B2A2-D1334898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202-ABA0-402C-ACA5-57CF1B68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3595A0-3948-42C1-9C88-F0AB4D033C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262080" cy="2649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9" descr=""/>
          <p:cNvPicPr/>
          <p:nvPr/>
        </p:nvPicPr>
        <p:blipFill>
          <a:blip r:embed="rId3"/>
          <a:stretch/>
        </p:blipFill>
        <p:spPr>
          <a:xfrm>
            <a:off x="8413920" y="6237360"/>
            <a:ext cx="261720" cy="26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48CD02-EDC5-4F4E-8E02-6F88DD9F397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1180800" cy="1199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Кегельринг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бот на основ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o Mind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ивает кегли из к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4" descr=""/>
          <p:cNvPicPr/>
          <p:nvPr/>
        </p:nvPicPr>
        <p:blipFill>
          <a:blip r:embed="rId1"/>
          <a:stretch/>
        </p:blipFill>
        <p:spPr>
          <a:xfrm>
            <a:off x="4754520" y="2097000"/>
            <a:ext cx="4389480" cy="4761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к устроена команда ожидания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4546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а ожи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ди расстояние меньше 4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цикл с услов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ди пок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or2&gt;4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ите команду ожидания на цикл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or2&gt;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тоге в течение каждой 1 мс робот крутится на месте, пока выполняется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8" descr=""/>
          <p:cNvPicPr/>
          <p:nvPr/>
        </p:nvPicPr>
        <p:blipFill>
          <a:blip r:embed="rId2"/>
          <a:stretch/>
        </p:blipFill>
        <p:spPr>
          <a:xfrm>
            <a:off x="6300720" y="922320"/>
            <a:ext cx="27050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" descr=""/>
          <p:cNvPicPr/>
          <p:nvPr/>
        </p:nvPicPr>
        <p:blipFill>
          <a:blip r:embed="rId1"/>
          <a:stretch/>
        </p:blipFill>
        <p:spPr>
          <a:xfrm>
            <a:off x="4011480" y="3573360"/>
            <a:ext cx="5141880" cy="2772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к задать сложное услови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546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авилам кегельринга робот должен остановиться, когда вытолкнет все кег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робот определил, что вытолкнул все кегли, он может сделать один контрольный поворот на 3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239*4 по энкод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я соедин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nsor2&gt;45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nd encoderB&lt;239*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8" descr=""/>
          <p:cNvPicPr/>
          <p:nvPr/>
        </p:nvPicPr>
        <p:blipFill>
          <a:blip r:embed="rId2"/>
          <a:stretch/>
        </p:blipFill>
        <p:spPr>
          <a:xfrm>
            <a:off x="6300720" y="922320"/>
            <a:ext cx="27050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к остановить основной цикл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74041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робот остановился, после контрольного поворота, в начале создайте цикл с условием по энкодеру (на 239*4 градус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404200" cy="42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вижение в круг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860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бот с датчиком освещенности движется в кру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наезде на черную линию робот отъезжает и развора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"/>
          <p:cNvPicPr/>
          <p:nvPr/>
        </p:nvPicPr>
        <p:blipFill>
          <a:blip r:embed="rId1"/>
          <a:stretch/>
        </p:blipFill>
        <p:spPr>
          <a:xfrm>
            <a:off x="5651640" y="836640"/>
            <a:ext cx="3097080" cy="30528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" descr=""/>
          <p:cNvPicPr/>
          <p:nvPr/>
        </p:nvPicPr>
        <p:blipFill>
          <a:blip r:embed="rId2"/>
          <a:stretch/>
        </p:blipFill>
        <p:spPr>
          <a:xfrm>
            <a:off x="34920" y="3929040"/>
            <a:ext cx="9096480" cy="29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вижение в круге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–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одель робо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860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ожение датчика на борту ро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та датчика над полем – около 1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34920" y="3929040"/>
            <a:ext cx="9096480" cy="29638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"/>
          <p:cNvPicPr/>
          <p:nvPr/>
        </p:nvPicPr>
        <p:blipFill>
          <a:blip r:embed="rId2"/>
          <a:stretch/>
        </p:blipFill>
        <p:spPr>
          <a:xfrm>
            <a:off x="3635280" y="846000"/>
            <a:ext cx="63723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вижение в круге по звезд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860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бот движется до черно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возвращается в центр и делает поворот на 4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яет 8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5" descr=""/>
          <p:cNvPicPr/>
          <p:nvPr/>
        </p:nvPicPr>
        <p:blipFill>
          <a:blip r:embed="rId1"/>
          <a:stretch/>
        </p:blipFill>
        <p:spPr>
          <a:xfrm>
            <a:off x="5076720" y="1119240"/>
            <a:ext cx="3167280" cy="30621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"/>
          <p:cNvPicPr/>
          <p:nvPr/>
        </p:nvPicPr>
        <p:blipFill>
          <a:blip r:embed="rId2"/>
          <a:stretch/>
        </p:blipFill>
        <p:spPr>
          <a:xfrm>
            <a:off x="82440" y="4365720"/>
            <a:ext cx="902664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зготовление кегле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860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вина листа А4 белой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яная банка 0,33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сторонний скот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тч наклеивается вертикально на ба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мага оборачивается один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5" descr=""/>
          <p:cNvPicPr/>
          <p:nvPr/>
        </p:nvPicPr>
        <p:blipFill>
          <a:blip r:embed="rId1"/>
          <a:stretch/>
        </p:blipFill>
        <p:spPr>
          <a:xfrm>
            <a:off x="5076720" y="1119240"/>
            <a:ext cx="3167280" cy="3062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ножницы - A4.jpg"/>
          <p:cNvPicPr/>
          <p:nvPr/>
        </p:nvPicPr>
        <p:blipFill>
          <a:blip r:embed="rId2"/>
          <a:stretch/>
        </p:blipFill>
        <p:spPr>
          <a:xfrm>
            <a:off x="20520" y="4581360"/>
            <a:ext cx="3827520" cy="21733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8" descr="кегля 1.tif"/>
          <p:cNvPicPr/>
          <p:nvPr/>
        </p:nvPicPr>
        <p:blipFill>
          <a:blip r:embed="rId3"/>
          <a:stretch/>
        </p:blipFill>
        <p:spPr>
          <a:xfrm>
            <a:off x="4784760" y="4890960"/>
            <a:ext cx="1316160" cy="1805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9" descr="кегля 2.tif"/>
          <p:cNvPicPr/>
          <p:nvPr/>
        </p:nvPicPr>
        <p:blipFill>
          <a:blip r:embed="rId4"/>
          <a:stretch/>
        </p:blipFill>
        <p:spPr>
          <a:xfrm>
            <a:off x="5862600" y="4851360"/>
            <a:ext cx="2459160" cy="1844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0" descr="кегля 3.tif"/>
          <p:cNvPicPr/>
          <p:nvPr/>
        </p:nvPicPr>
        <p:blipFill>
          <a:blip r:embed="rId5"/>
          <a:stretch/>
        </p:blipFill>
        <p:spPr>
          <a:xfrm>
            <a:off x="7870680" y="4851360"/>
            <a:ext cx="1309680" cy="18446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7" descr="скотч.jpg"/>
          <p:cNvPicPr/>
          <p:nvPr/>
        </p:nvPicPr>
        <p:blipFill>
          <a:blip r:embed="rId6"/>
          <a:stretch/>
        </p:blipFill>
        <p:spPr>
          <a:xfrm>
            <a:off x="3780000" y="5132520"/>
            <a:ext cx="117288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Бампер для выталкивания кегле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860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мпер защищает колеса, увеличивает охв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бампера не менее колеи робота, но не более 2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3276720" y="717480"/>
            <a:ext cx="6480000" cy="37339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"/>
          <p:cNvPicPr/>
          <p:nvPr/>
        </p:nvPicPr>
        <p:blipFill>
          <a:blip r:embed="rId2"/>
          <a:stretch/>
        </p:blipFill>
        <p:spPr>
          <a:xfrm>
            <a:off x="82440" y="4365720"/>
            <a:ext cx="902664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3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735360" cy="4775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абилизация движения по звезд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4020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мене направления на черной линии необходимо плавное торм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ть моторы в режиме «скольж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ть время возв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1" descr=""/>
          <p:cNvPicPr/>
          <p:nvPr/>
        </p:nvPicPr>
        <p:blipFill>
          <a:blip r:embed="rId2"/>
          <a:stretch/>
        </p:blipFill>
        <p:spPr>
          <a:xfrm>
            <a:off x="22320" y="4459320"/>
            <a:ext cx="9121680" cy="23986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6" descr=""/>
          <p:cNvPicPr/>
          <p:nvPr/>
        </p:nvPicPr>
        <p:blipFill>
          <a:blip r:embed="rId3"/>
          <a:stretch/>
        </p:blipFill>
        <p:spPr>
          <a:xfrm>
            <a:off x="6807240" y="3240000"/>
            <a:ext cx="70488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очные движения по энкодер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860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рос (обнуление) энкодера в центре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ение в нулевое положение энко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орот на месте по энкод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5" descr=""/>
          <p:cNvPicPr/>
          <p:nvPr/>
        </p:nvPicPr>
        <p:blipFill>
          <a:blip r:embed="rId1"/>
          <a:stretch/>
        </p:blipFill>
        <p:spPr>
          <a:xfrm>
            <a:off x="5076720" y="1119240"/>
            <a:ext cx="3167280" cy="30621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"/>
          <p:cNvPicPr/>
          <p:nvPr/>
        </p:nvPicPr>
        <p:blipFill>
          <a:blip r:embed="rId2"/>
          <a:stretch/>
        </p:blipFill>
        <p:spPr>
          <a:xfrm>
            <a:off x="-108000" y="4437000"/>
            <a:ext cx="925056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бнаружение кегли по датчик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52689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о поворота по энкодеру можно ожидать появление кег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чик расстояния на 2 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-1882800" y="4095720"/>
            <a:ext cx="11026800" cy="2762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6840" y="2565000"/>
            <a:ext cx="54831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робот не замечал старые кегли, он должен успеть отверну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8" descr=""/>
          <p:cNvPicPr/>
          <p:nvPr/>
        </p:nvPicPr>
        <p:blipFill>
          <a:blip r:embed="rId2"/>
          <a:stretch/>
        </p:blipFill>
        <p:spPr>
          <a:xfrm>
            <a:off x="6300720" y="922320"/>
            <a:ext cx="2705040" cy="11239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3" descr=""/>
          <p:cNvPicPr/>
          <p:nvPr/>
        </p:nvPicPr>
        <p:blipFill>
          <a:blip r:embed="rId3"/>
          <a:stretch/>
        </p:blipFill>
        <p:spPr>
          <a:xfrm>
            <a:off x="-1738440" y="4095720"/>
            <a:ext cx="10882440" cy="27622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" descr=""/>
          <p:cNvPicPr/>
          <p:nvPr/>
        </p:nvPicPr>
        <p:blipFill>
          <a:blip r:embed="rId4"/>
          <a:stretch/>
        </p:blipFill>
        <p:spPr>
          <a:xfrm>
            <a:off x="-2268360" y="4103640"/>
            <a:ext cx="11420280" cy="2781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"/>
          <p:cNvPicPr/>
          <p:nvPr/>
        </p:nvPicPr>
        <p:blipFill>
          <a:blip r:embed="rId5"/>
          <a:stretch/>
        </p:blipFill>
        <p:spPr>
          <a:xfrm>
            <a:off x="5003640" y="1620720"/>
            <a:ext cx="4716720" cy="28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0:03:13Z</dcterms:created>
  <dc:creator>Sergey Filippov</dc:creator>
  <dc:description/>
  <dc:language>en-US</dc:language>
  <cp:lastModifiedBy>Александр Кожухов</cp:lastModifiedBy>
  <dcterms:modified xsi:type="dcterms:W3CDTF">2022-02-07T09:59:26Z</dcterms:modified>
  <cp:revision>295</cp:revision>
  <dc:subject/>
  <dc:title>Просто о сложном или «Трудная радость»</dc:title>
</cp:coreProperties>
</file>