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ACA0B-D9C2-4178-9CB1-7B8F148F67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9EF1C-70FE-47EC-9B48-E0BBBC6E30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4A670-D1E9-45D3-80FF-E56EDD235A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6A266-042A-449C-9180-19B3DC9697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92CAA-245C-4194-BB6E-9FB03273B6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EB606-000C-4EB0-8A58-F71266FE6C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42F23-ECD8-4E55-8699-D0ADE1F0E9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D559B-0C1E-45AE-9A89-DE68A965DA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6D2D2-443A-42EF-9768-A89EF19DC8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EA9C7-E731-42FD-9762-99B6AB1879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6C00D-4D98-4EB9-8450-2293489A71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0E5FE-ABFD-4DA1-81A4-DB427B78BF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328A3-3905-40E4-8D33-229F491B2B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567F-364B-4625-B489-41FCCF9D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C1A1-88D1-41C1-AB04-739B56CD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FDAE-8CFE-462B-A85D-0386E154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CD00-1CD9-46F2-B853-033ECD0A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7CD2-4D70-4C89-890B-DDEF8601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D976-54BD-4BC6-913D-EB56B486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FCD1-ED2C-4A1E-A615-F54668D4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1F0B-073D-4C65-AC5D-7512B1DA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B75B-3E10-4552-B27D-CCE44FB7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A853-AC04-4B18-A4E5-5CF3C252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C7CD-FA84-4DDD-A78F-E1118C56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2D77-5ADF-4C7A-B98F-E3E96DA3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C465-C4FD-48E5-BB5A-E7C2C93D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0829-92D5-445F-8788-10076703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977F-CB4B-4C45-9303-751259CE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5F99-7316-4C9B-A505-2202F2FE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1DE4-3CC7-4037-8CE8-C050FAD7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854-8DB0-46BF-8636-697B20BD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0500-9593-4B30-9DA0-71272B22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4CC-6A70-43B7-8AD0-ACED8440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61AA-FC8F-40A6-BD7C-A837B226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7E47-4E73-450E-9076-58801B3B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74F2-C7A7-4B75-8CEF-88DD50FA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10CD-7A8D-46F8-91FB-3CDBA082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917ED8-1961-42F8-ACFE-40928CD292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6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8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262080" cy="2649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9" descr=""/>
          <p:cNvPicPr/>
          <p:nvPr/>
        </p:nvPicPr>
        <p:blipFill>
          <a:blip r:embed="rId3"/>
          <a:stretch/>
        </p:blipFill>
        <p:spPr>
          <a:xfrm>
            <a:off x="8413920" y="6237360"/>
            <a:ext cx="261720" cy="26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37AED5-B9F2-43A9-9162-D1BB4B54803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1180800" cy="1199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Кегельринг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бот на основ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o Mind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ивает кегли из к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4" descr=""/>
          <p:cNvPicPr/>
          <p:nvPr/>
        </p:nvPicPr>
        <p:blipFill>
          <a:blip r:embed="rId1"/>
          <a:stretch/>
        </p:blipFill>
        <p:spPr>
          <a:xfrm>
            <a:off x="4754520" y="2097000"/>
            <a:ext cx="4389480" cy="4761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ак устроена команда ожидания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546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а ожи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ди расстояние меньше 4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цикл с услов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ди пок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sor2&gt;4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ните команду ожидания на цикл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жит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sor2&gt;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тоге в течение каждой 1 мс робот крутится на месте, пока выполняется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8" descr=""/>
          <p:cNvPicPr/>
          <p:nvPr/>
        </p:nvPicPr>
        <p:blipFill>
          <a:blip r:embed="rId2"/>
          <a:stretch/>
        </p:blipFill>
        <p:spPr>
          <a:xfrm>
            <a:off x="6300720" y="922320"/>
            <a:ext cx="270504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1" descr=""/>
          <p:cNvPicPr/>
          <p:nvPr/>
        </p:nvPicPr>
        <p:blipFill>
          <a:blip r:embed="rId1"/>
          <a:stretch/>
        </p:blipFill>
        <p:spPr>
          <a:xfrm>
            <a:off x="4011480" y="3573360"/>
            <a:ext cx="5141880" cy="2772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ак задать сложное условие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546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авилам кегельринга робот должен остановиться, когда вытолкнет все кег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робот определил, что вытолкнул все кегли, он может сделать один контрольный поворот на 3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239*4 по энкод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я соедин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nsor2&gt;45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nd encoderB&lt;239*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8" descr=""/>
          <p:cNvPicPr/>
          <p:nvPr/>
        </p:nvPicPr>
        <p:blipFill>
          <a:blip r:embed="rId2"/>
          <a:stretch/>
        </p:blipFill>
        <p:spPr>
          <a:xfrm>
            <a:off x="6300720" y="922320"/>
            <a:ext cx="270504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ак остановить основной цикл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74041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робот остановился, после контрольного поворота, в начале создайте цикл с условием по энкодеру (на 239*4 градус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3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404200" cy="42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вижение в круг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1860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бот с датчиком освещенности движется в кру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наезде на черную линию робот отъезжает и разворачи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4" descr=""/>
          <p:cNvPicPr/>
          <p:nvPr/>
        </p:nvPicPr>
        <p:blipFill>
          <a:blip r:embed="rId1"/>
          <a:stretch/>
        </p:blipFill>
        <p:spPr>
          <a:xfrm>
            <a:off x="5651640" y="836640"/>
            <a:ext cx="3097080" cy="30528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" descr=""/>
          <p:cNvPicPr/>
          <p:nvPr/>
        </p:nvPicPr>
        <p:blipFill>
          <a:blip r:embed="rId2"/>
          <a:stretch/>
        </p:blipFill>
        <p:spPr>
          <a:xfrm>
            <a:off x="34920" y="3929040"/>
            <a:ext cx="9096480" cy="29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вижение в круге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–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одель робо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1860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ложение датчика на борту ро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та датчика над полем – около 1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" descr=""/>
          <p:cNvPicPr/>
          <p:nvPr/>
        </p:nvPicPr>
        <p:blipFill>
          <a:blip r:embed="rId1"/>
          <a:stretch/>
        </p:blipFill>
        <p:spPr>
          <a:xfrm>
            <a:off x="34920" y="3929040"/>
            <a:ext cx="9096480" cy="29638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" descr=""/>
          <p:cNvPicPr/>
          <p:nvPr/>
        </p:nvPicPr>
        <p:blipFill>
          <a:blip r:embed="rId2"/>
          <a:stretch/>
        </p:blipFill>
        <p:spPr>
          <a:xfrm>
            <a:off x="3635280" y="846000"/>
            <a:ext cx="63723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вижение в круге по звезд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1860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бот движется до черной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возвращается в центр и делает поворот на 4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яет 8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5" descr=""/>
          <p:cNvPicPr/>
          <p:nvPr/>
        </p:nvPicPr>
        <p:blipFill>
          <a:blip r:embed="rId1"/>
          <a:stretch/>
        </p:blipFill>
        <p:spPr>
          <a:xfrm>
            <a:off x="5076720" y="1119240"/>
            <a:ext cx="3167280" cy="30621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" descr=""/>
          <p:cNvPicPr/>
          <p:nvPr/>
        </p:nvPicPr>
        <p:blipFill>
          <a:blip r:embed="rId2"/>
          <a:stretch/>
        </p:blipFill>
        <p:spPr>
          <a:xfrm>
            <a:off x="82440" y="4365720"/>
            <a:ext cx="9026640" cy="24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зготовление кегле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1860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вина листа А4 белой бум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стяная банка 0,33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сторонний скот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тч наклеивается вертикально на ба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мага оборачивается один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5" descr=""/>
          <p:cNvPicPr/>
          <p:nvPr/>
        </p:nvPicPr>
        <p:blipFill>
          <a:blip r:embed="rId1"/>
          <a:stretch/>
        </p:blipFill>
        <p:spPr>
          <a:xfrm>
            <a:off x="5076720" y="1119240"/>
            <a:ext cx="3167280" cy="30621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6" descr="ножницы - A4.jpg"/>
          <p:cNvPicPr/>
          <p:nvPr/>
        </p:nvPicPr>
        <p:blipFill>
          <a:blip r:embed="rId2"/>
          <a:stretch/>
        </p:blipFill>
        <p:spPr>
          <a:xfrm>
            <a:off x="20520" y="4581360"/>
            <a:ext cx="3827520" cy="21733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8" descr="кегля 1.tif"/>
          <p:cNvPicPr/>
          <p:nvPr/>
        </p:nvPicPr>
        <p:blipFill>
          <a:blip r:embed="rId3"/>
          <a:stretch/>
        </p:blipFill>
        <p:spPr>
          <a:xfrm>
            <a:off x="4784760" y="4890960"/>
            <a:ext cx="1316160" cy="1805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9" descr="кегля 2.tif"/>
          <p:cNvPicPr/>
          <p:nvPr/>
        </p:nvPicPr>
        <p:blipFill>
          <a:blip r:embed="rId4"/>
          <a:stretch/>
        </p:blipFill>
        <p:spPr>
          <a:xfrm>
            <a:off x="5862600" y="4851360"/>
            <a:ext cx="2459160" cy="18446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0" descr="кегля 3.tif"/>
          <p:cNvPicPr/>
          <p:nvPr/>
        </p:nvPicPr>
        <p:blipFill>
          <a:blip r:embed="rId5"/>
          <a:stretch/>
        </p:blipFill>
        <p:spPr>
          <a:xfrm>
            <a:off x="7870680" y="4851360"/>
            <a:ext cx="1309680" cy="18446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7" descr="скотч.jpg"/>
          <p:cNvPicPr/>
          <p:nvPr/>
        </p:nvPicPr>
        <p:blipFill>
          <a:blip r:embed="rId6"/>
          <a:stretch/>
        </p:blipFill>
        <p:spPr>
          <a:xfrm>
            <a:off x="3780000" y="5132520"/>
            <a:ext cx="1172880" cy="128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Бампер для выталкивания кегле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1860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мпер защищает колеса, увеличивает охв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ина бампера не менее колеи робота, но не более 20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3" descr=""/>
          <p:cNvPicPr/>
          <p:nvPr/>
        </p:nvPicPr>
        <p:blipFill>
          <a:blip r:embed="rId1"/>
          <a:stretch/>
        </p:blipFill>
        <p:spPr>
          <a:xfrm>
            <a:off x="3276720" y="717480"/>
            <a:ext cx="6480000" cy="37339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6" descr=""/>
          <p:cNvPicPr/>
          <p:nvPr/>
        </p:nvPicPr>
        <p:blipFill>
          <a:blip r:embed="rId2"/>
          <a:stretch/>
        </p:blipFill>
        <p:spPr>
          <a:xfrm>
            <a:off x="82440" y="4365720"/>
            <a:ext cx="9026640" cy="24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3" descr=""/>
          <p:cNvPicPr/>
          <p:nvPr/>
        </p:nvPicPr>
        <p:blipFill>
          <a:blip r:embed="rId1"/>
          <a:stretch/>
        </p:blipFill>
        <p:spPr>
          <a:xfrm>
            <a:off x="5292720" y="1268280"/>
            <a:ext cx="3735360" cy="4775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табилизация движения по звезд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4020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мене направления на черной линии необходимо плавное торм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новить моторы в режиме «скольж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ть время возв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1" descr=""/>
          <p:cNvPicPr/>
          <p:nvPr/>
        </p:nvPicPr>
        <p:blipFill>
          <a:blip r:embed="rId2"/>
          <a:stretch/>
        </p:blipFill>
        <p:spPr>
          <a:xfrm>
            <a:off x="22320" y="4459320"/>
            <a:ext cx="9121680" cy="23986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6" descr=""/>
          <p:cNvPicPr/>
          <p:nvPr/>
        </p:nvPicPr>
        <p:blipFill>
          <a:blip r:embed="rId3"/>
          <a:stretch/>
        </p:blipFill>
        <p:spPr>
          <a:xfrm>
            <a:off x="6807240" y="3240000"/>
            <a:ext cx="704880" cy="7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очные движения по энкодер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1860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рос (обнуление) энкодера в центре к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ращение в нулевое положение энкод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орот на месте по энкод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5" descr=""/>
          <p:cNvPicPr/>
          <p:nvPr/>
        </p:nvPicPr>
        <p:blipFill>
          <a:blip r:embed="rId1"/>
          <a:stretch/>
        </p:blipFill>
        <p:spPr>
          <a:xfrm>
            <a:off x="5076720" y="1119240"/>
            <a:ext cx="3167280" cy="30621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" descr=""/>
          <p:cNvPicPr/>
          <p:nvPr/>
        </p:nvPicPr>
        <p:blipFill>
          <a:blip r:embed="rId2"/>
          <a:stretch/>
        </p:blipFill>
        <p:spPr>
          <a:xfrm>
            <a:off x="-108000" y="4437000"/>
            <a:ext cx="925056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бнаружение кегли по датчик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52689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о поворота по энкодеру можно ожидать появление кег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чик расстояния на 2 п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1" descr=""/>
          <p:cNvPicPr/>
          <p:nvPr/>
        </p:nvPicPr>
        <p:blipFill>
          <a:blip r:embed="rId1"/>
          <a:stretch/>
        </p:blipFill>
        <p:spPr>
          <a:xfrm>
            <a:off x="-1882800" y="4095720"/>
            <a:ext cx="11026800" cy="2762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6840" y="2565000"/>
            <a:ext cx="54831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робот не замечал старые кегли, он должен успеть отверну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8" descr=""/>
          <p:cNvPicPr/>
          <p:nvPr/>
        </p:nvPicPr>
        <p:blipFill>
          <a:blip r:embed="rId2"/>
          <a:stretch/>
        </p:blipFill>
        <p:spPr>
          <a:xfrm>
            <a:off x="6300720" y="922320"/>
            <a:ext cx="2705040" cy="11239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3" descr=""/>
          <p:cNvPicPr/>
          <p:nvPr/>
        </p:nvPicPr>
        <p:blipFill>
          <a:blip r:embed="rId3"/>
          <a:stretch/>
        </p:blipFill>
        <p:spPr>
          <a:xfrm>
            <a:off x="-1738440" y="4095720"/>
            <a:ext cx="10882440" cy="27622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2" descr=""/>
          <p:cNvPicPr/>
          <p:nvPr/>
        </p:nvPicPr>
        <p:blipFill>
          <a:blip r:embed="rId4"/>
          <a:stretch/>
        </p:blipFill>
        <p:spPr>
          <a:xfrm>
            <a:off x="-2268360" y="4103640"/>
            <a:ext cx="11420280" cy="27813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"/>
          <p:cNvPicPr/>
          <p:nvPr/>
        </p:nvPicPr>
        <p:blipFill>
          <a:blip r:embed="rId5"/>
          <a:stretch/>
        </p:blipFill>
        <p:spPr>
          <a:xfrm>
            <a:off x="5003640" y="1620720"/>
            <a:ext cx="4716720" cy="28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10:03:13Z</dcterms:created>
  <dc:creator>Sergey Filippov</dc:creator>
  <dc:description/>
  <dc:language>en-US</dc:language>
  <cp:lastModifiedBy>Александр Кожухов</cp:lastModifiedBy>
  <dcterms:modified xsi:type="dcterms:W3CDTF">2022-02-07T09:59:26Z</dcterms:modified>
  <cp:revision>295</cp:revision>
  <dc:subject/>
  <dc:title>Просто о сложном или «Трудная радость»</dc:title>
</cp:coreProperties>
</file>