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8B7-F6E6-4548-AF00-08E8F936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C12-515E-449B-983F-F31D5334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028-2D87-497E-AE85-AE6268C8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543-9A86-4CAF-9F02-4186FE4F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058C-0412-486D-BD95-2DB1EAD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DEF-BBC2-4CEC-A77C-B39CFC5C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3C23-A8AD-48F4-9E55-C0805FD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8F93-1794-4B7A-A400-B8D6034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ED8D-73B3-4165-B53B-51D74361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118B-EB3F-4BEA-A271-C8C5C4C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8067-06BA-477E-8623-87A894B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640-202C-4C18-B9C0-0EC44504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BDAB-EE2E-4D39-9146-99A3C4B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6D99-E188-42E7-9508-4094954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6AAF-369E-4143-AD7E-627E438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040-66BD-4FC6-8EA2-DDF43490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189-FCAE-487E-93FF-16CA685E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DFB7-4135-409D-9D4F-0C302597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4CF8A-E159-432A-B423-1D4DEF3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F886-4D17-4EB6-AC5B-0B5C61CC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6229-9FB7-430D-8B0B-4F32FFD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61BB-7BA5-45A7-AEDE-4FCE4CD0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A79-CC9A-427A-8354-21AC31A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968A-5250-4F9F-A7C5-42CE00B9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B947-2730-4839-804D-452E78E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96BA-BA74-4C52-B60B-2F7C199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D67A-A0F4-46DE-ACCF-C7FB9ED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8A88-3BF0-4814-B67F-B436289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29B0-C4D9-4AD4-82F6-4AA3F8E9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10A7-14AD-4EA7-B5A0-DEB38F64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E61-CB70-412E-87C2-126E25A8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CB8-CC90-4F64-BD56-A5071B7D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EB4-6354-4F5B-ADCB-BE6223D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B8A-BDC6-4047-849A-4049E0B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9C2-4956-4330-A362-3315CFC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315-3E0F-478D-ADCE-1EA53A81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B07F-57DA-4654-A3D4-F34D9AB1B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dmin\Рабочий стол\с1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с2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1B5-7993-4F97-992C-4F00D0EAE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Рабочий стол\с3.jpg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D8D-C0DF-4573-8D2D-567821BB2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619280" y="571680"/>
            <a:ext cx="43927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ahoma"/>
              </a:rPr>
              <a:t>Моя любимая сказка «Терем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Выполнил: ученик 5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Коммунар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ahoma"/>
              </a:rPr>
              <a:t>Марков Г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Теремок"/>
          <p:cNvPicPr/>
          <p:nvPr/>
        </p:nvPicPr>
        <p:blipFill>
          <a:blip r:embed="rId1"/>
          <a:stretch/>
        </p:blipFill>
        <p:spPr>
          <a:xfrm>
            <a:off x="468360" y="2800440"/>
            <a:ext cx="2109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вные герои сказ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шка- нору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ягушка – кваку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йка – побегай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сичка – сестри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лк – зубами щел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Потапы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s://sun9-69.userapi.com/impg/Jbj-2zXb6ar6mqEilKqVbRdBErjSIcDO3_fgOw/Z1-E_uhTcDM.jpg?size=1600x1200&amp;quality=96&amp;sign=a4fa8a0cffc87c5ef3f5c5f66f977bfa&amp;type=album"/>
          <p:cNvPicPr/>
          <p:nvPr/>
        </p:nvPicPr>
        <p:blipFill>
          <a:blip r:embed="rId1"/>
          <a:stretch/>
        </p:blipFill>
        <p:spPr>
          <a:xfrm>
            <a:off x="3276720" y="1844640"/>
            <a:ext cx="5711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шка – норушка увидела в поле Теремок и стала в нем жить. Потом к ней попросилась жить Лягушка-квакушк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Лягушка просится в теремок"/>
          <p:cNvPicPr/>
          <p:nvPr/>
        </p:nvPicPr>
        <p:blipFill>
          <a:blip r:embed="rId1"/>
          <a:stretch/>
        </p:blipFill>
        <p:spPr>
          <a:xfrm>
            <a:off x="765000" y="1600200"/>
            <a:ext cx="761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т живут они втроём: мышка-норушка, лягушка-квакушка, зайчик-побегайчик. И вот пришла лисичка-сестричка. Они ее боятся. Пересилив свой страх, они пустили ее жить с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Лисичка-сестричка просится в теремок"/>
          <p:cNvPicPr/>
          <p:nvPr/>
        </p:nvPicPr>
        <p:blipFill>
          <a:blip r:embed="rId1"/>
          <a:stretch/>
        </p:blipFill>
        <p:spPr>
          <a:xfrm>
            <a:off x="765000" y="1600200"/>
            <a:ext cx="761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Потапыч тоже решил в теремочке пожить. Звери его очень боял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Медведь и теремок"/>
          <p:cNvPicPr/>
          <p:nvPr/>
        </p:nvPicPr>
        <p:blipFill>
          <a:blip r:embed="rId1"/>
          <a:stretch/>
        </p:blipFill>
        <p:spPr>
          <a:xfrm>
            <a:off x="765000" y="1125360"/>
            <a:ext cx="761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герои сказки «Теремок» хороши по своему. Лиса красавица, мышка и лягушка домовничать любят, волк — защитник, заяц — веселун, а Михаил Потапыч, хоть и сильный, но совестливый – сломал домик и тут же повинился в этом. Звери так сдружились, что не разбежались по лесу, когда Потапыч на крышу се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троили они новый терем, большой и простор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зка «Теремок» учит дружбе, гостеприимству, взаимовыручке, сплоченност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848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сказке подходят пословиц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 тесноте, да не в обиде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месте мы си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ысл сказки «Теремок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стоять друг за друга горой, то никакая беда не страшн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5:48:07Z</dcterms:created>
  <dc:creator>Admin</dc:creator>
  <dc:description/>
  <dc:language>en-US</dc:language>
  <cp:lastModifiedBy>user</cp:lastModifiedBy>
  <dcterms:modified xsi:type="dcterms:W3CDTF">2022-02-14T17:44:41Z</dcterms:modified>
  <cp:revision>33</cp:revision>
  <dc:subject/>
  <dc:title>Слайд 1</dc:title>
</cp:coreProperties>
</file>