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98C9-6F6E-48BA-9CDC-7D1E1D57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708E-9A70-408E-A6FF-E62D5C30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9F79-6461-431B-8FB5-CF1B44796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F6D2-946F-442B-A373-C8D2106DA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BB54-0E4A-4B28-8491-D9E04D6AA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DBD1-CB46-4148-8831-E7B89392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7AFD-0336-4A51-A326-6A4D9757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E478-1C4A-4589-B217-C84846A9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CB54-6573-4ED0-97E5-C0F04363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1554-4F8B-4A6B-BA15-E8285B00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D90D-925A-4875-99C0-40946FD7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5DF5-4C75-4844-8722-01B38AEE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0418-D10F-433A-8F64-2B26562D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E3A4-EDA4-4C25-9C37-5CD2103B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73BF-14AC-4D03-B679-4C0A0C18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D140-6C3A-4ED0-A99E-2A67F1CA3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1EBE-1904-44A9-8F73-4FC795596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A61A1-0EBD-4EF2-806D-18BC59DE7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E14DB-5BFA-4F36-A398-15EBDF09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86151-921A-42DF-A664-F147E49E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BEEFD-9020-4E8E-B029-405327C3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50C81-21EF-45B8-8181-D4F97055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A157-0AE3-4265-BC7B-A39B5AAE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733D8-D2E3-4192-81AC-AC47A697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8B77C-3C25-4F50-8C0B-57EDF481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7F7A7-4ED2-438F-A089-639535BB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4A5CD-348B-46AA-B583-54B8E8B7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89DE2-E999-41E5-8E69-6120FC26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0552A-DC6A-4F2A-A3F8-4549B41C7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BBFF1-1C02-4F8F-AA35-91CD4100A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82E8-B618-4325-A4B1-FD59EE12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854D-052C-489F-AD98-3A4406EF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351F-4149-4295-A04C-07C97CF0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E27A-6ABA-4D5C-AF60-A777393A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347D-D397-4972-8656-ABA3EB07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2ADE-B9CC-43B6-9674-2BEDA56A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129E-550A-4AF9-B747-40137BB1F7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C:\Documents and Settings\Admin\Рабочий стол\с1.jpg"/>
          <p:cNvPicPr/>
          <p:nvPr/>
        </p:nvPicPr>
        <p:blipFill>
          <a:blip r:embed="rId2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nts and Settings\Admin\Рабочий стол\с2.jpg"/>
          <p:cNvPicPr/>
          <p:nvPr/>
        </p:nvPicPr>
        <p:blipFill>
          <a:blip r:embed="rId2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6B74-A64D-4F86-8898-0B3D555956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Documents and Settings\Admin\Рабочий стол\с3.jpg"/>
          <p:cNvPicPr/>
          <p:nvPr/>
        </p:nvPicPr>
        <p:blipFill>
          <a:blip r:embed="rId2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6D28-CA76-4178-A5AF-4E0FCC633D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1619280" y="571680"/>
            <a:ext cx="4392720" cy="38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Times New Roman"/>
                <a:ea typeface="Tahoma"/>
              </a:rPr>
              <a:t>Моя любимая сказка «Теремок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ahoma"/>
              </a:rPr>
              <a:t>                   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ahoma"/>
              </a:rPr>
              <a:t>Выполнил: ученик 5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ahoma"/>
              </a:rPr>
              <a:t>           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ahoma"/>
              </a:rPr>
              <a:t>Коммунаровской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ahoma"/>
              </a:rPr>
              <a:t>        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ahoma"/>
              </a:rPr>
              <a:t>Марков Гле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Теремок"/>
          <p:cNvPicPr/>
          <p:nvPr/>
        </p:nvPicPr>
        <p:blipFill>
          <a:blip r:embed="rId1"/>
          <a:stretch/>
        </p:blipFill>
        <p:spPr>
          <a:xfrm>
            <a:off x="468360" y="2800440"/>
            <a:ext cx="210960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000" y="333360"/>
            <a:ext cx="55436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5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лавные герои сказк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ышка- норушк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ягушка – квакушк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йка – побегайк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исичка – сестричк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олк – зубами щелк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ихаил Потапыч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https://sun9-69.userapi.com/impg/Jbj-2zXb6ar6mqEilKqVbRdBErjSIcDO3_fgOw/Z1-E_uhTcDM.jpg?size=1600x1200&amp;quality=96&amp;sign=a4fa8a0cffc87c5ef3f5c5f66f977bfa&amp;type=album"/>
          <p:cNvPicPr/>
          <p:nvPr/>
        </p:nvPicPr>
        <p:blipFill>
          <a:blip r:embed="rId1"/>
          <a:stretch/>
        </p:blipFill>
        <p:spPr>
          <a:xfrm>
            <a:off x="3276720" y="1844640"/>
            <a:ext cx="57117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ышка – норушка увидела в поле Теремок и стала в нем жить. Потом к ней попросилась жить Лягушка-квакушка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Лягушка просится в теремок"/>
          <p:cNvPicPr/>
          <p:nvPr/>
        </p:nvPicPr>
        <p:blipFill>
          <a:blip r:embed="rId1"/>
          <a:stretch/>
        </p:blipFill>
        <p:spPr>
          <a:xfrm>
            <a:off x="765000" y="1600200"/>
            <a:ext cx="7614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от живут они втроём: мышка-норушка, лягушка-квакушка, зайчик-побегайчик. И вот пришла лисичка-сестричка. Они ее боятся. Пересилив свой страх, они пустили ее жить с ни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Лисичка-сестричка просится в теремок"/>
          <p:cNvPicPr/>
          <p:nvPr/>
        </p:nvPicPr>
        <p:blipFill>
          <a:blip r:embed="rId1"/>
          <a:stretch/>
        </p:blipFill>
        <p:spPr>
          <a:xfrm>
            <a:off x="765000" y="1600200"/>
            <a:ext cx="7614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ихаил Потапыч тоже решил в теремочке пожить. Звери его очень боялис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Медведь и теремок"/>
          <p:cNvPicPr/>
          <p:nvPr/>
        </p:nvPicPr>
        <p:blipFill>
          <a:blip r:embed="rId1"/>
          <a:stretch/>
        </p:blipFill>
        <p:spPr>
          <a:xfrm>
            <a:off x="765000" y="1125360"/>
            <a:ext cx="7614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476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се герои сказки «Теремок» хороши по своему. Лиса красавица, мышка и лягушка домовничать любят, волк — защитник, заяц — веселун, а Михаил Потапыч, хоть и сильный, но совестливый – сломал домик и тут же повинился в этом. Звери так сдружились, что не разбежались по лесу, когда Потапыч на крышу се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ыстроили они новый терем, большой и просторны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казка «Теремок» учит дружбе, гостеприимству, взаимовыручке, сплоченности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4000" y="2349000"/>
            <a:ext cx="784836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 сказке подходят пословицы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В тесноте, да не в обиде»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Вместе мы сила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мысл сказки «Теремок»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если стоять друг за друга горой, то никакая беда не страшна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2T05:48:07Z</dcterms:created>
  <dc:creator>Admin</dc:creator>
  <dc:description/>
  <dc:language>en-US</dc:language>
  <cp:lastModifiedBy>user</cp:lastModifiedBy>
  <dcterms:modified xsi:type="dcterms:W3CDTF">2022-02-14T17:44:41Z</dcterms:modified>
  <cp:revision>33</cp:revision>
  <dc:subject/>
  <dc:title>Слайд 1</dc:title>
</cp:coreProperties>
</file>