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3543-9438-414C-BC9E-C700B70C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BBA3-B8A9-45E6-B8B6-3BEC3B5C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3B36F-CF53-4C53-9137-33C8783B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07D4-6AED-4C90-B557-4D3EB80E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651E-680A-4945-96B4-F0887A16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BCBB-CCA4-408B-B815-7AFA5879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E59C-4452-4827-AD25-B7669AF5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B328-6721-4B4B-9F9E-2D662EC4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D9E6-E160-4F94-BBA4-80AE4E43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E374-6452-4354-A804-AA7C5F66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4E5A-0496-4330-8A0F-ACF99C3F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4B5C-3B98-483D-850C-5CEC674B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091E-1824-43E1-944A-EC04307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8AD1-4473-4CDD-8351-372F49A8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5058-4CB1-45B3-AF10-2448746F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1C57-4F22-4BCE-8600-26F8CADD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27D6-DF9A-4A3C-8BC3-434DF36C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936C-063D-48BD-A5F8-6F7D5132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9675-1D51-41AB-8618-C71363C5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5478-62A6-45BE-B99D-1C8B2A47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4D08-123E-497D-AA64-16B906E0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746A-78D1-4D90-B13E-664DA615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C9E9-983D-464D-BAA6-0D11494D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6197-AA98-4AE7-9319-7D6CE81F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EDC3-DEB5-447D-BBD8-0060BF5BBF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CC17-2E9C-4793-B840-52D7F9782E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Monotype Corsiva"/>
              </a:rPr>
              <a:t>Использование приемов нетрадиционного рисования в детском саду и дома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5440320"/>
            <a:ext cx="46800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мосова Н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спитател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БДОУ ЗАТО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. Североморск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\с №16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7" descr="171_0358"/>
          <p:cNvPicPr/>
          <p:nvPr/>
        </p:nvPicPr>
        <p:blipFill>
          <a:blip r:embed="rId1"/>
          <a:stretch/>
        </p:blipFill>
        <p:spPr>
          <a:xfrm>
            <a:off x="5867280" y="2637000"/>
            <a:ext cx="2332080" cy="316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painting"/>
          <p:cNvPicPr/>
          <p:nvPr/>
        </p:nvPicPr>
        <p:blipFill>
          <a:blip r:embed="rId2"/>
          <a:stretch/>
        </p:blipFill>
        <p:spPr>
          <a:xfrm>
            <a:off x="971640" y="2924280"/>
            <a:ext cx="34560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ечать листье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5" descr="86008543"/>
          <p:cNvPicPr/>
          <p:nvPr/>
        </p:nvPicPr>
        <p:blipFill>
          <a:blip r:embed="rId1"/>
          <a:stretch/>
        </p:blipFill>
        <p:spPr>
          <a:xfrm>
            <a:off x="539640" y="1197000"/>
            <a:ext cx="371628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26878711"/>
          <p:cNvPicPr/>
          <p:nvPr/>
        </p:nvPicPr>
        <p:blipFill>
          <a:blip r:embed="rId2"/>
          <a:stretch/>
        </p:blipFill>
        <p:spPr>
          <a:xfrm>
            <a:off x="4572000" y="2133720"/>
            <a:ext cx="4427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Штампы из свежих овощ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обходимые материалы и, инструменты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умага для рисования, краски, ножик овощи или фрукты:   грибочки, сладкий перец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рядок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ьзуем разрезанные вдоль или поперек   овощи. С маленькими детьми лучше использовать всю поверхность разрезанного плода. Выпуклая часть штампика смазывается краской и оставляет отпечаток на бумаг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684360" y="3645000"/>
            <a:ext cx="2016000" cy="1730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3492360" y="3789360"/>
            <a:ext cx="4969080" cy="1581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684360" y="5392800"/>
            <a:ext cx="1958760" cy="1465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3492360" y="5351400"/>
            <a:ext cx="504036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тпечатанная пицц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ые материалы и инструмен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Бежевая бумага(затонированная чаем), краски и свежие овощ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Порядок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режьте круг из бумаги - основу пицц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Разрежьте с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кий перец пополам, намажьте краской срез (мы использовали гуашь) и отпечатайт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роделайте то же самое с гриб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5435640" y="3532320"/>
            <a:ext cx="33494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тпечатанная пицц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967200" cy="2182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6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35560" cy="2425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9" descr=""/>
          <p:cNvPicPr/>
          <p:nvPr/>
        </p:nvPicPr>
        <p:blipFill>
          <a:blip r:embed="rId3"/>
          <a:stretch/>
        </p:blipFill>
        <p:spPr>
          <a:xfrm>
            <a:off x="2556000" y="4005360"/>
            <a:ext cx="37544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14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главное то, что нетрадиционное рисование играет важную роль в общем психическом развитии ребенка. Ведь самоценным является не конечный продукт – рисунок, а развитие личности: формирование уверенности в себе, в своих способностях, самоидентификация в творческой работе, целенаправленность деятель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вообще рисовать можно везде и чем угодно: печатать разными предметами, создавать композиции свечкой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убной щеткой, руками, пальцами, помадой, ступнями... Дерзайте, фантазируйте! И к вам придет радость - радость творчест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preview"/>
          <p:cNvPicPr/>
          <p:nvPr/>
        </p:nvPicPr>
        <p:blipFill>
          <a:blip r:embed="rId1"/>
          <a:stretch/>
        </p:blipFill>
        <p:spPr>
          <a:xfrm>
            <a:off x="3276720" y="4761000"/>
            <a:ext cx="25923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не ограничивать возможности малышей в выражении впечатлений от окружающего мира, недостаточно традиционного набора изобразительных средств и материалов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этому, нетрадиционные материалы и средства изображения: пробки от пластиковых бутылок, от тюбиков крема, зубной пасты; листья деревьев, цветов, травы; ягель; целлофан; овощные штампы и печати; соломка; пористые губки любопытны детям как игра с неизвестным. Это и занимает их, и вовлекает в творческий процесс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9" descr="рис4"/>
          <p:cNvPicPr/>
          <p:nvPr/>
        </p:nvPicPr>
        <p:blipFill>
          <a:blip r:embed="rId1"/>
          <a:stretch/>
        </p:blipFill>
        <p:spPr>
          <a:xfrm>
            <a:off x="5940360" y="3860640"/>
            <a:ext cx="237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62" descr=""/>
          <p:cNvPicPr/>
          <p:nvPr/>
        </p:nvPicPr>
        <p:blipFill>
          <a:blip r:embed="rId2"/>
          <a:stretch/>
        </p:blipFill>
        <p:spPr>
          <a:xfrm>
            <a:off x="1187280" y="3973680"/>
            <a:ext cx="26020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807084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обходимые материалы и инструмент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мага для рисования, краски, пластиковые тарелоч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рядок работ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адошкой можно мазать, рисовать и печатать любые абстракции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слаждаясь цветом или создавать сюжетные картины. По-разному поворачивая ручки, и дорисовывая к отпечаткам недостающие элементы, можно воплотить любые задумки. Например, отпечатав сомкнутую ладошку можно получить силуэт рыбки. Останется только дорисо­вать ей пальчиками глазик, плав­ники и хвост. Рядом с рыбкой можно отпечатать пальчиками камушки и провести волнистые линии, изображая водоросли. Ладошка, с разведенными паль­чиками, смотрящими вниз, позволит увидеть в рисунке осьми­нога, если дорисовать ему глазки и роти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омощью отпечатков ладошек, сделанных по кругу, можно изобразить солнышко и цветок, дорисовав сердцевину, по полукругу - ежика и опушку из травы.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исование ладошками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SL741078"/>
          <p:cNvPicPr/>
          <p:nvPr/>
        </p:nvPicPr>
        <p:blipFill>
          <a:blip r:embed="rId1"/>
          <a:stretch/>
        </p:blipFill>
        <p:spPr>
          <a:xfrm>
            <a:off x="3059280" y="4869000"/>
            <a:ext cx="352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исование ладошкам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SL741065"/>
          <p:cNvPicPr/>
          <p:nvPr/>
        </p:nvPicPr>
        <p:blipFill>
          <a:blip r:embed="rId1"/>
          <a:stretch/>
        </p:blipFill>
        <p:spPr>
          <a:xfrm>
            <a:off x="468360" y="2781360"/>
            <a:ext cx="4174920" cy="31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L741071"/>
          <p:cNvPicPr/>
          <p:nvPr/>
        </p:nvPicPr>
        <p:blipFill>
          <a:blip r:embed="rId2"/>
          <a:stretch/>
        </p:blipFill>
        <p:spPr>
          <a:xfrm>
            <a:off x="4788000" y="14842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исование пальчика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ые материалы и инструмен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умага для рисования, баночки с красками, полотенц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ядок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бенок поверхностно помещает пальчик в баночку с краской. Затем взрослый демонстрирует на бумаге приемы рисования пальчиком: ставит точки, проводит линии и мазки. Затем предлагается ребенку выполнить аналогичные или наиболее понравившиеся приемы. На первых порах допускается и даже рекомендуется, чтобы взрослый помог ребенку освоить данные приемы, держа его руку в своей рук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замене цвета необходимо промыть пальчике в миске с водой и вытереть заранее приготовленным полотенц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88"/>
          <p:cNvPicPr/>
          <p:nvPr/>
        </p:nvPicPr>
        <p:blipFill>
          <a:blip r:embed="rId1"/>
          <a:stretch/>
        </p:blipFill>
        <p:spPr>
          <a:xfrm>
            <a:off x="755640" y="4454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133026370170235395_preview"/>
          <p:cNvPicPr/>
          <p:nvPr/>
        </p:nvPicPr>
        <p:blipFill>
          <a:blip r:embed="rId2"/>
          <a:stretch/>
        </p:blipFill>
        <p:spPr>
          <a:xfrm>
            <a:off x="4932360" y="4508640"/>
            <a:ext cx="32400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исование пальчикам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4" descr="SL741069"/>
          <p:cNvPicPr/>
          <p:nvPr/>
        </p:nvPicPr>
        <p:blipFill>
          <a:blip r:embed="rId1"/>
          <a:stretch/>
        </p:blipFill>
        <p:spPr>
          <a:xfrm>
            <a:off x="971640" y="2060640"/>
            <a:ext cx="3618000" cy="388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4276370ecb173a52ae10ba070a48c23f"/>
          <p:cNvPicPr/>
          <p:nvPr/>
        </p:nvPicPr>
        <p:blipFill>
          <a:blip r:embed="rId2"/>
          <a:stretch/>
        </p:blipFill>
        <p:spPr>
          <a:xfrm>
            <a:off x="4932360" y="1484280"/>
            <a:ext cx="3311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исование ватными палочка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9311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ые материалы и инструмен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овина альбомного листа, обыкновенный карандаш, ватные палочки и крас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ядок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старайтесь сделать так, чтобы рисунок получился крупным. Это может быть контур бабочки или какого-нибудь легко узнаваемого предмет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тем мы берем ватную палочку, окунаем ее кончик в краску и точками обрисовываем контур предмета. Не делайте всю работу сами, а лишь покажите направление действий. Ребенок сам должен закончить контур рисунка, а затем перейти к рисованию такой же техникой различных узоров на крыльях бабочки. Это могут быть цветные полоски, просто пятна или же геометрические фигуры. Главное вовремя давать ребенку палочки с другими цвета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чками можно рисовать любые предметы, но лучше остановиться на изображении животных, так как они более интересны малыша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исование ватными палочка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4" descr="SL741063"/>
          <p:cNvPicPr/>
          <p:nvPr/>
        </p:nvPicPr>
        <p:blipFill>
          <a:blip r:embed="rId1"/>
          <a:stretch/>
        </p:blipFill>
        <p:spPr>
          <a:xfrm>
            <a:off x="324000" y="1268280"/>
            <a:ext cx="4068720" cy="305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L741067"/>
          <p:cNvPicPr/>
          <p:nvPr/>
        </p:nvPicPr>
        <p:blipFill>
          <a:blip r:embed="rId2"/>
          <a:stretch/>
        </p:blipFill>
        <p:spPr>
          <a:xfrm>
            <a:off x="4859280" y="1628640"/>
            <a:ext cx="3925800" cy="29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2321_0108"/>
          <p:cNvPicPr/>
          <p:nvPr/>
        </p:nvPicPr>
        <p:blipFill>
          <a:blip r:embed="rId3"/>
          <a:stretch/>
        </p:blipFill>
        <p:spPr>
          <a:xfrm>
            <a:off x="3203640" y="4005360"/>
            <a:ext cx="23810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ечать листьев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ые материалы и инструмен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умага, листья разных деревьев (желательно опавшие), гуашь, ки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ядок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ьмите любой понравившейся листик. И на отдельном листе бумаге хорошо прокрасьте его гуашь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пр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омощи кисточки. Старайтесь не оставлять пустых мест и не прокрашенных кра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ожите листик окрашенной стороной вниз на чистый лист бумаги. Расположите листок черенком вниз и плотно прижмите к бумаге, стараясь его не двигать, иначе изображение получится смазанны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ккуратно взять листок за черенок и плавным движением вверх постепенно отклеить его с альбомного лис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ледующие листочки можно покрасить в другие цвета, а можно один листик сделать двухцветным. Отпечатайте их в других местах композиции. Можно взять уже использованный листик и покрасить его в другой цвет, тогда при смешении разных красок может получиться необычный оттено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гда рисунок заполнится отпечатками листиков, кистью дорисовать стволы деревьев, отпечатавшиеся прожилки листиков будут напоминать веточки в цветной кро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10:34:27Z</dcterms:created>
  <dc:creator>Sumsung</dc:creator>
  <dc:description/>
  <dc:language>en-US</dc:language>
  <cp:lastModifiedBy>Александр</cp:lastModifiedBy>
  <dcterms:modified xsi:type="dcterms:W3CDTF">2022-02-14T09:27:15Z</dcterms:modified>
  <cp:revision>18</cp:revision>
  <dc:subject/>
  <dc:title>Использование приемов нетрадиционного рисования в детском саду</dc:title>
</cp:coreProperties>
</file>