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724C-78E5-4044-8652-8399B29E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C041-F866-4101-87A2-B92CE27E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137A-B69A-4E22-ACD4-E026163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01B6-CBEB-4162-A231-7F7A5694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A0C-C82B-4970-B9BE-DD222E20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F09-665C-4DFA-8461-BC69CB28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08D-A7C3-43E8-A623-E022B568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532-8247-49C4-80A5-3A8CB9C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84F-1E32-4813-9429-B7F73A9C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DDE-8771-4AAA-A4F6-665A5FE3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E7D8-A01D-42A0-B7D4-92A2156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E18F-F39C-4FE1-91F1-5BF3A16A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D47B-A9B5-4349-82E2-2D00062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FF32-EAA4-47D2-B787-39334FF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7A3-D251-45A5-BAB5-C727126C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776-6D6D-4A6A-B276-3B48FDB2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130-58E2-4132-8BB7-226AE67B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40BA-6D58-4367-B895-935C4118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9BB4-DE78-4206-A0BB-C543B4D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3382-8C8C-4FF4-9993-E45CD4A9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F43D-230A-42F4-9076-AEEC72F0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AC89-1854-49E0-BDE5-00ECCB9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57E5-7EB6-424A-9653-003C9EF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861C-D75A-46E8-B22F-E60978D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D10C-626B-4475-9DD4-CB2000051F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281-35BF-4296-86DE-B58B2227A2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Monotype Corsiva"/>
              </a:rPr>
              <a:t>Использование приемов нетрадиционного рисования в детском саду и дома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5440320"/>
            <a:ext cx="46800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осова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питател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БДОУ ЗАТО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. Североморск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\с №16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171_0358"/>
          <p:cNvPicPr/>
          <p:nvPr/>
        </p:nvPicPr>
        <p:blipFill>
          <a:blip r:embed="rId1"/>
          <a:stretch/>
        </p:blipFill>
        <p:spPr>
          <a:xfrm>
            <a:off x="5867280" y="2637000"/>
            <a:ext cx="2332080" cy="31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painting"/>
          <p:cNvPicPr/>
          <p:nvPr/>
        </p:nvPicPr>
        <p:blipFill>
          <a:blip r:embed="rId2"/>
          <a:stretch/>
        </p:blipFill>
        <p:spPr>
          <a:xfrm>
            <a:off x="971640" y="2924280"/>
            <a:ext cx="345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ечать листь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86008543"/>
          <p:cNvPicPr/>
          <p:nvPr/>
        </p:nvPicPr>
        <p:blipFill>
          <a:blip r:embed="rId1"/>
          <a:stretch/>
        </p:blipFill>
        <p:spPr>
          <a:xfrm>
            <a:off x="539640" y="1197000"/>
            <a:ext cx="37162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6878711"/>
          <p:cNvPicPr/>
          <p:nvPr/>
        </p:nvPicPr>
        <p:blipFill>
          <a:blip r:embed="rId2"/>
          <a:stretch/>
        </p:blipFill>
        <p:spPr>
          <a:xfrm>
            <a:off x="4572000" y="2133720"/>
            <a:ext cx="4427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тампы из свежих овощ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ые материалы и, инструменты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мага для рисования, краски, ножик овощи или фрукты:   грибочки, сладкий пере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уем разрезанные вдоль или поперек   овощи. С маленькими детьми лучше использовать всю поверхность разрезанного плода. Выпуклая часть штампика смазывается краской и оставляет отпечаток на бумаг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2016000" cy="173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4969080" cy="1581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684360" y="5392800"/>
            <a:ext cx="1958760" cy="1465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3492360" y="5351400"/>
            <a:ext cx="50403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печатанная пицц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Бежевая бумага(затонированная чаем), краски и свежие овощ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ежьте круг из бумаги - основу пицц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Разрежьте с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кий перец пополам, намажьте краской срез (мы использовали гуашь) и отпечатайт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роделайте то же самое с гриб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3494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печатанная пицц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96720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6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35560" cy="2425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9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3754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3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4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главное то, что нетрадиционное рисование играет важную роль в общем психическом развитии ребенка. Ведь самоценным является не конечный продукт – рисунок, а развитие личности: формирование уверенности в себе, в своих способностях, самоидентификация в творческой работе, целенаправленность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вообще рисовать можно везде и чем угодно: печатать разными предметами, создавать композиции свечкой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ной щеткой, руками, пальцами, помадой, ступнями... Дерзайте, фантазируйте! И к вам придет радость - радость творчес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preview"/>
          <p:cNvPicPr/>
          <p:nvPr/>
        </p:nvPicPr>
        <p:blipFill>
          <a:blip r:embed="rId1"/>
          <a:stretch/>
        </p:blipFill>
        <p:spPr>
          <a:xfrm>
            <a:off x="3276720" y="4761000"/>
            <a:ext cx="25923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886e0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не ограничивать возможности малышей в выражении впечатлений от окружающего мира, недостаточно традиционного набора изобразительных средств и материа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тому, нетрадиционные материалы и средства изображения: пробки от пластиковых бутылок, от тюбиков крема, зубной пасты; листья деревьев, цветов, травы; ягель; целлофан; овощные штампы и печати; соломка; пористые губки любопытны детям как игра с неизвестным. Это и занимает их, и вовлекает в творческий процесс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9" descr="рис4"/>
          <p:cNvPicPr/>
          <p:nvPr/>
        </p:nvPicPr>
        <p:blipFill>
          <a:blip r:embed="rId1"/>
          <a:stretch/>
        </p:blipFill>
        <p:spPr>
          <a:xfrm>
            <a:off x="5940360" y="386064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62" descr=""/>
          <p:cNvPicPr/>
          <p:nvPr/>
        </p:nvPicPr>
        <p:blipFill>
          <a:blip r:embed="rId2"/>
          <a:stretch/>
        </p:blipFill>
        <p:spPr>
          <a:xfrm>
            <a:off x="1187280" y="3973680"/>
            <a:ext cx="2602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80708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обходимые материалы и инструмен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мага для рисования, краски, пластиковые тарелоч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рядок рабо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адошкой можно мазать, рисовать и печатать любые абстракции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слаждаясь цветом или создавать сюжетные картины. По-разному поворачивая ручки, и дорисовывая к отпечаткам недостающие элементы, можно воплотить любые задумки. Например, отпечатав сомкнутую ладошку можно получить силуэт рыбки. Останется только дорисо­вать ей пальчиками глазик, плав­ники и хвост. Рядом с рыбкой можно отпечатать пальчиками камушки и провести волнистые линии, изображая водоросли. Ладошка, с разведенными паль­чиками, смотрящими вниз, позволит увидеть в рисунке осьми­нога, если дорисовать ему глазки и рот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омощью отпечатков ладошек, сделанных по кругу, можно изобразить солнышко и цветок, дорисовав сердцевину, по полукругу - ежика и опушку из травы.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ладошкам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SL741078"/>
          <p:cNvPicPr/>
          <p:nvPr/>
        </p:nvPicPr>
        <p:blipFill>
          <a:blip r:embed="rId1"/>
          <a:stretch/>
        </p:blipFill>
        <p:spPr>
          <a:xfrm>
            <a:off x="3059280" y="4869000"/>
            <a:ext cx="352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ладошка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SL741065"/>
          <p:cNvPicPr/>
          <p:nvPr/>
        </p:nvPicPr>
        <p:blipFill>
          <a:blip r:embed="rId1"/>
          <a:stretch/>
        </p:blipFill>
        <p:spPr>
          <a:xfrm>
            <a:off x="468360" y="278136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L741071"/>
          <p:cNvPicPr/>
          <p:nvPr/>
        </p:nvPicPr>
        <p:blipFill>
          <a:blip r:embed="rId2"/>
          <a:stretch/>
        </p:blipFill>
        <p:spPr>
          <a:xfrm>
            <a:off x="4788000" y="1484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пальчи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мага для рисования, баночки с красками, полотенц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бенок поверхностно помещает пальчик в баночку с краской. Затем взрослый демонстрирует на бумаге приемы рисования пальчиком: ставит точки, проводит линии и мазки. Затем предлагается ребенку выполнить аналогичные или наиболее понравившиеся приемы. На первых порах допускается и даже рекомендуется, чтобы взрослый помог ребенку освоить данные приемы, держа его руку в своей рук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замене цвета необходимо промыть пальчике в миске с водой и вытереть заранее приготовленным полотенц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88"/>
          <p:cNvPicPr/>
          <p:nvPr/>
        </p:nvPicPr>
        <p:blipFill>
          <a:blip r:embed="rId1"/>
          <a:stretch/>
        </p:blipFill>
        <p:spPr>
          <a:xfrm>
            <a:off x="755640" y="4454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133026370170235395_preview"/>
          <p:cNvPicPr/>
          <p:nvPr/>
        </p:nvPicPr>
        <p:blipFill>
          <a:blip r:embed="rId2"/>
          <a:stretch/>
        </p:blipFill>
        <p:spPr>
          <a:xfrm>
            <a:off x="4932360" y="4508640"/>
            <a:ext cx="3240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исование пальчикам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SL741069"/>
          <p:cNvPicPr/>
          <p:nvPr/>
        </p:nvPicPr>
        <p:blipFill>
          <a:blip r:embed="rId1"/>
          <a:stretch/>
        </p:blipFill>
        <p:spPr>
          <a:xfrm>
            <a:off x="971640" y="2060640"/>
            <a:ext cx="3618000" cy="388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4276370ecb173a52ae10ba070a48c23f"/>
          <p:cNvPicPr/>
          <p:nvPr/>
        </p:nvPicPr>
        <p:blipFill>
          <a:blip r:embed="rId2"/>
          <a:stretch/>
        </p:blipFill>
        <p:spPr>
          <a:xfrm>
            <a:off x="4932360" y="1484280"/>
            <a:ext cx="3311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ватными палоч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9311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овина альбомного листа, обыкновенный карандаш, ватные палочки и кра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тарайтесь сделать так, чтобы рисунок получился крупным. Это может быть контур бабочки или какого-нибудь легко узнаваемого предмет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тем мы берем ватную палочку, окунаем ее кончик в краску и точками обрисовываем контур предмета. Не делайте всю работу сами, а лишь покажите направление действий. Ребенок сам должен закончить контур рисунка, а затем перейти к рисованию такой же техникой различных узоров на крыльях бабочки. Это могут быть цветные полоски, просто пятна или же геометрические фигуры. Главное вовремя давать ребенку палочки с другими цвет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чками можно рисовать любые предметы, но лучше остановиться на изображении животных, так как они более интересны малыш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ование ватными палочк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SL741063"/>
          <p:cNvPicPr/>
          <p:nvPr/>
        </p:nvPicPr>
        <p:blipFill>
          <a:blip r:embed="rId1"/>
          <a:stretch/>
        </p:blipFill>
        <p:spPr>
          <a:xfrm>
            <a:off x="324000" y="1268280"/>
            <a:ext cx="4068720" cy="305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L741067"/>
          <p:cNvPicPr/>
          <p:nvPr/>
        </p:nvPicPr>
        <p:blipFill>
          <a:blip r:embed="rId2"/>
          <a:stretch/>
        </p:blipFill>
        <p:spPr>
          <a:xfrm>
            <a:off x="4859280" y="1628640"/>
            <a:ext cx="3925800" cy="29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2321_0108"/>
          <p:cNvPicPr/>
          <p:nvPr/>
        </p:nvPicPr>
        <p:blipFill>
          <a:blip r:embed="rId3"/>
          <a:stretch/>
        </p:blipFill>
        <p:spPr>
          <a:xfrm>
            <a:off x="3203640" y="4005360"/>
            <a:ext cx="2381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ечать листьев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ые материалы и инструмен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умага, листья разных деревьев (желательно опавшие), гуашь, ки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ядок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ьмите любой понравившейся листик. И на отдельном листе бумаге хорошо прокрасьте его гуашью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пр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мощи кисточки. Старайтесь не оставлять пустых мест и не прокрашенных кра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ожите листик окрашенной стороной вниз на чистый лист бумаги. Расположите листок черенком вниз и плотно прижмите к бумаге, стараясь его не двигать, иначе изображение получится смазанны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ккуратно взять листок за черенок и плавным движением вверх постепенно отклеить его с альбомного лис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ледующие листочки можно покрасить в другие цвета, а можно один листик сделать двухцветным. Отпечатайте их в других местах композиции. Можно взять уже использованный листик и покрасить его в другой цвет, тогда при смешении разных красок может получиться необычный оттен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гда рисунок заполнится отпечатками листиков, кистью дорисовать стволы деревьев, отпечатавшиеся прожилки листиков будут напоминать веточки в цветной кро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0:34:27Z</dcterms:created>
  <dc:creator>Sumsung</dc:creator>
  <dc:description/>
  <dc:language>en-US</dc:language>
  <cp:lastModifiedBy>Александр</cp:lastModifiedBy>
  <dcterms:modified xsi:type="dcterms:W3CDTF">2022-02-14T09:27:15Z</dcterms:modified>
  <cp:revision>18</cp:revision>
  <dc:subject/>
  <dc:title>Использование приемов нетрадиционного рисования в детском саду</dc:title>
</cp:coreProperties>
</file>