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0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7.jpeg" ContentType="image/jpeg"/>
  <Override PartName="/ppt/media/image6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1.jpeg" ContentType="image/jpeg"/>
  <Override PartName="/ppt/media/image15.jpeg" ContentType="image/jpeg"/>
  <Override PartName="/ppt/media/image46.jpeg" ContentType="image/jpeg"/>
  <Override PartName="/ppt/media/image63.jpeg" ContentType="image/jpeg"/>
  <Override PartName="/ppt/media/image60.png" ContentType="image/png"/>
  <Override PartName="/ppt/media/image3.png" ContentType="image/png"/>
  <Override PartName="/ppt/media/image17.jpeg" ContentType="image/jpeg"/>
  <Override PartName="/ppt/media/image59.png" ContentType="image/png"/>
  <Override PartName="/ppt/media/image24.jpeg" ContentType="image/jpeg"/>
  <Override PartName="/ppt/media/image51.jpeg" ContentType="image/jpeg"/>
  <Override PartName="/ppt/media/image26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62.jpeg" ContentType="image/jpeg"/>
  <Override PartName="/ppt/media/image18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4.jpeg" ContentType="image/jpeg"/>
  <Override PartName="/ppt/media/image36.jpeg" ContentType="image/jpeg"/>
  <Override PartName="/ppt/media/image6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936F-1649-44E2-8D27-B51782A20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B3E-5096-4505-BD46-FA95F0CAB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93D6-E8F3-423D-9D21-4CB238EE2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AB6-8BA3-4C25-A2D2-5BABC9E1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E6B-58B8-44F7-A3B6-D6D860E1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4B9-3C40-4200-8FFB-65C25270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71D-9589-47FE-B412-D9F62A9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C33B-C0A4-4442-8949-FCAD87BB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764E-92C7-47E6-9A60-DBEBD32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CA7-60DF-4DE6-AD0B-03AF4E5E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EAA8-D9DD-4CE2-B8DB-FA563560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631-2619-4085-A3EF-B00ADE0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6831-0C2B-48E9-ADF8-A9235F0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974-AC64-46FB-8D44-1C9DB2D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48F-6138-4CDC-8B86-95A3A047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987-76D9-43FF-B88E-AA83A57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AEC9-D7EB-4D3B-9A66-B84DD4D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A04-35DF-45CD-A305-AFEC0A0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AE73-C23B-4CE9-8F52-6DD2F45B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B60-2058-4127-AE1D-2153BABE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6047-20FD-409F-AF47-7ABE0344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66B6-4802-49D1-956F-0530C1F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58AF-C2D2-451B-81C9-1279E9F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7264-273E-4F73-AC5F-16F43F5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1177-7F06-49FA-8B2D-0FD5495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5CD-B626-4CCC-A364-CA0B91B8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AC22-95F7-4D4B-85BF-EC461C93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22CD-FCAE-4BA1-9C50-AB86FFB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16B4-2157-415E-85A0-C08CF88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FAE5-375E-43BB-80E7-FE300AD5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B3CC-D91F-4C61-ABE5-4919ACA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B1B9-FB1E-4851-A246-4F6E0085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4434-03C0-4B4B-A5B0-37713A65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0BA6-7483-461A-B59D-FB9495DA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0368-A62C-4C81-AC45-32070D4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E688-1E6D-44EF-BD2A-673DD0B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16B-1445-4A58-8860-A378ECBC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7EE9-BF3C-4448-8C05-C9EEC20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889F-AEC9-4B61-BA16-C66065F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D8C2-8BA5-4264-8205-0B4F1B7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3F1B-1F71-463A-BBEF-626841F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B305-D2B3-4C54-B8DF-66D848F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00E5-16E0-4780-8998-7B84008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5688-DCD8-442E-AF0F-5DD832B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C6CF-FC2A-4023-A0B2-20A35128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AD8F-0E06-405A-82F0-511FF3B2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53B5-D658-4AB3-BEFF-63BBBFA7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FB0-151D-42BD-9ADE-AFE5716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ECE7-E5EE-40ED-A321-CFDF982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AF67-D3E1-4F01-AEFA-82C2F36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08C4-6AE0-45CE-98D7-445CE29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8759-A854-4F02-93F8-5D094FB9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51A2-53F4-4CE0-9C14-98DDC1C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D495-085C-40B3-9527-60FE303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71F3-12B4-4C51-84BC-28DE994C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464C-E4CA-4C51-8132-74B56B8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55A11-4285-4D5A-981E-AE69222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BC45-E020-4C17-B7C6-DBB69EA7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4BE-056D-45E7-903E-51523588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C9BA-10AE-43FC-A2D3-5511A921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943-559E-4093-97D0-1C2BA98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228-4EEA-4A00-8EB6-95A197B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9C4-8585-4EF1-9811-80FDD08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0739-740F-4A87-80CC-D28672CC970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D162-3974-43EE-B3DD-D9E93520D02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3F5-B1AD-47F5-9368-4FDB389AE4E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B4F-3F6A-4C73-ABA9-0F02A6E8E67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E242-507A-4549-9417-888F3B62117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4.jpeg"/><Relationship Id="rId9" Type="http://schemas.openxmlformats.org/officeDocument/2006/relationships/image" Target="../media/image32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53.png"/><Relationship Id="rId5" Type="http://schemas.openxmlformats.org/officeDocument/2006/relationships/image" Target="../media/image66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49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Общее родительское собрание</a:t>
            </a:r>
            <a:br>
              <a:rPr sz="4400"/>
            </a:br>
            <a:r>
              <a:rPr b="1" lang="ru-RU" sz="5000" spc="-1" strike="noStrike" u="sng">
                <a:solidFill>
                  <a:srgbClr val="0000ff"/>
                </a:solidFill>
                <a:uFillTx/>
                <a:latin typeface="Calibri"/>
              </a:rPr>
              <a:t>«Современный детский сад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73360"/>
            <a:ext cx="83628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естка собр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Наша школа для ваших детей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ректор  школы-интерната  № 10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дурова Валерия Сергеевна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-дефектолог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егубова Анастасия Валер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Влияние семейных отношений на агрессивное поведение ребенка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дагог-психолог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Лобова Анастасия Никола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зентация « Детский сад – наш общий дом, лечим глазки и растем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аместитель заведующего по УВР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етина Марина Владимиро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тупление «Внесение изменений в нормативно-правовую базу ДОУ»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ведующий ДО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асильева Ольга Никола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353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медсестрой-ортоптистко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Содержимое 6" descr="IMG_2108.JPG"/>
          <p:cNvPicPr/>
          <p:nvPr/>
        </p:nvPicPr>
        <p:blipFill>
          <a:blip r:embed="rId1"/>
          <a:stretch/>
        </p:blipFill>
        <p:spPr>
          <a:xfrm>
            <a:off x="468360" y="328464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81" name="Содержимое 7" descr="IMG_2110.JPG"/>
          <p:cNvPicPr/>
          <p:nvPr/>
        </p:nvPicPr>
        <p:blipFill>
          <a:blip r:embed="rId2"/>
          <a:srcRect l="0" t="0" r="-30" b="14"/>
          <a:stretch/>
        </p:blipFill>
        <p:spPr>
          <a:xfrm>
            <a:off x="3995640" y="836640"/>
            <a:ext cx="2232000" cy="23684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0" descr="IMG_2111.JPG"/>
          <p:cNvPicPr/>
          <p:nvPr/>
        </p:nvPicPr>
        <p:blipFill>
          <a:blip r:embed="rId3"/>
          <a:stretch/>
        </p:blipFill>
        <p:spPr>
          <a:xfrm>
            <a:off x="5724360" y="2492280"/>
            <a:ext cx="3079800" cy="410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4"/>
          <a:stretch/>
        </p:blipFill>
        <p:spPr>
          <a:xfrm>
            <a:off x="3286080" y="4292640"/>
            <a:ext cx="5652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Использование современных технологий лечения с  использованием специализированных компьютерных програм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C:\Users\Добро\Desktop\презентация ясли\фото\лечение\20171213_092441.jpg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Добро\Desktop\презентация ясли\фото\лечение\20171213_092827.jpg"/>
          <p:cNvPicPr/>
          <p:nvPr/>
        </p:nvPicPr>
        <p:blipFill>
          <a:blip r:embed="rId2"/>
          <a:stretch/>
        </p:blipFill>
        <p:spPr>
          <a:xfrm>
            <a:off x="4648320" y="198900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граммы «Паучок», «Крестик» направлены на повышение остроты зрен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Содержимое 6" descr="IMG_2086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7" descr="IMG_2087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ограммы «Тир», «Паучок» направлены на тренировку глазодвигательных мышц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одержимое 8" descr="IMG_2097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92" name="Содержимое 9" descr="IMG_2099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енировки проводятся как индивидульно, так и малой группой в игровой форм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Содержимое 6" descr="IMG_2100.JPG"/>
          <p:cNvPicPr/>
          <p:nvPr/>
        </p:nvPicPr>
        <p:blipFill>
          <a:blip r:embed="rId1"/>
          <a:stretch/>
        </p:blipFill>
        <p:spPr>
          <a:xfrm>
            <a:off x="961920" y="1989000"/>
            <a:ext cx="3125880" cy="4168800"/>
          </a:xfrm>
          <a:prstGeom prst="rect">
            <a:avLst/>
          </a:prstGeom>
          <a:ln w="0">
            <a:noFill/>
          </a:ln>
        </p:spPr>
      </p:pic>
      <p:pic>
        <p:nvPicPr>
          <p:cNvPr id="295" name="Содержимое 7" descr="IMG_2103.JPG"/>
          <p:cNvPicPr/>
          <p:nvPr/>
        </p:nvPicPr>
        <p:blipFill>
          <a:blip r:embed="rId2"/>
          <a:stretch/>
        </p:blipFill>
        <p:spPr>
          <a:xfrm>
            <a:off x="4648320" y="2624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оведение сенсорных упражнений с мозаикой, конструктором, шнуровко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2" descr="C:\Users\Добро\Desktop\презентация ясли\фото\ПУТЯТИНА\20171214_100234.jpg"/>
          <p:cNvPicPr/>
          <p:nvPr/>
        </p:nvPicPr>
        <p:blipFill>
          <a:blip r:embed="rId1"/>
          <a:stretch/>
        </p:blipFill>
        <p:spPr>
          <a:xfrm>
            <a:off x="4500720" y="3500280"/>
            <a:ext cx="4032000" cy="295308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5" descr="DSC_0087.JPG"/>
          <p:cNvPicPr/>
          <p:nvPr/>
        </p:nvPicPr>
        <p:blipFill>
          <a:blip r:embed="rId2"/>
          <a:stretch/>
        </p:blipFill>
        <p:spPr>
          <a:xfrm>
            <a:off x="611280" y="1922400"/>
            <a:ext cx="3097080" cy="4645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608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ррекционно-педагогическое направление: ежедневная роль воспитателя  в коррекции зрительных нарушений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Соблюдение зрительного режима в течении дня с учетом зрительных нагруз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Контроль за выполнением назначений врача-офтальмолога (окклюзии, очк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Использование здоровьесберегающих технологий: дыхательные, зрительные , пальчиковая гимнастики, игровой самомассаж, закаливание, физкультминутки, использование видеотренажеров и видеоазиму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рганизация специальных коррекционных мероприятий, необходимых на определённом этапе л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Просвещение родителей по процессу коррекции зрительных нарушений у детей группы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1480" indent="-501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начение зрительной гимнастики:</a:t>
            </a:r>
            <a:br>
              <a:rPr sz="28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Тренируют мышцы, управляющие движениями глаз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изируют кровоснабжение глаз и способствуют поступлению в ткани глаз достаточного количества кислорода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Хорошо снимают умственное  и зрительное утомление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3683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Содержимое 7" descr="DSC_0122.JPG"/>
          <p:cNvPicPr/>
          <p:nvPr/>
        </p:nvPicPr>
        <p:blipFill>
          <a:blip r:embed="rId1"/>
          <a:stretch/>
        </p:blipFill>
        <p:spPr>
          <a:xfrm>
            <a:off x="4067280" y="1557360"/>
            <a:ext cx="4867200" cy="3243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684360" y="5008680"/>
            <a:ext cx="502920" cy="47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2268360" y="4821120"/>
            <a:ext cx="506520" cy="47952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"/>
          <p:cNvGrpSpPr/>
          <p:nvPr/>
        </p:nvGrpSpPr>
        <p:grpSpPr>
          <a:xfrm>
            <a:off x="5073480" y="3211560"/>
            <a:ext cx="2341800" cy="465120"/>
            <a:chOff x="5073480" y="3211560"/>
            <a:chExt cx="2341800" cy="465120"/>
          </a:xfrm>
        </p:grpSpPr>
        <p:pic>
          <p:nvPicPr>
            <p:cNvPr id="308" name="Picture 5" descr=""/>
            <p:cNvPicPr/>
            <p:nvPr/>
          </p:nvPicPr>
          <p:blipFill>
            <a:blip r:embed="rId4"/>
            <a:stretch/>
          </p:blipFill>
          <p:spPr>
            <a:xfrm>
              <a:off x="5073480" y="32853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"/>
            <p:cNvPicPr/>
            <p:nvPr/>
          </p:nvPicPr>
          <p:blipFill>
            <a:blip r:embed="rId5"/>
            <a:stretch/>
          </p:blipFill>
          <p:spPr>
            <a:xfrm>
              <a:off x="5491080" y="32115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" descr=""/>
            <p:cNvPicPr/>
            <p:nvPr/>
          </p:nvPicPr>
          <p:blipFill>
            <a:blip r:embed="rId6"/>
            <a:stretch/>
          </p:blipFill>
          <p:spPr>
            <a:xfrm>
              <a:off x="6588000" y="322956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" descr=""/>
            <p:cNvPicPr/>
            <p:nvPr/>
          </p:nvPicPr>
          <p:blipFill>
            <a:blip r:embed="rId7"/>
            <a:stretch/>
          </p:blipFill>
          <p:spPr>
            <a:xfrm>
              <a:off x="7001640" y="321156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Группа 3"/>
          <p:cNvGrpSpPr/>
          <p:nvPr/>
        </p:nvGrpSpPr>
        <p:grpSpPr>
          <a:xfrm>
            <a:off x="468360" y="4311720"/>
            <a:ext cx="4613400" cy="2212920"/>
            <a:chOff x="468360" y="4311720"/>
            <a:chExt cx="4613400" cy="2212920"/>
          </a:xfrm>
        </p:grpSpPr>
        <p:pic>
          <p:nvPicPr>
            <p:cNvPr id="313" name="Рисунок 8" descr="DSC_0125.JPG"/>
            <p:cNvPicPr/>
            <p:nvPr/>
          </p:nvPicPr>
          <p:blipFill>
            <a:blip r:embed="rId8"/>
            <a:stretch/>
          </p:blipFill>
          <p:spPr>
            <a:xfrm>
              <a:off x="468360" y="4311720"/>
              <a:ext cx="4613400" cy="22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Группа 2"/>
            <p:cNvGrpSpPr/>
            <p:nvPr/>
          </p:nvGrpSpPr>
          <p:grpSpPr>
            <a:xfrm>
              <a:off x="685440" y="4840920"/>
              <a:ext cx="4030560" cy="771480"/>
              <a:chOff x="685440" y="4840920"/>
              <a:chExt cx="4030560" cy="771480"/>
            </a:xfrm>
          </p:grpSpPr>
          <p:pic>
            <p:nvPicPr>
              <p:cNvPr id="315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3348000" y="5027040"/>
                <a:ext cx="504000" cy="4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6480" y="5073840"/>
                <a:ext cx="569520" cy="53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40" y="5027040"/>
                <a:ext cx="504000" cy="4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5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69800" y="4840920"/>
                <a:ext cx="507240" cy="47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начение зрительной гимнастики:</a:t>
            </a:r>
            <a:br>
              <a:rPr sz="28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Тренируют мышцы, управляющие движениями глаз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Активизируют кровоснабжение глаз и способствуют поступлению в ткани глаз достаточного количества кислорода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Хорошо снимают умственное утомление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3683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5" descr="C:\Users\Добро\Desktop\презентация ясли\фото\лечение\20171213_093832.jpg"/>
          <p:cNvPicPr/>
          <p:nvPr/>
        </p:nvPicPr>
        <p:blipFill>
          <a:blip r:embed="rId1"/>
          <a:stretch/>
        </p:blipFill>
        <p:spPr>
          <a:xfrm>
            <a:off x="395280" y="2484360"/>
            <a:ext cx="3745080" cy="361656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6" descr="DSC_0093.JPG"/>
          <p:cNvPicPr/>
          <p:nvPr/>
        </p:nvPicPr>
        <p:blipFill>
          <a:blip r:embed="rId2"/>
          <a:stretch/>
        </p:blipFill>
        <p:spPr>
          <a:xfrm>
            <a:off x="5364000" y="1413000"/>
            <a:ext cx="3354480" cy="5032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1854360" y="4869000"/>
            <a:ext cx="414000" cy="392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4"/>
          <a:stretch/>
        </p:blipFill>
        <p:spPr>
          <a:xfrm>
            <a:off x="2195640" y="3154320"/>
            <a:ext cx="414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еотренажеры, видеоазимуты для демонстрации траектории  движения глаз для снятия зрительного напряжения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2" descr="C:\Users\Добро\Desktop\презентация ясли\фото\лечение\20171213_093702.jpg"/>
          <p:cNvPicPr/>
          <p:nvPr/>
        </p:nvPicPr>
        <p:blipFill>
          <a:blip r:embed="rId1"/>
          <a:stretch/>
        </p:blipFill>
        <p:spPr>
          <a:xfrm>
            <a:off x="250920" y="1616040"/>
            <a:ext cx="3673440" cy="462132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6" descr="DSC_0102.JPG"/>
          <p:cNvPicPr/>
          <p:nvPr/>
        </p:nvPicPr>
        <p:blipFill>
          <a:blip r:embed="rId2"/>
          <a:srcRect l="0" t="0" r="0" b="-29"/>
          <a:stretch/>
        </p:blipFill>
        <p:spPr>
          <a:xfrm>
            <a:off x="5003640" y="1628640"/>
            <a:ext cx="38466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0880" cy="1663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0000ff"/>
              </a:solidFill>
              <a:latin typeface="Constantia"/>
            </a:endParaRPr>
          </a:p>
        </p:txBody>
      </p:sp>
      <p:grpSp>
        <p:nvGrpSpPr>
          <p:cNvPr id="256" name="Группа 1"/>
          <p:cNvGrpSpPr/>
          <p:nvPr/>
        </p:nvGrpSpPr>
        <p:grpSpPr>
          <a:xfrm>
            <a:off x="826920" y="1709640"/>
            <a:ext cx="7634520" cy="4729320"/>
            <a:chOff x="826920" y="1709640"/>
            <a:chExt cx="7634520" cy="4729320"/>
          </a:xfrm>
        </p:grpSpPr>
        <p:pic>
          <p:nvPicPr>
            <p:cNvPr id="257" name="Рисунок 4" descr="DSC_0090.JPG"/>
            <p:cNvPicPr/>
            <p:nvPr/>
          </p:nvPicPr>
          <p:blipFill>
            <a:blip r:embed="rId2"/>
            <a:srcRect l="0" t="0" r="0" b="43"/>
            <a:stretch/>
          </p:blipFill>
          <p:spPr>
            <a:xfrm>
              <a:off x="826920" y="1709640"/>
              <a:ext cx="7634520" cy="47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"/>
            <p:cNvPicPr/>
            <p:nvPr/>
          </p:nvPicPr>
          <p:blipFill>
            <a:blip r:embed="rId3"/>
            <a:stretch/>
          </p:blipFill>
          <p:spPr>
            <a:xfrm>
              <a:off x="4499280" y="360288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"/>
            <p:cNvPicPr/>
            <p:nvPr/>
          </p:nvPicPr>
          <p:blipFill>
            <a:blip r:embed="rId4"/>
            <a:stretch/>
          </p:blipFill>
          <p:spPr>
            <a:xfrm>
              <a:off x="5867640" y="373644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5" descr=""/>
            <p:cNvPicPr/>
            <p:nvPr/>
          </p:nvPicPr>
          <p:blipFill>
            <a:blip r:embed="rId5"/>
            <a:stretch/>
          </p:blipFill>
          <p:spPr>
            <a:xfrm>
              <a:off x="6227640" y="369900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"/>
            <p:cNvPicPr/>
            <p:nvPr/>
          </p:nvPicPr>
          <p:blipFill>
            <a:blip r:embed="rId6"/>
            <a:stretch/>
          </p:blipFill>
          <p:spPr>
            <a:xfrm>
              <a:off x="3347280" y="3587400"/>
              <a:ext cx="41364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7"/>
            <a:stretch/>
          </p:blipFill>
          <p:spPr>
            <a:xfrm>
              <a:off x="2957760" y="2493360"/>
              <a:ext cx="413640" cy="39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еотренажеры, видеоазимуты для демонстрации траектории  движения глаз для снятия зрительного напряжения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Содержимое 7" descr="DSC_0099.JPG"/>
          <p:cNvPicPr/>
          <p:nvPr/>
        </p:nvPicPr>
        <p:blipFill>
          <a:blip r:embed="rId1"/>
          <a:stretch/>
        </p:blipFill>
        <p:spPr>
          <a:xfrm>
            <a:off x="5148360" y="1197000"/>
            <a:ext cx="3527280" cy="51307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8" descr="DSC_0105.JPG"/>
          <p:cNvPicPr/>
          <p:nvPr/>
        </p:nvPicPr>
        <p:blipFill>
          <a:blip r:embed="rId2"/>
          <a:srcRect l="0" t="0" r="0" b="-15"/>
          <a:stretch/>
        </p:blipFill>
        <p:spPr>
          <a:xfrm>
            <a:off x="684360" y="1628640"/>
            <a:ext cx="3722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Содержимое 6" descr="DSC_0106.JPG"/>
          <p:cNvPicPr/>
          <p:nvPr/>
        </p:nvPicPr>
        <p:blipFill>
          <a:blip r:embed="rId1"/>
          <a:stretch/>
        </p:blipFill>
        <p:spPr>
          <a:xfrm>
            <a:off x="6372360" y="2924280"/>
            <a:ext cx="2446200" cy="3671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9" descr="DSC_0109.JPG"/>
          <p:cNvPicPr/>
          <p:nvPr/>
        </p:nvPicPr>
        <p:blipFill>
          <a:blip r:embed="rId2"/>
          <a:srcRect l="0" t="0" r="0" b="-65"/>
          <a:stretch/>
        </p:blipFill>
        <p:spPr>
          <a:xfrm>
            <a:off x="2050920" y="189000"/>
            <a:ext cx="4608720" cy="2592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0" descr="DSC_0108.JPG"/>
          <p:cNvPicPr/>
          <p:nvPr/>
        </p:nvPicPr>
        <p:blipFill>
          <a:blip r:embed="rId3"/>
          <a:srcRect l="0" t="0" r="-29" b="47"/>
          <a:stretch/>
        </p:blipFill>
        <p:spPr>
          <a:xfrm>
            <a:off x="539640" y="2997360"/>
            <a:ext cx="2303640" cy="3563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DSC_0119.JPG"/>
          <p:cNvPicPr/>
          <p:nvPr/>
        </p:nvPicPr>
        <p:blipFill>
          <a:blip r:embed="rId4"/>
          <a:stretch/>
        </p:blipFill>
        <p:spPr>
          <a:xfrm>
            <a:off x="3276720" y="2924280"/>
            <a:ext cx="2735280" cy="3708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Рисунок 9" descr="DSC_0128.JPG"/>
          <p:cNvPicPr/>
          <p:nvPr/>
        </p:nvPicPr>
        <p:blipFill>
          <a:blip r:embed="rId1"/>
          <a:stretch/>
        </p:blipFill>
        <p:spPr>
          <a:xfrm>
            <a:off x="468360" y="1268280"/>
            <a:ext cx="3427200" cy="5141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0974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3898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5" descr="C:\Users\Добро\Desktop\презентация ясли\фото\лечение\20171213_094623.jpg"/>
          <p:cNvPicPr/>
          <p:nvPr/>
        </p:nvPicPr>
        <p:blipFill>
          <a:blip r:embed="rId1"/>
          <a:srcRect l="0" t="0" r="0" b="-24"/>
          <a:stretch/>
        </p:blipFill>
        <p:spPr>
          <a:xfrm>
            <a:off x="971640" y="2421000"/>
            <a:ext cx="3095640" cy="424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11280" y="161640"/>
            <a:ext cx="8424720" cy="25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Дыхательная гимнастика</a:t>
            </a:r>
            <a:r>
              <a:rPr b="0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 оказывает положительное воздействие на организм ребенка: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  <a:ea typeface="Times New Roman"/>
              </a:rPr>
              <a:t> • положительно влияет на обменные процессы, играющие важную роль в кровоснабжении;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  <a:ea typeface="Times New Roman"/>
              </a:rPr>
              <a:t>• повышает общую сопротивляемость организма, его тонус, способствует восстановлению нарушенных в ходе болезни нервных регуляций со стороны центральной нервной системы. </a:t>
            </a:r>
            <a:br>
              <a:rPr sz="32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Содержимое 6" descr="DSC_0097.JPG"/>
          <p:cNvPicPr/>
          <p:nvPr/>
        </p:nvPicPr>
        <p:blipFill>
          <a:blip r:embed="rId2"/>
          <a:stretch/>
        </p:blipFill>
        <p:spPr>
          <a:xfrm>
            <a:off x="5076720" y="2095560"/>
            <a:ext cx="3048120" cy="4573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4"/>
          <a:stretch/>
        </p:blipFill>
        <p:spPr>
          <a:xfrm>
            <a:off x="2411280" y="2965320"/>
            <a:ext cx="4143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4617b"/>
                </a:solidFill>
                <a:latin typeface="Calibri"/>
              </a:rPr>
              <a:t>Игровой массаж обладает не только лечебным действием, проводить его можно и с профилактической и гигиенической целью. </a:t>
            </a:r>
            <a:br>
              <a:rPr sz="1200"/>
            </a:b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Игровой массаж обеспечивает сенсорное развитие самых маленьких. Дети воспринимают интонации голоса, содержание текста, музыкальные тембры и шумы, темп и ритмы музыки и др. Малыши также оценивают холод и тепло, силу давления, характер прикосновения, направление движения, гладкость или шершавость материала и др. </a:t>
            </a:r>
            <a:endParaRPr b="0" lang="en-US" sz="1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Содержимое 7" descr="DSC_0116.JPG"/>
          <p:cNvPicPr/>
          <p:nvPr/>
        </p:nvPicPr>
        <p:blipFill>
          <a:blip r:embed="rId1"/>
          <a:stretch/>
        </p:blipFill>
        <p:spPr>
          <a:xfrm>
            <a:off x="395280" y="2349360"/>
            <a:ext cx="5508720" cy="3672000"/>
          </a:xfrm>
          <a:prstGeom prst="rect">
            <a:avLst/>
          </a:prstGeom>
          <a:ln w="0">
            <a:noFill/>
          </a:ln>
        </p:spPr>
      </p:pic>
      <p:grpSp>
        <p:nvGrpSpPr>
          <p:cNvPr id="352" name="Группа 1"/>
          <p:cNvGrpSpPr/>
          <p:nvPr/>
        </p:nvGrpSpPr>
        <p:grpSpPr>
          <a:xfrm>
            <a:off x="6084720" y="1628640"/>
            <a:ext cx="2784600" cy="4437360"/>
            <a:chOff x="6084720" y="1628640"/>
            <a:chExt cx="2784600" cy="4437360"/>
          </a:xfrm>
        </p:grpSpPr>
        <p:pic>
          <p:nvPicPr>
            <p:cNvPr id="353" name="Picture 7" descr="C:\Users\Добро\Desktop\щас\мм\IMG_5186.JPG"/>
            <p:cNvPicPr/>
            <p:nvPr/>
          </p:nvPicPr>
          <p:blipFill>
            <a:blip r:embed="rId2"/>
            <a:stretch/>
          </p:blipFill>
          <p:spPr>
            <a:xfrm>
              <a:off x="6084720" y="1628640"/>
              <a:ext cx="2784600" cy="44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"/>
            <p:cNvPicPr/>
            <p:nvPr/>
          </p:nvPicPr>
          <p:blipFill>
            <a:blip r:embed="rId3"/>
            <a:stretch/>
          </p:blipFill>
          <p:spPr>
            <a:xfrm>
              <a:off x="7020000" y="2564640"/>
              <a:ext cx="685440" cy="6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>
            <a:off x="1187280" y="358632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5"/>
          <a:stretch/>
        </p:blipFill>
        <p:spPr>
          <a:xfrm>
            <a:off x="797040" y="3992400"/>
            <a:ext cx="414360" cy="392400"/>
          </a:xfrm>
          <a:prstGeom prst="rect">
            <a:avLst/>
          </a:prstGeom>
          <a:ln w="0">
            <a:noFill/>
          </a:ln>
        </p:spPr>
      </p:pic>
      <p:grpSp>
        <p:nvGrpSpPr>
          <p:cNvPr id="357" name="Группа 2"/>
          <p:cNvGrpSpPr/>
          <p:nvPr/>
        </p:nvGrpSpPr>
        <p:grpSpPr>
          <a:xfrm>
            <a:off x="819000" y="3384720"/>
            <a:ext cx="2654280" cy="1000080"/>
            <a:chOff x="819000" y="3384720"/>
            <a:chExt cx="2654280" cy="1000080"/>
          </a:xfrm>
        </p:grpSpPr>
        <p:pic>
          <p:nvPicPr>
            <p:cNvPr id="358" name="Picture 5" descr=""/>
            <p:cNvPicPr/>
            <p:nvPr/>
          </p:nvPicPr>
          <p:blipFill>
            <a:blip r:embed="rId6"/>
            <a:stretch/>
          </p:blipFill>
          <p:spPr>
            <a:xfrm>
              <a:off x="3059640" y="33908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"/>
            <p:cNvPicPr/>
            <p:nvPr/>
          </p:nvPicPr>
          <p:blipFill>
            <a:blip r:embed="rId7"/>
            <a:stretch/>
          </p:blipFill>
          <p:spPr>
            <a:xfrm>
              <a:off x="1762920" y="33847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" descr=""/>
            <p:cNvPicPr/>
            <p:nvPr/>
          </p:nvPicPr>
          <p:blipFill>
            <a:blip r:embed="rId8"/>
            <a:stretch/>
          </p:blipFill>
          <p:spPr>
            <a:xfrm>
              <a:off x="1209960" y="358668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" descr=""/>
            <p:cNvPicPr/>
            <p:nvPr/>
          </p:nvPicPr>
          <p:blipFill>
            <a:blip r:embed="rId9"/>
            <a:stretch/>
          </p:blipFill>
          <p:spPr>
            <a:xfrm>
              <a:off x="819000" y="399348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"/>
          <a:srcRect l="0" t="0" r="0" b="21"/>
          <a:stretch/>
        </p:blipFill>
        <p:spPr>
          <a:xfrm>
            <a:off x="395280" y="3429000"/>
            <a:ext cx="4105440" cy="3240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5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569440" cy="3095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Добро\Desktop\щас\мм\IMG_5184.JPG"/>
          <p:cNvPicPr/>
          <p:nvPr/>
        </p:nvPicPr>
        <p:blipFill>
          <a:blip r:embed="rId3"/>
          <a:stretch/>
        </p:blipFill>
        <p:spPr>
          <a:xfrm>
            <a:off x="4859280" y="3284640"/>
            <a:ext cx="396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Ходьба по ребристой доске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тем по мокрой  и сухой дорожк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384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Содержимое 4" descr="IMG_2131.JPG"/>
          <p:cNvPicPr/>
          <p:nvPr/>
        </p:nvPicPr>
        <p:blipFill>
          <a:blip r:embed="rId1"/>
          <a:srcRect l="0" t="0" r="0" b="-28"/>
          <a:stretch/>
        </p:blipFill>
        <p:spPr>
          <a:xfrm>
            <a:off x="4500720" y="1557360"/>
            <a:ext cx="4248000" cy="4871880"/>
          </a:xfrm>
          <a:prstGeom prst="rect">
            <a:avLst/>
          </a:prstGeom>
          <a:ln w="0">
            <a:noFill/>
          </a:ln>
        </p:spPr>
      </p:pic>
      <p:grpSp>
        <p:nvGrpSpPr>
          <p:cNvPr id="370" name="Группа 2"/>
          <p:cNvGrpSpPr/>
          <p:nvPr/>
        </p:nvGrpSpPr>
        <p:grpSpPr>
          <a:xfrm>
            <a:off x="447840" y="1413000"/>
            <a:ext cx="3308040" cy="5073480"/>
            <a:chOff x="447840" y="1413000"/>
            <a:chExt cx="3308040" cy="5073480"/>
          </a:xfrm>
        </p:grpSpPr>
        <p:pic>
          <p:nvPicPr>
            <p:cNvPr id="371" name="Picture 6" descr=""/>
            <p:cNvPicPr/>
            <p:nvPr/>
          </p:nvPicPr>
          <p:blipFill>
            <a:blip r:embed="rId2"/>
            <a:stretch/>
          </p:blipFill>
          <p:spPr>
            <a:xfrm>
              <a:off x="447840" y="1413000"/>
              <a:ext cx="3308040" cy="50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Группа 1"/>
            <p:cNvGrpSpPr/>
            <p:nvPr/>
          </p:nvGrpSpPr>
          <p:grpSpPr>
            <a:xfrm>
              <a:off x="611640" y="1701720"/>
              <a:ext cx="2304000" cy="855000"/>
              <a:chOff x="611640" y="1701720"/>
              <a:chExt cx="2304000" cy="855000"/>
            </a:xfrm>
          </p:grpSpPr>
          <p:pic>
            <p:nvPicPr>
              <p:cNvPr id="37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7640" y="1944000"/>
                <a:ext cx="648000" cy="61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640" y="1701720"/>
                <a:ext cx="580320" cy="54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5" name="Группа 3"/>
          <p:cNvGrpSpPr/>
          <p:nvPr/>
        </p:nvGrpSpPr>
        <p:grpSpPr>
          <a:xfrm>
            <a:off x="6012000" y="2398680"/>
            <a:ext cx="912600" cy="708120"/>
            <a:chOff x="6012000" y="2398680"/>
            <a:chExt cx="912600" cy="708120"/>
          </a:xfrm>
        </p:grpSpPr>
        <p:pic>
          <p:nvPicPr>
            <p:cNvPr id="376" name="Picture 5" descr=""/>
            <p:cNvPicPr/>
            <p:nvPr/>
          </p:nvPicPr>
          <p:blipFill>
            <a:blip r:embed="rId5"/>
            <a:stretch/>
          </p:blipFill>
          <p:spPr>
            <a:xfrm>
              <a:off x="6012000" y="2630160"/>
              <a:ext cx="50436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5" descr=""/>
            <p:cNvPicPr/>
            <p:nvPr/>
          </p:nvPicPr>
          <p:blipFill>
            <a:blip r:embed="rId6"/>
            <a:stretch/>
          </p:blipFill>
          <p:spPr>
            <a:xfrm>
              <a:off x="6420240" y="2398680"/>
              <a:ext cx="50436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Физкультминутка переключая  детей  на  иной  вид  деятельности,  позволяет  активизировать  их  умственную  работоспособность,  а  у  детей  со  зрительными  нарушениями,  кроме  того,  уменьшается,  снимается  напряжение  с  глаз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6" descr="C:\Users\Добро\Desktop\презентация ясли\фото\ПУТЯТИНА\20171214_095502.jpg"/>
          <p:cNvPicPr/>
          <p:nvPr/>
        </p:nvPicPr>
        <p:blipFill>
          <a:blip r:embed="rId1"/>
          <a:stretch/>
        </p:blipFill>
        <p:spPr>
          <a:xfrm>
            <a:off x="539640" y="3573360"/>
            <a:ext cx="4103640" cy="2519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6" descr="DSC_0092.JPG"/>
          <p:cNvPicPr/>
          <p:nvPr/>
        </p:nvPicPr>
        <p:blipFill>
          <a:blip r:embed="rId2"/>
          <a:srcRect l="0" t="0" r="0" b="-21"/>
          <a:stretch/>
        </p:blipFill>
        <p:spPr>
          <a:xfrm>
            <a:off x="5148360" y="1628640"/>
            <a:ext cx="3671640" cy="4869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1547640" y="3770280"/>
            <a:ext cx="414360" cy="390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5940360" y="317340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5"/>
          <a:stretch/>
        </p:blipFill>
        <p:spPr>
          <a:xfrm>
            <a:off x="6659640" y="324324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6"/>
          <a:stretch/>
        </p:blipFill>
        <p:spPr>
          <a:xfrm>
            <a:off x="7164360" y="3527280"/>
            <a:ext cx="414360" cy="392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7"/>
          <a:stretch/>
        </p:blipFill>
        <p:spPr>
          <a:xfrm>
            <a:off x="8405640" y="3527280"/>
            <a:ext cx="4143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148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Пальчиковая гимнастика –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представляет собой набор упражнений, направленных на развитие мелкой моторики руки, т.е. совместных действий систем организма человека (мышечной, зрительной, нервной, костной), формирующих способность выполнять точные, мелкие движения пальцами и кистями.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Пальчиковая гимнастика решает множество задач в развитии ребенка: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- помогает развивать речь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развивает эмоциональную выразительность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повышает работоспособность головного мозга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развивает внимание, память, воображение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- способствует развитию пространственного мышления;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99"/>
                </a:solidFill>
                <a:latin typeface="Calibri"/>
              </a:rPr>
              <a:t> снимает тревожность.</a:t>
            </a:r>
            <a:r>
              <a:rPr b="0" lang="ru-RU" sz="1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4678200" y="3805200"/>
            <a:ext cx="42642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2"/>
          <p:cNvGrpSpPr/>
          <p:nvPr/>
        </p:nvGrpSpPr>
        <p:grpSpPr>
          <a:xfrm>
            <a:off x="395280" y="907920"/>
            <a:ext cx="3894120" cy="5297760"/>
            <a:chOff x="395280" y="907920"/>
            <a:chExt cx="3894120" cy="5297760"/>
          </a:xfrm>
        </p:grpSpPr>
        <p:pic>
          <p:nvPicPr>
            <p:cNvPr id="391" name="Рисунок 5" descr="IMG_2118.JPG"/>
            <p:cNvPicPr/>
            <p:nvPr/>
          </p:nvPicPr>
          <p:blipFill>
            <a:blip r:embed="rId2"/>
            <a:srcRect l="0" t="0" r="0" b="-19"/>
            <a:stretch/>
          </p:blipFill>
          <p:spPr>
            <a:xfrm>
              <a:off x="395280" y="907920"/>
              <a:ext cx="3894120" cy="529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Группа 1"/>
            <p:cNvGrpSpPr/>
            <p:nvPr/>
          </p:nvGrpSpPr>
          <p:grpSpPr>
            <a:xfrm>
              <a:off x="1006560" y="3169080"/>
              <a:ext cx="2813760" cy="1267920"/>
              <a:chOff x="1006560" y="3169080"/>
              <a:chExt cx="2813760" cy="1267920"/>
            </a:xfrm>
          </p:grpSpPr>
          <p:pic>
            <p:nvPicPr>
              <p:cNvPr id="39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5040" y="3515400"/>
                <a:ext cx="783000" cy="74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134880" y="3789000"/>
                <a:ext cx="6854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6560" y="3169080"/>
                <a:ext cx="735480" cy="69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96" name="Picture 5" descr=""/>
          <p:cNvPicPr/>
          <p:nvPr/>
        </p:nvPicPr>
        <p:blipFill>
          <a:blip r:embed="rId6"/>
          <a:stretch/>
        </p:blipFill>
        <p:spPr>
          <a:xfrm>
            <a:off x="4707000" y="422424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"/>
          <p:cNvPicPr/>
          <p:nvPr/>
        </p:nvPicPr>
        <p:blipFill>
          <a:blip r:embed="rId7"/>
          <a:stretch/>
        </p:blipFill>
        <p:spPr>
          <a:xfrm>
            <a:off x="5580000" y="5013360"/>
            <a:ext cx="414360" cy="390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8"/>
          <a:stretch/>
        </p:blipFill>
        <p:spPr>
          <a:xfrm>
            <a:off x="602928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9"/>
          <a:stretch/>
        </p:blipFill>
        <p:spPr>
          <a:xfrm>
            <a:off x="630072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10"/>
          <a:stretch/>
        </p:blipFill>
        <p:spPr>
          <a:xfrm>
            <a:off x="6692760" y="4873680"/>
            <a:ext cx="41436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11"/>
          <a:stretch/>
        </p:blipFill>
        <p:spPr>
          <a:xfrm>
            <a:off x="7107120" y="4941720"/>
            <a:ext cx="412920" cy="390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12"/>
          <a:stretch/>
        </p:blipFill>
        <p:spPr>
          <a:xfrm>
            <a:off x="7459560" y="4941720"/>
            <a:ext cx="414360" cy="39060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3"/>
          <p:cNvGrpSpPr/>
          <p:nvPr/>
        </p:nvGrpSpPr>
        <p:grpSpPr>
          <a:xfrm>
            <a:off x="4678200" y="4195800"/>
            <a:ext cx="4094280" cy="1544760"/>
            <a:chOff x="4678200" y="4195800"/>
            <a:chExt cx="4094280" cy="1544760"/>
          </a:xfrm>
        </p:grpSpPr>
        <p:pic>
          <p:nvPicPr>
            <p:cNvPr id="404" name="Picture 5" descr=""/>
            <p:cNvPicPr/>
            <p:nvPr/>
          </p:nvPicPr>
          <p:blipFill>
            <a:blip r:embed="rId13"/>
            <a:stretch/>
          </p:blipFill>
          <p:spPr>
            <a:xfrm>
              <a:off x="8358840" y="53492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5" descr=""/>
            <p:cNvPicPr/>
            <p:nvPr/>
          </p:nvPicPr>
          <p:blipFill>
            <a:blip r:embed="rId14"/>
            <a:stretch/>
          </p:blipFill>
          <p:spPr>
            <a:xfrm>
              <a:off x="4678200" y="419580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5" descr=""/>
            <p:cNvPicPr/>
            <p:nvPr/>
          </p:nvPicPr>
          <p:blipFill>
            <a:blip r:embed="rId15"/>
            <a:stretch/>
          </p:blipFill>
          <p:spPr>
            <a:xfrm>
              <a:off x="5551200" y="4984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" descr=""/>
            <p:cNvPicPr/>
            <p:nvPr/>
          </p:nvPicPr>
          <p:blipFill>
            <a:blip r:embed="rId16"/>
            <a:stretch/>
          </p:blipFill>
          <p:spPr>
            <a:xfrm>
              <a:off x="59994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" descr=""/>
            <p:cNvPicPr/>
            <p:nvPr/>
          </p:nvPicPr>
          <p:blipFill>
            <a:blip r:embed="rId17"/>
            <a:stretch/>
          </p:blipFill>
          <p:spPr>
            <a:xfrm>
              <a:off x="62712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" descr=""/>
            <p:cNvPicPr/>
            <p:nvPr/>
          </p:nvPicPr>
          <p:blipFill>
            <a:blip r:embed="rId18"/>
            <a:stretch/>
          </p:blipFill>
          <p:spPr>
            <a:xfrm>
              <a:off x="6663600" y="484524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" descr=""/>
            <p:cNvPicPr/>
            <p:nvPr/>
          </p:nvPicPr>
          <p:blipFill>
            <a:blip r:embed="rId19"/>
            <a:stretch/>
          </p:blipFill>
          <p:spPr>
            <a:xfrm>
              <a:off x="707760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"/>
            <p:cNvPicPr/>
            <p:nvPr/>
          </p:nvPicPr>
          <p:blipFill>
            <a:blip r:embed="rId20"/>
            <a:stretch/>
          </p:blipFill>
          <p:spPr>
            <a:xfrm>
              <a:off x="7430040" y="4912920"/>
              <a:ext cx="413640" cy="39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им  образом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ежедневная коррекционная деятельность с детьми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течении дня способствует  укреплению  глазных  мышц,  снятию  с  них  напряжения.  Глаза  получают  возможность  свободно  двига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и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ежедневном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их  выполнении  глазные  мышцы  надолго  сохраняют  эластичность  и  гибкость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Упражнения  для  глаз  активизируют  их  кровоснабжение  и  способствуют  поступлению  в  ткани  глаз  достаточного  количества  кислород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аблюдается  заметное  улучшение  зрени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ктивизируется  и  развивается  зрительная  систем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360" y="4581000"/>
            <a:ext cx="8229600" cy="18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Вывод:</a:t>
            </a: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 только систематическое  и комплексное взаимодействие педагогического и медицинского персонала ДОУ - залог эффективного  воздействия на улучшение и выздоровление нарушений зрения, а также при непосредственном участии 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Constantia"/>
              </a:rPr>
              <a:t>родителей воспитанников ДОУ</a:t>
            </a:r>
            <a:r>
              <a:rPr b="0" lang="ru-RU" sz="2000" spc="-1" strike="noStrike">
                <a:solidFill>
                  <a:srgbClr val="00b05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9280" y="112392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Constantia"/>
              </a:rPr>
              <a:t>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Зрение - прекраснейший  дар  природы, позволяющий  познавать  и  видеть окружающий  мир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  Половина  биоэнергии,  потребляемой  организмом,  тратится  на  зрение;  90%  всей  информации  об  окружающем  человек  получает  с  помощью  органов  зрения.  Нагрузка  на  глаза  у  современного  ребенка  огромная.  Глаза  ребенка  выполняют значительную  зрительную  работу,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onstantia"/>
              </a:rPr>
              <a:t>а  отдыхают  они  лишь  во  время  сна.</a:t>
            </a: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1908000" y="1341360"/>
            <a:ext cx="511344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заимодействие медицинского и педагогического персонала в ДО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яду с образовательной деятельностью в ДОУ осуществляется коррекционная работа по двум  направлениям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ечебно-восстановительное и коррекционно-педагогическо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с целью  осуществления необходимой коррекции недостатков в физическом и (или) психическом развитии детей с нарушением зрения,  согласно цели реализации образовательной програм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Этапы  офтальмологического  лечения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этап – плеоптический: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повышение  остроты 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зрения  до  возрастной  нормы  (пристальное  рассматривание  и  перцептивные  действия  с  мелкими  предметами (при дальнозоркости), с крупными (при миопии)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ношение очков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I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 этап – ортоптический:  подготовка к оперативному вмешательству(устранение  косоглазия),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ношение заклейки, лечение на офтальмологических аппара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nstantia"/>
              </a:rPr>
              <a:t>III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этап – диплоптический:  восстановление  бинокулярного  слияния  после устранения угла косоглазия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лечение на офтальмологических аппара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Лечебно-восстановительное  направлени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69228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отр врачом-офтальмологом один раз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5-20  дн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ндивидуальный осмотр по медицинским показа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д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жедневног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лечения на офтальмологических аппарат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едсестрой-ортоптистк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современных технологий лечения с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м компьютерн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де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енсорных упражн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мозаикой, конструктором, шнуровк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ение на госпитализацию и наблюдение после оперативного вмешатель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дивидуальные консультации врача –офтальмолога по запросу родителей: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8.00-9.00 (ежедневн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свещение родителе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вопросам глазной патологии (родительские собрания, памятки, стендовая информац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врачом-офтальмологом, медсестрой офтальмологического кабин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Содержимое 6" descr="IMG_2089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7" descr="IMG_2113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медсестрой офтальмологического кабинета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2" descr="C:\Users\Добро\Desktop\презентация ясли\фото\лечение\20171213_093123.jpg"/>
          <p:cNvPicPr/>
          <p:nvPr/>
        </p:nvPicPr>
        <p:blipFill>
          <a:blip r:embed="rId1"/>
          <a:stretch/>
        </p:blipFill>
        <p:spPr>
          <a:xfrm>
            <a:off x="1258920" y="1920960"/>
            <a:ext cx="2952720" cy="4433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Добро\Desktop\презентация ясли\фото\лечение\20171213_093431.jpg"/>
          <p:cNvPicPr/>
          <p:nvPr/>
        </p:nvPicPr>
        <p:blipFill>
          <a:blip r:embed="rId2"/>
          <a:stretch/>
        </p:blipFill>
        <p:spPr>
          <a:xfrm>
            <a:off x="5076720" y="1916280"/>
            <a:ext cx="29512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оведение ежедневного лечения на офтальмологических аппаратах врачом-офтальмологом, медсестрой офтальмологического кабинет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Содержимое 8" descr="IMG_2093.JPG"/>
          <p:cNvPicPr/>
          <p:nvPr/>
        </p:nvPicPr>
        <p:blipFill>
          <a:blip r:embed="rId1"/>
          <a:stretch/>
        </p:blipFill>
        <p:spPr>
          <a:xfrm>
            <a:off x="961920" y="21193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IMG_2094.JPG"/>
          <p:cNvPicPr/>
          <p:nvPr/>
        </p:nvPicPr>
        <p:blipFill>
          <a:blip r:embed="rId2"/>
          <a:stretch/>
        </p:blipFill>
        <p:spPr>
          <a:xfrm>
            <a:off x="5153040" y="21193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4:58:10Z</dcterms:created>
  <dc:creator>a</dc:creator>
  <dc:description/>
  <dc:language>en-US</dc:language>
  <cp:lastModifiedBy>User</cp:lastModifiedBy>
  <dcterms:modified xsi:type="dcterms:W3CDTF">2022-02-14T04:17:48Z</dcterms:modified>
  <cp:revision>3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a0000000000010291210207f7000400038000</vt:lpwstr>
  </property>
</Properties>
</file>