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0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7.jpeg" ContentType="image/jpeg"/>
  <Override PartName="/ppt/media/image64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9.png" ContentType="image/png"/>
  <Override PartName="/ppt/media/image22.jpeg" ContentType="image/jpeg"/>
  <Override PartName="/ppt/media/image1.jpeg" ContentType="image/jpeg"/>
  <Override PartName="/ppt/media/image15.jpeg" ContentType="image/jpeg"/>
  <Override PartName="/ppt/media/image46.jpeg" ContentType="image/jpeg"/>
  <Override PartName="/ppt/media/image63.jpeg" ContentType="image/jpeg"/>
  <Override PartName="/ppt/media/image60.png" ContentType="image/png"/>
  <Override PartName="/ppt/media/image3.png" ContentType="image/png"/>
  <Override PartName="/ppt/media/image17.jpeg" ContentType="image/jpeg"/>
  <Override PartName="/ppt/media/image59.png" ContentType="image/png"/>
  <Override PartName="/ppt/media/image24.jpeg" ContentType="image/jpeg"/>
  <Override PartName="/ppt/media/image51.jpeg" ContentType="image/jpeg"/>
  <Override PartName="/ppt/media/image26.jpeg" ContentType="image/jpeg"/>
  <Override PartName="/ppt/media/image65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62.jpeg" ContentType="image/jpeg"/>
  <Override PartName="/ppt/media/image18.jpeg" ContentType="image/jpeg"/>
  <Override PartName="/ppt/media/image23.jpeg" ContentType="image/jpeg"/>
  <Override PartName="/ppt/media/image8.png" ContentType="image/png"/>
  <Override PartName="/ppt/media/image38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4.jpeg" ContentType="image/jpeg"/>
  <Override PartName="/ppt/media/image36.jpeg" ContentType="image/jpeg"/>
  <Override PartName="/ppt/media/image6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7.jpeg" ContentType="image/jpeg"/>
  <Override PartName="/ppt/media/image4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AB34-7688-4B75-AD1D-EF13E336D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3D86-EA88-416E-AE53-10096CD14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60C9-16BB-45F6-A3E3-7DEF74592A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398-00DA-4001-801E-53D4FCED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A62-9851-49DE-AF5B-574D56BC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973-EB94-4156-BC1C-70D286B6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8A4-004E-4ED3-91FA-0DF945CD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41CA-12D1-4289-AAD8-1B14DFD5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E74-030D-457C-BBF3-DB923D2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7178-2E32-4905-B32C-9BA7EB3F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F57A-B5E5-4B9B-9CE9-1C7A47C4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A860-D69E-4F81-BEF6-F0DC8DB8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C361-6C35-4D20-A66B-557D26D4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93EF-EE26-494D-8006-29BE85E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E68-407D-4BA7-8B9D-354DF63F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6FF8-09DC-479F-B055-F64E8AE7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5B30-3342-43DA-AE3E-D1C69AB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1D35-B377-4967-926D-456D4BE5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B650-E03E-4375-B2A7-85CCF463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11EA-3720-4F7C-BEAE-D5EE4D6C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97C3-55BA-488E-904E-CF86E87E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8116-F2BD-4EB1-9063-D4DF31E5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C875-7AEA-4DF9-AB57-84BC8A3F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ECC4-ED01-4C08-9DF0-0A585B9B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1BC5-8DC5-4A42-BD7F-7AAA213F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437-9D6E-4195-8986-4DE3D1C1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1C0C-A594-4BE8-8552-4EA096F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8D010-4B5F-4C0E-BFED-B894CBB0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43DB-05F6-4F47-A1DC-39711139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4375-928F-454F-81A6-C7EAF904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F9D3-B932-4F18-8E95-4B5D4957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8705-4102-4CE5-8B73-2899CF4E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A9DA-6C30-4D49-B7D1-9700E087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8CB7-B2A7-4413-830B-9DE30579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FD6F1-4304-4FF9-8291-50A0EDEF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7ED1-62AF-4F33-BD6E-A1F3C64A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116-9C0F-4A2D-ADD4-0724723B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176F5-1201-454A-98AC-64465FC9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49179-2479-41FE-A3E7-9A5E1E55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C64A-3117-44C8-B80F-0B66348C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F942-1BB5-4285-9CFC-47ACBE2A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75595-0C94-4CFA-BB68-647EA35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8FFF-FCC0-48AD-80E4-4420EE92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C143-9906-4CF4-84BD-028EC6AE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0454-3157-4439-839D-3C634BCF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3731F-F8B0-4228-8527-7976F608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F36C6-D660-49EC-A936-B475A8EF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C2C-A5CE-41AB-9492-C0C6B59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F6AA-E9DD-4C7C-94D6-6DC0249B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56B83-0A69-4D62-BC93-13094EE3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6F3C5-7382-44EE-9D86-42BCF7E0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2985C-7C5C-4815-B057-2EF33049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92E71-4B65-4881-893E-5FD2076B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56F08-C738-4D64-86C4-32746786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A30D9-41B1-4246-BE12-3DF7BBF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4290-9FB5-4364-AAAB-F45578F2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048E3-A0C6-447F-B68D-0BF828CE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D35B9-9A71-44C4-9316-2B64D839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6A6-117F-4CAE-80D2-0F1E7903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23AEA-9AE2-49FC-8F42-360C2568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547-AB09-42CC-9E8C-22301E62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8C4-DB8E-48A5-8CC4-3AD348F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1B2-C567-4FE5-AD3D-D6486E00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9670-59CB-41FA-AA45-52A9971B1B1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4756-3E23-44B8-BF8A-653F54F8D53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CD26-4FD9-4022-A177-0DD1810AE5E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536-DD46-4682-A153-5B6C1581E60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9545-0F05-48F8-9205-11330D2F1AA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34.jpeg"/><Relationship Id="rId9" Type="http://schemas.openxmlformats.org/officeDocument/2006/relationships/image" Target="../media/image32.png"/><Relationship Id="rId10" Type="http://schemas.openxmlformats.org/officeDocument/2006/relationships/image" Target="../media/image35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53.png"/><Relationship Id="rId5" Type="http://schemas.openxmlformats.org/officeDocument/2006/relationships/image" Target="../media/image66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49.xml"/><Relationship Id="rId2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Общее родительское собрание</a:t>
            </a:r>
            <a:br>
              <a:rPr sz="4400"/>
            </a:br>
            <a:r>
              <a:rPr b="1" lang="ru-RU" sz="5000" spc="-1" strike="noStrike" u="sng">
                <a:solidFill>
                  <a:srgbClr val="0000ff"/>
                </a:solidFill>
                <a:uFillTx/>
                <a:latin typeface="Calibri"/>
              </a:rPr>
              <a:t>«Современный детский сад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73360"/>
            <a:ext cx="83628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естка собр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ступление «Наша школа для ваших детей»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ректор  школы-интерната  № 10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дурова Валерия Сергеевна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ь-дефектолог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егубова Анастасия Валерь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ступление «Влияние семейных отношений на агрессивное поведение ребенка»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дагог-психолог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Лобова Анастасия Никола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зентация « Детский сад – наш общий дом, лечим глазки и растем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аместитель заведующего по УВР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етина Марина Владимиро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ступление «Внесение изменений в нормативно-правовую базу ДОУ»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ведующий ДО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асильева Ольга Никола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3538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Проведение ежедневного лечения на офтальмологических аппаратах медсестрой-ортоптисткой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Содержимое 6" descr="IMG_2108.JPG"/>
          <p:cNvPicPr/>
          <p:nvPr/>
        </p:nvPicPr>
        <p:blipFill>
          <a:blip r:embed="rId1"/>
          <a:stretch/>
        </p:blipFill>
        <p:spPr>
          <a:xfrm>
            <a:off x="468360" y="328464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7" descr="IMG_2110.JPG"/>
          <p:cNvPicPr/>
          <p:nvPr/>
        </p:nvPicPr>
        <p:blipFill>
          <a:blip r:embed="rId2"/>
          <a:srcRect l="0" t="0" r="-30" b="14"/>
          <a:stretch/>
        </p:blipFill>
        <p:spPr>
          <a:xfrm>
            <a:off x="3995640" y="836640"/>
            <a:ext cx="2232000" cy="23684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0" descr="IMG_2111.JPG"/>
          <p:cNvPicPr/>
          <p:nvPr/>
        </p:nvPicPr>
        <p:blipFill>
          <a:blip r:embed="rId3"/>
          <a:stretch/>
        </p:blipFill>
        <p:spPr>
          <a:xfrm>
            <a:off x="5724360" y="2492280"/>
            <a:ext cx="3079800" cy="4108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4"/>
          <a:stretch/>
        </p:blipFill>
        <p:spPr>
          <a:xfrm>
            <a:off x="3286080" y="4292640"/>
            <a:ext cx="5652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спользование современных технологий лечения с  использованием специализированных компьютерных програм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C:\Users\Добро\Desktop\презентация ясли\фото\лечение\20171213_092441.jpg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4392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Добро\Desktop\презентация ясли\фото\лечение\20171213_092827.jpg"/>
          <p:cNvPicPr/>
          <p:nvPr/>
        </p:nvPicPr>
        <p:blipFill>
          <a:blip r:embed="rId2"/>
          <a:stretch/>
        </p:blipFill>
        <p:spPr>
          <a:xfrm>
            <a:off x="4648320" y="1989000"/>
            <a:ext cx="4038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граммы «Паучок», «Крестик» направлены на повышение остроты зрени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6" descr="IMG_2086.JPG"/>
          <p:cNvPicPr/>
          <p:nvPr/>
        </p:nvPicPr>
        <p:blipFill>
          <a:blip r:embed="rId1"/>
          <a:stretch/>
        </p:blipFill>
        <p:spPr>
          <a:xfrm>
            <a:off x="961920" y="21193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7" descr="IMG_2087.JPG"/>
          <p:cNvPicPr/>
          <p:nvPr/>
        </p:nvPicPr>
        <p:blipFill>
          <a:blip r:embed="rId2"/>
          <a:stretch/>
        </p:blipFill>
        <p:spPr>
          <a:xfrm>
            <a:off x="5153040" y="21193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граммы «Тир», «Паучок» направлены на тренировку глазодвигательных мышц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одержимое 8" descr="IMG_2097.JPG"/>
          <p:cNvPicPr/>
          <p:nvPr/>
        </p:nvPicPr>
        <p:blipFill>
          <a:blip r:embed="rId1"/>
          <a:stretch/>
        </p:blipFill>
        <p:spPr>
          <a:xfrm>
            <a:off x="961920" y="21193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92" name="Содержимое 9" descr="IMG_2099.JPG"/>
          <p:cNvPicPr/>
          <p:nvPr/>
        </p:nvPicPr>
        <p:blipFill>
          <a:blip r:embed="rId2"/>
          <a:stretch/>
        </p:blipFill>
        <p:spPr>
          <a:xfrm>
            <a:off x="5153040" y="21193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Тренировки проводятся как индивидульно, так и малой группой в игровой форм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Содержимое 6" descr="IMG_2100.JPG"/>
          <p:cNvPicPr/>
          <p:nvPr/>
        </p:nvPicPr>
        <p:blipFill>
          <a:blip r:embed="rId1"/>
          <a:stretch/>
        </p:blipFill>
        <p:spPr>
          <a:xfrm>
            <a:off x="961920" y="1989000"/>
            <a:ext cx="3125880" cy="4168800"/>
          </a:xfrm>
          <a:prstGeom prst="rect">
            <a:avLst/>
          </a:prstGeom>
          <a:ln w="0">
            <a:noFill/>
          </a:ln>
        </p:spPr>
      </p:pic>
      <p:pic>
        <p:nvPicPr>
          <p:cNvPr id="295" name="Содержимое 7" descr="IMG_2103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роведение сенсорных упражнений с мозаикой, конструктором, шнуровкой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2" descr="C:\Users\Добро\Desktop\презентация ясли\фото\ПУТЯТИНА\20171214_100234.jpg"/>
          <p:cNvPicPr/>
          <p:nvPr/>
        </p:nvPicPr>
        <p:blipFill>
          <a:blip r:embed="rId1"/>
          <a:stretch/>
        </p:blipFill>
        <p:spPr>
          <a:xfrm>
            <a:off x="4500720" y="3500280"/>
            <a:ext cx="4032000" cy="2953080"/>
          </a:xfrm>
          <a:prstGeom prst="rect">
            <a:avLst/>
          </a:prstGeom>
          <a:ln w="0">
            <a:noFill/>
          </a:ln>
        </p:spPr>
      </p:pic>
      <p:pic>
        <p:nvPicPr>
          <p:cNvPr id="298" name="Содержимое 5" descr="DSC_0087.JPG"/>
          <p:cNvPicPr/>
          <p:nvPr/>
        </p:nvPicPr>
        <p:blipFill>
          <a:blip r:embed="rId2"/>
          <a:stretch/>
        </p:blipFill>
        <p:spPr>
          <a:xfrm>
            <a:off x="611280" y="1922400"/>
            <a:ext cx="3097080" cy="4645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3"/>
          <a:stretch/>
        </p:blipFill>
        <p:spPr>
          <a:xfrm>
            <a:off x="5076720" y="429264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ррекционно-педагогическое направление: ежедневная роль воспитателя  в коррекции зрительных нарушений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Соблюдение зрительного режима в течении дня с учетом зрительных нагруз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Контроль за выполнением назначений врача-офтальмолога (окклюзии, очк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Использование здоровьесберегающих технологий: дыхательные, зрительные , пальчиковая гимнастики, игровой самомассаж, закаливание, физкультминутки, использование видеотренажеров и видеоазиму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Организация специальных коррекционных мероприятий, необходимых на определённом этапе ле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Просвещение родителей по процессу коррекции зрительных нарушений у детей группы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Значение зрительной гимнастики:</a:t>
            </a:r>
            <a:br>
              <a:rPr sz="28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Тренируют мышцы, управляющие движениями глаз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Активизируют кровоснабжение глаз и способствуют поступлению в ткани глаз достаточного количества кислорода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Хорошо снимают умственное  и зрительное утомление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3683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Содержимое 7" descr="DSC_0122.JPG"/>
          <p:cNvPicPr/>
          <p:nvPr/>
        </p:nvPicPr>
        <p:blipFill>
          <a:blip r:embed="rId1"/>
          <a:stretch/>
        </p:blipFill>
        <p:spPr>
          <a:xfrm>
            <a:off x="4067280" y="1557360"/>
            <a:ext cx="4867200" cy="3243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684360" y="5008680"/>
            <a:ext cx="502920" cy="47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2268360" y="4821120"/>
            <a:ext cx="506520" cy="479520"/>
          </a:xfrm>
          <a:prstGeom prst="rect">
            <a:avLst/>
          </a:prstGeom>
          <a:ln w="0">
            <a:noFill/>
          </a:ln>
        </p:spPr>
      </p:pic>
      <p:grpSp>
        <p:nvGrpSpPr>
          <p:cNvPr id="307" name="Группа 1"/>
          <p:cNvGrpSpPr/>
          <p:nvPr/>
        </p:nvGrpSpPr>
        <p:grpSpPr>
          <a:xfrm>
            <a:off x="5073480" y="3211560"/>
            <a:ext cx="2341800" cy="465120"/>
            <a:chOff x="5073480" y="3211560"/>
            <a:chExt cx="2341800" cy="465120"/>
          </a:xfrm>
        </p:grpSpPr>
        <p:pic>
          <p:nvPicPr>
            <p:cNvPr id="308" name="Picture 5" descr=""/>
            <p:cNvPicPr/>
            <p:nvPr/>
          </p:nvPicPr>
          <p:blipFill>
            <a:blip r:embed="rId4"/>
            <a:stretch/>
          </p:blipFill>
          <p:spPr>
            <a:xfrm>
              <a:off x="5073480" y="328536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"/>
            <p:cNvPicPr/>
            <p:nvPr/>
          </p:nvPicPr>
          <p:blipFill>
            <a:blip r:embed="rId5"/>
            <a:stretch/>
          </p:blipFill>
          <p:spPr>
            <a:xfrm>
              <a:off x="5491080" y="321156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5" descr=""/>
            <p:cNvPicPr/>
            <p:nvPr/>
          </p:nvPicPr>
          <p:blipFill>
            <a:blip r:embed="rId6"/>
            <a:stretch/>
          </p:blipFill>
          <p:spPr>
            <a:xfrm>
              <a:off x="6588000" y="322956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5" descr=""/>
            <p:cNvPicPr/>
            <p:nvPr/>
          </p:nvPicPr>
          <p:blipFill>
            <a:blip r:embed="rId7"/>
            <a:stretch/>
          </p:blipFill>
          <p:spPr>
            <a:xfrm>
              <a:off x="7001640" y="3211560"/>
              <a:ext cx="413640" cy="39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Группа 3"/>
          <p:cNvGrpSpPr/>
          <p:nvPr/>
        </p:nvGrpSpPr>
        <p:grpSpPr>
          <a:xfrm>
            <a:off x="468360" y="4311720"/>
            <a:ext cx="4613400" cy="2212920"/>
            <a:chOff x="468360" y="4311720"/>
            <a:chExt cx="4613400" cy="2212920"/>
          </a:xfrm>
        </p:grpSpPr>
        <p:pic>
          <p:nvPicPr>
            <p:cNvPr id="313" name="Рисунок 8" descr="DSC_0125.JPG"/>
            <p:cNvPicPr/>
            <p:nvPr/>
          </p:nvPicPr>
          <p:blipFill>
            <a:blip r:embed="rId8"/>
            <a:stretch/>
          </p:blipFill>
          <p:spPr>
            <a:xfrm>
              <a:off x="468360" y="4311720"/>
              <a:ext cx="4613400" cy="221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Группа 2"/>
            <p:cNvGrpSpPr/>
            <p:nvPr/>
          </p:nvGrpSpPr>
          <p:grpSpPr>
            <a:xfrm>
              <a:off x="685440" y="4840920"/>
              <a:ext cx="4030560" cy="771480"/>
              <a:chOff x="685440" y="4840920"/>
              <a:chExt cx="4030560" cy="771480"/>
            </a:xfrm>
          </p:grpSpPr>
          <p:pic>
            <p:nvPicPr>
              <p:cNvPr id="315" name="Picture 5" descr=""/>
              <p:cNvPicPr/>
              <p:nvPr/>
            </p:nvPicPr>
            <p:blipFill>
              <a:blip r:embed="rId9"/>
              <a:stretch/>
            </p:blipFill>
            <p:spPr>
              <a:xfrm>
                <a:off x="3348000" y="5027040"/>
                <a:ext cx="504000" cy="4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6480" y="5073840"/>
                <a:ext cx="569520" cy="53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40" y="5027040"/>
                <a:ext cx="504000" cy="4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5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69800" y="4840920"/>
                <a:ext cx="507240" cy="479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Значение зрительной гимнастики:</a:t>
            </a:r>
            <a:br>
              <a:rPr sz="28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Тренируют мышцы, управляющие движениями глаз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Активизируют кровоснабжение глаз и способствуют поступлению в ткани глаз достаточного количества кислорода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Хорошо снимают умственное утомление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3683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5" descr="C:\Users\Добро\Desktop\презентация ясли\фото\лечение\20171213_093832.jpg"/>
          <p:cNvPicPr/>
          <p:nvPr/>
        </p:nvPicPr>
        <p:blipFill>
          <a:blip r:embed="rId1"/>
          <a:stretch/>
        </p:blipFill>
        <p:spPr>
          <a:xfrm>
            <a:off x="395280" y="2484360"/>
            <a:ext cx="3745080" cy="361656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6" descr="DSC_0093.JPG"/>
          <p:cNvPicPr/>
          <p:nvPr/>
        </p:nvPicPr>
        <p:blipFill>
          <a:blip r:embed="rId2"/>
          <a:stretch/>
        </p:blipFill>
        <p:spPr>
          <a:xfrm>
            <a:off x="5364000" y="1413000"/>
            <a:ext cx="3354480" cy="5032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1854360" y="4869000"/>
            <a:ext cx="414000" cy="392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4"/>
          <a:stretch/>
        </p:blipFill>
        <p:spPr>
          <a:xfrm>
            <a:off x="2195640" y="3154320"/>
            <a:ext cx="414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идеотренажеры, видеоазимуты для демонстрации траектории  движения глаз для снятия зрительного напряжения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7" name="Picture 2" descr="C:\Users\Добро\Desktop\презентация ясли\фото\лечение\20171213_093702.jpg"/>
          <p:cNvPicPr/>
          <p:nvPr/>
        </p:nvPicPr>
        <p:blipFill>
          <a:blip r:embed="rId1"/>
          <a:stretch/>
        </p:blipFill>
        <p:spPr>
          <a:xfrm>
            <a:off x="250920" y="1616040"/>
            <a:ext cx="3673440" cy="462132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6" descr="DSC_0102.JPG"/>
          <p:cNvPicPr/>
          <p:nvPr/>
        </p:nvPicPr>
        <p:blipFill>
          <a:blip r:embed="rId2"/>
          <a:srcRect l="0" t="0" r="0" b="-29"/>
          <a:stretch/>
        </p:blipFill>
        <p:spPr>
          <a:xfrm>
            <a:off x="5003640" y="1628640"/>
            <a:ext cx="38466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70880" cy="1663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0000ff"/>
              </a:solidFill>
              <a:latin typeface="Constantia"/>
            </a:endParaRPr>
          </a:p>
        </p:txBody>
      </p:sp>
      <p:grpSp>
        <p:nvGrpSpPr>
          <p:cNvPr id="256" name="Группа 1"/>
          <p:cNvGrpSpPr/>
          <p:nvPr/>
        </p:nvGrpSpPr>
        <p:grpSpPr>
          <a:xfrm>
            <a:off x="826920" y="1709640"/>
            <a:ext cx="7634520" cy="4729320"/>
            <a:chOff x="826920" y="1709640"/>
            <a:chExt cx="7634520" cy="4729320"/>
          </a:xfrm>
        </p:grpSpPr>
        <p:pic>
          <p:nvPicPr>
            <p:cNvPr id="257" name="Рисунок 4" descr="DSC_0090.JPG"/>
            <p:cNvPicPr/>
            <p:nvPr/>
          </p:nvPicPr>
          <p:blipFill>
            <a:blip r:embed="rId2"/>
            <a:srcRect l="0" t="0" r="0" b="43"/>
            <a:stretch/>
          </p:blipFill>
          <p:spPr>
            <a:xfrm>
              <a:off x="826920" y="1709640"/>
              <a:ext cx="7634520" cy="47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5" descr=""/>
            <p:cNvPicPr/>
            <p:nvPr/>
          </p:nvPicPr>
          <p:blipFill>
            <a:blip r:embed="rId3"/>
            <a:stretch/>
          </p:blipFill>
          <p:spPr>
            <a:xfrm>
              <a:off x="4499280" y="3602880"/>
              <a:ext cx="413640" cy="3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5" descr=""/>
            <p:cNvPicPr/>
            <p:nvPr/>
          </p:nvPicPr>
          <p:blipFill>
            <a:blip r:embed="rId4"/>
            <a:stretch/>
          </p:blipFill>
          <p:spPr>
            <a:xfrm>
              <a:off x="5867640" y="3736440"/>
              <a:ext cx="413640" cy="3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5" descr=""/>
            <p:cNvPicPr/>
            <p:nvPr/>
          </p:nvPicPr>
          <p:blipFill>
            <a:blip r:embed="rId5"/>
            <a:stretch/>
          </p:blipFill>
          <p:spPr>
            <a:xfrm>
              <a:off x="6227640" y="3699000"/>
              <a:ext cx="413640" cy="3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5" descr=""/>
            <p:cNvPicPr/>
            <p:nvPr/>
          </p:nvPicPr>
          <p:blipFill>
            <a:blip r:embed="rId6"/>
            <a:stretch/>
          </p:blipFill>
          <p:spPr>
            <a:xfrm>
              <a:off x="3347280" y="3587400"/>
              <a:ext cx="413640" cy="3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"/>
            <p:cNvPicPr/>
            <p:nvPr/>
          </p:nvPicPr>
          <p:blipFill>
            <a:blip r:embed="rId7"/>
            <a:stretch/>
          </p:blipFill>
          <p:spPr>
            <a:xfrm>
              <a:off x="2957760" y="2493360"/>
              <a:ext cx="413640" cy="39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идеотренажеры, видеоазимуты для демонстрации траектории  движения глаз для снятия зрительного напряжения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1" name="Содержимое 7" descr="DSC_0099.JPG"/>
          <p:cNvPicPr/>
          <p:nvPr/>
        </p:nvPicPr>
        <p:blipFill>
          <a:blip r:embed="rId1"/>
          <a:stretch/>
        </p:blipFill>
        <p:spPr>
          <a:xfrm>
            <a:off x="5148360" y="1197000"/>
            <a:ext cx="3527280" cy="51307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8" descr="DSC_0105.JPG"/>
          <p:cNvPicPr/>
          <p:nvPr/>
        </p:nvPicPr>
        <p:blipFill>
          <a:blip r:embed="rId2"/>
          <a:srcRect l="0" t="0" r="0" b="-15"/>
          <a:stretch/>
        </p:blipFill>
        <p:spPr>
          <a:xfrm>
            <a:off x="684360" y="1628640"/>
            <a:ext cx="37224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4" name="Содержимое 6" descr="DSC_0106.JPG"/>
          <p:cNvPicPr/>
          <p:nvPr/>
        </p:nvPicPr>
        <p:blipFill>
          <a:blip r:embed="rId1"/>
          <a:stretch/>
        </p:blipFill>
        <p:spPr>
          <a:xfrm>
            <a:off x="6372360" y="2924280"/>
            <a:ext cx="2446200" cy="36716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9" descr="DSC_0109.JPG"/>
          <p:cNvPicPr/>
          <p:nvPr/>
        </p:nvPicPr>
        <p:blipFill>
          <a:blip r:embed="rId2"/>
          <a:srcRect l="0" t="0" r="0" b="-65"/>
          <a:stretch/>
        </p:blipFill>
        <p:spPr>
          <a:xfrm>
            <a:off x="2050920" y="189000"/>
            <a:ext cx="4608720" cy="2592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10" descr="DSC_0108.JPG"/>
          <p:cNvPicPr/>
          <p:nvPr/>
        </p:nvPicPr>
        <p:blipFill>
          <a:blip r:embed="rId3"/>
          <a:srcRect l="0" t="0" r="-29" b="47"/>
          <a:stretch/>
        </p:blipFill>
        <p:spPr>
          <a:xfrm>
            <a:off x="539640" y="2997360"/>
            <a:ext cx="2303640" cy="35636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11" descr="DSC_0119.JPG"/>
          <p:cNvPicPr/>
          <p:nvPr/>
        </p:nvPicPr>
        <p:blipFill>
          <a:blip r:embed="rId4"/>
          <a:stretch/>
        </p:blipFill>
        <p:spPr>
          <a:xfrm>
            <a:off x="3276720" y="2924280"/>
            <a:ext cx="2735280" cy="3708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1" name="Рисунок 9" descr="DSC_0128.JPG"/>
          <p:cNvPicPr/>
          <p:nvPr/>
        </p:nvPicPr>
        <p:blipFill>
          <a:blip r:embed="rId1"/>
          <a:stretch/>
        </p:blipFill>
        <p:spPr>
          <a:xfrm>
            <a:off x="468360" y="1268280"/>
            <a:ext cx="3427200" cy="5141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09744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3898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5" descr="C:\Users\Добро\Desktop\презентация ясли\фото\лечение\20171213_094623.jpg"/>
          <p:cNvPicPr/>
          <p:nvPr/>
        </p:nvPicPr>
        <p:blipFill>
          <a:blip r:embed="rId1"/>
          <a:srcRect l="0" t="0" r="0" b="-24"/>
          <a:stretch/>
        </p:blipFill>
        <p:spPr>
          <a:xfrm>
            <a:off x="971640" y="2421000"/>
            <a:ext cx="3095640" cy="424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11280" y="161640"/>
            <a:ext cx="8424720" cy="25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Дыхательная гимнастика</a:t>
            </a:r>
            <a:r>
              <a:rPr b="0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 оказывает положительное воздействие на организм ребенка: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  <a:ea typeface="Times New Roman"/>
              </a:rPr>
              <a:t> • положительно влияет на обменные процессы, играющие важную роль в кровоснабжении;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  <a:ea typeface="Times New Roman"/>
              </a:rPr>
              <a:t>• повышает общую сопротивляемость организма, его тонус, способствует восстановлению нарушенных в ходе болезни нервных регуляций со стороны центральной нервной системы. </a:t>
            </a:r>
            <a:br>
              <a:rPr sz="32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6" name="Содержимое 6" descr="DSC_0097.JPG"/>
          <p:cNvPicPr/>
          <p:nvPr/>
        </p:nvPicPr>
        <p:blipFill>
          <a:blip r:embed="rId2"/>
          <a:stretch/>
        </p:blipFill>
        <p:spPr>
          <a:xfrm>
            <a:off x="5076720" y="2095560"/>
            <a:ext cx="3048120" cy="4573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"/>
          <p:cNvPicPr/>
          <p:nvPr/>
        </p:nvPicPr>
        <p:blipFill>
          <a:blip r:embed="rId3"/>
          <a:stretch/>
        </p:blipFill>
        <p:spPr>
          <a:xfrm>
            <a:off x="6443640" y="3357720"/>
            <a:ext cx="914400" cy="863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"/>
          <p:cNvPicPr/>
          <p:nvPr/>
        </p:nvPicPr>
        <p:blipFill>
          <a:blip r:embed="rId4"/>
          <a:stretch/>
        </p:blipFill>
        <p:spPr>
          <a:xfrm>
            <a:off x="2411280" y="2965320"/>
            <a:ext cx="41436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4617b"/>
                </a:solidFill>
                <a:latin typeface="Calibri"/>
              </a:rPr>
              <a:t>Игровой массаж обладает не только лечебным действием, проводить его можно и с профилактической и гигиенической целью. </a:t>
            </a:r>
            <a:br>
              <a:rPr sz="1200"/>
            </a:br>
            <a:r>
              <a:rPr b="0" lang="ru-RU" sz="1200" spc="-1" strike="noStrike">
                <a:solidFill>
                  <a:srgbClr val="04617b"/>
                </a:solidFill>
                <a:latin typeface="Calibri"/>
              </a:rPr>
              <a:t> Игровой массаж обеспечивает сенсорное развитие самых маленьких. Дети воспринимают интонации голоса, содержание текста, музыкальные тембры и шумы, темп и ритмы музыки и др. Малыши также оценивают холод и тепло, силу давления, характер прикосновения, направление движения, гладкость или шершавость материала и др. </a:t>
            </a:r>
            <a:endParaRPr b="0" lang="en-US" sz="1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Содержимое 7" descr="DSC_0116.JPG"/>
          <p:cNvPicPr/>
          <p:nvPr/>
        </p:nvPicPr>
        <p:blipFill>
          <a:blip r:embed="rId1"/>
          <a:stretch/>
        </p:blipFill>
        <p:spPr>
          <a:xfrm>
            <a:off x="395280" y="2349360"/>
            <a:ext cx="5508720" cy="3672000"/>
          </a:xfrm>
          <a:prstGeom prst="rect">
            <a:avLst/>
          </a:prstGeom>
          <a:ln w="0">
            <a:noFill/>
          </a:ln>
        </p:spPr>
      </p:pic>
      <p:grpSp>
        <p:nvGrpSpPr>
          <p:cNvPr id="352" name="Группа 1"/>
          <p:cNvGrpSpPr/>
          <p:nvPr/>
        </p:nvGrpSpPr>
        <p:grpSpPr>
          <a:xfrm>
            <a:off x="6084720" y="1628640"/>
            <a:ext cx="2784600" cy="4437360"/>
            <a:chOff x="6084720" y="1628640"/>
            <a:chExt cx="2784600" cy="4437360"/>
          </a:xfrm>
        </p:grpSpPr>
        <p:pic>
          <p:nvPicPr>
            <p:cNvPr id="353" name="Picture 7" descr="C:\Users\Добро\Desktop\щас\мм\IMG_5186.JPG"/>
            <p:cNvPicPr/>
            <p:nvPr/>
          </p:nvPicPr>
          <p:blipFill>
            <a:blip r:embed="rId2"/>
            <a:stretch/>
          </p:blipFill>
          <p:spPr>
            <a:xfrm>
              <a:off x="6084720" y="1628640"/>
              <a:ext cx="2784600" cy="44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5" descr=""/>
            <p:cNvPicPr/>
            <p:nvPr/>
          </p:nvPicPr>
          <p:blipFill>
            <a:blip r:embed="rId3"/>
            <a:stretch/>
          </p:blipFill>
          <p:spPr>
            <a:xfrm>
              <a:off x="7020000" y="2564640"/>
              <a:ext cx="685440" cy="64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>
            <a:off x="1187280" y="358632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5"/>
          <a:stretch/>
        </p:blipFill>
        <p:spPr>
          <a:xfrm>
            <a:off x="797040" y="3992400"/>
            <a:ext cx="414360" cy="392400"/>
          </a:xfrm>
          <a:prstGeom prst="rect">
            <a:avLst/>
          </a:prstGeom>
          <a:ln w="0">
            <a:noFill/>
          </a:ln>
        </p:spPr>
      </p:pic>
      <p:grpSp>
        <p:nvGrpSpPr>
          <p:cNvPr id="357" name="Группа 2"/>
          <p:cNvGrpSpPr/>
          <p:nvPr/>
        </p:nvGrpSpPr>
        <p:grpSpPr>
          <a:xfrm>
            <a:off x="819000" y="3384720"/>
            <a:ext cx="2654280" cy="1000080"/>
            <a:chOff x="819000" y="3384720"/>
            <a:chExt cx="2654280" cy="1000080"/>
          </a:xfrm>
        </p:grpSpPr>
        <p:pic>
          <p:nvPicPr>
            <p:cNvPr id="358" name="Picture 5" descr=""/>
            <p:cNvPicPr/>
            <p:nvPr/>
          </p:nvPicPr>
          <p:blipFill>
            <a:blip r:embed="rId6"/>
            <a:stretch/>
          </p:blipFill>
          <p:spPr>
            <a:xfrm>
              <a:off x="3059640" y="339084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5" descr=""/>
            <p:cNvPicPr/>
            <p:nvPr/>
          </p:nvPicPr>
          <p:blipFill>
            <a:blip r:embed="rId7"/>
            <a:stretch/>
          </p:blipFill>
          <p:spPr>
            <a:xfrm>
              <a:off x="1762920" y="33847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5" descr=""/>
            <p:cNvPicPr/>
            <p:nvPr/>
          </p:nvPicPr>
          <p:blipFill>
            <a:blip r:embed="rId8"/>
            <a:stretch/>
          </p:blipFill>
          <p:spPr>
            <a:xfrm>
              <a:off x="1209960" y="358668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5" descr=""/>
            <p:cNvPicPr/>
            <p:nvPr/>
          </p:nvPicPr>
          <p:blipFill>
            <a:blip r:embed="rId9"/>
            <a:stretch/>
          </p:blipFill>
          <p:spPr>
            <a:xfrm>
              <a:off x="819000" y="3993480"/>
              <a:ext cx="413640" cy="39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"/>
          <a:srcRect l="0" t="0" r="0" b="21"/>
          <a:stretch/>
        </p:blipFill>
        <p:spPr>
          <a:xfrm>
            <a:off x="395280" y="3429000"/>
            <a:ext cx="4105440" cy="32400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5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569440" cy="3095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Users\Добро\Desktop\щас\мм\IMG_5184.JPG"/>
          <p:cNvPicPr/>
          <p:nvPr/>
        </p:nvPicPr>
        <p:blipFill>
          <a:blip r:embed="rId3"/>
          <a:stretch/>
        </p:blipFill>
        <p:spPr>
          <a:xfrm>
            <a:off x="4859280" y="3284640"/>
            <a:ext cx="396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Ходьба по ребристой доске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тем по мокрой  и сухой дорожке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9" name="Содержимое 4" descr="IMG_2131.JPG"/>
          <p:cNvPicPr/>
          <p:nvPr/>
        </p:nvPicPr>
        <p:blipFill>
          <a:blip r:embed="rId1"/>
          <a:srcRect l="0" t="0" r="0" b="-28"/>
          <a:stretch/>
        </p:blipFill>
        <p:spPr>
          <a:xfrm>
            <a:off x="4500720" y="1557360"/>
            <a:ext cx="4248000" cy="4871880"/>
          </a:xfrm>
          <a:prstGeom prst="rect">
            <a:avLst/>
          </a:prstGeom>
          <a:ln w="0">
            <a:noFill/>
          </a:ln>
        </p:spPr>
      </p:pic>
      <p:grpSp>
        <p:nvGrpSpPr>
          <p:cNvPr id="370" name="Группа 2"/>
          <p:cNvGrpSpPr/>
          <p:nvPr/>
        </p:nvGrpSpPr>
        <p:grpSpPr>
          <a:xfrm>
            <a:off x="447840" y="1413000"/>
            <a:ext cx="3308040" cy="5073480"/>
            <a:chOff x="447840" y="1413000"/>
            <a:chExt cx="3308040" cy="5073480"/>
          </a:xfrm>
        </p:grpSpPr>
        <p:pic>
          <p:nvPicPr>
            <p:cNvPr id="371" name="Picture 6" descr=""/>
            <p:cNvPicPr/>
            <p:nvPr/>
          </p:nvPicPr>
          <p:blipFill>
            <a:blip r:embed="rId2"/>
            <a:stretch/>
          </p:blipFill>
          <p:spPr>
            <a:xfrm>
              <a:off x="447840" y="1413000"/>
              <a:ext cx="330804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2" name="Группа 1"/>
            <p:cNvGrpSpPr/>
            <p:nvPr/>
          </p:nvGrpSpPr>
          <p:grpSpPr>
            <a:xfrm>
              <a:off x="611640" y="1701720"/>
              <a:ext cx="2304000" cy="855000"/>
              <a:chOff x="611640" y="1701720"/>
              <a:chExt cx="2304000" cy="855000"/>
            </a:xfrm>
          </p:grpSpPr>
          <p:pic>
            <p:nvPicPr>
              <p:cNvPr id="37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7640" y="1944000"/>
                <a:ext cx="648000" cy="61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640" y="1701720"/>
                <a:ext cx="580320" cy="54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5" name="Группа 3"/>
          <p:cNvGrpSpPr/>
          <p:nvPr/>
        </p:nvGrpSpPr>
        <p:grpSpPr>
          <a:xfrm>
            <a:off x="6012000" y="2398680"/>
            <a:ext cx="912600" cy="708120"/>
            <a:chOff x="6012000" y="2398680"/>
            <a:chExt cx="912600" cy="708120"/>
          </a:xfrm>
        </p:grpSpPr>
        <p:pic>
          <p:nvPicPr>
            <p:cNvPr id="376" name="Picture 5" descr=""/>
            <p:cNvPicPr/>
            <p:nvPr/>
          </p:nvPicPr>
          <p:blipFill>
            <a:blip r:embed="rId5"/>
            <a:stretch/>
          </p:blipFill>
          <p:spPr>
            <a:xfrm>
              <a:off x="6012000" y="2630160"/>
              <a:ext cx="50436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5" descr=""/>
            <p:cNvPicPr/>
            <p:nvPr/>
          </p:nvPicPr>
          <p:blipFill>
            <a:blip r:embed="rId6"/>
            <a:stretch/>
          </p:blipFill>
          <p:spPr>
            <a:xfrm>
              <a:off x="6420240" y="2398680"/>
              <a:ext cx="50436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Физкультминутка переключая  детей  на  иной  вид  деятельности,  позволяет  активизировать  их  умственную  работоспособность,  а  у  детей  со  зрительными  нарушениями,  кроме  того,  уменьшается,  снимается  напряжение  с  глаз.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6" descr="C:\Users\Добро\Desktop\презентация ясли\фото\ПУТЯТИНА\20171214_095502.jpg"/>
          <p:cNvPicPr/>
          <p:nvPr/>
        </p:nvPicPr>
        <p:blipFill>
          <a:blip r:embed="rId1"/>
          <a:stretch/>
        </p:blipFill>
        <p:spPr>
          <a:xfrm>
            <a:off x="539640" y="3573360"/>
            <a:ext cx="4103640" cy="2519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6" descr="DSC_0092.JPG"/>
          <p:cNvPicPr/>
          <p:nvPr/>
        </p:nvPicPr>
        <p:blipFill>
          <a:blip r:embed="rId2"/>
          <a:srcRect l="0" t="0" r="0" b="-21"/>
          <a:stretch/>
        </p:blipFill>
        <p:spPr>
          <a:xfrm>
            <a:off x="5148360" y="1628640"/>
            <a:ext cx="3671640" cy="4869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1547640" y="3770280"/>
            <a:ext cx="414360" cy="390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4"/>
          <a:stretch/>
        </p:blipFill>
        <p:spPr>
          <a:xfrm>
            <a:off x="5940360" y="317340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"/>
          <p:cNvPicPr/>
          <p:nvPr/>
        </p:nvPicPr>
        <p:blipFill>
          <a:blip r:embed="rId5"/>
          <a:stretch/>
        </p:blipFill>
        <p:spPr>
          <a:xfrm>
            <a:off x="6659640" y="324324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6"/>
          <a:stretch/>
        </p:blipFill>
        <p:spPr>
          <a:xfrm>
            <a:off x="7164360" y="3527280"/>
            <a:ext cx="414360" cy="392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7"/>
          <a:stretch/>
        </p:blipFill>
        <p:spPr>
          <a:xfrm>
            <a:off x="8405640" y="3527280"/>
            <a:ext cx="41436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114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Пальчиковая гимнастика –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представляет собой набор упражнений, направленных на развитие мелкой моторики руки, т.е. совместных действий систем организма человека (мышечной, зрительной, нервной, костной), формирующих способность выполнять точные, мелкие движения пальцами и кистями.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1400"/>
            </a:b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Пальчиковая гимнастика решает множество задач в развитии ребенка: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1400"/>
            </a:b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- помогает развивать речь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развивает эмоциональную выразительность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повышает работоспособность головного мозга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развивает внимание, память, воображение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1400"/>
            </a:b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- способствует развитию пространственного мышления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снимает тревожность.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4678200" y="3805200"/>
            <a:ext cx="42642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2"/>
          <p:cNvGrpSpPr/>
          <p:nvPr/>
        </p:nvGrpSpPr>
        <p:grpSpPr>
          <a:xfrm>
            <a:off x="395280" y="907920"/>
            <a:ext cx="3894120" cy="5297760"/>
            <a:chOff x="395280" y="907920"/>
            <a:chExt cx="3894120" cy="5297760"/>
          </a:xfrm>
        </p:grpSpPr>
        <p:pic>
          <p:nvPicPr>
            <p:cNvPr id="391" name="Рисунок 5" descr="IMG_2118.JPG"/>
            <p:cNvPicPr/>
            <p:nvPr/>
          </p:nvPicPr>
          <p:blipFill>
            <a:blip r:embed="rId2"/>
            <a:srcRect l="0" t="0" r="0" b="-19"/>
            <a:stretch/>
          </p:blipFill>
          <p:spPr>
            <a:xfrm>
              <a:off x="395280" y="907920"/>
              <a:ext cx="3894120" cy="529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2" name="Группа 1"/>
            <p:cNvGrpSpPr/>
            <p:nvPr/>
          </p:nvGrpSpPr>
          <p:grpSpPr>
            <a:xfrm>
              <a:off x="1006560" y="3169080"/>
              <a:ext cx="2813760" cy="1267920"/>
              <a:chOff x="1006560" y="3169080"/>
              <a:chExt cx="2813760" cy="1267920"/>
            </a:xfrm>
          </p:grpSpPr>
          <p:pic>
            <p:nvPicPr>
              <p:cNvPr id="39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5040" y="3515400"/>
                <a:ext cx="783000" cy="74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134880" y="3789000"/>
                <a:ext cx="68544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6560" y="3169080"/>
                <a:ext cx="735480" cy="695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96" name="Picture 5" descr=""/>
          <p:cNvPicPr/>
          <p:nvPr/>
        </p:nvPicPr>
        <p:blipFill>
          <a:blip r:embed="rId6"/>
          <a:stretch/>
        </p:blipFill>
        <p:spPr>
          <a:xfrm>
            <a:off x="4707000" y="422424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"/>
          <p:cNvPicPr/>
          <p:nvPr/>
        </p:nvPicPr>
        <p:blipFill>
          <a:blip r:embed="rId7"/>
          <a:stretch/>
        </p:blipFill>
        <p:spPr>
          <a:xfrm>
            <a:off x="5580000" y="5013360"/>
            <a:ext cx="414360" cy="390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8"/>
          <a:stretch/>
        </p:blipFill>
        <p:spPr>
          <a:xfrm>
            <a:off x="6029280" y="4941720"/>
            <a:ext cx="412920" cy="3906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9"/>
          <a:stretch/>
        </p:blipFill>
        <p:spPr>
          <a:xfrm>
            <a:off x="6300720" y="4941720"/>
            <a:ext cx="412920" cy="390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10"/>
          <a:stretch/>
        </p:blipFill>
        <p:spPr>
          <a:xfrm>
            <a:off x="6692760" y="487368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11"/>
          <a:stretch/>
        </p:blipFill>
        <p:spPr>
          <a:xfrm>
            <a:off x="7107120" y="4941720"/>
            <a:ext cx="412920" cy="390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12"/>
          <a:stretch/>
        </p:blipFill>
        <p:spPr>
          <a:xfrm>
            <a:off x="7459560" y="4941720"/>
            <a:ext cx="414360" cy="390600"/>
          </a:xfrm>
          <a:prstGeom prst="rect">
            <a:avLst/>
          </a:prstGeom>
          <a:ln w="0">
            <a:noFill/>
          </a:ln>
        </p:spPr>
      </p:pic>
      <p:grpSp>
        <p:nvGrpSpPr>
          <p:cNvPr id="403" name="Группа 3"/>
          <p:cNvGrpSpPr/>
          <p:nvPr/>
        </p:nvGrpSpPr>
        <p:grpSpPr>
          <a:xfrm>
            <a:off x="4678200" y="4195800"/>
            <a:ext cx="4094280" cy="1544760"/>
            <a:chOff x="4678200" y="4195800"/>
            <a:chExt cx="4094280" cy="1544760"/>
          </a:xfrm>
        </p:grpSpPr>
        <p:pic>
          <p:nvPicPr>
            <p:cNvPr id="404" name="Picture 5" descr=""/>
            <p:cNvPicPr/>
            <p:nvPr/>
          </p:nvPicPr>
          <p:blipFill>
            <a:blip r:embed="rId13"/>
            <a:stretch/>
          </p:blipFill>
          <p:spPr>
            <a:xfrm>
              <a:off x="8358840" y="534924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5" descr=""/>
            <p:cNvPicPr/>
            <p:nvPr/>
          </p:nvPicPr>
          <p:blipFill>
            <a:blip r:embed="rId14"/>
            <a:stretch/>
          </p:blipFill>
          <p:spPr>
            <a:xfrm>
              <a:off x="4678200" y="419580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5" descr=""/>
            <p:cNvPicPr/>
            <p:nvPr/>
          </p:nvPicPr>
          <p:blipFill>
            <a:blip r:embed="rId15"/>
            <a:stretch/>
          </p:blipFill>
          <p:spPr>
            <a:xfrm>
              <a:off x="5551200" y="49849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5" descr=""/>
            <p:cNvPicPr/>
            <p:nvPr/>
          </p:nvPicPr>
          <p:blipFill>
            <a:blip r:embed="rId16"/>
            <a:stretch/>
          </p:blipFill>
          <p:spPr>
            <a:xfrm>
              <a:off x="5999400" y="49129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5" descr=""/>
            <p:cNvPicPr/>
            <p:nvPr/>
          </p:nvPicPr>
          <p:blipFill>
            <a:blip r:embed="rId17"/>
            <a:stretch/>
          </p:blipFill>
          <p:spPr>
            <a:xfrm>
              <a:off x="6271200" y="49129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" descr=""/>
            <p:cNvPicPr/>
            <p:nvPr/>
          </p:nvPicPr>
          <p:blipFill>
            <a:blip r:embed="rId18"/>
            <a:stretch/>
          </p:blipFill>
          <p:spPr>
            <a:xfrm>
              <a:off x="6663600" y="484524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5" descr=""/>
            <p:cNvPicPr/>
            <p:nvPr/>
          </p:nvPicPr>
          <p:blipFill>
            <a:blip r:embed="rId19"/>
            <a:stretch/>
          </p:blipFill>
          <p:spPr>
            <a:xfrm>
              <a:off x="7077600" y="49129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5" descr=""/>
            <p:cNvPicPr/>
            <p:nvPr/>
          </p:nvPicPr>
          <p:blipFill>
            <a:blip r:embed="rId20"/>
            <a:stretch/>
          </p:blipFill>
          <p:spPr>
            <a:xfrm>
              <a:off x="7430040" y="4912920"/>
              <a:ext cx="413640" cy="39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ким  образом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</a:rPr>
              <a:t>ежедневная коррекционная деятельность с детьми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течении дня способствует  укреплению  глазных  мышц,  снятию  с  них  напряжения.  Глаза  получают  возможность  свободно  двигаться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ри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</a:rPr>
              <a:t>ежедневном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их  выполнении  глазные  мышцы  надолго  сохраняют  эластичность  и  гибкость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Упражнения  для  глаз  активизируют  их  кровоснабжение  и  способствуют  поступлению  в  ткани  глаз  достаточного  количества  кислород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Наблюдается  заметное  улучшение  зрения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ктивизируется  и  развивается  зрительная  система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360" y="4581000"/>
            <a:ext cx="8229600" cy="18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nstantia"/>
              </a:rPr>
              <a:t>Вывод:</a:t>
            </a:r>
            <a:r>
              <a:rPr b="0" lang="ru-RU" sz="2000" spc="-1" strike="noStrike">
                <a:solidFill>
                  <a:srgbClr val="00b050"/>
                </a:solidFill>
                <a:latin typeface="Constantia"/>
              </a:rPr>
              <a:t> только систематическое  и комплексное взаимодействие педагогического и медицинского персонала ДОУ - залог эффективного  воздействия на улучшение и выздоровление нарушений зрения, а также при непосредственном участии </a:t>
            </a:r>
            <a:r>
              <a:rPr b="0" lang="ru-RU" sz="2000" spc="-1" strike="noStrike" u="sng">
                <a:solidFill>
                  <a:srgbClr val="00b050"/>
                </a:solidFill>
                <a:uFillTx/>
                <a:latin typeface="Constantia"/>
              </a:rPr>
              <a:t>родителей воспитанников ДОУ</a:t>
            </a:r>
            <a:r>
              <a:rPr b="0" lang="ru-RU" sz="2000" spc="-1" strike="noStrike">
                <a:solidFill>
                  <a:srgbClr val="00b05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79280" y="112392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ff0066"/>
                </a:solidFill>
                <a:latin typeface="Constantia"/>
              </a:rPr>
              <a:t>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Зрение - прекраснейший  дар  природы, позволяющий  познавать  и  видеть окружающий  мир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  Половина  биоэнергии,  потребляемой  организмом,  тратится  на  зрение;  90%  всей  информации  об  окружающем  человек  получает  с  помощью  органов  зрения.  Нагрузка  на  глаза  у  современного  ребенка  огромная.  Глаза  ребенка  выполняют значительную  зрительную  работу,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onstantia"/>
              </a:rPr>
              <a:t>а  отдыхают  они  лишь  во  время  сна.</a:t>
            </a: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4"/>
          <p:cNvSpPr txBox="1"/>
          <p:nvPr/>
        </p:nvSpPr>
        <p:spPr>
          <a:xfrm>
            <a:off x="1908000" y="1341360"/>
            <a:ext cx="511344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заимодействие медицинского и педагогического персонала в ДОУ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яду с образовательной деятельностью в ДОУ осуществляется коррекционная работа по двум  направлениям: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лечебно-восстановительное и коррекционно-педагогическо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с целью  осуществления необходимой коррекции недостатков в физическом и (или) психическом развитии детей с нарушением зрения,  согласно цели реализации образовательной программы до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Этапы  офтальмологического  лечения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 этап – плеоптический: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повышение  остроты 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зрения  до  возрастной  нормы  (пристальное  рассматривание  и  перцептивные  действия  с  мелкими  предметами (при дальнозоркости), с крупными (при миопии)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ношение очков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II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 этап – ортоптический:  подготовка к оперативному вмешательству(устранение  косоглазия),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ношение заклейки, лечение на офтальмологических аппарат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III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этап – диплоптический:  восстановление  бинокулярного  слияния  после устранения угла косоглазия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лечение на офтальмологических аппарат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Лечебно-восстановительное  направлени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69228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мотр врачом-офтальмологом один раз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5-20  дн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ндивидуальный осмотр по медицинским показан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вед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жедневного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лечения на офтальмологических аппарата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медсестрой-ортоптистк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современных технологий лечения с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м компьютерн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веде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енсорных упражн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мозаикой, конструктором, шнуровк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правление на госпитализацию и наблюдение после оперативного вмешатель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дивидуальные консультации врача –офтальмолога по запросу родителей: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 8.00-9.00 (ежедневно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росвещение родителе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вопросам глазной патологии (родительские собрания, памятки, стендовая информаци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оведение ежедневного лечения на офтальмологических аппаратах врачом-офтальмологом, медсестрой офтальмологического кабинет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Содержимое 6" descr="IMG_2089.JPG"/>
          <p:cNvPicPr/>
          <p:nvPr/>
        </p:nvPicPr>
        <p:blipFill>
          <a:blip r:embed="rId1"/>
          <a:stretch/>
        </p:blipFill>
        <p:spPr>
          <a:xfrm>
            <a:off x="961920" y="21193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72" name="Содержимое 7" descr="IMG_2113.JPG"/>
          <p:cNvPicPr/>
          <p:nvPr/>
        </p:nvPicPr>
        <p:blipFill>
          <a:blip r:embed="rId2"/>
          <a:stretch/>
        </p:blipFill>
        <p:spPr>
          <a:xfrm>
            <a:off x="5153040" y="21193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Проведение ежедневного лечения на офтальмологических аппаратах медсестрой офтальмологического кабинета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2" descr="C:\Users\Добро\Desktop\презентация ясли\фото\лечение\20171213_093123.jpg"/>
          <p:cNvPicPr/>
          <p:nvPr/>
        </p:nvPicPr>
        <p:blipFill>
          <a:blip r:embed="rId1"/>
          <a:stretch/>
        </p:blipFill>
        <p:spPr>
          <a:xfrm>
            <a:off x="1258920" y="1920960"/>
            <a:ext cx="2952720" cy="4433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Users\Добро\Desktop\презентация ясли\фото\лечение\20171213_093431.jpg"/>
          <p:cNvPicPr/>
          <p:nvPr/>
        </p:nvPicPr>
        <p:blipFill>
          <a:blip r:embed="rId2"/>
          <a:stretch/>
        </p:blipFill>
        <p:spPr>
          <a:xfrm>
            <a:off x="5076720" y="1916280"/>
            <a:ext cx="29512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оведение ежедневного лечения на офтальмологических аппаратах врачом-офтальмологом, медсестрой офтальмологического кабинет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Содержимое 8" descr="IMG_2093.JPG"/>
          <p:cNvPicPr/>
          <p:nvPr/>
        </p:nvPicPr>
        <p:blipFill>
          <a:blip r:embed="rId1"/>
          <a:stretch/>
        </p:blipFill>
        <p:spPr>
          <a:xfrm>
            <a:off x="961920" y="21193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78" name="Содержимое 9" descr="IMG_2094.JPG"/>
          <p:cNvPicPr/>
          <p:nvPr/>
        </p:nvPicPr>
        <p:blipFill>
          <a:blip r:embed="rId2"/>
          <a:stretch/>
        </p:blipFill>
        <p:spPr>
          <a:xfrm>
            <a:off x="5153040" y="21193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4:58:10Z</dcterms:created>
  <dc:creator>a</dc:creator>
  <dc:description/>
  <dc:language>en-US</dc:language>
  <cp:lastModifiedBy>User</cp:lastModifiedBy>
  <dcterms:modified xsi:type="dcterms:W3CDTF">2022-02-14T04:17:48Z</dcterms:modified>
  <cp:revision>3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a0000000000010291210207f7000400038000</vt:lpwstr>
  </property>
</Properties>
</file>