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4A8C-CF97-403D-A8A9-31CB0B105E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51FE-1AF8-4896-99AC-B33DE7E34B12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8A4B-7283-419D-BCF8-369A53A04A8F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0CD7-3300-4F9A-A0B4-E6802613D2E2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D953-B1F2-4E2B-B56A-AAA931B57689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658F-CFB8-4182-A5A3-24A0F530CFED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7FF-7EBF-4A73-B5D6-957F06F2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B28-D8B2-4A79-A2EB-3D397171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CD4-B6A6-4C74-AB2B-AEA2C92C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DF3-F026-47CD-BEA4-0E3F5F4E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2991-084E-4660-9427-21EC9CB9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4D73-7FE6-41C8-A525-CD9A6369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E13D-3F70-484C-A7BC-52AE0FCA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5927-3A6E-4AA6-B819-DBB5470F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B14C-A5BB-4A34-95C1-E768BAE5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7CD1-A662-48CC-85B7-E94359B1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2A00-2337-48CC-960C-9113184A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7D5-A390-400C-8684-5370C64D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4ECD-18AF-4D5B-86CB-BB41BF8E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245D-7031-48ED-A982-FA0824AA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6F9E-CDC8-4EF4-9438-FC1BFC76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99F0-8D20-4696-9B6F-D4DAE64C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31CB-72D3-47E2-B90F-41A5C43C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C30CC-66CE-44F2-9247-D911BBB5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9AB1-2488-4F3F-B49B-93149B0C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D39C-8CFC-4317-AB6A-A1CE0263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E8AD-B606-4C7F-B4F3-90E5725D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0E9B-A04F-43AC-80C6-52891118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D05-E27C-481B-BD29-0200E2F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644D-112D-4328-A72C-3592BA01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D992-2EE6-43E1-877E-7E6965E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D81D0-45E7-430E-8851-9D839548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B43E-1F78-465E-994B-36657C58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BBDC-FF6C-4E2D-86C9-D8CA403B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4158-CB5E-4762-9E6D-608C872D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B06C6-D463-4414-A358-D0FFEAC9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A815-BEEA-4A23-9150-5763E9BB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D77B-6C6A-481A-819B-9C8FBC37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AD36E-CE3F-4A01-8B51-B1589FEA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534-F6B3-40CF-A191-AE55F51E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6B016-34DE-477D-A2CE-8326BCBD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A89B-15D1-47B3-B2E9-4E7C715A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AFFC-180A-46A2-BA91-48018B06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74E3-1B2E-4A5B-8DAC-5967883B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12CA-46A7-4F5E-933B-C4C5430E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774EB-98D5-49B4-8A54-5BC0D87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229EB-6668-4F4F-84EC-5FF92028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E002-A1A6-4194-A2E3-68310A13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20DC-8816-4E69-80A1-8D6B5CD9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F7EDC-7F01-4771-BAD3-7C6103EE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AD7-1C22-463C-9E0C-6BCC1DFD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659C6-C50F-4465-BC2E-6335DCB1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03F3-41BB-44A0-9725-E709B9BA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89546-9339-4061-A05A-B29F9B06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68E16-FF65-4C4F-A416-8C5C7B28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22AA2-2814-4842-827C-E9CFBD75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1A1A1-13E3-4736-B504-E4E44FA2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3461-B948-41F0-B3BF-A814478C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43A7-CDE1-4DAF-B84F-E477836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6E29-0214-47CB-99BA-55E78415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3AC58-D727-4E55-87B8-5C5669B8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638-17B9-43AF-99EC-E851B908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119A9-E18D-4A0D-A50E-6AFB1E4D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C40-73CA-4C5F-9230-A8236A8F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63C-D0E5-4EBF-8E67-891FC15D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996-BF2B-4A96-83A1-879F660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10AA-9F33-4FC6-8BBE-3C10A1E5A0E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AFFE-9BF2-4573-9368-DAD888CDEE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142" name="Group 3"/>
            <p:cNvGrpSpPr/>
            <p:nvPr/>
          </p:nvGrpSpPr>
          <p:grpSpPr>
            <a:xfrm>
              <a:off x="5408280" y="63000"/>
              <a:ext cx="3621600" cy="6130440"/>
              <a:chOff x="5408280" y="63000"/>
              <a:chExt cx="3621600" cy="6130440"/>
            </a:xfrm>
          </p:grpSpPr>
          <p:sp>
            <p:nvSpPr>
              <p:cNvPr id="143" name="Freeform 4"/>
              <p:cNvSpPr/>
              <p:nvPr/>
            </p:nvSpPr>
            <p:spPr>
              <a:xfrm flipV="1" rot="11970000">
                <a:off x="6580800" y="348120"/>
                <a:ext cx="2116440" cy="2355120"/>
              </a:xfrm>
              <a:custGeom>
                <a:avLst/>
                <a:gdLst>
                  <a:gd name="textAreaLeft" fmla="*/ 0 w 2116440"/>
                  <a:gd name="textAreaRight" fmla="*/ 2116800 w 2116440"/>
                  <a:gd name="textAreaTop" fmla="*/ 360 h 2355120"/>
                  <a:gd name="textAreaBottom" fmla="*/ 2355840 h 23551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4" name="Freeform 5"/>
              <p:cNvSpPr/>
              <p:nvPr/>
            </p:nvSpPr>
            <p:spPr>
              <a:xfrm flipV="1" rot="11970000">
                <a:off x="7421400" y="1958760"/>
                <a:ext cx="906480" cy="84276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5" name="Freeform 6"/>
              <p:cNvSpPr/>
              <p:nvPr/>
            </p:nvSpPr>
            <p:spPr>
              <a:xfrm flipV="1" rot="11970000">
                <a:off x="6824160" y="2591280"/>
                <a:ext cx="439920" cy="394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6" name="Freeform 7"/>
              <p:cNvSpPr/>
              <p:nvPr/>
            </p:nvSpPr>
            <p:spPr>
              <a:xfrm flipV="1" rot="11970000">
                <a:off x="7251480" y="675000"/>
                <a:ext cx="388800" cy="55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 flipV="1" rot="11970000">
                <a:off x="7151400" y="26470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 flipV="1" rot="11970000">
                <a:off x="7137360" y="124416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 flipV="1" rot="11970000">
                <a:off x="5938560" y="2933280"/>
                <a:ext cx="523800" cy="326628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6280"/>
                  <a:gd name="textAreaBottom" fmla="*/ 3266280 h 326628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156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57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8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9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21"/>
            <p:cNvGrpSpPr/>
            <p:nvPr/>
          </p:nvGrpSpPr>
          <p:grpSpPr>
            <a:xfrm>
              <a:off x="5653080" y="301680"/>
              <a:ext cx="894600" cy="825480"/>
              <a:chOff x="5653080" y="301680"/>
              <a:chExt cx="894600" cy="825480"/>
            </a:xfrm>
          </p:grpSpPr>
          <p:sp>
            <p:nvSpPr>
              <p:cNvPr id="161" name="Freeform 22"/>
              <p:cNvSpPr/>
              <p:nvPr/>
            </p:nvSpPr>
            <p:spPr>
              <a:xfrm rot="14908200">
                <a:off x="5763960" y="795600"/>
                <a:ext cx="181080" cy="36180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2" name="Freeform 23"/>
              <p:cNvSpPr/>
              <p:nvPr/>
            </p:nvSpPr>
            <p:spPr>
              <a:xfrm rot="14908200">
                <a:off x="5713920" y="477360"/>
                <a:ext cx="308160" cy="300600"/>
              </a:xfrm>
              <a:custGeom>
                <a:avLst/>
                <a:gdLst>
                  <a:gd name="textAreaLeft" fmla="*/ 0 w 308160"/>
                  <a:gd name="textAreaRight" fmla="*/ 308160 w 3081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3" name="Freeform 24"/>
              <p:cNvSpPr/>
              <p:nvPr/>
            </p:nvSpPr>
            <p:spPr>
              <a:xfrm rot="14908200">
                <a:off x="6256080" y="403200"/>
                <a:ext cx="322200" cy="15300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5"/>
            <p:cNvGrpSpPr/>
            <p:nvPr/>
          </p:nvGrpSpPr>
          <p:grpSpPr>
            <a:xfrm>
              <a:off x="961200" y="5253480"/>
              <a:ext cx="1062360" cy="829800"/>
              <a:chOff x="961200" y="5253480"/>
              <a:chExt cx="1062360" cy="829800"/>
            </a:xfrm>
          </p:grpSpPr>
          <p:sp>
            <p:nvSpPr>
              <p:cNvPr id="165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6" name="Freeform 27"/>
              <p:cNvSpPr/>
              <p:nvPr/>
            </p:nvSpPr>
            <p:spPr>
              <a:xfrm rot="8524800">
                <a:off x="1185480" y="5727240"/>
                <a:ext cx="429480" cy="2505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7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69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0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1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73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4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5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76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77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78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0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2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CD20-0896-4BA7-87F2-667C01E0B56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2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2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2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2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2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3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3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3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237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238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24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4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5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5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5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5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D2A4-01B5-47D0-AD1D-ECD3B6B7EBF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7F36-890F-4566-8E4E-B5E9F4CE637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i="1" lang="ru-RU" sz="5900" spc="-1" strike="noStrike">
                <a:solidFill>
                  <a:srgbClr val="ffffcc"/>
                </a:solidFill>
                <a:latin typeface="Arial"/>
              </a:rPr>
              <a:t>Решение </a:t>
            </a:r>
            <a:br>
              <a:rPr sz="5900"/>
            </a:br>
            <a:r>
              <a:rPr b="1" i="1" lang="ru-RU" sz="5900" spc="-1" strike="noStrike">
                <a:solidFill>
                  <a:srgbClr val="ffffcc"/>
                </a:solidFill>
                <a:latin typeface="Arial"/>
              </a:rPr>
              <a:t>рациональных</a:t>
            </a:r>
            <a:br>
              <a:rPr sz="5900"/>
            </a:br>
            <a:r>
              <a:rPr b="1" i="1" lang="ru-RU" sz="5900" spc="-1" strike="noStrike">
                <a:solidFill>
                  <a:srgbClr val="ffffcc"/>
                </a:solidFill>
                <a:latin typeface="Arial"/>
              </a:rPr>
              <a:t>неравенств</a:t>
            </a:r>
            <a:br>
              <a:rPr sz="2700"/>
            </a:br>
            <a:r>
              <a:rPr b="1" i="1" lang="ru-RU" sz="5900" spc="-1" strike="noStrike">
                <a:solidFill>
                  <a:srgbClr val="ffffcc"/>
                </a:solidFill>
                <a:latin typeface="Arial"/>
              </a:rPr>
              <a:t>методом интервалов</a:t>
            </a:r>
            <a:r>
              <a:rPr b="0" lang="ru-RU" sz="5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и и задач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0560" y="1700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- обобщить ранее изученный материал о решении неравенств методом </a:t>
            </a:r>
            <a:br>
              <a:rPr sz="3000"/>
            </a:b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 интервалов; </a:t>
            </a:r>
            <a:br>
              <a:rPr sz="3000"/>
            </a:b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- закрепить умения и навыки в решении рациональных неравенств;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- выработка умений и навыков в решении неравенств различного типа </a:t>
            </a:r>
            <a:br>
              <a:rPr sz="3000"/>
            </a:b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 методом интервалов;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- повысить интерес учащихся к нестандартным задачам, сформировать у них   положительный мотив учения.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3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ример: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6666"/>
                </a:solidFill>
                <a:latin typeface="Verdana"/>
              </a:rPr>
              <a:t>Решим неравенство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5336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лан решени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Times New Roman"/>
              </a:rPr>
              <a:t>Рассмотрим функцию    </a:t>
            </a:r>
            <a:r>
              <a:rPr b="0" i="1" lang="en-US" sz="1600" spc="-1" strike="noStrike">
                <a:solidFill>
                  <a:srgbClr val="006699"/>
                </a:solidFill>
                <a:latin typeface="Times New Roman"/>
              </a:rPr>
              <a:t>F(x)</a:t>
            </a:r>
            <a:r>
              <a:rPr b="0" lang="ru-RU" sz="1600" spc="-1" strike="noStrike">
                <a:solidFill>
                  <a:srgbClr val="006699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Найдем область определения функци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Times New Roman"/>
              </a:rPr>
              <a:t>Вся числовая прямая, кроме нулей знаменател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Найдём нули функци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Отметим на числовой прямой найденные точк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7"/>
              <p:cNvSpPr txBox="1"/>
              <p:nvPr/>
            </p:nvSpPr>
            <p:spPr>
              <a:xfrm>
                <a:off x="3571920" y="1357200"/>
                <a:ext cx="9018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5940360" y="189000"/>
                <a:ext cx="19432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Rectangle 5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6"/>
              <p:cNvSpPr txBox="1"/>
              <p:nvPr/>
            </p:nvSpPr>
            <p:spPr>
              <a:xfrm>
                <a:off x="1619280" y="2708280"/>
                <a:ext cx="13716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9"/>
              <p:cNvSpPr txBox="1"/>
              <p:nvPr/>
            </p:nvSpPr>
            <p:spPr>
              <a:xfrm>
                <a:off x="4643280" y="457200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5" name="Picture 12" descr=""/>
          <p:cNvPicPr/>
          <p:nvPr/>
        </p:nvPicPr>
        <p:blipFill>
          <a:blip r:embed="rId1"/>
          <a:stretch/>
        </p:blipFill>
        <p:spPr>
          <a:xfrm>
            <a:off x="2214720" y="5500800"/>
            <a:ext cx="4686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9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209080" cy="279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402920" y="476280"/>
            <a:ext cx="745020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66640" indent="-566640"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Определим знаки функции в каждом интервале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Times New Roman"/>
              </a:rPr>
              <a:t>Неравенство нестрогое, поэтому числа -1 и 1 (нули функции 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f</a:t>
            </a:r>
            <a:r>
              <a:rPr b="0" i="1" lang="ru-RU" sz="2000" spc="-1" strike="noStrike">
                <a:solidFill>
                  <a:srgbClr val="006699"/>
                </a:solidFill>
                <a:latin typeface="Times New Roman"/>
              </a:rPr>
              <a:t>) являются решениями неравенств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Запишем ответ в виде объединения промежутков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2000" spc="-1" strike="noStrike">
                <a:solidFill>
                  <a:srgbClr val="006699"/>
                </a:solidFill>
                <a:latin typeface="Times New Roman"/>
              </a:rPr>
              <a:t>Ответ: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2"/>
          <a:stretch/>
        </p:blipFill>
        <p:spPr>
          <a:xfrm>
            <a:off x="2500200" y="1500120"/>
            <a:ext cx="4772160" cy="9050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7"/>
              <p:cNvSpPr txBox="1"/>
              <p:nvPr/>
            </p:nvSpPr>
            <p:spPr>
              <a:xfrm>
                <a:off x="3714840" y="4714920"/>
                <a:ext cx="2971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92120" y="2418840"/>
            <a:ext cx="6973920" cy="13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Спасибо за работу!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180" dur="1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0:05:07Z</dcterms:created>
  <dc:creator>User</dc:creator>
  <dc:description/>
  <dc:language>en-US</dc:language>
  <cp:lastModifiedBy>Админ</cp:lastModifiedBy>
  <dcterms:modified xsi:type="dcterms:W3CDTF">2017-10-18T17:00:13Z</dcterms:modified>
  <cp:revision>28</cp:revision>
  <dc:subject/>
  <dc:title>Урок алгебры в 10 классе Метод интервал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