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F78-9201-4DB7-BE7D-DE69A6CABB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9F5-1B0F-420C-9139-78F2FE5EB13C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8822-0AE6-497D-BFD0-0087F22D3E65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6062-1E96-4FA6-8316-4D62E77854DB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884-E359-40F1-BF8A-A393C02CB645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CA8-3091-416F-951B-D89E12011884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503-B58D-41EC-9B16-DB119093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57E-205E-45F7-9C61-CBB94F3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07E-FB39-47CE-912B-623DB57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D72-55F1-4779-8EAF-BEBFBE4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D4A7-3AD9-4A30-A2BE-69D7CA8F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90AA-5287-4229-9244-3B5FF285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8555-BBC7-449F-9A4A-6475E45F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15F-7D1A-44F3-8167-DE487CB4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45A0-B229-4E93-9CAD-B2B70604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BB80-F0EF-46D5-A1D7-AA3B3DD5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9FC0-839B-45D6-BC56-E16CFE7D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F2F-9B58-4229-935A-3D48CBA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FDBF-DCA1-4C93-8978-A021F039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6D6E-EB84-4973-B44C-8F2822C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AF6C-726A-4BCB-A940-C8F14E1D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4B72-1A36-40B1-8E3C-4B0941F4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47BF-CAEE-4D2F-8E9B-050C73B6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BF3E-6CC4-476E-BB41-2B1FBD43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4770-F86F-410D-9AF7-488FA77B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E0E7-CA31-46CB-969D-B1AF6FD0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C391-0B84-40CB-8900-8D561E5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C4FC-8C46-4FBE-A874-CF62CEEC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454-E369-4885-9AA8-966BF0B8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1D7F-9E05-4F98-93B7-84EEA90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EC3F-B6EC-4A16-9A28-E5A57B6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866D-95B0-49E1-BEFC-491A52D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2519-EDB8-48F8-9780-0499A96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8640-EF09-4734-9EC6-18A73BE9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E25D-B38C-4832-B8E7-C9A809DE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A37F-FB82-42B3-9021-A9350F9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59FC-3C3A-484E-B5D4-29B6C3A1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6265-B408-414B-B2DA-E3DB4D60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E77E-BF18-49FF-A79E-77477713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EDF-529C-401E-83B8-B4485FDF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2BCE-9E09-4876-919F-CF1098F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3456-B5B4-4A6A-A226-51740BB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D85D-8E52-4177-AEEB-5412D08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9922-3B19-448F-A5C6-0B13DD1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1D89-4FB2-47E0-A59A-CB9502C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CDAF-743D-4538-9C3E-236293B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FFE8-AAF5-4F8E-9D3D-9C6F60E5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F296-EAB8-42A0-ACDC-9D3984F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773D-7AB0-4B97-93D8-44748B99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4448-231D-4479-9001-FF0EC92C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BA7-6A19-4079-93BA-B6B347FD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DDB6-C318-47EE-B87A-F4D65558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6783-81B9-468B-A5A7-9350B43D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73F0-287C-4A06-88F2-C1B543D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AE3D-8EC5-4DA4-8A03-A0364795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4CAB-7F66-4855-B69C-B66D8838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9644-3F8D-4E8B-94C5-B323A34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4B0F-CBB7-4E27-AC2E-09A7AF8F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B3E6-7A25-4C1B-B8D7-8AD18F4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D1CAC-99B8-4DFC-8C5C-C25AF51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9615-BF44-4794-8359-0EAA88BC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947-CD32-4F8D-953E-2F983B1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D85E-850E-401D-964E-CA25830C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1A2-FDCA-4415-9AFF-C4ADAF7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247-B45B-4043-80B5-540EC7E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2F0-EA21-4D6D-AA07-42A3656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4F1-E137-42FE-ACB3-DBEE9A5A208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1EFF-94BD-4FBA-AF2C-5C7DC7EAA7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42" name="Group 3"/>
            <p:cNvGrpSpPr/>
            <p:nvPr/>
          </p:nvGrpSpPr>
          <p:grpSpPr>
            <a:xfrm>
              <a:off x="5408280" y="63000"/>
              <a:ext cx="3621600" cy="6130440"/>
              <a:chOff x="5408280" y="63000"/>
              <a:chExt cx="3621600" cy="6130440"/>
            </a:xfrm>
          </p:grpSpPr>
          <p:sp>
            <p:nvSpPr>
              <p:cNvPr id="143" name="Freeform 4"/>
              <p:cNvSpPr/>
              <p:nvPr/>
            </p:nvSpPr>
            <p:spPr>
              <a:xfrm flipV="1" rot="11970000">
                <a:off x="6580800" y="348120"/>
                <a:ext cx="2116440" cy="2355120"/>
              </a:xfrm>
              <a:custGeom>
                <a:avLst/>
                <a:gdLst>
                  <a:gd name="textAreaLeft" fmla="*/ 0 w 2116440"/>
                  <a:gd name="textAreaRight" fmla="*/ 2116800 w 2116440"/>
                  <a:gd name="textAreaTop" fmla="*/ 360 h 2355120"/>
                  <a:gd name="textAreaBottom" fmla="*/ 2355840 h 23551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4" name="Freeform 5"/>
              <p:cNvSpPr/>
              <p:nvPr/>
            </p:nvSpPr>
            <p:spPr>
              <a:xfrm flipV="1" rot="11970000">
                <a:off x="7421400" y="195876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 flipV="1" rot="11970000">
                <a:off x="6824160" y="259128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 flipV="1" rot="11970000">
                <a:off x="7251480" y="675000"/>
                <a:ext cx="388800" cy="55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 flipV="1" rot="11970000">
                <a:off x="7151400" y="26470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 flipV="1" rot="11970000">
                <a:off x="713736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 flipV="1" rot="11970000">
                <a:off x="5938560" y="2933280"/>
                <a:ext cx="523800" cy="326628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6280"/>
                  <a:gd name="textAreaBottom" fmla="*/ 3266280 h 32662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5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5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1"/>
            <p:cNvGrpSpPr/>
            <p:nvPr/>
          </p:nvGrpSpPr>
          <p:grpSpPr>
            <a:xfrm>
              <a:off x="5653080" y="301680"/>
              <a:ext cx="894600" cy="825480"/>
              <a:chOff x="5653080" y="301680"/>
              <a:chExt cx="894600" cy="825480"/>
            </a:xfrm>
          </p:grpSpPr>
          <p:sp>
            <p:nvSpPr>
              <p:cNvPr id="161" name="Freeform 22"/>
              <p:cNvSpPr/>
              <p:nvPr/>
            </p:nvSpPr>
            <p:spPr>
              <a:xfrm rot="14908200">
                <a:off x="5763960" y="795600"/>
                <a:ext cx="181080" cy="3618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2" name="Freeform 23"/>
              <p:cNvSpPr/>
              <p:nvPr/>
            </p:nvSpPr>
            <p:spPr>
              <a:xfrm rot="14908200">
                <a:off x="5713920" y="477360"/>
                <a:ext cx="308160" cy="300600"/>
              </a:xfrm>
              <a:custGeom>
                <a:avLst/>
                <a:gdLst>
                  <a:gd name="textAreaLeft" fmla="*/ 0 w 308160"/>
                  <a:gd name="textAreaRight" fmla="*/ 308160 w 3081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3" name="Freeform 24"/>
              <p:cNvSpPr/>
              <p:nvPr/>
            </p:nvSpPr>
            <p:spPr>
              <a:xfrm rot="14908200">
                <a:off x="6256080" y="403200"/>
                <a:ext cx="322200" cy="1530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165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6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67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69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1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73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4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6BE-6CFC-4D5E-86B4-17BF5B1D15E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2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2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2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2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2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3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3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3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23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23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24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4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5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5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5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5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5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6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37A-9821-4B28-805A-225175943F9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A579-B78F-43AB-8203-E2A7DA843F1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Решение </a:t>
            </a:r>
            <a:br>
              <a:rPr sz="59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рациональных</a:t>
            </a:r>
            <a:br>
              <a:rPr sz="59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неравенств</a:t>
            </a:r>
            <a:br>
              <a:rPr sz="2700"/>
            </a:br>
            <a:r>
              <a:rPr b="1" i="1" lang="ru-RU" sz="5900" spc="-1" strike="noStrike">
                <a:solidFill>
                  <a:srgbClr val="ffffcc"/>
                </a:solidFill>
                <a:latin typeface="Arial"/>
              </a:rPr>
              <a:t>методом интервалов</a:t>
            </a:r>
            <a:r>
              <a:rPr b="0" lang="ru-RU" sz="5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и и задач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обобщить ранее изученный материал о решении неравенств методом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интервалов;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закрепить умения и навыки в решении рациональных неравенств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выработка умений и навыков в решении неравенств различного типа </a:t>
            </a:r>
            <a:br>
              <a:rPr sz="3000"/>
            </a:b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методом интервалов;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- повысить интерес учащихся к нестандартным задачам, сформировать у них   положительный мотив учения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имер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Решим неравенство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5336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лан реше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Рассмотрим функцию    </a:t>
            </a:r>
            <a:r>
              <a:rPr b="0" i="1" lang="en-US" sz="1600" spc="-1" strike="noStrike">
                <a:solidFill>
                  <a:srgbClr val="006699"/>
                </a:solidFill>
                <a:latin typeface="Times New Roman"/>
              </a:rPr>
              <a:t>F(x)</a:t>
            </a:r>
            <a:r>
              <a:rPr b="0" lang="ru-RU" sz="1600" spc="-1" strike="noStrike">
                <a:solidFill>
                  <a:srgbClr val="006699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йдем область определения фун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Times New Roman"/>
              </a:rPr>
              <a:t>Вся числовая прямая, кроме нулей знаменател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йдём нули фун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тметим на числовой прямой найденные точк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7"/>
              <p:cNvSpPr txBox="1"/>
              <p:nvPr/>
            </p:nvSpPr>
            <p:spPr>
              <a:xfrm>
                <a:off x="3571920" y="1357200"/>
                <a:ext cx="9018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5940360" y="189000"/>
                <a:ext cx="1943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ctangle 5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6"/>
              <p:cNvSpPr txBox="1"/>
              <p:nvPr/>
            </p:nvSpPr>
            <p:spPr>
              <a:xfrm>
                <a:off x="1619280" y="2708280"/>
                <a:ext cx="13716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9"/>
              <p:cNvSpPr txBox="1"/>
              <p:nvPr/>
            </p:nvSpPr>
            <p:spPr>
              <a:xfrm>
                <a:off x="4643280" y="457200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5" name="Picture 12" descr=""/>
          <p:cNvPicPr/>
          <p:nvPr/>
        </p:nvPicPr>
        <p:blipFill>
          <a:blip r:embed="rId1"/>
          <a:stretch/>
        </p:blipFill>
        <p:spPr>
          <a:xfrm>
            <a:off x="2214720" y="5500800"/>
            <a:ext cx="4686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9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1402920" y="476280"/>
            <a:ext cx="74502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Определим знаки функции в каждом интервал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Неравенство нестрогое, поэтому числа -1 и 1 (нули функции 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f</a:t>
            </a: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) являются решениями неравен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Запишем ответ в виде объединения промежутко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Ответ: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2500200" y="1500120"/>
            <a:ext cx="4772160" cy="9050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7"/>
              <p:cNvSpPr txBox="1"/>
              <p:nvPr/>
            </p:nvSpPr>
            <p:spPr>
              <a:xfrm>
                <a:off x="3714840" y="4714920"/>
                <a:ext cx="2971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92120" y="2418840"/>
            <a:ext cx="6973920" cy="13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0:05:07Z</dcterms:created>
  <dc:creator>User</dc:creator>
  <dc:description/>
  <dc:language>en-US</dc:language>
  <cp:lastModifiedBy>Админ</cp:lastModifiedBy>
  <dcterms:modified xsi:type="dcterms:W3CDTF">2017-10-18T17:00:13Z</dcterms:modified>
  <cp:revision>28</cp:revision>
  <dc:subject/>
  <dc:title>Урок алгебры в 10 классе Метод интерва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