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238-62E3-46A8-AD44-74E43EC3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EF4-C6E3-4005-A4C0-726C682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F6CA3-F57B-421A-ABAB-3A3B9662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C2BCA-FB43-4F4F-9696-5E0EB28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8F4A4-C39E-45E9-9258-3FF34D57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C0865-FE2C-484A-822B-762E5BC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B7867-56AA-47FA-AC5D-85CCF25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FD621-3170-4B4A-B52B-16056BE4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D6046-BE42-4636-865C-9055E575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D027B-99C4-4324-A3B8-4AF4373C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FF361-8C32-4506-A60E-89A278D8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35BE9-8E0E-42C9-AA52-398E9C85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24F-4F1D-41BF-8AC9-016D8B8B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7AA6E-22F8-4B60-8B73-1F4AC3D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B45E5-FD99-42B8-8F09-30854EF0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41D1F-0C46-4A43-930B-3156A631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82409-B3D0-4379-948F-FB6E6A15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45ABD-7268-485E-9699-798FD926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06B46-EEB1-4883-8C3C-0FBBE74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EEA05-CAD1-45FE-8CB4-A184687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64E07-2251-45CB-8F0F-5478943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BBC64-8999-485B-B18F-B4572716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E1287-81DE-466D-A897-04F2A7C9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1D6-5AFD-43E1-B16F-891C6E89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3E206-27CB-46ED-B87D-EBB20055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B4406-A1A6-4715-9585-5E39589D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42989-2F65-4C05-9109-4899EDC5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9A87F-24BA-4DC5-8BEB-9F6294E1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F704-78BD-4E66-BC09-270B0F8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C61C-4C54-4FF9-AE9D-C0E5A68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5FFCA-F729-4788-9451-2BD08A2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14BDD-501A-417E-9AE1-A620608A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01947-CF41-4CD7-B3FF-5DCD9AD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5BE0C-0E83-46E1-815F-6EDE1288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D8AA-6273-4B46-A0D8-6D7AA188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55238-1C1F-4726-948C-9FE560C7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67ACB-F1FD-43B9-AA8B-68EFE99E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A0BFA-7677-44CF-A049-F4674598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38EDD-1A53-479D-8984-65CEB949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E059C-04A1-4CA3-9591-36523593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4043-5BB0-4077-BEB5-3EFBE1A7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9A980-0889-4437-AC7E-4C15EEC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174D2-E0DF-4050-9838-A3C68694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9F325-5C4B-450D-BF7C-B606132F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B26BF-2637-457A-848E-43A0E39A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F6B3-21F2-43CC-BA02-FC123F8C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F18E3-27D9-44FB-8B09-1046ADF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CC746-AB7B-47BC-A51B-EF70CEC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0F9FE-5EB0-4FE1-BB99-4CC2B84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3883F-8596-4E11-B8B8-468452CA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ED53D-1A51-4CD1-8EA8-85C13AFC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BABE5-A28F-458D-BBC1-E7AAFC2E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3A55D-BB3C-4960-B98E-FFFEA75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D57ED-56C1-4591-88AD-6DBDC1B4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CFBAF-2C3F-4543-8A36-1BF0DC1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57F0C-BF09-4F54-A0CF-18B061B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752D-A017-41F7-A1D0-A7B1425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30001-0485-453A-86AC-DEC401A2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0BC5E-B280-410F-BAE8-B77C2300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1628C-9F3C-48F5-A374-18E418E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9E0DE-2715-46E0-958B-AE9C3EB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E5016-EA5E-4B6C-B067-7997444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5BA53-D411-43E2-B7A9-D38D913C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F4477-B77B-4B42-8B0C-6A39932B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4B1C3-8975-46EA-A663-BB129E4D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99538-5F71-4195-AF49-8AAE1D2B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0466E-FE0C-4F55-B85E-FA32AFE8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F8B4-383D-4B6E-AF5A-99C92DC6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03344-4418-443D-9A43-2D80AF90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BCCD1-51E2-46B4-9225-0D63A76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A5933-014D-4C07-BC54-3CF49232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858EC-E1D2-406E-9BC0-53E7294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60BE4-B7AD-47BB-B06F-844FC2C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E4B4B-E7AA-40C4-AFD5-769B3556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817EA-834E-4D19-BE39-FC6F07BD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B2945-0D08-410A-ACA0-6198AD9B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259BC-3D21-479D-9070-02A4EDF4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FAE2B-20C7-4E7B-8C5F-16A122F9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764A-73CB-4F80-BD8A-25616F79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370A1-22EE-43EA-BB5E-AC7A3B44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8C38A5-BF94-4396-B694-485BEE5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15875-B8EB-42C0-B2B8-B2BD6C93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164EC-D0BB-4119-AFB2-0E2F4025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2A087-3E76-466C-A5C2-6AE623C3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97E3E-133B-478A-80D2-6417B90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82688-D273-4E35-BE55-DD9FC18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A7435-A778-4DC2-8B46-D2DC8D9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554BD-2CFA-43D4-9189-DD19825E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4FACB-2AC6-41BB-95D2-74E9AB2E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417-6715-4417-B25F-31DBD53F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643C6-0A6F-4EDD-A5E8-F3D8926A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760DF-E2C4-427F-9483-203D3307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FF5F6-1B75-4E9F-B8A5-64126E7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AA365-0048-4305-A9BB-13768FB6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28097-B564-466C-A276-59844E1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CD6BB-E1EF-4BF7-93AF-771F528B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FA164-CA0B-4761-AF22-3776C69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28979-80FF-4F70-BFFE-A1B170A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82F72-C56D-4F0B-829E-FF0623B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74B30-055E-4EEE-8716-FB2DCE05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8A32-E9B4-4F27-9D5A-DBBE73D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11B8C-15C5-4036-A859-F1E6132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09240-6101-405B-99B5-6A4E16DF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FDCE1-C493-4A49-8D48-C02203C7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74B3A-79A4-4229-9F84-441E47CF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BE042-C149-4291-8079-3B9E9CAE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934F7-F03B-454C-808E-8AC77806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14D0D-BAB6-40AC-B06D-3958BDC9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B68E1-DDA6-4033-A8EE-6D20176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1F179-FF04-4BEC-A879-9193C439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A9430-77A6-44D7-86ED-EEF994C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BF8-9CF3-45CD-BECE-671C47DA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CED3-698C-458C-8C1C-1475E16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67C7A-1431-40E3-95D5-DB1840D7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9D80F-FE3D-4A9A-B99F-3BD09C8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0AC19-CDB8-4427-A10C-86CD90DA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48AEA-4EB1-4F30-B8C3-D1530FEA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40862-FBB4-48EB-B30E-FB46E42B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86CB8-A32E-4B88-9539-A11B4D2F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CD84B-6020-4422-8138-4EF9ACF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CF1CC-5283-458A-88A2-C193A599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328DAA-3DFE-4C83-8F67-DC5B5FBE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4429D-980D-4921-BA48-42F02DD0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E2D2-F082-46E6-AEA3-77992B31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6695F-CBFA-46D9-9A8D-D93DEFE0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52CE7-0404-463A-8E9E-B7A380D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F04116-A3A3-4C9C-9A11-10EE8A1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33F5C-701B-49A6-8331-80EFB53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83C54-A9CB-49F1-9C04-BCA777B3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77C73-EB69-4BAA-BC80-4BB2A1E9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8F7EB-A3C3-4D85-A64E-20F9B495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65273-455B-439B-930D-CF70DA0F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79552-C4B7-4C19-BB9B-9FF190A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EBA7A-2B8F-4A4B-8B1B-DD46FFC7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477A-962C-464D-BEA9-11964601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93B75-C6D7-4B44-9719-5ADA26F7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414C4-E89B-4E08-8B9D-D9A88B5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E9630-D4E1-43EF-AB05-B6EE5AFE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69117-405D-408A-AFEA-6F64DE0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D81F1-474A-4ECD-8ED6-191C1F06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E99FD-8ED3-4158-994A-864817B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7BD85-50CF-41B8-8E29-B25A3655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A638A-1C1E-4577-B29D-A3D11D60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09C47-2511-40A4-811C-BABB759A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8B5F-9438-4700-93B8-DD3932D4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0B5C-CD92-445E-8EE1-51116DF1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7E8B-DE46-4DFE-BE53-9139C095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267E-0103-47F9-AD39-67046F61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46A1E-A39B-4CC3-9619-A26BFA09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316A-5ED1-4AB4-A662-17AC4D0B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FC49-C6C8-4B60-A4FF-E2F4DCCA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E9B-74AF-4755-B4E2-6C7DB68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D0E3-FE9D-4454-B48B-27413A6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E960-E57B-4D86-972D-61D1AE6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C9E5-F47D-41FA-B9DC-A90B83B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5812-8A3E-4B0B-9C3C-48C1968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0E6C-4E01-46EC-91AB-12B64F41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FDE4-FFE4-46FA-B853-3D644DBA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A5AF-68AC-4EA6-84B6-2E2D5859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3024-A3A2-44A5-8236-BD3BE5A5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EB95-AB4D-4737-B8F9-4F1A6963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F4FD-FFC9-485D-A494-A1D20855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122-BD5A-4A49-B032-7108F8A5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A650-91D1-4587-9217-1236A8C3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484E-89B1-456C-BC5B-57BEFCEE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1E1C-E5D6-475D-82E3-59D97BC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76E5-1901-4B03-9B36-4EA17AB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1B49-363D-428E-9432-4571F937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BF10-5361-43E4-921E-005084D7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4277-BDED-4C66-BA5D-ABDCACC6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A6FC-266D-42B6-8A61-A9252EF3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938D9-00B4-4E54-B16F-D227AD8A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D4B6-F534-448B-94F6-6974F389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B0D-F6C4-4CFD-BC3D-1345093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B74C-A84C-43E1-A382-617494C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0D3C-869D-4909-AC51-1AB9523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0D85-F86C-49E5-932D-5450F456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FC009-0334-4BCF-8FAB-E9FDE4C3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3AF7-EF61-45F9-B5DE-3DF4655F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1A96-AF8A-4BD0-927A-B9ACB535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0688-74F9-4FC0-943F-C6568B22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0FA6-A8F0-4DAB-A5D3-3575C130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2C2E6-720B-4F27-885C-753303B1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F8F9-32C7-4A8C-894D-E5DE7EAF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09D-ACD7-4A94-9C8B-5F7F63D9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ECF5-6907-4F84-9263-FB9C2060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44E0-E215-4A28-9672-6B2CB101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E5591-A4AF-417C-8116-B29A81A3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9DFB-C20B-4CA4-9F29-6247AD82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67F6-EE2B-402B-B28E-188BB5D6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76E3-2CE3-4726-B505-97A86061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BD4D-F7EE-437A-AA50-A859200E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6BD68-C002-4ACD-9FC6-23285A0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ECFF-42BD-4E76-A956-0C32877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7595-6CC5-4F0C-8E9C-36E560ED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261-DFCF-43D3-9085-454790B4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E1665-444E-4EE5-843F-9621D8F1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EA1F-0F79-4C31-94DD-1D9C0EC0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2ADF-1C64-44D4-B1C7-5C1DA3FF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D6649-F215-4145-9453-F10C5955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EBE62-CD57-48B1-970C-320CD1EF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84069-B4E2-49FF-B6A5-774C95EA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A749-B1AF-457C-8D8E-3AE5D7C9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2433E-1B76-4153-B0A7-6D9200B8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AAA66-C410-4308-8FB1-2B71C201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A0569-2456-406F-B107-03F69AC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7E7-FF28-4F6B-B8AA-D08A823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34C2C-17A8-460E-B887-CF821D45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74E1-1402-49AB-9FC7-79EEAF2A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34A19-161C-4AE5-B3D9-B7C366A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4911-F5CE-4DB1-8748-F9BFD31E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8AF9B-355D-4085-8830-22C884EC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41ACD-C152-401D-B91B-EB773EF1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CF26E-1C90-4C46-B948-05DA3BE1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F073-AE4C-4373-B336-4A717DC0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95F12-E850-4DD6-A3BC-6DADEF3C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A1048-4721-4F2E-BACD-3549B91A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8FA-63A9-4D65-88FF-94C7C755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4D423-D118-40FF-8432-67192C72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A087F-C7B9-4C5D-9508-B5715B3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C90E9-17D1-45BF-861B-8945FD2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29902-F347-44C6-95C0-E88E869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7DC95-2D92-4E0A-82DF-F250C370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0FF93-CD9F-40B7-B6F9-EBC494C0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C4646-06AC-4DA9-BC6B-772E8108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E4CB6-27B9-49B6-973D-C6AC8991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C4AC1-B912-4EA8-81B0-7F6773F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204F7-9310-48DE-83DD-60AC9DE2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5E596-6166-486F-9C3F-C5BB0325B4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4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7D40D-CF7A-4D83-9813-C9B241CD10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2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4658F-DA76-4C90-A850-C41B717B25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BCFDB-60F8-4468-A125-46F39E432F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3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TextBox 14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DCE2B-6A02-4135-A839-0BA191FFB2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2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E8A8D-8A3B-4D2B-8560-522161431F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76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3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6D49F-280A-4047-B66F-0352F9671C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24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6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D9F69-8CFF-4824-97ED-DCA6853B56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0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2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9F8C1-9448-4A37-A3DA-23D86C8A8B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9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1D2D5-48B9-44EC-A7F8-B901F8617E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6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1B9C1-D3E0-46C1-A6C7-4FC226BA94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roplets-SD-Title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C5529-789D-49CE-B13B-B5EFF865E2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011C0-0719-461C-9681-787FB4ECA9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6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32046-0A84-45D9-A22C-0E3D76B5CC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4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C6429-6EB1-41FC-930A-F6B3FD244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2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19494-47B1-4869-9ABC-F64609442F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0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27E4A-910F-4B4F-847D-3CC12CA44B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8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AF69D-8AD8-4090-AA40-16D12B3AF4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7"/>
          <p:cNvSpPr/>
          <p:nvPr/>
        </p:nvSpPr>
        <p:spPr>
          <a:xfrm>
            <a:off x="654120" y="263520"/>
            <a:ext cx="8238960" cy="6330960"/>
          </a:xfrm>
          <a:prstGeom prst="rect">
            <a:avLst/>
          </a:prstGeom>
          <a:solidFill>
            <a:srgbClr val="ffffff">
              <a:alpha val="70000"/>
            </a:srgbClr>
          </a:solidFill>
          <a:ln w="158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25200" y="6619320"/>
            <a:ext cx="1086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b0f0"/>
                </a:solidFill>
                <a:latin typeface="Times New Roman"/>
                <a:ea typeface="Calibri"/>
              </a:rPr>
              <a:t>© Фокина Лидия Петровна </a:t>
            </a: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6" name="Picture 2" descr="http://img-fotki.yandex.ru/get/6709/16969765.141/0_74c93_8f7b4ea4_M.png"/>
          <p:cNvPicPr/>
          <p:nvPr/>
        </p:nvPicPr>
        <p:blipFill>
          <a:blip r:embed="rId3"/>
          <a:stretch/>
        </p:blipFill>
        <p:spPr>
          <a:xfrm>
            <a:off x="7308720" y="212760"/>
            <a:ext cx="1659240" cy="1579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zezete2.z.e.pic.centerblog.net/o/1c839cbc.png"/>
          <p:cNvPicPr/>
          <p:nvPr/>
        </p:nvPicPr>
        <p:blipFill>
          <a:blip r:embed="rId4"/>
          <a:stretch/>
        </p:blipFill>
        <p:spPr>
          <a:xfrm>
            <a:off x="7740720" y="5319720"/>
            <a:ext cx="1289160" cy="127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i99.beon.ru/s44.radikal.ru/i105/0906/b6/7336f2daad17.png"/>
          <p:cNvPicPr/>
          <p:nvPr/>
        </p:nvPicPr>
        <p:blipFill>
          <a:blip r:embed="rId5"/>
          <a:stretch/>
        </p:blipFill>
        <p:spPr>
          <a:xfrm>
            <a:off x="179280" y="585720"/>
            <a:ext cx="936720" cy="5686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Droplets-SD-Content-R1d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C48DF-402C-4605-A502-A6F735FFE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Группа 6"/>
          <p:cNvGrpSpPr/>
          <p:nvPr/>
        </p:nvGrpSpPr>
        <p:grpSpPr>
          <a:xfrm>
            <a:off x="1042920" y="1125360"/>
            <a:ext cx="7743960" cy="5336640"/>
            <a:chOff x="1042920" y="1125360"/>
            <a:chExt cx="7743960" cy="5336640"/>
          </a:xfrm>
        </p:grpSpPr>
        <p:pic>
          <p:nvPicPr>
            <p:cNvPr id="91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042920" y="1125360"/>
              <a:ext cx="7743960" cy="21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Прямоугольник 3"/>
            <p:cNvSpPr/>
            <p:nvPr/>
          </p:nvSpPr>
          <p:spPr>
            <a:xfrm flipV="1" rot="10800000">
              <a:off x="4886640" y="5515200"/>
              <a:ext cx="3025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274fa4"/>
                  </a:solidFill>
                  <a:latin typeface="Times New Roman"/>
                  <a:ea typeface="Times New Roman"/>
                </a:rPr>
                <a:t>Выполнила: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274fa4"/>
                  </a:solidFill>
                  <a:latin typeface="Times New Roman"/>
                  <a:ea typeface="Times New Roman"/>
                </a:rPr>
                <a:t>Воспитатель: Лунегова Елизавета Олеговна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274fa4"/>
                  </a:solidFill>
                  <a:latin typeface="Times New Roman"/>
                  <a:ea typeface="Times New Roman"/>
                </a:rPr>
                <a:t>Город Санкт-Петербург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23640" y="83628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АВИЛА-НАПОМИНАНИЯ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16" name="Подзаголовок 2" descr=""/>
          <p:cNvPicPr/>
          <p:nvPr/>
        </p:nvPicPr>
        <p:blipFill>
          <a:blip r:embed="rId1"/>
          <a:stretch/>
        </p:blipFill>
        <p:spPr>
          <a:xfrm>
            <a:off x="1401840" y="1700280"/>
            <a:ext cx="6370560" cy="43956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944640" y="4065480"/>
            <a:ext cx="2079720" cy="22748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2" descr="F:\ПЕХОТИНА\Дубова\z60.jpg"/>
          <p:cNvPicPr/>
          <p:nvPr/>
        </p:nvPicPr>
        <p:blipFill>
          <a:blip r:embed="rId3"/>
          <a:stretch/>
        </p:blipFill>
        <p:spPr>
          <a:xfrm>
            <a:off x="6732720" y="112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Заголовок 2" descr=""/>
          <p:cNvPicPr/>
          <p:nvPr/>
        </p:nvPicPr>
        <p:blipFill>
          <a:blip r:embed="rId1"/>
          <a:stretch/>
        </p:blipFill>
        <p:spPr>
          <a:xfrm>
            <a:off x="262080" y="262080"/>
            <a:ext cx="8686800" cy="97632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9" descr="ANd9GcR9ZlefMLOCg6S3XjkpjtKgRynDSujoJQNo3YWO6RDnwUaon634"/>
          <p:cNvPicPr/>
          <p:nvPr/>
        </p:nvPicPr>
        <p:blipFill>
          <a:blip r:embed="rId2"/>
          <a:stretch/>
        </p:blipFill>
        <p:spPr>
          <a:xfrm>
            <a:off x="719280" y="1371600"/>
            <a:ext cx="1901520" cy="21528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17" descr="ANd9GcRBlRrH1Wi7RmD692k_X5zx5ytro6OMDpG3hARIVWdJE5iCmrr0"/>
          <p:cNvPicPr/>
          <p:nvPr/>
        </p:nvPicPr>
        <p:blipFill>
          <a:blip r:embed="rId3"/>
          <a:stretch/>
        </p:blipFill>
        <p:spPr>
          <a:xfrm>
            <a:off x="6753240" y="1263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5" descr="ANd9GcRuJtFIkyLM0dgbWeTkS1GX-v5nXbUmGkbatVhDZL0vvs6R1mVF"/>
          <p:cNvPicPr/>
          <p:nvPr/>
        </p:nvPicPr>
        <p:blipFill>
          <a:blip r:embed="rId4"/>
          <a:stretch/>
        </p:blipFill>
        <p:spPr>
          <a:xfrm>
            <a:off x="249120" y="4145040"/>
            <a:ext cx="2013120" cy="2274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h_b5ae906b6e1ec03a84ff34f68018e2a1"/>
          <p:cNvPicPr/>
          <p:nvPr/>
        </p:nvPicPr>
        <p:blipFill>
          <a:blip r:embed="rId5"/>
          <a:stretch/>
        </p:blipFill>
        <p:spPr>
          <a:xfrm>
            <a:off x="5950080" y="4078440"/>
            <a:ext cx="2968560" cy="2341440"/>
          </a:xfrm>
          <a:prstGeom prst="rect">
            <a:avLst/>
          </a:prstGeom>
          <a:ln w="0">
            <a:noFill/>
          </a:ln>
        </p:spPr>
      </p:pic>
      <p:pic>
        <p:nvPicPr>
          <p:cNvPr id="924" name="TextBox 10" descr=""/>
          <p:cNvPicPr/>
          <p:nvPr/>
        </p:nvPicPr>
        <p:blipFill>
          <a:blip r:embed="rId6"/>
          <a:stretch/>
        </p:blipFill>
        <p:spPr>
          <a:xfrm>
            <a:off x="2627280" y="1841400"/>
            <a:ext cx="4035600" cy="920880"/>
          </a:xfrm>
          <a:prstGeom prst="rect">
            <a:avLst/>
          </a:prstGeom>
          <a:ln w="0">
            <a:noFill/>
          </a:ln>
        </p:spPr>
      </p:pic>
      <p:pic>
        <p:nvPicPr>
          <p:cNvPr id="925" name="TextBox 11" descr=""/>
          <p:cNvPicPr/>
          <p:nvPr/>
        </p:nvPicPr>
        <p:blipFill>
          <a:blip r:embed="rId7"/>
          <a:stretch/>
        </p:blipFill>
        <p:spPr>
          <a:xfrm>
            <a:off x="2987640" y="2664000"/>
            <a:ext cx="5400720" cy="1328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1" descr="ANd9GcSNWlgtZWp8z6cEPuP7zwjiSZrP2AjU3ABeHaEiK6WqgfbEXxWR"/>
          <p:cNvPicPr/>
          <p:nvPr/>
        </p:nvPicPr>
        <p:blipFill>
          <a:blip r:embed="rId8"/>
          <a:stretch/>
        </p:blipFill>
        <p:spPr>
          <a:xfrm>
            <a:off x="2627280" y="4022640"/>
            <a:ext cx="262728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Заголовок 1" descr=""/>
          <p:cNvPicPr/>
          <p:nvPr/>
        </p:nvPicPr>
        <p:blipFill>
          <a:blip r:embed="rId1"/>
          <a:stretch/>
        </p:blipFill>
        <p:spPr>
          <a:xfrm>
            <a:off x="231840" y="189000"/>
            <a:ext cx="8686800" cy="98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4" descr="ANd9GcSEJ68_VuNdJutHUIUo0YDBBQUwjzgoXPB9L-xL93EirF6tzNk0"/>
          <p:cNvPicPr/>
          <p:nvPr/>
        </p:nvPicPr>
        <p:blipFill>
          <a:blip r:embed="rId2"/>
          <a:stretch/>
        </p:blipFill>
        <p:spPr>
          <a:xfrm>
            <a:off x="6156360" y="119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29" name="TextBox 4" descr=""/>
          <p:cNvPicPr/>
          <p:nvPr/>
        </p:nvPicPr>
        <p:blipFill>
          <a:blip r:embed="rId3"/>
          <a:stretch/>
        </p:blipFill>
        <p:spPr>
          <a:xfrm>
            <a:off x="1895400" y="1438200"/>
            <a:ext cx="4548240" cy="963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2" descr="ANd9GcTcwEGPme1hd2ODioBSlHdzf8CefbJeRATecIdBb-ENLkn-kW2N"/>
          <p:cNvPicPr/>
          <p:nvPr/>
        </p:nvPicPr>
        <p:blipFill>
          <a:blip r:embed="rId4"/>
          <a:stretch/>
        </p:blipFill>
        <p:spPr>
          <a:xfrm>
            <a:off x="4427640" y="2444760"/>
            <a:ext cx="1676160" cy="1397160"/>
          </a:xfrm>
          <a:prstGeom prst="rect">
            <a:avLst/>
          </a:prstGeom>
          <a:ln w="0">
            <a:noFill/>
          </a:ln>
        </p:spPr>
      </p:pic>
      <p:pic>
        <p:nvPicPr>
          <p:cNvPr id="931" name="Прямоугольник 6" descr=""/>
          <p:cNvPicPr/>
          <p:nvPr/>
        </p:nvPicPr>
        <p:blipFill>
          <a:blip r:embed="rId5"/>
          <a:stretch/>
        </p:blipFill>
        <p:spPr>
          <a:xfrm>
            <a:off x="249120" y="2462040"/>
            <a:ext cx="4799160" cy="9097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8" descr="ANd9GcSO9L4BHn_13hkeSVsUECQa3-ROJUUpH3tBqI4LQzUrGLmGb5BM"/>
          <p:cNvPicPr/>
          <p:nvPr/>
        </p:nvPicPr>
        <p:blipFill>
          <a:blip r:embed="rId6"/>
          <a:stretch/>
        </p:blipFill>
        <p:spPr>
          <a:xfrm>
            <a:off x="982800" y="4292640"/>
            <a:ext cx="1828800" cy="1204920"/>
          </a:xfrm>
          <a:prstGeom prst="rect">
            <a:avLst/>
          </a:prstGeom>
          <a:ln w="0">
            <a:noFill/>
          </a:ln>
        </p:spPr>
      </p:pic>
      <p:pic>
        <p:nvPicPr>
          <p:cNvPr id="933" name="TextBox 9" descr=""/>
          <p:cNvPicPr/>
          <p:nvPr/>
        </p:nvPicPr>
        <p:blipFill>
          <a:blip r:embed="rId7"/>
          <a:stretch/>
        </p:blipFill>
        <p:spPr>
          <a:xfrm>
            <a:off x="2835360" y="3840120"/>
            <a:ext cx="3962160" cy="907920"/>
          </a:xfrm>
          <a:prstGeom prst="rect">
            <a:avLst/>
          </a:prstGeom>
          <a:ln w="0">
            <a:noFill/>
          </a:ln>
        </p:spPr>
      </p:pic>
      <p:pic>
        <p:nvPicPr>
          <p:cNvPr id="934" name="TextBox 10" descr=""/>
          <p:cNvPicPr/>
          <p:nvPr/>
        </p:nvPicPr>
        <p:blipFill>
          <a:blip r:embed="rId8"/>
          <a:stretch/>
        </p:blipFill>
        <p:spPr>
          <a:xfrm>
            <a:off x="3627360" y="4718160"/>
            <a:ext cx="6912000" cy="901440"/>
          </a:xfrm>
          <a:prstGeom prst="rect">
            <a:avLst/>
          </a:prstGeom>
          <a:ln w="0">
            <a:noFill/>
          </a:ln>
        </p:spPr>
      </p:pic>
      <p:pic>
        <p:nvPicPr>
          <p:cNvPr id="935" name="TextBox 12" descr=""/>
          <p:cNvPicPr/>
          <p:nvPr/>
        </p:nvPicPr>
        <p:blipFill>
          <a:blip r:embed="rId9"/>
          <a:stretch/>
        </p:blipFill>
        <p:spPr>
          <a:xfrm>
            <a:off x="2432160" y="5632560"/>
            <a:ext cx="5730840" cy="90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Шаблон Фокиной Л. П.</dc:creator>
  <dc:description/>
  <dc:language>en-US</dc:language>
  <cp:lastModifiedBy>Елизавета Аксянова</cp:lastModifiedBy>
  <dcterms:modified xsi:type="dcterms:W3CDTF">2022-02-14T17:29:01Z</dcterms:modified>
  <cp:revision>38</cp:revision>
  <dc:subject/>
  <dc:title>Шаблон презентации</dc:title>
</cp:coreProperties>
</file>