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C01-6A56-4D3E-8B9B-A7A2D327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361-1CE0-40B1-80E2-85F375D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2725F-AC1E-4375-B0AE-43DECF7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053E1-05E5-4801-8B2D-DD8DB094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A354E-B82B-4790-B7DF-E17EB1A7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D3F9-724C-45DA-BF00-7AD0AF7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3D738-7F86-4D27-A305-411C973C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A9A5D-4DC5-4D44-A7A3-19E107D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BB64-9250-4F5B-B92C-7645C430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325D8-A25E-48C8-9865-B88D60BC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57BC-0B15-4C75-A3BE-6150DFB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C7F1C-332C-4EC0-8FC7-AD86026A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270-9780-47C6-9108-0BF4D1B3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41B05-A149-4944-A6FD-9B15DC57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47DE0-6914-49DD-BB0E-B74EEB06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66F2A-5E8C-47D7-872A-4D9EE0C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5852B-F797-446F-9510-93221CA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73005-8F3B-4F24-8FB0-57FA099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B0C3D-BFA2-4634-A779-1740500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67190-FE72-4C2B-B930-E502ADA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A5C44-6A1B-4B4F-9563-57A1AC0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877B4-1A20-4AEE-B462-C9CF157A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9531F-084B-484D-BFC4-3C639B72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3DF-E644-42F3-B1F2-EA1FC3EE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69B8C-3E38-435C-BA60-CD5C096F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BAA4-3995-46A7-B11A-F159692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BBF7-4E8E-4629-B60A-5104B38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E3C38-721F-4E57-9FE8-4EFF99A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59F1-BF8A-4121-B3A3-3120415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8F918-F90B-4190-B315-34EDB0D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374DB-2C5E-4C11-977F-364B0BB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9C79-4E79-4CAA-90AB-3CA4029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80F40-8D4C-434F-839D-A8A0923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682D7-15DB-4365-B17B-6C42ED7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758-3816-467D-BC28-849B22E1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9224F-D924-49AE-B2B3-76E04AB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B0F7-1424-4AC3-87B7-99A1A6BF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FDC2D-CED7-4EB1-BFD6-CCE080CA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35D1D-B68C-4CB8-8DC0-8AF1C64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E14B-1AD8-42A1-AB73-62116CE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49829-351C-415E-8F10-F0BD85CB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AB8C7-3513-4497-9D65-CAA644C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EEEE1-0F3E-41E0-A65E-CDCD484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E339B-817F-4F3E-A237-E59C1D49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684F5-B843-415E-9DB3-7509CDE3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B5ED-692B-4751-9EC0-EA8F01A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18B10-F3E9-4B12-8EA0-6AADB8C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ECE1C-EFE1-41D8-8AFD-3FE17B2D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0B6D2-C2E1-40B3-9E1B-30A9676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1CAF6-BF16-484F-A721-312FED6E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2E032-79B2-4729-8A4F-D7EF86AB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A0E0B-C236-4304-A1F0-8F0DD4AE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56367-3790-4EB0-ACDA-233A877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1CC4F-1DC1-4ED4-9B05-B449889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49E10-DC2B-45AC-8049-0828437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D76A6-8982-4E67-83CC-9DE3C49C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D355-E8ED-448C-8DE9-5F06365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CCCBF-9F1F-4915-A38E-A65944AA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B34D4-AC7A-4F01-AE18-FC6FE73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72FCA-BEF7-4674-810D-6515A77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1CB63-5B39-45C3-8C78-153F687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8ABC1-0724-429E-A7C3-651E5BB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89AD0-DE5B-4D99-87EC-C567E27E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07676-0C79-42F0-9D24-FDFE01A8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DD0D5-C00A-48A5-8FD4-6999CEC5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C3B42-E8D6-45A5-B4EC-33CC3F6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208D6-74A2-4AFD-BAE2-B6360A9C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B599-E724-493E-B020-9A5E6A5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33A1B-B2A3-4D39-88D8-B2BC447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91C8F-8529-48D8-A67E-CDAA438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4F5BA-585A-463A-B606-5A44B0E9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17B1F-0360-4203-A437-420AAC9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480FE-8E63-462B-8A82-2DD75E6C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13159-5E67-48A3-819E-5DAD41F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09A98-C24C-4CE7-9180-083707A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D1B6-FB04-46B7-BA64-AC32E51B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570A0-EC50-4247-A5C6-BE18AC46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F27B8-6C61-4517-AA0E-41C0AC4D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5AB-3914-40FD-B3FC-3B49FAB2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17BEE-9AEF-476D-8BC9-2FBE207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F154D-236F-4A0A-BA1B-BA2717D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C8C2A-1613-4E77-A1E7-BFDBED6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B043E-E884-4A18-9832-6031870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064D0-C472-4518-BE8D-0024CD75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93133-10E5-4F1C-B657-FB0F70E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95249-6A38-40EF-BF73-6A0416E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A20C1-5B86-4864-9F35-0324F31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127DE-8B28-4521-9093-18DE47EB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C32D9-1124-40E7-B0F3-F89761CA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820-B9AE-4F67-B5EE-F973993C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A5594-F3A6-4B63-984B-BD1266DA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84E15-F9FD-4A03-9930-FFAECAF1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D972B-D7BE-4422-9C0F-39D3094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8F53A-14A6-4BBD-8207-25187B6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B96EF-4C7F-42B4-AB8E-FBAA0C7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95FB8-CA28-4D00-A205-1558E40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EA7DF-AA16-4824-82D0-1A24DE4D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4F0BC-3051-481B-A441-66DF798F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77744-F26A-4881-B44D-8BB23D9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4F60F-82F4-457E-8BFB-550A6FEB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688A-C133-4F0F-A32A-EEFA82E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C2D3D-3BC2-4823-B900-BAAFB6A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D52E5-2789-450F-BE25-4B9672AF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991E8-F762-4F9F-9CA9-64E5501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B5A77-FF66-4E6A-B88E-58BCC827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5D68F-12C9-4DFC-B32C-3F6B013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8AB74-F4C4-4232-B6CD-606E0137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E4A1E-58E1-4B7F-95C5-F01B1E3F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15DAD-25C5-414E-A6D4-6844026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1B8BB-5529-47EA-9677-41530F13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96EBA-10AC-42CF-89EE-21ED195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F80-C696-4E0E-BE8D-EF62493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F218-F650-413C-BEE5-F8C37E1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2A8AC-A5E8-490E-9BD2-607419A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5833E-CC78-4544-9A5A-3472EBF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9B8FF-1D0F-41F8-8A54-077FFD73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9DD75-9D71-42B3-A2EC-B694F7BC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2A3B5-71DA-47D6-A1EF-E3F5FD76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D186B-AEB4-459F-B37C-1400D789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05E76-70BB-469D-A206-32937F5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05960-207D-445E-B567-5B81A2D9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B434F-A4C3-4AA6-A599-BF7096E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BC372-1A19-43EE-ACA5-53CEDE76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D06A-09AB-4114-B01C-70D986D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75B0C-B0BD-4AD7-9544-4BFE1E1E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14168-CFA9-4E33-844A-AF24EA6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DBA9F-E9C8-4C53-B976-81184DD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60E9A-6D27-46D1-A20A-19622398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73685-DC96-4200-9375-DF86AB3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EBD4A-2F93-4FA4-A40B-C55A9DBC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EB485-4B68-4DDD-AFBB-7577EE19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14C5C-011C-4749-9F1A-7A25D346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1E816-C1F6-4C45-B2B8-4E1C4CC5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1B60E-B5BA-4F2F-82F9-24CF5ADF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D972-7171-4ECB-9B95-5B3BF48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F014E-CADA-4703-BC2F-4B4A5D9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147D8-36EC-4AFC-AA29-22F87BCB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7AFBF-0842-482C-B0F4-14987B4A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68C4F-A965-4527-837F-3EBFF59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99A03-A68E-41ED-86AC-AC79147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4A69A-65BC-475E-B7FA-C3C4B2CC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7A259-67F7-44F9-8601-DAD148BE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42D2C-C2C8-4544-B8A8-CC4B70B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05915-9CCE-4CCE-BB5D-0E5D92AA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6078-F8C5-4791-BC82-6EEDD9C6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0E26-2643-4BAC-A6E8-170F3B75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870C-E64F-43A0-A99C-7E935778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7FC9-144A-4B5E-A655-D932DAEF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F5F8-F759-4EC8-9256-B32EBDD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EE06-5093-47B1-8C39-D1B46FD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0BAB-C889-4DCA-B217-653FEC8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9E8-4F21-4346-BBC6-267FBE1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6BF0-7D63-4195-A54A-211368C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AE02-3459-44A2-B95F-8FC58C7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CA27-5B0F-4532-A066-7162440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44DC-D70C-406F-A24F-C84EFC6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5F37-798A-42D4-87FE-33A3C149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6A4F-17F9-4F8E-8502-44E56DE4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0478-07C7-46D2-A578-C4DD2F3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FCBD-C2AC-49E7-93FA-D447CB6D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F0EE-246C-4495-B43A-EB7A272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4366-FED7-4D19-9839-E2C5A10C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421-1DF7-4481-A1FC-9B46DE1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9E67-BA57-4081-8525-63259B95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B0BB-2903-430A-AD04-77B6BDE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3527-10B6-423D-9B1D-04C32FC4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5631-A5BE-4364-BED4-C97FBB7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A60B-7576-4629-89F6-96AD8E9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1112-72AB-4FFD-830F-5BE7327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7C5E-87CF-4EB1-9330-A0114018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8727-9E94-463F-8842-8194678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7091-2DCD-44E8-A789-E4F1642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649A-E86C-4BF2-B68B-10E8969B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343-688B-4AC0-9341-000DE08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0B99-7D04-45CC-9CF7-164F8A9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B320-E26B-4101-9AF8-8771C45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30A9-EA93-40FB-92AC-27BBF0C1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3FD1-533D-48F7-91D8-71B5931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188E-D88D-4548-9A8F-D522AD7A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7610-254E-4C93-A3CE-2AFAA3D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079C-ECCF-458F-9271-528796E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E81A-CFBD-4F8E-816B-DC5B5992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91FF-89B2-4196-886F-21B4409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1BCC-FAF4-4A3D-A207-3C883A25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1BF-B22C-43CB-9F55-F6BA68E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4162-E4C4-4955-ADF1-CA2BA90C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3F62-2D9B-4280-9211-FCB6FABF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0F79-FE07-49BF-B3E3-9624FD06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3E8C-DF46-496D-9A52-F63748B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C556F-EE66-4518-A4BF-78F64FE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8A22-245B-4F43-9680-61702E0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A8A3-9090-4453-90E8-B0039D43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6DE9-0332-453F-8B48-82FDCA91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5C5A-AA18-437C-9BEC-F497B0A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572F-8219-4D8B-A133-1E71BA0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76F-2ED7-4054-8B25-351314E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CA3ED-86EE-4C6D-8D60-2A2A206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7F96-FFD6-4AF8-BE7A-98055E42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C120-55D1-4FDD-8CBC-A1C744AE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7458-550E-4843-A71B-5CC534A0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A468-4DAA-44EB-B972-92C4185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9393-78B1-4AFB-B8D8-51EDC91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AE31-6125-4C80-8DC7-6491775D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0230-0778-4F4E-94E5-2B4C52A2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DECA-0FEC-4D7A-AFCE-D7B8870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432F-A779-42A5-8E37-A9DFCBD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269-4EF5-447E-9A9D-533125D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EEDF4-5D75-4AE2-9D7D-CBE5140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4DA7-6828-4D0B-9FEE-521F6B0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99B5-631F-42BB-8E85-2D597D48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6197-7D7A-4097-B74C-7E7502F1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7F097-10CC-4E11-9583-784DFDF7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4ED6-560C-44B5-A367-E25BFDE1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B45C-781A-4332-B110-459EDF4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FC4A-C76B-427E-8B89-8FD41D0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EBA98-568B-4C6A-BA37-7B00EA7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E6EB-253D-478C-AB22-AD1CFA7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7D3-3F15-487A-BB8C-9AC2D00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FD73-3827-4425-9815-8AF80CFF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5CA6-216E-49F9-96C1-2265A83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18FC-95F5-4975-8A5F-762A7ED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2170-665F-4F71-9C88-C754E30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6823-0AB5-4C70-993B-D5EAF1E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EBBFC-4234-4CDF-8555-657B6EC1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CFFE-6648-4148-B887-1670947F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A7753-542D-46EC-9EAB-B24B1574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690C-1B3E-4A7D-9B2F-808E7E15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1F30A-217C-4527-BF49-987E03A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977F8-3558-42E8-A6AE-52CA404496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25C3A-B2E7-491C-9C73-54F8B27CAC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6DE48-04EC-4DD1-808B-D01953612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843EB-E825-43AE-8C9C-995176D50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3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75161-BAA2-465B-8EA0-C19209C694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C9242-F2D1-4D99-8590-B487265C3D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7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3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D4906-8A08-44E3-8144-E02585FE6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6A05E-AB57-473B-BB68-52EABAA6E7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C3BFA-3704-4E01-87CD-AF347BD1C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1AFC4-27B1-4D1B-AE21-1A70F626F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6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B6315-ADB2-4277-B95B-AD6C6389A3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roplets-SD-Title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6E170-D4AA-46CD-ABB0-3DD71BAA5D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1E182-96DF-460F-92AF-65CBBF8196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DAB0C-48AD-4E60-BE49-3C971548B7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52348-D200-4E0C-91B3-A593E0E1A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5ED62-71AF-43D4-9A00-4F1C740CAE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3DF6C-30F4-46D6-ABAD-148AC94350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F0075-28A1-4F8E-8BBA-70B06F964A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C6B3F-6E07-4F80-9A3D-258078B582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Группа 6"/>
          <p:cNvGrpSpPr/>
          <p:nvPr/>
        </p:nvGrpSpPr>
        <p:grpSpPr>
          <a:xfrm>
            <a:off x="1042920" y="1125360"/>
            <a:ext cx="7743960" cy="5336640"/>
            <a:chOff x="1042920" y="1125360"/>
            <a:chExt cx="7743960" cy="5336640"/>
          </a:xfrm>
        </p:grpSpPr>
        <p:pic>
          <p:nvPicPr>
            <p:cNvPr id="91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042920" y="1125360"/>
              <a:ext cx="7743960" cy="21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Прямоугольник 3"/>
            <p:cNvSpPr/>
            <p:nvPr/>
          </p:nvSpPr>
          <p:spPr>
            <a:xfrm flipV="1" rot="10800000">
              <a:off x="4886640" y="5515200"/>
              <a:ext cx="3025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Выполнила: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Воспитатель: Лунегова Елизавета Олеговна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Город 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23640" y="83628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АВИЛА-НАПОМИНАНИЯ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16" name="Подзаголовок 2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370560" cy="43956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944640" y="4065480"/>
            <a:ext cx="2079720" cy="22748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2" descr="F:\ПЕХОТИНА\Дубова\z60.jpg"/>
          <p:cNvPicPr/>
          <p:nvPr/>
        </p:nvPicPr>
        <p:blipFill>
          <a:blip r:embed="rId3"/>
          <a:stretch/>
        </p:blipFill>
        <p:spPr>
          <a:xfrm>
            <a:off x="6732720" y="112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Заголовок 2" descr=""/>
          <p:cNvPicPr/>
          <p:nvPr/>
        </p:nvPicPr>
        <p:blipFill>
          <a:blip r:embed="rId1"/>
          <a:stretch/>
        </p:blipFill>
        <p:spPr>
          <a:xfrm>
            <a:off x="262080" y="262080"/>
            <a:ext cx="8686800" cy="9763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9" descr="ANd9GcR9ZlefMLOCg6S3XjkpjtKgRynDSujoJQNo3YWO6RDnwUaon634"/>
          <p:cNvPicPr/>
          <p:nvPr/>
        </p:nvPicPr>
        <p:blipFill>
          <a:blip r:embed="rId2"/>
          <a:stretch/>
        </p:blipFill>
        <p:spPr>
          <a:xfrm>
            <a:off x="719280" y="1371600"/>
            <a:ext cx="1901520" cy="215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7" descr="ANd9GcRBlRrH1Wi7RmD692k_X5zx5ytro6OMDpG3hARIVWdJE5iCmrr0"/>
          <p:cNvPicPr/>
          <p:nvPr/>
        </p:nvPicPr>
        <p:blipFill>
          <a:blip r:embed="rId3"/>
          <a:stretch/>
        </p:blipFill>
        <p:spPr>
          <a:xfrm>
            <a:off x="6753240" y="1263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5" descr="ANd9GcRuJtFIkyLM0dgbWeTkS1GX-v5nXbUmGkbatVhDZL0vvs6R1mVF"/>
          <p:cNvPicPr/>
          <p:nvPr/>
        </p:nvPicPr>
        <p:blipFill>
          <a:blip r:embed="rId4"/>
          <a:stretch/>
        </p:blipFill>
        <p:spPr>
          <a:xfrm>
            <a:off x="249120" y="4145040"/>
            <a:ext cx="2013120" cy="2274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h_b5ae906b6e1ec03a84ff34f68018e2a1"/>
          <p:cNvPicPr/>
          <p:nvPr/>
        </p:nvPicPr>
        <p:blipFill>
          <a:blip r:embed="rId5"/>
          <a:stretch/>
        </p:blipFill>
        <p:spPr>
          <a:xfrm>
            <a:off x="5950080" y="4078440"/>
            <a:ext cx="2968560" cy="2341440"/>
          </a:xfrm>
          <a:prstGeom prst="rect">
            <a:avLst/>
          </a:prstGeom>
          <a:ln w="0">
            <a:noFill/>
          </a:ln>
        </p:spPr>
      </p:pic>
      <p:pic>
        <p:nvPicPr>
          <p:cNvPr id="924" name="TextBox 10" descr=""/>
          <p:cNvPicPr/>
          <p:nvPr/>
        </p:nvPicPr>
        <p:blipFill>
          <a:blip r:embed="rId6"/>
          <a:stretch/>
        </p:blipFill>
        <p:spPr>
          <a:xfrm>
            <a:off x="2627280" y="1841400"/>
            <a:ext cx="4035600" cy="920880"/>
          </a:xfrm>
          <a:prstGeom prst="rect">
            <a:avLst/>
          </a:prstGeom>
          <a:ln w="0">
            <a:noFill/>
          </a:ln>
        </p:spPr>
      </p:pic>
      <p:pic>
        <p:nvPicPr>
          <p:cNvPr id="925" name="TextBox 11" descr=""/>
          <p:cNvPicPr/>
          <p:nvPr/>
        </p:nvPicPr>
        <p:blipFill>
          <a:blip r:embed="rId7"/>
          <a:stretch/>
        </p:blipFill>
        <p:spPr>
          <a:xfrm>
            <a:off x="2987640" y="2664000"/>
            <a:ext cx="5400720" cy="1328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1" descr="ANd9GcSNWlgtZWp8z6cEPuP7zwjiSZrP2AjU3ABeHaEiK6WqgfbEXxWR"/>
          <p:cNvPicPr/>
          <p:nvPr/>
        </p:nvPicPr>
        <p:blipFill>
          <a:blip r:embed="rId8"/>
          <a:stretch/>
        </p:blipFill>
        <p:spPr>
          <a:xfrm>
            <a:off x="2627280" y="4022640"/>
            <a:ext cx="2627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Заголовок 1" descr=""/>
          <p:cNvPicPr/>
          <p:nvPr/>
        </p:nvPicPr>
        <p:blipFill>
          <a:blip r:embed="rId1"/>
          <a:stretch/>
        </p:blipFill>
        <p:spPr>
          <a:xfrm>
            <a:off x="231840" y="189000"/>
            <a:ext cx="8686800" cy="98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4" descr="ANd9GcSEJ68_VuNdJutHUIUo0YDBBQUwjzgoXPB9L-xL93EirF6tzNk0"/>
          <p:cNvPicPr/>
          <p:nvPr/>
        </p:nvPicPr>
        <p:blipFill>
          <a:blip r:embed="rId2"/>
          <a:stretch/>
        </p:blipFill>
        <p:spPr>
          <a:xfrm>
            <a:off x="6156360" y="119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9" name="TextBox 4" descr=""/>
          <p:cNvPicPr/>
          <p:nvPr/>
        </p:nvPicPr>
        <p:blipFill>
          <a:blip r:embed="rId3"/>
          <a:stretch/>
        </p:blipFill>
        <p:spPr>
          <a:xfrm>
            <a:off x="1895400" y="1438200"/>
            <a:ext cx="4548240" cy="963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2" descr="ANd9GcTcwEGPme1hd2ODioBSlHdzf8CefbJeRATecIdBb-ENLkn-kW2N"/>
          <p:cNvPicPr/>
          <p:nvPr/>
        </p:nvPicPr>
        <p:blipFill>
          <a:blip r:embed="rId4"/>
          <a:stretch/>
        </p:blipFill>
        <p:spPr>
          <a:xfrm>
            <a:off x="4427640" y="2444760"/>
            <a:ext cx="1676160" cy="1397160"/>
          </a:xfrm>
          <a:prstGeom prst="rect">
            <a:avLst/>
          </a:prstGeom>
          <a:ln w="0">
            <a:noFill/>
          </a:ln>
        </p:spPr>
      </p:pic>
      <p:pic>
        <p:nvPicPr>
          <p:cNvPr id="931" name="Прямоугольник 6" descr=""/>
          <p:cNvPicPr/>
          <p:nvPr/>
        </p:nvPicPr>
        <p:blipFill>
          <a:blip r:embed="rId5"/>
          <a:stretch/>
        </p:blipFill>
        <p:spPr>
          <a:xfrm>
            <a:off x="249120" y="2462040"/>
            <a:ext cx="4799160" cy="909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8" descr="ANd9GcSO9L4BHn_13hkeSVsUECQa3-ROJUUpH3tBqI4LQzUrGLmGb5BM"/>
          <p:cNvPicPr/>
          <p:nvPr/>
        </p:nvPicPr>
        <p:blipFill>
          <a:blip r:embed="rId6"/>
          <a:stretch/>
        </p:blipFill>
        <p:spPr>
          <a:xfrm>
            <a:off x="982800" y="429264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933" name="TextBox 9" descr=""/>
          <p:cNvPicPr/>
          <p:nvPr/>
        </p:nvPicPr>
        <p:blipFill>
          <a:blip r:embed="rId7"/>
          <a:stretch/>
        </p:blipFill>
        <p:spPr>
          <a:xfrm>
            <a:off x="2835360" y="3840120"/>
            <a:ext cx="3962160" cy="907920"/>
          </a:xfrm>
          <a:prstGeom prst="rect">
            <a:avLst/>
          </a:prstGeom>
          <a:ln w="0">
            <a:noFill/>
          </a:ln>
        </p:spPr>
      </p:pic>
      <p:pic>
        <p:nvPicPr>
          <p:cNvPr id="934" name="TextBox 10" descr=""/>
          <p:cNvPicPr/>
          <p:nvPr/>
        </p:nvPicPr>
        <p:blipFill>
          <a:blip r:embed="rId8"/>
          <a:stretch/>
        </p:blipFill>
        <p:spPr>
          <a:xfrm>
            <a:off x="3627360" y="4718160"/>
            <a:ext cx="6912000" cy="901440"/>
          </a:xfrm>
          <a:prstGeom prst="rect">
            <a:avLst/>
          </a:prstGeom>
          <a:ln w="0">
            <a:noFill/>
          </a:ln>
        </p:spPr>
      </p:pic>
      <p:pic>
        <p:nvPicPr>
          <p:cNvPr id="935" name="TextBox 12" descr=""/>
          <p:cNvPicPr/>
          <p:nvPr/>
        </p:nvPicPr>
        <p:blipFill>
          <a:blip r:embed="rId9"/>
          <a:stretch/>
        </p:blipFill>
        <p:spPr>
          <a:xfrm>
            <a:off x="2432160" y="5632560"/>
            <a:ext cx="5730840" cy="90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Шаблон Фокиной Л. П.</dc:creator>
  <dc:description/>
  <dc:language>en-US</dc:language>
  <cp:lastModifiedBy>Елизавета Аксянова</cp:lastModifiedBy>
  <dcterms:modified xsi:type="dcterms:W3CDTF">2022-02-14T17:29:01Z</dcterms:modified>
  <cp:revision>38</cp:revision>
  <dc:subject/>
  <dc:title>Шаблон презентации</dc:title>
</cp:coreProperties>
</file>