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8288000" cy="10288588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E4C9-9299-4115-8F79-A594E6821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52168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13C6-3DF3-402D-9C7D-FE6C448E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776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E5D8-51ED-483F-ABF4-BFA119B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892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344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892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344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443E-85B2-4705-B864-6D0ECFFDF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C324-E946-4C88-A8F1-FB7AC21C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996F-1F51-4152-976C-973F46D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6CE7-5B28-44FD-993E-3C180BB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3467-EE4F-4ED1-A8ED-5B9C6A3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5776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073C-3550-4F76-A2F9-376EF6FA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2FD6-2C58-49C1-865E-C00EEE6F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776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07F9-144F-474A-9BF2-BBA9858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C567-1C6D-48A1-8406-B6AC0107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14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D0E3-EF5E-463B-8CF6-A80CFDF9B80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45000" y="2670120"/>
            <a:ext cx="1039644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05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500" spc="-1" strike="noStrike">
                <a:solidFill>
                  <a:srgbClr val="5e17eb"/>
                </a:solidFill>
                <a:latin typeface="Open Sans Bold"/>
              </a:rPr>
              <a:t>Дидактическая игра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75200" y="5000760"/>
            <a:ext cx="7736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35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100" spc="-1" strike="noStrike">
                <a:solidFill>
                  <a:srgbClr val="5e17eb"/>
                </a:solidFill>
                <a:latin typeface="Open Sans Light"/>
              </a:rPr>
              <a:t>"</a:t>
            </a:r>
            <a:r>
              <a:rPr b="0" lang="en-US" sz="7100" spc="-1" strike="noStrike">
                <a:solidFill>
                  <a:srgbClr val="5e17eb"/>
                </a:solidFill>
                <a:latin typeface="Open Sans Light Bold"/>
              </a:rPr>
              <a:t>Угадай сказки</a:t>
            </a:r>
            <a:r>
              <a:rPr b="0" lang="en-US" sz="7100" spc="-1" strike="noStrike">
                <a:solidFill>
                  <a:srgbClr val="5e17eb"/>
                </a:solidFill>
                <a:latin typeface="Open Sans Light"/>
              </a:rPr>
              <a:t>"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36640" y="8180280"/>
            <a:ext cx="4367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"/>
              </a:rPr>
              <a:t>Выполнила: Глазкова Ирина Юрьев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83400" y="4819680"/>
            <a:ext cx="642276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1680" y="1238400"/>
            <a:ext cx="5516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Сладкий яблок аром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манил ту птицу в сад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Перья светятся огнём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И светло вокру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ак днё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Жар-птиц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74240" y="1395360"/>
            <a:ext cx="62229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сех важней она в загадке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Хоть и в погребе ж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Репку вытащить из гряд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Деду с бабкой помог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Мыш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37400" y="4908600"/>
            <a:ext cx="6073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59080" y="1158840"/>
            <a:ext cx="58575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а сметане мешен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а окошке стуже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Перед волком не дрожа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т медведя убежа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А лисице на зубок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се ж попал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8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4aad"/>
                </a:solidFill>
                <a:latin typeface="Open Sans Light Bold"/>
              </a:rPr>
              <a:t>(Колобок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5960" y="1411200"/>
            <a:ext cx="79693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Я- богатый,всемогущий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чень стройный,страшно злющ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Смерти вовсе не боюс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гадайте,как зовус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Кощей Бессмертный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62600" y="2679840"/>
            <a:ext cx="8897760" cy="58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Один, два, три, четыре, пят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Нужно сказки всем читать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Речь связную развивать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Ум и память укреплять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И девчонкам и мальчишкам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Всем нужны большие книжк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141520" y="5143680"/>
            <a:ext cx="29080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85920" y="5143680"/>
            <a:ext cx="29080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29480" y="1352520"/>
            <a:ext cx="6356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Стихотворение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2087640"/>
            <a:ext cx="15305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Цель: воспитывать у детей интерес к русским -народным сказкам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3080" y="2600280"/>
            <a:ext cx="90489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крепляем знания о русских народных сказка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8040" y="5289480"/>
            <a:ext cx="5441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дачи: развитие реч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6840" y="5802480"/>
            <a:ext cx="843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богащение словарного запаса сл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63920" y="6784920"/>
            <a:ext cx="12808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чить детей узнавать сказку по прочитанному эпизоду</a:t>
            </a:r>
            <a:r>
              <a:rPr b="0" lang="en-US" sz="3400" spc="-1" strike="noStrike">
                <a:solidFill>
                  <a:srgbClr val="5e17eb"/>
                </a:solidFill>
                <a:latin typeface="Open Sans Light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3920" y="7594560"/>
            <a:ext cx="13684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чить детей вспоминать героев сказок,их имена,характер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97760" y="481320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51280" y="1554120"/>
            <a:ext cx="109346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Добрую сказку помню я с детст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Хочу,чтобы её запомнил и 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Пусть появится в маленьком сердц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Немного тепла и чуть-чуть добро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55680" y="1820880"/>
            <a:ext cx="7888320" cy="6311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63000" y="1820880"/>
            <a:ext cx="7061400" cy="639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81360" y="8432640"/>
            <a:ext cx="277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 </a:t>
            </a: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Снегуроч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499920" y="8305920"/>
            <a:ext cx="3002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2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 </a:t>
            </a: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Гуси лебеди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1280" y="933480"/>
            <a:ext cx="5198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4094" t="10178" r="6512" b="1512"/>
          <a:stretch/>
        </p:blipFill>
        <p:spPr>
          <a:xfrm>
            <a:off x="1135080" y="2097000"/>
            <a:ext cx="6487920" cy="640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796240" y="2239920"/>
            <a:ext cx="846324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91040" y="933480"/>
            <a:ext cx="67849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46040" y="8686800"/>
            <a:ext cx="627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Пузырь соломинка и лапоть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9520" y="8686800"/>
            <a:ext cx="9223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Вершки и Корешки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534600" y="1820880"/>
            <a:ext cx="7724880" cy="692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68400" y="1820880"/>
            <a:ext cx="7050240" cy="692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24040" y="8737560"/>
            <a:ext cx="693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По щучьему веленью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45840" y="8686800"/>
            <a:ext cx="390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Маша и медведь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42120" y="933480"/>
            <a:ext cx="5602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6875" t="0" r="12177" b="0"/>
          <a:stretch/>
        </p:blipFill>
        <p:spPr>
          <a:xfrm>
            <a:off x="9540720" y="1628640"/>
            <a:ext cx="7210440" cy="646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09680" y="8326440"/>
            <a:ext cx="5137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Лисичка со скалочкой"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84120" y="8326440"/>
            <a:ext cx="3346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Три    медведя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1254" r="2809" b="11939"/>
          <a:stretch/>
        </p:blipFill>
        <p:spPr>
          <a:xfrm>
            <a:off x="1596960" y="1628640"/>
            <a:ext cx="7094520" cy="642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99080" y="741240"/>
            <a:ext cx="52880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472520" y="2533680"/>
            <a:ext cx="270972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"Гномик</a:t>
            </a:r>
            <a:r>
              <a:rPr b="0" lang="en-US" sz="4400" spc="-1" strike="noStrike">
                <a:solidFill>
                  <a:srgbClr val="5e17eb"/>
                </a:solidFill>
                <a:latin typeface="Open Sans Light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89480" y="1604880"/>
            <a:ext cx="8874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999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e17eb"/>
                </a:solidFill>
                <a:latin typeface="Open Sans Bold"/>
              </a:rPr>
              <a:t>Физкультминут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3780000"/>
            <a:ext cx="1570212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Гномик по лесу гулял,(Ходьба на мес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Колпачок свой потерял (Наклоны вперёд-ищем пропажу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Колпачок был не прост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Со звоночком золотым.(Хлопки в ладош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3800" spc="-1" strike="noStrike">
                <a:solidFill>
                  <a:srgbClr val="5e17eb"/>
                </a:solidFill>
                <a:latin typeface="Open Sans Light Bold"/>
              </a:rPr>
              <a:t>Гному кто точней подскажет,(Прыжки на месте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3800" spc="-1" strike="noStrike">
                <a:solidFill>
                  <a:srgbClr val="5e17eb"/>
                </a:solidFill>
                <a:latin typeface="Open Sans Light Bold"/>
              </a:rPr>
              <a:t>Где искать его пропажу? (Ходьба на месте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1480" y="5143680"/>
            <a:ext cx="5297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08560" y="1076400"/>
            <a:ext cx="3910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35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100" spc="-1" strike="noStrike">
                <a:solidFill>
                  <a:srgbClr val="5e17eb"/>
                </a:solidFill>
                <a:latin typeface="Open Sans Bold"/>
              </a:rPr>
              <a:t>Загадки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61520" y="2400480"/>
            <a:ext cx="6635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н по полю ловко скачет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ак пушистый белый мячи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то Он ? Угадай-ка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у, конечно,....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зай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8400" y="2419200"/>
            <a:ext cx="5197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Эта скатерть знаменита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Тем,что кормит всех досыт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Что сама собой она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кусных кушаний полна</a:t>
            </a:r>
            <a:r>
              <a:rPr b="0" lang="en-US" sz="3400" spc="-1" strike="noStrike">
                <a:solidFill>
                  <a:srgbClr val="5e17eb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Скатерть-самобран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23:00:00Z</dcterms:created>
  <dc:creator>UserPK</dc:creator>
  <dc:description/>
  <dc:identifier>DAE2qUt1HAY</dc:identifier>
  <dc:language>en-US</dc:language>
  <cp:lastModifiedBy>UserPK</cp:lastModifiedBy>
  <dcterms:modified xsi:type="dcterms:W3CDTF">2022-02-06T07:01:07Z</dcterms:modified>
  <cp:revision>6</cp:revision>
  <dc:subject/>
  <dc:title>Мы поддерживаем друг друг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2</vt:r8>
  </property>
</Properties>
</file>