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8288000" cy="10288588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162D2-9D8C-43CF-A9E1-83B2E948E8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7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06240"/>
            <a:ext cx="1645776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5521680"/>
            <a:ext cx="1645776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A3AA1-D9D0-4D5E-A936-4866BB46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7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6240"/>
            <a:ext cx="803124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47760" y="2406240"/>
            <a:ext cx="803124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5521680"/>
            <a:ext cx="803124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347760" y="5521680"/>
            <a:ext cx="803124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CD7BE-6855-4CE6-8E34-14648A7E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7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2406240"/>
            <a:ext cx="529920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478920" y="2406240"/>
            <a:ext cx="529920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043440" y="2406240"/>
            <a:ext cx="529920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5521680"/>
            <a:ext cx="529920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478920" y="5521680"/>
            <a:ext cx="529920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043440" y="5521680"/>
            <a:ext cx="529920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D688F-07AF-4441-8A9D-50E593F145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7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2406240"/>
            <a:ext cx="16457760" cy="59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BAA1C-BB20-4E08-B816-8AD9425E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7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2406240"/>
            <a:ext cx="16457760" cy="5964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0679-05B8-4EBE-82BF-F0EF04F7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7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6240"/>
            <a:ext cx="8031240" cy="5964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7760" y="2406240"/>
            <a:ext cx="8031240" cy="5964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98CDB-8AD6-4FFA-B56E-AC784EB2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7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DC8DD-01C9-4A62-81EB-ECA07D32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57760" cy="79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97741-E187-48AC-99AE-DE85F1C6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7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2406240"/>
            <a:ext cx="803124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347760" y="2406240"/>
            <a:ext cx="8031240" cy="5964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5521680"/>
            <a:ext cx="803124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50899-15B0-434C-A636-FBD59580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7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406240"/>
            <a:ext cx="8031240" cy="5964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7760" y="2406240"/>
            <a:ext cx="803124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347760" y="5521680"/>
            <a:ext cx="803124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768C4-9312-4BF3-90DB-17BE9156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7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406240"/>
            <a:ext cx="803124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7760" y="2406240"/>
            <a:ext cx="803124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5521680"/>
            <a:ext cx="1645776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08514-E37F-44DE-B29F-86318171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2/14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EB70B-CA2A-402A-ACD4-76A808F2B5B7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5776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914400" y="2406240"/>
            <a:ext cx="16457760" cy="5964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45000" y="2670120"/>
            <a:ext cx="1039644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05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500" spc="-1" strike="noStrike">
                <a:solidFill>
                  <a:srgbClr val="5e17eb"/>
                </a:solidFill>
                <a:latin typeface="Open Sans Bold"/>
              </a:rPr>
              <a:t>Дидактическая игра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75200" y="5000760"/>
            <a:ext cx="7736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935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100" spc="-1" strike="noStrike">
                <a:solidFill>
                  <a:srgbClr val="5e17eb"/>
                </a:solidFill>
                <a:latin typeface="Open Sans Light"/>
              </a:rPr>
              <a:t>"</a:t>
            </a:r>
            <a:r>
              <a:rPr b="0" lang="en-US" sz="7100" spc="-1" strike="noStrike">
                <a:solidFill>
                  <a:srgbClr val="5e17eb"/>
                </a:solidFill>
                <a:latin typeface="Open Sans Light Bold"/>
              </a:rPr>
              <a:t>Угадай сказки</a:t>
            </a:r>
            <a:r>
              <a:rPr b="0" lang="en-US" sz="7100" spc="-1" strike="noStrike">
                <a:solidFill>
                  <a:srgbClr val="5e17eb"/>
                </a:solidFill>
                <a:latin typeface="Open Sans Light"/>
              </a:rPr>
              <a:t>" 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36640" y="8180280"/>
            <a:ext cx="4367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363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5e17eb"/>
                </a:solidFill>
                <a:latin typeface="Open Sans Light"/>
              </a:rPr>
              <a:t>Выполнила: Глазкова Ирина Юрьевн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83400" y="4819680"/>
            <a:ext cx="642276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71680" y="1238400"/>
            <a:ext cx="5516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Сладкий яблок арома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Заманил ту птицу в сад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Перья светятся огнём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И светло вокру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как днём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4aad"/>
                </a:solidFill>
                <a:latin typeface="Open Sans Light Bold"/>
              </a:rPr>
              <a:t>(Жар-птица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074240" y="1395360"/>
            <a:ext cx="622296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Всех важней она в загадке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Хоть и в погребе жил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Репку вытащить из грядк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Деду с бабкой помогл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4aad"/>
                </a:solidFill>
                <a:latin typeface="Open Sans Light Bold"/>
              </a:rPr>
              <a:t>(Мышка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837400" y="4908600"/>
            <a:ext cx="607356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59080" y="1158840"/>
            <a:ext cx="58575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На сметане мешен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На окошке стужен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Перед волком не дрожал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От медведя убежал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А лисице на зубок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Все ж попалс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898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4aad"/>
                </a:solidFill>
                <a:latin typeface="Open Sans Light Bold"/>
              </a:rPr>
              <a:t>(Колобок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535960" y="1411200"/>
            <a:ext cx="796932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Я- богатый,всемогущий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Очень стройный,страшно злющ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Смерти вовсе не боюс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Угадайте,как зовусь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4aad"/>
                </a:solidFill>
                <a:latin typeface="Open Sans Light Bold"/>
              </a:rPr>
              <a:t>(Кощей Бессмертный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62600" y="2679840"/>
            <a:ext cx="8897760" cy="58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601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e17eb"/>
                </a:solidFill>
                <a:latin typeface="Open Sans Light Bold"/>
              </a:rPr>
              <a:t>Один, два, три, четыре, пять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601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e17eb"/>
                </a:solidFill>
                <a:latin typeface="Open Sans Light Bold"/>
              </a:rPr>
              <a:t>Нужно сказки всем читать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601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e17eb"/>
                </a:solidFill>
                <a:latin typeface="Open Sans Light Bold"/>
              </a:rPr>
              <a:t>Речь связную развивать,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601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e17eb"/>
                </a:solidFill>
                <a:latin typeface="Open Sans Light Bold"/>
              </a:rPr>
              <a:t>Ум и память укреплять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601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e17eb"/>
                </a:solidFill>
                <a:latin typeface="Open Sans Light Bold"/>
              </a:rPr>
              <a:t>И девчонкам и мальчишкам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601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e17eb"/>
                </a:solidFill>
                <a:latin typeface="Open Sans Light Bold"/>
              </a:rPr>
              <a:t>Всем нужны большие книжки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141520" y="5143680"/>
            <a:ext cx="290808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285920" y="5143680"/>
            <a:ext cx="290808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829480" y="1352520"/>
            <a:ext cx="63561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7274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200" spc="-1" strike="noStrike">
                <a:solidFill>
                  <a:srgbClr val="5e17eb"/>
                </a:solidFill>
                <a:latin typeface="Open Sans Bold"/>
              </a:rPr>
              <a:t>Стихотворение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19280" y="2087640"/>
            <a:ext cx="153050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Цель: воспитывать у детей интерес к русским -народным сказкам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73080" y="2600280"/>
            <a:ext cx="904896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закрепляем знания о русских народных сказках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78040" y="5289480"/>
            <a:ext cx="54417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Задачи: развитие речи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6840" y="5802480"/>
            <a:ext cx="84376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обогащение словарного запаса слов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63920" y="6784920"/>
            <a:ext cx="12808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учить детей узнавать сказку по прочитанному эпизоду</a:t>
            </a:r>
            <a:r>
              <a:rPr b="0" lang="en-US" sz="3400" spc="-1" strike="noStrike">
                <a:solidFill>
                  <a:srgbClr val="5e17eb"/>
                </a:solidFill>
                <a:latin typeface="Open Sans Light"/>
              </a:rPr>
              <a:t>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63920" y="7594560"/>
            <a:ext cx="136843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учить детей вспоминать героев сказок,их имена,характер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97760" y="4813200"/>
            <a:ext cx="513072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51280" y="1554120"/>
            <a:ext cx="1093464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6163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5e17eb"/>
                </a:solidFill>
                <a:latin typeface="Open Sans Light Bold"/>
              </a:rPr>
              <a:t>Добрую сказку помню я с детств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6163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5e17eb"/>
                </a:solidFill>
                <a:latin typeface="Open Sans Light Bold"/>
              </a:rPr>
              <a:t>Хочу,чтобы её запомнил и 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6163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5e17eb"/>
                </a:solidFill>
                <a:latin typeface="Open Sans Light Bold"/>
              </a:rPr>
              <a:t>Пусть появится в маленьком сердц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6163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5e17eb"/>
                </a:solidFill>
                <a:latin typeface="Open Sans Light Bold"/>
              </a:rPr>
              <a:t>Немного тепла и чуть-чуть доброт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55680" y="1820880"/>
            <a:ext cx="7888320" cy="6311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63000" y="1820880"/>
            <a:ext cx="7061400" cy="6391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681360" y="8432640"/>
            <a:ext cx="2779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337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5e17eb"/>
                </a:solidFill>
                <a:latin typeface="Open Sans Light Bold"/>
              </a:rPr>
              <a:t> </a:t>
            </a:r>
            <a:r>
              <a:rPr b="0" lang="en-US" sz="3100" spc="-1" strike="noStrike">
                <a:solidFill>
                  <a:srgbClr val="5e17eb"/>
                </a:solidFill>
                <a:latin typeface="Open Sans Light Bold"/>
              </a:rPr>
              <a:t>"Снегурочк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499920" y="8305920"/>
            <a:ext cx="3002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323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5e17eb"/>
                </a:solidFill>
                <a:latin typeface="Open Sans Light Bold"/>
              </a:rPr>
              <a:t> </a:t>
            </a:r>
            <a:r>
              <a:rPr b="0" lang="en-US" sz="3100" spc="-1" strike="noStrike">
                <a:solidFill>
                  <a:srgbClr val="5e17eb"/>
                </a:solidFill>
                <a:latin typeface="Open Sans Light Bold"/>
              </a:rPr>
              <a:t>"Гуси лебеди"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61280" y="933480"/>
            <a:ext cx="51987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7274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200" spc="-1" strike="noStrike">
                <a:solidFill>
                  <a:srgbClr val="5e17eb"/>
                </a:solidFill>
                <a:latin typeface="Open Sans Bold"/>
              </a:rPr>
              <a:t>Угадай сказки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4094" t="10178" r="6512" b="1512"/>
          <a:stretch/>
        </p:blipFill>
        <p:spPr>
          <a:xfrm>
            <a:off x="1135080" y="2097000"/>
            <a:ext cx="6487920" cy="6408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796240" y="2239920"/>
            <a:ext cx="8463240" cy="6265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991040" y="933480"/>
            <a:ext cx="67849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7274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200" spc="-1" strike="noStrike">
                <a:solidFill>
                  <a:srgbClr val="5e17eb"/>
                </a:solidFill>
                <a:latin typeface="Open Sans Bold"/>
              </a:rPr>
              <a:t>Угадай сказки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46040" y="8686800"/>
            <a:ext cx="6276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337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5e17eb"/>
                </a:solidFill>
                <a:latin typeface="Open Sans Light Bold"/>
              </a:rPr>
              <a:t>"Пузырь соломинка и лапоть"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29520" y="8686800"/>
            <a:ext cx="9223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337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5e17eb"/>
                </a:solidFill>
                <a:latin typeface="Open Sans Light Bold"/>
              </a:rPr>
              <a:t>"Вершки и Корешки"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534600" y="1820880"/>
            <a:ext cx="7724880" cy="6923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868400" y="1820880"/>
            <a:ext cx="7050240" cy="6923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24040" y="8737560"/>
            <a:ext cx="6932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337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5e17eb"/>
                </a:solidFill>
                <a:latin typeface="Open Sans Light Bold"/>
              </a:rPr>
              <a:t>"По щучьему веленью"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45840" y="8686800"/>
            <a:ext cx="3902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337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5e17eb"/>
                </a:solidFill>
                <a:latin typeface="Open Sans Light Bold"/>
              </a:rPr>
              <a:t>"Маша и медведь"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42120" y="933480"/>
            <a:ext cx="56023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7274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200" spc="-1" strike="noStrike">
                <a:solidFill>
                  <a:srgbClr val="5e17eb"/>
                </a:solidFill>
                <a:latin typeface="Open Sans Bold"/>
              </a:rPr>
              <a:t>Угадай сказки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6875" t="0" r="12177" b="0"/>
          <a:stretch/>
        </p:blipFill>
        <p:spPr>
          <a:xfrm>
            <a:off x="9540720" y="1628640"/>
            <a:ext cx="7210440" cy="6469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09680" y="8326440"/>
            <a:ext cx="5137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337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5e17eb"/>
                </a:solidFill>
                <a:latin typeface="Open Sans Light Bold"/>
              </a:rPr>
              <a:t>"Лисичка со скалочкой"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084120" y="8326440"/>
            <a:ext cx="3346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337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5e17eb"/>
                </a:solidFill>
                <a:latin typeface="Open Sans Light Bold"/>
              </a:rPr>
              <a:t>"Три    медведя"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rcRect l="0" t="1254" r="2809" b="11939"/>
          <a:stretch/>
        </p:blipFill>
        <p:spPr>
          <a:xfrm>
            <a:off x="1596960" y="1628640"/>
            <a:ext cx="7094520" cy="6421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499080" y="741240"/>
            <a:ext cx="528804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7274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200" spc="-1" strike="noStrike">
                <a:solidFill>
                  <a:srgbClr val="5e17eb"/>
                </a:solidFill>
                <a:latin typeface="Open Sans Bold"/>
              </a:rPr>
              <a:t>Угадай сказки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472520" y="2533680"/>
            <a:ext cx="270972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6163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5e17eb"/>
                </a:solidFill>
                <a:latin typeface="Open Sans Light Bold"/>
              </a:rPr>
              <a:t>"Гномик</a:t>
            </a:r>
            <a:r>
              <a:rPr b="0" lang="en-US" sz="4400" spc="-1" strike="noStrike">
                <a:solidFill>
                  <a:srgbClr val="5e17eb"/>
                </a:solidFill>
                <a:latin typeface="Open Sans Light"/>
              </a:rPr>
              <a:t>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89480" y="1604880"/>
            <a:ext cx="88740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6999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e17eb"/>
                </a:solidFill>
                <a:latin typeface="Open Sans Bold"/>
              </a:rPr>
              <a:t>Физкультминутк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19120" y="3780000"/>
            <a:ext cx="15702120" cy="48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598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  <a:tab algn="l" pos="15544800"/>
              </a:tabLst>
            </a:pPr>
            <a:r>
              <a:rPr b="0" lang="en-US" sz="4000" spc="-1" strike="noStrike">
                <a:solidFill>
                  <a:srgbClr val="5e17eb"/>
                </a:solidFill>
                <a:latin typeface="Open Sans Light Bold"/>
              </a:rPr>
              <a:t>Гномик по лесу гулял,(Ходьба на мест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598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  <a:tab algn="l" pos="15544800"/>
              </a:tabLst>
            </a:pPr>
            <a:r>
              <a:rPr b="0" lang="en-US" sz="4000" spc="-1" strike="noStrike">
                <a:solidFill>
                  <a:srgbClr val="5e17eb"/>
                </a:solidFill>
                <a:latin typeface="Open Sans Light Bold"/>
              </a:rPr>
              <a:t>Колпачок свой потерял (Наклоны вперёд-ищем пропажу"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598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  <a:tab algn="l" pos="15544800"/>
              </a:tabLst>
            </a:pPr>
            <a:r>
              <a:rPr b="0" lang="en-US" sz="4000" spc="-1" strike="noStrike">
                <a:solidFill>
                  <a:srgbClr val="5e17eb"/>
                </a:solidFill>
                <a:latin typeface="Open Sans Light Bold"/>
              </a:rPr>
              <a:t>Колпачок был не прост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598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  <a:tab algn="l" pos="15544800"/>
              </a:tabLst>
            </a:pPr>
            <a:r>
              <a:rPr b="0" lang="en-US" sz="4000" spc="-1" strike="noStrike">
                <a:solidFill>
                  <a:srgbClr val="5e17eb"/>
                </a:solidFill>
                <a:latin typeface="Open Sans Light Bold"/>
              </a:rPr>
              <a:t>Со звоночком золотым.(Хлопки в ладоши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31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  <a:tab algn="l" pos="15544800"/>
              </a:tabLst>
            </a:pPr>
            <a:r>
              <a:rPr b="0" lang="en-US" sz="3800" spc="-1" strike="noStrike">
                <a:solidFill>
                  <a:srgbClr val="5e17eb"/>
                </a:solidFill>
                <a:latin typeface="Open Sans Light Bold"/>
              </a:rPr>
              <a:t>Гному кто точней подскажет,(Прыжки на месте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31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  <a:tab algn="l" pos="15544800"/>
              </a:tabLst>
            </a:pPr>
            <a:r>
              <a:rPr b="0" lang="en-US" sz="3800" spc="-1" strike="noStrike">
                <a:solidFill>
                  <a:srgbClr val="5e17eb"/>
                </a:solidFill>
                <a:latin typeface="Open Sans Light Bold"/>
              </a:rPr>
              <a:t>Где искать его пропажу? (Ходьба на месте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31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  <a:tab algn="l" pos="155448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21480" y="5143680"/>
            <a:ext cx="529740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208560" y="1076400"/>
            <a:ext cx="39103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935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100" spc="-1" strike="noStrike">
                <a:solidFill>
                  <a:srgbClr val="5e17eb"/>
                </a:solidFill>
                <a:latin typeface="Open Sans Bold"/>
              </a:rPr>
              <a:t>Загадки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461520" y="2400480"/>
            <a:ext cx="6635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Он по полю ловко скачет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Как пушистый белый мячик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Кто Он ? Угадай-ка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Ну, конечно,....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4aad"/>
                </a:solidFill>
                <a:latin typeface="Open Sans Light Bold"/>
              </a:rPr>
              <a:t>(зайка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68400" y="2419200"/>
            <a:ext cx="51976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Эта скатерть знаменита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Тем,что кормит всех досыт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Что сама собой она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5e17eb"/>
                </a:solidFill>
                <a:latin typeface="Open Sans Light Bold"/>
              </a:rPr>
              <a:t>Вкусных кушаний полна</a:t>
            </a:r>
            <a:r>
              <a:rPr b="0" lang="en-US" sz="3400" spc="-1" strike="noStrike">
                <a:solidFill>
                  <a:srgbClr val="5e17eb"/>
                </a:solidFill>
                <a:latin typeface="Open Sans Light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62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4aad"/>
                </a:solidFill>
                <a:latin typeface="Open Sans Light Bold"/>
              </a:rPr>
              <a:t>(Скатерть-самобранка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23:00:00Z</dcterms:created>
  <dc:creator>UserPK</dc:creator>
  <dc:description/>
  <dc:identifier>DAE2qUt1HAY</dc:identifier>
  <dc:language>en-US</dc:language>
  <cp:lastModifiedBy>UserPK</cp:lastModifiedBy>
  <dcterms:modified xsi:type="dcterms:W3CDTF">2022-02-06T07:01:07Z</dcterms:modified>
  <cp:revision>6</cp:revision>
  <dc:subject/>
  <dc:title>Мы поддерживаем друг друг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2</vt:r8>
  </property>
</Properties>
</file>