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4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00F-4603-45EE-8BD0-DCE46AAA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5860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C50-5EA4-4508-96C0-57ADBF2D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0928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EEB-0997-4D66-AD1D-71606DAA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952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1940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952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1940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A31-4DD2-4A61-9197-966F5EF3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-360" y="2100240"/>
            <a:ext cx="86058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86058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577440"/>
            <a:ext cx="860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5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2100240"/>
            <a:ext cx="86058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54B-0370-4BFA-815D-E5094EEC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0928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-360" y="45860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0928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90952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1940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-36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90952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1940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-360" y="2100240"/>
            <a:ext cx="86058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86058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86058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B4D-7918-407E-961D-7881CFE7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-360" y="577440"/>
            <a:ext cx="860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5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40928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-360" y="45860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40928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0952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81940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-36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290952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81940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4D2-33F1-43F1-B795-54A4FAAB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8D5-3763-4259-96F7-AFD29809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577440"/>
            <a:ext cx="860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5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980-B58A-41E2-81FE-DB30CFE5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A8F-1F6C-4B13-93B2-AB998428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09280" y="45860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23B-E3BD-41DF-9C09-D4C97B26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09280" y="2100240"/>
            <a:ext cx="419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586040"/>
            <a:ext cx="86058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DB7-8E15-4FC0-AB62-2F2ECB03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624D6E-9167-40EB-AEA2-581B527DCF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6058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-360" y="2100240"/>
            <a:ext cx="86058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-339480">
              <a:lnSpc>
                <a:spcPct val="95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5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5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5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lnSpc>
                <a:spcPct val="95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lnSpc>
                <a:spcPct val="95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rcRect l="20045" t="19948" r="0" b="0"/>
          <a:stretch/>
        </p:blipFill>
        <p:spPr>
          <a:xfrm>
            <a:off x="0" y="0"/>
            <a:ext cx="4886280" cy="606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"/>
          <p:cNvSpPr/>
          <p:nvPr/>
        </p:nvSpPr>
        <p:spPr>
          <a:xfrm>
            <a:off x="5675400" y="330372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7020000" y="26496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659640" y="2879640"/>
            <a:ext cx="33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Счаст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7920000" y="216072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200" y="2906640"/>
            <a:ext cx="33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Род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260440" y="544680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865160" y="52070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Русский быт </a:t>
            </a:r>
            <a:r>
              <a:rPr b="1" i="1" lang="ru-RU" sz="2400" spc="-1" strike="noStrike">
                <a:solidFill>
                  <a:srgbClr val="ff6600"/>
                </a:solidFill>
                <a:latin typeface="Arial Black"/>
                <a:ea typeface="msmincho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4564080" y="139860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579760" y="922320"/>
            <a:ext cx="33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Русская ду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1197000" y="-358920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4006800" y="2746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Бер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140520" y="5915160"/>
            <a:ext cx="33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Великодуши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7997760" y="626436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1440000" y="984240"/>
            <a:ext cx="793440" cy="635040"/>
          </a:xfrm>
          <a:custGeom>
            <a:avLst/>
            <a:gdLst>
              <a:gd name="textAreaLeft" fmla="*/ 326880 w 793440"/>
              <a:gd name="textAreaRight" fmla="*/ 466560 w 79344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1468440" y="330372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279360" y="36036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Русская при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7920000" y="3959280"/>
            <a:ext cx="793800" cy="63504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1720 h 635040"/>
              <a:gd name="textAreaBottom" fmla="*/ 37332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480000" y="489276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Русские тради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5307120" y="974880"/>
            <a:ext cx="44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  <a:ea typeface="msmincho"/>
              </a:rPr>
              <a:t>Русск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826920" y="539640"/>
            <a:ext cx="8533080" cy="6548400"/>
          </a:xfrm>
          <a:prstGeom prst="rect">
            <a:avLst/>
          </a:prstGeom>
          <a:ln w="36000">
            <a:solidFill>
              <a:srgbClr val="ffff00"/>
            </a:solidFill>
            <a:round/>
          </a:ln>
        </p:spPr>
      </p:pic>
      <p:sp>
        <p:nvSpPr>
          <p:cNvPr id="153" name="Rectangle 2"/>
          <p:cNvSpPr/>
          <p:nvPr/>
        </p:nvSpPr>
        <p:spPr>
          <a:xfrm>
            <a:off x="2778120" y="5357880"/>
            <a:ext cx="77788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14004"/>
                </a:solidFill>
                <a:latin typeface="Georgia"/>
                <a:ea typeface="msmincho"/>
              </a:rPr>
              <a:t>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Глава 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Обрядовые песн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539640" y="900000"/>
            <a:ext cx="4680000" cy="5759640"/>
          </a:xfrm>
          <a:prstGeom prst="rect">
            <a:avLst/>
          </a:prstGeom>
          <a:ln w="108000">
            <a:solidFill>
              <a:srgbClr val="355e00"/>
            </a:solidFill>
            <a:round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8000" y="50400"/>
            <a:ext cx="952524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6100" spc="-1" strike="noStrike">
                <a:solidFill>
                  <a:srgbClr val="00008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5400720" y="1177920"/>
            <a:ext cx="456408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700" spc="-1" strike="noStrike">
                <a:solidFill>
                  <a:srgbClr val="000080"/>
                </a:solidFill>
                <a:latin typeface="Times New Roman"/>
                <a:ea typeface="msmincho"/>
              </a:rPr>
              <a:t> </a:t>
            </a:r>
            <a:br>
              <a:rPr sz="2800"/>
            </a:br>
            <a:r>
              <a:rPr b="1" i="1" lang="de-DE" sz="2800" spc="-1" strike="noStrike">
                <a:solidFill>
                  <a:srgbClr val="ffff00"/>
                </a:solidFill>
                <a:latin typeface="Times New Roman"/>
                <a:ea typeface="msmincho"/>
              </a:rPr>
              <a:t>Березка, березка,</a:t>
            </a:r>
            <a:br>
              <a:rPr sz="2800"/>
            </a:br>
            <a:r>
              <a:rPr b="1" i="1" lang="de-DE" sz="2800" spc="-1" strike="noStrike">
                <a:solidFill>
                  <a:srgbClr val="ffff00"/>
                </a:solidFill>
                <a:latin typeface="Times New Roman"/>
                <a:ea typeface="msmincho"/>
              </a:rPr>
              <a:t>Завивайся, кудрявая,</a:t>
            </a:r>
            <a:br>
              <a:rPr sz="2800"/>
            </a:br>
            <a:r>
              <a:rPr b="1" i="1" lang="de-DE" sz="2800" spc="-1" strike="noStrike">
                <a:solidFill>
                  <a:srgbClr val="ffff00"/>
                </a:solidFill>
                <a:latin typeface="Times New Roman"/>
                <a:ea typeface="msmincho"/>
              </a:rPr>
              <a:t>К тебе девки пришли, </a:t>
            </a:r>
            <a:br>
              <a:rPr sz="2800"/>
            </a:br>
            <a:r>
              <a:rPr b="1" i="1" lang="de-DE" sz="2800" spc="-1" strike="noStrike">
                <a:solidFill>
                  <a:srgbClr val="ffff00"/>
                </a:solidFill>
                <a:latin typeface="Times New Roman"/>
                <a:ea typeface="msmincho"/>
              </a:rPr>
              <a:t>К тебе  красны пришли, </a:t>
            </a:r>
            <a:br>
              <a:rPr sz="2800"/>
            </a:br>
            <a:r>
              <a:rPr b="1" i="1" lang="de-DE" sz="2800" spc="-1" strike="noStrike">
                <a:solidFill>
                  <a:srgbClr val="ffff00"/>
                </a:solidFill>
                <a:latin typeface="Times New Roman"/>
                <a:ea typeface="msmincho"/>
              </a:rPr>
              <a:t>Пирога принесли</a:t>
            </a:r>
            <a:br>
              <a:rPr sz="2800"/>
            </a:br>
            <a:r>
              <a:rPr b="1" i="1" lang="de-DE" sz="2800" spc="-1" strike="noStrike">
                <a:solidFill>
                  <a:srgbClr val="ffff00"/>
                </a:solidFill>
                <a:latin typeface="Times New Roman"/>
                <a:ea typeface="msmincho"/>
              </a:rPr>
              <a:t>Со яичницей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826920" y="539640"/>
            <a:ext cx="8533080" cy="6548400"/>
          </a:xfrm>
          <a:prstGeom prst="rect">
            <a:avLst/>
          </a:prstGeom>
          <a:ln w="36000">
            <a:solidFill>
              <a:srgbClr val="ffff00"/>
            </a:solidFill>
            <a:round/>
          </a:ln>
        </p:spPr>
      </p:pic>
      <p:sp>
        <p:nvSpPr>
          <p:cNvPr id="158" name="Rectangle 2"/>
          <p:cNvSpPr/>
          <p:nvPr/>
        </p:nvSpPr>
        <p:spPr>
          <a:xfrm>
            <a:off x="2778120" y="5357880"/>
            <a:ext cx="77788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14004"/>
                </a:solidFill>
                <a:latin typeface="Georgia"/>
                <a:ea typeface="msmincho"/>
              </a:rPr>
              <a:t>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Глава 3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Народные традици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91800" y="396360"/>
            <a:ext cx="793764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67000"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595440" y="992160"/>
            <a:ext cx="3905280" cy="238140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595440" y="3959280"/>
            <a:ext cx="3905280" cy="258768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sp>
        <p:nvSpPr>
          <p:cNvPr id="162" name="Text Box 4"/>
          <p:cNvSpPr/>
          <p:nvPr/>
        </p:nvSpPr>
        <p:spPr>
          <a:xfrm>
            <a:off x="4500720" y="1150920"/>
            <a:ext cx="55562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2200" algn="ctr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На горе г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4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Завиты воро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4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В те ворота Настя шл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4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За собой вела красных девушек 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4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За Настей шла Татья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4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За собой вела всех подруженек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3"/>
          <a:stretch/>
        </p:blipFill>
        <p:spPr>
          <a:xfrm>
            <a:off x="5373720" y="3959280"/>
            <a:ext cx="4167000" cy="251928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826920" y="539640"/>
            <a:ext cx="8533080" cy="6548400"/>
          </a:xfrm>
          <a:prstGeom prst="rect">
            <a:avLst/>
          </a:prstGeom>
          <a:ln w="36000">
            <a:solidFill>
              <a:srgbClr val="ffff00"/>
            </a:solidFill>
            <a:round/>
          </a:ln>
        </p:spPr>
      </p:pic>
      <p:sp>
        <p:nvSpPr>
          <p:cNvPr id="165" name="Rectangle 2"/>
          <p:cNvSpPr/>
          <p:nvPr/>
        </p:nvSpPr>
        <p:spPr>
          <a:xfrm>
            <a:off x="2778120" y="5357880"/>
            <a:ext cx="77788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14004"/>
                </a:solidFill>
                <a:latin typeface="Georgia"/>
                <a:ea typeface="msmincho"/>
              </a:rPr>
              <a:t>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Глава 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Народные праздни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51320" y="1190520"/>
            <a:ext cx="3770280" cy="29894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ffff00"/>
                </a:solidFill>
                <a:latin typeface="Times New Roman"/>
              </a:rPr>
              <a:t>Завили веночк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ffff00"/>
                </a:solidFill>
                <a:latin typeface="Times New Roman"/>
              </a:rPr>
              <a:t>Завили зелены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ffff00"/>
                </a:solidFill>
                <a:latin typeface="Times New Roman"/>
              </a:rPr>
              <a:t>На годы добрые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ffff00"/>
                </a:solidFill>
                <a:latin typeface="Times New Roman"/>
              </a:rPr>
              <a:t>На жито густое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ffff00"/>
                </a:solidFill>
                <a:latin typeface="Times New Roman"/>
              </a:rPr>
              <a:t>На ячмень колосисты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ffff00"/>
                </a:solidFill>
                <a:latin typeface="Times New Roman"/>
              </a:rPr>
              <a:t>На овес ресистый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ffff00"/>
                </a:solidFill>
                <a:latin typeface="Times New Roman"/>
              </a:rPr>
              <a:t>На гречиху черную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ffff00"/>
                </a:solidFill>
                <a:latin typeface="Times New Roman"/>
              </a:rPr>
              <a:t>На капусту белую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352440" y="1190520"/>
            <a:ext cx="5003640" cy="317520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4548240" y="4025880"/>
            <a:ext cx="5172120" cy="317520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sp>
        <p:nvSpPr>
          <p:cNvPr id="169" name="Text Box 4"/>
          <p:cNvSpPr/>
          <p:nvPr/>
        </p:nvSpPr>
        <p:spPr>
          <a:xfrm>
            <a:off x="1389240" y="382680"/>
            <a:ext cx="3968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785960" y="382680"/>
            <a:ext cx="69451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826920" y="539640"/>
            <a:ext cx="8533080" cy="6548400"/>
          </a:xfrm>
          <a:prstGeom prst="rect">
            <a:avLst/>
          </a:prstGeom>
          <a:ln w="36000">
            <a:solidFill>
              <a:srgbClr val="ffff00"/>
            </a:solidFill>
            <a:round/>
          </a:ln>
        </p:spPr>
      </p:pic>
      <p:sp>
        <p:nvSpPr>
          <p:cNvPr id="172" name="Rectangle 2"/>
          <p:cNvSpPr/>
          <p:nvPr/>
        </p:nvSpPr>
        <p:spPr>
          <a:xfrm>
            <a:off x="2778120" y="5357880"/>
            <a:ext cx="77788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14004"/>
                </a:solidFill>
                <a:latin typeface="Georgia"/>
                <a:ea typeface="msmincho"/>
              </a:rPr>
              <a:t>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Глава 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 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Загадки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27040" y="539280"/>
            <a:ext cx="901368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600" spc="-1" strike="noStrike">
                <a:solidFill>
                  <a:srgbClr val="ffff00"/>
                </a:solidFill>
                <a:latin typeface="Times New Roman"/>
              </a:rPr>
              <a:t>ЗЕЛЕНА</a:t>
            </a:r>
            <a:r>
              <a:rPr b="1" lang="de-DE" sz="2600" spc="-1" strike="noStrike">
                <a:solidFill>
                  <a:srgbClr val="ffff00"/>
                </a:solidFill>
                <a:latin typeface="Times New Roman"/>
              </a:rPr>
              <a:t>, а не луг, </a:t>
            </a:r>
            <a:r>
              <a:rPr b="1" i="1" lang="de-DE" sz="2600" spc="-1" strike="noStrike">
                <a:solidFill>
                  <a:srgbClr val="ffff00"/>
                </a:solidFill>
                <a:latin typeface="Times New Roman"/>
              </a:rPr>
              <a:t>БЕЛА</a:t>
            </a:r>
            <a:r>
              <a:rPr b="1" lang="de-DE" sz="2600" spc="-1" strike="noStrike">
                <a:solidFill>
                  <a:srgbClr val="ffff00"/>
                </a:solidFill>
                <a:latin typeface="Times New Roman"/>
              </a:rPr>
              <a:t>, а не снег,  </a:t>
            </a:r>
            <a:r>
              <a:rPr b="1" i="1" lang="de-DE" sz="2600" spc="-1" strike="noStrike">
                <a:solidFill>
                  <a:srgbClr val="ffff00"/>
                </a:solidFill>
                <a:latin typeface="Times New Roman"/>
              </a:rPr>
              <a:t>КУДРЯВА</a:t>
            </a:r>
            <a:r>
              <a:rPr b="1" lang="de-DE" sz="2600" spc="-1" strike="noStrike">
                <a:solidFill>
                  <a:srgbClr val="ffff00"/>
                </a:solidFill>
                <a:latin typeface="Times New Roman"/>
              </a:rPr>
              <a:t>, а не голов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39640" y="1800360"/>
            <a:ext cx="4140360" cy="4859280"/>
          </a:xfrm>
          <a:prstGeom prst="rect">
            <a:avLst/>
          </a:prstGeom>
          <a:ln w="72000">
            <a:solidFill>
              <a:srgbClr val="008000"/>
            </a:solidFill>
            <a:round/>
          </a:ln>
        </p:spPr>
      </p:pic>
      <p:sp>
        <p:nvSpPr>
          <p:cNvPr id="175" name="Text Box 3"/>
          <p:cNvSpPr/>
          <p:nvPr/>
        </p:nvSpPr>
        <p:spPr>
          <a:xfrm>
            <a:off x="5357880" y="1587600"/>
            <a:ext cx="34336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5219640" y="1800360"/>
            <a:ext cx="4203720" cy="4859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4960800" y="5952960"/>
            <a:ext cx="41673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marL="431640" indent="-322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00"/>
                </a:solidFill>
                <a:latin typeface="Times New Roman"/>
                <a:ea typeface="msmincho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373560" y="396720"/>
            <a:ext cx="34336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1"/>
          <a:stretch/>
        </p:blipFill>
        <p:spPr>
          <a:xfrm>
            <a:off x="826920" y="539640"/>
            <a:ext cx="8533080" cy="6548400"/>
          </a:xfrm>
          <a:prstGeom prst="rect">
            <a:avLst/>
          </a:prstGeom>
          <a:ln w="36000">
            <a:solidFill>
              <a:srgbClr val="ffff00"/>
            </a:solidFill>
            <a:round/>
          </a:ln>
        </p:spPr>
      </p:pic>
      <p:sp>
        <p:nvSpPr>
          <p:cNvPr id="180" name="Rectangle 2"/>
          <p:cNvSpPr/>
          <p:nvPr/>
        </p:nvSpPr>
        <p:spPr>
          <a:xfrm>
            <a:off x="2778120" y="5357880"/>
            <a:ext cx="77788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14004"/>
                </a:solidFill>
                <a:latin typeface="Georgia"/>
                <a:ea typeface="msmincho"/>
              </a:rPr>
              <a:t>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Глава 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 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Колдовское дере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525680" y="396360"/>
            <a:ext cx="641016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6480360" cy="5759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6508800" y="3060720"/>
            <a:ext cx="321480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2200" algn="ctr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00"/>
                </a:solidFill>
                <a:latin typeface="Times New Roman"/>
                <a:ea typeface="msmincho"/>
              </a:rPr>
              <a:t>Там, где берег обрывом и речк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4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00"/>
                </a:solidFill>
                <a:latin typeface="Times New Roman"/>
                <a:ea typeface="msmincho"/>
              </a:rPr>
              <a:t>Не ходи по ночам, не ходи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14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00"/>
                </a:solidFill>
                <a:latin typeface="Times New Roman"/>
                <a:ea typeface="msmincho"/>
              </a:rPr>
              <a:t>Там русалка нашепчет словечко — и поселится смута в груд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-1140120"/>
            <a:ext cx="860904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6100"/>
            </a:br>
            <a:br>
              <a:rPr sz="6100"/>
            </a:br>
            <a:r>
              <a:rPr b="1" lang="de-DE" sz="6100" spc="-1" strike="noStrike">
                <a:solidFill>
                  <a:srgbClr val="ffff00"/>
                </a:solidFill>
                <a:latin typeface="Times New Roman"/>
              </a:rPr>
              <a:t>Тема урока: </a:t>
            </a:r>
            <a:br>
              <a:rPr sz="6100"/>
            </a:br>
            <a:r>
              <a:rPr b="1" lang="de-DE" sz="6100" spc="-1" strike="noStrike">
                <a:solidFill>
                  <a:srgbClr val="ffff00"/>
                </a:solidFill>
                <a:latin typeface="Times New Roman"/>
              </a:rPr>
              <a:t>„Семантический объём лексемы </a:t>
            </a:r>
            <a:r>
              <a:rPr b="1" i="1" lang="de-DE" sz="6100" spc="-1" strike="noStrike">
                <a:solidFill>
                  <a:srgbClr val="ffff00"/>
                </a:solidFill>
                <a:latin typeface="Times New Roman"/>
              </a:rPr>
              <a:t>БЕРЕЗА</a:t>
            </a:r>
            <a:r>
              <a:rPr b="1" lang="de-DE" sz="61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6100"/>
            </a:br>
            <a:r>
              <a:rPr b="1" lang="de-DE" sz="6100" spc="-1" strike="noStrike">
                <a:solidFill>
                  <a:srgbClr val="ffff00"/>
                </a:solidFill>
                <a:latin typeface="Times New Roman"/>
              </a:rPr>
              <a:t>в литературных произведениях разных жанров“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9640" y="220464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826920" y="539640"/>
            <a:ext cx="8533080" cy="6548400"/>
          </a:xfrm>
          <a:prstGeom prst="rect">
            <a:avLst/>
          </a:prstGeom>
          <a:ln w="36000">
            <a:solidFill>
              <a:srgbClr val="ffff00"/>
            </a:solidFill>
            <a:round/>
          </a:ln>
        </p:spPr>
      </p:pic>
      <p:sp>
        <p:nvSpPr>
          <p:cNvPr id="185" name="Rectangle 2"/>
          <p:cNvSpPr/>
          <p:nvPr/>
        </p:nvSpPr>
        <p:spPr>
          <a:xfrm>
            <a:off x="2778120" y="5357880"/>
            <a:ext cx="77788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14004"/>
                </a:solidFill>
                <a:latin typeface="Georgia"/>
                <a:ea typeface="msmincho"/>
              </a:rPr>
              <a:t>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Символ Росс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25520"/>
            <a:ext cx="860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60360" y="6433920"/>
            <a:ext cx="536868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78000" indent="0" algn="ctr">
              <a:lnSpc>
                <a:spcPct val="100000"/>
              </a:lnSpc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.А. Есен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 algn="ctr">
              <a:lnSpc>
                <a:spcPct val="100000"/>
              </a:lnSpc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(1895 - 19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2879640" y="179280"/>
            <a:ext cx="4391280" cy="614376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25520"/>
            <a:ext cx="860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2099880"/>
            <a:ext cx="860904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720720" y="360360"/>
            <a:ext cx="5040360" cy="684072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sp>
        <p:nvSpPr>
          <p:cNvPr id="192" name="Text Box 4"/>
          <p:cNvSpPr/>
          <p:nvPr/>
        </p:nvSpPr>
        <p:spPr>
          <a:xfrm>
            <a:off x="5580000" y="360360"/>
            <a:ext cx="428796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ctr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mincho"/>
              </a:rPr>
              <a:t>С. Есе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Бере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Белая береза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Под моим окном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Принакрылась снегом,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Точно серебром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На пушистых ветках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Снежною каймой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Распустились кисти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Белой бахромой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И стоит береза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В сонной тишине,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И горят снежинки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В золотом огне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А заря, лениво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Обходя кругом,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обсыпает ветки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mincho"/>
              </a:rPr>
              <a:t>Новым серебр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8920" y="828720"/>
            <a:ext cx="97203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40896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нгворисунок – это:</a:t>
            </a:r>
            <a:br>
              <a:rPr sz="2800"/>
            </a:br>
            <a:r>
              <a:rPr b="1" lang="de-DE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интеллектуальный продукт, имеющий личностный смысл, ценностную природу, индивидуальную «окраску»;</a:t>
            </a:r>
            <a:br>
              <a:rPr sz="2800"/>
            </a:br>
            <a:br>
              <a:rPr sz="2800"/>
            </a:br>
            <a:r>
              <a:rPr b="1" lang="de-DE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особый «ключ» к декодированию мышления учащихся, «вербализованный» в цветолексемах и символах, </a:t>
            </a:r>
            <a:br>
              <a:rPr sz="2800"/>
            </a:br>
            <a:r>
              <a:rPr b="1" lang="de-DE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зыковых описаниях и стилях; </a:t>
            </a:r>
            <a:br>
              <a:rPr sz="2800"/>
            </a:br>
            <a:br>
              <a:rPr sz="2800"/>
            </a:b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3) «питательная среда» для совершенствования научения учащихся вообще,  русскому языку и литературе в частности. </a:t>
            </a:r>
            <a:br>
              <a:rPr sz="2800"/>
            </a:b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br>
              <a:rPr sz="2800"/>
            </a:b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[Ганчев, Ганчева, Ганчев 2009: 1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425520"/>
            <a:ext cx="860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79640" y="6252840"/>
            <a:ext cx="395928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78000" indent="0" algn="ctr">
              <a:lnSpc>
                <a:spcPct val="100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.М. Руб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 algn="ctr">
              <a:lnSpc>
                <a:spcPct val="100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(1936 — 197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2519280" y="360360"/>
            <a:ext cx="4680000" cy="5759280"/>
          </a:xfrm>
          <a:prstGeom prst="rect">
            <a:avLst/>
          </a:prstGeom>
          <a:ln w="93600">
            <a:solidFill>
              <a:srgbClr val="ffff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425520"/>
            <a:ext cx="860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2099880"/>
            <a:ext cx="860904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9360000" cy="665964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210600" y="-225720"/>
            <a:ext cx="4287960" cy="7878600"/>
          </a:xfrm>
          <a:prstGeom prst="rect">
            <a:avLst/>
          </a:prstGeom>
          <a:noFill/>
          <a:ln w="0">
            <a:noFill/>
          </a:ln>
        </p:spPr>
        <p:txBody>
          <a:bodyPr lIns="0" rIns="0" tIns="11880" bIns="0" anchor="ctr">
            <a:noAutofit/>
          </a:bodyPr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Н. Рубцов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Бере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Я люблю, когда шумят берёзы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Когда листья падают с берёз.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Слушаю — и набегают слёзы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На глаза, отвыкшие от слёз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Всё очнётся в памяти невольно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Отзовётся в сердце и в крови́.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Станет как-то радостно и больно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Будто кто-то шепчет о любви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Только чаще побеждает проза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Словно дунет ветер хмурых дней.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Ведь шумит такая же берёза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Над могилой матери моей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На войне отца убила пуля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А у нас в деревне у оград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С ветром и с дождём шумел, как улей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Вот такой же жёлтый листопад…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Русь моя, люблю твои берёзы!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С первых лет я с ними жил и рос.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Потому и набегают слёзы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На глаза, отвыкшие от слёз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5040360" y="539640"/>
            <a:ext cx="4319640" cy="6120000"/>
          </a:xfrm>
          <a:prstGeom prst="rect">
            <a:avLst/>
          </a:prstGeom>
          <a:ln w="108000">
            <a:solidFill>
              <a:srgbClr val="c0c0c0"/>
            </a:solidFill>
            <a:round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31680" y="366840"/>
            <a:ext cx="8608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31680" y="2076480"/>
            <a:ext cx="86086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879640" y="2519280"/>
            <a:ext cx="3780000" cy="2519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720720" y="360360"/>
            <a:ext cx="2519280" cy="3060720"/>
          </a:xfrm>
          <a:prstGeom prst="rect">
            <a:avLst/>
          </a:prstGeom>
          <a:ln w="93600">
            <a:solidFill>
              <a:srgbClr val="ffffff"/>
            </a:solidFill>
            <a:miter/>
          </a:ln>
        </p:spPr>
      </p:pic>
      <p:pic>
        <p:nvPicPr>
          <p:cNvPr id="206" name="Picture 5" descr=""/>
          <p:cNvPicPr/>
          <p:nvPr/>
        </p:nvPicPr>
        <p:blipFill>
          <a:blip r:embed="rId3"/>
          <a:srcRect l="0" t="0" r="2089" b="0"/>
          <a:stretch/>
        </p:blipFill>
        <p:spPr>
          <a:xfrm>
            <a:off x="5759280" y="4500720"/>
            <a:ext cx="3959280" cy="2519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425520"/>
            <a:ext cx="8609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90960" y="6300720"/>
            <a:ext cx="392904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78000" indent="0" algn="ctr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.П. Астафь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 algn="ctr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(1924 - 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2519280" y="179280"/>
            <a:ext cx="4680000" cy="594036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2521080" y="358920"/>
            <a:ext cx="5219640" cy="684036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600360" y="899640"/>
            <a:ext cx="324000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78000"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Times New Roman"/>
              </a:rPr>
              <a:t>В.П. Астафьев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2700360" y="5400360"/>
            <a:ext cx="485928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ff00"/>
                </a:solidFill>
                <a:latin typeface="Times New Roman"/>
              </a:rPr>
              <a:t>СВЕЧА НАД ЕНИСЕЕМ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-1944720"/>
            <a:ext cx="9539280" cy="862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6100"/>
            </a:br>
            <a:br>
              <a:rPr sz="6100"/>
            </a:br>
            <a:br>
              <a:rPr sz="6100"/>
            </a:br>
            <a:r>
              <a:rPr b="1" lang="de-DE" sz="4800" spc="-1" strike="noStrike">
                <a:solidFill>
                  <a:srgbClr val="ffff00"/>
                </a:solidFill>
                <a:latin typeface="Times New Roman"/>
              </a:rPr>
              <a:t>Цель урока: </a:t>
            </a:r>
            <a:br>
              <a:rPr sz="4800"/>
            </a:br>
            <a:r>
              <a:rPr b="1" lang="de-DE" sz="4800" spc="-1" strike="noStrike">
                <a:solidFill>
                  <a:srgbClr val="ffff00"/>
                </a:solidFill>
                <a:latin typeface="Times New Roman"/>
              </a:rPr>
              <a:t>присвоение новых знаний </a:t>
            </a:r>
            <a:br>
              <a:rPr sz="4800"/>
            </a:br>
            <a:r>
              <a:rPr b="1" lang="de-DE" sz="4800" spc="-1" strike="noStrike">
                <a:solidFill>
                  <a:srgbClr val="ffff00"/>
                </a:solidFill>
                <a:latin typeface="Times New Roman"/>
              </a:rPr>
              <a:t>об особенностях репрезентации</a:t>
            </a:r>
            <a:br>
              <a:rPr sz="4800"/>
            </a:br>
            <a:r>
              <a:rPr b="1" lang="de-DE" sz="4800" spc="-1" strike="noStrike">
                <a:solidFill>
                  <a:srgbClr val="ffff00"/>
                </a:solidFill>
                <a:latin typeface="Times New Roman"/>
              </a:rPr>
              <a:t> лексемы </a:t>
            </a:r>
            <a:r>
              <a:rPr b="1" i="1" lang="de-DE" sz="4800" spc="-1" strike="noStrike">
                <a:solidFill>
                  <a:srgbClr val="ffff00"/>
                </a:solidFill>
                <a:latin typeface="Times New Roman"/>
              </a:rPr>
              <a:t>БЕРЕЗА </a:t>
            </a:r>
            <a:br>
              <a:rPr sz="4800"/>
            </a:br>
            <a:r>
              <a:rPr b="1" lang="de-DE" sz="4800" spc="-1" strike="noStrike">
                <a:solidFill>
                  <a:srgbClr val="ffff00"/>
                </a:solidFill>
                <a:latin typeface="Times New Roman"/>
              </a:rPr>
              <a:t>в литературных произведениях </a:t>
            </a:r>
            <a:br>
              <a:rPr sz="4800"/>
            </a:br>
            <a:r>
              <a:rPr b="1" lang="de-DE" sz="4800" spc="-1" strike="noStrike">
                <a:solidFill>
                  <a:srgbClr val="ffff00"/>
                </a:solidFill>
                <a:latin typeface="Times New Roman"/>
              </a:rPr>
              <a:t>разных жанров</a:t>
            </a:r>
            <a:r>
              <a:rPr b="1" i="1" lang="de-DE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39640" y="220464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0000" y="1080720"/>
            <a:ext cx="9720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40896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„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ПОЧИН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'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АТЬ, </a:t>
            </a:r>
            <a:br>
              <a:rPr sz="3600"/>
            </a:br>
            <a:r>
              <a:rPr b="1" i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поч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'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ать </a:t>
            </a:r>
            <a:r>
              <a:rPr b="1" lang="de-DE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что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, 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почан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'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уть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1" i="1" lang="de-DE" sz="2600" spc="-1" strike="noStrike">
                <a:solidFill>
                  <a:srgbClr val="ffff00"/>
                </a:solidFill>
                <a:latin typeface="Times New Roman"/>
                <a:ea typeface="Calibri"/>
              </a:rPr>
              <a:t>пск.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 за(на,в)чинать, приступать къ д</a:t>
            </a:r>
            <a:r>
              <a:rPr b="1" lang="de-DE" sz="3600" spc="-1" strike="noStrike">
                <a:solidFill>
                  <a:srgbClr val="ffff00"/>
                </a:solidFill>
                <a:latin typeface="Lucida Sans Unicode"/>
              </a:rPr>
              <a:t>ƀ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лу, браться за что, стать       д</a:t>
            </a:r>
            <a:r>
              <a:rPr b="1" lang="de-DE" sz="3600" spc="-1" strike="noStrike">
                <a:solidFill>
                  <a:srgbClr val="ffff00"/>
                </a:solidFill>
                <a:latin typeface="Lucida Sans Unicode"/>
              </a:rPr>
              <a:t>ƀ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лать, положить чему начало &lt;…&gt;“.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br>
              <a:rPr sz="3600"/>
            </a:b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В.И. Даль 2007: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II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, 370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32040" y="4500720"/>
            <a:ext cx="8788320" cy="2442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2521080" y="358920"/>
            <a:ext cx="5219640" cy="684036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600360" y="899640"/>
            <a:ext cx="324000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78000" indent="0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82760"/>
                <a:tab algn="l" pos="932040"/>
                <a:tab algn="l" pos="1380960"/>
                <a:tab algn="l" pos="1830240"/>
                <a:tab algn="l" pos="2279520"/>
                <a:tab algn="l" pos="2728800"/>
                <a:tab algn="l" pos="3178080"/>
                <a:tab algn="l" pos="3627360"/>
                <a:tab algn="l" pos="4076640"/>
                <a:tab algn="l" pos="4525920"/>
                <a:tab algn="l" pos="4975200"/>
                <a:tab algn="l" pos="5424480"/>
                <a:tab algn="l" pos="5873760"/>
                <a:tab algn="l" pos="6323040"/>
                <a:tab algn="l" pos="6772320"/>
                <a:tab algn="l" pos="7221600"/>
                <a:tab algn="l" pos="7670880"/>
                <a:tab algn="l" pos="8120160"/>
                <a:tab algn="l" pos="8569440"/>
                <a:tab algn="l" pos="9018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Times New Roman"/>
              </a:rPr>
              <a:t>В.П. Астафьев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700360" y="5400360"/>
            <a:ext cx="485928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ff00"/>
                </a:solidFill>
                <a:latin typeface="Times New Roman"/>
              </a:rPr>
              <a:t>СВЕЧА НАД ЕНИСЕЕМ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2103480" y="287280"/>
            <a:ext cx="7143840" cy="6667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276120" y="2994120"/>
            <a:ext cx="270036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2749680" y="0"/>
            <a:ext cx="5103720" cy="755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-2029320"/>
            <a:ext cx="9539280" cy="87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940896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br>
              <a:rPr sz="6100"/>
            </a:br>
            <a:br>
              <a:rPr sz="6100"/>
            </a:br>
            <a:br>
              <a:rPr sz="6100"/>
            </a:br>
            <a:r>
              <a:rPr b="1" lang="de-DE" sz="61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de-DE" sz="6100" spc="-1" strike="noStrike">
                <a:solidFill>
                  <a:srgbClr val="ffff00"/>
                </a:solidFill>
                <a:latin typeface="Times New Roman"/>
              </a:rPr>
              <a:t>Задачи-прогнозы</a:t>
            </a:r>
            <a:r>
              <a:rPr b="1" lang="de-DE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br>
              <a:rPr sz="4400"/>
            </a:b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1) определить содержание сборника,</a:t>
            </a:r>
            <a:br>
              <a:rPr sz="3600"/>
            </a:b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2) осуществить оформление его обложки,</a:t>
            </a:r>
            <a:br>
              <a:rPr sz="3600"/>
            </a:b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3) проанализировать образ 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БЕРЕЗЫ </a:t>
            </a:r>
            <a:br>
              <a:rPr sz="3600"/>
            </a:b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в произведениях устного народного творчества,</a:t>
            </a:r>
            <a:br>
              <a:rPr sz="3600"/>
            </a:b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4) подготовить к сборнику иллюстрации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640" y="220464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826920" y="539640"/>
            <a:ext cx="8533080" cy="6548400"/>
          </a:xfrm>
          <a:prstGeom prst="rect">
            <a:avLst/>
          </a:prstGeom>
          <a:ln w="36000">
            <a:solidFill>
              <a:srgbClr val="ffff00"/>
            </a:solidFill>
            <a:round/>
          </a:ln>
        </p:spPr>
      </p:pic>
      <p:sp>
        <p:nvSpPr>
          <p:cNvPr id="142" name="Rectangle 2"/>
          <p:cNvSpPr/>
          <p:nvPr/>
        </p:nvSpPr>
        <p:spPr>
          <a:xfrm>
            <a:off x="2778120" y="5357880"/>
            <a:ext cx="77788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14004"/>
                </a:solidFill>
                <a:latin typeface="Georgia"/>
                <a:ea typeface="msmincho"/>
              </a:rPr>
              <a:t>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Символ Росс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826920" y="539640"/>
            <a:ext cx="8533080" cy="6548400"/>
          </a:xfrm>
          <a:prstGeom prst="rect">
            <a:avLst/>
          </a:prstGeom>
          <a:ln w="36000">
            <a:solidFill>
              <a:srgbClr val="ffff00"/>
            </a:solidFill>
            <a:round/>
          </a:ln>
        </p:spPr>
      </p:pic>
      <p:sp>
        <p:nvSpPr>
          <p:cNvPr id="144" name="Rectangle 2"/>
          <p:cNvSpPr/>
          <p:nvPr/>
        </p:nvSpPr>
        <p:spPr>
          <a:xfrm>
            <a:off x="2778120" y="5357880"/>
            <a:ext cx="77788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314004"/>
                </a:solidFill>
                <a:latin typeface="Georgia"/>
                <a:ea typeface="msmincho"/>
              </a:rPr>
              <a:t>  </a:t>
            </a: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Глава 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Georgia"/>
                <a:ea typeface="msmincho"/>
              </a:rPr>
              <a:t>Народные приме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539640" y="1971720"/>
            <a:ext cx="8999640" cy="504828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6360" y="-8280"/>
            <a:ext cx="950292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6100"/>
            </a:b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Из березы течет много сока — </a:t>
            </a:r>
            <a:br>
              <a:rPr sz="3600"/>
            </a:b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к дождливому лету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539640" y="1717560"/>
            <a:ext cx="8999640" cy="530244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sp>
        <p:nvSpPr>
          <p:cNvPr id="148" name="Text Box 2"/>
          <p:cNvSpPr/>
          <p:nvPr/>
        </p:nvSpPr>
        <p:spPr>
          <a:xfrm>
            <a:off x="4960800" y="1785960"/>
            <a:ext cx="19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5440" y="-270360"/>
            <a:ext cx="9128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6100" spc="-1" strike="noStrike">
                <a:solidFill>
                  <a:srgbClr val="00008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de-DE" sz="2800" spc="-1" strike="noStrike">
                <a:solidFill>
                  <a:srgbClr val="000080"/>
                </a:solidFill>
                <a:latin typeface="Times New Roman"/>
              </a:rPr>
              <a:t>- 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Когда береза перед ольхой лист пустит — лето  будет  сухое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539640" y="1800360"/>
            <a:ext cx="9180720" cy="5219640"/>
          </a:xfrm>
          <a:prstGeom prst="rect">
            <a:avLst/>
          </a:prstGeom>
          <a:ln w="72000">
            <a:solidFill>
              <a:srgbClr val="ffff00"/>
            </a:solidFill>
            <a:round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000" y="-270360"/>
            <a:ext cx="952524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6100" spc="-1" strike="noStrike">
                <a:solidFill>
                  <a:srgbClr val="00008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de-DE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</a:t>
            </a:r>
            <a:r>
              <a:rPr b="1" lang="de-DE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Когда береза станет  распускаться — </a:t>
            </a:r>
            <a:br>
              <a:rPr sz="3600"/>
            </a:br>
            <a:r>
              <a:rPr b="1" i="1" lang="de-DE" sz="3600" spc="-1" strike="noStrike">
                <a:solidFill>
                  <a:srgbClr val="ffff00"/>
                </a:solidFill>
                <a:latin typeface="Times New Roman"/>
              </a:rPr>
              <a:t>пора  овес сея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Admin</cp:lastModifiedBy>
  <dcterms:modified xsi:type="dcterms:W3CDTF">2017-02-18T11:09:33Z</dcterms:modified>
  <cp:revision>29</cp:revision>
  <dc:subject/>
  <dc:title>Слайд 1</dc:title>
</cp:coreProperties>
</file>