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65D-4100-4719-8548-31D69E5F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D4D-AC3B-4777-80F4-468AACE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8F5-8EF2-44DA-8A92-9EE7B0A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9A3-273A-4124-B953-61BF4D4A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1DA-877C-42C2-B85E-5F4521B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5ED-FDEC-4408-8E8E-4177B26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948-0CCC-4CAD-A9BC-6E88E6AF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1B8-922A-4006-A424-F43E7C5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79C-3B95-4E94-8686-5AC758A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AD0-FC39-4224-8455-4D44D94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197-B75B-4AEF-97DB-C285F9E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ECE-C3E2-45E6-9D4E-93CE698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D0F0F4-262E-4DF7-AAC6-0815F3DB9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-3394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rcRect l="20045" t="19948" r="0" b="0"/>
          <a:stretch/>
        </p:blipFill>
        <p:spPr>
          <a:xfrm>
            <a:off x="0" y="0"/>
            <a:ext cx="4886280" cy="606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"/>
          <p:cNvSpPr/>
          <p:nvPr/>
        </p:nvSpPr>
        <p:spPr>
          <a:xfrm>
            <a:off x="5675400" y="3303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7020000" y="26496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659640" y="287964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Счас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920000" y="2160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200" y="290664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60440" y="54468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865160" y="52070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ий быт </a:t>
            </a:r>
            <a:r>
              <a:rPr b="1" i="1" lang="ru-RU" sz="2400" spc="-1" strike="noStrike">
                <a:solidFill>
                  <a:srgbClr val="ff6600"/>
                </a:solidFill>
                <a:latin typeface="Arial Black"/>
                <a:ea typeface="msmincho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564080" y="13986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579760" y="9223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д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197000" y="-35892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006800" y="2746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Бер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140520" y="591516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Великодуш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7997760" y="626436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1440000" y="984240"/>
            <a:ext cx="793440" cy="635040"/>
          </a:xfrm>
          <a:custGeom>
            <a:avLst/>
            <a:gdLst>
              <a:gd name="textAreaLeft" fmla="*/ 326880 w 793440"/>
              <a:gd name="textAreaRight" fmla="*/ 466560 w 79344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1468440" y="3303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79360" y="36036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7920000" y="395928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80000" y="489276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ие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307120" y="9748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53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Обрядовые песн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4680000" cy="5759640"/>
          </a:xfrm>
          <a:prstGeom prst="rect">
            <a:avLst/>
          </a:prstGeom>
          <a:ln w="108000">
            <a:solidFill>
              <a:srgbClr val="355e00"/>
            </a:solidFill>
            <a:round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000" y="50400"/>
            <a:ext cx="952524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400720" y="1177920"/>
            <a:ext cx="45640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700" spc="-1" strike="noStrike">
                <a:solidFill>
                  <a:srgbClr val="000080"/>
                </a:solidFill>
                <a:latin typeface="Times New Roman"/>
                <a:ea typeface="msmincho"/>
              </a:rPr>
              <a:t>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резка, березка,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вивайся, кудрявая,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К тебе девки пришли,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К тебе  красны пришли,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ирога принесли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о яичницей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58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традиц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1800" y="396360"/>
            <a:ext cx="793764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67000"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95440" y="992160"/>
            <a:ext cx="3905280" cy="23814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595440" y="3959280"/>
            <a:ext cx="3905280" cy="25876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62" name="Text Box 4"/>
          <p:cNvSpPr/>
          <p:nvPr/>
        </p:nvSpPr>
        <p:spPr>
          <a:xfrm>
            <a:off x="4500720" y="1150920"/>
            <a:ext cx="55562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2200" algn="ctr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 горе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виты воро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те ворота Настя ш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собой вела красных девушек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Настей шла Татья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собой вела всех подруженек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5373720" y="3959280"/>
            <a:ext cx="4167000" cy="25192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65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праздн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51320" y="1190520"/>
            <a:ext cx="3770280" cy="2989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Завили веночк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Завили зелен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годы добры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жито густо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ячмень колосисты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овес ресисты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гречиху черную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капусту белую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52440" y="1190520"/>
            <a:ext cx="5003640" cy="31752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548240" y="4025880"/>
            <a:ext cx="5172120" cy="31752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69" name="Text Box 4"/>
          <p:cNvSpPr/>
          <p:nvPr/>
        </p:nvSpPr>
        <p:spPr>
          <a:xfrm>
            <a:off x="1389240" y="382680"/>
            <a:ext cx="3968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785960" y="382680"/>
            <a:ext cx="6945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72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 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Загадк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27040" y="539280"/>
            <a:ext cx="90136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ЗЕЛЕН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луг,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БЕЛ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снег, 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КУДРЯВ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голо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4140360" cy="4859280"/>
          </a:xfrm>
          <a:prstGeom prst="rect">
            <a:avLst/>
          </a:prstGeom>
          <a:ln w="72000">
            <a:solidFill>
              <a:srgbClr val="008000"/>
            </a:solidFill>
            <a:round/>
          </a:ln>
        </p:spPr>
      </p:pic>
      <p:sp>
        <p:nvSpPr>
          <p:cNvPr id="175" name="Text Box 3"/>
          <p:cNvSpPr/>
          <p:nvPr/>
        </p:nvSpPr>
        <p:spPr>
          <a:xfrm>
            <a:off x="5357880" y="1587600"/>
            <a:ext cx="3433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203720" cy="4859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960800" y="5952960"/>
            <a:ext cx="4167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373560" y="396720"/>
            <a:ext cx="34336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80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 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Колдовское дере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25680" y="396360"/>
            <a:ext cx="641016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6480360" cy="5759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508800" y="3060720"/>
            <a:ext cx="3214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2200" algn="ctr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ам, где берег обрывом и реч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е ходи по ночам, не ходи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ам русалка нашепчет словечко — и поселится смута в груд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1140120"/>
            <a:ext cx="86090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Тема урока: </a:t>
            </a: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„Семантический объём лексемы </a:t>
            </a:r>
            <a:r>
              <a:rPr b="1" i="1" lang="de-DE" sz="6100" spc="-1" strike="noStrike">
                <a:solidFill>
                  <a:srgbClr val="ffff00"/>
                </a:solidFill>
                <a:latin typeface="Times New Roman"/>
              </a:rPr>
              <a:t>БЕРЕЗА</a:t>
            </a: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в литературных произведениях разных жанров“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85" name="Rectangle 2"/>
          <p:cNvSpPr/>
          <p:nvPr/>
        </p:nvSpPr>
        <p:spPr>
          <a:xfrm>
            <a:off x="2778120" y="5357880"/>
            <a:ext cx="7778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Символ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60360" y="6433920"/>
            <a:ext cx="536868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100000"/>
              </a:lnSpc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.А. Есен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895 - 19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879640" y="179280"/>
            <a:ext cx="4391280" cy="61437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2099880"/>
            <a:ext cx="86090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5040360" cy="684072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92" name="Text Box 4"/>
          <p:cNvSpPr/>
          <p:nvPr/>
        </p:nvSpPr>
        <p:spPr>
          <a:xfrm>
            <a:off x="5580000" y="360360"/>
            <a:ext cx="42879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С. 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р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лая береза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д моим окном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Принакрылась снегом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очно серебром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 пушистых ветках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нежною каймой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Распустились кист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лой бахромо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И стоит береза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сонной тишине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И горят снежинк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золотом огн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А заря, лениво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Обходя кругом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обсыпает ветк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овым сереб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828720"/>
            <a:ext cx="97203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гворисунок – это:</a:t>
            </a: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интеллектуальный продукт, имеющий личностный смысл, ценностную природу, индивидуальную «окраску»;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собый «ключ» к декодированию мышления учащихся, «вербализованный» в цветолексемах и символах, </a:t>
            </a: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зыковых описаниях и стилях; 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3) «питательная среда» для совершенствования научения учащихся вообще,  русскому языку и литературе в частности. 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[Ганчев, Ганчева, Ганчев 2009: 1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79640" y="6252840"/>
            <a:ext cx="395928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100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.М. Руб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936 — 197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4680000" cy="5759280"/>
          </a:xfrm>
          <a:prstGeom prst="rect">
            <a:avLst/>
          </a:prstGeom>
          <a:ln w="93600">
            <a:solidFill>
              <a:srgbClr val="ffff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099880"/>
            <a:ext cx="86090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360000" cy="66596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10600" y="-225720"/>
            <a:ext cx="428796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11880" bIns="0" anchor="ctr">
            <a:noAutofit/>
          </a:bodyPr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Н. Рубц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Бере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Я люблю, когда шумят берёзы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Когда листья падают с берёз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лушаю — и набегают слёзы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глаза, отвыкшие от слёз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сё очнётся в памяти невольно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Отзовётся в сердце и в крови́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танет как-то радостно и больно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Будто кто-то шепчет о любви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Только чаще побеждает проза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ловно дунет ветер хмурых дней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едь шумит такая же берёза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д могилой матери моей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войне отца убила пуля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А у нас в деревне у оград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 ветром и с дождём шумел, как улей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от такой же жёлтый листопад…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Русь моя, люблю твои берёзы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 первых лет я с ними жил и рос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Потому и набегают слёзы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глаза, отвыкшие от слёз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040360" y="539640"/>
            <a:ext cx="4319640" cy="6120000"/>
          </a:xfrm>
          <a:prstGeom prst="rect">
            <a:avLst/>
          </a:prstGeom>
          <a:ln w="108000">
            <a:solidFill>
              <a:srgbClr val="c0c0c0"/>
            </a:solidFill>
            <a:round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1680" y="366840"/>
            <a:ext cx="8608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31680" y="2076480"/>
            <a:ext cx="86086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879640" y="2519280"/>
            <a:ext cx="3780000" cy="2519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2519280" cy="3060720"/>
          </a:xfrm>
          <a:prstGeom prst="rect">
            <a:avLst/>
          </a:prstGeom>
          <a:ln w="93600">
            <a:solidFill>
              <a:srgbClr val="ffffff"/>
            </a:solidFill>
            <a:miter/>
          </a:ln>
        </p:spPr>
      </p:pic>
      <p:pic>
        <p:nvPicPr>
          <p:cNvPr id="206" name="Picture 5" descr=""/>
          <p:cNvPicPr/>
          <p:nvPr/>
        </p:nvPicPr>
        <p:blipFill>
          <a:blip r:embed="rId3"/>
          <a:srcRect l="0" t="0" r="2089" b="0"/>
          <a:stretch/>
        </p:blipFill>
        <p:spPr>
          <a:xfrm>
            <a:off x="5759280" y="4500720"/>
            <a:ext cx="3959280" cy="2519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0960" y="6300720"/>
            <a:ext cx="39290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П. Астафь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924 -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519280" y="179280"/>
            <a:ext cx="4680000" cy="59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521080" y="358920"/>
            <a:ext cx="5219640" cy="68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600360" y="899640"/>
            <a:ext cx="324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</a:rPr>
              <a:t>В.П. Астафье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700360" y="5400360"/>
            <a:ext cx="48592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Times New Roman"/>
              </a:rPr>
              <a:t>СВЕЧА НАД ЕНИСЕЕМ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-1944720"/>
            <a:ext cx="9539280" cy="862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br>
              <a:rPr sz="6100"/>
            </a:br>
            <a:br>
              <a:rPr sz="61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Цель урока: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присвоение новых знаний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об особенностях репрезентации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 лексемы </a:t>
            </a:r>
            <a:r>
              <a:rPr b="1" i="1" lang="de-DE" sz="4800" spc="-1" strike="noStrike">
                <a:solidFill>
                  <a:srgbClr val="ffff00"/>
                </a:solidFill>
                <a:latin typeface="Times New Roman"/>
              </a:rPr>
              <a:t>БЕРЕЗА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в литературных произведениях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разных жанров</a:t>
            </a:r>
            <a:r>
              <a:rPr b="1" i="1" lang="de-DE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000" y="1080720"/>
            <a:ext cx="9720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„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ИН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ТЬ,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ть 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что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,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ан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уть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пск.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 за(на,в)чинать, приступать къ д</a:t>
            </a:r>
            <a:r>
              <a:rPr b="1" lang="de-DE" sz="3600" spc="-1" strike="noStrike">
                <a:solidFill>
                  <a:srgbClr val="ffff00"/>
                </a:solidFill>
                <a:latin typeface="Lucida Sans Unicode"/>
              </a:rPr>
              <a:t>ƀ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лу, браться за что, стать       д</a:t>
            </a:r>
            <a:r>
              <a:rPr b="1" lang="de-DE" sz="3600" spc="-1" strike="noStrike">
                <a:solidFill>
                  <a:srgbClr val="ffff00"/>
                </a:solidFill>
                <a:latin typeface="Lucida Sans Unicode"/>
              </a:rPr>
              <a:t>ƀ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лать, положить чему начало &lt;…&gt;“.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В.И. Даль 2007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II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, 370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2040" y="4500720"/>
            <a:ext cx="8788320" cy="244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2521080" y="358920"/>
            <a:ext cx="5219640" cy="68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600360" y="899640"/>
            <a:ext cx="324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</a:rPr>
              <a:t>В.П. Астафье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700360" y="5400360"/>
            <a:ext cx="48592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Times New Roman"/>
              </a:rPr>
              <a:t>СВЕЧА НАД ЕНИСЕЕМ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103480" y="287280"/>
            <a:ext cx="7143840" cy="666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76120" y="2994120"/>
            <a:ext cx="27003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749680" y="0"/>
            <a:ext cx="5103720" cy="755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-2029320"/>
            <a:ext cx="9539280" cy="87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br>
              <a:rPr sz="6100"/>
            </a:br>
            <a:br>
              <a:rPr sz="6100"/>
            </a:b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Задачи-прогнозы</a:t>
            </a: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br>
              <a:rPr sz="44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1) определить содержание сборника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2) осуществить оформление его обложки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3) проанализировать образ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БЕРЕЗЫ 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в произведениях устного народного творчества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4) подготовить к сборнику иллюстрации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42" name="Rectangle 2"/>
          <p:cNvSpPr/>
          <p:nvPr/>
        </p:nvSpPr>
        <p:spPr>
          <a:xfrm>
            <a:off x="2778120" y="5357880"/>
            <a:ext cx="7778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Символ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44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прим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539640" y="1971720"/>
            <a:ext cx="8999640" cy="50482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6360" y="-8280"/>
            <a:ext cx="950292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Из березы течет много сока —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 дождливому лету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539640" y="1717560"/>
            <a:ext cx="8999640" cy="53024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48" name="Text Box 2"/>
          <p:cNvSpPr/>
          <p:nvPr/>
        </p:nvSpPr>
        <p:spPr>
          <a:xfrm>
            <a:off x="4960800" y="1785960"/>
            <a:ext cx="1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5440" y="-270360"/>
            <a:ext cx="9128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80"/>
                </a:solidFill>
                <a:latin typeface="Times New Roman"/>
              </a:rPr>
              <a:t>-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огда береза перед ольхой лист пустит — лето  будет  сухое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9180720" cy="52196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00" y="-270360"/>
            <a:ext cx="95252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</a:t>
            </a:r>
            <a:r>
              <a:rPr b="1" lang="de-DE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огда береза станет  распускаться —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пора  овес сея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Admin</cp:lastModifiedBy>
  <dcterms:modified xsi:type="dcterms:W3CDTF">2017-02-18T11:09:33Z</dcterms:modified>
  <cp:revision>29</cp:revision>
  <dc:subject/>
  <dc:title>Слайд 1</dc:title>
</cp:coreProperties>
</file>