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36D71-9F33-4B86-9243-4891FE6E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AA46-C5CB-49E3-B4EF-771A7945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06CE66-ED50-4D61-ACDB-C3AB9AD3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0AF2CA-5085-48B1-AA70-1D91690C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1818C1-BBB4-4DF9-95B3-B18E69CE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EC53A6-9EA6-431A-9565-D143844F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5A3BDD-BB7F-4F83-8061-4EBBC1E3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0CB960-5E41-493F-BD19-4B2BC14E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25A9B6-D014-499F-9093-013D87C2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0CF915-F441-404D-9D78-3330AA7B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32E12D-FE03-4B9E-8742-ABC58520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BC2A93-6048-4531-BDA3-3F3C828E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47BE0-5D7C-4EDF-A179-09F4906F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A2A5F4-1E06-41C5-B6DE-CE9DCDB5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DD057A-8E06-4C14-8F22-318B58EB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65E8AE-2F8C-4E2A-8426-1E0F55A2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63F859-EEED-4D41-A086-7F63E3C7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471341-59BD-45A0-A899-9E70D457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1AE63D-834B-473A-8DED-E463B9BA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87A203-FF0E-49D3-BB39-2B14E9EB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FB8F86-3376-4DAD-95F9-2A720D9D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C1973C-9A18-4FB2-BC32-25A053FF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80CD4B-FEDA-4832-8808-358A9128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A0E5-5367-4875-8BDF-DCAFA6F2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F68A3C-67AE-4A52-A71E-5701BA3F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56AD49-C65F-4222-93F7-831383A3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A82E62-84CE-44FF-8DD5-89D46B1A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5F0F42-AA37-4D02-A46A-768628ED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7EEE37-FDB7-42E6-922A-C13905C8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B1B77F-F3B9-4A65-B62D-5426FB26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E9BAF5-27BF-4EA7-ACFC-8FC6D6B9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F7F77A-59E0-4346-A730-537AA98E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2294A7-65AF-455D-9C3F-8BDAE1A4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7A98B8-929D-4BC0-902F-70AFDB96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32DB-96D7-4D52-8AB2-6BC04343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3BF978-4DCD-427A-A740-88B59861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F9FDA6-4DB2-4945-BE86-06DA9431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45B209-E071-49EF-B8C3-1C9A9023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03193C-48C4-42EE-9780-C0625713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058BE1-BD86-45DA-8CCB-6D041751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12FCB6-7B63-4E3E-8E5E-50CBC1C2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D058B5-92A0-4318-BCE4-FF6DFD0D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CC5742-67E4-4F00-A51C-AAFB7F00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9EBE3D-844F-4A6E-A98E-2D89BB30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7B7E15-6A31-49F2-9021-63E9AD71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4578-BF79-4EC2-A18E-F47F4953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D1D480-E121-4D0E-AC51-6E5DD5EA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96E68D-1DD0-4F88-81D5-0C22796A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F248B6-4436-486C-98CF-22628BD3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0D0E08-7B87-41D9-AFA4-9B8AFEEF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F622DD-B028-4002-A247-91F6EA13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34EA55-D912-43FF-B38E-4B25F1D1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FCB2A1-178A-4D5C-A605-424616FF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E9311F-5672-4851-9AA0-0E103151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26C2A5-8A82-4101-B31C-BCEE1A99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D5AB10-C7EA-4E84-BF7A-4C031B47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6E3C-6623-4AC9-B0CE-8B435486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AE4F20-D996-4867-ADD5-5E2AC901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A1F5DD-0548-40AE-B64F-60AE5A18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748F24-D7F6-41FC-8DE3-6AEE9B65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B1A51C-E10B-429E-9C8D-0D23AB5F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3ED86D-64C7-4F03-A900-7A93460B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7C4860-E008-4C94-9255-4DE1988D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F81290-DB2C-434B-8B3C-4CD3D11D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253BC9-78FB-491B-8C8A-C9CAA13F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5B90BE-1B9E-4923-B12D-24B55217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817DFA-B05C-4136-BB51-18BF2A2B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94B0-83D0-4CD8-B9A5-F68BB884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8F4E4A-8E7E-433E-86E9-8761A8AF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29DC41-BC71-4239-949D-BE7E89CB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895F10-E08A-46B1-92D1-3B3D6193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FAD672-720E-4B1D-BC59-C7F51711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E59813-ABE0-43C3-936A-C2033A4E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2100F7-FD61-4FAC-B282-255D2A8E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71FD87-5E22-4B55-9A95-82A0495B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303209-895B-4B9E-9138-DB4998EF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779AC1-58C2-4B5B-9E55-07804EEE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26FD-F487-4D7F-A881-67DB46AD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13B0-F378-4E79-BF57-978A3047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6E02-82AB-4FDD-9A47-16EF8C3B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6E64C-86FF-4BFE-96AE-82FEBC8F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618D-A57A-484B-B9F9-FBB5954F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5972-5FB8-42EC-AB54-92FDFC62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02CD-6821-497B-97B9-EAC6315C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1CA7-CFEC-4F38-95E0-772D1B00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207C-AE35-4A8E-A3A5-035D5C1E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C118E-8B90-4ABB-9C66-981BC66D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20310-E864-4123-A4C9-04CD66F8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760A8-C58D-4699-942A-F0A301F6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F4C7A-99E2-4CB5-AB88-294DC351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04E84-7F9A-496C-B516-622330DC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DF5A3-7EBC-458A-A230-CF29F938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B65A5-DF66-4D0D-80FE-FAF90CA1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1715E-3231-4DF8-8A03-33AA6645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2091C-F3FE-4E40-8A8E-F6318522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89E6E-7A59-4B47-BFA7-2E22D556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64E47-9082-4BEB-88D6-C01FE960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A7054-FE7E-4D16-87A7-9C79ED9C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9684D-972B-45D5-A940-862D4A3A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A513D-28B1-46A4-B3AB-472C726F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05BF6-6135-4CA3-98F2-5933E673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A1D1A-D3BB-4A00-A722-2D30B654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8ED7-6615-4DDF-8135-372C0F1B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F79D4-A15C-4DB9-90E0-1C164A02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23B6E-AAC8-48F2-970B-70FFDF4C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B7126-29D4-4A81-9990-709B9F8E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999B5E-0DF9-450A-88D3-35761CBC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034756-8087-4F9E-B3F1-1D4615FF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80DFD4-0E75-4489-8E61-B810B3CF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8C8FB-1100-48DE-BE47-65DBA27C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C86834-22CD-432F-A983-730FAC23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44A3E-1CBB-46A5-B1D1-495E3874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49D5C8-21FA-4388-9EE8-A484F8BB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90460-F163-4ADF-B624-87158AE0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BB18F2-D683-4455-A3F2-B63C1F41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EEB636-8FE5-4DE5-90DC-D9036A58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F8662-5841-4899-86D7-2DE289FA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F953B-CAC0-4E8F-9338-65BD2D11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81F68-FA1F-45BD-89E1-05532329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D1E939-5EF1-44A8-9A5E-8D78ED38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2B5AD-A5AE-472F-9549-C7120386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EB156-606C-48A0-819E-74E36B37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999033-055F-4D5B-BC8D-6C189984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39468-F66D-4228-9157-3A4EC819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10DD-891E-417C-BAB8-4103C979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1E9852-FB89-4BAF-B517-8925D1CA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3B16FE-6A1B-4378-95BD-A45795F7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1FD28-028E-499F-87C5-C478660F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23006-690C-4427-9E34-C2070662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5B5CA-FD5E-4E6F-9156-D0454224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5EC8D-1EDA-4278-8130-D4BC2841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1ADA0-D64E-4D18-9531-0E81DCE3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36ACB5-DB12-4D09-88E6-77ED250F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4F1785-1A8B-4E56-B2C7-EA01F2D4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63393-61A0-4805-9D61-C113FA33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20B5-3FFF-40B3-9EEC-646AE7DA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24DED4-6A99-4D07-913E-9B8CE10F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6EF6F-2936-4120-A596-2AE76360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58D86-0EB7-4E32-A8F1-92B6A748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168F58-9C13-4DE5-8F46-31A0FB75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511E7-E62F-4AF5-A2A2-921463C3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690C99-D2CB-4CD4-A85A-8699AC7D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3EA2C-BA42-4A81-B3C5-EAC37152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71345-A44C-40BC-9812-FE959B22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FC9FD7-8E67-4422-B819-428B40C9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5420FB-5F67-4E00-9BA8-AA9D8259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9382-710E-4213-ADAD-2DC68F97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ACD20-ED92-402F-B2ED-AF002032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4AB899-DC80-4A63-BBDF-1DC6C60A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86DBA-02BF-4CE8-ACCB-9479410B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A6A64-F543-466B-B95B-51A20A05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E3B479-2B12-4AFB-A70F-C880A83D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D0B11B-F1B3-4FB2-A500-6500A0DB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A4CFC6-36F4-4AEE-9C37-F54FBBF1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05F1FC-2BBE-409E-9C90-C6F355B4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EF8119-AD68-4DCA-88DF-8CFE6AB6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B0FF1C-9401-4970-878E-CC009AAC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973D5-E16A-4405-8D50-65738B46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BF88AC-5A70-451A-85D7-C2BA1A65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38D8CA-46BF-4E1F-949C-9EB7AB14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2E6477-B3FC-4C82-849C-291E3AE0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F9D126-DFDC-49F5-A3A7-5668B1A7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57B795-30D6-40D3-A79F-EFFFDDE8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BCB12E-1512-4170-89CE-457BF361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1C47CD-0695-454A-B02F-59957B2A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3AB76C-8F96-4EBE-AFF7-6EDB825E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8F73EC-5799-424C-A01B-686AC7D2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21513E-B0E6-48AF-B59A-3E1B7D15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7E05-0810-4750-A744-D24A506B85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8319-C683-45BA-8C8B-8DF81DA1F4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2658-9FFE-4A31-A84E-832840EFBB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0A3B-1BAE-47B1-AAC9-A861F83589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73F1-B233-4A38-8A57-218131A600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7F86-6E1C-4173-80B1-45E8BA6FCB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9866-ADAB-49CA-9C03-B4A4BDBB71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65A7-59A5-4599-875F-D9E81EB935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7F93-175C-4304-9260-812D6537F7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71A9-FDFC-4AFB-BCA1-0D010D8C44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D71D-B9B3-47E4-A3DF-2B132D74A4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9443-60BA-49C1-9560-1C0293E876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4B39-BCC6-4B08-BB84-F8DB2BA071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7CFB-DE29-4549-89E6-D5ECA21452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Беседа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Tahoma"/>
              </a:rPr>
              <a:t>«Символы современной России» 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: Воробцова Т.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повска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Ш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вятой Георгий Победоносец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зображение всадника, пронзающего копьем змея, называют Святым Георгием Победоносцем. Это изображение напоминает об одном из самых известных его подвиг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7" name="Picture 6" descr="Георгий Победоносец"/>
          <p:cNvPicPr/>
          <p:nvPr/>
        </p:nvPicPr>
        <p:blipFill>
          <a:blip r:embed="rId2"/>
          <a:stretch/>
        </p:blipFill>
        <p:spPr>
          <a:xfrm>
            <a:off x="468360" y="1628640"/>
            <a:ext cx="3598920" cy="439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ФЛА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ш флаг имеет прямоугольную форму и состоит из трёх горизонтальных полос. Белый цвет означает мир, чистоту, синий – небо, верность и правду, красный – храбр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0" name="Picture 5" descr="C:\Users\Администратор\Documents\кл.рук\на конкурс\images.jpg"/>
          <p:cNvPicPr/>
          <p:nvPr/>
        </p:nvPicPr>
        <p:blipFill>
          <a:blip r:embed="rId2"/>
          <a:stretch/>
        </p:blipFill>
        <p:spPr>
          <a:xfrm>
            <a:off x="4214880" y="1571760"/>
            <a:ext cx="4641840" cy="328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cc"/>
                </a:solidFill>
                <a:latin typeface="Tahoma"/>
              </a:rPr>
              <a:t>ГИМН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5840" y="7142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Россия — священная наша держ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Россия — любимая наша стра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Могучая воля, великая сла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Твое достоянье на все времен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bf25a"/>
                </a:solidFill>
                <a:latin typeface="Times New Roman"/>
              </a:rPr>
              <a:t>Припев</a:t>
            </a:r>
            <a:r>
              <a:rPr b="0" i="1" lang="en-US" sz="2000" spc="-1" strike="noStrike">
                <a:solidFill>
                  <a:srgbClr val="ebf25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Славься, Отечество наше свободно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Братских народов союз веков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Предками данная мудрость народна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Славься, страна! Мы гордимся тобой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От южных морей до полярного кр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Раскинулись наши леса и по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Одна ты на свете! Одна ты такая —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Хранимая Богом родная земл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bf25a"/>
                </a:solidFill>
                <a:latin typeface="Times New Roman"/>
              </a:rPr>
              <a:t>Прип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Широкий простор для мечты и для жиз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Грядущие нам открывают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Нам силу дает наша верность Отчиз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Так было, так есть и так будет всегд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imes New Roman"/>
              </a:rPr>
              <a:t>(муз. А. Александрова, сл. С. Михалков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3" name="Гимн.mp3" descr=""/>
          <p:cNvPicPr/>
          <p:nvPr/>
        </p:nvPicPr>
        <p:blipFill>
          <a:blip r:embed="rId2"/>
          <a:stretch/>
        </p:blipFill>
        <p:spPr>
          <a:xfrm>
            <a:off x="821520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6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6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6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230962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оссийская Федерац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21" name="Picture 4" descr="C:\Users\Администратор\Documents\кл.рук\на конкурс\russia-map.jpg"/>
          <p:cNvPicPr/>
          <p:nvPr/>
        </p:nvPicPr>
        <p:blipFill>
          <a:blip r:embed="rId2"/>
          <a:stretch/>
        </p:blipFill>
        <p:spPr>
          <a:xfrm>
            <a:off x="571680" y="1357200"/>
            <a:ext cx="7715160" cy="525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3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7201080" cy="588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Медведев Дмитрий Анатольевич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24" name="Picture 4" descr="C:\Users\Администратор\Documents\кл.рук\на конкурс\1248712421_medvedev.jpg"/>
          <p:cNvPicPr/>
          <p:nvPr/>
        </p:nvPicPr>
        <p:blipFill>
          <a:blip r:embed="rId2"/>
          <a:stretch/>
        </p:blipFill>
        <p:spPr>
          <a:xfrm>
            <a:off x="2428920" y="1297080"/>
            <a:ext cx="3929040" cy="556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Штандарт президента РФ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2"/>
          <a:stretch/>
        </p:blipFill>
        <p:spPr>
          <a:xfrm>
            <a:off x="1908000" y="2060640"/>
            <a:ext cx="5759640" cy="37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2"/>
          <a:stretch/>
        </p:blipFill>
        <p:spPr>
          <a:xfrm>
            <a:off x="539640" y="1279440"/>
            <a:ext cx="8209080" cy="477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074080" cy="534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cc"/>
                </a:solidFill>
                <a:latin typeface="Tahoma"/>
              </a:rPr>
              <a:t>Символы государства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Флаг                                             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Гимн                                                   Герб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ГЕРБ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рб – знак отличия, важнейшая эмблема государства, города, области, а также отдельных лиц и ро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4" name="Picture 5" descr="C:\Users\Администратор\Documents\кл.рук\на конкурс\images (1).jpg"/>
          <p:cNvPicPr/>
          <p:nvPr/>
        </p:nvPicPr>
        <p:blipFill>
          <a:blip r:embed="rId2"/>
          <a:stretch/>
        </p:blipFill>
        <p:spPr>
          <a:xfrm>
            <a:off x="4929120" y="1571760"/>
            <a:ext cx="3632400" cy="435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23:51:58Z</dcterms:created>
  <dc:creator>User</dc:creator>
  <dc:description/>
  <dc:language>en-US</dc:language>
  <cp:lastModifiedBy>777</cp:lastModifiedBy>
  <dcterms:modified xsi:type="dcterms:W3CDTF">2012-02-08T07:58:45Z</dcterms:modified>
  <cp:revision>41</cp:revision>
  <dc:subject/>
  <dc:title>Урок РОССИИ</dc:title>
</cp:coreProperties>
</file>