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6CC8-6E8E-40E0-A8C6-13440A42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CCAC-6077-4229-B021-757AE4C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FF83E-9D38-4029-80EB-8839BF0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A70D6-ACE9-4221-8461-06AAEC7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7D56A-4259-49E0-A219-08A5AA2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5C703C-0237-4210-8612-DC996B3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3C65C-CA4A-40D9-B6DF-A5664982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3A01D0-27E0-4589-A629-C9C5227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76552-1FB7-4836-8D2B-0BA198F3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884A1-EF95-460F-80E7-CD40BD23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74772-F213-4002-8604-7B8960CB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EF86AC-CF89-4180-B59F-099EC86C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E5EC-CCA9-4A71-83ED-5E04F8A2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D2E206-DED0-4FEB-9E56-35A28D2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FA7888-DE14-4228-A721-B4C2382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ADBBAD-D6FB-4663-8FE6-F1839D74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4CB3B-5404-4551-A8B5-02BA250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A4446-6B9D-46AD-83F7-8DC11F26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08A44C-2A19-4F88-9C71-9E255AA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669341-6C8A-453B-A8F0-49BBD33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72354C-BB16-4005-BDF9-0C10051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9D1C2B-A901-4434-860E-BA5BF849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641835-D1E2-4F2D-A810-73FA8C5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1A6A-3BD9-41F7-AF19-182F6BCE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492EEA-C6F9-4C38-8A53-7F2C183A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E86677-D90C-42C2-A09A-34B438C3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773601-7CF2-4747-B9B7-9CDF18F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DA382A-7185-4ECA-98AF-2C8C71E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D2DD6C-3690-4EC0-BA27-12C96C1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A10D79-9B82-43EB-9CE5-A310402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41DE95-17AA-4DD0-B7A6-9F65B5A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6F2BF4-DEA1-4D0C-8A20-AD53FF64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07969C-61F6-4897-8458-F646195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B4F8CD-54F6-4436-851D-90BD10A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C627-36EE-49D2-9491-19921C12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2135EB-BAC9-400F-8F6E-B4CB9704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1F9262-F2F7-421E-88BB-A97B1F06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19C5D0-3CB6-490B-8573-8EC4502E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E48727-C92F-4CB2-8B29-DC69AA0B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E91D93-686D-4EEF-8A05-C7A172C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6C65C8-0411-4265-9A98-ED44901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D0F143-7D9E-4370-A053-169E063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3C4964-695E-4303-8692-938D319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28A081-6737-4BBF-BA86-8D0C387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958F2F-6BDE-4759-85C0-13E56D3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35F0-1B3A-42AF-91E3-4C57C3D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00011A-7C59-4E92-9A5B-CE7EC7A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1CC950-4225-4639-BADA-DB6934A1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B99560-BCB9-48F8-A2A3-C65DA76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37D37B-EC02-4E44-A952-451C5F33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D4C170-8989-4B5E-8B10-9CA8483F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E9F847-B704-437C-8FC7-D1027D8D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D0A8D-E1C7-4E97-8171-9E2809BE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55BBEA-8087-4BAD-8876-1C3E66E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627B19-8D98-4773-8F10-ED2325C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93C263-22AC-41E1-BB37-B5E6D426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08AB-DEA7-4013-925E-3C24002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A842E4-2AFF-44BF-A182-0E7872D3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FF6137-0628-4D60-B24E-B9C4788F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DBC985-3814-4197-BD93-F2071E7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18FFFB-4F8F-4AD8-A879-2D72D43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2EB06-55FC-4D8E-8AF9-4EAFA34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DFA8D9-CBFB-49A8-B450-BB5BEED2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2EE87A-EDE5-411D-A92D-89370CEA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3E5B57-339B-4F8F-A158-FF9BC039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AFFA19-ED11-46B6-AB37-F88074F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826C8E-C0EE-433B-B1B2-9E71FCF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43D5-4DD5-4631-B297-48E477A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C74B94-88F9-472D-9F37-1E37E8A1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6C8610-FAEF-470B-AC80-61CB8F0B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2AB452-CF13-4C65-8031-9600DD02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6E9ADA-B7FE-4998-B1B5-264516D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FD7A6A-9553-467E-8940-B94F286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B4234B-A52A-41CA-9806-291B61EC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180E80-8D5B-495C-B7A6-576312C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D40868-1386-4DC5-9E44-797CA10E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BE3D64-63A2-4942-B1A5-35EAD45A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ADA4-4EBE-4EDC-93AA-93689D84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1EF4-26CB-4072-8C36-18D549B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C51-8E47-4367-A792-05EEBE1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73F4-4AA5-4DB9-A0BE-20F2A8DA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9DF-86C7-4353-B051-0018713C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9AB-9EC6-4D67-82F4-C3B51A1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7714-F648-4A5B-80FB-B98FB4F5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7CDE-185A-457D-9D24-9D6F7C44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9303-2F62-4266-8A0C-C83999BA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F5AFB-1CC5-4D1E-80A5-B2D91DA4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87193-C74F-43AF-BE24-4AFDE473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25C8F-6CFE-4449-A48D-91DF1E80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9EC09-1CBE-4CA7-B1A1-74315726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3106F-0BE4-40FD-A91F-58F0BAE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F6A9-85F6-453B-894D-C99E4D88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33ED8-EC91-40A6-9AD0-14343CBB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4EFF9-9CA3-4E35-A78A-0CB069F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73EC7-5954-47F4-B0D3-7A68E22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CE66E-2984-4380-8F91-1926C32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419B8-AE33-4703-A956-D2524B46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6D9B3-1D50-4E7E-87A8-31D49869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EC0DB-33BE-4778-8100-F7B52BF1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18FE7-BEDF-401C-A815-979146B0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54679-E96D-4EDB-9138-66CD2E44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74E52-4157-4887-B62D-ED3D0FFD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EC79-FC39-4461-8F2F-575D0C9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F1ECC-FF36-4220-8A8E-3318FF5C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BF7B1-A87C-448A-8863-32D17EDC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262CB-5444-4A4D-8F08-949EB62B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9C26F-3754-4BAB-93F6-90B4F7A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AC524-779A-4677-9753-0F63AE9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DB4D0-C6B9-4D66-9458-E1C736B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E5C78-5C5F-4BB1-9A51-D1473786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D42EC-798D-4D48-8EC4-C01624B4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DEA53-3915-4EF2-9D99-2954808A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51D8E-D12F-42D7-BCD4-CB2A78E9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7CD4-7B81-4442-9549-7549691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85EC9-41A2-4908-BF07-29D2D0F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D237F-E610-41B0-A8F1-9C4EED1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89517-6193-4C92-97E2-678C553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5A687-F6AF-4CE1-BB78-BC800132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698B6-119F-411B-A4D9-B4177952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84457-D900-4054-870D-3CECD05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6C27D-B4B5-427D-9CA3-D6B91D9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BD3A2-7FC0-4F40-8AEB-F2B332A4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67701-D22E-4249-A431-6AD1962B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B57F5-8B31-4F3E-85AA-79FC6CE4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AF56-0ACA-4F02-868B-DC4A2093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E5D7E-65C7-43AF-8794-1908B1E3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F6902-BF57-417F-99ED-CD04A9B5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FFE2F-76E2-4157-85FA-E6C48CEF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7DD55-E867-468A-BB53-FD7CE2CB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E5531-FACB-4ABB-932F-55D991E9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C3392-5EDF-41AA-9F71-5BF75E7A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82E13-FE7E-4124-9F4F-ADB78D4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7408A-13D5-4FDB-B9B2-D22975E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4692C-4F76-4C6C-BD8D-1ED6157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8AF79-AAF7-40F7-BBFA-8B45983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F0C5-E015-42B0-AAE8-580D34C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A7EA7-8B6D-4ACB-87A2-425B8B60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99DA4-065D-43A2-91DE-08308750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B06BD-2874-4D97-9BD3-CFDA68F6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15C1D-79D9-4A33-B131-8705A545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336E2-CDEA-4EA6-A2D1-3B96DB7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16AC5-41B9-4499-A6B4-1E636265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21D33-DA86-416F-880C-386547F4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1D644-C863-4B8E-8491-1FAC80B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1611F-DA71-4372-9756-D34C0D3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63D7C-9CC4-4707-836C-BF0F1D5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49D7-21D1-4173-B30B-2F4203A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1E6C4-FFEF-4B06-8242-77800C7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362BA-927D-4A79-95AB-8261F73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59F29-1CF6-469E-9567-58E311A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26776-8A9F-4390-9868-2A74B879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06C57-BF79-4F5C-85BE-C20671FB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8E31C-9D23-4905-A919-B6F20B45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8537B1-9A69-4E5C-82F3-7DB0C40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36C56-BD20-4292-8398-FF0BA34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0AAD1-2F41-4BC1-B704-DA97BA5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26D72-0CEE-40C0-AA9D-7454F62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5479-2A6D-4205-B42A-FC06BF0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54298-5382-4D97-B525-6870948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2B0A87-4F3A-4456-8298-87C56E4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C5BD4-7B42-432F-BD6A-CCCBF0C3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4420B-A876-42CF-A627-5DDB826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F072EB-D6B2-442C-AC3C-AC70F3A9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574DAE-1BDA-47B4-8171-85AC2612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B21F6-5279-47E8-BAFA-60B99A98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EC011-89D5-4E51-90C5-4CD9027A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B4692-0165-413E-9CDF-C83EF2F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B46B9-A390-4C78-84D4-EFE8C5BB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9CFC-7E33-4B7C-B2CD-B0E2D415B0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5CC-9173-4A8F-99D3-D37CD997E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0352-F8D8-43B8-9FE5-3546952A63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BB7-8B48-4431-AF17-9234868847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AE78-2120-47D3-A429-9927C1F6CE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03AB-C16C-4CE2-9B6D-C7DE8D4D75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131-01C1-4CDC-A9C1-729D091F0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DA7-6771-4EB7-BFA4-B4DB2C9032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398B-5E7A-43A0-80E8-A4C89B1D7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87DE-F34B-46EE-8561-85855024B2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833-137F-4260-81CC-774E9D6E63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44D-57BD-4A2D-8427-C31CE5D598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EFE4-288B-4713-8885-2834A17A8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FBB7-69CE-4BC4-9A1E-B26F351DE4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Беседа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Tahoma"/>
              </a:rPr>
              <a:t>«Символы современной России» 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Воробцова Т.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повска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вятой Георгий Победоносец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ображение всадника, пронзающего копьем змея, называют Святым Георгием Победоносцем. Это изображение напоминает об одном из самых известных его подви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7" name="Picture 6" descr="Георгий Победоносец"/>
          <p:cNvPicPr/>
          <p:nvPr/>
        </p:nvPicPr>
        <p:blipFill>
          <a:blip r:embed="rId2"/>
          <a:stretch/>
        </p:blipFill>
        <p:spPr>
          <a:xfrm>
            <a:off x="468360" y="1628640"/>
            <a:ext cx="3598920" cy="43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ФЛА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ш флаг имеет прямоугольную форму и состоит из трёх горизонтальных полос. Белый цвет означает мир, чистоту, синий – небо, верность и правду, красный – храбр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Picture 5" descr="C:\Users\Администратор\Documents\кл.рук\на конкурс\images.jpg"/>
          <p:cNvPicPr/>
          <p:nvPr/>
        </p:nvPicPr>
        <p:blipFill>
          <a:blip r:embed="rId2"/>
          <a:stretch/>
        </p:blipFill>
        <p:spPr>
          <a:xfrm>
            <a:off x="4214880" y="1571760"/>
            <a:ext cx="4641840" cy="32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cc"/>
                </a:solidFill>
                <a:latin typeface="Tahoma"/>
              </a:rPr>
              <a:t>ГИМН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Россия — священная наша держ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Россия — любимая наша стр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Могучая воля, великая сла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Твое достоянье на все времен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imes New Roman"/>
              </a:rPr>
              <a:t>Припев</a:t>
            </a:r>
            <a:r>
              <a:rPr b="0" i="1" lang="en-US" sz="2000" spc="-1" strike="noStrike">
                <a:solidFill>
                  <a:srgbClr val="ebf25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Славься, Отечество наше свободно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Братских народов союз веков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Предками данная мудрость народна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Славься, страна! Мы гордимся тоб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От южных морей до полярного кр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Раскинулись наши леса и п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Одна ты на свете! Одна ты такая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Хранимая Богом родная земл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imes New Roman"/>
              </a:rPr>
              <a:t>Прип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Широкий простор для мечты и для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Грядущие нам открывают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Нам силу дает наша верность Отчиз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Так было, так есть и так будет все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(муз. А. Александрова, сл. С. Михалк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Гимн.mp3" descr=""/>
          <p:cNvPicPr/>
          <p:nvPr/>
        </p:nvPicPr>
        <p:blipFill>
          <a:blip r:embed="rId2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230962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оссийская Федера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1" name="Picture 4" descr="C:\Users\Администратор\Documents\кл.рук\на конкурс\russia-map.jpg"/>
          <p:cNvPicPr/>
          <p:nvPr/>
        </p:nvPicPr>
        <p:blipFill>
          <a:blip r:embed="rId2"/>
          <a:stretch/>
        </p:blipFill>
        <p:spPr>
          <a:xfrm>
            <a:off x="571680" y="1357200"/>
            <a:ext cx="7715160" cy="525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01080" cy="588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едведев Дмитрий Анатолье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4" name="Picture 4" descr="C:\Users\Администратор\Documents\кл.рук\на конкурс\1248712421_medvedev.jpg"/>
          <p:cNvPicPr/>
          <p:nvPr/>
        </p:nvPicPr>
        <p:blipFill>
          <a:blip r:embed="rId2"/>
          <a:stretch/>
        </p:blipFill>
        <p:spPr>
          <a:xfrm>
            <a:off x="2428920" y="1297080"/>
            <a:ext cx="3929040" cy="556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Штандарт президента РФ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75964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539640" y="1279440"/>
            <a:ext cx="8209080" cy="477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74080" cy="534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cc"/>
                </a:solidFill>
                <a:latin typeface="Tahoma"/>
              </a:rPr>
              <a:t>Символы государства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Флаг     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Гимн                                                   Герб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ЕРБ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рб – знак отличия, важнейшая эмблема государства, города, области, а также отдельных лиц и р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4" name="Picture 5" descr="C:\Users\Администратор\Documents\кл.рук\на конкурс\images (1).jpg"/>
          <p:cNvPicPr/>
          <p:nvPr/>
        </p:nvPicPr>
        <p:blipFill>
          <a:blip r:embed="rId2"/>
          <a:stretch/>
        </p:blipFill>
        <p:spPr>
          <a:xfrm>
            <a:off x="4929120" y="1571760"/>
            <a:ext cx="3632400" cy="43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3:51:58Z</dcterms:created>
  <dc:creator>User</dc:creator>
  <dc:description/>
  <dc:language>en-US</dc:language>
  <cp:lastModifiedBy>777</cp:lastModifiedBy>
  <dcterms:modified xsi:type="dcterms:W3CDTF">2012-02-08T07:58:45Z</dcterms:modified>
  <cp:revision>41</cp:revision>
  <dc:subject/>
  <dc:title>Урок РОССИИ</dc:title>
</cp:coreProperties>
</file>