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118-C424-4AE2-A281-756D3F94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B16-6066-47DC-A0D3-13DE03A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F4C-11D9-49BB-8228-8AF25452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F1A-F45C-4787-AD96-BD6C491B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5F4-5929-4D64-BE5B-A3FD873C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F68-1C0F-444A-B5D6-84192EB6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001-F2BC-4F99-A708-D6349C9B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9B4-66BC-4EB6-8E97-74296A50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631-A528-42AE-ADCD-6AADE743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DE5-C0A8-40D3-B074-B83E781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BAA-E595-4A3E-A442-814B1848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207-953E-4A25-BBBC-BC581A2F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7155-B081-4D50-AECA-CF6E58EDF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228600"/>
            <a:ext cx="815328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стик. Что приносит? – Пользу? Вре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мнений нет. Угрозу Человеку представляет                                   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05360" y="0"/>
            <a:ext cx="2438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осс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со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йсбер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м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ритори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ест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стиковые бутылки, пакеты не разлагаются. 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йствием солнечного света они распадаются на мельчай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цы, но все равно остаются пластиком. Их поедают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ланктон. Так токсичные вещества попадают и в орга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а по пищевой цеп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 Мусор – ценный ресур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1. Тепло, свет, топливо для 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одизельное топл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719360"/>
            <a:ext cx="8153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2. Искусственны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чала будущий остров окружают дамбами из кам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нутри это кольцо разбито на водонепроницаемые отсеки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х помещают то, что осталось после сжигания мусора. Сл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деляют плотной гидроизолирующей пленкой, чтобы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размыла остров. Когда отсек заполнен сверху насып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дородную землю и сажают деревья. Или уклад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дамент и строят д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7162920" cy="472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74320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3. Наполнитель для курток, мягкой мебел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уш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стиковую тару на мусороперерабатывающих зав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вращают в труху и просеивают, чтобы очистить от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ходов. Затем сушат в специальных барабанах, нагреваю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ают из расплава полиэфирные нити. Син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окно идет на гипоаллергенный наполнитель для кур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ягкой мебели и подушек.  Для набивки подушки достаточн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ы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4. Дороги из пла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ытие из пластика выдерживает ту же нагрузку, как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фальт, но более долговечно. Оно устойчиво к жар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озам до -4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6248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ежденный модуль можно легко заме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. Раздельное складирование мусора – 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е при переработке пла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.1.  Сроки разложения му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МЫ В ОТВЕТЕ ЗА ПЛАНЕТУ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2.1. Экологический десан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2.1.1.  Наша малая Р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7315200" cy="6086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.2. Факты – вещь упрямая. Расчет ско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ния мусора в нашем с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итогам расчетов мы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устили листовку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ризывом к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сельча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ТЕОРЕТИЧЕСКИЕ ЗНАНИЯ, ПРИОБРЕТЕННЫЕ МНОЙ 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ЕН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 Вред му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1. Скорость образования му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2. Незаконные свалки – бич современных го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3. Незаконная свалка – «химическая бом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4. Санкционированные свалки – одно из решений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5. Непоправимый вред экосистеме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 Мусор – ценный рес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1. Тепло, свет и топливо для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2. Искусственные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3. Наполнитель для курток, мягкой мебели и поду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4. Дороги из плас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. Раздельное складирование мусора – необходимое 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.1.  Сроки разложения му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МЫ В ОТВЕТЕ ЗА ПЛАНЕТ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 Экологический дес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1.  Наша малая Р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2. Факты – вещь упрямая. Расчет скорости образования мусора в нашем с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3. Беседа с заместителем главы администрации Большеозерского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4. Использование мусора как вторичное сырье жителями нашего с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. Наш посильный вклад в решени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123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762120" y="304920"/>
            <a:ext cx="656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22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 ТЕОРЕТИЧЕСКИЕ ЗНАНИЯ, ПРИОБРЕТЕННЫЕ МНОЙ В РЕЗУЛЬТАТЕ ВЫПОЛНЕН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 Вред му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1. Скорость образования му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е сегодня планета Земля находится в режиме мусорной катастрофы. Мировые свалки растут со скоростью 2 триллиона тонн в год. И если пару столетий назад природа могла переработать наши отходы, превращая их в прах, то сегодня все изменилось. Темпы образования мусора растут очень быстро (4-5% в год), быстрее, чем насе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2. Незаконные свалки – бич современных город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ниющие отходы выделяют взрывоопасный ме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на свалках часто случаются пожары. А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ения отравляют воздух ближайших городов. Они гор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огда круглыми годами. Самовозгорающиеся свалки – б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ременных го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46483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3. Незаконная свалка – «химическая бомб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, если свалка не горит, она, все равно, отравляет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круг, выделяя токсичный фильтрат. Это смесь бы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мии, медицинских препаратов и других опас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ая незаконная свалка представляет угрозу хи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534520" cy="4876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4. Санкционированные свалки – одно из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ы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пециальных мусорных полигонах суще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альная система защиты. На дно котлована помещ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слойную мембрану. Ее верхняя часть задерж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ок и крупные частицы. Нижняя, сделан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ифицированной глины. Она останавливает люб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дкости. Благодаря такой системе мусорный сок поп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 почву, а в дренажные тру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5. Мусор наносит непоправимый вред эко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еана – главному источнику жизни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Гавайей и Калифорнией дрейфует вели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сорное пятно. Все, что выброшено у берегов Аз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и течение рано или поздно приносит сю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консистенции океаническая свалка похожа на су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й инградиент которого – плас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9T06:44:11Z</dcterms:created>
  <dc:creator>Наталья Усанкина</dc:creator>
  <dc:description/>
  <dc:language>en-US</dc:language>
  <cp:lastModifiedBy>Lenovo G500</cp:lastModifiedBy>
  <dcterms:modified xsi:type="dcterms:W3CDTF">2022-02-14T11:04:0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