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D5F-6ACD-447D-94BB-16A2B31B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747-CD08-4ABE-B5DD-D1E2EFE3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0BD-86F4-4FF8-8EAE-00D18697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BFF-A9CA-4977-A243-E31202EB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CD0-69E4-48D8-9BE8-501ECB80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139-B26A-4CA4-935A-1D555ABF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950-21E2-466F-8A81-3AB66C9B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25B-8ED7-45C0-8C92-94ABAD9F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110-CD4C-442C-969D-A007057E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07F0-18F4-4B1E-BA2D-038167B9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9D4-9BA6-4467-B457-A23E84DB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EC7-2AA6-4497-B175-34B4157D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F1F3-1928-457B-81F8-98CF17A88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228600"/>
            <a:ext cx="8153280" cy="53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стик. Что приносит? – Пользу? Вред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мнений нет. Угрозу Человеку представляет                                     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ОВЕК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294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05360" y="0"/>
            <a:ext cx="2438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осс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со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йсбер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х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ма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ритори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ест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 Фр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стиковые бутылки, пакеты не разлагаются. П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йствием солнечного света они распадаются на мельчай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ицы, но все равно остаются пластиком. Их поедают ры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ланктон. Так токсичные вещества попадают и в орга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а по пищевой цеп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. Мусор – ценный ресурс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.1. Тепло, свет, топливо для транс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одизельное топл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1719360"/>
            <a:ext cx="8153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.2. Искусственные ост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ачала будущий остров окружают дамбами из кам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нутри это кольцо разбито на водонепроницаемые отсеки.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х помещают то, что осталось после сжигания мусора. Сл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деляют плотной гидроизолирующей пленкой, чтобы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размыла остров. Когда отсек заполнен сверху насып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дородную землю и сажают деревья. Или уклад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дамент и строят до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7162920" cy="4724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274320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.3. Наполнитель для курток, мягкой мебел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уш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стиковую тару на мусороперерабатывающих заво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вращают в труху и просеивают, чтобы очистить от дру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ходов. Затем сушат в специальных барабанах, нагреваю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ают из расплава полиэфирные нити. Синт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окно идет на гипоаллергенный наполнитель для кур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ягкой мебели и подушек.  Для набивки подушки достаточно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тыл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4572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.4. Дороги из плас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рытие из пластика выдерживает ту же нагрузку, как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фальт, но более долговечно. Оно устойчиво к жар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озам до -40 граду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6248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режденный модуль можно легко заме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3. Раздельное складирование мусора – необход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ловие при переработке плас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3.1.  Сроки разложения мус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МЫ В ОТВЕТЕ ЗА ПЛАНЕТУ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2.1. Экологический десан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2.1.1.  Наша малая Р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771480"/>
            <a:ext cx="7315200" cy="6086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.2. Факты – вещь упрямая. Расчет ско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ования мусора в нашем с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итогам расчетов мы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устили листовку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ризывом к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сельча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3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ТЕОРЕТИЧЕСКИЕ ЗНАНИЯ, ПРИОБРЕТЕННЫЕ МНОЙ В РЕЗУЛЬТ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ЕНИЯ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. Вред мус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.1. Скорость образования мус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.2. Незаконные свалки – бич современных гор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.3. Незаконная свалка – «химическая бом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.4. Санкционированные свалки – одно из решений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.5. Непоправимый вред экосистеме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. Мусор – ценный рес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.1. Тепло, свет и топливо для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.2. Искусственные 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.3. Наполнитель для курток, мягкой мебели и поду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.4. Дороги из пласт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. Раздельное складирование мусора – необходимое 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.1.  Сроки разложения мус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МЫ В ОТВЕТЕ ЗА ПЛАНЕТ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. Экологический дес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.1.  Наша малая Ро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.2. Факты – вещь упрямая. Расчет скорости образования мусора в нашем с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.3. Беседа с заместителем главы администрации Большеозерского муницип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.4. Использование мусора как вторичное сырье жителями нашего с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. Наш посильный вклад в решение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3123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762120" y="304920"/>
            <a:ext cx="656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22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. ТЕОРЕТИЧЕСКИЕ ЗНАНИЯ, ПРИОБРЕТЕННЫЕ МНОЙ В РЕЗУЛЬТАТЕ ВЫПОЛНЕН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. Вред мус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.1. Скорость образования мус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же сегодня планета Земля находится в режиме мусорной катастрофы. Мировые свалки растут со скоростью 2 триллиона тонн в год. И если пару столетий назад природа могла переработать наши отходы, превращая их в прах, то сегодня все изменилось. Темпы образования мусора растут очень быстро (4-5% в год), быстрее, чем насе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.2. Незаконные свалки – бич современных город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ниющие отходы выделяют взрывоопасный ме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этому на свалках часто случаются пожары. А прод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ения отравляют воздух ближайших городов. Они гор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огда круглыми годами. Самовозгорающиеся свалки – б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ременных го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46483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.3. Незаконная свалка – «химическая бомб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, если свалка не горит, она, все равно, отравляет 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круг, выделяя токсичный фильтрат. Это смесь быт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мии, медицинских препаратов и других опас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ая незаконная свалка представляет угрозу хим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а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534520" cy="4876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.4. Санкционированные свалки – одно из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блемы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пециальных мусорных полигонах суще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циальная система защиты. На дно котлована помещ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слойную мембрану. Ее верхняя часть задерж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сок и крупные частицы. Нижняя, сделана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ифицированной глины. Она останавливает люб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дкости. Благодаря такой системе мусорный сок поп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в почву, а в дренажные тру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.5. Мусор наносит непоправимый вред экосис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еана – главному источнику жизни на Зе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ду Гавайей и Калифорнией дрейфует вели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сорное пятно. Все, что выброшено у берегов Ази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ерики течение рано или поздно приносит сю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5257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консистенции океаническая свалка похожа на суп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й инградиент которого – плас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9T06:44:11Z</dcterms:created>
  <dc:creator>Наталья Усанкина</dc:creator>
  <dc:description/>
  <dc:language>en-US</dc:language>
  <cp:lastModifiedBy>Lenovo G500</cp:lastModifiedBy>
  <dcterms:modified xsi:type="dcterms:W3CDTF">2022-02-14T11:04:0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