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813-D0A5-4083-9040-8A670EF7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DFC8-5564-4A30-A162-63F371AC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7AD-48CE-488D-A9AC-0232109F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03AE-20C9-4CA4-8F5E-0C169EDD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7D7A6-FDAC-472F-A73C-F9BD113E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96FDF-C3DC-49EE-9430-B9920C6B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AF54D-19E2-453D-A389-CC33DA93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4A1A5-4866-4987-88EE-B5E58B32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3A800-9F47-42C3-A7CE-0F6951C7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7740E-E519-44E7-8E96-9A2C776B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AFA02-8B97-4A07-9EA5-E3B67D60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807-DED9-4A2C-88B7-395FB036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060DB-129F-42CF-AD92-D9DBDCBC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DEA3D-CBAF-4A45-A317-6A6EC579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89D0C-CCD6-46F0-9F7E-53C38CD6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F2B89-7526-40C6-A9D9-75294A1A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DDF9B-5C4F-4B47-8C6C-864D3AFD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E379-9F27-42E2-BC45-AA66F963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F59C-1A06-42E4-8C30-B9B98D5E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E4A-8B09-43E7-A1C8-8290BD76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EC1-291E-4DFD-AC36-FBC30EE4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4F3-B103-47C2-9571-5DAB4D54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913-7ECE-46BC-A52B-DFBAC81B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153-3902-452C-869F-2DDBEE5C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60C8-D9DA-4AB8-B7B8-E7798AEC7A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46DF-7E83-4167-A4AD-F5A4F98D98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оль детского сада в подготовке к школ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5892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атель МБДОУ детский сад №42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ирнова Любовь Владимиров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готовка детей к школе в детском саду включает в себя две основные зада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572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стороннее воспит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lbertus Extra Bold"/>
              </a:rPr>
              <a:t>(физическое,умственное,нравственное,эстетическое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ьная подготовка к усвоению школьных предм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9" descr="888"/>
          <p:cNvPicPr/>
          <p:nvPr/>
        </p:nvPicPr>
        <p:blipFill>
          <a:blip r:embed="rId1"/>
          <a:stretch/>
        </p:blipFill>
        <p:spPr>
          <a:xfrm>
            <a:off x="5076720" y="3213000"/>
            <a:ext cx="3600720" cy="3167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147"/>
          <p:cNvPicPr/>
          <p:nvPr/>
        </p:nvPicPr>
        <p:blipFill>
          <a:blip r:embed="rId2"/>
          <a:stretch/>
        </p:blipFill>
        <p:spPr>
          <a:xfrm>
            <a:off x="539640" y="3068640"/>
            <a:ext cx="4038840" cy="33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бота воспитателя на занятиях по формированию готовности к школе включает в себ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Вырабатывание у детей представления о занятиях как важной деятельности для приобретения знаний. На основе этого представления у ребёнка вырабатывается активное поведение на занятиях (тщательное выполнение заданий, внимание к словам воспитателя);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Развитие настойчивости, ответственности, самостоятельности, старательности. Их сформированность проявляется в стремлении ребёнка овладеть знаниями, умениями, прилагать для этого достаточные усилия;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Воспитание у дошкольника опыта деятельности в коллективе и положительного отношения к сверстникам; усвоение способов активного воздействия на сверстников как участников общей деятельности (умение оказать помощь, справедливо оценивать результаты работы сверстников, тактично отмечать недостатки);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Формирование у детей навыков организованного поведения, учебной деятельности в условиях коллектива. Наличие этих навыков оказывает существенное влияние на общий процесс нравственного становления личности ребёнка, делает дошкольника более самостоятельным в выборе занятий, игр, деятельности по интересам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ание и обучение детей в детском саду носит образовательный характер и учитывает два направления получения детьми знаний и умений: широкое общение ребёнка со взрослыми и сверстниками, и организованный учебный процесс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369"/>
          <p:cNvPicPr/>
          <p:nvPr/>
        </p:nvPicPr>
        <p:blipFill>
          <a:blip r:embed="rId1"/>
          <a:stretch/>
        </p:blipFill>
        <p:spPr>
          <a:xfrm>
            <a:off x="1042920" y="3141720"/>
            <a:ext cx="6667560" cy="34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ое значение в подготовке детей к школе имеет воспитание в них “качеств общественности”, умения жить и трудится в коллективе. Поэтому одним из условий формирования детских положительных взаимоотношений является поддержка воспитателем естественной потребности детей в общении. Общение должно носить добровольный и доброжелательный характер. Общение детей — необходимый элемент подготовки к школе, а обеспечить наибольшую возможность его реализации может в первую очередь детский са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товность к школе предполагает и определённый уровень умственного развития. Ребёнку необходим запас знаний. Но само по себе количество знаний или навыков не может служить показателем развития. Школа ждёт не столько образованного, сколько психологически подготовленного к учебному труду ребёнка. Значительно существеннее не сами знания, а то, как дети умеют ими пользова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знавательные задачи соединяются с задачами формирования нравственно-волевых качеств и решение их осуществляется в тесной взаимосвязи: познавательный интерес побуждает ребёнка к активности, способствует развитию любознательности, а умение проявлять настойчивость, прилежание, оказывает влияние на качество деятельности, в результате чего дошкольники достаточно прочно усваивают учебный материал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ё важно воспитать в ребёнке любознательность, произвольное внимание, потребность в самостоятельном поиске ответов на возникающие вопросы. Ведь дошкольник, у которого недостаточно сформирован интерес к знаниям, будет пассивно вести себя на уроке, ему будет трудно направить усилие и волю на выполнение заданий, овладевать знаниями, достигать положительных результатов в учении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ет настойчивость, трудолюбие ребёнка, умение доводить дело до кон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ует у ребёнка мыслительные способности, наблюдательность, пытливость, интерес к познанию окружающе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ильно формиреут отношения к уч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ует навыков учебной р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ует умение подчиняться правилам, управлять своими эмоциями, поведе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0T03:58:33Z</dcterms:created>
  <dc:creator>миша</dc:creator>
  <dc:description/>
  <dc:language>en-US</dc:language>
  <cp:lastModifiedBy>dns</cp:lastModifiedBy>
  <dcterms:modified xsi:type="dcterms:W3CDTF">2022-02-14T17:11:58Z</dcterms:modified>
  <cp:revision>7</cp:revision>
  <dc:subject/>
  <dc:title>Роль детского сада в подготовке к школе</dc:title>
</cp:coreProperties>
</file>