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163-9D67-45F1-A9C9-828604B8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A93A-6912-48C0-AE11-0B11A4FC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C1C-4468-42E9-B486-A1A6A852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3B16-7952-4CA3-AE5E-C22A8799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19146-4D22-4591-81A5-A2D30293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A717B-91A2-4C54-B833-3EA9377A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3BBD4-5E67-4E5A-9C41-A28B6B87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724F4-1AFF-4D8C-86D6-0432199F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06A52-D4BC-4276-98F6-18FC9C99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0A31C-DD01-4C2A-90B3-AFD70DA5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D0850-C1CE-4BDE-B076-4BD501FB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FB52-4426-412E-8B08-BF1E9E64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CC8A1-77A9-4D61-A989-A6A33280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B8639-B06D-4BAF-A1E1-ED2CFB32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E6382-17A1-42A3-9C32-E2C16B70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5E13A-D75E-447C-BD95-FB14097B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A5FA6-F2E4-4FB2-840B-A4AF55AA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FED1-7F1B-485D-A6D3-EE34176D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372A-0FC1-440D-83FC-7855E99F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454-B576-4D8E-B0E9-A75C9D0F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F0D1-AE74-4317-A0C8-5742B5B3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112-6317-456F-9661-725D7088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2CD-5998-45FE-8F67-BC1A56EC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B71B-624C-4850-8EF0-E3ED02CC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8BF4-51F9-49E1-A8CF-13CDFFA4F9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E1A3-7911-4231-A51D-49BC29D337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оль детского сада в подготовке к школ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5892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итатель МБДОУ детский сад №42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ирнова Любовь Владимиров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готовка детей к школе в детском саду включает в себя две основные зада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572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стороннее воспит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lbertus Extra Bold"/>
              </a:rPr>
              <a:t>(физическое,умственное,нравственное,эстетическое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ьная подготовка к усвоению школьных предме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9" descr="888"/>
          <p:cNvPicPr/>
          <p:nvPr/>
        </p:nvPicPr>
        <p:blipFill>
          <a:blip r:embed="rId1"/>
          <a:stretch/>
        </p:blipFill>
        <p:spPr>
          <a:xfrm>
            <a:off x="5076720" y="3213000"/>
            <a:ext cx="3600720" cy="3167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147"/>
          <p:cNvPicPr/>
          <p:nvPr/>
        </p:nvPicPr>
        <p:blipFill>
          <a:blip r:embed="rId2"/>
          <a:stretch/>
        </p:blipFill>
        <p:spPr>
          <a:xfrm>
            <a:off x="539640" y="3068640"/>
            <a:ext cx="4038840" cy="33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бота воспитателя на занятиях по формированию готовности к школе включает в себ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Вырабатывание у детей представления о занятиях как важной деятельности для приобретения знаний. На основе этого представления у ребёнка вырабатывается активное поведение на занятиях (тщательное выполнение заданий, внимание к словам воспитателя);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Развитие настойчивости, ответственности, самостоятельности, старательности. Их сформированность проявляется в стремлении ребёнка овладеть знаниями, умениями, прилагать для этого достаточные усилия;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Воспитание у дошкольника опыта деятельности в коллективе и положительного отношения к сверстникам; усвоение способов активного воздействия на сверстников как участников общей деятельности (умение оказать помощь, справедливо оценивать результаты работы сверстников, тактично отмечать недостатки);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Формирование у детей навыков организованного поведения, учебной деятельности в условиях коллектива. Наличие этих навыков оказывает существенное влияние на общий процесс нравственного становления личности ребёнка, делает дошкольника более самостоятельным в выборе занятий, игр, деятельности по интересам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питание и обучение детей в детском саду носит образовательный характер и учитывает два направления получения детьми знаний и умений: широкое общение ребёнка со взрослыми и сверстниками, и организованный учебный процесс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369"/>
          <p:cNvPicPr/>
          <p:nvPr/>
        </p:nvPicPr>
        <p:blipFill>
          <a:blip r:embed="rId1"/>
          <a:stretch/>
        </p:blipFill>
        <p:spPr>
          <a:xfrm>
            <a:off x="1042920" y="3141720"/>
            <a:ext cx="6667560" cy="34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шое значение в подготовке детей к школе имеет воспитание в них “качеств общественности”, умения жить и трудится в коллективе. Поэтому одним из условий формирования детских положительных взаимоотношений является поддержка воспитателем естественной потребности детей в общении. Общение должно носить добровольный и доброжелательный характер. Общение детей — необходимый элемент подготовки к школе, а обеспечить наибольшую возможность его реализации может в первую очередь детский са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товность к школе предполагает и определённый уровень умственного развития. Ребёнку необходим запас знаний. Но само по себе количество знаний или навыков не может служить показателем развития. Школа ждёт не столько образованного, сколько психологически подготовленного к учебному труду ребёнка. Значительно существеннее не сами знания, а то, как дети умеют ими пользова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знавательные задачи соединяются с задачами формирования нравственно-волевых качеств и решение их осуществляется в тесной взаимосвязи: познавательный интерес побуждает ребёнка к активности, способствует развитию любознательности, а умение проявлять настойчивость, прилежание, оказывает влияние на качество деятельности, в результате чего дошкольники достаточно прочно усваивают учебный материал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щё важно воспитать в ребёнке любознательность, произвольное внимание, потребность в самостоятельном поиске ответов на возникающие вопросы. Ведь дошкольник, у которого недостаточно сформирован интерес к знаниям, будет пассивно вести себя на уроке, ему будет трудно направить усилие и волю на выполнение заданий, овладевать знаниями, достигать положительных результатов в учении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вает настойчивость, трудолюбие ребёнка, умение доводить дело до кон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ует у ребёнка мыслительные способности, наблюдательность, пытливость, интерес к познанию окружающе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ильно формиреут отношения к уче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ует навыков учебной раб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ует умение подчиняться правилам, управлять своими эмоциями, поведени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10T03:58:33Z</dcterms:created>
  <dc:creator>миша</dc:creator>
  <dc:description/>
  <dc:language>en-US</dc:language>
  <cp:lastModifiedBy>dns</cp:lastModifiedBy>
  <dcterms:modified xsi:type="dcterms:W3CDTF">2022-02-14T17:11:58Z</dcterms:modified>
  <cp:revision>7</cp:revision>
  <dc:subject/>
  <dc:title>Роль детского сада в подготовке к школе</dc:title>
</cp:coreProperties>
</file>