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5C1DE-B288-438A-8294-FE204C3166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A00FC-E9FA-43BA-806F-3A2A2AC39D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88F2B-534E-4ECC-A318-4E0246D3D7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3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A295C-B2C4-4DD9-905B-A99D52E33A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6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09262-15EE-4D25-9876-626F8AF31E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3CF63-6CC8-4D53-8988-79D4A32AFD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2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A3085-5A30-4FCD-9697-926CE3C228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ED8B9-D0DA-4989-9A47-5F719A3D57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8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022CA-99B6-48CB-A0CB-C18B7E7DCB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1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AC0E0-2F3A-4BC8-844E-A35B5BA0EA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C5C11-A193-459A-AF2C-F4E41DAA47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7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60299-7FF1-4484-8F66-F14C530E75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0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DB08-2099-4509-AD61-F0655A606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0700-EDD8-41AF-973C-9664BFEE0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C9DB-CEB7-4D72-A0C0-62D6888E1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686D-45D9-4864-AA84-A9E40A934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E5DF-393B-4BA8-8806-E91E24FC3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9C8A-130B-4B90-804B-C47DC8F11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15F4-0CD5-43FE-9FF5-0ECDFBC59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2B1E-C5A5-42BF-AA5F-76438259D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175C-83EA-4A60-A332-726A2234A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F1F0-1286-40DF-90E1-A5F18D6E4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170A-5E8C-469B-A73E-3F884CF1D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9473-6464-45D9-A8EE-41A75248D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87A63-02E8-414B-9A77-41D853D3DAE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472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зка Сутеева В.Г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то Сказал «Мяу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52360" y="1527120"/>
            <a:ext cx="777564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ть умение слушать произведение. Узнавать(показывать) персонажей сказки, имитировать голоса животных: «мяу», «гав-гав», «ку-ка-ре-ку», «ж-ж-ж-ж», «пи-пи-пи». Развивать зрительное воспри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БУСО  КО «Особый ребено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тель: Бурина Ирина Геннад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175600" y="0"/>
            <a:ext cx="19051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3280" y="374760"/>
            <a:ext cx="9069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шёл Щенок домой мокрый, с распухшим носом. Грустный, улёгся он на коврике около дива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0" y="2376360"/>
            <a:ext cx="6032520" cy="43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0880" y="360360"/>
            <a:ext cx="90694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друг услышал:— Мяу!!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вскочил — на подоконнике сидела пушистая полосатая Кош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Мяу! — сказала Кош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Ав-ав-ав! — залаял Щенок и кошка убежал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теперь знал, кто сказал «мяу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32240" y="2960640"/>
            <a:ext cx="320976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6520" y="7920"/>
            <a:ext cx="90691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енок спал на коврике около диван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друг сквозь сон он услышал, как кто-то сказал: — Мя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60600" y="2303640"/>
            <a:ext cx="335304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6520" y="216000"/>
            <a:ext cx="90691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кочил Щенок, обежал всю комнату, заглянул под кровать, под стол — никого нет! Влез на подоконник, увидел — за окном во дворе гуляет Пету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44720" y="2808360"/>
            <a:ext cx="619452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1640" y="74520"/>
            <a:ext cx="92170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ты сказал «мяу»? — спросил Щенок Петух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ет, я говорю… Петух захлопал крыльями и закричал: — Ку-ка-ре-к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0200" y="2455920"/>
            <a:ext cx="442908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6520" y="144360"/>
            <a:ext cx="906912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нок почесал задней лапой за ухом и пошёл домой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руг у самого крыльца кто-то сказал: — Мяу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то тут!» — сказал себе Щенок и быстро начал рыть под крыльцом всеми четырьмя лап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он вырыл большую яму, оттуда выскочил маленький серый Мышон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Ты сказал «мяу»? — строго спросил его Щен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и-пи-пи, — запищал Мышо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95640" y="2952720"/>
            <a:ext cx="579744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147600"/>
            <a:ext cx="906948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друг около собачьей конуры кто-то громко сказал: — Мяу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встречу ему выскочил огромный лохматый Пёс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Р-р-р-р! — зарычал Пё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25600" y="2448000"/>
            <a:ext cx="530712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76360" y="431640"/>
            <a:ext cx="9069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енок выглянул из-под куста. Прямо перед ним, на цветке, сидела мохнатая Пчел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З-з-з-з! — прожужжала обиженная Пчела и больно ужалила Щенка в кончик но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5120" y="2816280"/>
            <a:ext cx="626400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144360"/>
            <a:ext cx="906948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бежал Щенок к пруду — и в воду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Это ты сказала «мяу»? — спросил Щенок Рыбу, которая проплывала мимо него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а ничего не ответила, махнула хвостом и исчезла в глубине пр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78040" y="2744640"/>
            <a:ext cx="4810320" cy="43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6520" y="360360"/>
            <a:ext cx="90691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ва-ква-ква! — засмеялась Лягушка. — Какой ты глупый! Лягушки только квакают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прыгнула в во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19280" y="2735280"/>
            <a:ext cx="5085000" cy="438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5T09:15:14Z</dcterms:created>
  <dc:creator/>
  <dc:description/>
  <dc:language>en-US</dc:language>
  <cp:lastModifiedBy/>
  <dcterms:modified xsi:type="dcterms:W3CDTF">2022-02-01T13:14:37Z</dcterms:modified>
  <cp:revision>3</cp:revision>
  <dc:subject/>
  <dc:title>Сказка Сутеева В.Г.  «Кто Сказал «Мяу»?</dc:title>
</cp:coreProperties>
</file>