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E3557-00D8-43FA-B4F3-2B3BE448C4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D4031-335E-4E74-B517-FC9005584F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8638A-A22E-490D-A153-D419684247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3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01C1F-D38A-4BEF-9F66-5A76F22061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6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D6872-EC33-48E4-AFF2-79EDAF09E2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9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5F996-2D52-4575-934C-6C1CC721F5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2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78989-F885-44A5-9B81-141E12BFC6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5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5BA60-BCAC-44CA-9F9E-F57206D55E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8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DFED6-D384-430F-B5D9-D7F2CBF98A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1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9BD2A-0879-4EC6-B90A-CEAA5D31AB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79CE0-A752-4CB8-AEA2-95719F15EA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7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6D678-8B5A-4F34-B1FD-F7212FC627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0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FE80-A209-43D7-A21C-A05A829D7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36C3-84C8-402C-8112-43463F1A7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54C7-5B95-412C-A6E8-E5AA0B21A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01E6-28ED-4259-A5B9-2B36D57F41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BE94-009B-44ED-9404-CF14F137C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D16B-B842-4D45-AC98-BB4BC9CA6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A4DE-2D2E-4DC3-A7AE-A59064306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F4F2-8B05-413E-B0F2-66BB573CA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DDBD-2362-40AD-98A5-423363155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5A67-44D9-4401-8368-51580DA4F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B373-61A9-4CA8-BC61-CE6ACE9B9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A370-330D-4D96-B113-DD4F5565D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172F9-C9BE-4A2B-BBEA-4499CFED34D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472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азка Сутеева В.Г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то Сказал «Мяу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52360" y="1527120"/>
            <a:ext cx="777564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ть умение слушать произведение. Узнавать(показывать) персонажей сказки, имитировать голоса животных: «мяу», «гав-гав», «ку-ка-ре-ку», «ж-ж-ж-ж», «пи-пи-пи». Развивать зрительное восприя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БУСО  КО «Особый ребено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тель: Бурина Ирина Геннад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1905120" cy="244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175600" y="0"/>
            <a:ext cx="19051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3280" y="374760"/>
            <a:ext cx="9069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шёл Щенок домой мокрый, с распухшим носом. Грустный, улёгся он на коврике около дива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0" y="2376360"/>
            <a:ext cx="6032520" cy="43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50880" y="360360"/>
            <a:ext cx="90694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друг услышал:— Мяу!!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вскочил — на подоконнике сидела пушистая полосатая Кошк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Мяу! — сказала Кошк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Ав-ав-ав! — залаял Щенок и кошка убежал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теперь знал, кто сказал «мяу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432240" y="2960640"/>
            <a:ext cx="320976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6520" y="7920"/>
            <a:ext cx="90691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Щенок спал на коврике около диван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друг сквозь сон он услышал, как кто-то сказал: — Мя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60600" y="2303640"/>
            <a:ext cx="335304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6520" y="216000"/>
            <a:ext cx="90691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кочил Щенок, обежал всю комнату, заглянул под кровать, под стол — никого нет! Влез на подоконник, увидел — за окном во дворе гуляет Пету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44720" y="2808360"/>
            <a:ext cx="619452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1640" y="74520"/>
            <a:ext cx="92170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о ты сказал «мяу»? — спросил Щенок Петух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ет, я говорю… Петух захлопал крыльями и закричал: — Ку-ка-ре-к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70200" y="2455920"/>
            <a:ext cx="442908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6520" y="144360"/>
            <a:ext cx="906912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нок почесал задней лапой за ухом и пошёл домой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руг у самого крыльца кто-то сказал: — Мяу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то тут!» — сказал себе Щенок и быстро начал рыть под крыльцом всеми четырьмя лап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он вырыл большую яму, оттуда выскочил маленький серый Мышон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Ты сказал «мяу»? — строго спросил его Щен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и-пи-пи, — запищал Мышо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95640" y="2952720"/>
            <a:ext cx="579744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147600"/>
            <a:ext cx="906948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друг около собачьей конуры кто-то громко сказал: — Мяу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встречу ему выскочил огромный лохматый Пёс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Р-р-р-р! — зарычал Пё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325600" y="2448000"/>
            <a:ext cx="530712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76360" y="431640"/>
            <a:ext cx="9069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енок выглянул из-под куста. Прямо перед ним, на цветке, сидела мохнатая Пчел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З-з-з-з! — прожужжала обиженная Пчела и больно ужалила Щенка в кончик но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05120" y="2816280"/>
            <a:ext cx="626400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144360"/>
            <a:ext cx="906948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бежал Щенок к пруду — и в воду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Это ты сказала «мяу»? — спросил Щенок Рыбу, которая проплывала мимо него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а ничего не ответила, махнула хвостом и исчезла в глубине пр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78040" y="2744640"/>
            <a:ext cx="4810320" cy="43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06520" y="360360"/>
            <a:ext cx="90691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ва-ква-ква! — засмеялась Лягушка. — Какой ты глупый! Лягушки только квакают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прыгнула в вод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19280" y="2735280"/>
            <a:ext cx="5085000" cy="438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5T09:15:14Z</dcterms:created>
  <dc:creator/>
  <dc:description/>
  <dc:language>en-US</dc:language>
  <cp:lastModifiedBy/>
  <dcterms:modified xsi:type="dcterms:W3CDTF">2022-02-01T13:14:37Z</dcterms:modified>
  <cp:revision>3</cp:revision>
  <dc:subject/>
  <dc:title>Сказка Сутеева В.Г.  «Кто Сказал «Мяу»?</dc:title>
</cp:coreProperties>
</file>