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applause.wav" ContentType="audio/x-wav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E97-597B-4B89-97F5-EF74477C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7A0-77F5-419D-9AEB-8344E4E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428-CC09-4A18-85B2-A131479D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1D9-FC5E-417F-860B-691C6BD8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4637C-D0DE-4ADA-9A55-868C4C27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5342F-E878-4764-8C33-D7B0AA79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40E0E-C56C-4B14-9312-5C61FBC2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F79AD-A8D7-461E-956E-BD98A355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1B075-D4EE-4518-B047-CF1CBA5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B81EF-7E4C-4B29-BC2A-99DF5ABE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0203-FF4E-44D7-882C-A59A676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957-EE76-4AD4-B83A-8889F5F3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69CEF-3AA3-4E4B-9610-3B63D5F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A099D-8196-4DCE-A6FB-382F65C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E8B7-BF73-4C27-A7A4-9D0F8B0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FC591-DCB0-4E58-B2CF-5E5A51B6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048F-2220-4861-A6F0-F9DB72E3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2B8-A124-467F-AB4F-DBC82A02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BCD-745A-478E-9B2D-1258C45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31B-0328-4485-BAB3-4954F76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2F9-918F-44C0-8EF5-83D3371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91E-DAAA-454A-8EA3-8ACD845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33B-71E7-4772-AC45-9F573CC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D94-C7D9-4569-8201-49D3BFD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19A-202A-438F-9EF5-075F7CDA1D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5F1-79C8-4575-B9E0-342494727F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85,28,&#1057;&#1083;&#1072;&#1081;&#1076; 28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55627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Загалова Марина 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1438200" y="2352600"/>
            <a:ext cx="676116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533520" y="2514600"/>
            <a:ext cx="8229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) 300 + 400 + 350 + 550 = 1 600 (см)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609480" y="3962520"/>
            <a:ext cx="8153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2) 1 600 : 4 = 400 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4360" y="2133720"/>
            <a:ext cx="763272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У м н и ч к и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341360"/>
            <a:ext cx="7416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жу в пушистой шуб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иву в густом лесу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дупле на старом дуб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ешки я грызу.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6019920" y="51055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(Белк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school-collection.informika.ru/catalog/res/7A2855C4-0A01-0180-00D4-20EB86F9AA5C/view/"/>
          <p:cNvPicPr/>
          <p:nvPr/>
        </p:nvPicPr>
        <p:blipFill>
          <a:blip r:embed="rId1"/>
          <a:stretch/>
        </p:blipFill>
        <p:spPr>
          <a:xfrm>
            <a:off x="609480" y="380880"/>
            <a:ext cx="8209080" cy="6159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7924680" y="57913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57913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ьте задач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день – 45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 день – 35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день – 70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яя масса - ?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http://school-collection.informika.ru/catalog/res/7A2855C4-0A01-0180-00D4-20EB86F9AA5C/view/"/>
          <p:cNvPicPr/>
          <p:nvPr/>
        </p:nvPicPr>
        <p:blipFill>
          <a:blip r:embed="rId1"/>
          <a:stretch/>
        </p:blipFill>
        <p:spPr>
          <a:xfrm>
            <a:off x="5410080" y="838080"/>
            <a:ext cx="3435480" cy="2895840"/>
          </a:xfrm>
          <a:prstGeom prst="rect">
            <a:avLst/>
          </a:prstGeom>
          <a:ln w="0">
            <a:noFill/>
          </a:ln>
        </p:spPr>
      </p:pic>
      <p:sp>
        <p:nvSpPr>
          <p:cNvPr id="179" name="Содержимое 2"/>
          <p:cNvSpPr/>
          <p:nvPr/>
        </p:nvSpPr>
        <p:spPr>
          <a:xfrm>
            <a:off x="609480" y="457200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 45 + 35 + 70 = 15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 150 : 3 = 5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pic>
        <p:nvPicPr>
          <p:cNvPr id="182" name="моцартTrack No03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48311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755640" y="184464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 деревьями, куст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елькнуло быстро плам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елькнуло, пробежало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т ни дыма, ни пожа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372360" y="530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f5"/>
                </a:solidFill>
                <a:latin typeface="Arial"/>
              </a:rPr>
              <a:t>(Лис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3216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гости к зи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 гости к зим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104"/>
          <p:cNvPicPr/>
          <p:nvPr/>
        </p:nvPicPr>
        <p:blipFill>
          <a:blip r:embed="rId1"/>
          <a:stretch/>
        </p:blipFill>
        <p:spPr>
          <a:xfrm>
            <a:off x="838080" y="1066680"/>
            <a:ext cx="7272360" cy="519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52. Выполните вычис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ряд: 54 306 : 6       7∙ (3 002 – 786 + 4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ряд: 93 025 : 5       9 101 – (470 - 309)∙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яд: 35 109 : 3       8 204 – (360 + 840) :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52. Выполните вычис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ряд: 54 306 : 6 = 9 051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∙ (3 002 – 786 + 414) = 18 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ряд: 93 025 : 5 = 18 605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101 – (470 - 309)∙ 8 = 7 8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яд: 35 109 : 3 = 11 703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204 – (360 + 840) : 4 = 7 9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900000" y="1916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зяин лес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сыпается весно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зимой под вьюжный в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т в избушке снегов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508720" y="5445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f5"/>
                </a:solidFill>
                <a:latin typeface="Arial"/>
              </a:rPr>
              <a:t>(Медвед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668"/>
          <p:cNvPicPr/>
          <p:nvPr/>
        </p:nvPicPr>
        <p:blipFill>
          <a:blip r:embed="rId1"/>
          <a:stretch/>
        </p:blipFill>
        <p:spPr>
          <a:xfrm>
            <a:off x="1763640" y="260280"/>
            <a:ext cx="561672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ь уравнения и реши их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е задуманного числа и числа 8 равно разности чисел 11 288 и 2 92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ное чисел 2 082 и 6 равно сумме задуманного числа и числа 4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рь себ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761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∙ 8 = 11 288 – 2 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∙ 8 = 8 3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= 8 368 :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= 1 046 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046 ∙ 8 = 11 288 – 2 920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 368 = 8 3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082 : 6 =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47 =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= 347 –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= 299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082 : 6 = 299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47 = 34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числите средний рост ребят вашего класс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Содержимое 5" descr="love179[1].gif"/>
          <p:cNvPicPr/>
          <p:nvPr/>
        </p:nvPicPr>
        <p:blipFill>
          <a:blip r:embed="rId1"/>
          <a:stretch/>
        </p:blipFill>
        <p:spPr>
          <a:xfrm>
            <a:off x="1981080" y="1676520"/>
            <a:ext cx="4822920" cy="4444920"/>
          </a:xfrm>
          <a:prstGeom prst="rect">
            <a:avLst/>
          </a:prstGeom>
          <a:ln w="0">
            <a:noFill/>
          </a:ln>
        </p:spPr>
      </p:pic>
      <p:sp>
        <p:nvSpPr>
          <p:cNvPr id="200" name="Левая фигурная скобка 6"/>
          <p:cNvSpPr/>
          <p:nvPr/>
        </p:nvSpPr>
        <p:spPr>
          <a:xfrm>
            <a:off x="1295280" y="2743200"/>
            <a:ext cx="1333800" cy="3238560"/>
          </a:xfrm>
          <a:custGeom>
            <a:avLst/>
            <a:gdLst>
              <a:gd name="textAreaLeft" fmla="*/ 852120 w 1333800"/>
              <a:gd name="textAreaRight" fmla="*/ 1334160 w 1333800"/>
              <a:gd name="textAreaTop" fmla="*/ 34560 h 3238560"/>
              <a:gd name="textAreaBottom" fmla="*/ 320400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1"/>
                  <a:pt x="10800" y="741"/>
                </a:cubicBezTo>
                <a:lnTo>
                  <a:pt x="10800" y="10059"/>
                </a:lnTo>
                <a:cubicBezTo>
                  <a:pt x="10800" y="10430"/>
                  <a:pt x="5400" y="10800"/>
                  <a:pt x="0" y="10800"/>
                </a:cubicBezTo>
                <a:cubicBezTo>
                  <a:pt x="5400" y="10800"/>
                  <a:pt x="10800" y="11171"/>
                  <a:pt x="10800" y="11541"/>
                </a:cubicBezTo>
                <a:lnTo>
                  <a:pt x="10800" y="20859"/>
                </a:lnTo>
                <a:cubicBezTo>
                  <a:pt x="10800" y="212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Заголовок 1"/>
          <p:cNvSpPr/>
          <p:nvPr/>
        </p:nvSpPr>
        <p:spPr>
          <a:xfrm>
            <a:off x="457200" y="3505320"/>
            <a:ext cx="9144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0" y="5638680"/>
            <a:ext cx="1219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104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6"/>
          <p:cNvSpPr/>
          <p:nvPr/>
        </p:nvSpPr>
        <p:spPr>
          <a:xfrm>
            <a:off x="457200" y="380880"/>
            <a:ext cx="79246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Как найти среднее арифметическое зна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533520" y="2743200"/>
            <a:ext cx="7848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Что запомнилось больше всего из прогулки по зимнему лес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755640" y="2133720"/>
            <a:ext cx="777708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6095880" y="56386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700 : 9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388620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8000: 2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6095880" y="56386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388620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8000: 2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781680" y="5638680"/>
            <a:ext cx="19814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411480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6781680" y="5638680"/>
            <a:ext cx="19814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11480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3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2551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бы найти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среднее арифметическое,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нужн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133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52000" indent="-2520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ложить все результ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2000" indent="-2520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делить полученную сумму на число слагаемы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2-02-14T16:06:36Z</dcterms:modified>
  <cp:revision>39</cp:revision>
  <dc:subject/>
  <dc:title>Урок математики в  4 классе</dc:title>
</cp:coreProperties>
</file>