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CBF-35A0-40B7-BA37-82067314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578-94F9-41A1-A5F0-23377064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C45-D186-41D9-A777-E55B2FA1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FAA-245F-4AAF-A011-DBF7623F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D54-78A0-4AFD-81F0-3516750F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3EC-7FF2-48DC-A664-2C504BAF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34C-2CAA-4A9A-9AED-1E2CDFF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ACE-1B40-42F9-8435-C9E53487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AC7-A12E-4D6C-8ACE-0B28AF34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A91-E7E0-4028-BEE9-65C845D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944-A806-42F1-97F0-96131F5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D49-8390-432A-B189-7D314F7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84B2-E631-409F-86AF-C748A90A8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В каком году началась с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аменов на присвоение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смонав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19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19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акого испытания не было при сд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заменов на присвоение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осмонав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Знание конструкции корабля «Восток-3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нание эксплуатации корабля «Восток-3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авыки управления кораблем«Восток-3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Теоретический курс космического по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Теоретический курс по выходу в откр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Выберите очередность по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смонавтов, установленную прик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кома ВВС №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Титов, Гагарин, Нелюбов, Никола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ковский, Поп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Гагарин, Титов, Нелюбов, Никола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ковский, Попови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агарин, Титов, Николаев, Не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ковский, Поп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Гагарин, Титов, Попович, Никола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юбов, Бы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Какие испытания, 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плексной учебной программе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ущих космонавтов, вошли в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гулярно проводимых со слуша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нят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изическая подгот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акаливание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арашютные пры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естибулярные исследования и тренир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Все ответы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Государствен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пор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мическ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 «Роскосмо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ила о новом открытом наборе в от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монавтов. Каким требованиям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овать кандид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озраст–не более 3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личие высшего образования по техн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ости. Опыт работы по специальност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ее 3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Космическое здоровье, выносливость и лов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Масса–50–9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ст–до 19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се ответы 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1T16:39:41Z</dcterms:created>
  <dc:creator>Наталья Усанкина</dc:creator>
  <dc:description/>
  <dc:language>en-US</dc:language>
  <cp:lastModifiedBy>Lenovo G500</cp:lastModifiedBy>
  <dcterms:modified xsi:type="dcterms:W3CDTF">2021-04-11T17:03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