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6903-05AD-459E-8E25-2CB50E17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8CC-4B3E-4017-B38A-B7257E9A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820-A242-4D7C-AC78-6EA8B2DD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4AB-4FD5-403F-8A42-44DCCC35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826-35B0-4210-B4CA-0B0445D2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11C7-C24F-46B9-B96A-AAA12869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3C6-D05E-4A2E-8CC9-FDDCF33A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0CF-24F7-4D4F-83E4-B343F982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CD0-55B2-4B88-960D-E58D4EC6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DD0-5A3D-4151-8487-0D87171D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92B-C226-412B-B848-9E8B7709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5E1-168B-4940-BD0E-058D0DD1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DF92-52CA-4A4C-AB02-010D12377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4680"/>
            <a:ext cx="9144000" cy="6867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В каком году началась с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заменов на присвоение квал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осмонавт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19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19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19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19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Какого испытания не было при сд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заменов на присвоение квал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космонавт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Знание конструкции корабля «Восток-3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Знание эксплуатации корабля «Восток-3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Навыки управления кораблем«Восток-3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Теоретический курс космического пол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Теоретический курс по выходу в откры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см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Выберите очередность пол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смонавтов, установленную прика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лавкома ВВС №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Титов, Гагарин, Нелюбов, Никола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ковский, Поп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Гагарин, Титов, Нелюбов, Никола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ковский, Попови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Гагарин, Титов, Николаев, Не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ковский, Поп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Гагарин, Титов, Попович, Никола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любов, Бык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Какие испытания, согл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плексной учебной программе 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удущих космонавтов, вошли в сост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гулярно проводимых со слуша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нят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Физическая подготов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Закаливание 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Парашютные прыж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Вестибулярные исследования и трениров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Все ответы вер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Государственн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пор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смическ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ятельности «Роскосмо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явила о новом открытом наборе в от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смонавтов. Каким требованиям дол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ответствовать кандид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озраст–не более 35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личие высшего образования по техн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ости. Опыт работы по специальности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ее 3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Космическое здоровье, выносливость и лов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Масса–50–90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Рост–до 19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Все ответы вер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1T16:39:41Z</dcterms:created>
  <dc:creator>Наталья Усанкина</dc:creator>
  <dc:description/>
  <dc:language>en-US</dc:language>
  <cp:lastModifiedBy>Lenovo G500</cp:lastModifiedBy>
  <dcterms:modified xsi:type="dcterms:W3CDTF">2021-04-11T17:03:0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