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528-1397-4D73-841D-E0644367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573-C57A-4C90-B51B-FA70CDA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900-B4F7-4EEB-9325-233BD58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C6A-B6C0-447F-ACC5-928CDC08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0AC-B065-4288-8A2C-B1C6795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363-1D43-40DC-9AFE-61BBEAD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45B-0138-4E25-BE7A-8BC6A78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662-6E52-4001-A077-737C797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86A-D023-4E45-9B6E-B9200F44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D82-4463-4A86-A4A5-EAAE512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7B8-5EE1-4805-BB25-6AE22C3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E82-4213-4331-B03E-0F45CCF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640-3C6E-4D23-8A83-D76052CD6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03360" y="1606320"/>
            <a:ext cx="9144000" cy="1655640"/>
          </a:xfrm>
          <a:prstGeom prst="rect">
            <a:avLst/>
          </a:prstGeom>
          <a:solidFill>
            <a:srgbClr val="c9c9c9"/>
          </a:solidFill>
          <a:ln w="57240">
            <a:solidFill>
              <a:srgbClr val="5b9bd5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ВПР 7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561960" y="431640"/>
            <a:ext cx="10960200" cy="6272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770040" y="182520"/>
            <a:ext cx="10817280" cy="64119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457200" y="247680"/>
            <a:ext cx="11182320" cy="6218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99880" y="222120"/>
            <a:ext cx="11104560" cy="6282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96800" y="299880"/>
            <a:ext cx="11103120" cy="63230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522360" y="182520"/>
            <a:ext cx="11117160" cy="64134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549360" y="549360"/>
            <a:ext cx="10788480" cy="58514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82760" y="365040"/>
            <a:ext cx="10685160" cy="61660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770040" y="582480"/>
            <a:ext cx="10699560" cy="58834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757080" y="324000"/>
            <a:ext cx="10660320" cy="60116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247680" y="222120"/>
            <a:ext cx="11417400" cy="6336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757080" y="169920"/>
            <a:ext cx="10935000" cy="60483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574560" y="209520"/>
            <a:ext cx="10947600" cy="62168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22120" y="106200"/>
            <a:ext cx="11482560" cy="63597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561960" y="52560"/>
            <a:ext cx="10985400" cy="63608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627120" y="326880"/>
            <a:ext cx="11142720" cy="62359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365040" y="201600"/>
            <a:ext cx="11260080" cy="63961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731880" y="222120"/>
            <a:ext cx="10893240" cy="63882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679320" y="122400"/>
            <a:ext cx="105285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534960" y="209520"/>
            <a:ext cx="10947600" cy="636444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4T07:41:16Z</dcterms:created>
  <dc:creator>Пользователь Windows</dc:creator>
  <dc:description/>
  <dc:language>en-US</dc:language>
  <cp:lastModifiedBy>HP</cp:lastModifiedBy>
  <dcterms:modified xsi:type="dcterms:W3CDTF">2021-03-21T18:18:35Z</dcterms:modified>
  <cp:revision>19</cp:revision>
  <dc:subject/>
  <dc:title>Презентация PowerPoint</dc:title>
</cp:coreProperties>
</file>