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099-976B-4E38-B7B1-E3D3EA3D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87F-1C5D-4096-B7CC-774E0F5B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8E3-688D-4D08-A4D2-FB549684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1B4-15EC-4E8B-A350-0A5BEDE8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BBD-6D79-44D7-AC84-20022CAD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C99-2E34-4578-9FB5-D9C5050D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9C1-1746-4F9F-B005-66CFF99C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00D-0619-449A-9AC3-AF895877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498-058A-44F3-8EA4-FBB256DB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F5F-92D4-4FD3-B01F-DA55192E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F6B-8879-4989-89E3-03A41025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BD8-8CE7-4304-B554-26680952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FF53-1E30-40ED-BE5B-E94D9D0E5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03360" y="1606320"/>
            <a:ext cx="9144000" cy="1655640"/>
          </a:xfrm>
          <a:prstGeom prst="rect">
            <a:avLst/>
          </a:prstGeom>
          <a:solidFill>
            <a:srgbClr val="c9c9c9"/>
          </a:solidFill>
          <a:ln w="57240">
            <a:solidFill>
              <a:srgbClr val="5b9bd5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я ВПР 7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561960" y="431640"/>
            <a:ext cx="10960200" cy="627228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770040" y="182520"/>
            <a:ext cx="10817280" cy="641196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457200" y="247680"/>
            <a:ext cx="11182320" cy="621828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99880" y="222120"/>
            <a:ext cx="11104560" cy="628200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496800" y="299880"/>
            <a:ext cx="11103120" cy="63230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522360" y="182520"/>
            <a:ext cx="11117160" cy="641340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549360" y="549360"/>
            <a:ext cx="10788480" cy="58514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482760" y="365040"/>
            <a:ext cx="10685160" cy="616608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770040" y="582480"/>
            <a:ext cx="10699560" cy="588348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757080" y="324000"/>
            <a:ext cx="10660320" cy="60116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247680" y="222120"/>
            <a:ext cx="11417400" cy="633600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757080" y="169920"/>
            <a:ext cx="10935000" cy="604836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574560" y="209520"/>
            <a:ext cx="10947600" cy="62168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222120" y="106200"/>
            <a:ext cx="11482560" cy="635976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561960" y="52560"/>
            <a:ext cx="10985400" cy="63608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627120" y="326880"/>
            <a:ext cx="11142720" cy="62359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365040" y="201600"/>
            <a:ext cx="11260080" cy="63961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731880" y="222120"/>
            <a:ext cx="10893240" cy="638820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679320" y="122400"/>
            <a:ext cx="1052856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534960" y="209520"/>
            <a:ext cx="10947600" cy="63644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4T07:41:16Z</dcterms:created>
  <dc:creator>Пользователь Windows</dc:creator>
  <dc:description/>
  <dc:language>en-US</dc:language>
  <cp:lastModifiedBy>HP</cp:lastModifiedBy>
  <dcterms:modified xsi:type="dcterms:W3CDTF">2021-03-21T18:18:35Z</dcterms:modified>
  <cp:revision>19</cp:revision>
  <dc:subject/>
  <dc:title>Презентация PowerPoint</dc:title>
</cp:coreProperties>
</file>