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DD8-C41C-46F9-AF17-C46DD755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B39-597B-4C64-8AC7-B00DB29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BA4-6F8C-4004-871F-76979565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B6A-FFCC-4707-BC32-B824CE93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02B-DCD9-49A0-84C7-1783216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2C3-8D6A-43B2-A922-043B2EC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3D1-AF83-424B-BAB8-075B61DD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528-A4FF-4452-86B0-EEA3B1C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4F7-243E-494E-A255-4AC0F0AA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FA7F-C682-4521-BBF7-25773DC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B363-ED15-486D-AB3B-6941ED9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AAA-63A1-4933-8A85-FA5AAEF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73E1-C4CC-4F76-B682-F4F30B30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8AC2-FFEE-44AB-84D5-8C1DB63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3FB8-E50F-445C-A28F-E0B3650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8794-37A6-4AC0-9468-B2A2AE4D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E9A-C309-4F7F-BB2D-4400DBA9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3D7C-23A0-4DF0-BA2C-FA02A51F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90F6-A129-4528-9CF6-93E89EB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0E31-3C96-4BC6-BCF6-ADFA3F8A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9E4B-FF8A-4A7D-82CC-A157FE3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778D-3AAE-4636-A473-6409FB1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F56-BCF4-4789-8C5C-2C6E392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A04D-182A-4D07-98AC-C0D9D2D9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E717-4E0F-4C76-B3F0-267BB7A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1E51-4C64-473C-AEF6-DAE9FC69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D20B-F3E3-41D1-B6AA-D049D127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5715-8179-422E-A91A-D0CDBB1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09BE-3DBF-40EC-8FD1-F29F23CE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8D22-A733-4DE7-B967-2FD526C9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DE0-13BA-4264-A44E-ACE92D45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835-E045-41E1-800E-3DB38976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528-F6F2-4F41-8622-E25E52A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C41-6338-49DD-A7A5-947C1CF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85B-3D5E-408A-8531-D7CC85B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790-E758-429D-B5A0-8C4FAAB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6E5-BBFB-461A-89CB-A8CF552651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6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C2A0-61D6-41C8-AE0C-EFDC209B1D1B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1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1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1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2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3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3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4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4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4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5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5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5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5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739B-EC58-4DEC-B6B8-99BB2723C380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70912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икуляционная гимнастик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 звуков Р и Рь</a:t>
            </a: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–логопед</a:t>
            </a:r>
            <a:br>
              <a:rPr sz="24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ленко Елена Валерьевн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ДиК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 Калининград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3" name="Объект 3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3196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48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ебры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звые лошадки, бойко скачут по площадке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2" name="Объект 5" descr=""/>
          <p:cNvPicPr/>
          <p:nvPr/>
        </p:nvPicPr>
        <p:blipFill>
          <a:blip r:embed="rId1"/>
          <a:stretch/>
        </p:blipFill>
        <p:spPr>
          <a:xfrm>
            <a:off x="2556000" y="1806480"/>
            <a:ext cx="36003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Потянула зебра ножку, постояла так немножко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4" name="Объект 4" descr=""/>
          <p:cNvPicPr/>
          <p:nvPr/>
        </p:nvPicPr>
        <p:blipFill>
          <a:blip r:embed="rId1"/>
          <a:stretch/>
        </p:blipFill>
        <p:spPr>
          <a:xfrm>
            <a:off x="1706400" y="1806480"/>
            <a:ext cx="5731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 у зебры есть полоски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х рисуем кистью плоской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6" name="Объект 4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7308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смотри, хамелеон, хвост закручивает он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8" name="Объект 4" descr=""/>
          <p:cNvPicPr/>
          <p:nvPr/>
        </p:nvPicPr>
        <p:blipFill>
          <a:blip r:embed="rId1"/>
          <a:stretch/>
        </p:blipFill>
        <p:spPr>
          <a:xfrm>
            <a:off x="1720800" y="1806480"/>
            <a:ext cx="570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12476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Язычок, скорей домой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d2d0a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2" name="Picture 4" descr="C:\Users\DOM\Desktop\презентации\getImage (27).jpg"/>
          <p:cNvPicPr/>
          <p:nvPr/>
        </p:nvPicPr>
        <p:blipFill>
          <a:blip r:embed="rId1"/>
          <a:stretch/>
        </p:blipFill>
        <p:spPr>
          <a:xfrm>
            <a:off x="1692360" y="1773360"/>
            <a:ext cx="5616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676440"/>
            <a:ext cx="87850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ложение органов артикуляции при произнесении звука Р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6" name="Объект 9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960720" cy="4465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92840" y="1812600"/>
            <a:ext cx="3141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62360" y="2389320"/>
            <a:ext cx="3471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graphicFrame>
        <p:nvGraphicFramePr>
          <p:cNvPr id="209" name="Объект 11"/>
          <p:cNvGraphicFramePr/>
          <p:nvPr/>
        </p:nvGraphicFramePr>
        <p:xfrm>
          <a:off x="4500720" y="2060640"/>
          <a:ext cx="593388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Объект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2060640"/>
                    <a:ext cx="59338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1247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вук Р – один из самых сложных звуков, произношение которого требует согласованной работы  многих мышц языка, подъязычной связки, сильной воздушной струи.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2" name="Объект 1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386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2960" cy="7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Т.А. Куликовска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Сказка «Зоологическая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4662360" y="1628640"/>
            <a:ext cx="3510000" cy="417672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3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52728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 зоопарк пойдём теперь, открываем шире дверь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7" name="Объект 4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365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ас встречает добрый слон, длинный хобот тянет он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Если очень захотеть, можно хоботом вертеть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9" name="Объект 5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467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Улыбнулись нам подружки- большеротые лягушк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1" name="Объект 5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732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676440"/>
            <a:ext cx="86421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ередование:хоботок- улыбка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4" name="Объект 8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444920" cy="38894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92840" y="1812600"/>
            <a:ext cx="3141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6" name="Объект 9" descr=""/>
          <p:cNvPicPr/>
          <p:nvPr/>
        </p:nvPicPr>
        <p:blipFill>
          <a:blip r:embed="rId2"/>
          <a:stretch/>
        </p:blipFill>
        <p:spPr>
          <a:xfrm>
            <a:off x="4662360" y="2060640"/>
            <a:ext cx="4230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Жираф вытягивает шею. Очень он гордится ею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1"/>
          <a:stretch/>
        </p:blipFill>
        <p:spPr>
          <a:xfrm>
            <a:off x="2556000" y="1806480"/>
            <a:ext cx="3744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8:21:05Z</dcterms:created>
  <dc:creator>Vladimir</dc:creator>
  <dc:description/>
  <dc:language>en-US</dc:language>
  <cp:lastModifiedBy>Пользователь Windows</cp:lastModifiedBy>
  <dcterms:modified xsi:type="dcterms:W3CDTF">2022-02-14T20:25:17Z</dcterms:modified>
  <cp:revision>152</cp:revision>
  <dc:subject/>
  <dc:title>Конкурс «Специалист года-2009»</dc:title>
</cp:coreProperties>
</file>