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26.png" ContentType="image/png"/>
  <Override PartName="/ppt/media/image3.png" ContentType="image/pn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8.jpeg" ContentType="image/jpeg"/>
  <Override PartName="/ppt/media/image28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46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35.jpeg" ContentType="image/jpeg"/>
  <Override PartName="/ppt/media/image10.png" ContentType="image/png"/>
  <Override PartName="/ppt/media/image27.png" ContentType="image/png"/>
  <Override PartName="/ppt/media/image33.jpeg" ContentType="image/jpeg"/>
  <Override PartName="/ppt/media/image5.png" ContentType="image/png"/>
  <Override PartName="/ppt/media/image4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390-3154-4A11-8F25-860D02A7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57E-6463-42A7-B336-4C065B3A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23E-682C-49C6-8AFB-F4EF16F8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B0E-030E-48B7-BB3E-A8FD2E3D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9C97-0AB0-4016-88DE-F809CD4E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E0D5-FC9E-4024-BAD6-A04612CD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9936-4043-4D8F-8DF9-37131EC2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0702-A454-40CE-983F-EDD04B50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F6C1-6910-410C-9083-1FE122F0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829F-FD89-428C-BCDD-FD346A4D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57B1-61D6-45D8-9B0E-58651ADB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054-9268-4CE5-8996-A5FA0B9C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015B-8544-4ECF-96D7-1345DFC0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4B10-1F5E-414F-9816-A77F6287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8901-8C0A-4C3A-B2FF-6861C424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08AA-CB05-46C7-8F39-C0F45954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C21F-6087-4F9D-85FE-7EBB0D06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96A05-3DDE-42D7-B92B-4CF64DDE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0446F-18AE-4593-B79D-49203BE7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78958-2349-4CF9-B8D1-2C5AE1DB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DD31F-9441-41EA-94FD-4028C316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9884A-517F-404D-A25A-ED8BAE0A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088F-34C2-4BD4-9ECD-87A74A28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02FF6-B689-4888-8369-E11D37F6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F90FD-AA8E-42FB-9124-E963D3CE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ECC23-7DE5-4012-A34C-0F2883FA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264F1-7204-4246-8CB9-20D52719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10EA5-6428-4894-8F97-BB694874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49828-7E41-4F07-B4D0-F6637451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60E9E-3584-45EE-9C08-63E2393A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804A-650A-400D-8846-EBE219D8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9632-DBA6-4BD9-94A1-575D400C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E44-E466-49D9-9E92-536DBC94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9C6-B70D-4E9B-A29F-5CC9DE21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668-97AE-49EE-8A1D-58AF1594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883-E562-48E3-8757-6262D110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3.xml"/><Relationship Id="rId25" Type="http://schemas.openxmlformats.org/officeDocument/2006/relationships/slideLayout" Target="../slideLayouts/slideLayout14.xml"/><Relationship Id="rId26" Type="http://schemas.openxmlformats.org/officeDocument/2006/relationships/slideLayout" Target="../slideLayouts/slideLayout15.xml"/><Relationship Id="rId27" Type="http://schemas.openxmlformats.org/officeDocument/2006/relationships/slideLayout" Target="../slideLayouts/slideLayout16.xml"/><Relationship Id="rId28" Type="http://schemas.openxmlformats.org/officeDocument/2006/relationships/slideLayout" Target="../slideLayouts/slideLayout17.xml"/><Relationship Id="rId29" Type="http://schemas.openxmlformats.org/officeDocument/2006/relationships/slideLayout" Target="../slideLayouts/slideLayout18.xml"/><Relationship Id="rId30" Type="http://schemas.openxmlformats.org/officeDocument/2006/relationships/slideLayout" Target="../slideLayouts/slideLayout19.xml"/><Relationship Id="rId31" Type="http://schemas.openxmlformats.org/officeDocument/2006/relationships/slideLayout" Target="../slideLayouts/slideLayout20.xml"/><Relationship Id="rId32" Type="http://schemas.openxmlformats.org/officeDocument/2006/relationships/slideLayout" Target="../slideLayouts/slideLayout21.xml"/><Relationship Id="rId33" Type="http://schemas.openxmlformats.org/officeDocument/2006/relationships/slideLayout" Target="../slideLayouts/slideLayout22.xml"/><Relationship Id="rId34" Type="http://schemas.openxmlformats.org/officeDocument/2006/relationships/slideLayout" Target="../slideLayouts/slideLayout23.xml"/><Relationship Id="rId3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25.xml"/><Relationship Id="rId33" Type="http://schemas.openxmlformats.org/officeDocument/2006/relationships/slideLayout" Target="../slideLayouts/slideLayout26.xml"/><Relationship Id="rId34" Type="http://schemas.openxmlformats.org/officeDocument/2006/relationships/slideLayout" Target="../slideLayouts/slideLayout27.xml"/><Relationship Id="rId35" Type="http://schemas.openxmlformats.org/officeDocument/2006/relationships/slideLayout" Target="../slideLayouts/slideLayout28.xml"/><Relationship Id="rId36" Type="http://schemas.openxmlformats.org/officeDocument/2006/relationships/slideLayout" Target="../slideLayouts/slideLayout29.xml"/><Relationship Id="rId37" Type="http://schemas.openxmlformats.org/officeDocument/2006/relationships/slideLayout" Target="../slideLayouts/slideLayout30.xml"/><Relationship Id="rId38" Type="http://schemas.openxmlformats.org/officeDocument/2006/relationships/slideLayout" Target="../slideLayouts/slideLayout31.xml"/><Relationship Id="rId39" Type="http://schemas.openxmlformats.org/officeDocument/2006/relationships/slideLayout" Target="../slideLayouts/slideLayout32.xml"/><Relationship Id="rId40" Type="http://schemas.openxmlformats.org/officeDocument/2006/relationships/slideLayout" Target="../slideLayouts/slideLayout33.xml"/><Relationship Id="rId41" Type="http://schemas.openxmlformats.org/officeDocument/2006/relationships/slideLayout" Target="../slideLayouts/slideLayout34.xml"/><Relationship Id="rId42" Type="http://schemas.openxmlformats.org/officeDocument/2006/relationships/slideLayout" Target="../slideLayouts/slideLayout35.xml"/><Relationship Id="rId4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5AF0-B65A-4B98-B0CA-97EF2873C0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42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43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50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60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C413-332F-4584-924A-DA4DF26D97F7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4"/>
    <p:sldLayoutId id="2147483663" r:id="rId25"/>
    <p:sldLayoutId id="2147483664" r:id="rId26"/>
    <p:sldLayoutId id="2147483665" r:id="rId27"/>
    <p:sldLayoutId id="2147483666" r:id="rId28"/>
    <p:sldLayoutId id="2147483667" r:id="rId29"/>
    <p:sldLayoutId id="2147483668" r:id="rId30"/>
    <p:sldLayoutId id="2147483669" r:id="rId31"/>
    <p:sldLayoutId id="2147483670" r:id="rId32"/>
    <p:sldLayoutId id="2147483671" r:id="rId33"/>
    <p:sldLayoutId id="2147483672" r:id="rId34"/>
    <p:sldLayoutId id="2147483673" r:id="rId3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10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11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18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28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6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137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138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41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44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47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50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53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56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59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7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8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9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0F0D-82E8-4349-B7BD-3BE958B98712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2"/>
    <p:sldLayoutId id="2147483676" r:id="rId33"/>
    <p:sldLayoutId id="2147483677" r:id="rId34"/>
    <p:sldLayoutId id="2147483678" r:id="rId35"/>
    <p:sldLayoutId id="2147483679" r:id="rId36"/>
    <p:sldLayoutId id="2147483680" r:id="rId37"/>
    <p:sldLayoutId id="2147483681" r:id="rId38"/>
    <p:sldLayoutId id="2147483682" r:id="rId39"/>
    <p:sldLayoutId id="2147483683" r:id="rId40"/>
    <p:sldLayoutId id="2147483684" r:id="rId41"/>
    <p:sldLayoutId id="2147483685" r:id="rId42"/>
    <p:sldLayoutId id="2147483686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920" y="1699920"/>
            <a:ext cx="709128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тикуляционная гимнастика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 звуков Р и Рь</a:t>
            </a:r>
            <a:br>
              <a:rPr sz="32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ель –логопед</a:t>
            </a:r>
            <a:br>
              <a:rPr sz="24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ленко Елена Валерьевн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ДиК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. Калининград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3" name="Объект 3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431964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0" name="Объект 3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480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Зебры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резвые лошадки, бойко скачут по площадке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2" name="Объект 5" descr=""/>
          <p:cNvPicPr/>
          <p:nvPr/>
        </p:nvPicPr>
        <p:blipFill>
          <a:blip r:embed="rId1"/>
          <a:stretch/>
        </p:blipFill>
        <p:spPr>
          <a:xfrm>
            <a:off x="2556000" y="1806480"/>
            <a:ext cx="360036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Потянула зебра ножку, постояла так немножко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4" name="Объект 4" descr=""/>
          <p:cNvPicPr/>
          <p:nvPr/>
        </p:nvPicPr>
        <p:blipFill>
          <a:blip r:embed="rId1"/>
          <a:stretch/>
        </p:blipFill>
        <p:spPr>
          <a:xfrm>
            <a:off x="1706400" y="1806480"/>
            <a:ext cx="573120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А у зебры есть полоски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их рисуем кистью плоской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6" name="Объект 4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73084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осмотри, хамелеон, хвост закручивает он!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8" name="Объект 4" descr=""/>
          <p:cNvPicPr/>
          <p:nvPr/>
        </p:nvPicPr>
        <p:blipFill>
          <a:blip r:embed="rId1"/>
          <a:stretch/>
        </p:blipFill>
        <p:spPr>
          <a:xfrm>
            <a:off x="1720800" y="1806480"/>
            <a:ext cx="570240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124760" cy="11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Язычок, скорей домой!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40" name="Объект 2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337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d2d0a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42" name="Picture 4" descr="C:\Users\DOM\Desktop\презентации\getImage (27).jpg"/>
          <p:cNvPicPr/>
          <p:nvPr/>
        </p:nvPicPr>
        <p:blipFill>
          <a:blip r:embed="rId1"/>
          <a:stretch/>
        </p:blipFill>
        <p:spPr>
          <a:xfrm>
            <a:off x="1692360" y="1773360"/>
            <a:ext cx="5616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560" y="676440"/>
            <a:ext cx="87850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оложение органов артикуляции при произнесении звука Р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33440" y="1812600"/>
            <a:ext cx="3146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6" name="Объект 9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3960720" cy="44654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92840" y="1812600"/>
            <a:ext cx="3141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62360" y="2389320"/>
            <a:ext cx="3471840" cy="34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graphicFrame>
        <p:nvGraphicFramePr>
          <p:cNvPr id="209" name="Объект 11"/>
          <p:cNvGraphicFramePr/>
          <p:nvPr/>
        </p:nvGraphicFramePr>
        <p:xfrm>
          <a:off x="4500720" y="2060640"/>
          <a:ext cx="5933880" cy="39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Объект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2060640"/>
                    <a:ext cx="593388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1247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Звук Р – один из самых сложных звуков, произношение которого требует согласованной работы  многих мышц языка, подъязычной связки, сильной воздушной струи. 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2" name="Объект 1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3866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122960" cy="73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Т.А. Куликовская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Сказка «Зоологическая»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4" name="Объект 4" descr=""/>
          <p:cNvPicPr/>
          <p:nvPr/>
        </p:nvPicPr>
        <p:blipFill>
          <a:blip r:embed="rId1"/>
          <a:stretch/>
        </p:blipFill>
        <p:spPr>
          <a:xfrm>
            <a:off x="4662360" y="1628640"/>
            <a:ext cx="3510000" cy="4176720"/>
          </a:xfrm>
          <a:prstGeom prst="rect">
            <a:avLst/>
          </a:prstGeom>
          <a:ln w="0">
            <a:noFill/>
          </a:ln>
        </p:spPr>
      </p:pic>
      <p:pic>
        <p:nvPicPr>
          <p:cNvPr id="215" name="Объект 3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52728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В зоопарк пойдём теперь, открываем шире дверь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7" name="Объект 4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3657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ас встречает добрый слон, длинный хобот тянет он.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Если очень захотеть, можно хоботом вертеть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9" name="Объект 5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64674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Улыбнулись нам подружки- большеротые лягушки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1" name="Объект 5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732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676440"/>
            <a:ext cx="86421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Чередование:хоботок- улыбка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33440" y="1812600"/>
            <a:ext cx="3146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4" name="Объект 8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4444920" cy="38894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92840" y="1812600"/>
            <a:ext cx="3141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6" name="Объект 9" descr=""/>
          <p:cNvPicPr/>
          <p:nvPr/>
        </p:nvPicPr>
        <p:blipFill>
          <a:blip r:embed="rId2"/>
          <a:stretch/>
        </p:blipFill>
        <p:spPr>
          <a:xfrm>
            <a:off x="4662360" y="2060640"/>
            <a:ext cx="4230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Жираф вытягивает шею. Очень он гордится ею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8" name="Объект 4" descr=""/>
          <p:cNvPicPr/>
          <p:nvPr/>
        </p:nvPicPr>
        <p:blipFill>
          <a:blip r:embed="rId1"/>
          <a:stretch/>
        </p:blipFill>
        <p:spPr>
          <a:xfrm>
            <a:off x="2556000" y="1806480"/>
            <a:ext cx="374472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8:21:05Z</dcterms:created>
  <dc:creator>Vladimir</dc:creator>
  <dc:description/>
  <dc:language>en-US</dc:language>
  <cp:lastModifiedBy>Пользователь Windows</cp:lastModifiedBy>
  <dcterms:modified xsi:type="dcterms:W3CDTF">2022-02-14T20:25:17Z</dcterms:modified>
  <cp:revision>152</cp:revision>
  <dc:subject/>
  <dc:title>Конкурс «Специалист года-2009»</dc:title>
</cp:coreProperties>
</file>