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5E99-F651-4C6E-B7CF-8999E3F34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E21F-8127-4EC5-8046-00864977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C4DC-0D6E-4AE4-A1C4-CFF1B2F84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725B-47EC-47D9-9BAD-1DDBFBE67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DB19-21F9-438A-8016-971AB87A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CF2A-FC3E-4EBF-84BE-4B115FF2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1D5A-4736-447D-BB18-FCA311F8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6C05-C66C-48AE-95B1-6CF27564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9838-1FCD-46CE-8441-C42886E2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BC4A-F37E-4194-BD12-F01BAEA9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E013-4B9F-4DB5-9EC3-A6DFA731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8EC9-5485-4CB4-AEB0-65F0D858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53C1-D7B6-4CC2-9F31-5AF6C03D91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561960" y="0"/>
            <a:ext cx="1051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80316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609480" y="0"/>
            <a:ext cx="1029816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858960" y="0"/>
            <a:ext cx="1028988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94140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82080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81288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84924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914400" y="0"/>
            <a:ext cx="1020600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69228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868320" y="-14400"/>
            <a:ext cx="1030752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895320" y="0"/>
            <a:ext cx="1027116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94140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84924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757080" y="0"/>
            <a:ext cx="10431720" cy="69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803160" y="0"/>
            <a:ext cx="1031724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9T12:34:43Z</dcterms:created>
  <dc:creator>hrun2005@outlook.com</dc:creator>
  <dc:description/>
  <dc:language>en-US</dc:language>
  <cp:lastModifiedBy>ТЦ Рубин</cp:lastModifiedBy>
  <dcterms:modified xsi:type="dcterms:W3CDTF">2022-02-15T16:37:25Z</dcterms:modified>
  <cp:revision>9</cp:revision>
  <dc:subject/>
  <dc:title>Презентация PowerPoint</dc:title>
</cp:coreProperties>
</file>