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944E-FFB7-4C68-AC90-9BB3FC739F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1952-DF4F-4C6F-BB12-6EB9ECF1F5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емотаблицы особенно эффективны при разучивании стихотворений: на каждое слово или маленькое словосочетание придумывается картинка (изображение); таким образом, все стихотворение зарисовывается схематически. После этого ребенок по памяти, используя графическое изображение, воспроизводит стихотворение целиком. На начальном этапе взрослый предлагает готовую план - схему, а по мере обучения ребенок также активно включается в процесс создания своей сх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0836-DFB2-4D11-BD6F-94D8CB3BE5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ть с мнемотаблицами лучше начинать со средней группы. Хотя уже в младшем возрасте используем простейшие схемы одевания, умывания, построения пирамидки и т. д.Вся работа строится, как мы уже говорили,  от простого к сложному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. (Алгоритм обучения дет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надо отметить, что дошкольники начинают испытывать некоторы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ож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, так как трудно следовать предложенному плану модели. Очень часто первые рассказы по моделям получаются очень схематичными. Чтобы этих сложностей было как можно меньше, в программное содержание каждой мнемотаблицы необходимо вводить задачи по активизации и обогащению словар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803E-742E-432A-9EED-3610249CA4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, чем раньше будем учить детей рассказывать или пересказывать, используя метод мнемотехники, тем лучше подготовим их к школе, так как связная речь является важным показателем умственных способностей ребенка и готовности его к школьному обуч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ллельно с этой работой необходимы речевые игры, обязательны использование настольно-печатных игр, которые помогают детям научиться классифицировать предметы, развивать речь, зрительное восприятие, образное и логическое мышление, внимание, наблюдательность, интерес к окружающему миру, навыки самопровер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F099-9C28-452B-9C46-BF0DE62038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4174-4810-4190-9FE1-2D08A84B81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егодняшний день- образная, богатая синонимами, дополнениями и описаниями речь у детей дошкольного возраста - явление очень редкое. В речи детей существует множество проблем:……Поэтому педагогическое воздействие при развитии речи дошкольников – очень сложное дело. Необходимо научить детей связно, последовательно, грамматически правильно излагать свои мысли, рассказывать о различных событиях из окружающей жизни. Своим опытом работы по развитию связной речи поделится Ким Л. И.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У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6D37-7873-4424-9248-B61E258D0C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мы знаем, как трудно бывает ребёнку построить связный рассказ, даже просто пересказать знакомый текст. Вопр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о тут не только в уровне развития речи. Детей часто сбивают детали произведения, которые на их взгляд показались наиболее важными, и они могут повторить их неоднократно. Например: «А у волка были большие зубы», «У него была пасть страшная» и т. д., забывая о дальнейшем развитии событий. А ведь основное для рассказчика - передать сюжет произведения, быть понятым другим человеком, а не просто выразить чувства. Монологическая речь психологически более сложна, чем диалогическая: дети пропускают смысловые звенья, логическую последовательность повествования, делают ошибки в построении предложений. То есть, ребёнок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120A-074A-4720-8333-FDD01BF698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как наглядный материал у дошкольников усваивается лучше, использование мнемотаблиц на занятиях по развитию связной речи, позволяет детям эффективнее воспринимать и перерабатывать зрительную информацию. Применение мнемосхем, помогает ребёнку в обогащение связного высказы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8CA0-A776-4127-9503-ABEFC6C7B1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помочь детям овладеть связной речью и облегчить этот процесс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уется прием мнемотехник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немотехнику в дошкольной педагогике называют по-разному: Воробьева Валентина Константиновна называет эту методик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нсорно-графическими схема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, Ткаченко Татьяна Александровна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метно-схематическими моделя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, Глухов В. П.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локами-квадрата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, Большева Т. В.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лаж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Ефименкова Л. Н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хемой составления рассказ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3A11-6985-46BE-9FB1-34829F35CE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любая работа, мнемотехника строится от простого к сложному. Необходимо начинать работу с простейших мнемоквадратов, последовательно переходить к мнемодорожкам, и позже - к мнемотаблицам. , т. к. у детей остаются в памяти отдельные образы: елочка - зеленая, ягодка – красная. Позже - усложнять или заменять другой заставкой - изобразить персонажа в графическом виде. Например: лиса – состоит из оранжевых геометрических фигур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треугольника и круг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медведь – большой коричневый круг и т. д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Для детей старшего возраста схемы желательно рисовать в одном цвет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чтобы не вовлекать внимание на яркость символических изображ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F859-AB12-4D60-B8B5-E5C3EE65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E51E-14B6-4178-B769-C632B9DE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7508-3A1B-4266-B4B7-D49B3400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59C7-A1DE-48E7-9025-4B8CA110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267F-9845-4724-B0E4-31EA0971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2E66-ACDD-4BEA-8E4C-76D9DD7D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6826-A4CF-43F0-A24B-8D8B3DB5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F395-5148-4244-A711-85B2F82C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2AC3-2324-4186-8DCB-9D501594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B99A-0870-49F4-A089-72A4C709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B9F0-5247-47D3-8E46-6A804497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E12B-AFD6-438C-8A36-A6CF6AF1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48C1-0EFE-44C2-B141-71378F45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AE8A-C0F7-48A3-BC3D-D465AB1E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CFF3-1960-4041-99E3-8478307F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B4F0-8311-4202-A60B-1A97D980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9A71-DFEF-4610-AB4B-F99F7E57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10BB5-21E8-4E45-BDEB-8EC95C20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CE46F-2CF9-45DA-8CC4-87A0B9F3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1C6DB-4FFD-4E30-9847-D6BF04C4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ABCC1-EC09-4C94-9A55-D0FEA781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D3CA0-F463-49B9-8AD8-A7E9EF96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4F42-928E-4D60-A569-7E6F3B6E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2121C-C52B-4F7B-81A4-EA852AE7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DCD5C-D6BB-42AD-8796-2B7CF1AF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26ABE-2453-4C68-8E27-A6CE7D64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452CA-C44B-4D2E-BBDF-E7AC499D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DACA9-FF58-4CE5-A045-05FBDFEB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32606-1928-4976-8A53-C59AA462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C4F1F-EF84-4E11-A709-7D1A42D8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9A319-7436-4520-B914-931B5ADE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F87DE-07B9-4675-AA28-6BB24533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584E1-634F-4E45-BBBF-2F0031A2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FF03-A169-43D6-AF13-B5621581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7F1DA-29A3-4719-A4E9-5A575A46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2122E-C2CF-497B-A2CF-3697E078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29747-79D2-407B-8362-7EED7F24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4BD28-4081-41BF-B5F7-4A629129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91BC1-4261-41BA-8AB2-DA805EB5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3E057-439D-42D5-A304-2D57879B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F48A0-C91D-4E64-BC77-63410550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06C65-9BA6-4362-83C9-C2A5145C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88DFD-7925-4B22-85BE-2AD728DA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27D2-16DE-442B-BAD3-5E657EC3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39C6-21E6-4C31-88B9-B0E2D15C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AD44-D515-4D85-8BFC-23949470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6AA6-5DAB-4A61-8527-3F3A239F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619A-4EB0-47EE-882C-701C93AA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BFE5-EDB2-4439-B4F0-957BF31B8158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7C5F-130A-45EF-90A7-9D1BC5ABD416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88F6-2289-4ED8-9EFF-6E1D1A5134A9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5FD3-E854-4A66-9013-9741C36F8DD4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8072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700"/>
            </a:br>
            <a:r>
              <a:rPr b="0" lang="ru-RU" sz="2200" spc="-1" strike="noStrike">
                <a:solidFill>
                  <a:srgbClr val="000099"/>
                </a:solidFill>
                <a:latin typeface="Calibri Light"/>
              </a:rPr>
              <a:t>МУНИЦИПАЛЬНОЕ АВТОНОМНОЕ ДОШКОЛЬНОЕ ОБРАЗОВАТЕЛЬНОЕ УЧРЕЖДЕНИЕ «ДЕТСКИЙ САД КОМБИНОРИВАННОГО ВИДА №26 «КОРАБЛИК»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3200" spc="-1" strike="noStrike">
                <a:solidFill>
                  <a:srgbClr val="0d2e46"/>
                </a:solidFill>
                <a:latin typeface="comic"/>
              </a:rPr>
              <a:t>«МНЕМОТЕХНИКА -</a:t>
            </a:r>
            <a:br>
              <a:rPr sz="3200"/>
            </a:br>
            <a:r>
              <a:rPr b="0" lang="ru-RU" sz="3200" spc="-1" strike="noStrike">
                <a:solidFill>
                  <a:srgbClr val="0d2e46"/>
                </a:solidFill>
                <a:latin typeface="comic"/>
              </a:rPr>
              <a:t>ТЕХНОЛОГИЯ РЕЧЕВОГО РАЗВИТИЯ ДЕТЕЙ СТАРШЕГО ДОШКОЛЬНОГО ВОЗРАСТА</a:t>
            </a:r>
            <a:r>
              <a:rPr b="0" lang="ru-RU" sz="4300" spc="-1" strike="noStrike">
                <a:solidFill>
                  <a:srgbClr val="0d2e46"/>
                </a:solidFill>
                <a:latin typeface="comic"/>
              </a:rPr>
              <a:t>»</a:t>
            </a:r>
            <a:endParaRPr b="0" lang="en-US" sz="4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76360" y="4723920"/>
            <a:ext cx="6400800" cy="16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f496f"/>
              </a:solidFill>
              <a:latin typeface="Century Gothic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f496f"/>
              </a:solidFill>
              <a:latin typeface="Century Gothic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Century Gothic"/>
              </a:rPr>
              <a:t>  </a:t>
            </a:r>
            <a:r>
              <a:rPr b="0" lang="ru-RU" sz="1500" spc="-1" strike="noStrike">
                <a:solidFill>
                  <a:srgbClr val="000099"/>
                </a:solidFill>
                <a:latin typeface="Century Gothic"/>
              </a:rPr>
              <a:t>Воспитатель: КЛИМОВИЧ Н.В.</a:t>
            </a:r>
            <a:endParaRPr b="0" lang="en-US" sz="15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f496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Century Gothic"/>
              </a:rPr>
              <a:t>Г. Бердск </a:t>
            </a:r>
            <a:endParaRPr b="0" lang="en-US" sz="15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3819600" cy="2880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083120" cy="30780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" descr=""/>
          <p:cNvPicPr/>
          <p:nvPr/>
        </p:nvPicPr>
        <p:blipFill>
          <a:blip r:embed="rId3"/>
          <a:stretch/>
        </p:blipFill>
        <p:spPr>
          <a:xfrm>
            <a:off x="4678200" y="404640"/>
            <a:ext cx="3996000" cy="299736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2" descr=""/>
          <p:cNvPicPr/>
          <p:nvPr/>
        </p:nvPicPr>
        <p:blipFill>
          <a:blip r:embed="rId4"/>
          <a:stretch/>
        </p:blipFill>
        <p:spPr>
          <a:xfrm>
            <a:off x="611280" y="3624120"/>
            <a:ext cx="3825720" cy="2870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533160" y="533160"/>
            <a:ext cx="7783560" cy="534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меры мнемотаблиц могут быть разными – все зависит от возраста детей и уровня их развития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дошкольников среднего возраста – таблицы на 6 клетках;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дошкольников старшего возраста – таблицы на 9-12 клетках;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подготовительного к школе возраста – таблицы на 12-15 клетках.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АПЫ РАБОТЫ ПО ИСПОЛЬЗОВАНИЮ   МНЕМОТАБЛИЦ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95280" y="191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4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этап: Рассматривание таблицы и разбор того, что на ней изображено. 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4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этап: Перекодирование информации, т.е. преобразование из абстрактных символов в образы понятные детям.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4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этап: Пересказ сказки или рассказ, составление описательного рассказа по заданной теме, заучивание стихотворения.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14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ладших группах с помощью воспитателя, в старших – дети должны уметь самостоятельно.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ОВАТЕЛЬНОСТЬ РАБОТЫ С МНЕМОТАБЛИЦЕЙ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ведение элементов символов (предмет, формы, цвет, материал, величина, действие). 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Использование опорных схем  на всех видах занятий, различных видов деятельности (для выработки у ребёнка привыкания, понимания, что символ универсален)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Введение отрицаний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Сочетание символов, чтение их в цепочке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Самостоятельный поиск детьми изображений, символизирующих какое-либо качество. (Задача этого этапа - активный поиск изображений, умение аргументировать свой выбор)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Творческое самостоятельное создание детьми опорных схем</a:t>
            </a:r>
            <a:r>
              <a:rPr b="0" lang="ru-RU" sz="2800" spc="-1" strike="noStrike">
                <a:solidFill>
                  <a:srgbClr val="0099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 spd="slow" advTm="30000">
    <p:circl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2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9280" y="4759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МУ СПОСОБСТВУЕТ ТЕХНОЛОГИЯ МНЕМОТЕХНИКА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49280" y="14130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личивается круг знаний об окружающем мире;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является желание пересказывать тексты, придумывать интересные истории;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является интерес к заучиванию стихов и потешек;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варный запас выходит на более высокий уровень; 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 преодолевают робость, застенчивость, учатся свободно держаться перед аудиторией.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ется зрительная и слуховая память;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ется зрительное и слуховое внимание;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ствует развитию воображения, восприятия, кругозора, мышления;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стороннее развитие речи;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правильного звукопроизношения, знакомство с буквами;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ствует развитию у детей умения с помощью графической аналогии, а так же с помощью заместителей понимать и рассказывать знакомые сказки, стихи по мнемотаблице и коллажу.</a:t>
            </a:r>
            <a:endParaRPr b="0" lang="en-US" sz="17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 spd="med" advTm="24000">
    <p:checker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539640" y="1197000"/>
            <a:ext cx="6554880" cy="15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 spd="slow">
    <p:diamond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2050920" y="620280"/>
            <a:ext cx="670104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r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Century Gothic"/>
              </a:rPr>
              <a:t>К . Д. Ушинский писал:</a:t>
            </a:r>
            <a:endParaRPr b="0" lang="en-US" sz="3100" spc="-1" strike="noStrike">
              <a:solidFill>
                <a:srgbClr val="0f496f"/>
              </a:solidFill>
              <a:latin typeface="Century Gothic"/>
            </a:endParaRPr>
          </a:p>
          <a:p>
            <a:pPr algn="r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Century Gothic"/>
              </a:rPr>
              <a:t>«Учите ребёнка каким-нибудь неизвестным ему пяти словам- он будет долго и напрасно мучиться, но свяжите двадцать таких слов с картинками, и он усвоит на лету».</a:t>
            </a:r>
            <a:endParaRPr b="0" lang="en-US" sz="31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2" name="Picture 4" descr="https://ds04.infourok.ru/uploads/ex/0812/000d2771-dc8e7308/hello_html_7f630013.jpg"/>
          <p:cNvPicPr/>
          <p:nvPr/>
        </p:nvPicPr>
        <p:blipFill>
          <a:blip r:embed="rId1"/>
          <a:stretch/>
        </p:blipFill>
        <p:spPr>
          <a:xfrm>
            <a:off x="971640" y="3860640"/>
            <a:ext cx="43527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РЕЧИ ДЕТЕЙ ДОШКОЛЬНОГО ВОЗРАСТА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920" y="981000"/>
            <a:ext cx="864216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Бедность речи. Недостаточный словарный запас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дносложная, состоящая из простых предложений речь. Неспособность грамматически правильно построить предложение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тсутствие логического обоснования своих утверждений и выводов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лохая дикция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Употребление нелитературных слов и выражений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Бедная диалогическая речь: неспособность грамотно и доступно сформулировать вопрос, построить краткий или развёрнутый ответ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Неспособность построить монолог: например, сюжетный или описательный рассказ на предложенную тему, пересказ сказки или текста своими словами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тсутствие навыков культуры речи: неумение использовать интонации, регулировать громкость голоса и темп речи и т. д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 spd="slow" advTm="25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3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3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3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3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3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30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30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250920" y="259920"/>
            <a:ext cx="864216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немотехник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это система методов и приемов, обеспечивающих эффективное запоминание, сохранение и воспроизведение информации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Цель мнемотехник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- развитие памяти, мышления, воображения, внимания, т.е. тех психических процессов, которые тесно связаны с  речью и ее полноценным развитием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связной речи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зрительно – пространственных функций;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мелкой моторики рук при частичном или полном графическом воспроизведении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основных психических процессов – памяти, внимания, образного мышления и речи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36680" y="41076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я мнемотехника представляет собой: мнемотаблицы и коллажи, сенсорно-графические схемы, предметно-схематические модели , блоки-квадраты, а также схемы составления рассказов.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емотаблица – это схема, 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торой заложена определенная информация</a:t>
            </a: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Рисунок 1" descr=""/>
          <p:cNvPicPr/>
          <p:nvPr/>
        </p:nvPicPr>
        <p:blipFill>
          <a:blip r:embed="rId1"/>
          <a:stretch/>
        </p:blipFill>
        <p:spPr>
          <a:xfrm>
            <a:off x="4446720" y="2714760"/>
            <a:ext cx="3674880" cy="206820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3" descr=""/>
          <p:cNvPicPr/>
          <p:nvPr/>
        </p:nvPicPr>
        <p:blipFill>
          <a:blip r:embed="rId2"/>
          <a:stretch/>
        </p:blipFill>
        <p:spPr>
          <a:xfrm>
            <a:off x="5746680" y="4379760"/>
            <a:ext cx="2940120" cy="220536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4" descr=""/>
          <p:cNvPicPr/>
          <p:nvPr/>
        </p:nvPicPr>
        <p:blipFill>
          <a:blip r:embed="rId3"/>
          <a:stretch/>
        </p:blipFill>
        <p:spPr>
          <a:xfrm>
            <a:off x="1565280" y="3922560"/>
            <a:ext cx="3452760" cy="26542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2" descr=""/>
          <p:cNvPicPr/>
          <p:nvPr/>
        </p:nvPicPr>
        <p:blipFill>
          <a:blip r:embed="rId4"/>
          <a:stretch/>
        </p:blipFill>
        <p:spPr>
          <a:xfrm>
            <a:off x="457200" y="2913120"/>
            <a:ext cx="2879640" cy="16603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684360" y="404640"/>
            <a:ext cx="777528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немотаблице изображать можно практически все. Графическое или частично графическое изображение литературных персонажей, явлений природы, действий, признаков предмета и т.д.  Но изобразить нужно так, чтобы нарисованное в мнемотаблице было понятно детям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Рисунок 1" descr=""/>
          <p:cNvPicPr/>
          <p:nvPr/>
        </p:nvPicPr>
        <p:blipFill>
          <a:blip r:embed="rId1"/>
          <a:stretch/>
        </p:blipFill>
        <p:spPr>
          <a:xfrm>
            <a:off x="5219640" y="3235320"/>
            <a:ext cx="3051360" cy="295272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2" descr=""/>
          <p:cNvPicPr/>
          <p:nvPr/>
        </p:nvPicPr>
        <p:blipFill>
          <a:blip r:embed="rId2"/>
          <a:stretch/>
        </p:blipFill>
        <p:spPr>
          <a:xfrm>
            <a:off x="392040" y="3240000"/>
            <a:ext cx="380376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емы или мнемотаблицы служат своеобразным зрительным планом для детей для создания монологов и помогают детям выстраивать: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следовательность событий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южет рассказа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лексико-грамматическую наполняемость рассказа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 spd="med" advTm="15000">
    <p:newsflash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0440" y="1542600"/>
            <a:ext cx="684684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ЛЯ ОБОГАЩЕНИЯ СЛОВАРНОГО ЗАПАС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И ОБУЧЕНИИ СОСТАВЛЕНИЮ РАССКАЗОВ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И ЗАУЧИВАНИИ СТИХОВ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И ПЕРЕСКАЗАХ ХУДОЖЕСТВЕННОЙ ЛИТЕРАТУРЫ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И ОТГАДЫВАНИИ И ЗАГАДЫВАНИИ ЗАГАДОК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И ВОСПИТАНИИ КУЛЬТУРНО-ГИГИЕНИЧЕСКИХ НАВЫКОВ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ЛЯ ОЗНАКОМЛЕНИЯ ДЕТЕЙ С ОКРУЖАЮЩИМ МИРОМ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И ОБУЧЕНИИ СОСТАВУ ЧИСЛ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И ВОСПИТАНИИ НАВЫКОВ САМООБСЛУЖИВАНИ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И ОЗНАКОМЛЕНИИ С ОСНОВАМИ БЕЗОПАСНОСТИ ЖИЗНЕДЕЯТЕЛЬНОСТ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55640" y="549360"/>
            <a:ext cx="6912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ю  мнемотехнику с применение мнемотаблиц-схем можно использоват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ДЕТЕЙ МЛАДШЕГО И СРЕДНЕГО ДОШКОЛЬНОГО ВОЗРАСТА НЕОБХОДИМО ДАВАТЬ ЦВЕТНЫЕ МНЕМОТАБЛИЦЫ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ДЕТЕЙ СТАРШЕГО ВОЗРАСТА СХЕМЫ ЖЕЛАТЕЛЬНО РИСОВАТЬ В ОДНОМ ЦВЕТЕ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9" name="Рисунок 3" descr=""/>
          <p:cNvPicPr/>
          <p:nvPr/>
        </p:nvPicPr>
        <p:blipFill>
          <a:blip r:embed="rId1"/>
          <a:stretch/>
        </p:blipFill>
        <p:spPr>
          <a:xfrm>
            <a:off x="4554360" y="3141720"/>
            <a:ext cx="4283280" cy="32115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2" descr=""/>
          <p:cNvPicPr/>
          <p:nvPr/>
        </p:nvPicPr>
        <p:blipFill>
          <a:blip r:embed="rId2"/>
          <a:stretch/>
        </p:blipFill>
        <p:spPr>
          <a:xfrm>
            <a:off x="611280" y="2421000"/>
            <a:ext cx="4195800" cy="2965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07:00:28Z</dcterms:created>
  <dc:creator>Admin</dc:creator>
  <dc:description/>
  <dc:language>en-US</dc:language>
  <cp:lastModifiedBy>Lenovo</cp:lastModifiedBy>
  <dcterms:modified xsi:type="dcterms:W3CDTF">2022-01-11T08:33:31Z</dcterms:modified>
  <cp:revision>28</cp:revision>
  <dc:subject/>
  <dc:title>«Мнемотехника в развитии связной речи у дошкольников»</dc:title>
</cp:coreProperties>
</file>