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E839-B622-4C78-B3B2-32BD35C4E6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3875-C28B-4D97-BFE0-47EA874545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мотаблицы особенно эффективны при разучивании стихотворений: на каждое слово или маленькое словосочетание придумывается картинка (изображение); таким образом, все стихотворение зарисовывается схематически. После этого ребенок по памяти, используя графическое изображение, воспроизводит стихотворение целиком. На начальном этапе взрослый предлагает готовую план - схему, а по мере обучения ребенок также активно включается в процесс создания своей сх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38A2-9E18-40D4-9896-6AFAE27C40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 с мнемотаблицами лучше начинать со средней группы. Хотя уже в младшем возрасте используем простейшие схемы одевания, умывания, построения пирамидки и т. д.Вся работа строится, как мы уже говорили,  от простого к сложному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 (Алгоритм обучения дет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адо отметить, что дошкольники начинают испытывать некотор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ож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так как трудно следовать предложенному плану модели. Очень часто первые рассказы по моделям получаются очень схематичными. Чтобы этих сложностей было как можно меньше, в программное содержание каждой мнемотаблицы необходимо вводить задачи по активизации и обогащению словар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F7B1-8C52-494D-8360-37A6A36C1D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чем раньше будем учить детей рассказывать или пересказывать, используя метод мнемотехники, тем лучше подготовим их к школе, так как связная речь является важным показателем умственных способностей ребенка и готовности его к школьному обуч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ллельно с этой работой необходимы речевые игры, обязательны использование настольно-печатных игр, которые помогают детям научиться классифицировать предметы, развивать речь, зрительное восприятие, образное и логическое мышление, внимание, наблюдательность, интерес к окружающему миру, навыки самопровер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063F-52A7-4A19-83BB-6F0BFB905D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6970-27C5-4D6E-9865-D9526841E8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- образная, богатая синонимами, дополнениями и описаниями речь у детей дошкольного возраста - явление очень редкое. В речи детей существует множество проблем:……Поэтому педагогическое воздействие при развитии речи дошкольников – очень сложное дело. Необходимо научить детей связно, последовательно, грамматически правильно излагать свои мысли, рассказывать о различных событиях из окружающей жизни. Своим опытом работы по развитию связной речи поделится Ким Л. И.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У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DB0C-1BEC-4E63-B388-1B597A54A6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знаем, как трудно бывает ребёнку построить связный рассказ, даже просто пересказать знакомый текст. Во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 тут не только в уровне развития речи. Детей часто сбивают детали произведения, которые на их взгляд показались наиболее важными, и они могут повторить их неоднократно. Например: «А у волка были большие зубы», «У него была пасть страшная» и т. д., забывая о дальнейшем развитии событий. А ведь основное для рассказчика - передать сюжет произведения, быть понятым другим человеком, а не просто выразить чувства. Монологическая речь психологически более сложна, чем диалогическая: дети пропускают смысловые звенья, логическую последовательность повествования, делают ошибки в построении предложений. То есть, ребёнок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4EE2-51BC-480D-B840-18190C23E3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как наглядный материал у дошкольников усваивается лучше, использование мнемотаблиц на занятиях по развитию связной речи, позволяет детям эффективнее воспринимать и перерабатывать зрительную информацию. Применение мнемосхем, помогает ребёнку в обогащение связного высказы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CD3A-09FC-4AB1-ACDB-29E71050F7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помочь детям овладеть связной речью и облегчить этот процесс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тся прием мнемотехник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немотехнику в дошкольной педагогике называют по-разному: Воробьева Валентина Константиновна называет эту методи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нсорно-графическими схем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Ткаченко Татьяна Александровна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но-схематическими моделя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Глухов В. П.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локами-квадрат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Большева Т. В.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лаж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фименкова Л. Н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хемой составления рассказ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CEF3-2388-4C07-9790-3E2747F520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любая работа, мнемотехника строится от простого к сложному. Необходимо начинать работу с простейших мнемоквадратов, последовательно переходить к мнемодорожкам, и позже - к мнемотаблицам. , т. к. у детей остаются в памяти отдельные образы: елочка - зеленая, ягодка – красная. Позже - усложнять или заменять другой заставкой - изобразить персонажа в графическом виде. Например: лиса – состоит из оранжевых геометрических фигур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треугольника и круг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медведь – большой коричневый круг и т. д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ля детей старшего возраста схемы желательно рисовать в одном цвет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чтобы не вовлекать внимание на яркость символических изобра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7CE-4818-4991-A76F-8AC4333D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83D-978C-4E24-B108-558095B7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C46-9CE1-4348-AC22-EB1CA80B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31E-98B1-49AB-BC48-C977AAB3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7601-DE1B-4A02-AD9B-49B740F1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C4C6-7DC2-4625-9FEE-61C2D734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2968-22D2-4A8E-A4E9-F30D9E69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6500-EFBD-411D-A25F-FA5E0EBE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7885-5989-4B79-8291-96777A51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77D5-5234-472B-BE00-91A63048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9326-8571-4244-92A5-49ECC8DF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F5E-F68A-40C4-8561-3D7974B5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3335-BD7E-4B4D-93E3-86C1AB47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F6B6-CE6A-489C-86D6-179FB68C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0863-1ED7-463A-A79B-6AEDF152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6267-3741-4613-B63F-2CC89F57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5546-D0DE-4B48-912F-783AA637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4EED-1CC2-4640-9AD7-B6C6EC98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DDFD-E98F-4B45-9B85-45BE1C7E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C1CA-4896-422C-A888-F3E5DE06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62FA-FCE5-4927-9DDD-A3B7E97C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9A301-D9E4-447E-AAAC-1CDEEF97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4A8-CF69-456E-A595-BB3FC3F2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441E-1B4F-41E3-A9F1-27CAEA0B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F5855-97B7-484D-B5BF-4E64028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B243E-AFC4-4D94-A076-32B17F6D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C43E-9C6A-4420-AFB3-0E0E26B9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DDF7-8757-4024-8FCA-B6B6451F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1047-B1DA-416D-8D80-F143E75F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9DE7D-67FD-4149-8813-6AD3C05F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917F3-1EE7-4B84-BC02-F065D3D1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7FB68-319F-4489-8AA3-3876E6AF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6B8D8-113C-40EE-9881-FB3903CC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9D2-4DAA-43CD-AFCA-9CCF7E9B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17B98-8B9B-4DE8-8C06-BBB50E75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EE53D-A5CE-4C57-B04B-1F72C9D3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A97BF-C693-4215-8B9F-428AFB4C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118B-553F-4291-9F44-15EBB900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00AE7-E3DF-4FAD-BA4B-5C38545E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A7065-2EB0-40DD-B438-A56E127E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8AA5D-F613-4218-89C0-D099B7AD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D3EF8-3A7C-4B89-9019-2BBA178E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636AF-7390-47D8-8723-B6461BFB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88B5-A7A4-4AAB-93AF-D855A26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B79-76A0-4961-BD2D-D2117F2C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3CD-E829-43C8-9B08-E0C0CC92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FBE-581B-4865-8320-43E8BD01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EF0-63EE-43AA-AA61-8B8ACCE0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D31C-C2C0-484B-B706-0C58E887026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502D-39D4-4178-9D66-D8F8F275F13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7404-5E73-422A-8AAF-403E0780CD66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9045-9C57-4C31-94C1-70722CF8601C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8072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700"/>
            </a:br>
            <a:r>
              <a:rPr b="0" lang="ru-RU" sz="2200" spc="-1" strike="noStrike">
                <a:solidFill>
                  <a:srgbClr val="000099"/>
                </a:solidFill>
                <a:latin typeface="Calibri Light"/>
              </a:rPr>
              <a:t>МУНИЦИПАЛЬНОЕ АВТОНОМНОЕ ДОШКОЛЬНОЕ ОБРАЗОВАТЕЛЬНОЕ УЧРЕЖДЕНИЕ «ДЕТСКИЙ САД КОМБИНОРИВАННОГО ВИДА №26 «КОРАБЛИК»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3200" spc="-1" strike="noStrike">
                <a:solidFill>
                  <a:srgbClr val="0d2e46"/>
                </a:solidFill>
                <a:latin typeface="comic"/>
              </a:rPr>
              <a:t>«МНЕМОТЕХНИКА -</a:t>
            </a:r>
            <a:br>
              <a:rPr sz="3200"/>
            </a:br>
            <a:r>
              <a:rPr b="0" lang="ru-RU" sz="3200" spc="-1" strike="noStrike">
                <a:solidFill>
                  <a:srgbClr val="0d2e46"/>
                </a:solidFill>
                <a:latin typeface="comic"/>
              </a:rPr>
              <a:t>ТЕХНОЛОГИЯ РЕЧЕВОГО РАЗВИТИЯ ДЕТЕЙ СТАРШЕГО ДОШКОЛЬНОГО ВОЗРАСТА</a:t>
            </a:r>
            <a:r>
              <a:rPr b="0" lang="ru-RU" sz="4300" spc="-1" strike="noStrike">
                <a:solidFill>
                  <a:srgbClr val="0d2e46"/>
                </a:solidFill>
                <a:latin typeface="comic"/>
              </a:rPr>
              <a:t>»</a:t>
            </a:r>
            <a:endParaRPr b="0" lang="en-US" sz="4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6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f496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f496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0" lang="ru-RU" sz="1500" spc="-1" strike="noStrike">
                <a:solidFill>
                  <a:srgbClr val="000099"/>
                </a:solidFill>
                <a:latin typeface="Century Gothic"/>
              </a:rPr>
              <a:t>Воспитатель: КЛИМОВИЧ Н.В.</a:t>
            </a:r>
            <a:endParaRPr b="0" lang="en-US" sz="15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Century Gothic"/>
              </a:rPr>
              <a:t>Г. Бердск </a:t>
            </a:r>
            <a:endParaRPr b="0" lang="en-US" sz="15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819600" cy="2880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083120" cy="30780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" descr=""/>
          <p:cNvPicPr/>
          <p:nvPr/>
        </p:nvPicPr>
        <p:blipFill>
          <a:blip r:embed="rId3"/>
          <a:stretch/>
        </p:blipFill>
        <p:spPr>
          <a:xfrm>
            <a:off x="4678200" y="404640"/>
            <a:ext cx="3996000" cy="29973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"/>
          <p:cNvPicPr/>
          <p:nvPr/>
        </p:nvPicPr>
        <p:blipFill>
          <a:blip r:embed="rId4"/>
          <a:stretch/>
        </p:blipFill>
        <p:spPr>
          <a:xfrm>
            <a:off x="611280" y="3624120"/>
            <a:ext cx="3825720" cy="2870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33160" y="533160"/>
            <a:ext cx="7783560" cy="53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меры мнемотаблиц могут быть разными – все зависит от возраста детей и уровня их развития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ошкольников среднего возраста – таблицы на 6 клетках;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ошкольников старшего возраста – таблицы на 9-12 клетках;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одготовительного к школе возраста – таблицы на 12-15 клетках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 РАБОТЫ ПО ИСПОЛЬЗОВАНИЮ   МНЕМОТАБЛИЦ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528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4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этап: Рассматривание таблицы и разбор того, что на ней изображено. 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4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этап: Перекодирование информации, т.е. преобразование из абстрактных символов в образы понятные детям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4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этап: Пересказ сказки или рассказ, составление описательного рассказа по заданной теме, заучивание стихотворения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4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ладших группах с помощью воспитателя, в старших – дети должны уметь самостоятельно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ОВАТЕЛЬНОСТЬ РАБОТЫ С МНЕМОТАБЛИЦЕ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ведение элементов символов (предмет, формы, цвет, материал, величина, действие). 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Использование опорных схем  на всех видах занятий, различных видов деятельности (для выработки у ребёнка привыкания, понимания, что символ универсален)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ведение отрицаний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Сочетание символов, чтение их в цепочке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Самостоятельный поиск детьми изображений, символизирующих какое-либо качество. (Задача этого этапа - активный поиск изображений, умение аргументировать свой выбор)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Творческое самостоятельное создание детьми опорных схем</a:t>
            </a:r>
            <a:r>
              <a:rPr b="0" lang="ru-RU" sz="2800" spc="-1" strike="noStrike">
                <a:solidFill>
                  <a:srgbClr val="0099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 advTm="30000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9280" y="4759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МУ СПОСОБСТВУЕТ ТЕХНОЛОГИЯ МНЕМОТЕХНИКА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49280" y="14130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личивается круг знаний об окружающем мире;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яется желание пересказывать тексты, придумывать интересные истории;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яется интерес к заучиванию стихов и потешек;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рный запас выходит на более высокий уровень;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преодолевают робость, застенчивость, учатся свободно держаться перед аудиторией.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ется зрительная и слуховая память;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ется зрительное и слуховое внимание;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ствует развитию воображения, восприятия, кругозора, мышления;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стороннее развитие речи;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правильного звукопроизношения, знакомство с буквами;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ствует развитию у детей умения с помощью графической аналогии, а так же с помощью заместителей понимать и рассказывать знакомые сказки, стихи по мнемотаблице и коллажу.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med" advTm="24000">
    <p:checker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1197000"/>
            <a:ext cx="655488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>
    <p:diamond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050920" y="620280"/>
            <a:ext cx="67010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Century Gothic"/>
              </a:rPr>
              <a:t>К . Д. Ушинский писал:</a:t>
            </a:r>
            <a:endParaRPr b="0" lang="en-US" sz="31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Century Gothic"/>
              </a:rPr>
              <a:t>«Учите ребёнка каким-нибудь неизвестным ему пяти словам- он будет долго и напрасно мучиться, но свяжите двадцать таких слов с картинками, и он усвоит на лету».</a:t>
            </a:r>
            <a:endParaRPr b="0" lang="en-US" sz="31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2" name="Picture 4" descr="https://ds04.infourok.ru/uploads/ex/0812/000d2771-dc8e7308/hello_html_7f630013.jpg"/>
          <p:cNvPicPr/>
          <p:nvPr/>
        </p:nvPicPr>
        <p:blipFill>
          <a:blip r:embed="rId1"/>
          <a:stretch/>
        </p:blipFill>
        <p:spPr>
          <a:xfrm>
            <a:off x="971640" y="3860640"/>
            <a:ext cx="4352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РЕЧИ ДЕТЕЙ ДОШКОЛЬНОГО ВОЗРАСТА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Бедность речи. Недостаточный словарный запас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дносложная, состоящая из простых предложений речь. Неспособность грамматически правильно построить предложение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тсутствие логического обоснования своих утверждений и выводов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лохая дикция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Употребление нелитературных слов и выражений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Бедная диалогическая речь: неспособность грамотно и доступно сформулировать вопрос, построить краткий или развёрнутый ответ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еспособность построить монолог: например, сюжетный или описательный рассказ на предложенную тему, пересказ сказки или текста своими словами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тсутствие навыков культуры речи: неумение использовать интонации, регулировать громкость голоса и темп речи и т. д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 advTm="25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3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3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3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3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3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3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немотехни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система методов и приемов, обеспечивающих эффективное запоминание, сохранение и воспроизведение информации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 мнемотехни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- развитие памяти, мышления, воображения, внимания, т.е. тех психических процессов, которые тесно связаны с  речью и ее полноценным развитием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связной речи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зрительно – пространственных функций;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мелкой моторики рук при частичном или полном графическом воспроизведении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основных психических процессов – памяти, внимания, образного мышления и речи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36680" y="4107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мнемотехника представляет собой: мнемотаблицы и коллажи, сенсорно-графические схемы, предметно-схематические модели , блоки-квадраты, а также схемы составления рассказов.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мотаблица – это схема,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торой заложена определенная информация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4446720" y="2714760"/>
            <a:ext cx="3674880" cy="20682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3" descr=""/>
          <p:cNvPicPr/>
          <p:nvPr/>
        </p:nvPicPr>
        <p:blipFill>
          <a:blip r:embed="rId2"/>
          <a:stretch/>
        </p:blipFill>
        <p:spPr>
          <a:xfrm>
            <a:off x="5746680" y="4379760"/>
            <a:ext cx="2940120" cy="22053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"/>
          <p:cNvPicPr/>
          <p:nvPr/>
        </p:nvPicPr>
        <p:blipFill>
          <a:blip r:embed="rId3"/>
          <a:stretch/>
        </p:blipFill>
        <p:spPr>
          <a:xfrm>
            <a:off x="1565280" y="3922560"/>
            <a:ext cx="3452760" cy="2654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" descr=""/>
          <p:cNvPicPr/>
          <p:nvPr/>
        </p:nvPicPr>
        <p:blipFill>
          <a:blip r:embed="rId4"/>
          <a:stretch/>
        </p:blipFill>
        <p:spPr>
          <a:xfrm>
            <a:off x="457200" y="2913120"/>
            <a:ext cx="2879640" cy="1660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684360" y="404640"/>
            <a:ext cx="77752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немотаблице изображать можно практически все. Графическое или частично графическое изображение литературных персонажей, явлений природы, действий, признаков предмета и т.д.  Но изобразить нужно так, чтобы нарисованное в мнемотаблице было понятно детя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5219640" y="3235320"/>
            <a:ext cx="3051360" cy="29527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2" descr=""/>
          <p:cNvPicPr/>
          <p:nvPr/>
        </p:nvPicPr>
        <p:blipFill>
          <a:blip r:embed="rId2"/>
          <a:stretch/>
        </p:blipFill>
        <p:spPr>
          <a:xfrm>
            <a:off x="392040" y="3240000"/>
            <a:ext cx="3803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ы или мнемотаблицы служат своеобразным зрительным планом для детей для создания монологов и помогают детям выстраивать: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следовательность событий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южет рассказа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лексико-грамматическую наполняемость рассказа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med" advTm="15000">
    <p:newsflash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0440" y="1542600"/>
            <a:ext cx="684684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ЛЯ ОБОГАЩЕНИЯ СЛОВАРНОГО ЗАПАС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ОБУЧЕНИИ СОСТАВЛЕНИЮ РАССКАЗ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ЗАУЧИВАНИИ СТИХОВ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ПЕРЕСКАЗАХ ХУДОЖЕСТВЕННОЙ ЛИТЕРАТУР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ОТГАДЫВАНИИ И ЗАГАДЫВАНИИ ЗАГАДОК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ВОСПИТАНИИ КУЛЬТУРНО-ГИГИЕНИЧЕСКИХ НАВЫК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ЛЯ ОЗНАКОМЛЕНИЯ ДЕТЕЙ С ОКРУЖАЮЩИМ МИРО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ОБУЧЕНИИ СОСТАВУ ЧИСЛ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ВОСПИТАНИИ НАВЫКОВ САМООБСЛУЖИВА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ОЗНАКОМЛЕНИИ С ОСНОВАМИ БЕЗОПАСНОСТИ ЖИЗНЕДЕЯТЕЛЬНОСТ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55640" y="549360"/>
            <a:ext cx="6912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ю  мнемотехнику с применение мнемотаблиц-схем можно использова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ЕТЕЙ МЛАДШЕГО И СРЕДНЕГО ДОШКОЛЬНОГО ВОЗРАСТА НЕОБХОДИМО ДАВАТЬ ЦВЕТНЫЕ МНЕМОТАБЛИЦЫ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ЕТЕЙ СТАРШЕГО ВОЗРАСТА СХЕМЫ ЖЕЛАТЕЛЬНО РИСОВАТЬ В ОДНОМ ЦВЕТ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4554360" y="3141720"/>
            <a:ext cx="4283280" cy="32115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2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4195800" cy="2965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7:00:28Z</dcterms:created>
  <dc:creator>Admin</dc:creator>
  <dc:description/>
  <dc:language>en-US</dc:language>
  <cp:lastModifiedBy>Lenovo</cp:lastModifiedBy>
  <dcterms:modified xsi:type="dcterms:W3CDTF">2022-01-11T08:33:31Z</dcterms:modified>
  <cp:revision>28</cp:revision>
  <dc:subject/>
  <dc:title>«Мнемотехника в развитии связной речи у дошкольников»</dc:title>
</cp:coreProperties>
</file>