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39E-4F22-4739-B835-5056BC3D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32A-D5B7-4663-80BA-0FF04B2E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E7B-CF1E-45BE-A05C-4444CB49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FB1-AE16-4F1B-B1C5-A7115B50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0C3-2B28-44FD-8C3C-5F4EC081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533-7C83-4BB3-B295-D506B790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4A1-1401-4900-B466-565D0F57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265-6CB0-4A81-A034-9B37C821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4E2-9A7C-4470-AE35-652C2F56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23E-09A8-466F-B833-27DE73E5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F04-C038-487B-8D73-51CCF194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DB8-C50D-4CD3-BEBE-A0F5EDBF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4EE-ACD5-461E-BE7C-3970DC5D90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28800" y="-2250360"/>
            <a:ext cx="6929280" cy="90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с использованием электронных образовательных ресур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защитная порошковая провол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аботал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теории сва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юк Г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755640" y="1890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омендации по режимам сва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9640" y="1844640"/>
            <a:ext cx="4537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 и полярность тока – постоянный прямой поляр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C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омендуемые параметры св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к сварки 170-250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яжение на дуге 18-22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рость подачи проволоки 3,5-7,5 м/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лет проволоки 13-18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Coreshield DC+"/>
          <p:cNvPicPr/>
          <p:nvPr/>
        </p:nvPicPr>
        <p:blipFill>
          <a:blip r:embed="rId1"/>
          <a:stretch/>
        </p:blipFill>
        <p:spPr>
          <a:xfrm>
            <a:off x="5292720" y="405612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oreshield сварка"/>
          <p:cNvPicPr/>
          <p:nvPr/>
        </p:nvPicPr>
        <p:blipFill>
          <a:blip r:embed="rId2"/>
          <a:stretch/>
        </p:blipFill>
        <p:spPr>
          <a:xfrm>
            <a:off x="5292720" y="1563840"/>
            <a:ext cx="3203640" cy="24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1" descr=""/>
          <p:cNvPicPr/>
          <p:nvPr/>
        </p:nvPicPr>
        <p:blipFill>
          <a:blip r:embed="rId1"/>
          <a:stretch/>
        </p:blipFill>
        <p:spPr>
          <a:xfrm>
            <a:off x="426960" y="0"/>
            <a:ext cx="8504280" cy="6497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971640" y="1557360"/>
            <a:ext cx="3598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оло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опущена до угловых швов городских, пешеходных и автомобильных мостов «Обычного» исполнения до -4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059280" y="692280"/>
            <a:ext cx="316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доб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хема 5" descr=""/>
          <p:cNvPicPr/>
          <p:nvPr/>
        </p:nvPicPr>
        <p:blipFill>
          <a:blip r:embed="rId2"/>
          <a:stretch/>
        </p:blipFill>
        <p:spPr>
          <a:xfrm>
            <a:off x="579600" y="152280"/>
            <a:ext cx="8503920" cy="6497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4932360" y="1628640"/>
            <a:ext cx="3598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настоящее время проволока проходит процедуру аттестации на мостовые конструкции (только для угловых шв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915840" y="1125360"/>
            <a:ext cx="742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Ь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_AntiqueTitulGr"/>
              </a:rPr>
              <a:t>-      Какую основную задачу решает самозащитная провол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_AntiqueTitulG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_AntiqueTitulGr"/>
              </a:rPr>
              <a:t>В чем особенность использования технологии сварки этой проволо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_AntiqueTitulG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_AntiqueTitulGr"/>
              </a:rPr>
              <a:t>Приемущества и недостатки самозащитной провол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85840" y="243720"/>
            <a:ext cx="8358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урока: комбиниров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единая задача (образовательные, воспитательные, развивающие задачи урока) :   показать состав, разновидности по составу порошка, преимущества и недостатки применения самозащитных провол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виды применения проволок в различных местах исполь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стремление к изучению новых технологий и возможностей свар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ышление, умение выбирать расходники и отстаивать свою точку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остав порошковой проволо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2"/>
          <p:cNvGrpSpPr/>
          <p:nvPr/>
        </p:nvGrpSpPr>
        <p:grpSpPr>
          <a:xfrm>
            <a:off x="685800" y="2590920"/>
            <a:ext cx="2958840" cy="2741400"/>
            <a:chOff x="685800" y="2590920"/>
            <a:chExt cx="2958840" cy="2741400"/>
          </a:xfrm>
        </p:grpSpPr>
        <p:sp>
          <p:nvSpPr>
            <p:cNvPr id="46" name="Oval 3"/>
            <p:cNvSpPr/>
            <p:nvPr/>
          </p:nvSpPr>
          <p:spPr>
            <a:xfrm>
              <a:off x="685800" y="2590920"/>
              <a:ext cx="2958840" cy="27414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"/>
            <p:cNvSpPr/>
            <p:nvPr/>
          </p:nvSpPr>
          <p:spPr>
            <a:xfrm>
              <a:off x="1349280" y="3235320"/>
              <a:ext cx="1587600" cy="1442520"/>
            </a:xfrm>
            <a:prstGeom prst="ellipse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2124000" y="2609640"/>
              <a:ext cx="0" cy="603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Line 6"/>
          <p:cNvSpPr/>
          <p:nvPr/>
        </p:nvSpPr>
        <p:spPr>
          <a:xfrm flipV="1">
            <a:off x="3429000" y="2766600"/>
            <a:ext cx="1359000" cy="468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971800" y="4038480"/>
            <a:ext cx="180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79840" y="2619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101560" y="3657600"/>
            <a:ext cx="1959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лю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би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735360" y="4611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 flipH="1" flipV="1">
            <a:off x="1258920" y="2204640"/>
            <a:ext cx="861840" cy="701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795920" y="251460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ллическая л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500040" y="42876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24000" y="26028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новидности п. проволок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составу порошка - наполн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755640" y="2205000"/>
            <a:ext cx="80550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аллопорошкова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ллический порош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и самозащитн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олнитель карбонат кальция и кальций ф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тилов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ти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варки во всех положения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fast freezing sl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варки в нижн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fluid slag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60284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имущества и недостатки применения самозащитных провол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11280" y="1700280"/>
            <a:ext cx="7848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ительность наплавки в 3-5 раз выше чем у сварки покрытым элект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тличии от газозащитных проволок, не сдувается защита сварного ш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требуется использование газовых баллонов в отличии от газозащитных прово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желательны к применению в закрытых помещениях. Необходима защита органов 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буется переподготовка сварщ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тличии от газозащитных проволок, достаточно узкий рабочий диапазон режимов сва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защитная порошковая проволок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shield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AB Welding &amp; Cutting Products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США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изводится диаметр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,6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м (начинается производств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,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м для сварки в нижнем положен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назначена для сварки ответственных конструкций из сталей с пределом текучести до 420 МПа, работающих при температуре до -4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области приме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ительные констру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стовые констру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мкости для хранения нефтепроду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29894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ровой опыт применения проволоки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reshield 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24720" cy="34243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900000" y="4836960"/>
            <a:ext cx="799308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ание федерального суда в Сиэтле (сейсмоопасная з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0-ти этажный небоскреб в Нью-Йо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нтовый мост в Чарлстоне (штат Южная Коро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ена дворца спорта в Охаме (штат Небра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чал в порту г. Гам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ссийский опыт применения провол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аллоконструкции для строитель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сты, эстакад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езная доро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рфи и строительство кораб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летостро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етостро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енно промышленный комплекс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835280" y="260280"/>
            <a:ext cx="481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омендации по режимам сва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1276200" y="1724040"/>
            <a:ext cx="6591600" cy="3409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468360" y="5229360"/>
            <a:ext cx="842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арка выполняется углом назад с минимальными поперечными колебаниями, либо без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37P</dc:creator>
  <dc:description/>
  <dc:language>en-US</dc:language>
  <cp:lastModifiedBy>37P</cp:lastModifiedBy>
  <dcterms:modified xsi:type="dcterms:W3CDTF">2022-02-03T09:47:28Z</dcterms:modified>
  <cp:revision>92</cp:revision>
  <dc:subject/>
  <dc:title>Слайд 1</dc:title>
</cp:coreProperties>
</file>