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EC24-0294-4C19-822E-971333B2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9617-C3C8-41D5-8A23-CF5B893C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B11-0212-4E35-8B28-545C21BB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9ECC-B3E6-48B0-85F5-45AA6915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8A9-A757-42B1-AB9D-D7F950CD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5F7-2938-41FD-A864-6F1D83CB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1FF-F664-47A3-BF0D-276DCEEC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31A-3560-4A7A-B97A-9A1400A5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973-8249-416C-AAC9-CEC2BD06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3621-787E-45F9-A91D-6E0B8E63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212-1296-47D0-B3D8-0B0C9A1E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C74-7797-4881-B9FC-72607F14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C85B-76D6-4999-95C7-BCC70C5649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928800" y="-2250360"/>
            <a:ext cx="6929280" cy="90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с использованием электронных образовательных ресурс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защитная порошковая провол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работал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теории свар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юк Г.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94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755640" y="1890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омендации по режимам сва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39640" y="1844640"/>
            <a:ext cx="4537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 и полярность тока – постоянный прямой полярност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DC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комендуемые параметры сва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к сварки 170-250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яжение на дуге 18-22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орость подачи проволоки 3,5-7,5 м/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лет проволоки 13-18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Coreshield DC+"/>
          <p:cNvPicPr/>
          <p:nvPr/>
        </p:nvPicPr>
        <p:blipFill>
          <a:blip r:embed="rId1"/>
          <a:stretch/>
        </p:blipFill>
        <p:spPr>
          <a:xfrm>
            <a:off x="5292720" y="405612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oreshield сварка"/>
          <p:cNvPicPr/>
          <p:nvPr/>
        </p:nvPicPr>
        <p:blipFill>
          <a:blip r:embed="rId2"/>
          <a:stretch/>
        </p:blipFill>
        <p:spPr>
          <a:xfrm>
            <a:off x="5292720" y="1563840"/>
            <a:ext cx="3203640" cy="24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1" descr=""/>
          <p:cNvPicPr/>
          <p:nvPr/>
        </p:nvPicPr>
        <p:blipFill>
          <a:blip r:embed="rId1"/>
          <a:stretch/>
        </p:blipFill>
        <p:spPr>
          <a:xfrm>
            <a:off x="426960" y="0"/>
            <a:ext cx="8504280" cy="64976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971640" y="1557360"/>
            <a:ext cx="35989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олок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допущена до угловых швов городских, пешеходных и автомобильных мостов «Обычного» исполнения до -4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3059280" y="692280"/>
            <a:ext cx="316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доб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хема 5" descr=""/>
          <p:cNvPicPr/>
          <p:nvPr/>
        </p:nvPicPr>
        <p:blipFill>
          <a:blip r:embed="rId2"/>
          <a:stretch/>
        </p:blipFill>
        <p:spPr>
          <a:xfrm>
            <a:off x="579600" y="152280"/>
            <a:ext cx="8503920" cy="64976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4932360" y="1628640"/>
            <a:ext cx="35989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настоящее время проволока проходит процедуру аттестации на мостовые конструкции (только для угловых шв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915840" y="1125360"/>
            <a:ext cx="742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Ь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_AntiqueTitulGr"/>
              </a:rPr>
              <a:t>-      Какую основную задачу решает самозащитная провол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_AntiqueTitulG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_AntiqueTitulGr"/>
              </a:rPr>
              <a:t>В чем особенность использования технологии сварки этой проволо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_AntiqueTitulG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_AntiqueTitulGr"/>
              </a:rPr>
              <a:t>Приемущества и недостатки самозащитной провол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285840" y="243720"/>
            <a:ext cx="8358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урока: комбиниров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единая задача (образовательные, воспитательные, развивающие задачи урока) :   показать состав, разновидности по составу порошка, преимущества и недостатки применения самозащитных провол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виды применения проволок в различных местах использ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стремление к изучению новых технологий и возможностей свар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мышление, умение выбирать расходники и отстаивать свою точку з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остав порошковой проволо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Group 2"/>
          <p:cNvGrpSpPr/>
          <p:nvPr/>
        </p:nvGrpSpPr>
        <p:grpSpPr>
          <a:xfrm>
            <a:off x="685800" y="2590920"/>
            <a:ext cx="2958840" cy="2741400"/>
            <a:chOff x="685800" y="2590920"/>
            <a:chExt cx="2958840" cy="2741400"/>
          </a:xfrm>
        </p:grpSpPr>
        <p:sp>
          <p:nvSpPr>
            <p:cNvPr id="46" name="Oval 3"/>
            <p:cNvSpPr/>
            <p:nvPr/>
          </p:nvSpPr>
          <p:spPr>
            <a:xfrm>
              <a:off x="685800" y="2590920"/>
              <a:ext cx="2958840" cy="27414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"/>
            <p:cNvSpPr/>
            <p:nvPr/>
          </p:nvSpPr>
          <p:spPr>
            <a:xfrm>
              <a:off x="1349280" y="3235320"/>
              <a:ext cx="1587600" cy="1442520"/>
            </a:xfrm>
            <a:prstGeom prst="ellipse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2124000" y="2609640"/>
              <a:ext cx="0" cy="603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Line 6"/>
          <p:cNvSpPr/>
          <p:nvPr/>
        </p:nvSpPr>
        <p:spPr>
          <a:xfrm flipV="1">
            <a:off x="3429000" y="2766600"/>
            <a:ext cx="1359000" cy="468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"/>
          <p:cNvSpPr/>
          <p:nvPr/>
        </p:nvSpPr>
        <p:spPr>
          <a:xfrm>
            <a:off x="2971800" y="4038480"/>
            <a:ext cx="1803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4479840" y="2619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5101560" y="3657600"/>
            <a:ext cx="19591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лю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ис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би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735360" y="46116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 flipH="1" flipV="1">
            <a:off x="1258920" y="2204640"/>
            <a:ext cx="861840" cy="701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795920" y="251460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аллическая л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500040" y="42876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24000" y="26028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новидности п. проволок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составу порошка - наполни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755640" y="2205000"/>
            <a:ext cx="80550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аллопорошкова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аллический порош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е и самозащитны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олнитель карбонат кальция и кальций ф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утиловы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ти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сварки во всех положения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fast freezing sl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сварки в нижн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fluid slag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602840" cy="17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имущества и недостатки применения самозащитных провол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11280" y="1700280"/>
            <a:ext cx="7848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ительность наплавки в 3-5 раз выше чем у сварки покрытым элект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отличии от газозащитных проволок, не сдувается защита сварного ш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требуется использование газовых баллонов в отличии от газозащитных прово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желательны к применению в закрытых помещениях. Необходима защита органов дых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ребуется переподготовка сварщ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отличии от газозащитных проволок, достаточно узкий рабочий диапазон режимов сва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защитная порошковая проволока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shield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отк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SAB Welding &amp; Cutting Products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США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изводится диаметр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,6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м (начинается производств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,0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м для сварки в нижнем положени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назначена для сварки ответственных конструкций из сталей с пределом текучести до 420 МПа, работающих при температуре до -4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области примен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оительные констру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стовые констру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мкости для хранения нефтепроду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867280" y="1484280"/>
            <a:ext cx="29894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ировой опыт применения проволоки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reshield 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624720" cy="34243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900000" y="4836960"/>
            <a:ext cx="799308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ание федерального суда в Сиэтле (сейсмоопасная зо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0-ти этажный небоскреб в Нью-Йор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нтовый мост в Чарлстоне (штат Южная Корол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рена дворца спорта в Охаме (штат Небрас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чал в порту г. Гам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ссийский опыт применения проволо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аллоконструкции для строитель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сты, эстакад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лезная дорог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рфи и строительство кораб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молетостро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кетостро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енно промышленный комплекс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1835280" y="260280"/>
            <a:ext cx="4811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омендации по режимам сва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1"/>
          <a:stretch/>
        </p:blipFill>
        <p:spPr>
          <a:xfrm>
            <a:off x="1276200" y="1724040"/>
            <a:ext cx="6591600" cy="34099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468360" y="5229360"/>
            <a:ext cx="842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варка выполняется углом назад с минимальными поперечными колебаниями, либо без 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37P</dc:creator>
  <dc:description/>
  <dc:language>en-US</dc:language>
  <cp:lastModifiedBy>37P</cp:lastModifiedBy>
  <dcterms:modified xsi:type="dcterms:W3CDTF">2022-02-03T09:47:28Z</dcterms:modified>
  <cp:revision>92</cp:revision>
  <dc:subject/>
  <dc:title>Слайд 1</dc:title>
</cp:coreProperties>
</file>