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5600" y="933480"/>
            <a:ext cx="435312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69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25E6E-E4B7-497B-8F1F-87189C5C1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0F7F7F-D5D4-4F8E-9FB9-8A9D27261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A57853-3BFE-4203-B3C8-F4F4569E0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89570-EF71-4202-8C47-EFAF723E3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EE07D-3940-4EEF-8658-1B9F4E9ED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22A4-66B6-449A-A656-DE4F86892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97C8-AB2F-4BB4-B817-0DA2C77B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40A1-84BD-4CCD-B1EE-97C55DF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4D9B-7303-49E7-ABBE-788B73255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5B542-9F7C-41E5-B49F-052915AEB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A9685-F4F0-4954-8C0A-C6D8F5C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44D01-9409-4681-8C90-A208B9BD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A135C-7A4D-400C-8D34-384DA957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F3DBE-6568-451F-B358-7A1FE4FE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1D10-7E94-49DB-87B7-AD8EA4FA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6F592-D700-4279-9161-C2B685B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DF52-1F1E-4CA1-ACA2-565A58C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8514-6C14-40BC-9E2F-ADF0F2D0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ED4E7-C44A-49DB-8728-77AF28B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4889-81E8-4EE1-90D1-1C72FE1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505A6-0B64-405D-AF27-3AE1A35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2807D-FC59-4D69-A927-EB4E22289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7F6F-DADA-4C24-BC10-E6BF72641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177-E3A4-44A5-A7AA-5058FA1F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074-0ED4-44DF-B56E-F316F10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7EF-8AD9-493C-B980-D913423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E7D-4B10-46FB-A3C5-E4ABB8E2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8379-0D31-4965-A2AE-6B011D8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614-77F7-45DF-A0BB-943DAF2E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A90-17C0-48E0-BE2E-2D0FFDAC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7A70-02BE-4ACD-BE56-234A276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9CB-1F41-478C-B55A-9194D10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310-8FCD-4538-9F1A-BCF1E03C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F144-7D10-4595-B815-168C7E5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A67-5301-4643-8516-8A548A14B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EAB48-537E-4F6D-8E64-0C908D74F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367BD-1C06-4D2D-82BA-CE197A6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2F0BE-DBA6-4547-96BA-213DECF4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3F00-59B0-4B23-A08A-A0619ED8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9B136-3ED3-4395-8AAB-84C987BD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CC822-6B05-47BB-876E-1525FD74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A66D8-26B5-4275-A225-9E253925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4BB5C-64D1-4DBD-966C-A5077F3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22851-5B32-4A4B-AEDA-C4ECCAB8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29520-10CF-4257-8FFD-BE685DB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D9295-3478-4699-A423-A2E9DD64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21ACC-5D3E-4A14-97DA-FBA1E5B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08590-0E2C-454B-92A6-399B12429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87430-FE7B-476F-A692-ABC555F9CD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2EAA-03D2-4CF9-9E8C-83F4EF2E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9FC04-566F-4CDF-A0AE-1E091646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A7C0C-4754-49F3-AADD-847F456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04A45-6CCF-4F0B-AC71-827D05B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A9DD2-AB8C-4AA5-B937-D8046773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C9BD4-E32A-472C-A2D2-3DDA079E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D7AE1-B936-411C-989A-22BD14A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45E72-1C60-4F3B-8ECA-1BA426E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6EA45-6DCA-42B6-AACB-CF134CA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6088B-2109-422E-B9AB-8CB060E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ACAC4-46D6-44B2-95C6-132A8A2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D745-5F0B-4626-8858-280AE017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FCCBB-DD34-4197-82B0-D72D387AB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6231-07EA-4B00-B0F1-0F88A0DF0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309E-F126-4E68-8965-5030F94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A2DB-7351-46CD-A34C-15F7AA1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0835-0C98-487B-BC48-E4B47AB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03BB-2658-469C-80A7-097A8E95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494E-429D-4583-A0D3-E653D01C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28E8-43EE-490D-BB30-A139C2D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9BBA-9294-4490-B734-2DCA8741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CB45-6947-402E-BF82-7788176F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7D98-0CF6-4D8D-8303-2F509845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151A-C9AE-4996-87C8-E480CFF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0BF2-CB0B-4E41-8D87-C5A7FBC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27B2-3808-406D-B7D6-131C632E1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91E65-2358-4EDD-9B43-FFB3C5012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C7CAC-8562-4B74-A03F-FD27A09E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681A5-E055-4748-A974-941D21E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83B60-E32C-4233-9124-D51ABF7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5219C-838C-4A70-9FBC-C93EA49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0C313-BA53-4140-A1A1-A1233E7D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7857F-B355-4E03-BB6F-F43D9A4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7EDE-7BFE-485A-B7D5-7D1B0D1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8CBD0-F689-41FD-80DB-58A0FAE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FD160-2674-438A-88FD-755AF68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37E07-6E70-44B7-BCDD-27716A0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FB656-C428-42ED-8864-199B85C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84C73-2AED-4347-BAB7-51B534934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34692-FD49-4ED5-A822-1235288C0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4533C-BB58-40CD-A1F7-43DF4A6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171514-23C9-414B-8253-D4EF669C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9A17C-4B10-411E-B0BE-B8E2990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4D387-7E30-40F0-BA16-CB668281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DC3E-3F9D-4C5A-A79C-38071A8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2A8E4D-9A16-4B29-B34B-A373BE73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7C480-56CC-4400-AD86-93EC994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1B60E-53E8-487D-806E-45F2D884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B031F-5A19-4D2A-BE0A-0A2B71A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42850-26D5-4136-BECA-E2EA919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AFD05-1826-49D7-BBCC-10389B4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A03767-8A87-46C2-A40D-A86C56C08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7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FD559D-55A3-420C-9646-72BE65E87D8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E4299A-6D6E-49D0-A02E-7DA9F4EE0CE9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920" y="6354720"/>
            <a:ext cx="151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53B48B-7A1C-40A9-9AFB-C8B993AD6594}" type="slidenum">
              <a: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19DCB3-CBD8-4595-A76B-5F04EA729708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215B68-86F6-4FDB-8626-C2BD171CA5AB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9C945E-323A-4D60-A908-ADE6606E4CAC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CE561B-C5B4-4629-A486-CDBB6F06FBD9}" type="slidenum">
              <a: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A23D54-266D-46A5-8DDA-C8F661A5BF3B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3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1500120" y="1785960"/>
            <a:ext cx="58579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Союзные и бессоюзные предлож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1219320" y="512460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28760" y="4500720"/>
            <a:ext cx="82296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756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Мне казалось, что небо стало ещё темне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642960" y="5716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Лес был позади, и перед нами развернулась широкая дол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42960" y="214308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.В горизонт вонзался острый клинок автострады, по ней проносились маши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4"/>
          <p:cNvSpPr/>
          <p:nvPr/>
        </p:nvSpPr>
        <p:spPr>
          <a:xfrm>
            <a:off x="1143000" y="121428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>
            <a:off x="2214720" y="1214280"/>
            <a:ext cx="2714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6"/>
          <p:cNvSpPr/>
          <p:nvPr/>
        </p:nvSpPr>
        <p:spPr>
          <a:xfrm>
            <a:off x="2214720" y="1357200"/>
            <a:ext cx="2714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714240" y="2000160"/>
            <a:ext cx="3143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714240" y="2143080"/>
            <a:ext cx="3143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>
            <a:off x="6286680" y="2000160"/>
            <a:ext cx="1928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>
            <a:off x="3857760" y="27860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>
            <a:off x="3857760" y="292896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785880" y="3429000"/>
            <a:ext cx="442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3929040" y="4214880"/>
            <a:ext cx="2214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714240" y="4214880"/>
            <a:ext cx="3000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714240" y="4429080"/>
            <a:ext cx="3000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>
            <a:off x="2428920" y="514368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2428920" y="528624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5643720" y="5143680"/>
            <a:ext cx="1143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7000920" y="514368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>
            <a:off x="7000920" y="528624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1143000" y="5857920"/>
            <a:ext cx="271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1143000" y="6000840"/>
            <a:ext cx="271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23"/>
          <p:cNvSpPr/>
          <p:nvPr/>
        </p:nvSpPr>
        <p:spPr>
          <a:xfrm>
            <a:off x="5143680" y="785880"/>
            <a:ext cx="428400" cy="428400"/>
          </a:xfrm>
          <a:prstGeom prst="ellipse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24"/>
          <p:cNvSpPr/>
          <p:nvPr/>
        </p:nvSpPr>
        <p:spPr>
          <a:xfrm>
            <a:off x="4643280" y="4714920"/>
            <a:ext cx="1000440" cy="428760"/>
          </a:xfrm>
          <a:prstGeom prst="ellipse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-12600" y="-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214200"/>
            <a:ext cx="76867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лнечные зайчики сидят мирно, подмигивает ленивая паутинка, и листочки на березк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шелохнутся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"/>
          <p:cNvSpPr/>
          <p:nvPr/>
        </p:nvSpPr>
        <p:spPr>
          <a:xfrm>
            <a:off x="857160" y="1071720"/>
            <a:ext cx="6143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571680" y="1928880"/>
            <a:ext cx="192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571680" y="2071800"/>
            <a:ext cx="192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571680" y="2857680"/>
            <a:ext cx="442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571680" y="3000240"/>
            <a:ext cx="4429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571680" y="3857760"/>
            <a:ext cx="3143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4714920" y="3786120"/>
            <a:ext cx="3143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857160" y="5715000"/>
            <a:ext cx="4929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857160" y="5929200"/>
            <a:ext cx="4929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000680" y="3214800"/>
            <a:ext cx="714240" cy="571320"/>
          </a:xfrm>
          <a:prstGeom prst="ellipse">
            <a:avLst/>
          </a:prstGeom>
          <a:noFill/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предложение со смешанными видами связ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457200" y="214200"/>
            <a:ext cx="782964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ереулок был весь в садах], и [у заборов росли липы, бросавшие теперь, при луне, широкую тень], (так что заборы и ворота на одной стороне совершенно утопали в потёмках) (А. Чехов)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360360" y="539640"/>
            <a:ext cx="7245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дарил гром, сверкнула молния, и скоро послышался шум дож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93600" y="1619280"/>
            <a:ext cx="8907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ходе первой экспедиции следы древнего города найти не удалос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 археологи продолжили исследования, которые заняли несколько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210960" y="3060720"/>
            <a:ext cx="842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ивотные, которые родились в зоопарке, не приспособлены к жизни в дикой при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57:36Z</dcterms:created>
  <dc:creator>Анастасия</dc:creator>
  <dc:description/>
  <dc:language>en-US</dc:language>
  <cp:lastModifiedBy>Asus</cp:lastModifiedBy>
  <dcterms:modified xsi:type="dcterms:W3CDTF">2021-10-06T13:01:09Z</dcterms:modified>
  <cp:revision>13</cp:revision>
  <dc:subject/>
  <dc:title>Союзные и бессоюзные предложения</dc:title>
</cp:coreProperties>
</file>