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5600" y="933480"/>
            <a:ext cx="4353120" cy="33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60692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D01A20-E197-4E50-BB5D-30EFFE0129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4EC196-320B-4A03-8258-ADC2114769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42DA04-D42F-4B57-BFE3-4FE940E567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28F823-4949-4305-ACC8-98E5541546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0E8B01-48CF-403C-B376-2A182F70D3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AAF44-E090-4AA1-A54F-DB9FB4052C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0A1C0-F4A1-4C0F-906C-1DC0E5C3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75440-2E04-4BBD-BA85-22F28CCB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B7AB6-EA14-4C40-8790-55E797FE12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A6795-CDE5-4726-A894-B28E8A571B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EC907-E5F0-44F9-BE4C-59C68E88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D6EC5-4270-4115-AF2A-EECA4062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F4520-DD21-477C-B00F-1E4B80B9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E493B-FBE2-41B8-9459-D0632802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328EA-1D1E-4ADB-B0E4-E3CAD80F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6A443-3BA2-48D5-93BA-38419576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A8D5E-6B5F-4276-AB8E-5D8F2ED8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0B63B-34B8-43A1-AD37-8D31CB7B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625AA-BDB3-4353-AF75-3E78367A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C8ADA-51C6-4353-AE18-772D4666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CAC2D-9C65-457C-83A1-5878DFB1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3DDEC-EFB4-4D7A-AC57-80F3BB29D9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49EB-B793-4765-AB53-4DE46CA490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B998-BA80-4982-894E-4FC3454C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0030-8792-4B7D-8DD1-D1C9CA88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C659-7E96-415F-AC52-BF6AA52E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A0CA-62C1-46C5-A314-4630859D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561ED-E0E9-422D-8B90-E84C3E47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CA7B-AF40-4A7A-9CA0-5264370C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5F73-6CB7-4C26-B7DE-A4B40573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0C6D-2C78-4045-9000-9D2551F9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BE60-50DD-409C-9754-7851AE21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28B1-860A-4AF3-9AA9-BD8F4BA9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C2D6-6B81-45BC-A6DD-C9A23653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8D16-7641-433D-8EE6-B93F4EEB48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22102-EB28-4AC5-A28A-CAA6F8A707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4B2E8-A9CA-4D62-9E34-75530B4B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F5099-327E-49F6-AE73-025844DA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13143-2848-4906-B05E-7D58AD4B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8EC90-C8BC-4BC1-9E71-627ED27E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173AE-2449-47C5-A238-CFA8799E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35938D-6757-4C6F-8B82-F630755C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E3054-C846-492B-BC9C-4FE0100A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81B7AF-6AB2-439C-881C-0D9D1FB7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05492-CB4F-416D-9931-7CB57E61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A5C20-CB65-4504-A5C4-596F2781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3F070-DAA5-4170-9C23-2E94E482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01FD0-4984-4909-A544-27E3EC093F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193EF5-1DD5-4464-AB36-E28C448362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8ECF6-7C73-44FC-AF90-E0AF7E3D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A3C864-CB38-431F-8047-256B6F60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75CABB-ADF6-447D-ADFF-C18B6C57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8C8E61-343C-48CC-AE51-07C0D5AF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6AF87F-1C5A-48B7-A497-5973E165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D991B7-D721-4C7F-9FF5-9599F38E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760EEE-BA93-43EA-87BA-008BA922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7591DC-8B1F-4893-A3A2-2538B52C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A67A6B-8472-4BF3-829D-5586B07F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9D70D4-4514-45A8-A733-7E8C2C8D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F6742C-62DD-4E7D-BC37-62000DAE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21D19-EBAA-4841-9F00-A42A4921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B61C85-C8DE-4B97-A53E-AB2AF096AA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E5AA9-97A9-4608-A07E-ED26020A25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B7FA9-F085-4F59-A8CD-CF492990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0E8AA-3AE0-4377-BFEA-E2A8961D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33447-D6BD-419B-BDFD-D75191F5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F8EAA-240F-4887-AE7D-872FFFF8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F5582-D342-4F1E-AFF7-AD376D8A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3DE44-5A19-4DBC-A47E-355AA782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E03C3-A21B-48FF-B5BD-399050F1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04BA3-1867-4F50-BF85-B663F43A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9F3BA-1167-49AF-88C6-C2D7E47E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FEA91-2BE7-46A7-AC10-74185065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BEF86-766F-4175-8F78-9B8A1286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ED249-7BF2-4658-A326-7814398C77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FA00AA-C961-4E04-99BA-9523D55DC6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5D44A-89CD-4CE6-B223-64B5DCD2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14704E-7D0B-40A9-9887-BB6B463F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36CC24-4034-4D94-87DD-D0115C9E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057431-FF98-463E-8E63-396D41A6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8D268C-B4C6-477A-9EBF-8F88B9C0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FC9682-C6DA-4410-8F35-B7F28FAD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DFD27-994E-4E34-B24A-D9915194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5D0053-8B12-4800-98D3-0748539B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ABA067-7384-4740-A2DA-F146E5BF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E3641B-E888-479C-921F-BB7DC23A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B0910F-1477-4F95-8E6C-B21F8221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C5D84B-4CFB-4CBB-A348-F0FE74EE91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B2C6EC-C58D-4F50-916B-512904FB50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C3E5AA-BEA1-4FEB-AA56-A084B9C6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01A45E-B876-4401-8975-E2E756B2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E26BB0-652D-4167-B866-CDA02E86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BAA8B5-BAF9-44A0-94AA-176337FC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4EF54-ADA2-4BBB-8D48-E70529EB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13B774-FD45-4309-964C-F460BD53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AE8ED9-D30A-4292-95BF-9ACA0EC5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50BA73-3F27-44B0-AC6A-8E40F1EF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7A3A42-1699-45A1-994B-A6071630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307349-C363-440F-8D06-1DDC2D2B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D7AB0C-7E71-4F3D-871D-08AAB56F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862A91-B5E9-4D46-9DF0-4E81355E64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356520"/>
            <a:ext cx="22874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2898720" y="6356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12360" y="6356520"/>
            <a:ext cx="19796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EEE0C2-CE64-4664-8D5E-4A6EF677FAC9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6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457200" y="114300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AutoShape 8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6400800" y="6354720"/>
            <a:ext cx="228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1216080" y="6354720"/>
            <a:ext cx="121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400" spc="-1" strike="noStrike">
                <a:solidFill>
                  <a:srgbClr val="464653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801C882-77C4-4085-8EB6-5013675204EF}" type="slidenum">
              <a:rPr b="0" lang="ru-RU" sz="1400" spc="-1" strike="noStrike">
                <a:solidFill>
                  <a:srgbClr val="464653"/>
                </a:solidFill>
                <a:latin typeface="Calibri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400800" y="6354720"/>
            <a:ext cx="228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1069920" y="6354720"/>
            <a:ext cx="151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dde9ec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C42FF17-9AD6-4581-A54C-AEF8141B2D05}" type="slidenum">
              <a:rPr b="0" lang="ru-RU" sz="1400" spc="-1" strike="noStrike">
                <a:solidFill>
                  <a:srgbClr val="dde9ec"/>
                </a:solidFill>
                <a:latin typeface="Calibri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1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"/>
          <p:cNvSpPr/>
          <p:nvPr/>
        </p:nvSpPr>
        <p:spPr>
          <a:xfrm>
            <a:off x="457200" y="114300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8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464653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58B9DEA-17DB-40D6-86F3-4C96BCF49CA0}" type="slidenum">
              <a:rPr b="0" lang="ru-RU" sz="1400" spc="-1" strike="noStrike">
                <a:solidFill>
                  <a:srgbClr val="464653"/>
                </a:solidFill>
                <a:latin typeface="Calibri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1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2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0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464653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2FC5177-855F-4764-9540-4FC5C304DD24}" type="slidenum">
              <a:rPr b="0" lang="ru-RU" sz="1400" spc="-1" strike="noStrike">
                <a:solidFill>
                  <a:srgbClr val="464653"/>
                </a:solidFill>
                <a:latin typeface="Calibri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1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2"/>
          <p:cNvSpPr/>
          <p:nvPr/>
        </p:nvSpPr>
        <p:spPr>
          <a:xfrm>
            <a:off x="6178680" y="306360"/>
            <a:ext cx="144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2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464653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5389230-A418-4B77-B12C-18CEB94F38E9}" type="slidenum">
              <a:rPr b="0" lang="ru-RU" sz="1400" spc="-1" strike="noStrike">
                <a:solidFill>
                  <a:srgbClr val="464653"/>
                </a:solidFill>
                <a:latin typeface="Calibri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Line 1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2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dde9ec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1EC2058-0C2C-4C92-837F-C2DAB5D11469}" type="slidenum">
              <a:rPr b="0" lang="ru-RU" sz="1400" spc="-1" strike="noStrike">
                <a:solidFill>
                  <a:srgbClr val="dde9ec"/>
                </a:solidFill>
                <a:latin typeface="Calibri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Line 1"/>
          <p:cNvSpPr/>
          <p:nvPr/>
        </p:nvSpPr>
        <p:spPr>
          <a:xfrm>
            <a:off x="457200" y="6353280"/>
            <a:ext cx="8229600" cy="14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2"/>
          <p:cNvSpPr/>
          <p:nvPr/>
        </p:nvSpPr>
        <p:spPr>
          <a:xfrm rot="5400000">
            <a:off x="4204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3"/>
          <p:cNvSpPr/>
          <p:nvPr/>
        </p:nvSpPr>
        <p:spPr>
          <a:xfrm>
            <a:off x="6556320" y="276120"/>
            <a:ext cx="180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81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5"/>
          </p:nvPr>
        </p:nvSpPr>
        <p:spPr>
          <a:xfrm>
            <a:off x="6400800" y="6356160"/>
            <a:ext cx="2287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6"/>
          </p:nvPr>
        </p:nvSpPr>
        <p:spPr>
          <a:xfrm>
            <a:off x="61236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464653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415C0EF-E4E6-47A1-B8D0-B4B70FDFF6F9}" type="slidenum">
              <a:rPr b="0" lang="ru-RU" sz="1400" spc="-1" strike="noStrike">
                <a:solidFill>
                  <a:srgbClr val="464653"/>
                </a:solidFill>
                <a:latin typeface="Calibri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3"/>
          <a:stretch/>
        </p:blipFill>
        <p:spPr>
          <a:xfrm>
            <a:off x="6770520" y="4381560"/>
            <a:ext cx="2373480" cy="23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1500120" y="1785960"/>
            <a:ext cx="585792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Союзные и бессоюзные предложен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2"/>
          <p:cNvSpPr/>
          <p:nvPr/>
        </p:nvSpPr>
        <p:spPr>
          <a:xfrm>
            <a:off x="1219320" y="512460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428760" y="4500720"/>
            <a:ext cx="822960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4756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.Мне казалось, что небо стало ещё темне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642960" y="57168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.Лес был позади, и перед нами развернулась широкая долин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642960" y="2143080"/>
            <a:ext cx="8072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.В горизонт вонзался острый клинок автострады, по ней проносились машин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4"/>
          <p:cNvSpPr/>
          <p:nvPr/>
        </p:nvSpPr>
        <p:spPr>
          <a:xfrm>
            <a:off x="1143000" y="1214280"/>
            <a:ext cx="928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5"/>
          <p:cNvSpPr/>
          <p:nvPr/>
        </p:nvSpPr>
        <p:spPr>
          <a:xfrm>
            <a:off x="2214720" y="1214280"/>
            <a:ext cx="2714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6"/>
          <p:cNvSpPr/>
          <p:nvPr/>
        </p:nvSpPr>
        <p:spPr>
          <a:xfrm>
            <a:off x="2214720" y="1357200"/>
            <a:ext cx="2714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7"/>
          <p:cNvSpPr/>
          <p:nvPr/>
        </p:nvSpPr>
        <p:spPr>
          <a:xfrm>
            <a:off x="714240" y="2000160"/>
            <a:ext cx="31435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8"/>
          <p:cNvSpPr/>
          <p:nvPr/>
        </p:nvSpPr>
        <p:spPr>
          <a:xfrm>
            <a:off x="714240" y="2143080"/>
            <a:ext cx="31435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9"/>
          <p:cNvSpPr/>
          <p:nvPr/>
        </p:nvSpPr>
        <p:spPr>
          <a:xfrm>
            <a:off x="6286680" y="2000160"/>
            <a:ext cx="19285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10"/>
          <p:cNvSpPr/>
          <p:nvPr/>
        </p:nvSpPr>
        <p:spPr>
          <a:xfrm>
            <a:off x="3857760" y="2786040"/>
            <a:ext cx="207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11"/>
          <p:cNvSpPr/>
          <p:nvPr/>
        </p:nvSpPr>
        <p:spPr>
          <a:xfrm>
            <a:off x="3857760" y="2928960"/>
            <a:ext cx="207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12"/>
          <p:cNvSpPr/>
          <p:nvPr/>
        </p:nvSpPr>
        <p:spPr>
          <a:xfrm>
            <a:off x="785880" y="3429000"/>
            <a:ext cx="4429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13"/>
          <p:cNvSpPr/>
          <p:nvPr/>
        </p:nvSpPr>
        <p:spPr>
          <a:xfrm>
            <a:off x="3929040" y="4214880"/>
            <a:ext cx="2214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14"/>
          <p:cNvSpPr/>
          <p:nvPr/>
        </p:nvSpPr>
        <p:spPr>
          <a:xfrm>
            <a:off x="714240" y="4214880"/>
            <a:ext cx="3000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15"/>
          <p:cNvSpPr/>
          <p:nvPr/>
        </p:nvSpPr>
        <p:spPr>
          <a:xfrm>
            <a:off x="714240" y="4429080"/>
            <a:ext cx="30006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16"/>
          <p:cNvSpPr/>
          <p:nvPr/>
        </p:nvSpPr>
        <p:spPr>
          <a:xfrm>
            <a:off x="2428920" y="5143680"/>
            <a:ext cx="207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17"/>
          <p:cNvSpPr/>
          <p:nvPr/>
        </p:nvSpPr>
        <p:spPr>
          <a:xfrm>
            <a:off x="2428920" y="5286240"/>
            <a:ext cx="2071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18"/>
          <p:cNvSpPr/>
          <p:nvPr/>
        </p:nvSpPr>
        <p:spPr>
          <a:xfrm>
            <a:off x="5643720" y="5143680"/>
            <a:ext cx="1143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19"/>
          <p:cNvSpPr/>
          <p:nvPr/>
        </p:nvSpPr>
        <p:spPr>
          <a:xfrm>
            <a:off x="7000920" y="5143680"/>
            <a:ext cx="1285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20"/>
          <p:cNvSpPr/>
          <p:nvPr/>
        </p:nvSpPr>
        <p:spPr>
          <a:xfrm>
            <a:off x="7000920" y="5286240"/>
            <a:ext cx="1285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21"/>
          <p:cNvSpPr/>
          <p:nvPr/>
        </p:nvSpPr>
        <p:spPr>
          <a:xfrm>
            <a:off x="1143000" y="5857920"/>
            <a:ext cx="2714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22"/>
          <p:cNvSpPr/>
          <p:nvPr/>
        </p:nvSpPr>
        <p:spPr>
          <a:xfrm>
            <a:off x="1143000" y="6000840"/>
            <a:ext cx="2714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23"/>
          <p:cNvSpPr/>
          <p:nvPr/>
        </p:nvSpPr>
        <p:spPr>
          <a:xfrm>
            <a:off x="5143680" y="785880"/>
            <a:ext cx="428400" cy="428400"/>
          </a:xfrm>
          <a:prstGeom prst="ellipse">
            <a:avLst/>
          </a:prstGeom>
          <a:noFill/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24"/>
          <p:cNvSpPr/>
          <p:nvPr/>
        </p:nvSpPr>
        <p:spPr>
          <a:xfrm>
            <a:off x="4643280" y="4714920"/>
            <a:ext cx="1000440" cy="428760"/>
          </a:xfrm>
          <a:prstGeom prst="ellipse">
            <a:avLst/>
          </a:prstGeom>
          <a:noFill/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"/>
          <p:cNvPicPr/>
          <p:nvPr/>
        </p:nvPicPr>
        <p:blipFill>
          <a:blip r:embed="rId1"/>
          <a:stretch/>
        </p:blipFill>
        <p:spPr>
          <a:xfrm>
            <a:off x="-12600" y="-7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" descr=""/>
          <p:cNvPicPr/>
          <p:nvPr/>
        </p:nvPicPr>
        <p:blipFill>
          <a:blip r:embed="rId1"/>
          <a:stretch/>
        </p:blipFill>
        <p:spPr>
          <a:xfrm>
            <a:off x="-12600" y="-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457200" y="214200"/>
            <a:ext cx="768672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олнечные зайчики сидят мирно, подмигивает ленивая паутинка, и листочки на березке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е шелохнутся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"/>
          <p:cNvSpPr/>
          <p:nvPr/>
        </p:nvSpPr>
        <p:spPr>
          <a:xfrm>
            <a:off x="857160" y="1071720"/>
            <a:ext cx="6143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571680" y="1928880"/>
            <a:ext cx="1928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4"/>
          <p:cNvSpPr/>
          <p:nvPr/>
        </p:nvSpPr>
        <p:spPr>
          <a:xfrm>
            <a:off x="571680" y="2071800"/>
            <a:ext cx="1928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571680" y="2857680"/>
            <a:ext cx="4429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571680" y="3000240"/>
            <a:ext cx="4429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7"/>
          <p:cNvSpPr/>
          <p:nvPr/>
        </p:nvSpPr>
        <p:spPr>
          <a:xfrm>
            <a:off x="571680" y="3857760"/>
            <a:ext cx="3143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8"/>
          <p:cNvSpPr/>
          <p:nvPr/>
        </p:nvSpPr>
        <p:spPr>
          <a:xfrm>
            <a:off x="4714920" y="3786120"/>
            <a:ext cx="31431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9"/>
          <p:cNvSpPr/>
          <p:nvPr/>
        </p:nvSpPr>
        <p:spPr>
          <a:xfrm>
            <a:off x="857160" y="5715000"/>
            <a:ext cx="4929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857160" y="5929200"/>
            <a:ext cx="49291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Oval 11"/>
          <p:cNvSpPr/>
          <p:nvPr/>
        </p:nvSpPr>
        <p:spPr>
          <a:xfrm>
            <a:off x="4000680" y="3214800"/>
            <a:ext cx="714240" cy="571320"/>
          </a:xfrm>
          <a:prstGeom prst="ellipse">
            <a:avLst/>
          </a:prstGeom>
          <a:noFill/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 u="sng">
                <a:solidFill>
                  <a:srgbClr val="000000"/>
                </a:solidFill>
                <a:uFillTx/>
                <a:latin typeface="Times New Roman"/>
                <a:ea typeface="Lucida Sans Unicode"/>
              </a:rPr>
              <a:t>предложение со смешанными видами связ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457200" y="214200"/>
            <a:ext cx="782964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ереулок был весь в садах], и [у заборов росли липы, бросавшие теперь, при луне, широкую тень], (так что заборы и ворота на одной стороне совершенно утопали в потёмках) (А. Чехов)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360360" y="539640"/>
            <a:ext cx="7245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Ударил гром, сверкнула молния, и скоро послышался шум дожд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93600" y="1619280"/>
            <a:ext cx="8907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 ходе первой экспедиции следы древнего города найти не удалос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 археологи продолжили исследования, которые заняли несколько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210960" y="3060720"/>
            <a:ext cx="8428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Животные, которые родились в зоопарке, не приспособлены к жизни в дикой приро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57:36Z</dcterms:created>
  <dc:creator>Анастасия</dc:creator>
  <dc:description/>
  <dc:language>en-US</dc:language>
  <cp:lastModifiedBy>Asus</cp:lastModifiedBy>
  <dcterms:modified xsi:type="dcterms:W3CDTF">2021-10-06T13:01:09Z</dcterms:modified>
  <cp:revision>13</cp:revision>
  <dc:subject/>
  <dc:title>Союзные и бессоюзные предложения</dc:title>
</cp:coreProperties>
</file>