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3.wmf" ContentType="image/x-wmf"/>
  <Override PartName="/ppt/media/image28.jpeg" ContentType="image/jpeg"/>
  <Override PartName="/ppt/media/image19.png" ContentType="image/png"/>
  <Override PartName="/ppt/media/image20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01F-162C-459B-B003-2F9C7179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34C-95BE-4526-AFA9-43E0F93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A1C-AFFE-4A74-9A43-083F3F9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D98-2CC6-454A-A388-5BB91B84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595-F680-4F1A-B975-12292B87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580-DE81-4256-97FD-A482696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5DE8-A567-46CD-855A-23A787B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EB33-EC74-468A-9288-643E846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6A7E-EA3F-4A14-8687-6CBBBEC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821-9373-401A-82C4-664BA23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EE69-4803-4860-A602-6A72D04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798-9195-4A20-BEC1-4C9FBC4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B61-6F43-4775-953C-7FE7D24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2C6-90E5-4A0C-8276-91414B1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934-AB7F-46D6-9CB3-69BD875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BC8F-9368-4277-86C4-AD480694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8F83-865F-4E68-97A9-96B2AC8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733-41E1-4FFA-A930-3968F87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7DE-5C6E-44E1-8A3B-C42B2B2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FD6-5EE6-4E89-B265-E6F1267E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1B0-D7F2-491A-B319-09C8549B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051-D205-4295-ACEE-EB979B5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39A-D1BC-41BF-8159-7123310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71E-B33A-4077-8EA7-FD109DA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D4B-CDDE-4CE8-8CB0-3EB311C21D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FC26-2321-42FB-B412-5EF4CBD492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285560"/>
            <a:ext cx="835344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как средство повышения качества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000" y="3714480"/>
            <a:ext cx="845964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воспита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шакова Людмила Васи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50516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285840" y="4357800"/>
            <a:ext cx="2149560" cy="2149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000160" y="357120"/>
            <a:ext cx="6858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Детский сад общеразвивающего вида № 3 «Чебурашка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ензелинского муниципального района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самообразо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Физкультурное занятие – 2-3 раза в неделю в спортивном или музыкальном залах. Ранний возраст - в групповой комнате, 10 мин. Младший возраст – 15-20 мин., средний возраст – 20-25 мин., старший возраст – 25-30 мин. Перед занятием необходимо хорошо проветрить помещение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блемно-игровые игротреннинги, игротерапия – в свободное время, можно во второй половине дня. Время строго не фиксировано, в зависимости от задач, поставленных педагогом. Занятие может быть организовано не -заметно для ребенка, посредством включения педагога в процесс игровой деятельности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Коммуникативные игры – 1-2 раза в неделю по 30 мин. со старшего возраста. Занятия строятся по определенной схеме и состоят из нескольких частей. В них входят беседы, этюды и игры разной степени подвижности, занятия рисованием, лепкой и д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нятия из серии «Уроки здоровья» -1 раз в неделю по 30 мин. со старшего возраста. Могут быть включены в сетку занятий в качестве познавательного развит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омассаж. В зависимости от поставленных педагогом целей, сеансами либо в различных формах физкультурно-оздоровительной работы Необходимо объяснить ребенку серьезность процедуры и дать детям элементарные знания о том, как не нанести вред своему организму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ечный массаж. Проводится в преддверии эпидемий, в осенний и весенний периоды в любое удобное для педагога время со старшего возраста.  Проводится строго по специальной методике. Рекомендуется детям с частыми простудными заболеваниями и болезнями органов дыхания. Используется наглядный материал (специальные модули)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музыкального воздействия – в различных формах физкультурно-оздоровительной работы; либо отдельные занятия 2-4 раза в месяц в зависимости от поставленных целей. Используются в качестве вспомогательного средства как часть других технологий; для снятия напряжения, повышения эмоционального настроя и п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рт-терапия. Сеансами 10-12 занятий по 30-35 мин начиная со средней группы. Программа имеет диагностический инструментарий и предполагает ведение протоколов занятий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казкотерапия – 2-4 занятия в месяц по 30 мин. со старшего возраста. Занятия используют для психологической терапевтической и развивающей работы. Сказку может рассказывать взрослый, либо это может быть групповое рассказывание, где рассказчиком является не один человек, группа детей, а остальные дети повторяют за рассказчиками необходимые движен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воздействия цветом – как специальное занятие 2-4 раза в месяц в зависимости от поставленных задач. Правильно подобранные цвета интерьера в группе снимают напряжение и повышают эмоциональный настрой ребенка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сихогимнастика – 1-2 раза в неделю со старшего возраста по 25-30 мин. Направлена на развитие и коррекцию различных сторон психики ребенк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(образовательная программа ДОУ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 действия, на познание, на ново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 ним относятся развивающая среда ДОУ, программы ДОУ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Метод проектов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Развитие исследовательских уме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Технология проблемного обучения – ТРИЗ и РТ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6. Технология разноуровневого обучен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7.Технология коллективного способа обучения (индивидуальная, парная, групповая, коллективная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8. Интерактивная технология в ДОУ, технология  ИК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9.Игровая технология (технология имитационного моделирования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0. Технология интегрированного занят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1. Нетрадиционные техники рисова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2. Педагогическая  технология  развития эмоциональной отзывчивости к музыке в процессе её слушания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, используемые в работе с педколлектив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хнология формирования индивидуального стиля управленческой деятельности руководителя (старшего воспитател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индивидуального стиля управленческой деятельности способствуют технолог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деловой иг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психолого-педагогические аутотренинги с сотрудник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семинары- практику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еминары- брифинг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мозговые штур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устные журнал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интеллектуальное казин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тестовое зад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нин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. Технология самовоспитания и самообразования педагог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400" y="928800"/>
            <a:ext cx="485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самовоспит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диагно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анализ деятельности воспитател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анализ состояния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ознание необходимости самовос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целей и задач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основных направл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зучение литературы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программы по самовоспитанию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работка критериев качественных изме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выбор форм и методов самосовершенств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тимулировани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еятельность воспитателя по выполнению воспитательно-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дведение итогов самовоспитания  и самосовершенств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214960" y="85716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самообразования педагог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диагностика педагог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анализ деятельности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работка программ само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орректировка пла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тоговая диагно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ление достигнутых результа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более сложных задач на будущ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56760" y="42876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3. Педагогический сов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4. Дискусс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5 Мозговой штур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6 Проектная деятельность педаго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7 Анализ конкретных ситуац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8. Мастер-клас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9. Деловая игр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0 Педагогическая студ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28640" y="357120"/>
            <a:ext cx="51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1. Портфолио-технология  и портфоллио - продук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снове  используется метод аутентичного оценивания результатов образовательной и профессиональной 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п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Мотивация и целеполагание по созданию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разработка структуры  материалов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Планирование деятельности по сбору, оформлению и подготовке материалов к презентации. Выработка критериев оценивания материалов кпор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Сбор и оформление материалов Рефлексия деятельности на этап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 Пробы в презентации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Презентация в рамках цели создания и исполь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Оценка результатов деятельности. Итоговая рефлексия.  Как только заканчивается процедура аттестации, сразу же начинается подготовка к следующей, и цикличность повторяется.  Портфолио - это отчёт по процессу деятельности, основанный на принципе «добровольнос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смотрим некоторы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 отметить, что применение проектных технологий не может существовать без использования ТРИЗ-технологии (технологии решения изобретательских задач). Поэтому при организации работы над творческим проектом воспитанникам предлагается проблемная  задача, которую можно решить, что-то исследуя или проводя экспери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удовые поручения,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одержание познавательно-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6443640" y="3357720"/>
            <a:ext cx="2048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438120" y="384120"/>
            <a:ext cx="8267760" cy="5761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9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«Развитие творческого воображения детей через изобразительную деятельн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642960"/>
            <a:ext cx="7786800" cy="4643280"/>
          </a:xfrm>
          <a:prstGeom prst="rect">
            <a:avLst/>
          </a:prstGeom>
          <a:solidFill>
            <a:srgbClr val="badde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Повышение профессионального уровня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дагогических кадров. Обеспечение постоянн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оста и компетентности педагогическ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ллектива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Проанализировать владение воспитателями знаний о педагогических технологиях. 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. Разработать систему педагогических мероприятий, направленных на систематизацию знаний о педагогических технологиях. 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. Внедрение технологии проектной деятельности в работу ДОУ через партнерское взаимодействие воспитанников, педагога и родителей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тизация общества ставит перед педагогами-дошкольникам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 в ногу со време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ть для ребенка проводником  в мир новых технолог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авником в выборе  компьютерных программ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основы информационной культуры его лич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сить профессиональный уровень педагогов и компетентность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этих задач  не возможно без актуализации и пересмотра всех направлений работы детского сада в контексте информат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4716360" y="4941720"/>
            <a:ext cx="17272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ребования к компьютерным программам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ий хара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сть для самостоятельных занятий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широкого спектра навыков и предст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ное соответст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им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i?id=137690313-27-72&amp;n=21"/>
          <p:cNvPicPr/>
          <p:nvPr/>
        </p:nvPicPr>
        <p:blipFill>
          <a:blip r:embed="rId1"/>
          <a:stretch/>
        </p:blipFill>
        <p:spPr>
          <a:xfrm>
            <a:off x="5292720" y="3284640"/>
            <a:ext cx="29718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програм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оображения, мышления,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ящие словари иностранных язы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ейшие графические ред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-путеше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чтению, матема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9" descr="ccschool1a"/>
          <p:cNvPicPr/>
          <p:nvPr/>
        </p:nvPicPr>
        <p:blipFill>
          <a:blip r:embed="rId1"/>
          <a:stretch/>
        </p:blipFill>
        <p:spPr>
          <a:xfrm>
            <a:off x="3132000" y="4724280"/>
            <a:ext cx="22575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шибки при использовании И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методическая подготовленность педагог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авильное определение дидактической роли и места ИКТ на занят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плановость, случайность применения ИК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груженность занятия демонстрац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i?id=983814667-39-72&amp;n=21"/>
          <p:cNvPicPr/>
          <p:nvPr/>
        </p:nvPicPr>
        <p:blipFill>
          <a:blip r:embed="rId1"/>
          <a:stretch/>
        </p:blipFill>
        <p:spPr>
          <a:xfrm>
            <a:off x="2556000" y="4076640"/>
            <a:ext cx="21603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бор иллюстративного материала к занятиям и для оформления стендов, группы, кабинетов (сканирование, интернет, принтер, презентация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чаются попытки создания условий личностно-ориентированных взаимодействий с детьми в развивающем пространстве, позволяющей ребенку проявить собственную активность, наиболее полно реализовать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сегодняшняя ситуация в дошкольных учреждениях не всегда позволяет говорить о том, что педагоги полностью приступили к реализации идей личностно-ориентированных технологий, именно предоставление возможности детям для самореализации в игре, режим жизни перегружен различными занятиями, на игру остается мало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4716360" y="4724280"/>
            <a:ext cx="1943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детском саду  востребован не просто воспитател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исследова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психо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техно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явление темпов развития позволяет воспитателю поддерживать каждого ребенка на его уровне развит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им образом, специфика технологического подхода состоит в том, чтобы воспитательно-образовательный процесс должен гарантировать достижение поставленных целей. В соответствии с этим в технологическом подходе к обучению выделяютс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становка целей и их максимальное уточнение (воспитание и обучение с ориентацией на достижение результа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дготовка методических пособий (демонстрационный и раздаточный) в соответствии с учебными целями и задач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ценка актуального развития дошкольника, коррекция отклонений, направленная на достижение цел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заключительная оценка результата - уровень развития дошколь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3564000" y="54291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.е. новые педагогические технологии гарантируют достижения дошкольник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, И. Руденко предлагает примерное содержание этих разде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i?id=257803555-54-72&amp;n=21"/>
          <p:cNvPicPr/>
          <p:nvPr/>
        </p:nvPicPr>
        <p:blipFill>
          <a:blip r:embed="rId1"/>
          <a:stretch/>
        </p:blipFill>
        <p:spPr>
          <a:xfrm>
            <a:off x="3780000" y="515772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1 «Давайте познакомимс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ется фотография ребенка, указываются его фамилия и имя, номер группы; можно ввести рубрику «Я люблю...» («Мне нравится...», «Обожаю, когда...»), в которой будут записаны ответы реб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2 «Я расту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 вносятся антропометрические данные (в художественно-графическом исполнении): «Вот я какой!», «Как я расту», «Я вырос», «Я большо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3 «Портрет моего ребенк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сочинения родителей о своем мал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4 «Я мечтаю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высказы­вания самого ребенка на предложение продолжить фразы: «Я мечтаю о...», «Я бы хотел быть...», «Я жду, когда...», «Я вижу себя...», «Я хочу видеть себя...», «Мои любимые дела...»; ответы на вопросы: «Кем и каким я буду, когда вырасту?», «О чем я люблю думать?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5 «Вот что я мог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образцы творчества ребенка (рисунки, рассказы, книги-самоделк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6 «Мои достижени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грамоты, дипломы (от различных организаций: детского сада, СМИ, проводящих конкурс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7 «Посоветуйте мне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даются рекомендации родителям воспитателем и всеми специалистами, работающими с ребен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8 «Спрашивайте, родители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родители формулируют свои вопросы к специалистам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. Орлова предлагает такой вариант портфолио, содержание которого в первую очередь будет интересно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ортфолио можно заполнять как в детском саду, так и дома и можно представлять как мини-презентацию на дне рождения ребенка. Автором предлагается следующая структура портфолио. Титульный лист, на котором содержится информация о ребенке (фамилия, имя, отчество, дата рождения), фиксируется дата начала и дата окончания ведения портфолио, изображение ладошки ребенка на момент начала ведения портфолио и изображение ладошки на момент окончания ведения портфоли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1 «Познакомьтесь со мной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вкладыши «Полюбуйтесь на меня», куда последовательно вклеиваются портреты ребенка, сделанные в разные годы в дни его рождения, и «Обо мне», где содержится информация о времени и месте рождения ребенка, о значении имени ребенка, о дате празднования его именин, небольшой рассказ родителей, почему было выбрано это имя, откуда пошла фамилия, информация о знаменитых тезках и известных однофамильцах, персональная информация ребенка (знак зодиака, гороскопы, талисманы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2 «Я расту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ключает вкладыши «Динамика роста», где дается информация о росте ребенка с первого года жизни, и «Мои достижения за год», где указывается, на сколько сантиметров вырос ребенок, чему научился за прошедший год, например считать до пяти, кувыркаться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3 «Моя семья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держание этого раздела включаются краткие рассказы о членах семьи (кроме личных данных, можно упомянуть профессию, черты характера, любимые занятия, особенности совместного времяпрепровождения с членами семь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4 «Чем могу — помогу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фотографии ребенка, на которых он изображен за выполнением домашней раб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5 «Мир вокруг нас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нный раздел вносятся небольшие творческие работы ребенка по экскурсиям, познавательным прогулк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6 «Вдохновение зимы (весны, лета, осени)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деле размещаются детские работы (рисунки, сказки, стихи, фотографии с утренников, записи стихотворений, которые ребенок рассказывал на утреннике и д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Дмитриева, Е. Егорова также предлагают определенную структуру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1 «Информация родителей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ом есть рубрика «Давайте познакомимся», включающая в себя сведения о ребенке, его достижения, которые отметили сами род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2 «Информация педагогов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информацию о наблюдениях педагогов за ребенком во время пребывания его в детском саду в четырех ключевых направлениях: социальные контакты, коммуникативная деятельность, самостоятельное использование различных источников информации и деятельность как таков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3 «Информация ребенка о себ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держит информацию, полученную от самого ребенка (рисунки, игры, которые ребенок сам придумал, рассказы о себе, о друзьях, награды, дипломы, грамот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 И. Адаменко предлагает следующую структуру портфоли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хороший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й содержит информацию о личностных качествах ребенка и включает в себя: сочинение родителей о ребенке; размышления воспитателей о ребенке; ответы ребенка на вопросы в процессе неформальной беседы «Расскажи о себе»; ответы друзей, других детей на просьбу рассказать о ребенке; самооценку ребенка (итоги теста «Лесенка»); психолого-педагогическую характеристику ребенка; «корзину пожеланий», в содержание которой входят благодарность ребенку — за доброту, щедрость, хороший поступок; благодарственные письма родителям — за воспитание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мел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ом, что ребенок умеет, что знает, и включает в себя: ответы родителей на вопросы анкет; отзывы воспитателей о ребенке; рассказы детей о ребенке; рассказы педагогов, к которым ребенок ходит на кружки и секции; оценка участия ребенка в акциях; характеристика психолога познавательных интересов ребенка; грамоты по номинациям — за любознательность, умения,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спеш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ворческих способностях ребенка и включает: отзыв родителей о ребенке; рассказ ребенка о своих успехах; творческие работы (рисунки, стихи, проекты); грамоты; иллюстрации успешности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2700360" y="3573360"/>
            <a:ext cx="2376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Михайленко Н.Я., Короткова Н.А. Ориентиры и требования к обновлению содержания дошкольного образования //Вестник образования.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91.-№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етровский В.А., Кларина Л.И., Смывина Л.А., Стрелкова Л.П. Построение развивающей среды в дошкольном учреждении. - М.,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вирская Л.В. Создание развивающей среды в дошкольном учреждении. - Новгород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Стеркина Р.Б. Новые правовые основы повышения качества дошкольного образования//Дошкольное воспитание. - 1993. - № 1.-С. 12-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Стеркина Р.Б. Качество дошкольного образования и основные тенденции его применения //Дошкольное воспитание. - 1996. - № 6. - С. 2-1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Селевко Г.К. Современные образовательные технологии. - М.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 Современные образовательные программы для дошкольных учреждений /Под ред. Т.И. Ерофеевой. - М.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. Стеркина Р.Б. Программно-методическое обеспечение ДОУ: проблемы и перспективы //Обруч. - 1999. - № 5. - С. 3-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альтернативной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здания комплексного портфолио целесообразно ввести следующие раздел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дел 1 «Общие сведения о педагог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раздел позволяет судить о процессе индивидуального личностного развития педагога (фамилия, имя, отчество, год рождения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ие (что и когда окончил, полученная специальность и квалификация по диплом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й и педагогический стаж, стаж работы в данном образовательном учреждени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валификации (название структуры, где прослушаны курсы, год, месяц, проблематика курсов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пии документов, подтверждающих наличие ученых и почетных званий и степен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значимые правительственные награды, грамоты, благодарственные письм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пломы различных конкурс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документы по усмотрению педаг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2 «Результаты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анного раздела формирует представление о динамике результатов деятельности педагога за определенный период. В раздел могут быть включе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 с результатами освоения детьми реализуемой програм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уровень развития представлений и умений детей, уровень развития личностных качест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ельный анализ деятельности педагога за три года на основании результатов педагогической диагностики, результатов участия воспитанников в различных конкурсах и олимпиад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обучения воспитанников в первом класс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дел 3 «Научно-методическая деятельность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держание данного раздела помещаются материалы, свидетельствующие о профессионализме педагога. Это могут бы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в которых описываются технологии, используемые педагогом в деятельности с детьми, обосновывается их выбор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работу в методическом объединении, творческой групп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подтверждающие участие в профессиональных и творческих педагогических конкурса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еделях педмастер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роведении семинаров, «круглых столов», мастер-класс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ские программы, методические разработк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ворческие отчеты, рефераты, доклады, статьи и другие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4 «Предметно-развивающая сре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б организации предметно-развивающей среды в группах и кабинет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ы по организации предметно-развивающей среды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скизы, фотографии и т. 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i?id=520273499-47-72&amp;n=21"/>
          <p:cNvPicPr/>
          <p:nvPr/>
        </p:nvPicPr>
        <p:blipFill>
          <a:blip r:embed="rId1"/>
          <a:stretch/>
        </p:blipFill>
        <p:spPr>
          <a:xfrm>
            <a:off x="3059280" y="4149720"/>
            <a:ext cx="2089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5 «Работа с родителя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 работе с родителями воспитанников (планы работы; сценарии мероприятий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ортфолио позволит самому педагогу проанализировать и представить значимые профессиональные результаты, достижения, обеспечит мониторинг его профессионального ро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2700360" y="4581360"/>
            <a:ext cx="345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в форме игры может и должно быть интересным, занимательным, но не развлекательным. Для реализации такого подхода необходимо, чтобы образовательные технологии, разрабатываемые для обучения дошкольников, содержали четко обозначенную и пошагово описанную систему игровых заданий и различных игр с тем чтобы, используя эту систему, педагог мог быть уверенным в том, что в результате он получит гарантированный уровень усвоения ребенком того или иного предметного содержания. Безусловно, этот уровень достижений ребенка должен диагностироваться, а используемая педагогом технология должна обеспечивать эту диагностику соответствующими материал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32000" y="5194440"/>
            <a:ext cx="1584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еятельности с помощью игровых технологий у детей развиваются психические процес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 Некоторые современные образовательные программы предлагают использовать народную игру как средство педагогической коррекции поведения дет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3564000" y="4437000"/>
            <a:ext cx="2087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педтехнологи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оисходит от греческого слова «мастерство, искусство» и «закон, наука» - это наука о мастерств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дро любой технологии: это – цель - средства - правила их использования – результа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функционирует и в качестве науки, исследующей и проектирующей наиболее рациональный путь обучения, и в качестве системы алгоритмов, способов и результатов деятельности, и в качестве реального процесса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- это целостный научно - обоснованный проект определённой педагогической системы от её теоретического замысла до реализации в образовательной практике. Педагогическая технология отражает процессуальную сторону обучения и воспитания, охватывает цели, содержание, формы, методы, средства, результаты и условия их орган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ТРИЗ- технологии в дошкольном возрасте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о привить ребенку радость творческих откры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ой критерий в работе с детьми – доходчивость и простота в подаче материала и в формулировке сложной, казалось бы, ситуации. Не стоит форсировать внедрение ТРИЗ без понимания детьми основных положений на простейших примерах. Сказки, игровые, бытовые ситуации – вот та среда, через которую ребенок научится применять тризовские решения, встающих перед ним проблем. По мере нахождения противоречий, он сам будет стремиться к идеальному результату, используя многочисленн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рименять в работе только элементы ТРИЗ (инструментарий), если педагог недостаточно освоил ТРИЗ-технологию. 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хема с применением метода выявления противоречи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этап – определение положительных и отрицательных свойств качества какого-либо предмета или явления, не вызывающих стойких ассоциаций у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этап – определение положительных и отрицательных свойств  предмета или явления в це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после того, как ребенок поймет, чего от него хотят взрослые, следует переходить к рассмотрению предметов и явлений, вызывающих стойкие ассоци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Рисунок 3" descr="voprositelnyi-znak-i-dumayuschii-smailik-0001818065-preview"/>
          <p:cNvPicPr/>
          <p:nvPr/>
        </p:nvPicPr>
        <p:blipFill>
          <a:blip r:embed="rId1"/>
          <a:stretch/>
        </p:blipFill>
        <p:spPr>
          <a:xfrm>
            <a:off x="7020000" y="4437000"/>
            <a:ext cx="15127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астую, педагог уже проводит тризовские занятия, даже не подозревая об этом. Ведь, именно, раскрепощенность мышления и способность идти до конца в решении поставленной задачи – суть творческой педагог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i?id=178813503-55-72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а педагогической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онцептуальная основа (научная баз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держательная часть (цели и содержание обучения и воспит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роцессуальная часть (формы, методы, средства, условия организации учебно-воспитательного процесса, результат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это инструмент профессиональной деятельности педаго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щность педагогической технолог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ается в том, что она имеет выраженные этапы (пошаговость), включает в себя набор определенных профессиональных действий на каждом этапе, позволяя педагогу еще в процессе проектирования предвидеть промежуточные и итоговые результаты собственной профессионально-педагог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ическую технологию отличаю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кретность и четкость цели и задач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этапов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первичной диагности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 отбора содержания, форм, способов и приемов его реал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 использования совокупности средств в определенной логике с организацией промежуточной диагностики достижения цели, оцен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, используемые в работе с детьм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в детском саду – это, прежде всего, технологии воспитания валеологической культуры или культуры здоровья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этих технологий - становление осознанного отношения ребёнка к здоровью и жизни человека, накопление знаний о здоровье и развитие умения оберегать, поддерживать и сохранять его, обретение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я здоровьесберегающих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Технологии сохранения и стимулирования здоров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Технологии обучения здоровому образу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оррекционные технолог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ретч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Динамические пауз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движные и спортивные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лакс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мнастика (пальчиковая, для глаз, дыхательная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у - Дж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Гимнастика динамическая, корригирующая, ортопедиче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блемно-игровые : игротренинги, игро- терап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Коммуникативные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ерия занятий«Уроки здоровь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ечный самомасс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хнологии музыкального воздейств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рт-терап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казк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хнологии воздействия ц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гимнас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6426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етчинг – не раньше чем через 30 мин. после приема пищи, 2 раза в неделю по 30 мин. со среднего возраста в физкультурном или музыкальном залах, либо в групповой комнате, в хорошо проветренном помещении специальные упражнения под музыку. Рекомендуется детям с вялой осанкой и плоскостопием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инамические паузы – во время занятий, 2-5 мин., по мере утомляемости детей. Рекомендуется для всех детей в качестве профилактики утомления. Могут включать в себя элементы гимнастики для глаз, дыхательной гимнастики и других в зависимости от вида занят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 – как часть физкультурного занятия, на прогулке, в групповой комнате - малой, средней и высокой степени подвижности. Ежедневно для всех возрастных групп. Игры подбираются в соответствии с возрастом ребенка, местом и временем ее проведен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детском саду мы используем лишь элементы спортивных иг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Релаксация – в любом подходящем помещении, в зависимости от состояния детей и целей, педагог определяет интенсивность технологии. Для всех возрастных групп. Можно использовать спокойную классическую музыку (Чайковский, Рахманинов), звуки природ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пальчиковая – с младшего возраста индивидуально либо с подгруппой ежедневно. Рекомендуется всем детям, особенно с речевыми проблемами. Проводится в любой удобный отрезок времени (в любое удобное время)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у-Джок – проводится индивидуально или по подгруппам в удобный отрезок времен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для глаз – ежедневно по 3-5 мин. в любое свободное время в зависимости от интенсивности зрительной нагрузки с младшего возраста. Рекомендуется использовать наглядный материал, показ педагога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дыхательная – в различных формах физкультурно-оздоровительной работы. Обеспечить проветривание помещения, педагогу дать детям инструкции об обязательной гигиене полости носа перед проведением процедур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инамическая гимнастика – ежедневно после дневного сна, 5-10 мин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корригирующая – в различных формах физкультурно-оздоровительной работы. Форма проведения зависит от поставленной задачи и контингента детей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ортопедическая – в различных формах физкультурно-оздоровительной работы. Рекомендуется детям с плоскостопием и в качестве профилактики болезней опорного свода стоп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ПК</cp:lastModifiedBy>
  <dcterms:modified xsi:type="dcterms:W3CDTF">2014-11-02T10:26:15Z</dcterms:modified>
  <cp:revision>132</cp:revision>
  <dc:subject/>
  <dc:title>Слайд 1</dc:title>
</cp:coreProperties>
</file>