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DA25-1D9E-4A71-8DCB-AD9939991E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DCBE-9D22-4EEB-9E90-ADEE78577C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6EF-778B-4B8B-B2F5-219B50FF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67D-73CB-4870-AF9D-8007DCD4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D32-DB43-4F92-9659-E5FAF881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9ED-7C1C-4C25-8873-B55510EB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498-8D28-451C-B184-FAB59C37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FCD-F407-477A-9286-D311DF0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8D3-7D1D-4DEE-92C2-828037CD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C9A-BE4B-4041-825E-5253C967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026-A946-4286-82B3-A70BC0BC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DD3-4B89-4F6D-8DF7-886E4B60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5E6-FD8B-4BEA-8505-FE246CB8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7D7-E5E5-44FB-9055-9E0BA2EA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8939-E72B-4F11-B949-EBB6401D4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оловок 1"/>
          <p:cNvGrpSpPr/>
          <p:nvPr/>
        </p:nvGrpSpPr>
        <p:grpSpPr>
          <a:xfrm>
            <a:off x="493560" y="933480"/>
            <a:ext cx="8186760" cy="2286000"/>
            <a:chOff x="493560" y="933480"/>
            <a:chExt cx="8186760" cy="2286000"/>
          </a:xfrm>
        </p:grpSpPr>
        <p:pic>
          <p:nvPicPr>
            <p:cNvPr id="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93560" y="933480"/>
              <a:ext cx="8186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39640" y="981000"/>
              <a:ext cx="777240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Calibri"/>
                </a:rPr>
                <a:t>Письменная деловая речь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2"/>
          <a:srcRect l="0" t="0" r="31" b="49"/>
          <a:stretch/>
        </p:blipFill>
        <p:spPr>
          <a:xfrm>
            <a:off x="1332000" y="3141720"/>
            <a:ext cx="6480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9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Правильно составленные деловые письма строятся по одной схем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им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«Уважаемый (ая)_______ Я хочу сообщить Вам нечто важное (интересное)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ес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ы (я) предлагаем Вам то, что может существенно улучшить вашу жизнь..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ьб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Нам требуется помощь людей, готовых вложить хотя бы ... в благородное дело...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»Мы призываем Вас присоединиться к тысячам добрых людей..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9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Виды деловых писем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юме и письмо с просьбой о приеме на рабо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заявление об уход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омендательное письм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 отка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 – запрос о ходе исполнения д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 напомина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 уведомл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о- благодар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9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7030a0"/>
                  </a:solidFill>
                  <a:latin typeface="Calibri"/>
                </a:rPr>
                <a:t>Резюме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зюм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- это изложенная кратко самохарактерист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ривлечь внимание к себе при заочном знакомстве и произвести на работодателя благоприятное впечатл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10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Процесс составления резюм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ужно продумать графическое оформление: весь текст в целом должен легко восприниматься зрительно. Шапка-клише свидетельствует о знакомстве автора с профессиональным делопроизводством, что является несомненным плюсом (Вверху листа справа даются следующие сведения: ФИО, домашний адрес, телефон и, если есть, факс, электронный адрес.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тем пишется точный адрес фирмы, ФИО того, кто отвечает в фирме за подбор кадров (лучше заранее позвонить и узнать эти сведения и обращаться конкретно к нему). Обращение должно выноситься в отдельную строку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означается прямая мотивировка: по какой именно причине Вы заинтересованы данным объявлением и почему претендуете на это место. Это может быть упоминание о том, что Вас привлекают новые возможности для профессионального роста и т. п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ется информация о себе (профессиональных достижениях, разносторонних способностях). Начало должно иметь активную форму, но при этом важно соблюдать чувство меры, не выглядеть слишком самонадеянным (например, «Вам нужен квалифицированный специалист (в … области), и я полагаю, что вполне соответствую списку опубликованных Вами требова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или «Я с интересом прочитал Ваше объявление и считаю…»). Недопустимо использовать условное наклонение («быть может, подошел бы…»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1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Процесс составления резюм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.   Оговариваются сроки, когда Вы сможете приступить к работе, завершив дела на предшествующем месте: нормальный срок – около двух месяцев. Точное время и более короткие сроки для перехода оговариваются при собеседовании, если в Вас окажутся заинтересован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6.   Резюме – это официальный документ, поэтому все обращения должны быть формальными, в конце документа достаточно написать «С уважением…»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резюме может даваться и дополнительная информация. Ее обозначение должно быть сдержанным, с нейтральным заголовком типа «адрес постоянного проживания», «специализированное обучение», «дополнительные сведения». Перечисления мест работы лучше давать вообще без заголовка. Правильно свою трудовую биографию представлять не в хронологической ее последовательности, а наоборот – от нынешнего к прошлому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Если в трудовой биографии, которая представляется сжато и по существу, имеются большие перерывы, обязательно нужно их кратко объяснить (служба в армии, пребывание за границей и т. п.). Кроме того, эксперты советуют указать основные свои награды, поощрения, изобретения, патенты, публикации (лучше выбрать три-четыре самых, с Вашей точки зрения, существенных достиже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11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Процесс составления резюм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468360" y="1557360"/>
            <a:ext cx="8229600" cy="4852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язательно говорить о семейном положении, родителях, братьях и сестрах. Важно зарекомендовать себя независимой, самодостаточной личностью. Информацию об увлечениях также не стоит включать в резю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процедуры собеседования обычно достаточно представления только резюме с фотографией. Полный же комплект документов, необходимый для собеседования, включает собственно резюме с Вашей фотографией, краткую биографию, выписки из трудовой книжки, а также копии документов, подтверждающих Ваши успехи в профессиональной деятельности: академических дипломов, статей, патентов и т. 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графия может быть как черно-белой, так и цветной, но выглядеть на ней Вы должны удачно. Оптимальный размер – фотография на общегражданский пас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ы устраиваетесь в серьезную компанию, то пересылка резюме по факсу или по почте – ненадежное и долговременное дело. Лучше будет переслать его с курьером или отнести документы личн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 значительно упрощает жизнь и в сфере делопроизводства. Если компания размещает объявления о вакансии в виртуальном пространстве, Вы имеете право упростить процедуру своего представления, помня о следующих требования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11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Процесс составления резюм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 txBox="1"/>
          <p:nvPr/>
        </p:nvSpPr>
        <p:spPr>
          <a:xfrm>
            <a:off x="468360" y="1557360"/>
            <a:ext cx="8229600" cy="4852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Если Вы высылаете документы с курьером, по факсу или по почте, не забудьте уведомить об этом компанию электронным письм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озвоните по указанному телефону и выясните, в какой форме они хотели бы получить Ваше резюме: устроит ли их электронное письмо или все же нужен факс или распечат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вой почтовый ящик можно завести быстро и бесплатно на различных сай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В теме письма укажите «Трудоустройств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Разбивайте резюме на абзацы. Сплошной текст читается плохо и кажется утомитель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Заголовок 1"/>
          <p:cNvGrpSpPr/>
          <p:nvPr/>
        </p:nvGrpSpPr>
        <p:grpSpPr>
          <a:xfrm>
            <a:off x="208080" y="23760"/>
            <a:ext cx="8727840" cy="1420920"/>
            <a:chOff x="208080" y="23760"/>
            <a:chExt cx="8727840" cy="1420920"/>
          </a:xfrm>
        </p:grpSpPr>
        <p:pic>
          <p:nvPicPr>
            <p:cNvPr id="11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57200" y="274680"/>
              <a:ext cx="822960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030a0"/>
                  </a:solidFill>
                  <a:latin typeface="Calibri"/>
                </a:rPr>
                <a:t>Проанализируйте следующее резюме, отвечает ли оно требованиям, предъявляемым к деловому документу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46836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Иван Васильевич Еси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сква, ул. Ак. Варги, 7, кв. 2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: 232–32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Vanja@rumbler.ru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сква, ул. Солнечная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8 Фитнес-центр „Атлант“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0 мая 200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важаемые дамы и господа!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еня заинтересовало ваше объявление о замещении вакантной должности тренера-консультанта, опубликованное в майском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омере газеты „Здоровье Москвы“ за 2002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к бывший спортсмен, дипломированный тренер и квалифицированный физиотерапевт, я полагаю, что соответствую требованиям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дъявляемым вашей организацией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. я обладаю знанием самых современных методик подготовки как профессиональных спортсменов, так и любителей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. имею образование инструктора по лечебной гимнастике, специализировался в области физиотерапии (опорно-двигательный аппарат) и диетологии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. в течение нескольких лет занимал должность тренера одинцовского фитнес-центр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. владею основами делопроизводства и бухгалтерского учета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роме того, 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.заслуженный мастер спорта по плавани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. имею собственные методологические разработки в области персональных планов занятий (индивидуальный подход) для мастеров спорт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. в течение нескольких лет осваивал различные методики восстановления опорно-двигательного аппарата больных в послеоперационный период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. свободно говорю по-английски и читаю по-немецки со словаре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бедительно прошу дать ответ до 15 июня, чтобы при положительном решении вопроса я мог приступить к работе с начала следующего месяц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щаюсь с вами, рассчитывая на предстоящее знакомство во время собеседования. Всего хорошего!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я трудовая биограф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 июня 1999 – по настоящее время       Старший тренер ФЦ „Фарго“, г. Одинцо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й 1996 – апрель 1999 гг.                        Директор ДСШ-1, г. Одинцово октябр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991 – апрель 1996 гг.                                 Старший тренер ДСШ-1 сентябр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986 – июнь 1991 гг.                                    Студент МФ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емейное положение.                                Женат, двое детей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Хобби.                                                              Рыбалка, охота»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Заголовок 1"/>
          <p:cNvGrpSpPr/>
          <p:nvPr/>
        </p:nvGrpSpPr>
        <p:grpSpPr>
          <a:xfrm>
            <a:off x="208080" y="23760"/>
            <a:ext cx="8727840" cy="1420920"/>
            <a:chOff x="208080" y="23760"/>
            <a:chExt cx="8727840" cy="1420920"/>
          </a:xfrm>
        </p:grpSpPr>
        <p:pic>
          <p:nvPicPr>
            <p:cNvPr id="1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960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Вопро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46836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Какие этические требования предъявляются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овой перепис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еречислите виды деловых пис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Составьте резю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Из истории становления делового стиля русского литературного языка</a:t>
              </a:r>
              <a:r>
                <a:rPr b="0" lang="ru-RU" sz="4000" spc="-1" strike="noStrike">
                  <a:solidFill>
                    <a:srgbClr val="7030a0"/>
                  </a:solidFill>
                  <a:latin typeface="Calibri"/>
                </a:rPr>
                <a:t>.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рождение русской официально-деловой речи происходит в Х в., в эпоху Киевской Руси, когда начинают в письменном виде оформляться договоры между Киевской Русью и Визант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rcRect l="0" t="0" r="55" b="-55"/>
          <a:stretch/>
        </p:blipFill>
        <p:spPr>
          <a:xfrm>
            <a:off x="2556000" y="3500280"/>
            <a:ext cx="43196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Из истории становления делового стиля русского литературного языка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ая Правда – древнейший памятник деловой письменности – имела широкое распространение на Руси как запись действующего права с XI вплоть до нач. XVIII в., времени реформ Петра 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2"/>
          <a:srcRect l="0" t="0" r="25" b="-13"/>
          <a:stretch/>
        </p:blipFill>
        <p:spPr>
          <a:xfrm>
            <a:off x="2195640" y="3429000"/>
            <a:ext cx="41050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7030a0"/>
                  </a:solidFill>
                  <a:latin typeface="Calibri"/>
                </a:rPr>
                <a:t>  </a:t>
              </a:r>
              <a:r>
                <a:rPr b="0" lang="ru-RU" sz="3200" spc="-1" strike="noStrike">
                  <a:solidFill>
                    <a:srgbClr val="7030a0"/>
                  </a:solidFill>
                  <a:latin typeface="Calibri"/>
                </a:rPr>
                <a:t>Из истории становления делового стиля русского литературного языка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памятников деловой письменности важное значение имеют пергаменные грам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2"/>
          <a:srcRect l="0" t="0" r="28" b="-14"/>
          <a:stretch/>
        </p:blipFill>
        <p:spPr>
          <a:xfrm>
            <a:off x="2124000" y="3357720"/>
            <a:ext cx="45356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6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7030a0"/>
                  </a:solidFill>
                  <a:latin typeface="Calibri"/>
                </a:rPr>
                <a:t>Официально-деловой стиль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о-деловой стиль относится к числу книжных стилей русского литературного языка, имеет устную и письменную формы, обслуживает сферу официальных и деловых отношений граждан и государства: отношения между государственной властью и населением, между странами, между предприятиями, учреждениями, организациями, между личностью и обществ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ми стилистическими чертами официально-деловой речи являются следующие: точность, однозначность выражения мыслей, безличность (за исключением отдельных жанров: заявлений, докладных, объяснительных), бесстрастность, стандартизирова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7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3600" spc="-1" strike="noStrike">
                  <a:solidFill>
                    <a:srgbClr val="7030a0"/>
                  </a:solidFill>
                  <a:latin typeface="Calibri"/>
                </a:rPr>
                <a:t>Деловая перепис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окументы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это письменные тексты, имеющие юридическую (правовую) силу: закон, приказ, характеристика и др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ово «документ» (лат. documentum – свидетельство, доказательство) вошло в русский язык в Петровскую эпоху и в современном русском языке применительно к деловой сфере взаимоотношений людей имеет следующие значения: 1) деловая бумага, служащая доказательством чего-либо, подтверждающая право на что-либо; 2) письменное удостоверение, подтверждающее личность предъявител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3600" spc="-1" strike="noStrike">
                  <a:solidFill>
                    <a:srgbClr val="7030a0"/>
                  </a:solidFill>
                  <a:latin typeface="Calibri"/>
                </a:rPr>
                <a:t>Деловая перепис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жебная переписка является важной частью делового этикета, «общением в миниатюр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2"/>
          <a:srcRect l="0" t="0" r="-29" b="76"/>
          <a:stretch/>
        </p:blipFill>
        <p:spPr>
          <a:xfrm>
            <a:off x="2700360" y="3141720"/>
            <a:ext cx="3527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Заголовок 1"/>
          <p:cNvGrpSpPr/>
          <p:nvPr/>
        </p:nvGrpSpPr>
        <p:grpSpPr>
          <a:xfrm>
            <a:off x="208080" y="-19080"/>
            <a:ext cx="8727840" cy="542880"/>
            <a:chOff x="208080" y="-19080"/>
            <a:chExt cx="8727840" cy="542880"/>
          </a:xfrm>
        </p:grpSpPr>
        <p:pic>
          <p:nvPicPr>
            <p:cNvPr id="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-19080"/>
              <a:ext cx="87278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rot="10800000">
              <a:off x="457200" y="228240"/>
              <a:ext cx="82296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делового текста складывается из четырех составляющи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сл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ятнос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относ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рект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жен Ягер, книга «Деловой этикет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Заголовок 1"/>
          <p:cNvGrpSpPr/>
          <p:nvPr/>
        </p:nvGrpSpPr>
        <p:grpSpPr>
          <a:xfrm>
            <a:off x="208080" y="23760"/>
            <a:ext cx="8727840" cy="1646280"/>
            <a:chOff x="208080" y="23760"/>
            <a:chExt cx="8727840" cy="1646280"/>
          </a:xfrm>
        </p:grpSpPr>
        <p:pic>
          <p:nvPicPr>
            <p:cNvPr id="8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08080" y="23760"/>
              <a:ext cx="8727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При составлении делового письма необходимо соблюдать следующие требования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нитель должен отчетливо представлять себе сообщение, которое хочет передать, и точно знает, как это выразить в понятной, сжатой и доступной фор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должно быть простым, логичным, конкретным и не допускать двусмысл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должно составляться только по одному вопросу, при этом его текст надо разбить на абзацы, в каждом из которых затрагивается лишь один аспект данного вопро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должно быть убедительным и достаточно аргументирован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о должно быть написано в нейтральном тоне, нежелательно употребление метафор и эмоционально- экспрессивных фра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м делового письма не должен превышать двух страниц машинописного тек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точки зрения грамматики деловое письмо должно быть безупречным, т.к. орфографические , синтаксические и стилистические ошибки производят плохое впечатление и действуют на адресата раздражающ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овое письмо должно быть корректным, написанным вежливым тон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8:56:48Z</dcterms:created>
  <dc:creator>григорий</dc:creator>
  <dc:description/>
  <dc:language>en-US</dc:language>
  <cp:lastModifiedBy>AV</cp:lastModifiedBy>
  <dcterms:modified xsi:type="dcterms:W3CDTF">2022-02-15T17:03:12Z</dcterms:modified>
  <cp:revision>35</cp:revision>
  <dc:subject/>
  <dc:title>Темперамент и характе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5061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  <property fmtid="{D5CDD505-2E9C-101B-9397-08002B2CF9AE}" pid="5" name="NXTAG2">
    <vt:lpwstr>000800dc070000000000010291210207f7000400038000</vt:lpwstr>
  </property>
</Properties>
</file>