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wmf" ContentType="image/x-wmf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F43-394C-4EE0-AD66-6B8B09C2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B8E-BD3A-4BE1-8B61-30A19825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A81-6FA1-4EC3-A170-BD0F73C5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A6A-FF5D-40FE-B316-1C9F20B2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9A1-F653-4845-8B7A-D59D20F7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E62-468B-46C0-9235-2D983423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3F7-7B49-4D1F-BB95-674F4441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AA5-FB87-4E21-BC48-58E1D29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F7D-AC2E-4563-95A3-E9D2CCA7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E26-3453-4219-84C4-46337C3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92B-30DC-4DA7-B7B4-6D8025BD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661-008E-4D6B-80BF-C00D371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7B4B-A1FC-4865-AE13-BD75D45A8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384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9cb084"/>
                </a:solidFill>
                <a:latin typeface="Arial"/>
              </a:rPr>
              <a:t>Исследовательский проект 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9cb084"/>
                </a:solidFill>
                <a:latin typeface="Times New Roman"/>
              </a:rPr>
              <a:t>ЭЛЕКТРОХИМИЧЕСКОЕ  И ХИМИЧЕСКОЕ  ВОССТАНОВЛЕНИЕ МЕТАЛЛОВ  ИЗ  РАСТВ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8195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b084"/>
                </a:solidFill>
                <a:latin typeface="Arial"/>
              </a:rPr>
              <a:t>Автор: Галкина  Анастас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b084"/>
                </a:solidFill>
                <a:latin typeface="Arial"/>
              </a:rPr>
              <a:t>учащаяся  11 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b084"/>
                </a:solidFill>
                <a:latin typeface="Arial"/>
              </a:rPr>
              <a:t>МБОУ  СОШ  с. Большие  Озе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6201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Процессы, протекающие на электродах при электролизе раст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784080"/>
          <a:ext cx="9144000" cy="6073920"/>
        </p:xfrm>
        <a:graphic>
          <a:graphicData uri="http://schemas.openxmlformats.org/drawingml/2006/table">
            <a:tbl>
              <a:tblPr/>
              <a:tblGrid>
                <a:gridCol w="3352680"/>
                <a:gridCol w="3429000"/>
                <a:gridCol w="2362320"/>
              </a:tblGrid>
              <a:tr h="564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од 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е зависят от материала катода; зависят от поло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еталла в ряду напря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 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Зависят от материала анода и природы ан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 нерастворимый (инертный), т.е. изготовлен из угля графита,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Pt, 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 растворимый, из- готовлен из С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u, Ag, Zn, Ni, Fe 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 др. (кром.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Pt, Au)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В первую очередь восстанавл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ются катионы металлов, стоящие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ряду напряжений после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n+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+ nē → 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В первую очередь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кис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ионы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бескислородных 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(кроме </a:t>
                      </a:r>
                      <a:r>
                        <a:rPr b="1" i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      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m-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- mē → A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ионы 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кисляю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дёт окис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томов металла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   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° -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ē →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ионы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ереходят в раство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асса ан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уменьшаетс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ионы металлов сре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ктивности, стоящие между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Al</a:t>
                      </a:r>
                      <a:r>
                        <a:rPr b="1" i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восстанавливаются одновременно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водой: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Me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n+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+ nē →Me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           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ē → 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↑ +2OH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ионы оксокислот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(SO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,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CO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2-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F</a:t>
                      </a:r>
                      <a:r>
                        <a:rPr b="1" i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i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е окисляются, идёт окис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олекул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4ē → O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↑ +4H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ионы активных метал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т 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Li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до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Al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(включительно) не вос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авливаются, а восстанавлива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олекулы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  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+ 2ē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→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↑ + 2OH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ри электролизе раств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щелочей окисляются ионы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H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4OH</a:t>
                      </a:r>
                      <a:r>
                        <a:rPr b="1" lang="en-US" sz="1400" spc="-1" strike="noStrike" baseline="30000">
                          <a:solidFill>
                            <a:srgbClr val="9cb084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 - 4ē → O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↑ +2H</a:t>
                      </a:r>
                      <a:r>
                        <a:rPr b="1" lang="en-US" sz="14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4.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ри электролизе растворов кислот восстанавливаются катионы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H 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+ 2ē → </a:t>
                      </a:r>
                      <a:r>
                        <a:rPr b="1" lang="en-US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ru-RU" sz="1400" spc="-1" strike="noStrike" baseline="-30000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400" spc="-1" strike="noStrike" baseline="30000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  <a:ea typeface="Times New Roman"/>
                        </a:rPr>
                        <a:t>↑</a:t>
                      </a:r>
                      <a:r>
                        <a:rPr b="1" lang="ru-RU" sz="14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2578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37339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1240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68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875000">
            <a:off x="4420080" y="34286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²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724280" y="36572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005600">
            <a:off x="4824000" y="3785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²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181480" y="3733920"/>
            <a:ext cx="763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2096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а катоде в результате электролиза происходит восстановление ионов электролита. Катионы принимают электроны и превращаются в атомы                             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К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Cu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а аноде в результате электролиза происходит окисление молекул, принадлежащих материалу анода (анод растворяет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: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81120" y="0"/>
            <a:ext cx="396252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Электролиз сводитс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ереносу меди с анод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катод</a:t>
            </a:r>
            <a:br>
              <a:rPr sz="2000"/>
            </a:b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→ Cu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 baseline="26000">
                <a:solidFill>
                  <a:srgbClr val="9cb084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зменение окраск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катоде протекает быстро: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ескольких секунд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ескольких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53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9144000" cy="33526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В результате электролиза поверхность катода покр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ленкой осаждающегося металла: меняется ее цвет, увеличивается м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катода в соответствии с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1-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ым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законом Фарадея: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m  = k • I • t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(масса вещества, которая выделилась при электролизе на кат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ямо пропорциональна тому электричеству, который прошел скво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электролит в единицу времени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t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1.2. Нанесение на алюминиевый предмет (ложку) слоя меди электрическим  током без погружения в раствор э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верхность алюминиевой ложки необходимо очистить от оксидной пленки наждачной бумагой и обезжирить раствором соды технической, затем ложку поместить в пустую стеклянную ем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 присоедин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609624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86200" y="327672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21932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оводом к отрицательному полюсу источника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дный провод необходимо распределить между щетин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зубной щетки и другим концом соединить с «+» источника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Необходимо приготовить насыщенный подкисленный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6553080" cy="4875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14479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дного купор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9810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жду поверхностью обрабатываемой детали (катода) и мед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оводом (анода) всегда должен быть слой электролита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мпровизированную кисть необходимо помещать в раствор э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стоя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3432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Во время работы медный провод не должен касаться ло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замыкать электрическую цепь должен раствор электрол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627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оцесс детального покрытия ложки медью длился несколько минут. Избирательное нанесение медного покрытия применяется в дизайнерских прое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93432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ЦЕЛЬ:      получение покрытия из других металлов на     </a:t>
            </a:r>
            <a:br>
              <a:rPr sz="2000"/>
            </a:b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      токопроводящих предметах электрическим током </a:t>
            </a:r>
            <a:br>
              <a:rPr sz="2000"/>
            </a:b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      и контактным вытеснением металлов из растворов   </a:t>
            </a:r>
            <a:br>
              <a:rPr sz="2000"/>
            </a:b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      их солей более активными металл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ЗАДАЧИ:</a:t>
            </a:r>
            <a:r>
              <a:rPr b="1" lang="ru-RU" sz="32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изучение условий проведения электролиза и их  влияния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 проце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определение природы растворимых электр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демонстрация тесной межпредметной связи между химией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и физи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сопоставление окислительно-восстановительной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ктивности металлов в водных растворах и расположени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их в ряд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ознакомление с практическим значением химических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процессов восстановления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cb08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.3. Определение природы металлических стержней</a:t>
            </a:r>
            <a:br>
              <a:rPr sz="2400"/>
            </a:b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773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150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10080" y="0"/>
            <a:ext cx="373392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иготовить насы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раствор электролита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варенной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5410080" cy="655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8120" y="4876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3760" y="0"/>
            <a:ext cx="380988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талл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стержни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грузить в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электролита и подклю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к источнику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834080" cy="6019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3372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199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Наблюдаю бурное выделение газа на катоде и небольш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зменение цвета на ан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1676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5238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627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и дальнейшем проведении электролиза наблюдаю бур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реакцию с выделением газа на электродах и все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нтенсивную серо-зеленую окраску вблизи анод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9907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9907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В растворе без подкисления образуется зеленов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гелеобразный оса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933960" cy="51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477120" y="5335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0"/>
            <a:ext cx="4191120" cy="361944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и дальнейшем воздействии электрического тока осадок меняет цвет на коричне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аблюдаемыми свойствами – придавать электролиту зеленый цвет вблизи анода – обладают ионы жел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Fe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+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9144000" cy="33526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(OH)</a:t>
            </a:r>
            <a:r>
              <a:rPr b="0" lang="ru-RU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при дальнейшем электролизе окисляется до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(OH)</a:t>
            </a:r>
            <a:r>
              <a:rPr b="0" lang="ru-RU" sz="2000" spc="-1" strike="noStrike" baseline="-20000">
                <a:solidFill>
                  <a:srgbClr val="9cb084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бурого цвета:                                      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→ Fe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3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Т.к. в растворе присутствуют ионы хлора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NaCl → Na</a:t>
            </a:r>
            <a:r>
              <a:rPr b="0" lang="en-US" sz="2000" spc="-1" strike="noStrike" baseline="30000">
                <a:solidFill>
                  <a:srgbClr val="9cb084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l</a:t>
            </a:r>
            <a:r>
              <a:rPr b="0" lang="en-US" sz="2000" spc="-1" strike="noStrike" baseline="30000">
                <a:solidFill>
                  <a:srgbClr val="9cb084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араллельно с образованием осадка выделяется газ Cl</a:t>
            </a:r>
            <a:r>
              <a:rPr b="0" lang="ru-RU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специфической окраской и запахом:   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9cb084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Cl</a:t>
            </a:r>
            <a:r>
              <a:rPr b="0" lang="en-US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На катоде в результате электролиза происходит вос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онов электролита с образованием новых продуктов. Катионы приним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электроны и превращаются в ионы более низкой степени окисления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К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3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ē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→ Fe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2+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(катод принял цвет осадка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серо-зеле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9cb084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H</a:t>
            </a:r>
            <a:r>
              <a:rPr b="0" lang="ru-RU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из воды (выделение га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627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Вывод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данные стержни из стали - сплава на основе жел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Сопутствующие выводы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масса анода уменьшилась, анод с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тоньше, на его поверхности рыхлый слой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(OH)</a:t>
            </a:r>
            <a:r>
              <a:rPr b="0" lang="en-US" sz="2000" spc="-1" strike="noStrike" baseline="-25000">
                <a:solidFill>
                  <a:srgbClr val="9cb084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коричневого цвета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раствора, я оставила его для более наглядного вос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масса катода увеличилась, катод принял зеленовато-серый 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осадившегося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(OH)</a:t>
            </a:r>
            <a:r>
              <a:rPr b="0" lang="en-US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. Процесс длился два ч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1.4. Нанесение слоя цинка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на стальную пластинку электрическим т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Необходимо приготовить электролит, содержащий соль ц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5048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0532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8000" y="47242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26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АКТУАЛЬНОСТЬ ВЫБРАННОЙ ТЕМЫ: методами химического и электрохимического восстановления осаждают защитные, декоративные, жаростойкие, коррозийно-устойчивые, износостойкие, токопроводящие покрытия, получают готовые изделия нужной формы (процесс гальванопластики), извлекают металлы из растворов, регенерируя таким образом металлы, получают порошки для последующего формирования из них металлоизделий или восстановления изношенных дет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200040"/>
            <a:ext cx="9144000" cy="38098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ПРАКТИЧЕСКАЯ ЗНАЧИМОСТЬ: подготовка и выступлени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научно-проектной конференции. Использовать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работы на уроках химии в качестве дидактического материала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изучении  темы: Электро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МЕТОДЫ, ПРИМЕНЯЕМЫЕ ПРИ ВЫПОЛНЕНИИ РАБО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изучение литературы по данн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практическое применении различных способов получения покры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металлами на поверхности токопроводящих предм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наблюдение за результатами химических процессов на каж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этапе, фотографирование с последующим описа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объяснение и обобщение результатов проведенных опы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мещаю пластинки цинка в раствор 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Times New Roman"/>
              </a:rPr>
              <a:t>Наблюдаю выделение газа с поверхности пластинок ци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Zn + H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 = Zn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 + H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Times New Roman"/>
              </a:rPr>
              <a:t>Необходимо дождаться окончания реакции и перелить электроли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Times New Roman"/>
              </a:rPr>
              <a:t>гальваническую ван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45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и изучении влияний условия на процесс (изменение силы ток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цепи) в электрическую цепь необходимо включить амперметр и реос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086600" cy="4876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74320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8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429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814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77120" cy="4743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62520" y="3429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5146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альн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nS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4038480"/>
            <a:ext cx="60948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962160" y="3733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124080"/>
            <a:ext cx="121896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3048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и растворении анода, состоящего из того металла, оса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которого проводится, раствор пополняется ионами осаждаем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мет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⁰ → Zn²</a:t>
            </a:r>
            <a:r>
              <a:rPr b="0" lang="ru-RU" sz="2000" spc="-1" strike="noStrike" baseline="30000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814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5924600">
            <a:off x="3825720" y="2878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267080" y="27428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7080" y="274284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5648600">
            <a:off x="4168800" y="2459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572000" y="236232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5778200">
            <a:off x="4778280" y="27644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81480" y="259056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457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7339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9383600">
            <a:off x="2895840" y="2437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124080" y="2514600"/>
            <a:ext cx="457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1676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n²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028840" y="1905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 катоде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9cb084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H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↑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из воды (выделение г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 аноде: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2ē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растворение материала ан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(цинковой пластин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оисходит перенос вещества с анода на катод. Масса  катода увелич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48320" y="0"/>
            <a:ext cx="4495680" cy="34732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1. Я увеличила сопротивление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R)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электрической цепи, т.о. сила тока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)   уменьшилась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закон Ома):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I = U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скорость растворение анода небольшая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297144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9480" y="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cb084"/>
                </a:solidFill>
                <a:uFillTx/>
                <a:latin typeface="Arial"/>
              </a:rPr>
              <a:t>R </a:t>
            </a:r>
            <a:r>
              <a:rPr b="1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ув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2971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43440" y="4876920"/>
            <a:ext cx="609480" cy="1066680"/>
          </a:xfrm>
          <a:prstGeom prst="line">
            <a:avLst/>
          </a:prstGeom>
          <a:ln w="28440">
            <a:solidFill>
              <a:srgbClr val="9cb0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04920"/>
            <a:ext cx="152280" cy="304560"/>
          </a:xfrm>
          <a:prstGeom prst="line">
            <a:avLst/>
          </a:prstGeom>
          <a:ln w="28440">
            <a:solidFill>
              <a:srgbClr val="9cb0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943240" y="2819520"/>
            <a:ext cx="762120" cy="609480"/>
          </a:xfrm>
          <a:prstGeom prst="line">
            <a:avLst/>
          </a:prstGeom>
          <a:ln w="28440">
            <a:solidFill>
              <a:srgbClr val="9cb0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80880"/>
            <a:ext cx="358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343400"/>
            <a:ext cx="3429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60880"/>
            <a:ext cx="4648320" cy="361944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2. Сопротивление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R)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уменьшила, сила тока (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I)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увеличилась, растворение цинковой пластинки происходит интенсивнее и с большей скоростью, но качество покрытия катода ухудшается, становится рых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6400" y="251460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cb084"/>
                </a:solidFill>
                <a:uFillTx/>
                <a:latin typeface="Arial"/>
              </a:rPr>
              <a:t>R </a:t>
            </a:r>
            <a:r>
              <a:rPr b="1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умень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7760" y="2133720"/>
            <a:ext cx="2438280" cy="685800"/>
          </a:xfrm>
          <a:prstGeom prst="line">
            <a:avLst/>
          </a:prstGeom>
          <a:ln w="28440">
            <a:solidFill>
              <a:srgbClr val="9cb0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4572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скорость растворения </a:t>
            </a:r>
            <a:r>
              <a:rPr b="1" lang="en-US" sz="2000" spc="-1" strike="noStrike" u="sng">
                <a:solidFill>
                  <a:srgbClr val="9cb084"/>
                </a:solidFill>
                <a:uFillTx/>
                <a:latin typeface="Arial"/>
              </a:rPr>
              <a:t>Zn</a:t>
            </a:r>
            <a:r>
              <a:rPr b="1" lang="ru-RU" sz="2000" spc="-1" strike="noStrike" u="sng">
                <a:solidFill>
                  <a:srgbClr val="9cb084"/>
                </a:solidFill>
                <a:uFillTx/>
                <a:latin typeface="Arial"/>
              </a:rPr>
              <a:t> увелич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15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Стальную пластинку я погружала в раствор электролита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олностью, чтобы результат был очевиден. Процесс цинк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ластинки длился несколько часов. Покрытие получилось про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ВЫВОДЫ</a:t>
            </a:r>
            <a:r>
              <a:rPr b="0" lang="en-US" sz="2400" spc="-1" strike="noStrike">
                <a:solidFill>
                  <a:srgbClr val="9cb084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Скорости электродных реакций зависят 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1. состава и концентрации электрол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2. материала электр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3. плотности тока – силы тока, действующей на единицу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I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Масса и качество осажденного металла зависят 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1. материала элект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2. плотности 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3. времени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II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В процессе электролиза получено избирательное покр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предмета другим метал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V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В процессе электролиза установлен качественный 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V.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олиз – физико-химический процесс, теоре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основой которого являются законы М.Фарадея, позволя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рассчитать выход продукта по массе, спрогнозировать необх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результат и повлиять на ход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2.  ЧАСТЬ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.  КОНТАКТНОЕ ВЫТЕСНЕНИЕ МЕДИ ИЗ РАСТВОРА ПРИ ИСПОЛЬЗОВАНИИ РАЗЛИЧНЫХ ВОССТАНОВ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4800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048120" y="4191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n  Zn 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15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-ый день: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я поместила образцы металлов в пробирки с концентрированным раствором медного купор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ЧАСТЬ:  ЭЛЕКТРОЛИЗ ВОДНЫХ РАСТВОРОВ С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.1. </a:t>
            </a:r>
            <a:r>
              <a:rPr b="1" lang="ru-RU" sz="2000" spc="-1" strike="noStrike">
                <a:solidFill>
                  <a:srgbClr val="9cb084"/>
                </a:solidFill>
                <a:latin typeface="Times New Roman"/>
              </a:rPr>
              <a:t>Покрытие  стального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токопроводящего предмета (моне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слоем меди электрическим током с погружением в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1.2. Нанесение на алюминиевый предмет (ложку) слоя м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ическим  током без погружения в раствор э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1.3. Установление природы металлических стерж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1.4. Нанесение слоя цинка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 стальную пластинку электри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т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2.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ЧАСТЬ: КОНТАКТНОЕ ВЫТЕСНЕНИЕ МЕДИ ИЗ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ПРИ ИСПОЛЬЗОВАНИИ РАЗЛИЧНЫХ ВОССТАНОВ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ЧАСТЬ: ПРИМЕНЕНИЕ ПРОЦЕССОВ ВОССТАН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4.   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672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2-ой день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: в пробирках №2 и №3 изменился цвет раств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47920" y="297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                  Zn                    Fe               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9528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и детальном рассмотрении установлено, что реа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замещения началась в пробирках с образцами цинка и железа: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= Z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Fe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"/>
              </a:rPr>
              <a:t>4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= Fe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943600" cy="510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23880" y="4572000"/>
            <a:ext cx="2895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952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  Z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609480"/>
            <a:ext cx="5410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17899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3-ий день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дал следующи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cb08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оны меди восстановились в первую очередь на цинковой пластинк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+ 2ē → 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– раствор стал прозрач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43600" y="1752480"/>
            <a:ext cx="3200400" cy="51055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2. во вторую очер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ионы м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восстановились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железном гвозд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раствор приобр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бледно-голубую окрас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3. начало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замещения в 4-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пробир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=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n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SO</a:t>
            </a:r>
            <a:r>
              <a:rPr b="1" lang="ru-RU" sz="2000" spc="-1" strike="noStrike" baseline="-25000">
                <a:solidFill>
                  <a:srgbClr val="9cb084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Cu</a:t>
            </a:r>
            <a:r>
              <a:rPr b="1" lang="ru-RU" sz="2000" spc="-1" strike="noStrike" baseline="30000">
                <a:solidFill>
                  <a:srgbClr val="9cb084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о чем свидетель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слабое изменение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образца о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24840" cy="1828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b084"/>
                </a:solidFill>
                <a:latin typeface="Times New Roman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Скорость выделения меди из раствора при исполь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различных восстановителей различна, а знач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2. восстановительные свойства металлов разли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3. Расположение исследуемых металлов в ряд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4. Преимущества электролиза перед химически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получения целевых продуктов заключаются в возм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сравнительно просто (регулируя ток) управлять скоростью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селективной направленностью реакций. Условия электролиза лег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контролировать, благодаря чему можно осуществлять процессы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в самых «мягких», так и в наиболее «жестких»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1143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Fe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n Pb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3.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ЧАСТЬ: ПРИМЕНЕНИЕ ПРОЦЕССОВ       </a:t>
            </a:r>
            <a:br>
              <a:rPr sz="2400"/>
            </a:b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   ВОССТАНОВЛЕНИЯ  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1219320"/>
          <a:ext cx="914400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495288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ТОД, ПРОЦЕССЫ НА КАТ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ОД, ПРОЦ. НА 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974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МЕТАЛЛУР 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олучение чистых металлов: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Na, Ca, Mg, Al, Zn, Cu, Ni, Cd, Co, 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ерастворимый ан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угольный, графитовый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чищение: С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u, Ni, Sn, Pb, Ag, 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чищаемый мет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ГАЛЬВАНО СТ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Защита изделий от коррозии, придания им эстетического оформления: 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Cr, Ni, Ag, Au,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ластины из того металла, который осаждается на кат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ГАЛЬВАНО ПЛА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олучение точных копий с рельефных предметов (изготовление бюстов, стату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ХИМИЧ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Я ПР-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Cl</a:t>
                      </a:r>
                      <a:r>
                        <a:rPr b="1" lang="ru-RU" sz="18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, O</a:t>
                      </a:r>
                      <a:r>
                        <a:rPr b="1" lang="en-US" sz="1800" spc="-1" strike="noStrike" baseline="-25000">
                          <a:solidFill>
                            <a:srgbClr val="9cb084"/>
                          </a:solidFill>
                          <a:latin typeface="Arial"/>
                        </a:rPr>
                        <a:t>2, </a:t>
                      </a: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анилин и 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ОЧИСТКА СТОЧ. 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Нерастворимые анод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растворимые (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Al, F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37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ЭЛ.ХИМИЧ ПОЛИ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КА МЕ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b3782"/>
                        </a:gs>
                        <a:gs pos="100000">
                          <a:srgbClr val="4e19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b3782"/>
                        </a:gs>
                        <a:gs pos="100000">
                          <a:srgbClr val="4e19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Резное изделие, соеди ненное с «+» выравни вается, т.к. наиболее интенсивно </a:t>
                      </a:r>
                      <a:r>
                        <a:rPr b="0" lang="en-US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ē</a:t>
                      </a:r>
                      <a:r>
                        <a:rPr b="0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 покидают именно высту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b3782"/>
                        </a:gs>
                        <a:gs pos="100000">
                          <a:srgbClr val="4e193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9cb0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Большая советская энциклопедия, БСЭ. 2012</a:t>
            </a:r>
            <a:r>
              <a:rPr b="0" lang="en-US" sz="3200" spc="-1" strike="noStrike">
                <a:solidFill>
                  <a:srgbClr val="9cb0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2. Реми Г. Курс неорганической химии. Т. 1, 2. М. : Мир, (197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3. Рэмсден Э. Н. Начала современной химии. Л.:Химия, (198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4. Гроссе Э., Вайсмантель Х. Химия для  любознате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Л: Химия, (19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5. Манкевич Н.В. Неорганическая химия. Весь шк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курс в таблицах. Минск «Букмастер» «Кузьма»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6. Шульпин Г.Б. Химия для всех. Издательство «Знани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Москва, 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9cb084"/>
                </a:solidFill>
                <a:latin typeface="Arial"/>
              </a:rPr>
              <a:t>7. Фадеев Г.Н. Химические реакции. Пособие для учащихся. Москва «Просвещение», 19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03848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4572000"/>
          </a:xfrm>
          <a:prstGeom prst="rect">
            <a:avLst/>
          </a:prstGeom>
          <a:gradFill rotWithShape="0">
            <a:gsLst>
              <a:gs pos="0">
                <a:srgbClr val="43122f"/>
              </a:gs>
              <a:gs pos="100000">
                <a:srgbClr val="93296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b084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9cb084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1.   </a:t>
            </a:r>
            <a:r>
              <a:rPr b="1" lang="en-US" sz="2400" spc="-1" strike="noStrike">
                <a:solidFill>
                  <a:srgbClr val="9cb084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 ЧАСТЬ: ЭЛЕКТРОЛИЗ ВОДНЫХ РАСТВОРОВ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b084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9cb084"/>
                </a:solidFill>
                <a:latin typeface="Times New Roman"/>
              </a:rPr>
              <a:t>1.1. </a:t>
            </a:r>
            <a:r>
              <a:rPr b="1" lang="ru-RU" sz="2400" spc="-1" strike="noStrike">
                <a:solidFill>
                  <a:srgbClr val="9cb084"/>
                </a:solidFill>
                <a:latin typeface="Times New Roman"/>
              </a:rPr>
              <a:t>Покрытие  стального</a:t>
            </a:r>
            <a:r>
              <a:rPr b="1" lang="ru-RU" sz="2400" spc="-1" strike="noStrike">
                <a:solidFill>
                  <a:srgbClr val="9cb084"/>
                </a:solidFill>
                <a:latin typeface="Arial"/>
              </a:rPr>
              <a:t> токопроводящего предмета (монеты) слоем меди электрическим током с погружением в раствор э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Электролиз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(от электро... и греч. lysis - разложение, растворение, распад), совокупность процессов электрохимического окисления-восстановления на погруженных в электролит электродах при прохождении через него электрического 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Анод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положительный э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Катод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отрицательный э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9cb084"/>
                </a:solidFill>
                <a:latin typeface="Arial"/>
              </a:rPr>
              <a:t>Особенность электролиза - пространственное разделение процессов окисления и восстановления: электрохимическое окисление происходит на аноде, восстановление - на кат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240" y="0"/>
            <a:ext cx="43434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cb084"/>
                </a:solidFill>
                <a:latin typeface="Arial Unicode MS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Электролиз может быть лег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осуществим при растворени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оде солей, диссоциирующих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и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Cu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  → Cu²+ + SO</a:t>
            </a:r>
            <a:r>
              <a:rPr b="1" lang="en-US" sz="2000" spc="-1" strike="noStrike" baseline="-25000">
                <a:solidFill>
                  <a:srgbClr val="9cb084"/>
                </a:solidFill>
                <a:latin typeface="Arial Unicode MS"/>
              </a:rPr>
              <a:t>4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²‾</a:t>
            </a: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Процессы окислен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осстановления в раств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проходят глубже, если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раствора кислая. Для повы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рН раствора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добавить серную кисл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      </a:t>
            </a: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 качестве гальван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анны можно использ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любую стеклянную е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такого размера, чт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покрываемый метал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предмет свободно размещалс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ней и при этом не наход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cb084"/>
                </a:solidFill>
                <a:latin typeface="Arial Unicode MS"/>
              </a:rPr>
              <a:t>вблизи от ан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34320" y="1447920"/>
            <a:ext cx="2209680" cy="541008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олю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Ист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итания. Мо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–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катод. Ме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ро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соедине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оложи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олю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ист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питан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являетс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настоящей це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анодом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54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5791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2209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362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SO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24080" y="53341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0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33520"/>
            <a:ext cx="8305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173088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В качестве источника электропитания можно использовать как стационарный источник постоянного тока, так и электрическую батарейку, которая дает напряжение 4 – 10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cb084"/>
                </a:solidFill>
                <a:latin typeface="Arial Unicode MS"/>
              </a:rPr>
              <a:t>          </a:t>
            </a:r>
            <a:r>
              <a:rPr b="0" lang="en-US" sz="2000" spc="-1" strike="noStrike">
                <a:solidFill>
                  <a:srgbClr val="9cb084"/>
                </a:solidFill>
                <a:latin typeface="Arial Unicode MS"/>
              </a:rPr>
              <a:t>Монета с помощью проволоки присоединена к отрицательном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57440" y="0"/>
            <a:ext cx="3886200" cy="6858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5000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ри прове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электролиза элект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должны быть погружены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растворы, содержа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ионы, т. е. в электро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54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5638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6248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gradFill rotWithShape="0">
            <a:gsLst>
              <a:gs pos="0">
                <a:srgbClr val="ab3782"/>
              </a:gs>
              <a:gs pos="100000">
                <a:srgbClr val="4e193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4e193b"/>
              </a:gs>
              <a:gs pos="100000">
                <a:srgbClr val="ab37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Площадь анода необходимо увеличить, наматывая на 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спиралью медную проволоку. Расстояние между электродами –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6705720" cy="5181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124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914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84"/>
                </a:solidFill>
                <a:latin typeface="Arial"/>
              </a:rPr>
              <a:t>меньше 8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41:35Z</dcterms:created>
  <dc:creator>Lenovo G500</dc:creator>
  <dc:description/>
  <dc:language>en-US</dc:language>
  <cp:lastModifiedBy>Lenovo G500</cp:lastModifiedBy>
  <dcterms:modified xsi:type="dcterms:W3CDTF">2022-02-15T13:11:12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