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3DB-8243-4DF2-BE15-77D1D4D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60D-D715-48DB-BC28-DF73E06A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048-086F-4583-BFD9-CA79D90C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C4F-9436-459B-B487-8133B160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6EA-1E25-4A5C-BB42-6BFE9EC3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3B2-CFF2-4AB4-9382-5CC69824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E05-3A2F-45D9-A5F6-E53A059C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5CE-DBD0-412D-B367-64CC7B8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03A-D80F-46ED-ACA9-70543B0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323-7A5E-4560-99A0-6305E95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5D5-1409-48D9-8BDE-572EB68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3C3-28AA-49A3-BE4C-1581AF6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33D-08B8-47EE-B80D-FA1D2F09D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38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Исследовательский проект 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9cb084"/>
                </a:solidFill>
                <a:latin typeface="Times New Roman"/>
              </a:rPr>
              <a:t>ЭЛЕКТРОХИМИЧЕСКОЕ  И ХИМИЧЕСКОЕ  ВОССТАНОВЛЕНИЕ МЕТАЛЛОВ  ИЗ  РАСТ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Автор: Галкина  Анаста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учащаяся  11 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МБОУ  СОШ  с. Большие  Оз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6201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оцессы, протекающие на электродах при электролизе раст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784080"/>
          <a:ext cx="9144000" cy="6073920"/>
        </p:xfrm>
        <a:graphic>
          <a:graphicData uri="http://schemas.openxmlformats.org/drawingml/2006/table">
            <a:tbl>
              <a:tblPr/>
              <a:tblGrid>
                <a:gridCol w="3352680"/>
                <a:gridCol w="3429000"/>
                <a:gridCol w="2362320"/>
              </a:tblGrid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од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 зависят от материала катода; зависят от поло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еталла в ряду напря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Зависят от материала анода и природы ан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нерастворимый (инертный), т.е. изготовлен из угля графита,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Pt, 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растворимый, из- готовлен из С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u, Ag, Zn, Ni, Fe 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 др. (кром.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Pt, Au)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В первую очередь восстанавл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ются катионы металлов, стоящие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яду напряжений после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+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+ nē → 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В первую очередь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кис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бескислородных 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(кроме </a:t>
                      </a:r>
                      <a:r>
                        <a:rPr b="1" i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     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m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- mē → A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 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кисляю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дёт оки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томов металла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  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° -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 →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ереходят в раство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асса ан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уменьшае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 металлов сре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ктивности, стоящие между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</a:t>
                      </a:r>
                      <a:r>
                        <a:rPr b="1" i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восстанавливаются одновременно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водой: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+ nē →Me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           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 → 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2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 оксокислот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(SO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O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2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i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 окисляются, идёт оки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олекул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4ē → O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4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 активных мет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т 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Li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до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(включительно) не вос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авливаются, а восстанавлив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олекулы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 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+ 2ē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→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 2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и электролизе раст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щелочей окисляются ионы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H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4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- 4ē → O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4.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и электролизе растворов кислот восстанавливаются катионы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 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 2ē →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-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↑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2578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7339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1240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875000">
            <a:off x="4420080" y="34286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²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724280" y="36572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005600">
            <a:off x="4824000" y="3785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²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181480" y="373392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катоде в результате электролиза происходит восстановление ионов электролита. Катионы принимают электроны и превращаются в атомы                             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аноде в результате электролиза происходит окисление молекул, принадлежащих материалу анода (анод растворяет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81120" y="0"/>
            <a:ext cx="39625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лиз сводитс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ереносу меди с анод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</a:t>
            </a:r>
            <a:br>
              <a:rPr sz="2000"/>
            </a:b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→ 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зменение окраск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е протекает быстро: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ескольких секунд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ескольких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В результате электролиза поверхность катода покр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ленкой осаждающегося металла: меняется ее цвет, увеличивается м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а в соответствии с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1-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коном Фарадея: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m  = k • I • t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масса вещества, которая выделилась при электролизе на кат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ямо пропорциональна тому электричеству, который прошел скво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лит в единицу времени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.2. Нанесение на алюминиевый предмет (ложку) слоя меди электрическим  током без погружения в раствор э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верхность алюминиевой ложки необходимо очистить от оксидной пленки наждачной бумагой и обезжирить раствором соды технической, затем ложку поместить в пустую стеклянную ем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 присоедин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609624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6200" y="327672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21932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водом к отрицательному полюсу источника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дный провод необходимо распределить между щети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зубной щетки и другим концом соединить с «+» источника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 приготовить насыщенный подкисленный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553080" cy="4875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14479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дного купо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жду поверхностью обрабатываемой детали (катода) и ме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водом (анода) всегда должен быть слой электролита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мпровизированную кисть необходимо помещать в раствор 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стоя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Во время работы медный провод не должен касаться ло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замыкать электрическую цепь должен раствор электрол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цесс детального покрытия ложки медью длился несколько минут. Избирательное нанесение медного покрытия применяется в дизайнерских про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ЦЕЛЬ:      получение покрытия из других металлов на    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токопроводящих предметах электрическим током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и контактным вытеснением металлов из растворов  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их солей более активными метал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зучение условий проведения электролиза и их  влияния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проце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пределение природы растворимых электр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демонстрация тесной межпредметной связи между химие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 физи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опоставление окислительно-восстановительной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ктивности металлов в водных растворах и расположени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х в ряд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знакомление с практическим значением химически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оцессов восстановления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cb0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.3. Определение природы металлических стержней</a:t>
            </a:r>
            <a:br>
              <a:rPr sz="2400"/>
            </a:b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150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10080" y="0"/>
            <a:ext cx="37339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готовить насы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аствор электролит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варенной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5410080" cy="655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8120" y="4876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тал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тержни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грузить в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электролита и под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к источнику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834080" cy="6019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37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аблюдаю бурное выделение газа на катоде и небольш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зменение цвета на ан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1676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5238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дальнейшем проведении электролиза наблюдаю бур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еакцию с выделением газа на электродах и все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нтенсивную серо-зеленую окраску вблизи анод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990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990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В растворе без подкисления образуется зеленов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гелеобразный ос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1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477120" y="5335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0"/>
            <a:ext cx="4191120" cy="361944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дальнейшем воздействии электрического тока осадок меняет цвет на коричне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блюдаемыми свойствами – придавать электролиту зеленый цвет вблизи анода – обладают ионы жел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+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при дальнейшем электролизе окисляется до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ru-RU" sz="2000" spc="-1" strike="noStrike" baseline="-20000">
                <a:solidFill>
                  <a:srgbClr val="9cb084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бурого цвета:                                    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→ 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3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Т.к. в растворе присутствуют ионы хлор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NaCl → Na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l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араллельно с образованием осадка выделяется газ Cl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пецифической окраской и запахом: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l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катоде в результате электролиза происходит вос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ов электролита с образованием новых продуктов. Катионы приним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ны и превращаются в ионы более низкой степени окислени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3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 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2+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катод принял цвет осадка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еро-зеле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H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из воды (выделение га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ывод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данные стержни из стали - сплава на основе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опутствующие выводы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масса анода уменьшилась, анод с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тоньше, на его поверхности рыхлый слой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коричневого цвет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раствора, я оставила его для более нагляд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масса катода увеличилась, катод принял зеленовато-серый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садившегося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. Процесс длился два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.4. Нанесение слоя цинка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на стальную пластинку электрическим 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 приготовить электролит, содержащий соль ц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5048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0532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0" y="4724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АКТУАЛЬНОСТЬ ВЫБРАННОЙ ТЕМЫ: методами химического и электрохимического восстановления осаждают защитные, декоративные, жаростойкие, коррозийно-устойчивые, износостойкие, токопроводящие покрытия, получают готовые изделия нужной формы (процесс гальванопластики), извлекают металлы из растворов, регенерируя таким образом металлы, получают порошки для последующего формирования из них металлоизделий или восстановления изношенных дет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9144000" cy="38098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АКТИЧЕСКАЯ ЗНАЧИМОСТЬ: подготовка и выступлени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научно-проектной конференции. Использовать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работы на уроках химии в качестве дидактического материала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изучении  темы: Электро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ЕТОДЫ, ПРИМЕНЯЕМЫЕ ПРИ ВЫПОЛНЕНИИ РАБО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изучение литературы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актическое применении различных способов получения покры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еталлами на поверхности токопроводящих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наблюдение за результатами химических процессов на каж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этапе, фотографирование с последующим описа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объяснение и обобщение результатов проведенных опы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мещаю пластинки цинка в раствор 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Наблюдаю выделение газа с поверхности пластинок ци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Zn + H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= Zn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+ H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Необходимо дождаться окончания реакции и перелить электроли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гальваническую ван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изучении влияний условия на процесс (изменение силы ток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цепи) в электрическую цепь необходимо включить амперметр и реос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086600" cy="487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4320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81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77120" cy="4743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2520" y="3429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5146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аль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nS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4038480"/>
            <a:ext cx="60948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96216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124080"/>
            <a:ext cx="121896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048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растворении анода, состоящего из того металла, оса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оторого проводится, раствор пополняется ионами осаждае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⁰ → Zn²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81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5924600">
            <a:off x="3825720" y="2878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67080" y="27428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7080" y="274284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648600">
            <a:off x="4168800" y="2459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72000" y="236232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5778200">
            <a:off x="4778280" y="27644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81480" y="259056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457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7339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383600">
            <a:off x="2895840" y="2437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124080" y="2514600"/>
            <a:ext cx="457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76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028840" y="1905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катоде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H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из воды (выделение г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аноде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растворение материала ан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цинковой пластин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оисходит перенос вещества с анода на катод. Масса  катода увелич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48320" y="0"/>
            <a:ext cx="4495680" cy="3473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Я увеличила сопротивление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)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электрической цепи, т.о. сила ток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   уменьшилась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кон Ома):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 = U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скорость растворение анода небольшая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9714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9480" y="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R 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ув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2971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43440" y="4876920"/>
            <a:ext cx="609480" cy="106668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04920"/>
            <a:ext cx="152280" cy="30456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943240" y="2819520"/>
            <a:ext cx="762120" cy="60948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80880"/>
            <a:ext cx="358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343400"/>
            <a:ext cx="3429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60880"/>
            <a:ext cx="4648320" cy="361944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Сопротивление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)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уменьшила, сила ток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)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увеличилась, растворение цинковой пластинки происходит интенсивнее и с большей скоростью, но качество покрытия катода ухудшается, становится рых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6400" y="251460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R 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умень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7760" y="2133720"/>
            <a:ext cx="2438280" cy="68580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4572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скорость растворения </a:t>
            </a: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Zn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 увелич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тальную пластинку я погружала в раствор электролит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лностью, чтобы результат был очевиден. Процесс цинк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ластинки длился несколько часов. Покрытие получилось про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ВЫВОДЫ</a:t>
            </a:r>
            <a:r>
              <a:rPr b="0" lang="en-US" sz="2400" spc="-1" strike="noStrike">
                <a:solidFill>
                  <a:srgbClr val="9cb08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корости электродных реакций зависят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состава и концентрации электрол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материала электр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плотности тока – силы тока, действующей на единицу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Масса и качество осажденного металла зависят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материала элект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плотности 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времени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 процессе электролиза получено избирательное покр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едмета другим метал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V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 процессе электролиза установлен качественный 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V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з – физико-химический процесс, теоре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сновой которого являются законы М.Фарадея, позво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рассчитать выход продукта по массе, спрогнозировать необх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результат и повлиять на ход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2.  ЧАСТЬ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.  КОНТАКТНОЕ ВЫТЕСНЕНИЕ МЕДИ ИЗ РАСТВОРА ПРИ ИСПОЛЬЗОВАНИИ РАЗЛИЧНЫХ ВОССТАНО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812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n  Zn 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-ый день: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я поместила образцы металлов в пробирки с концентрированным раствором медного купо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ЧАСТЬ:  ЭЛЕКТРОЛИЗ ВОДНЫХ РАСТВОР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.1. </a:t>
            </a:r>
            <a:r>
              <a:rPr b="1" lang="ru-RU" sz="2000" spc="-1" strike="noStrike">
                <a:solidFill>
                  <a:srgbClr val="9cb084"/>
                </a:solidFill>
                <a:latin typeface="Times New Roman"/>
              </a:rPr>
              <a:t>Покрытие  стального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токопроводящего предмета (мон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лоем меди электрическим током с погружением в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2. Нанесение на алюминиевый предмет (ложку) слоя м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ическим  током без погружения в раствор 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3. Установление природы металлических стерж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4. Нанесение слоя цинка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стальную пластинку электр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ЧАСТЬ: КОНТАКТНОЕ ВЫТЕСНЕНИЕ МЕДИ ИЗ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И ИСПОЛЬЗОВАНИИ РАЗЛИЧНЫХ ВОССТАНОВ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ЧАСТЬ: ПРИМЕНЕНИЕ ПРОЦЕССОВ ВОС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4.   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67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-ой день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: в пробирках №2 и №3 изменился цвет раств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47920" y="297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                  Zn                    Fe               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952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детальном рассмотрении установлено, что ре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мещения началась в пробирках с образцами цинка и железа: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= 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= 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943600" cy="510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23880" y="4572000"/>
            <a:ext cx="289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  Z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609480"/>
            <a:ext cx="5410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17899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3-ий день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дал следующи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cb08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ы меди восстановились в первую очередь на цинковой пластин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– раствор стал прозрач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43600" y="1752480"/>
            <a:ext cx="3200400" cy="51055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во вторую очер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ы м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восстановились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железном гвозд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раствор приобр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бледно-голубую окрас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начало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мещения в 4-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обир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 чем свидетель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лабое 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бразца о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4840" cy="1828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корость выделения меди из раствора при исполь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различных восстановителей различна, а знач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. восстановительные свойства металлов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. Расположение исследуемых металлов в ряд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. Преимущества электролиза перед химически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олучения целевых продуктов заключаются в возм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равнительно просто (регулируя ток) управлять скорость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елективной направленностью реакций. Условия электролиза лег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контролировать, благодаря чему можно осуществлять процессы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в самых «мягких», так и в наиболее «жестких»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114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Fe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n Pb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ЧАСТЬ: ПРИМЕНЕНИЕ ПРОЦЕССОВ       </a:t>
            </a:r>
            <a:br>
              <a:rPr sz="2400"/>
            </a:b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  ВОССТАНОВЛЕНИЯ  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219320"/>
          <a:ext cx="914400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49528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ОД, ПРОЦЕССЫ НА К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, ПРОЦ. НА 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97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ЕТАЛЛУР 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учение чистых металлов: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Na, Ca, Mg, Al, Zn, Cu, Ni, Cd, Co, 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растворимый ан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угольный, графитовый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щение: С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u, Ni, Sn, Pb, Ag, 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щаемый мет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ГАЛЬВАНО СТ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Защита изделий от коррозии, придания им эстетического оформления: 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r, Ni, Ag, Au,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ластины из того металла, который осаждается на к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ГАЛЬВАНО ПЛ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учение точных копий с рельефных предметов (изготовление бюстов, стату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ХИМИЧ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Я ПР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l</a:t>
                      </a:r>
                      <a:r>
                        <a:rPr b="1" lang="ru-RU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 O</a:t>
                      </a:r>
                      <a:r>
                        <a:rPr b="1" lang="en-US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, </a:t>
                      </a: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лин и 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СТКА СТОЧ. 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растворимые анод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астворимые (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, F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ЭЛ.ХИМИЧ ПОЛ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 МЕ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езное изделие, соеди ненное с «+» выравни вается, т.к. наиболее интенсивно 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</a:t>
                      </a: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покидают именно высту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Большая советская энциклопедия, БСЭ. 2012</a:t>
            </a:r>
            <a:r>
              <a:rPr b="0" lang="en-US" sz="32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. Реми Г. Курс неорганической химии. Т. 1, 2. М. : Мир, (197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. Рэмсден Э. Н. Начала современной химии. Л.:Химия, (198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. Гроссе Э., Вайсмантель Х. Химия для  любозн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Л: Химия, (19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5. Манкевич Н.В. Неорганическая химия. Весь шк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курс в таблицах. Минск «Букмастер» «Кузьма»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6. Шульпин Г.Б. Химия для всех. Издательство «Знани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осква,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7. Фадеев Г.Н. Химические реакции. Пособие для учащихся. Москва «Просвещение», 19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572000"/>
          </a:xfrm>
          <a:prstGeom prst="rect">
            <a:avLst/>
          </a:prstGeom>
          <a:gradFill rotWithShape="0">
            <a:gsLst>
              <a:gs pos="0">
                <a:srgbClr val="43122f"/>
              </a:gs>
              <a:gs pos="100000">
                <a:srgbClr val="93296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1.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ЧАСТЬ: ЭЛЕКТРОЛИЗ ВОДНЫХ РАСТВОРОВ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b084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1.1. </a:t>
            </a: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Покрытие  стального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токопроводящего предмета (монеты) слоем меди электрическим током с погружением в раствор э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з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от электро... и греч. lysis - разложение, растворение, распад), совокупность процессов электрохимического окисления-восстановления на погруженных в электролит электродах при прохождении через него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нод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положительны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атод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отрицательны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собенность электролиза - пространственное разделение процессов окисления и восстановления: электрохимическое окисление происходит на аноде, восстановление - на кат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Электролиз может быть лег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осуществим при растворени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оде солей, диссоциирующих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Cu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 → Cu²+ + 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²‾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оцессы окислен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осстановления в раств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оходят глубже, если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раствора кислая. Для повы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рН раствора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добавить серную кисл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 качестве гальван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анны можно использ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любую стеклянную е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такого размера, 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окрываемый метал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едмет свободно размещал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ней и при этом не нах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близи от ан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34320" y="1447920"/>
            <a:ext cx="220968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ю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Ист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итания. Мо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–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катод. Ме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ро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соедине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ож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ю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ист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итан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являет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настоящей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анодом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5791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209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362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SO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24080" y="5334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33520"/>
            <a:ext cx="830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730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В качестве источника электропитания можно использовать как стационарный источник постоянного тока, так и электрическую батарейку, которая дает напряжение 4 – 10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b084"/>
                </a:solidFill>
                <a:latin typeface="Arial Unicode MS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Монета с помощью проволоки присоединена к отрицательном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про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электролиза элект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должны быть погружен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астворы, содер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оны, т. е. в электр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54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6248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лощадь анода необходимо увеличить, наматывая на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пиралью медную проволоку. Расстояние между электродами –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705720" cy="5181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124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914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ньше 8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41:35Z</dcterms:created>
  <dc:creator>Lenovo G500</dc:creator>
  <dc:description/>
  <dc:language>en-US</dc:language>
  <cp:lastModifiedBy>Lenovo G500</cp:lastModifiedBy>
  <dcterms:modified xsi:type="dcterms:W3CDTF">2022-02-15T13:11:12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