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97B-35D2-4FDC-949E-94665773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EBE-F6F6-47EE-8A3F-75DD0BE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23B-08BC-4B34-9038-A19FC20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562-AB6B-4CBE-8B92-13631425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02D-BB19-4307-B88F-48798D5E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B7F-9831-400F-9B52-9307978B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CF8-C76C-47B1-B48B-12BC3AA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A8C-DD22-4FF0-BA94-61FFA8C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6EF-3552-464B-9BD2-700CACBD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CD4-C856-4107-827A-42C8564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509-5099-4865-9E12-0CA0A05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342-9646-48A0-97F7-C6C6248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A285-B439-44DF-AC25-5205E9FDFF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D75-B9D8-4ED0-AD97-B314CD50A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icture-world.narod.ru/pr/page_34.htm" TargetMode="External"/><Relationship Id="rId2" Type="http://schemas.openxmlformats.org/officeDocument/2006/relationships/hyperlink" Target="http://vesnyanka.ucoz.ru/publ/stati/miniatjury_ehsse_zametki/36-4-2" TargetMode="External"/><Relationship Id="rId3" Type="http://schemas.openxmlformats.org/officeDocument/2006/relationships/hyperlink" Target="http://balkuz.ru/product_info.php?info=p1418_" TargetMode="External"/><Relationship Id="rId4" Type="http://schemas.openxmlformats.org/officeDocument/2006/relationships/hyperlink" Target="http://radiomoon.narod.ru/ocean1.htm" TargetMode="External"/><Relationship Id="rId5" Type="http://schemas.openxmlformats.org/officeDocument/2006/relationships/hyperlink" Target="http://www.gorbushka.ru/map.html?kat=348&amp;id=543883" TargetMode="External"/><Relationship Id="rId6" Type="http://schemas.openxmlformats.org/officeDocument/2006/relationships/hyperlink" Target="http://www.kimritorg.ru/cgi-bin/dsp.pl?from=20&amp;f_id=993&amp;catalog_id=392&amp;event=cat_fabric&amp;cl=search" TargetMode="External"/><Relationship Id="rId7" Type="http://schemas.openxmlformats.org/officeDocument/2006/relationships/hyperlink" Target="http://www.rosbalt.ru/2008/07/22/506076.html" TargetMode="External"/><Relationship Id="rId8" Type="http://schemas.openxmlformats.org/officeDocument/2006/relationships/hyperlink" Target="http://ru.wikipedia.org/wiki/&#1056;&#1077;&#1082;&#1072;" TargetMode="External"/><Relationship Id="rId9" Type="http://schemas.openxmlformats.org/officeDocument/2006/relationships/hyperlink" Target="http://ru.wikipedia.org/wiki/&#1056;&#1091;&#1095;&#1077;&#1081;" TargetMode="External"/><Relationship Id="rId10" Type="http://schemas.openxmlformats.org/officeDocument/2006/relationships/hyperlink" Target="http://1news.az/society/20080602052712967.html" TargetMode="External"/><Relationship Id="rId11" Type="http://schemas.openxmlformats.org/officeDocument/2006/relationships/hyperlink" Target="http://digg.com/users/Philippeog/history/upcoming" TargetMode="External"/><Relationship Id="rId12" Type="http://schemas.openxmlformats.org/officeDocument/2006/relationships/hyperlink" Target="http://times.ua/story/39603/" TargetMode="External"/><Relationship Id="rId13" Type="http://schemas.openxmlformats.org/officeDocument/2006/relationships/hyperlink" Target="http://www.sunhome.ru/journal/121947" TargetMode="External"/><Relationship Id="rId14" Type="http://schemas.openxmlformats.org/officeDocument/2006/relationships/hyperlink" Target="http://club-edu.tambov.ru/vjpusk/vjp105/rabot/15/new_page_4.htm" TargetMode="Externa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ram.mskmir.ru/content/44/hram-vseh-svjatyh" TargetMode="External"/><Relationship Id="rId2" Type="http://schemas.openxmlformats.org/officeDocument/2006/relationships/hyperlink" Target="http://svpressa.ru/society/photo/8404/8" TargetMode="External"/><Relationship Id="rId3" Type="http://schemas.openxmlformats.org/officeDocument/2006/relationships/hyperlink" Target="http://www.vkomode.ru/photogallery/10/98/" TargetMode="External"/><Relationship Id="rId4" Type="http://schemas.openxmlformats.org/officeDocument/2006/relationships/hyperlink" Target="http://biology.at.ua/publ/27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Monotype Corsiva"/>
              </a:rPr>
              <a:t>Про вод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ccff"/>
          </a:solidFill>
          <a:ln w="5724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а есть и в камнях, и в продуктах, и во всех живых организ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76520" y="2914560"/>
            <a:ext cx="3202920" cy="94716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ели – 100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80 к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04880" y="4221000"/>
            <a:ext cx="37591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нарцисса – 100 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85 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76160" y="5516640"/>
            <a:ext cx="330192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лосося – 2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их 1,5 кг -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6"/>
          <p:cNvPicPr/>
          <p:nvPr/>
        </p:nvPicPr>
        <p:blipFill>
          <a:blip r:embed="rId1"/>
          <a:stretch/>
        </p:blipFill>
        <p:spPr>
          <a:xfrm>
            <a:off x="5364000" y="2276640"/>
            <a:ext cx="1652760" cy="216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Picture 8" descr="27"/>
          <p:cNvPicPr/>
          <p:nvPr/>
        </p:nvPicPr>
        <p:blipFill>
          <a:blip r:embed="rId2"/>
          <a:stretch/>
        </p:blipFill>
        <p:spPr>
          <a:xfrm>
            <a:off x="7307280" y="2276640"/>
            <a:ext cx="1438200" cy="2160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24" name="Picture 9" descr="28"/>
          <p:cNvPicPr/>
          <p:nvPr/>
        </p:nvPicPr>
        <p:blipFill>
          <a:blip r:embed="rId3"/>
          <a:stretch/>
        </p:blipFill>
        <p:spPr>
          <a:xfrm>
            <a:off x="5435640" y="4724280"/>
            <a:ext cx="3206880" cy="1366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его загрязняется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30"/>
          <p:cNvPicPr/>
          <p:nvPr/>
        </p:nvPicPr>
        <p:blipFill>
          <a:blip r:embed="rId1"/>
          <a:stretch/>
        </p:blipFill>
        <p:spPr>
          <a:xfrm>
            <a:off x="468360" y="1628640"/>
            <a:ext cx="341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32"/>
          <p:cNvPicPr/>
          <p:nvPr/>
        </p:nvPicPr>
        <p:blipFill>
          <a:blip r:embed="rId2"/>
          <a:stretch/>
        </p:blipFill>
        <p:spPr>
          <a:xfrm>
            <a:off x="4427640" y="1341360"/>
            <a:ext cx="3744720" cy="22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34"/>
          <p:cNvPicPr/>
          <p:nvPr/>
        </p:nvPicPr>
        <p:blipFill>
          <a:blip r:embed="rId3"/>
          <a:stretch/>
        </p:blipFill>
        <p:spPr>
          <a:xfrm>
            <a:off x="4500720" y="3933720"/>
            <a:ext cx="37684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 схему на стр. 43 учеб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ясни, что хотел показать Серёжа своей схе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ывод на стр.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кажи, что ты знаешь об охране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dfhh"/>
          <p:cNvPicPr/>
          <p:nvPr/>
        </p:nvPicPr>
        <p:blipFill>
          <a:blip r:embed="rId1"/>
          <a:stretch/>
        </p:blipFill>
        <p:spPr>
          <a:xfrm>
            <a:off x="2193840" y="4005360"/>
            <a:ext cx="6265800" cy="2244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2" name="Picture 5" descr="vjvcjv"/>
          <p:cNvPicPr/>
          <p:nvPr/>
        </p:nvPicPr>
        <p:blipFill>
          <a:blip r:embed="rId2"/>
          <a:stretch/>
        </p:blipFill>
        <p:spPr>
          <a:xfrm>
            <a:off x="571680" y="4005360"/>
            <a:ext cx="1191960" cy="2238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icture-world.narod.ru/pr/page_34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esnyanka.ucoz.ru/publ/stati/miniatjury_ehsse_zametki/36-4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alkuz.ru/product_info.php?info=p1418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adiomoon.narod.ru/ocean1.ht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gorbushka.ru/map.html?kat=348&amp;id=54388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kimritorg.ru/cgi-bin/dsp.pl?from=20&amp;f_id=993&amp;catalog_id=392&amp;event=cat_fabric&amp;cl=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osbalt.ru/2008/07/22/506076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u.wikipedia.org/wiki/Р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ru.wikipedia.org/wiki/Руч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1news.az/society/20080602052712967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digg.com/users/Philippeog/history/upco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times.ua/story/3960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sunhome.ru/journal/1219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club-edu.tambov.ru/vjpusk/vjp105/rabot/15/new_page_4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ram.mskmir.ru/content/44/hram-vseh-svjaty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vpressa.ru/society/photo/8404/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komode.ru/photogallery/10/98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biology.at.ua/publ/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lego74.by.ru/Catalog_04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tpperm.ru/katalog_izgorod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florio-fashion.com/articles/raznoe-o-cvetax/legendy-o-cvetax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zveri-spb.ru/page(77)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zorro.in.ua/tag/vodokanal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www.vartel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obl-vesti.ru/2010/07/page/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D1F5-058A-4774-98A4-5086B7A52C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AD4-C2A8-4F6F-A6D2-9CE9F2624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987640" y="5300640"/>
            <a:ext cx="30243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1692360" y="1268280"/>
            <a:ext cx="6696000" cy="3600720"/>
          </a:xfrm>
          <a:prstGeom prst="cloudCallout">
            <a:avLst>
              <a:gd name="adj1" fmla="val 30675"/>
              <a:gd name="adj2" fmla="val 31435"/>
            </a:avLst>
          </a:prstGeom>
          <a:solidFill>
            <a:srgbClr val="34bdd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594880" y="1844640"/>
            <a:ext cx="48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 туча, и ту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ручей, и оке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летаю, и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стеклянной быть м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1"/>
          <p:cNvPicPr/>
          <p:nvPr/>
        </p:nvPicPr>
        <p:blipFill>
          <a:blip r:embed="rId1"/>
          <a:stretch/>
        </p:blipFill>
        <p:spPr>
          <a:xfrm>
            <a:off x="250920" y="836640"/>
            <a:ext cx="2305080" cy="143352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pic>
        <p:nvPicPr>
          <p:cNvPr id="51" name="Picture 14" descr="3"/>
          <p:cNvPicPr/>
          <p:nvPr/>
        </p:nvPicPr>
        <p:blipFill>
          <a:blip r:embed="rId2"/>
          <a:stretch/>
        </p:blipFill>
        <p:spPr>
          <a:xfrm>
            <a:off x="468360" y="4005360"/>
            <a:ext cx="1755720" cy="250992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52" name="Picture 15" descr="4"/>
          <p:cNvPicPr/>
          <p:nvPr/>
        </p:nvPicPr>
        <p:blipFill>
          <a:blip r:embed="rId3"/>
          <a:stretch/>
        </p:blipFill>
        <p:spPr>
          <a:xfrm>
            <a:off x="6443640" y="907920"/>
            <a:ext cx="2376360" cy="14400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53" name="Picture 16" descr="2"/>
          <p:cNvPicPr/>
          <p:nvPr/>
        </p:nvPicPr>
        <p:blipFill>
          <a:blip r:embed="rId4"/>
          <a:stretch/>
        </p:blipFill>
        <p:spPr>
          <a:xfrm>
            <a:off x="6877080" y="4005360"/>
            <a:ext cx="1765440" cy="2519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250920" y="1341360"/>
            <a:ext cx="3400200" cy="4464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849480" y="2421000"/>
            <a:ext cx="38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скрути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48040" y="3284640"/>
            <a:ext cx="51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акого цве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лобусе, каким каж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45880" y="2349360"/>
            <a:ext cx="5024160" cy="2653560"/>
          </a:xfrm>
          <a:prstGeom prst="rect">
            <a:avLst/>
          </a:prstGeom>
          <a:solidFill>
            <a:srgbClr val="ccec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убой краской изобра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лобусе вода – все м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кеаны на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занимают в два 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места, чем с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476360" y="2060640"/>
            <a:ext cx="6337440" cy="3816360"/>
          </a:xfrm>
          <a:prstGeom prst="wedgeEllipseCallout">
            <a:avLst>
              <a:gd name="adj1" fmla="val -62000"/>
              <a:gd name="adj2" fmla="val -54162"/>
            </a:avLst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409840" y="2924280"/>
            <a:ext cx="466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ноге стоит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тит-вертит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оказывая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и, горы, оке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827640" y="40464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850560" y="162864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такое глобу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917440" y="404640"/>
            <a:ext cx="557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это модель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7"/>
          <p:cNvPicPr/>
          <p:nvPr/>
        </p:nvPicPr>
        <p:blipFill>
          <a:blip r:embed="rId1"/>
          <a:stretch/>
        </p:blipFill>
        <p:spPr>
          <a:xfrm>
            <a:off x="1258920" y="333360"/>
            <a:ext cx="6927840" cy="3743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906840" y="4508640"/>
            <a:ext cx="724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шей планете четыре океана. Сам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– Тихий, затем Атлантичес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йский и Северный Ледови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916360" y="2276640"/>
            <a:ext cx="3527280" cy="215892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ные запа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68360" y="83664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3564000" y="18900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250920" y="2637000"/>
            <a:ext cx="2232000" cy="12236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300720" y="83664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6732720" y="2637000"/>
            <a:ext cx="2232000" cy="12236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3203640" y="5300640"/>
            <a:ext cx="287964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храни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395280" y="4581360"/>
            <a:ext cx="2232000" cy="12240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6443640" y="4653000"/>
            <a:ext cx="2376360" cy="122544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V="1">
            <a:off x="4643280" y="141264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6372360" y="1915920"/>
            <a:ext cx="360360" cy="43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6443640" y="3284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6372360" y="4365720"/>
            <a:ext cx="36036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4643280" y="443700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2410920" y="4365720"/>
            <a:ext cx="57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 flipH="1">
            <a:off x="2484360" y="328464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 flipH="1" flipV="1">
            <a:off x="2484360" y="1844640"/>
            <a:ext cx="5032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я ли вода на Земл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ригодна для пить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9"/>
          <p:cNvPicPr/>
          <p:nvPr/>
        </p:nvPicPr>
        <p:blipFill>
          <a:blip r:embed="rId1"/>
          <a:stretch/>
        </p:blipFill>
        <p:spPr>
          <a:xfrm>
            <a:off x="468360" y="1555920"/>
            <a:ext cx="3240000" cy="208908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87" name="Picture 6" descr="10"/>
          <p:cNvPicPr/>
          <p:nvPr/>
        </p:nvPicPr>
        <p:blipFill>
          <a:blip r:embed="rId2"/>
          <a:stretch/>
        </p:blipFill>
        <p:spPr>
          <a:xfrm>
            <a:off x="539640" y="4149720"/>
            <a:ext cx="3168720" cy="2089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8" name="Picture 7" descr="11"/>
          <p:cNvPicPr/>
          <p:nvPr/>
        </p:nvPicPr>
        <p:blipFill>
          <a:blip r:embed="rId3"/>
          <a:stretch/>
        </p:blipFill>
        <p:spPr>
          <a:xfrm>
            <a:off x="5219640" y="4149720"/>
            <a:ext cx="3167280" cy="20908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9" name="Picture 8" descr="8"/>
          <p:cNvPicPr/>
          <p:nvPr/>
        </p:nvPicPr>
        <p:blipFill>
          <a:blip r:embed="rId4"/>
          <a:stretch/>
        </p:blipFill>
        <p:spPr>
          <a:xfrm>
            <a:off x="5292720" y="1555920"/>
            <a:ext cx="3166920" cy="2089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1405440" y="36306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087600" y="35733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479600" y="616572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439240" y="61657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ные 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14"/>
          <p:cNvPicPr/>
          <p:nvPr/>
        </p:nvPicPr>
        <p:blipFill>
          <a:blip r:embed="rId5"/>
          <a:stretch/>
        </p:blipFill>
        <p:spPr>
          <a:xfrm>
            <a:off x="1619280" y="1557360"/>
            <a:ext cx="6192720" cy="4653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95" name="Text Box 14"/>
          <p:cNvSpPr/>
          <p:nvPr/>
        </p:nvSpPr>
        <p:spPr>
          <a:xfrm>
            <a:off x="468360" y="115920"/>
            <a:ext cx="8064360" cy="1191240"/>
          </a:xfrm>
          <a:prstGeom prst="rect">
            <a:avLst/>
          </a:prstGeom>
          <a:solidFill>
            <a:srgbClr val="c0c0c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питья пригодна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есная вод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мы используем вод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16"/>
          <p:cNvPicPr/>
          <p:nvPr/>
        </p:nvPicPr>
        <p:blipFill>
          <a:blip r:embed="rId1"/>
          <a:stretch/>
        </p:blipFill>
        <p:spPr>
          <a:xfrm>
            <a:off x="1187280" y="1557360"/>
            <a:ext cx="6801120" cy="46544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99" name="Picture 5" descr="17"/>
          <p:cNvPicPr/>
          <p:nvPr/>
        </p:nvPicPr>
        <p:blipFill>
          <a:blip r:embed="rId2"/>
          <a:stretch/>
        </p:blipFill>
        <p:spPr>
          <a:xfrm>
            <a:off x="6084720" y="1341360"/>
            <a:ext cx="2698920" cy="22608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0" name="Picture 6" descr="15"/>
          <p:cNvPicPr/>
          <p:nvPr/>
        </p:nvPicPr>
        <p:blipFill>
          <a:blip r:embed="rId3"/>
          <a:stretch/>
        </p:blipFill>
        <p:spPr>
          <a:xfrm>
            <a:off x="3276720" y="1268280"/>
            <a:ext cx="2376360" cy="2306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8" descr="20"/>
          <p:cNvPicPr/>
          <p:nvPr/>
        </p:nvPicPr>
        <p:blipFill>
          <a:blip r:embed="rId4"/>
          <a:stretch/>
        </p:blipFill>
        <p:spPr>
          <a:xfrm>
            <a:off x="395280" y="1268280"/>
            <a:ext cx="2376360" cy="22338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2" name="Picture 9" descr="22"/>
          <p:cNvPicPr/>
          <p:nvPr/>
        </p:nvPicPr>
        <p:blipFill>
          <a:blip r:embed="rId5"/>
          <a:stretch/>
        </p:blipFill>
        <p:spPr>
          <a:xfrm>
            <a:off x="5003640" y="3860640"/>
            <a:ext cx="3508560" cy="234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23"/>
          <p:cNvPicPr/>
          <p:nvPr/>
        </p:nvPicPr>
        <p:blipFill>
          <a:blip r:embed="rId6"/>
          <a:stretch/>
        </p:blipFill>
        <p:spPr>
          <a:xfrm>
            <a:off x="611280" y="3921120"/>
            <a:ext cx="3166920" cy="224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а в природе может наход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трёх состоян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96880" y="1916280"/>
            <a:ext cx="19868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ёрд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9800" y="1916280"/>
            <a:ext cx="1834200" cy="642600"/>
          </a:xfrm>
          <a:prstGeom prst="rect">
            <a:avLst/>
          </a:prstGeom>
          <a:solidFill>
            <a:srgbClr val="ccec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742720" y="1916280"/>
            <a:ext cx="314496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4000" y="3141720"/>
            <a:ext cx="2376360" cy="283716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 ре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еан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40520" y="3141720"/>
            <a:ext cx="1866240" cy="228852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249960" y="3213000"/>
            <a:ext cx="1728720" cy="64260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25"/>
          <p:cNvPicPr/>
          <p:nvPr/>
        </p:nvPicPr>
        <p:blipFill>
          <a:blip r:embed="rId1"/>
          <a:stretch/>
        </p:blipFill>
        <p:spPr>
          <a:xfrm>
            <a:off x="5651640" y="4221000"/>
            <a:ext cx="3089160" cy="2262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sp>
        <p:nvSpPr>
          <p:cNvPr id="112" name="Line 11"/>
          <p:cNvSpPr/>
          <p:nvPr/>
        </p:nvSpPr>
        <p:spPr>
          <a:xfrm>
            <a:off x="140328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236000" y="1413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572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а – важнейшее условие для существования жизни животных и раст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1692360" y="1700280"/>
            <a:ext cx="5761080" cy="46591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06:32Z</dcterms:created>
  <dc:creator>мама</dc:creator>
  <dc:description>http://aida.ucoz.ru</dc:description>
  <dc:language>en-US</dc:language>
  <cp:lastModifiedBy>user</cp:lastModifiedBy>
  <dcterms:modified xsi:type="dcterms:W3CDTF">2022-02-15T05:48:55Z</dcterms:modified>
  <cp:revision>6</cp:revision>
  <dc:subject/>
  <dc:title>Про воду</dc:title>
</cp:coreProperties>
</file>