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BD178-E968-4F96-B284-6986192DE1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2920" y="271620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0DE07-7DC1-4CE9-81D8-F78408692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440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97296-5187-4C0E-9A52-7AEFF53A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6880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468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292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6880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468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2DB48-488F-422C-BFA5-A6D7D7BE5D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28856B-8B96-4067-A3C5-2A9DC20CE4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E7BEDC-511E-4C81-8A01-168BB4F4F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17AE77-3DE1-4940-84D2-28F3CC730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9362C4-F673-4E11-A210-C3EF6CF37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C079A7-B9B7-4845-9777-D079B65E7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2920" y="4986360"/>
            <a:ext cx="818028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1AA2E1-1CA6-438B-8D07-742A389A4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3ED183-84ED-48D9-BCE1-99D2BAC9B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3997B-D25E-49FC-8927-45960DB35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440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69FCF5-05D2-430A-9942-4D0CBC14E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DF19D0-A69F-45CF-83C4-EC10F50B0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2920" y="271620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2F7D87-A3A8-4D06-8B71-E5C50540C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440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A5F6D8-B925-4CAD-9D2D-1D0455B9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6880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468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292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6880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468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271111-D8AB-4BFE-AB49-D27A6829CF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CD1A8-57AB-4791-9D45-696733F199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F4253-2F60-48E6-828C-BBD55D2E2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9EAB1-8DA3-4225-8EB9-5CABD628A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DA3A9-9F4A-4EA2-B136-E6ABEEF45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A057C-4681-4E95-A6D1-346141152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5314D-121B-44F2-95A3-3D55CC547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2920" y="4986360"/>
            <a:ext cx="818028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F7338-890D-44D1-BD4F-D83D34775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EFF45-BC07-4E82-A692-B7D912BB7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440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C1130-E91B-49E9-B756-4C849A56C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E7706-E20B-4070-BD1D-297988157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2920" y="271620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5F9FC-350E-4B0C-9AE5-280057116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440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02000-96A2-4B7E-99B6-B7D6D216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6880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468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292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6880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468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D00F1-3712-47B0-B1C5-DD08026DA4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A65A2B-C3F7-4A29-92BF-BB7F099F9E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C05F77-9E5A-43BB-8144-EB243346E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5EC5E1-4243-43A0-93EF-20662E2A2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47D8D-0E68-419E-9FE7-333E80C9B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0F407F-402C-48F4-B3F7-412350D79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EFE161-30E5-4E18-A626-055CD3C64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2920" y="4986360"/>
            <a:ext cx="818028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4F2F28-6E91-4F90-AD20-98E967C5A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CDC5AD-0EDB-4123-B03E-4FB15C47F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440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98E2B2-F66B-40FA-BAD9-DEA3CFF51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DEE2F1-2D89-4B4E-B38B-3D792E470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2920" y="271620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8DC899-3D2C-494E-B9A8-CF33DDF8C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440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E1F3AE-181D-4E7D-AC7C-A015133F3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6880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468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292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6880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468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7AA2DA-2A2C-4228-B3D7-0C94238292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8A3356-993C-49D7-B962-FAA658C6C3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76CF1-A5F4-43FF-A6CD-CB0C14FFE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C256BA-D53B-46CC-B42A-A524E3C87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6151D0-2EC0-4F1C-8313-488AFE6FA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E206E1-C054-436A-A4B6-78359C345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9D2413-FE5E-46D2-BE57-E1130DC18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2920" y="4986360"/>
            <a:ext cx="818028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8A3352-0900-4B03-AF2B-EB45528E2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735BAF-D046-4D82-BD8D-935E6A763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440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F49EE9-E2E5-4109-8FA1-F6E39012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8F3D32-CDAC-4E62-9843-3E4F24425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2920" y="271620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B296D0-6C9D-4C92-BFAF-B0FAC3F18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440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39E405-FC05-4DAF-9D48-BD256301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2920" y="4986360"/>
            <a:ext cx="818028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4081F-6CBF-4FD2-8D03-09D7A13D0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6880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468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292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6880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468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295E41-432D-4B64-BB3B-2876429257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13725-92D6-4A45-94D2-A894344C2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440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69A96-FC86-4B31-950F-9723D3A58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E6B5A-098C-477C-9AA2-5E5C62933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414360" y="426960"/>
            <a:ext cx="8312040" cy="5494320"/>
            <a:chOff x="414360" y="426960"/>
            <a:chExt cx="8312040" cy="5494320"/>
          </a:xfrm>
        </p:grpSpPr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2040" cy="549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5720" cy="54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400" y="6111720"/>
            <a:ext cx="228276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a7a399"/>
                </a:solidFill>
                <a:latin typeface="Verdana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  <a:ea typeface="DejaVu San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8348400" y="6111720"/>
            <a:ext cx="45396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a7a399"/>
                </a:solidFill>
                <a:latin typeface="Verdana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ADE62A-79F8-4945-98EC-CD7246AE0517}" type="slidenum">
              <a:rPr b="0" lang="ru-RU" sz="1000" spc="-1" strike="noStrike">
                <a:solidFill>
                  <a:srgbClr val="a7a399"/>
                </a:solidFill>
                <a:latin typeface="Verdana"/>
                <a:ea typeface="DejaVu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14360" y="426960"/>
            <a:ext cx="8312040" cy="3117960"/>
            <a:chOff x="414360" y="426960"/>
            <a:chExt cx="8312040" cy="3117960"/>
          </a:xfrm>
        </p:grpSpPr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2040" cy="311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19880" cy="30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3776400" y="6111720"/>
            <a:ext cx="228276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a7a399"/>
                </a:solidFill>
                <a:latin typeface="Verdana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  <a:ea typeface="DejaVu San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4"/>
          </p:nvPr>
        </p:nvSpPr>
        <p:spPr>
          <a:xfrm>
            <a:off x="8348400" y="6111720"/>
            <a:ext cx="45396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a7a399"/>
                </a:solidFill>
                <a:latin typeface="Verdana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B910F5-E437-412A-AFF4-EB81DAFA0DA1}" type="slidenum">
              <a:rPr b="0" lang="ru-RU" sz="1000" spc="-1" strike="noStrike">
                <a:solidFill>
                  <a:srgbClr val="a7a399"/>
                </a:solidFill>
                <a:latin typeface="Verdana"/>
                <a:ea typeface="DejaVu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414360" y="426960"/>
            <a:ext cx="8312040" cy="4349880"/>
            <a:chOff x="414360" y="426960"/>
            <a:chExt cx="8312040" cy="4349880"/>
          </a:xfrm>
        </p:grpSpPr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2040" cy="434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48680" cy="428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5"/>
          </p:nvPr>
        </p:nvSpPr>
        <p:spPr>
          <a:xfrm>
            <a:off x="3776400" y="6111720"/>
            <a:ext cx="228276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a7a399"/>
                </a:solidFill>
                <a:latin typeface="Verdana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  <a:ea typeface="DejaVu San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8348400" y="6111720"/>
            <a:ext cx="45396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a7a399"/>
                </a:solidFill>
                <a:latin typeface="Verdana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35A516-A33B-4E1F-887D-103A602A51B5}" type="slidenum">
              <a:rPr b="0" lang="ru-RU" sz="1000" spc="-1" strike="noStrike">
                <a:solidFill>
                  <a:srgbClr val="a7a399"/>
                </a:solidFill>
                <a:latin typeface="Verdana"/>
                <a:ea typeface="DejaVu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7"/>
          </p:nvPr>
        </p:nvSpPr>
        <p:spPr>
          <a:xfrm>
            <a:off x="3776400" y="6111720"/>
            <a:ext cx="228276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a7a399"/>
                </a:solidFill>
                <a:latin typeface="Verdana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  <a:ea typeface="DejaVu San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sldNum" idx="8"/>
          </p:nvPr>
        </p:nvSpPr>
        <p:spPr>
          <a:xfrm>
            <a:off x="8348400" y="6111720"/>
            <a:ext cx="45396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a7a399"/>
                </a:solidFill>
                <a:latin typeface="Verdana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15D9D1-36C9-48E3-9DB5-83EFB8A2781D}" type="slidenum">
              <a:rPr b="0" lang="ru-RU" sz="1000" spc="-1" strike="noStrike">
                <a:solidFill>
                  <a:srgbClr val="a7a399"/>
                </a:solidFill>
                <a:latin typeface="Verdana"/>
                <a:ea typeface="DejaVu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9"/>
          </p:nvPr>
        </p:nvSpPr>
        <p:spPr>
          <a:xfrm>
            <a:off x="3776400" y="6111720"/>
            <a:ext cx="228276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a7a399"/>
                </a:solidFill>
                <a:latin typeface="Verdana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  <a:ea typeface="DejaVu San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sldNum" idx="10"/>
          </p:nvPr>
        </p:nvSpPr>
        <p:spPr>
          <a:xfrm>
            <a:off x="8348400" y="6111720"/>
            <a:ext cx="45396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a7a399"/>
                </a:solidFill>
                <a:latin typeface="Verdana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802B8F-850C-4F32-A5D5-CAC8094126C4}" type="slidenum">
              <a:rPr b="0" lang="ru-RU" sz="1000" spc="-1" strike="noStrike">
                <a:solidFill>
                  <a:srgbClr val="a7a399"/>
                </a:solidFill>
                <a:latin typeface="Verdana"/>
                <a:ea typeface="DejaVu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Виды ремонта одеж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1727280" cy="23749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2556000" y="620640"/>
            <a:ext cx="3095640" cy="23227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5867280" y="620640"/>
            <a:ext cx="2808360" cy="23036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468360" y="3068640"/>
            <a:ext cx="2425680" cy="23734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5"/>
          <a:stretch/>
        </p:blipFill>
        <p:spPr>
          <a:xfrm>
            <a:off x="3059280" y="3068640"/>
            <a:ext cx="2592360" cy="23860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6"/>
          <a:stretch/>
        </p:blipFill>
        <p:spPr>
          <a:xfrm>
            <a:off x="5867280" y="3068640"/>
            <a:ext cx="2775240" cy="23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План работы по наложению апплик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1942920" cy="316872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2484360" y="404640"/>
            <a:ext cx="1871640" cy="316872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427640" y="404640"/>
            <a:ext cx="2089080" cy="317988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4"/>
          <a:stretch/>
        </p:blipFill>
        <p:spPr>
          <a:xfrm>
            <a:off x="6588000" y="404640"/>
            <a:ext cx="2087640" cy="316872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1342080" y="3716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86440" y="3716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374080" y="3645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534800" y="3645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468360" y="476280"/>
            <a:ext cx="81835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Правила безопасной работы ножниц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8360" y="1773360"/>
            <a:ext cx="8183520" cy="41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tIns="91440" anchor="t">
            <a:noAutofit/>
          </a:bodyPr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262080"/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нимание! Ножницы – острый инструмент. Пользоваться  ножницами надо осторожн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262080"/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Хранить ножницы в определённом мест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262080"/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Не держать ножницы  острыми концами вверх, передавать их , держа за сомкнутые  лезвия  кольцами вперёд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262080"/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Не оставлять ножницы раскрытым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611280" y="404640"/>
            <a:ext cx="818352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Правила безопасной работы игл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8360" y="1557360"/>
            <a:ext cx="8183520" cy="41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tIns="91440" anchor="t">
            <a:noAutofit/>
          </a:bodyPr>
          <a:p>
            <a:pPr marL="262080" indent="-2620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262080"/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нимание! Игла-острый инструмент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262080"/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льзоваться иглой надо осторожн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262080"/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Хранить иглы в определённом мест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262080"/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Не допускать потери игл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262080"/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Не брать иглу в рот, вкалывать её в одежд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262080"/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ломанную иглу сдать учителю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262080"/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и шитье применять напёрсток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262080"/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Нельзя откусывать нитку зубам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262080"/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468360" y="260280"/>
            <a:ext cx="81835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План выполнения практической рабо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39640" y="1341360"/>
            <a:ext cx="8183520" cy="41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tIns="91440" anchor="t">
            <a:noAutofit/>
          </a:bodyPr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262080"/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полнить ремонт разорванного ме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262080"/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готовить апплика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262080"/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ложить аппликацию изнаночной стороной на лицевую сторону ткани, закрыв место ремонта, приколоть булавками и намет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262080"/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крепить аппликацию с лицевой стороны косыми стежками, удалить нитки наметывания, приутюж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468360" y="476280"/>
            <a:ext cx="81835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На какие геометрические фигуры похожи аппликац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39640" y="1700280"/>
            <a:ext cx="8183520" cy="41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tIns="91440" anchor="t">
            <a:noAutofit/>
          </a:bodyPr>
          <a:p>
            <a:pPr marL="264960" indent="-2617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62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62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62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692360" y="1773360"/>
            <a:ext cx="1727280" cy="1295280"/>
          </a:xfrm>
          <a:prstGeom prst="ellipse">
            <a:avLst/>
          </a:prstGeom>
          <a:solidFill>
            <a:srgbClr val="f07f09"/>
          </a:solidFill>
          <a:ln cap="sq"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492360" y="1700280"/>
            <a:ext cx="1727280" cy="1368360"/>
          </a:xfrm>
          <a:prstGeom prst="triangle">
            <a:avLst>
              <a:gd name="adj" fmla="val 50000"/>
            </a:avLst>
          </a:prstGeom>
          <a:solidFill>
            <a:srgbClr val="f07f09"/>
          </a:solidFill>
          <a:ln cap="sq"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364000" y="1700280"/>
            <a:ext cx="1584360" cy="1368360"/>
          </a:xfrm>
          <a:prstGeom prst="pentagon">
            <a:avLst/>
          </a:prstGeom>
          <a:solidFill>
            <a:srgbClr val="f07f09"/>
          </a:solidFill>
          <a:ln cap="sq"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Формы аппликаций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55640" y="836640"/>
            <a:ext cx="1800360" cy="1871640"/>
          </a:xfrm>
          <a:prstGeom prst="triangle">
            <a:avLst>
              <a:gd name="adj" fmla="val 50000"/>
            </a:avLst>
          </a:prstGeom>
          <a:solidFill>
            <a:srgbClr val="f07f09"/>
          </a:solidFill>
          <a:ln cap="sq"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419640" y="836640"/>
            <a:ext cx="1728720" cy="1871640"/>
          </a:xfrm>
          <a:prstGeom prst="rect">
            <a:avLst/>
          </a:prstGeom>
          <a:solidFill>
            <a:srgbClr val="f07f09"/>
          </a:solidFill>
          <a:ln cap="sq"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867280" y="907920"/>
            <a:ext cx="2089440" cy="1800360"/>
          </a:xfrm>
          <a:prstGeom prst="ellipse">
            <a:avLst/>
          </a:prstGeom>
          <a:solidFill>
            <a:srgbClr val="f07f09"/>
          </a:solidFill>
          <a:ln cap="sq"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203640" y="3716280"/>
            <a:ext cx="2592360" cy="29815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311040" y="3789360"/>
            <a:ext cx="2820960" cy="28414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5940360" y="3716280"/>
            <a:ext cx="2843280" cy="294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755640" y="69228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100" spc="-1" strike="noStrike">
                <a:solidFill>
                  <a:srgbClr val="ff8d3e"/>
                </a:solidFill>
                <a:latin typeface="Verdana"/>
              </a:rPr>
              <a:t>Ремонт одежды. Аппликация, как способ ремонта одежды.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tIns="0" anchor="t">
            <a:noAutofit/>
          </a:bodyPr>
          <a:p>
            <a:pPr marL="36360" algn="r">
              <a:lnSpc>
                <a:spcPct val="100000"/>
              </a:lnSpc>
              <a:tabLst>
                <a:tab algn="l" pos="0"/>
                <a:tab algn="l" pos="36360"/>
                <a:tab algn="l" pos="484200"/>
                <a:tab algn="l" pos="933480"/>
                <a:tab algn="l" pos="1382760"/>
                <a:tab algn="l" pos="1832040"/>
                <a:tab algn="l" pos="2281320"/>
                <a:tab algn="l" pos="2730600"/>
                <a:tab algn="l" pos="3179880"/>
                <a:tab algn="l" pos="3629160"/>
                <a:tab algn="l" pos="4078440"/>
                <a:tab algn="l" pos="4527720"/>
                <a:tab algn="l" pos="4976640"/>
                <a:tab algn="l" pos="5425920"/>
                <a:tab algn="l" pos="5875200"/>
                <a:tab algn="l" pos="6324480"/>
                <a:tab algn="l" pos="6773760"/>
                <a:tab algn="l" pos="7223040"/>
                <a:tab algn="l" pos="7672320"/>
                <a:tab algn="l" pos="8121600"/>
                <a:tab algn="l" pos="8570880"/>
                <a:tab algn="l" pos="9020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2340000" y="2492280"/>
            <a:ext cx="4822920" cy="35290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4467240" y="5950080"/>
            <a:ext cx="3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Виды аппликац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3203640" y="549360"/>
            <a:ext cx="2663640" cy="23572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6012000" y="549360"/>
            <a:ext cx="2631960" cy="218268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6012000" y="2708280"/>
            <a:ext cx="2592360" cy="26589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H="1" flipV="1">
            <a:off x="4932360" y="5445000"/>
            <a:ext cx="46080" cy="46080"/>
          </a:xfrm>
          <a:prstGeom prst="ellipse">
            <a:avLst/>
          </a:prstGeom>
          <a:solidFill>
            <a:srgbClr val="f07f09"/>
          </a:solidFill>
          <a:ln cap="sq"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3203640" y="3068640"/>
            <a:ext cx="2663640" cy="22320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5"/>
          <a:stretch/>
        </p:blipFill>
        <p:spPr>
          <a:xfrm>
            <a:off x="611280" y="765000"/>
            <a:ext cx="2481120" cy="420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468360" y="404640"/>
            <a:ext cx="818352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Способы прикрепления аппликации на издел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339200" y="2133720"/>
            <a:ext cx="715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Ручной способ (косые или петельные стежк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Машинный способ (машинная строч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Клеевой способ (с помощью утюга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1 Зашиваем место разрыва тка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2500200" y="549360"/>
            <a:ext cx="4187880" cy="486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2.Изготавливаем аппликац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3943080" cy="454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3.Накладываем аппликацию на ткань, закрыв место ремонта. Прикалываем булавками. Намётыва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2916360" y="476280"/>
            <a:ext cx="3073320" cy="362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4.Прикрепляем аппликацию косыми стежками с лицевой стороны. Удаляем намётку. Приутюживае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627280" y="476280"/>
            <a:ext cx="3367080" cy="3341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9T15:48:33Z</dcterms:created>
  <dc:creator>Владимир</dc:creator>
  <dc:description/>
  <dc:language>en-US</dc:language>
  <cp:lastModifiedBy/>
  <dcterms:modified xsi:type="dcterms:W3CDTF">2022-02-15T07:00:38Z</dcterms:modified>
  <cp:revision>37</cp:revision>
  <dc:subject/>
  <dc:title>Ремонт одежды.Аппликация, как способ ремонта одежды.</dc:title>
</cp:coreProperties>
</file>