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E9C06-5204-42F5-911E-93A54F6CCD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E36A2-17AF-470F-BD71-4ABB1692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CAD64-CC24-443F-9182-30F10508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EB513-9CE1-4588-A507-92AC92D86B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64DF1-4043-4543-84C6-F8E1BFB6C1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01646-EEC6-4AAB-9E5F-1DE93B74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3CAC0-8580-4C58-9347-DA933C33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01B4E-6A1E-4BFA-9CC0-C376547C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42554-B20C-449D-8922-A9F511DD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4C269-568D-42BD-8134-060AB9D7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299FC-F844-4DA2-B326-6F641FAE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51536-A250-43C6-A09C-27E24DA0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DF6E7-43F7-4DE6-B2EC-C9116F24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4BE72-19F8-445F-989A-7510BB7B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3619B-11BB-4E8A-B497-D816CDC2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F11EA-8E62-47B0-A1E5-0BE817BC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5CD24-6F55-4C4D-8870-6C3B13746E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8585-0F84-40BF-B628-0B2C4F43DB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9930-552D-49A9-A986-D3B09D65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F84E-AD99-44E4-B5DD-1583BD39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206E-1DC9-4B94-80A8-9130317C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00F6-9F1D-40A0-AB19-56930F3A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A6909-3C36-4C9E-B7AD-69826A96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C0B5-7B2F-40C4-A9BA-4AD435D7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D93A-61C1-4F12-958E-603407D0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38C7-5140-4297-BF36-DCBEB5F1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4339-4CAE-49BE-B1ED-192F1BA3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9227-02FA-43C1-9E83-7B587475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AD9D-1777-4016-B6F6-1943F894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7A7D-A789-4B41-BFFD-AC0C2F90D7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48AAA-CC2E-41A4-B9F9-322D02C927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14621-B6C5-4B0F-9067-EEBFD6D8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9BA4F-714F-4FD8-85F2-16B19600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1AD51-A587-487C-8310-BC0440A0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3C800-09D1-49AD-A750-5D474FE0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F5648-019F-4DB2-8E3F-4564C651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D024E-BFD7-4796-93D4-888071F3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56885-4E9F-44D4-A506-748CB8DE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010E8-785C-4CD1-BF36-60264C54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67952-5B96-40B2-8296-CE0686F8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471E2-9457-4D4A-B826-21D8CB5B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6AA21-F567-41B1-8DA4-840F8592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D2B9F-337E-472F-A245-22B978FA12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436B8F-D1A5-48CF-91DC-39077F8169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AE9EF-C313-47E8-B62C-F2DF3ECB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8559B0-D0AF-446A-8949-140F890C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D4CD17-A88D-4E45-BF14-3668D6D8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83F806-10B2-4AD9-A1E9-40EAC6B1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1183F7-F321-4A20-BF5E-AB5DEB16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27FC4B-5EE3-4BE5-AE2C-970345EB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B86431-26D8-4FD4-B0F3-F77D14F9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FED624-5A76-400D-8F55-9B88BFDD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012EFB-38E7-4020-B580-6A447444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071EE3-1A10-4B84-8CC8-7402DCD7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4ABED3-96B5-4AC9-BA37-BFA9A050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2471-1C9E-4F2C-ABBE-954A06AB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CD0213-940D-4C4F-9438-BEA2CE102C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E8640-C62E-4404-BC4F-5A3D5E1B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DCB5-CA72-440E-8EEE-30F26EC8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B0E00-8D23-4A08-BCA3-2A6EB18E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14360" y="426960"/>
            <a:ext cx="8312040" cy="5494320"/>
            <a:chOff x="414360" y="426960"/>
            <a:chExt cx="8312040" cy="549432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2040" cy="54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5720" cy="54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899E0-DD4A-4C41-BA71-D5568EEA9320}" type="slidenum">
              <a:rPr b="0" lang="ru-RU" sz="1000" spc="-1" strike="noStrike">
                <a:solidFill>
                  <a:srgbClr val="a7a399"/>
                </a:solidFill>
                <a:latin typeface="Verdana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14360" y="426960"/>
            <a:ext cx="8312040" cy="3117960"/>
            <a:chOff x="414360" y="426960"/>
            <a:chExt cx="8312040" cy="311796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2040" cy="31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19880" cy="30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171E4-E768-4D2C-911C-6F64A63E67F0}" type="slidenum">
              <a:rPr b="0" lang="ru-RU" sz="1000" spc="-1" strike="noStrike">
                <a:solidFill>
                  <a:srgbClr val="a7a399"/>
                </a:solidFill>
                <a:latin typeface="Verdana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14360" y="426960"/>
            <a:ext cx="8312040" cy="4349880"/>
            <a:chOff x="414360" y="426960"/>
            <a:chExt cx="8312040" cy="434988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2040" cy="43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48680" cy="42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325AB-6DB5-419C-8B6B-99779580CDAC}" type="slidenum">
              <a:rPr b="0" lang="ru-RU" sz="1000" spc="-1" strike="noStrike">
                <a:solidFill>
                  <a:srgbClr val="a7a399"/>
                </a:solidFill>
                <a:latin typeface="Verdana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8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48C0A-0ED5-49DA-93C6-986589A1564B}" type="slidenum">
              <a:rPr b="0" lang="ru-RU" sz="1000" spc="-1" strike="noStrike">
                <a:solidFill>
                  <a:srgbClr val="a7a399"/>
                </a:solidFill>
                <a:latin typeface="Verdana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0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7FCB3-26CC-442B-9ED3-847D59650321}" type="slidenum">
              <a:rPr b="0" lang="ru-RU" sz="1000" spc="-1" strike="noStrike">
                <a:solidFill>
                  <a:srgbClr val="a7a399"/>
                </a:solidFill>
                <a:latin typeface="Verdana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иды ремонта одеж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1727280" cy="2374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556000" y="620640"/>
            <a:ext cx="3095640" cy="2322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867280" y="62064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468360" y="3068640"/>
            <a:ext cx="2425680" cy="2373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3059280" y="3068640"/>
            <a:ext cx="2592360" cy="2386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5867280" y="3068640"/>
            <a:ext cx="277524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лан работы по наложению аппл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942920" cy="3168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484360" y="404640"/>
            <a:ext cx="1871640" cy="3168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427640" y="404640"/>
            <a:ext cx="2089080" cy="31798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6588000" y="404640"/>
            <a:ext cx="2087640" cy="31687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342080" y="3716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86440" y="3716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7408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3480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6836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авила безопасной работы ножниц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8360" y="177336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имание! Ножницы – острый инструмент. Пользоваться  ножницами надо осторож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Хранить ножницы в определённом мес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е держать ножницы  острыми концами вверх, передавать их , держа за сомкнутые  лезвия  кольцами вперё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е оставлять ножницы раскрыты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11280" y="404640"/>
            <a:ext cx="818352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авила безопасной работы иг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155736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имание! Игла-острый инструмен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льзоваться иглой надо осторож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Хранить иглы в определённом мес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е допускать потери игл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е брать иглу в рот, вкалывать её в одеж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ломанную иглу сдать учител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шитье применять напёрсто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ельзя откусывать нитку зуб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8360" y="26028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лан выполнения практической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134136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ить ремонт разорванного м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готовить апплик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ложить аппликацию изнаночной стороной на лицевую сторону ткани, закрыв место ремонта, приколоть булавками и наме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крепить аппликацию с лицевой стороны косыми стежками, удалить нитки наметывания, приутюж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6836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какие геометрические фигуры похожи апплика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170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4960" indent="-261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2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2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2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1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773360"/>
            <a:ext cx="1727280" cy="1295280"/>
          </a:xfrm>
          <a:prstGeom prst="ellipse">
            <a:avLst/>
          </a:prstGeom>
          <a:solidFill>
            <a:srgbClr val="f07f09"/>
          </a:solidFill>
          <a:ln cap="sq"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92360" y="1700280"/>
            <a:ext cx="1727280" cy="1368360"/>
          </a:xfrm>
          <a:prstGeom prst="triangle">
            <a:avLst>
              <a:gd name="adj" fmla="val 50000"/>
            </a:avLst>
          </a:prstGeom>
          <a:solidFill>
            <a:srgbClr val="f07f09"/>
          </a:solidFill>
          <a:ln cap="sq"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1700280"/>
            <a:ext cx="1584360" cy="1368360"/>
          </a:xfrm>
          <a:prstGeom prst="pentagon">
            <a:avLst/>
          </a:prstGeom>
          <a:solidFill>
            <a:srgbClr val="f07f09"/>
          </a:solidFill>
          <a:ln cap="sq"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Формы аппликаци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836640"/>
            <a:ext cx="1800360" cy="1871640"/>
          </a:xfrm>
          <a:prstGeom prst="triangle">
            <a:avLst>
              <a:gd name="adj" fmla="val 50000"/>
            </a:avLst>
          </a:prstGeom>
          <a:solidFill>
            <a:srgbClr val="f07f09"/>
          </a:solidFill>
          <a:ln cap="sq"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19640" y="836640"/>
            <a:ext cx="1728720" cy="1871640"/>
          </a:xfrm>
          <a:prstGeom prst="rect">
            <a:avLst/>
          </a:prstGeom>
          <a:solidFill>
            <a:srgbClr val="f07f09"/>
          </a:solidFill>
          <a:ln cap="sq"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907920"/>
            <a:ext cx="2089440" cy="1800360"/>
          </a:xfrm>
          <a:prstGeom prst="ellipse">
            <a:avLst/>
          </a:prstGeom>
          <a:solidFill>
            <a:srgbClr val="f07f09"/>
          </a:solidFill>
          <a:ln cap="sq"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03640" y="3716280"/>
            <a:ext cx="2592360" cy="29815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1040" y="3789360"/>
            <a:ext cx="2820960" cy="28414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940360" y="3716280"/>
            <a:ext cx="2843280" cy="29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55640" y="692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Ремонт одежды. Аппликация, как способ ремонта одежды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0" anchor="t">
            <a:noAutofit/>
          </a:bodyPr>
          <a:p>
            <a:pPr marL="36360" algn="r">
              <a:lnSpc>
                <a:spcPct val="100000"/>
              </a:lnSpc>
              <a:tabLst>
                <a:tab algn="l" pos="0"/>
                <a:tab algn="l" pos="36360"/>
                <a:tab algn="l" pos="484200"/>
                <a:tab algn="l" pos="933480"/>
                <a:tab algn="l" pos="1382760"/>
                <a:tab algn="l" pos="1832040"/>
                <a:tab algn="l" pos="2281320"/>
                <a:tab algn="l" pos="2730600"/>
                <a:tab algn="l" pos="3179880"/>
                <a:tab algn="l" pos="3629160"/>
                <a:tab algn="l" pos="4078440"/>
                <a:tab algn="l" pos="4527720"/>
                <a:tab algn="l" pos="4976640"/>
                <a:tab algn="l" pos="5425920"/>
                <a:tab algn="l" pos="5875200"/>
                <a:tab algn="l" pos="6324480"/>
                <a:tab algn="l" pos="6773760"/>
                <a:tab algn="l" pos="7223040"/>
                <a:tab algn="l" pos="7672320"/>
                <a:tab algn="l" pos="8121600"/>
                <a:tab algn="l" pos="8570880"/>
                <a:tab algn="l" pos="9020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340000" y="2492280"/>
            <a:ext cx="4822920" cy="3529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467240" y="59500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иды аппликац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203640" y="549360"/>
            <a:ext cx="2663640" cy="2357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12000" y="549360"/>
            <a:ext cx="2631960" cy="21826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012000" y="2708280"/>
            <a:ext cx="2592360" cy="2658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H="1" flipV="1">
            <a:off x="4932360" y="5445000"/>
            <a:ext cx="46080" cy="46080"/>
          </a:xfrm>
          <a:prstGeom prst="ellipse">
            <a:avLst/>
          </a:prstGeom>
          <a:solidFill>
            <a:srgbClr val="f07f09"/>
          </a:solidFill>
          <a:ln cap="sq"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203640" y="3068640"/>
            <a:ext cx="2663640" cy="2232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611280" y="765000"/>
            <a:ext cx="2481120" cy="420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68360" y="404640"/>
            <a:ext cx="818352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пособы прикрепления аппликации на издел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9200" y="2133720"/>
            <a:ext cx="715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Ручной способ (косые или петельные стеж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Машинный способ (машинная строч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Клеевой способ (с помощью утюга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1 Зашиваем место разрыва тк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500200" y="549360"/>
            <a:ext cx="418788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Изготавливаем апплик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394308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3.Накладываем аппликацию на ткань, закрыв место ремонта. Прикалываем булавками. Намётыв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307332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4.Прикрепляем аппликацию косыми стежками с лицевой стороны. Удаляем намётку. Приутюжива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3367080" cy="334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5:48:33Z</dcterms:created>
  <dc:creator>Владимир</dc:creator>
  <dc:description/>
  <dc:language>en-US</dc:language>
  <cp:lastModifiedBy/>
  <dcterms:modified xsi:type="dcterms:W3CDTF">2022-02-15T07:00:38Z</dcterms:modified>
  <cp:revision>37</cp:revision>
  <dc:subject/>
  <dc:title>Ремонт одежды.Аппликация, как способ ремонта одежды.</dc:title>
</cp:coreProperties>
</file>