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10691813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61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48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472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61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948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D6E-827F-4FEB-80D6-50AB2609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ADA-6373-46DC-A6F1-6E6DE1A5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1D4-73C0-450B-81A4-270465C5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CDE-580C-47F9-BA63-C382373D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C37-0859-4B6F-801F-1267CCCB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74720" y="639360"/>
            <a:ext cx="9129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E8A-89B3-4BD0-ABEC-2C8B2228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B1E-9C56-4627-B677-4D5A80A8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826-1CE6-4703-825D-F1DCFDD5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858-DEE7-4B10-8820-5F2E34A6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FAB-62CA-475B-8D68-7F20AF84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6B4-8C64-4100-A303-D84BB7CC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1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48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7472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61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948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882-DED4-4F45-AD1C-A5BCF82A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74720" y="639360"/>
            <a:ext cx="9129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1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948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7472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861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948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74720" y="639360"/>
            <a:ext cx="9129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61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48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7472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861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48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74720" y="639360"/>
            <a:ext cx="9129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4720" y="639360"/>
            <a:ext cx="9129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61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948360" y="20998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77472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61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948360" y="4389480"/>
            <a:ext cx="2939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52920" y="43894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7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2920" y="2099880"/>
            <a:ext cx="44550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4720" y="4389480"/>
            <a:ext cx="912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1072980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76440" y="626760"/>
            <a:ext cx="743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490840" y="2101680"/>
            <a:ext cx="7423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4600" y="1768320"/>
            <a:ext cx="96202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34600" y="6886440"/>
            <a:ext cx="2489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656160" y="6886440"/>
            <a:ext cx="338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666200" y="6886440"/>
            <a:ext cx="2489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7562D-DF45-4D2E-9EBB-9FCFF24E5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1069164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604880" cy="7559640"/>
          </a:xfrm>
          <a:custGeom>
            <a:avLst/>
            <a:gdLst>
              <a:gd name="textAreaLeft" fmla="*/ 360 w 1604880"/>
              <a:gd name="textAreaRight" fmla="*/ 1604520 w 160488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1727">
                <a:moveTo>
                  <a:pt x="21" y="0"/>
                </a:moveTo>
                <a:arcTo wR="21" hR="21" stAng="16200000" swAng="-5400000"/>
                <a:lnTo>
                  <a:pt x="0" y="101706"/>
                </a:lnTo>
                <a:arcTo wR="21" hR="21" stAng="10800000" swAng="-5400000"/>
                <a:lnTo>
                  <a:pt x="21579" y="101727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0"/>
            <a:ext cx="41400" cy="7559640"/>
          </a:xfrm>
          <a:custGeom>
            <a:avLst/>
            <a:gdLst>
              <a:gd name="textAreaLeft" fmla="*/ 360 w 41400"/>
              <a:gd name="textAreaRight" fmla="*/ 41040 w 414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910345">
                <a:moveTo>
                  <a:pt x="830" y="0"/>
                </a:moveTo>
                <a:arcTo wR="830" hR="830" stAng="16200000" swAng="-5400000"/>
                <a:lnTo>
                  <a:pt x="0" y="3909515"/>
                </a:lnTo>
                <a:arcTo wR="830" hR="830" stAng="10800000" swAng="-5400000"/>
                <a:lnTo>
                  <a:pt x="20770" y="3910345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05880" y="747720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705880" y="733284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705880" y="717552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05880" y="703260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05880" y="687708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705880" y="673272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480600" y="747720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480600" y="733284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480600" y="717552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480600" y="703260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80600" y="687708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480600" y="673272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93560" y="0"/>
            <a:ext cx="1019808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85880" y="626760"/>
            <a:ext cx="91281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85880" y="2101680"/>
            <a:ext cx="91281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1069164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4720" y="6393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4720" y="2099880"/>
            <a:ext cx="9129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1604880" cy="7559640"/>
          </a:xfrm>
          <a:custGeom>
            <a:avLst/>
            <a:gdLst>
              <a:gd name="textAreaLeft" fmla="*/ 360 w 1604880"/>
              <a:gd name="textAreaRight" fmla="*/ 1604520 w 160488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1727">
                <a:moveTo>
                  <a:pt x="21" y="0"/>
                </a:moveTo>
                <a:arcTo wR="21" hR="21" stAng="16200000" swAng="-5400000"/>
                <a:lnTo>
                  <a:pt x="0" y="101706"/>
                </a:lnTo>
                <a:arcTo wR="21" hR="21" stAng="10800000" swAng="-5400000"/>
                <a:lnTo>
                  <a:pt x="21579" y="101727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0"/>
            <a:ext cx="41400" cy="7559640"/>
          </a:xfrm>
          <a:custGeom>
            <a:avLst/>
            <a:gdLst>
              <a:gd name="textAreaLeft" fmla="*/ 360 w 41400"/>
              <a:gd name="textAreaRight" fmla="*/ 41040 w 4140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910345">
                <a:moveTo>
                  <a:pt x="830" y="0"/>
                </a:moveTo>
                <a:arcTo wR="830" hR="830" stAng="16200000" swAng="-5400000"/>
                <a:lnTo>
                  <a:pt x="0" y="3909515"/>
                </a:lnTo>
                <a:arcTo wR="830" hR="830" stAng="10800000" swAng="-5400000"/>
                <a:lnTo>
                  <a:pt x="20770" y="3910345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05880" y="747720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705880" y="733284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705880" y="717552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705880" y="703260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05880" y="687708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05880" y="673272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480600" y="747720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480600" y="733284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0600" y="717552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80600" y="703260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480600" y="6877080"/>
            <a:ext cx="63648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480600" y="6732720"/>
            <a:ext cx="63648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63840" y="1019160"/>
            <a:ext cx="743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Строение Клетки.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160720" y="4815000"/>
            <a:ext cx="80992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ЩПТ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2015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1700" spc="-1" strike="noStrike">
                <a:solidFill>
                  <a:srgbClr val="e6e6ff"/>
                </a:solidFill>
                <a:latin typeface="Times New Roman"/>
              </a:rPr>
              <a:t>Стрункина Е.М.</a:t>
            </a:r>
            <a:endParaRPr b="0" lang="en-US" sz="1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85880" y="671040"/>
            <a:ext cx="9129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итохондр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65000" y="2230560"/>
            <a:ext cx="4456440" cy="33494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400360" y="2120400"/>
            <a:ext cx="49957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итохондрия (от греч. μίτος — нить и χόνδρος — зёрнышко, крупинка) — органелла, имеющаяся во многих эукариотических клетках и синтезирующая АТФ, используемый в клетке в качестве основного источника химической энерг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0720" y="5580000"/>
            <a:ext cx="4500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лектронномикроскопическая фотография, показывающая митохондрии млекопитающего в поперечном сеч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нтриол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462640" y="2101680"/>
            <a:ext cx="44560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нтриоли представляют собой цилиндрические белковые структуры, расположенные вблизи ядра клеток животных (у растений центриолей нет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65000" y="2259000"/>
            <a:ext cx="4456440" cy="3321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20720" y="5580000"/>
            <a:ext cx="450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Центриоль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изосом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462640" y="2101680"/>
            <a:ext cx="44560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зосома — небольшое тельце, ограниченное от цитоплазмы одинарной мембраной. Основная функция — автолиз — то есть расщепление отдельных органоидов, участков цитоплазмы клет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65000" y="2160720"/>
            <a:ext cx="4456440" cy="30081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20720" y="5234040"/>
            <a:ext cx="4986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лектронномикроскоп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тография лизосо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Ядр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62280" y="2101320"/>
            <a:ext cx="522900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дро (лат. nucleus) — это один из структурных компонентов эукариотической клетки, содержащий генетическую информацию (молекулы ДНК). В ядре происходит репликация — удвоение молекул ДНК, а также транскрипция — синтез молекул РНК на молекуле ДН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0720" y="5234040"/>
            <a:ext cx="49863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лектронномикроскоп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отограф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летки HeLa, ДНК которых окрашена голубым красителем Хойста. Клетка слева находится в состоянии митоза (анафаза), поэтому её ядро не видно, а ДНК сконденсирована так, что видны хромосо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743040" y="2160720"/>
            <a:ext cx="4476600" cy="3060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ибосом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462280" y="2101680"/>
            <a:ext cx="5229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ибосома — важнейший немембранный органоид  клетки,сферической или слегка эллипсоидной формы. Рибосомы служат для биосинтеза белка из аминокислот,на основе генетической информации, предоставляемой  РНК. Этот процесс называется трансляц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0720" y="5759280"/>
            <a:ext cx="498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босома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38360" y="2160720"/>
            <a:ext cx="4841640" cy="3600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760" y="7299360"/>
            <a:ext cx="11732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ндоплазматический ретикулу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62280" y="2101680"/>
            <a:ext cx="5229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ндоплазматический ретикулум (ЭПР) (лат. reticulum — сеточка) или эндоплазматическая сеть. При участии эндоплазматического ретикулума происходит трансляция и транспорт белков, синтез и транспорт липидов и стероид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2320" y="5786280"/>
            <a:ext cx="4746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ндоплазматический ретикулу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лектронномикроскопическая фотограф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20720" y="2166840"/>
            <a:ext cx="4680000" cy="35924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ппарат Гольдж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462280" y="2101680"/>
            <a:ext cx="5229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ппарат Гольджи (комплекс Гольджи) — мембранная структура эукариотической клетки, органелла, в основном предназначенная для выведения веществ, синтезированных в эндоплазматическом ретикулу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20720" y="2160720"/>
            <a:ext cx="5040360" cy="3600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078760" y="7299360"/>
            <a:ext cx="2612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Строение эукариотической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85880" y="671040"/>
            <a:ext cx="9129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увидеть клетку своими глазам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785880" y="2101680"/>
            <a:ext cx="4456080" cy="49896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362640" y="1979640"/>
            <a:ext cx="335592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м поможет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900000" y="2160720"/>
            <a:ext cx="4319640" cy="48592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199280" y="3780000"/>
            <a:ext cx="28796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9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ЛУК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5880" y="671040"/>
            <a:ext cx="9129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уковая плён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462640" y="2101680"/>
            <a:ext cx="44560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уковая плёнка,интересна тем,что её толщина,равна, толщине одной клет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795240" y="2160720"/>
            <a:ext cx="4424400" cy="2519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720720" y="4859280"/>
            <a:ext cx="4500720" cy="2340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5783400" y="4859280"/>
            <a:ext cx="465768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4360" y="639720"/>
            <a:ext cx="91314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Конец.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365520" y="6300720"/>
            <a:ext cx="443556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78264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Стрункина Е.М. 2015 г.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49320" y="771480"/>
            <a:ext cx="9129600" cy="32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ле́т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— элементарная единица строения и жизнедеятельности всех живых организмов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роме вирусов, о которых нередко говорят как о неклеточных формах жиз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обладающая собственным обменом веществ, способная к самостоятельному существованию, самовоспроизведению и развитию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85880" y="4140000"/>
            <a:ext cx="9129600" cy="2950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се живые организм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либо, как многоклеточные животные, растения и грибы, состоят из множества клеток, либо, как многие простейшие и бактерии, являются одноклеточными организм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0040" y="179280"/>
            <a:ext cx="9129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Цит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279440" y="1941480"/>
            <a:ext cx="3519720" cy="49896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45000" y="1618920"/>
            <a:ext cx="4456080" cy="559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дел биологии, занимающийся изучением строения и жизнедеятельности клеток, получил название цитолог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последнее время принято также говорить о биологии клетки, или клеточной биологии (англ. Cell biolog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85880" y="355680"/>
            <a:ext cx="91296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Все клеточные формы жизни на земле можно разделить на два надцарства на основании строения составляющих их клеток —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прокариоты (доядерные)   и    эукариоты (ядерн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892920" y="3560760"/>
            <a:ext cx="1927080" cy="2379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528920" y="3613320"/>
            <a:ext cx="2919240" cy="2379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351000"/>
            <a:ext cx="389412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Прокариотическ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клетки — более простые по строению, по-видимому, они возникли в процессе эволюции ра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528920" y="3613320"/>
            <a:ext cx="2919240" cy="2379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892920" y="3560760"/>
            <a:ext cx="1927080" cy="2379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00000" y="351000"/>
            <a:ext cx="389412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Прокариотическ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клетки — более простые по строению, по-видимому, они возникли в процессе эволюции ра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05520" y="314280"/>
            <a:ext cx="389412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Эукариотическ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клетки — более сложные, возникли поз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351000"/>
            <a:ext cx="389412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Прокариотическ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клетки — более простые по строению, по-видимому, они возникли в процессе эволюции ра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351000"/>
            <a:ext cx="389412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Прокариотическ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клетки — более простые по строению, по-видимому, они возникли в процессе эволюции ра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0000" y="351000"/>
            <a:ext cx="389412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HG Mincho Light J"/>
              </a:rPr>
              <a:t>Прокариотическ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клетки — более простые по строению, по-видимому, они возникли в процессе эволюции ра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кариотическая кле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39640" y="2519280"/>
            <a:ext cx="5040360" cy="4319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62640" y="2101680"/>
            <a:ext cx="445608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кариоты (от лат. pro — перед, до и греч. κάρῠον — ядро, орех) — организмы, не обладающие, в отличие от эукариот, оформленным клеточным ядром и другими внутренними мембранными органоид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кариотическая кле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39640" y="2519280"/>
            <a:ext cx="5040360" cy="43196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462640" y="2101320"/>
            <a:ext cx="44560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прокариотам относятся бактерии, в том числе цианобактерии (сине-зелёные водоросли), и археи. Потомками прокариотических клеток являются органел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85880" y="671040"/>
            <a:ext cx="9129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укариотическая клет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445000" y="1979640"/>
            <a:ext cx="445608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укариоты (эвкариоты) (от греч. ευ — хорошо, полностью и κάρῠον — ядро) —организмы, обладающие, в отличие от прокариот, оформленным клеточным ядром, отграниченным от цитоплазмы ядерной оболочк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992160" y="2101680"/>
            <a:ext cx="4040280" cy="4989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85880" y="627120"/>
            <a:ext cx="9129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роение эукариотической клет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440000" y="2879640"/>
            <a:ext cx="7740360" cy="4272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60360" y="3240000"/>
            <a:ext cx="197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Митохонд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720" y="2879640"/>
            <a:ext cx="197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Центри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60720" y="2879640"/>
            <a:ext cx="197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Центри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0360" y="2519280"/>
            <a:ext cx="197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Лизос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40720" y="3067200"/>
            <a:ext cx="768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Я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59640" y="3240000"/>
            <a:ext cx="144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Рибос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999640" y="4500720"/>
            <a:ext cx="1619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Ретикул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459640" y="5400720"/>
            <a:ext cx="27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Аппарат Гольд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6760" y="7299360"/>
            <a:ext cx="11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</a:rPr>
              <a:t>Завер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8:39:27Z</dcterms:created>
  <dc:creator>Степан Стрункин</dc:creator>
  <dc:description/>
  <dc:language>en-US</dc:language>
  <cp:lastModifiedBy>zemlanin </cp:lastModifiedBy>
  <dcterms:modified xsi:type="dcterms:W3CDTF">2015-11-11T20:11:21Z</dcterms:modified>
  <cp:revision>85</cp:revision>
  <dc:subject/>
  <dc:title>Планета</dc:title>
</cp:coreProperties>
</file>