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644-EAAC-4BF0-A112-01B9A65A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A6D-AAB8-424E-94CA-47B06E50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648-C347-4FD5-B908-2B854237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0AA-1E4E-4F83-811C-AB20E3C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D48E-39AF-43D8-A868-F2EFC56E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29591-6BFA-406E-8990-562165A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29BE1-BB8E-4131-B242-8AD4C3DC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0A224-0A4C-43CF-B83F-DF7A5E7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37C98-ADC5-40CB-BDCB-00ED26CD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8B48-1F56-483E-ABF6-B3BBE179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CF7C1-0809-4747-8168-03730AE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EB1-2123-4399-B7CC-1CCEC0CE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C914-00E0-47D9-B2DF-49D149C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05818-BA8B-4FCB-9E71-54CA89F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2943-F56A-4602-A120-8E00839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8798-C960-416B-A1D9-E51B8948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DF6C1-85DD-4C08-9FBC-8BD31825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71348-D17B-4DAF-B142-05376AB1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DA42-CEAD-4DB4-9A11-336BBE0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70C64-EE21-40D0-BDF8-27A6C87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66AD7-0FF5-4783-B384-F4F2070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BE705-FEF8-4BB0-BAC6-1B9C798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BB3-5462-4102-A551-5C17D161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85D5D-430E-4D97-B1EE-A9B8899D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EB4BC-7AB8-4F3D-A7DF-87B597B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D33B6-5A5A-4B3E-98B6-A04FF5BC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147F4-D040-4B47-9F55-2045E27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2B1B8-531A-4995-9171-5C6DB67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E4F70-8F85-476F-AE2B-D75DB728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2CF68-6ED9-4692-9B80-30022ED7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9AFE-B758-41D5-BC6B-560AEA87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44B1-E71F-4684-9843-60D39915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EF84-1149-4784-B227-FF530BB0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510-A426-4AA3-A6FC-449FE34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E2FE-38C9-4D3B-A579-E913696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1A46-7DF6-4781-95D8-ABB04119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C546-F6E7-47DA-8A61-62EE91C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28965-1926-4AA7-B506-F11A28D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44D6-3425-45BB-AFA8-C7899F4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F474-FF18-4CAC-813C-7A41E13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FD9F-2866-431B-A1D1-D3AD59B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B421-6E44-4FDB-B0D0-54DFFA9C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AE3B-87BC-4235-A925-46DD2232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621F-26B3-49EF-AE56-DC33133D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2F9-A226-455F-B972-2CDD7034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97D5-5DFC-455F-BA24-2FB832F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A9B7-B625-4ECF-99AF-A759B6E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A441-E221-4F30-83F8-A30138B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412B-5F53-4DB3-93C6-E3CBFD1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25FAF-13E0-48F0-9EB0-27E3266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D814-5AC9-47F2-B0C9-18D7B98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4685-BA9E-4600-A7F5-BF10ADC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1C1C-8B42-4750-9993-BA6E937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0CC3-2092-436B-BF04-953C66A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1D7E-DA43-470A-B9FD-682A2666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795-820E-484E-B2F5-1EC7478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E3A4-451D-453A-8CFD-71EDAE79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9C38-4F81-4759-A3A7-7BC15B13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738DB-9277-4D78-8BCC-FB7666F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CD5A-6174-426D-AE0C-47B7EFEA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D1D6-904F-4D23-8C21-66DCACF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AF9C-6C3C-40FA-8268-9314E2F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CDD8-73BB-47F3-818B-1E7AD5D3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6198-E928-4E14-9471-E67BD46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A65F7-7BDC-4818-A873-B127A69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D056-351F-4C05-96ED-CE7726F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6B4-C96E-412F-A34C-74BCB97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1E55-AB5E-4E78-8312-5DD61C3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B0A5-064D-4C60-813B-0F62DF55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60A7-F18C-4398-A3A6-BB59CEEA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7F06-1E91-417E-84A3-C539DFF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7E99-8009-42B7-8413-05E29EB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284C6-5875-4553-A491-08FB8BBD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7EE8-FC43-4C7D-AE07-34A6BD1D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AAE2-EAED-4DCE-B72C-8C29B2C8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90FA-65CC-4976-B448-846FC8B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D75D-F1FE-47E3-A03A-4DEDD69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D4C-FB70-49A6-AD54-EB4FDDC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E0E07-BFCF-49B6-943A-FCDE11C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A672E-0130-418E-A5A7-4B67F7B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68C4-CFB0-41CA-9A7A-EF28015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0F38-0476-49D8-895C-60AD67E4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F78C-71F4-4CCB-8BDE-5226B38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E77-9C76-4B56-B5D2-32E4B27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1F8698-2901-44AB-B027-5D49F2BF6224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3B7F42-2F34-44EF-A142-4E4023C981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D27A6B-7460-454D-BD10-FA469539D185}" type="slidenum">
              <a:rPr b="0" lang="ru-RU" sz="12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68120" y="166680"/>
            <a:ext cx="9736200" cy="72262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E30754-13C3-41A0-9A06-F91CD023105D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68120" y="168120"/>
            <a:ext cx="739332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B6F03F-1EA8-4ADC-BB2E-CC584B5652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9E0D00-B3A6-4EAB-8074-91DA3367451C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8120" y="162000"/>
            <a:ext cx="7393320" cy="722772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728120" y="162000"/>
            <a:ext cx="2157120" cy="722772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AAE509-DB45-496E-A5C4-6C7F001CD9BD}" type="slidenum">
              <a:rPr b="0" lang="ru-RU" sz="12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1. Бывает ли так, что человек вам не понравился с первого взгляда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6000" y="1895400"/>
          <a:ext cx="9472680" cy="1584360"/>
        </p:xfrm>
        <a:graphic>
          <a:graphicData uri="http://schemas.openxmlformats.org/drawingml/2006/table">
            <a:tbl>
              <a:tblPr/>
              <a:tblGrid>
                <a:gridCol w="1008000"/>
                <a:gridCol w="885960"/>
                <a:gridCol w="947520"/>
                <a:gridCol w="947880"/>
                <a:gridCol w="946080"/>
                <a:gridCol w="947880"/>
                <a:gridCol w="947520"/>
                <a:gridCol w="947880"/>
                <a:gridCol w="946080"/>
                <a:gridCol w="947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КЛЮЧ К ТЕСТУ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20840" y="1895400"/>
            <a:ext cx="9267840" cy="555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80-100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Это очень высокий результат. Если вы отвечали честно, то вы цените и уважаете людей, а они, в свою очередь, считают вас надежным человеком. Вы не свернете со своего пути ради похвалы и награды, но ваши поступки принесут вам первое и второе.</a:t>
            </a:r>
            <a:br>
              <a:rPr sz="2200"/>
            </a:b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45-75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Людям, которые попали в этот диапазон, обычно помогают при условии, что они расширят сферу своих интересов. Им хочется, чтобы их любили, но они ничего для этого не делают, предпочитая отгородиться от мира.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0-40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Люди, которые попали в эту группу, настолько стеснительны, что просто бояться быть на виду. Но как только они вылезают из своей «скорлупы», то еще больше привлекают к себе внимание окружающих.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Franklin Gothic Medium"/>
              </a:rPr>
              <a:t>РЕЗУЛЬТАТЫ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02920" y="1834920"/>
            <a:ext cx="9001080" cy="5180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lnSpc>
                <a:spcPct val="100000"/>
              </a:lnSpc>
              <a:spcBef>
                <a:spcPts val="220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§</a:t>
            </a:r>
            <a:r>
              <a:rPr b="1" lang="ru-RU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11, вопросы.</a:t>
            </a:r>
            <a:endParaRPr b="0" lang="en-US" sz="88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ДОМАШНЕЕ ЗАДАНИЕ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2. Если с вами заговорит незнакомый человек, сделаете ли вы вид, что не замечаете ег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3.Когда кто-то рассказывает вам что-нибудь «по секрету», вы держите «язык за зубами»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4.Обращаются ли к вам за помощью или совето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5.Общаясь с людьми, вы отказываетесь выслушать то, что волнует их, ради обсуждения своих собственных пробле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6.Позволяете ли вы себе говорить критичным тоном, с сарказмом (насмешкой) или с нотами агрессии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7.Если у вас что-то не получается, вы пытаетесь переложить свою вину на кого-нибудь другог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8.Когда вы встречаете нового человека в доме или в классе, вы пытаетесь первым завести знакомств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4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9.Если друзьям срочно понадобилась ваша помощь, вы, не раздумывая, бросаете свою работу, домашние дела и занятия, чтобы помочь и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Егоркина Е.М.</dc:creator>
  <dc:description/>
  <dc:language>en-US</dc:language>
  <cp:lastModifiedBy>RePack by Diakov</cp:lastModifiedBy>
  <dcterms:modified xsi:type="dcterms:W3CDTF">2022-02-15T08:25:29Z</dcterms:modified>
  <cp:revision>30</cp:revision>
  <dc:subject/>
  <dc:title>Переходный возраст</dc:title>
</cp:coreProperties>
</file>