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C76-0D03-45F3-8693-A8E6CCAF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364-C3D1-415E-AA63-E730F1DE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E59-2292-40F7-BCA7-C4D7FEF9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472-72AE-4182-93BC-5FA9398B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0B22A-960F-443B-BF5A-3535FD20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BAB42-3CD2-4718-B029-FBCD1AC9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9E18C-E053-4EC8-8C37-9E447FF4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3591D-4389-4E79-AECF-26721CF2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B29C2-E447-4AB7-A2BE-7B9CCF14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26AE4-DD68-45CC-958E-57733BB6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12E83-7C49-427B-BB56-247EBEFE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DEE-2222-4883-84BA-A8D009C8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1F1F0-5F4D-4C98-B46A-169B570A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0C8AF-0DDA-4A58-B7BB-6F4ADFD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59D8C-474A-45FA-BF96-C75AF98E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9623E-46B2-4C0A-96C0-5BCC1ACA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7EBBD-0563-47FE-963E-F9B4722E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89564-2C2B-4F7B-8B20-F7471573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BC416-A8DD-4941-BE0D-C6172633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7947F-711B-4EEC-AFAD-1166C259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27B2C-A14C-45AF-9784-80D4C45F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41D5E-4BF1-4896-9678-28ABDFFB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116-89C5-4019-A951-9BC0112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6DBF9-0449-4767-A292-23E984BA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27247-22B7-45F0-8421-E5C928C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85624-1027-4B93-B901-ACDFFC9B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1AB5F-2191-4849-A45C-4648A389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D2963-4450-48BA-97C8-325E695F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52717-9BBB-4745-9259-DFC7D06A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75E5F-03BD-4C0E-9E6E-8A7D227B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81746-958A-4FE2-8274-AD709326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B3ED4-0A5A-408A-904F-DEE17CDB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C58EC-AE3B-43FA-9442-0C473DE8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3B7-24DC-4F67-91CA-C21F025D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88182-882C-4173-BD5F-68E24E95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6DA59-6A6D-46F0-A1E1-D1B834AB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C2D80-69E2-49A3-9A08-B6016A61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9908B-7FB2-4058-B175-874843B5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CE7A9-69A4-4B68-82E4-A49CA7DA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3D886-94D5-4C2E-BFBB-0025FC09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F3AF8-5E58-43F8-B251-FE64D540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EF7AD-D122-4703-AC72-87E52D00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FC07-11B1-4416-B59D-AE2D5071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3511C-D515-4417-8953-E50689BC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290-ABAF-4511-8598-DECF4D5B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DD85C-8A85-44C4-A23A-1A600945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6D681-6BF9-4551-ACC3-52D4B8BE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D6AEC-97EC-42C0-966E-3684B8D4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5BF7-00DA-46FF-AFD8-1027891E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59F9D-9129-4285-B989-B5DA6B9E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3FE33-EC67-4773-BDB8-72E1359A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0B9E8-4F4E-410D-8212-A0D45037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ADF12-93AA-4CCF-B0BA-BBB0640B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E993F-B630-4711-A35B-21EACCA0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BA85-5A11-4AEA-84A0-362AD1BA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EE3-9B9F-476B-BC2A-DEF35368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B4BBE-A0BA-46D3-AAC0-55FC8678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893F6-3C63-40EF-8B5C-F244795B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E1E95-CDB1-4D52-AABC-577F70E4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BDF9C-B628-4E6A-976D-14A9E684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08FCA-CE21-4350-A2A4-2CF4EEE8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A315-DE7B-4AC0-A58D-DB48B397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9BA8F-0341-443C-9D33-9BCC3E42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71E40-1D82-4C7A-A9EB-532207F4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10C5F-73AE-4ED5-90B7-C3696EDB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2956-59B4-49D4-9391-EE00996C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721-50B8-41AA-A3FE-1B695B4F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4D769-C2A5-4863-BD92-11969FA2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EAE93-E494-4979-81B8-CFADDF07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0495E-7564-4557-AF3C-2FA685D6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82D6D-8BC7-4541-A781-A178D17B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55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68C1B-9296-44CE-B04B-112CEF73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F9E61-9D49-40D9-8636-E9AE2426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456BB-E9A3-4798-8D81-08DBCC70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6E483-FF5A-47BE-A172-27F71DB9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20840" y="392040"/>
            <a:ext cx="92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D8F89-B915-4D0D-B246-C5387DBE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609F7-6712-4AAB-9F83-A04CD14E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BD3-FAA4-483A-AE96-1EFD73A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3D98E-848B-49A6-9AA1-B6225115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43E82-601D-4DC0-BA43-8FA55A1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BB481-F757-4D04-96F7-6DF28182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69960" y="443304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2519-90DA-4D16-AA6F-967BF5ED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5464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88080" y="189540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208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5464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88080" y="4433040"/>
            <a:ext cx="29840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0CAC4-077B-4B4D-9EE6-43AF5B25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084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9960" y="1895400"/>
            <a:ext cx="45226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0840" y="4433040"/>
            <a:ext cx="926784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290-0584-4D81-85F9-A536A8D8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68120" y="1801800"/>
            <a:ext cx="9736200" cy="556272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68120" y="168120"/>
            <a:ext cx="9717120" cy="14846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46b86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ADF6BD-C3F9-42F7-A953-4344F85A5602}" type="slidenum">
              <a:rPr b="0" lang="ru-RU" sz="1200" spc="-1" strike="noStrike">
                <a:solidFill>
                  <a:srgbClr val="646b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728120" y="168120"/>
            <a:ext cx="2184120" cy="722628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68120" y="169920"/>
            <a:ext cx="7393320" cy="722304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8EB8B0-A05B-45FC-8800-C8FEED10C6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28120" y="168120"/>
            <a:ext cx="2184120" cy="722628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8120" y="169920"/>
            <a:ext cx="7393320" cy="72230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EAC76C-B1AC-4952-8F03-0DB840CB9F13}" type="slidenum">
              <a:rPr b="0" lang="ru-RU" sz="12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68120" y="166680"/>
            <a:ext cx="9736200" cy="722628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46b86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6C9F63-A38E-470E-B5D7-4E8E6E5B527A}" type="slidenum">
              <a:rPr b="0" lang="ru-RU" sz="1200" spc="-1" strike="noStrike">
                <a:solidFill>
                  <a:srgbClr val="646b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728120" y="166680"/>
            <a:ext cx="2184120" cy="722628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68120" y="168120"/>
            <a:ext cx="7393320" cy="72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B814FB-6391-49AA-84A4-816C3706AB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728120" y="166680"/>
            <a:ext cx="21841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646b86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E3CA7D-8D7F-4A7E-93E0-D1A68D7F9014}" type="slidenum">
              <a:rPr b="0" lang="ru-RU" sz="1200" spc="-1" strike="noStrike">
                <a:solidFill>
                  <a:srgbClr val="646b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68120" y="162000"/>
            <a:ext cx="7393320" cy="722772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728120" y="162000"/>
            <a:ext cx="2157120" cy="722772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1" marL="603360" indent="-200160">
              <a:spcBef>
                <a:spcPts val="550"/>
              </a:spcBef>
              <a:buClr>
                <a:srgbClr val="ccb4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con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2" marL="906480" indent="-200160">
              <a:spcBef>
                <a:spcPts val="550"/>
              </a:spcBef>
              <a:buClr>
                <a:srgbClr val="8cadae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Third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3" marL="1208160" indent="-200160">
              <a:spcBef>
                <a:spcPts val="550"/>
              </a:spcBef>
              <a:buClr>
                <a:srgbClr val="8c7b7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our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4" marL="1409760" indent="-200160">
              <a:spcBef>
                <a:spcPts val="550"/>
              </a:spcBef>
              <a:buClr>
                <a:srgbClr val="d19049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Fif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5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ix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lvl="6" marL="1409760" indent="-200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Franklin Gothic Medium"/>
              </a:rPr>
              <a:t>Seventh Outline Level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09320" y="7007040"/>
            <a:ext cx="23511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360600" y="7007040"/>
            <a:ext cx="3695760" cy="301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9078840" y="7005600"/>
            <a:ext cx="641520" cy="30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40A80D-A19B-4E33-8FAF-AF7E37EA2211}" type="slidenum">
              <a:rPr b="0" lang="ru-RU" sz="12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1. Бывает ли так, что человек вам не понравился с первого взгляда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216000" y="1895400"/>
          <a:ext cx="9472680" cy="1584360"/>
        </p:xfrm>
        <a:graphic>
          <a:graphicData uri="http://schemas.openxmlformats.org/drawingml/2006/table">
            <a:tbl>
              <a:tblPr/>
              <a:tblGrid>
                <a:gridCol w="1008000"/>
                <a:gridCol w="885960"/>
                <a:gridCol w="947520"/>
                <a:gridCol w="947880"/>
                <a:gridCol w="946080"/>
                <a:gridCol w="947880"/>
                <a:gridCol w="947520"/>
                <a:gridCol w="947880"/>
                <a:gridCol w="946080"/>
                <a:gridCol w="9478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Отв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КЛЮЧ К ТЕСТУ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20840" y="1895400"/>
            <a:ext cx="9267840" cy="555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Franklin Gothic Medium"/>
              </a:rPr>
              <a:t>80-100.</a:t>
            </a:r>
            <a:r>
              <a:rPr b="0" lang="ru-RU" sz="2400" spc="-1" strike="noStrike">
                <a:solidFill>
                  <a:srgbClr val="646b86"/>
                </a:solidFill>
                <a:latin typeface="Franklin Gothic Medium"/>
              </a:rPr>
              <a:t> </a:t>
            </a:r>
            <a:r>
              <a:rPr b="0" lang="ru-RU" sz="2200" spc="-1" strike="noStrike">
                <a:solidFill>
                  <a:srgbClr val="646b86"/>
                </a:solidFill>
                <a:latin typeface="Franklin Gothic Medium"/>
              </a:rPr>
              <a:t>Это очень высокий результат. Если вы отвечали честно, то вы цените и уважаете людей, а они, в свою очередь, считают вас надежным человеком. Вы не свернете со своего пути ради похвалы и награды, но ваши поступки принесут вам первое и второе.</a:t>
            </a:r>
            <a:br>
              <a:rPr sz="2200"/>
            </a:br>
            <a:r>
              <a:rPr b="0" lang="ru-RU" sz="2200" spc="-1" strike="noStrike">
                <a:solidFill>
                  <a:srgbClr val="646b86"/>
                </a:solidFill>
                <a:latin typeface="Franklin Gothic Medium"/>
              </a:rPr>
              <a:t> 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Franklin Gothic Medium"/>
              </a:rPr>
              <a:t>45-75.</a:t>
            </a:r>
            <a:r>
              <a:rPr b="0" lang="ru-RU" sz="2400" spc="-1" strike="noStrike">
                <a:solidFill>
                  <a:srgbClr val="646b86"/>
                </a:solidFill>
                <a:latin typeface="Franklin Gothic Medium"/>
              </a:rPr>
              <a:t> </a:t>
            </a:r>
            <a:r>
              <a:rPr b="0" lang="ru-RU" sz="2200" spc="-1" strike="noStrike">
                <a:solidFill>
                  <a:srgbClr val="646b86"/>
                </a:solidFill>
                <a:latin typeface="Franklin Gothic Medium"/>
              </a:rPr>
              <a:t>Людям, которые попали в этот диапазон, обычно помогают при условии, что они расширят сферу своих интересов. Им хочется, чтобы их любили, но они ничего для этого не делают, предпочитая отгородиться от мира.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marL="301680" indent="-250920"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Franklin Gothic Medium"/>
              </a:rPr>
              <a:t>0-40.</a:t>
            </a:r>
            <a:r>
              <a:rPr b="0" lang="ru-RU" sz="2400" spc="-1" strike="noStrike">
                <a:solidFill>
                  <a:srgbClr val="646b86"/>
                </a:solidFill>
                <a:latin typeface="Franklin Gothic Medium"/>
              </a:rPr>
              <a:t> </a:t>
            </a:r>
            <a:r>
              <a:rPr b="0" lang="ru-RU" sz="2200" spc="-1" strike="noStrike">
                <a:solidFill>
                  <a:srgbClr val="646b86"/>
                </a:solidFill>
                <a:latin typeface="Franklin Gothic Medium"/>
              </a:rPr>
              <a:t>Люди, которые попали в эту группу, настолько стеснительны, что просто бояться быть на виду. Но как только они вылезают из своей «скорлупы», то еще больше привлекают к себе внимание окружающих.</a:t>
            </a: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  <a:p>
            <a:pPr marL="301680" indent="-250920">
              <a:spcBef>
                <a:spcPts val="55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Franklin Gothic Medium"/>
              </a:rPr>
              <a:t>РЕЗУЛЬТАТЫ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502920" y="1834920"/>
            <a:ext cx="9001080" cy="5180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250920">
              <a:lnSpc>
                <a:spcPct val="100000"/>
              </a:lnSpc>
              <a:spcBef>
                <a:spcPts val="2200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Garamond"/>
                <a:ea typeface="Times New Roman"/>
              </a:rPr>
              <a:t>§</a:t>
            </a:r>
            <a:r>
              <a:rPr b="1" lang="ru-RU" sz="8800" spc="-1" strike="noStrike">
                <a:solidFill>
                  <a:srgbClr val="003366"/>
                </a:solidFill>
                <a:latin typeface="Garamond"/>
                <a:ea typeface="Times New Roman"/>
              </a:rPr>
              <a:t>11, вопросы.</a:t>
            </a:r>
            <a:endParaRPr b="0" lang="en-US" sz="88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ДОМАШНЕЕ ЗАДАНИЕ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2. Если с вами заговорит незнакомый человек, сделаете ли вы вид, что не замечаете его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3.Когда кто-то рассказывает вам что-нибудь «по секрету», вы держите «язык за зубами»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4.Обращаются ли к вам за помощью или советом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5.Общаясь с людьми, вы отказываетесь выслушать то, что волнует их, ради обсуждения своих собственных проблем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6.Позволяете ли вы себе говорить критичным тоном, с сарказмом (насмешкой) или с нотами агрессии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7.Если у вас что-то не получается, вы пытаетесь переложить свою вину на кого-нибудь другого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932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8.Когда вы встречаете нового человека в доме или в классе, вы пытаетесь первым завести знакомство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9320"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20840" y="1895400"/>
            <a:ext cx="926784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4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Franklin Gothic Medium"/>
              </a:rPr>
              <a:t>9.Если друзьям срочно понадобилась ваша помощь, вы, не раздумывая, бросаете свою работу, домашние дела и занятия, чтобы помочь им?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860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А) часто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860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Б) иногда,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  <a:p>
            <a:pPr marL="4860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Font typeface="Wingdings 2" charset="2"/>
              <a:buChar char="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Franklin Gothic Medium"/>
              </a:rPr>
              <a:t>В) никогда.</a:t>
            </a:r>
            <a:endParaRPr b="0" lang="en-US" sz="4000" spc="-1" strike="noStrike">
              <a:solidFill>
                <a:srgbClr val="646b86"/>
              </a:solidFill>
              <a:latin typeface="Franklin Gothic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0840" y="392040"/>
            <a:ext cx="9239040" cy="116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Franklin Gothic Medium"/>
              </a:rPr>
              <a:t>ТЕСТ «ПОЗНАЙ СЕБЯ. КАК К ВАМ ОТНОСЯТСЯ ОКРУЖАЮЩИЕ»</a:t>
            </a:r>
            <a:endParaRPr b="0" lang="en-US" sz="35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45:24Z</dcterms:created>
  <dc:creator>Егоркина Е.М.</dc:creator>
  <dc:description/>
  <dc:language>en-US</dc:language>
  <cp:lastModifiedBy>RePack by Diakov</cp:lastModifiedBy>
  <dcterms:modified xsi:type="dcterms:W3CDTF">2022-02-15T08:25:29Z</dcterms:modified>
  <cp:revision>30</cp:revision>
  <dc:subject/>
  <dc:title>Переходный возраст</dc:title>
</cp:coreProperties>
</file>