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684F-4123-4AF4-BA9E-82EA5402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C225-9352-4232-9EE6-8727F9A9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7C64-6F19-4A0E-9B72-FB1336BA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5063-957A-4044-8769-05366C27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30B7-9460-4AD0-9E81-DF2DD00C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BBD2-7B85-4D50-B79E-24811134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68F2-C902-4D9C-BB7B-D44B7952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CAAA-479E-4515-B7A0-AC5D457B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A261-792D-4836-A1BF-DD8DF68C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6059-3A5F-45CC-BDDC-F95E62DF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417B-522B-4E65-BBAC-A96E26BA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EE1A-01FD-4316-8E42-18EB29F9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9AEB-AB5A-4EA3-93A1-21CE5B19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2BC9-81F4-4033-B3EB-C87FB473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8E5-478A-4F24-BAE0-442F6F62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B6D5-57F1-4CF2-8779-CDE51D31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2775-0726-4950-B1F1-7510F71A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C64D-6A61-46EC-84D7-02D90D72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81FA-6DBD-4C35-89AC-2A8268D3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0C17-9B4C-4760-A06D-52A75D8A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BE07-86D0-4F74-B63D-49360FF4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90CF-CA52-4660-BE32-BEAC007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BE83-6AA9-42ED-B69B-5537F67A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DDD2-4E55-4D09-B15C-2D509484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3936-4848-483B-8173-CF88D36133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DBCA-DA10-4029-8BF4-D5692F2C76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img-fotki.yandex.ru/get/24/aldod.0/0_d21d_2ecaa9c_XL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11.nnm.ru/1/a/f/b/8/9ce0e05e9ba511c07471e89712c_pre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Comic Sans MS"/>
              </a:rPr>
              <a:t>Тульский кремль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IMG_0013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5105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5699160" y="6221520"/>
            <a:ext cx="123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858000" y="5105520"/>
            <a:ext cx="243828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aramond"/>
              </a:rPr>
              <a:t>Начинается земля, как известно, от кремл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cc"/>
                </a:solidFill>
                <a:latin typeface="Garamond"/>
              </a:rPr>
              <a:t>Владимир Маяковск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Спасская башн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звание получила от Спасской  церкви. Башня это круглая, глухая, углова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д шатром Спасской башни была устроена смотровая вышка с колоколом. Его тревожный звон, разносясь далеко по городу, извещал горожан о пожаре или о появлении вражеского войска. За это Спасскую башню еще называли Вестов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СПаская"/>
          <p:cNvPicPr/>
          <p:nvPr/>
        </p:nvPicPr>
        <p:blipFill>
          <a:blip r:embed="rId1"/>
          <a:stretch/>
        </p:blipFill>
        <p:spPr>
          <a:xfrm>
            <a:off x="990720" y="1600200"/>
            <a:ext cx="3344760" cy="4525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1905120" y="1523880"/>
            <a:ext cx="16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204640" y="160020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до реставр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142080" y="380988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сл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Наугольная башн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на похожа на Ивановскую башн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Эта башня круглая, глуха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ейчас осталась единственной нереставрирован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13" descr="9"/>
          <p:cNvPicPr/>
          <p:nvPr/>
        </p:nvPicPr>
        <p:blipFill>
          <a:blip r:embed="rId1"/>
          <a:stretch/>
        </p:blipFill>
        <p:spPr>
          <a:xfrm>
            <a:off x="485640" y="1600200"/>
            <a:ext cx="394200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Ивановская баш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11" descr="ivanovskaya_bashnya"/>
          <p:cNvPicPr/>
          <p:nvPr/>
        </p:nvPicPr>
        <p:blipFill>
          <a:blip r:embed="rId1"/>
          <a:stretch/>
        </p:blipFill>
        <p:spPr>
          <a:xfrm>
            <a:off x="4724280" y="1143000"/>
            <a:ext cx="2362320" cy="2719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амая красивая из всех баше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строена в 3 этаж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VI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еке называлась Тайницкой, т.к из подвала этой башни к Упе шёл подземный ход(«тайник») длиною 70метров.Это нужно было для обеспечения водой воинов во  время осад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3" descr="kreml5"/>
          <p:cNvPicPr/>
          <p:nvPr/>
        </p:nvPicPr>
        <p:blipFill>
          <a:blip r:embed="rId2"/>
          <a:stretch/>
        </p:blipFill>
        <p:spPr>
          <a:xfrm>
            <a:off x="1905120" y="1219320"/>
            <a:ext cx="2550960" cy="264456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Никитская башн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звание получила из-за своего нахождения в районе Никитский конец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зделена на три этажа («на три боя»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веке в ней царскими властями  устроена камера пыто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ейчас в камере пыток проводят экскурс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36528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ездные прямоугольные башн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9" descr="start"/>
          <p:cNvPicPr/>
          <p:nvPr/>
        </p:nvPicPr>
        <p:blipFill>
          <a:blip r:embed="rId1"/>
          <a:stretch/>
        </p:blipFill>
        <p:spPr>
          <a:xfrm>
            <a:off x="1295280" y="1676520"/>
            <a:ext cx="6400800" cy="48006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49" name="Text Box 5"/>
          <p:cNvSpPr/>
          <p:nvPr/>
        </p:nvSpPr>
        <p:spPr>
          <a:xfrm>
            <a:off x="1905120" y="2514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Башня Водяных воро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699160" y="553572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195160" y="586728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Башня Одоевских ворот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4114800"/>
            <a:ext cx="27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Башня Пятницких воро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6400800" y="2438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Башня Ивановских воро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я Одоевских воро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ерез неё шла дорога на Одое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торое название – Казанская – на фасаде, в нише, располагалась икона Казанской Божей Матер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 шпиле башни – герб Тул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25" descr="Одев(стар)"/>
          <p:cNvPicPr/>
          <p:nvPr/>
        </p:nvPicPr>
        <p:blipFill>
          <a:blip r:embed="rId1"/>
          <a:stretch/>
        </p:blipFill>
        <p:spPr>
          <a:xfrm>
            <a:off x="1143000" y="1143000"/>
            <a:ext cx="2444760" cy="26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Олоевские(нев)"/>
          <p:cNvPicPr/>
          <p:nvPr/>
        </p:nvPicPr>
        <p:blipFill>
          <a:blip r:embed="rId2"/>
          <a:stretch/>
        </p:blipFill>
        <p:spPr>
          <a:xfrm>
            <a:off x="3809880" y="1143000"/>
            <a:ext cx="221004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Картинка 13 из 6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143000"/>
            <a:ext cx="2317680" cy="259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я Ивановских воро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полагается в самом центре юго – восточной сте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ашня уникальна, так как наши предки имели возможность через входной арочный проём попадать на внутреннюю лестницу, а затем на боевой ход сте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4" descr="IMG_0012"/>
          <p:cNvPicPr/>
          <p:nvPr/>
        </p:nvPicPr>
        <p:blipFill>
          <a:blip r:embed="rId1"/>
          <a:stretch/>
        </p:blipFill>
        <p:spPr>
          <a:xfrm>
            <a:off x="4800600" y="1219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3" descr="Ивановская(Старая)"/>
          <p:cNvPicPr/>
          <p:nvPr/>
        </p:nvPicPr>
        <p:blipFill>
          <a:blip r:embed="rId2"/>
          <a:stretch/>
        </p:blipFill>
        <p:spPr>
          <a:xfrm>
            <a:off x="1905120" y="12193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я Пятницких воро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11" descr="пятница(стар)"/>
          <p:cNvPicPr/>
          <p:nvPr/>
        </p:nvPicPr>
        <p:blipFill>
          <a:blip r:embed="rId1"/>
          <a:stretch/>
        </p:blipFill>
        <p:spPr>
          <a:xfrm>
            <a:off x="2286000" y="1143000"/>
            <a:ext cx="2138400" cy="2719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пятница(нев)"/>
          <p:cNvPicPr/>
          <p:nvPr/>
        </p:nvPicPr>
        <p:blipFill>
          <a:blip r:embed="rId2"/>
          <a:stretch/>
        </p:blipFill>
        <p:spPr>
          <a:xfrm>
            <a:off x="4724280" y="1143000"/>
            <a:ext cx="2040120" cy="2719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звание свое башня получила из-за близлежащей Пятницкой церкв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 XVI веке в них хранились карабины, мушкеты, латы, свинцовые пули и знамен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я Водяных воро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 и все проездные башни, башня Водяных ворот квадратная. Непосредственно с кремлем верхние ярусы башни не сообщались. Попасть в них можно было только с "боевого хода", примыкавшего к стене башн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вое название башня Водяных ворот получила оттого, что через эти ворота постоянно шел Крестный ход из кремля на реку ("на воду"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7" descr="водянка(нев)"/>
          <p:cNvPicPr/>
          <p:nvPr/>
        </p:nvPicPr>
        <p:blipFill>
          <a:blip r:embed="rId1"/>
          <a:stretch/>
        </p:blipFill>
        <p:spPr>
          <a:xfrm>
            <a:off x="762120" y="1219320"/>
            <a:ext cx="3679560" cy="4906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Comic Sans MS"/>
              </a:rPr>
              <a:t>Единственная квадратная башн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единственная квадратная башня из пяти глухих. Внутри она была разделена двумя мостами на ярусы. Под башней находился погреб с оружием и порох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 погребу (в стене кремля) сохранился проход, позволявший выйти на берег Уп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6" descr="На погребу(нев)"/>
          <p:cNvPicPr/>
          <p:nvPr/>
        </p:nvPicPr>
        <p:blipFill>
          <a:blip r:embed="rId1"/>
          <a:stretch/>
        </p:blipFill>
        <p:spPr>
          <a:xfrm>
            <a:off x="1905120" y="1143000"/>
            <a:ext cx="2174760" cy="2625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На погребу(стар"/>
          <p:cNvPicPr/>
          <p:nvPr/>
        </p:nvPicPr>
        <p:blipFill>
          <a:blip r:embed="rId2"/>
          <a:stretch/>
        </p:blipFill>
        <p:spPr>
          <a:xfrm>
            <a:off x="4343400" y="1143000"/>
            <a:ext cx="2133720" cy="2629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Василий </a:t>
            </a: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II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менно повелением этого великого, московского князя в Туле был поставлен Крем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8" descr="i?id=2406776-04"/>
          <p:cNvPicPr/>
          <p:nvPr/>
        </p:nvPicPr>
        <p:blipFill>
          <a:blip r:embed="rId1"/>
          <a:stretch/>
        </p:blipFill>
        <p:spPr>
          <a:xfrm>
            <a:off x="609480" y="1600200"/>
            <a:ext cx="3897360" cy="4495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Соборы Тульского кремл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6" descr="2 сразу))"/>
          <p:cNvPicPr/>
          <p:nvPr/>
        </p:nvPicPr>
        <p:blipFill>
          <a:blip r:embed="rId1"/>
          <a:stretch/>
        </p:blipFill>
        <p:spPr>
          <a:xfrm>
            <a:off x="1295280" y="1523880"/>
            <a:ext cx="6591600" cy="4965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Успенский собо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81480" y="9903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центре кремля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 пересечении двух кремлёвских улиц, стоит собор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VIII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ека – Свято – Успенск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лавным строителем храма был тульский купец Лукьян Иванович Коптель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менно в Успенском соборе были освящены знамена и получило напутствие молитвами  и благословлениями тульское ополчение, уходившее на Отечественную войну 1812 г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8" descr="0_186c6_41067fca_XL"/>
          <p:cNvPicPr/>
          <p:nvPr/>
        </p:nvPicPr>
        <p:blipFill>
          <a:blip r:embed="rId1"/>
          <a:srcRect l="0" t="11338" r="0" b="0"/>
          <a:stretch/>
        </p:blipFill>
        <p:spPr>
          <a:xfrm>
            <a:off x="304920" y="91440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огоявленский собо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тот собор был построен для зимнего богослужения в 1855 – 1862 годах в память о воинах туляках, погибших в Отечественной войне 1812 г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1972 году здание Богоявленского собора было передано Тульскому оружейному заводу, который в дальнейшем приспособил храм под музей оружия. Открытие музея состоялось в мае 1989го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9eb9fc4eb28abde2Big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Кремлевский сад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1838 году в Туле произошёл страшный пожа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чти вся деревянная Тула выгорела, огонь уничтожил Сенной рынок возле не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естные власти решили заложить бульвар, который позднее получил название Кремлевский са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го строительство завершилось в 1847 год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Кремлевский сад очень быстро стал самым любимым местом отдыха туля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7" descr="кремл саж"/>
          <p:cNvPicPr/>
          <p:nvPr/>
        </p:nvPicPr>
        <p:blipFill>
          <a:blip r:embed="rId1"/>
          <a:stretch/>
        </p:blipFill>
        <p:spPr>
          <a:xfrm>
            <a:off x="2286000" y="137160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кремл ссад"/>
          <p:cNvPicPr/>
          <p:nvPr/>
        </p:nvPicPr>
        <p:blipFill>
          <a:blip r:embed="rId2"/>
          <a:stretch/>
        </p:blipFill>
        <p:spPr>
          <a:xfrm>
            <a:off x="6324480" y="1371600"/>
            <a:ext cx="1722600" cy="2338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сад"/>
          <p:cNvPicPr/>
          <p:nvPr/>
        </p:nvPicPr>
        <p:blipFill>
          <a:blip r:embed="rId3"/>
          <a:stretch/>
        </p:blipFill>
        <p:spPr>
          <a:xfrm>
            <a:off x="4343400" y="137160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садд"/>
          <p:cNvPicPr/>
          <p:nvPr/>
        </p:nvPicPr>
        <p:blipFill>
          <a:blip r:embed="rId4"/>
          <a:stretch/>
        </p:blipFill>
        <p:spPr>
          <a:xfrm>
            <a:off x="380880" y="1371600"/>
            <a:ext cx="1752840" cy="236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Как создавали кремль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 1507 году начато строительство каменного ансамбл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 это время возникла угроза нападения крымских тата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з-за этого было решено заменить камень на дере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8" descr="i?id=17094895-02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бстановка в мире стала очень тревож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еревянная крепость была недостаточно надеж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8" descr="i?id=177808683-04"/>
          <p:cNvPicPr/>
          <p:nvPr/>
        </p:nvPicPr>
        <p:blipFill>
          <a:blip r:embed="rId1"/>
          <a:stretch/>
        </p:blipFill>
        <p:spPr>
          <a:xfrm>
            <a:off x="457200" y="304920"/>
            <a:ext cx="4010040" cy="579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76920" y="151920"/>
            <a:ext cx="4038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В 1514- 1520 годах был поставлен кремль, который сохранился до наших дн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4648320" cy="6476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Comic Sans MS"/>
              </a:rPr>
              <a:t>Особенности Тульского кремл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положен в низин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 всех сторон находились естественные преграды (реки  Упа, Тулица, Хомутовка и Ржавское болото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 3 сторон окружен рвом, наполненным водо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Через ров были переброшены подъемные мосты. В случае опасности их убира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верху кремль имеет форму прямоугольника со сторонами 200-300 метров. Периметр  стен – 1км. Площадь – почти 6 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сота стен с зубцами ( в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VII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еке) 10метров 70 сантиметров . Толщина стен разная, от 2 метров 80 сантиметров  до 3метров 20 сантиметр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Секрет прочност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тены стоят на мощном фундамент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ружные стены выложены в нижней части из белокаменных блоков известкового плитняка, а вверх из обожжённого большемерного кирпич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и Тульского кремл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Картинка 8 из 18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7524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Круглые и глухие башн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9" descr="start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8006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22" name="Text Box 5"/>
          <p:cNvSpPr/>
          <p:nvPr/>
        </p:nvSpPr>
        <p:spPr>
          <a:xfrm>
            <a:off x="1584360" y="286848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2666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Наугольная башн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7924680" y="29718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Никитская башн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089680" y="26398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029200" y="25909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089680" y="2639880"/>
            <a:ext cx="77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4278600" y="198108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Ивановская башн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4175280" y="4164120"/>
            <a:ext cx="108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895480" y="649116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Comic Sans MS"/>
              </a:rPr>
              <a:t>Спасская башн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ма</dc:creator>
  <dc:description/>
  <dc:language>en-US</dc:language>
  <cp:lastModifiedBy>admin</cp:lastModifiedBy>
  <dcterms:modified xsi:type="dcterms:W3CDTF">2020-10-22T12:31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