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93D4-B939-42BF-A29C-21D7258D4E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5E84-142C-4914-8DB9-B847014176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1D10-96D7-4A71-99D5-1DBEF2D83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E42-A741-425B-923E-C18C6DAD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50F-E45D-451D-96BF-D765ACA6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88F-01AB-421A-8457-6D7A15E1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7B9-D876-4EFD-9AFD-2D001D9B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80B-6636-4F17-991B-2EE12ED8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5F6-7F07-444C-B9B6-BAD5B97E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728-11AC-4EB9-8B03-A30C3E77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73E-8F94-4730-941A-063966D2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D53-55E6-4C3B-AC50-96A744B0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03B-3655-49ED-9940-CE63F892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A06-D166-426B-A566-A0FA685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A51-838D-4BF9-B4CD-18913D78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7581-D45B-4887-8BF2-F7539055D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116f6"/>
                </a:solidFill>
                <a:latin typeface="Book Antiqua"/>
              </a:rPr>
              <a:t>Цифры </a:t>
            </a:r>
            <a:br>
              <a:rPr sz="8000"/>
            </a:br>
            <a:r>
              <a:rPr b="1" lang="ru-RU" sz="8000" spc="-1" strike="noStrike">
                <a:solidFill>
                  <a:srgbClr val="2116f6"/>
                </a:solidFill>
                <a:latin typeface="Book Antiqua"/>
              </a:rPr>
              <a:t>от 0 до 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УМ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«Планета зна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500120" y="35712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150012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858080" y="785880"/>
            <a:ext cx="457200" cy="466560"/>
          </a:xfrm>
          <a:prstGeom prst="rect">
            <a:avLst/>
          </a:prstGeom>
          <a:ln w="0">
            <a:noFill/>
          </a:ln>
        </p:spPr>
      </p:pic>
      <p:sp>
        <p:nvSpPr>
          <p:cNvPr id="134" name="Freeform 64"/>
          <p:cNvSpPr/>
          <p:nvPr/>
        </p:nvSpPr>
        <p:spPr>
          <a:xfrm>
            <a:off x="6000840" y="428760"/>
            <a:ext cx="2100240" cy="67788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 flipH="1">
            <a:off x="4786200" y="714240"/>
            <a:ext cx="1285920" cy="29289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4"/>
          <p:cNvSpPr/>
          <p:nvPr/>
        </p:nvSpPr>
        <p:spPr>
          <a:xfrm rot="10800000">
            <a:off x="4714560" y="3642840"/>
            <a:ext cx="2214360" cy="67788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>
            <a:off x="6857640" y="1143000"/>
            <a:ext cx="1214280" cy="292896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H="1">
            <a:off x="6071760" y="928800"/>
            <a:ext cx="2071800" cy="514332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4"/>
          <p:cNvSpPr/>
          <p:nvPr/>
        </p:nvSpPr>
        <p:spPr>
          <a:xfrm rot="10800000">
            <a:off x="3928680" y="5785920"/>
            <a:ext cx="2143080" cy="677880"/>
          </a:xfrm>
          <a:custGeom>
            <a:avLst/>
            <a:gdLst>
              <a:gd name="textAreaLeft" fmla="*/ 0 w 2143080"/>
              <a:gd name="textAreaRight" fmla="*/ 2143080 w 214308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1500120" y="35712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150012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4"/>
          <p:cNvSpPr/>
          <p:nvPr/>
        </p:nvSpPr>
        <p:spPr>
          <a:xfrm rot="10800000">
            <a:off x="3642840" y="5802480"/>
            <a:ext cx="2457720" cy="676080"/>
          </a:xfrm>
          <a:custGeom>
            <a:avLst/>
            <a:gdLst>
              <a:gd name="textAreaLeft" fmla="*/ 0 w 2457720"/>
              <a:gd name="textAreaRight" fmla="*/ 2458080 w 245772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4"/>
          <p:cNvSpPr/>
          <p:nvPr/>
        </p:nvSpPr>
        <p:spPr>
          <a:xfrm>
            <a:off x="5572080" y="428760"/>
            <a:ext cx="2457360" cy="67788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3643200" y="785880"/>
            <a:ext cx="1928880" cy="52149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858080" y="857160"/>
            <a:ext cx="457200" cy="466920"/>
          </a:xfrm>
          <a:prstGeom prst="rect">
            <a:avLst/>
          </a:prstGeom>
          <a:ln w="0">
            <a:noFill/>
          </a:ln>
        </p:spPr>
      </p:pic>
      <p:sp>
        <p:nvSpPr>
          <p:cNvPr id="147" name="Line 18"/>
          <p:cNvSpPr/>
          <p:nvPr/>
        </p:nvSpPr>
        <p:spPr>
          <a:xfrm flipH="1">
            <a:off x="6072120" y="1143000"/>
            <a:ext cx="2000160" cy="50007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8760" y="428760"/>
            <a:ext cx="8501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Презентацию подготовила учитель начальных классов высшей квалификационной категор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МОУ Новорогачинской СО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Терещук Людмила Юр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2011 г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500120" y="35712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500120" y="350028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4"/>
          <p:cNvSpPr/>
          <p:nvPr/>
        </p:nvSpPr>
        <p:spPr>
          <a:xfrm>
            <a:off x="5429160" y="2357280"/>
            <a:ext cx="438120" cy="4464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2"/>
          <p:cNvSpPr/>
          <p:nvPr/>
        </p:nvSpPr>
        <p:spPr>
          <a:xfrm flipH="1">
            <a:off x="5643720" y="357120"/>
            <a:ext cx="2495520" cy="2286000"/>
          </a:xfrm>
          <a:prstGeom prst="line">
            <a:avLst/>
          </a:prstGeom>
          <a:ln w="254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5"/>
          <p:cNvSpPr/>
          <p:nvPr/>
        </p:nvSpPr>
        <p:spPr>
          <a:xfrm flipH="1">
            <a:off x="4928760" y="428760"/>
            <a:ext cx="3143160" cy="605772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357200" y="50004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35720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857840" y="57168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2"/>
          <p:cNvSpPr/>
          <p:nvPr/>
        </p:nvSpPr>
        <p:spPr>
          <a:xfrm>
            <a:off x="5143680" y="1571760"/>
            <a:ext cx="50004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 flipH="1">
            <a:off x="5357520" y="1038240"/>
            <a:ext cx="539640" cy="819000"/>
          </a:xfrm>
          <a:prstGeom prst="line">
            <a:avLst/>
          </a:prstGeom>
          <a:ln w="228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Арка 19"/>
          <p:cNvSpPr/>
          <p:nvPr/>
        </p:nvSpPr>
        <p:spPr>
          <a:xfrm rot="2242800">
            <a:off x="5579640" y="399960"/>
            <a:ext cx="2406600" cy="2530440"/>
          </a:xfrm>
          <a:custGeom>
            <a:avLst/>
            <a:gdLst>
              <a:gd name="textAreaLeft" fmla="*/ 0 w 2406600"/>
              <a:gd name="textAreaRight" fmla="*/ 2404440 w 2406600"/>
              <a:gd name="textAreaTop" fmla="*/ 0 h 2530440"/>
              <a:gd name="textAreaBottom" fmla="*/ 1309320 h 2530440"/>
            </a:gdLst>
            <a:ahLst/>
            <a:rect l="textAreaLeft" t="textAreaTop" r="textAreaRight" b="textAreaBottom"/>
            <a:pathLst>
              <a:path w="2406650" h="2530475">
                <a:moveTo>
                  <a:pt x="736" y="1309487"/>
                </a:moveTo>
                <a:lnTo>
                  <a:pt x="736" y="1309487"/>
                </a:lnTo>
                <a:arcTo wR="1203325" hR="1265238" stAng="10673563" swAng="10703069"/>
                <a:lnTo>
                  <a:pt x="2167073" y="1202530"/>
                </a:lnTo>
                <a:lnTo>
                  <a:pt x="2167073" y="1202530"/>
                </a:lnTo>
                <a:arcTo wR="965548" hR="1027460" stAng="-223368" swAng="-10703066"/>
                <a:close/>
              </a:path>
            </a:pathLst>
          </a:custGeom>
          <a:solidFill>
            <a:srgbClr val="2116f6"/>
          </a:solidFill>
          <a:ln w="1260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Арка 58"/>
          <p:cNvSpPr/>
          <p:nvPr/>
        </p:nvSpPr>
        <p:spPr>
          <a:xfrm rot="8107200">
            <a:off x="3744720" y="1569600"/>
            <a:ext cx="4773600" cy="2257560"/>
          </a:xfrm>
          <a:custGeom>
            <a:avLst/>
            <a:gdLst>
              <a:gd name="textAreaLeft" fmla="*/ 690480 w 4773600"/>
              <a:gd name="textAreaRight" fmla="*/ 3852360 w 4773600"/>
              <a:gd name="textAreaTop" fmla="*/ 0 h 2257560"/>
              <a:gd name="textAreaBottom" fmla="*/ 471600 h 2257560"/>
            </a:gdLst>
            <a:ahLst/>
            <a:rect l="textAreaLeft" t="textAreaTop" r="textAreaRight" b="textAreaBottom"/>
            <a:pathLst>
              <a:path w="4773612" h="2257425">
                <a:moveTo>
                  <a:pt x="690714" y="334568"/>
                </a:moveTo>
                <a:lnTo>
                  <a:pt x="690715" y="334568"/>
                </a:lnTo>
                <a:arcTo wR="2386806" hR="1128713" stAng="-9294603" swAng="7416995"/>
                <a:lnTo>
                  <a:pt x="3577732" y="404804"/>
                </a:lnTo>
                <a:lnTo>
                  <a:pt x="3577732" y="404804"/>
                </a:lnTo>
                <a:arcTo wR="2131040" hR="872946" stAng="-1877607" swAng="-741699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Арка 59"/>
          <p:cNvSpPr/>
          <p:nvPr/>
        </p:nvSpPr>
        <p:spPr>
          <a:xfrm rot="19109400">
            <a:off x="2232000" y="4619160"/>
            <a:ext cx="6388200" cy="2257560"/>
          </a:xfrm>
          <a:custGeom>
            <a:avLst/>
            <a:gdLst>
              <a:gd name="textAreaLeft" fmla="*/ 930960 w 6388200"/>
              <a:gd name="textAreaRight" fmla="*/ 4799520 w 6388200"/>
              <a:gd name="textAreaTop" fmla="*/ 0 h 2257560"/>
              <a:gd name="textAreaBottom" fmla="*/ 461520 h 2257560"/>
            </a:gdLst>
            <a:ahLst/>
            <a:rect l="textAreaLeft" t="textAreaTop" r="textAreaRight" b="textAreaBottom"/>
            <a:pathLst>
              <a:path w="6388100" h="2257425">
                <a:moveTo>
                  <a:pt x="931094" y="332158"/>
                </a:moveTo>
                <a:lnTo>
                  <a:pt x="931094" y="332158"/>
                </a:lnTo>
                <a:arcTo wR="3194050" hR="1128713" stAng="-9636484" swAng="7758875"/>
                <a:lnTo>
                  <a:pt x="4484298" y="344431"/>
                </a:lnTo>
                <a:lnTo>
                  <a:pt x="4484298" y="344431"/>
                </a:lnTo>
                <a:arcTo wR="2938284" hR="872946" stAng="-1877608" swAng="-775887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0"/>
          <p:cNvSpPr/>
          <p:nvPr/>
        </p:nvSpPr>
        <p:spPr>
          <a:xfrm flipH="1">
            <a:off x="3357720" y="6000840"/>
            <a:ext cx="449280" cy="587160"/>
          </a:xfrm>
          <a:prstGeom prst="line">
            <a:avLst/>
          </a:prstGeom>
          <a:ln w="228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Арка 63"/>
          <p:cNvSpPr/>
          <p:nvPr/>
        </p:nvSpPr>
        <p:spPr>
          <a:xfrm>
            <a:off x="3584520" y="5500800"/>
            <a:ext cx="2325600" cy="1560240"/>
          </a:xfrm>
          <a:custGeom>
            <a:avLst/>
            <a:gdLst>
              <a:gd name="textAreaLeft" fmla="*/ 82440 w 2325600"/>
              <a:gd name="textAreaRight" fmla="*/ 2306880 w 2325600"/>
              <a:gd name="textAreaTop" fmla="*/ 0 h 1560240"/>
              <a:gd name="textAreaBottom" fmla="*/ 673560 h 1560240"/>
            </a:gdLst>
            <a:ahLst/>
            <a:rect l="textAreaLeft" t="textAreaTop" r="textAreaRight" b="textAreaBottom"/>
            <a:pathLst>
              <a:path w="2325688" h="1560512">
                <a:moveTo>
                  <a:pt x="82745" y="491191"/>
                </a:moveTo>
                <a:lnTo>
                  <a:pt x="82745" y="491191"/>
                </a:lnTo>
                <a:arcTo wR="1162844" hR="780256" stAng="-9901030" swAng="9480430"/>
                <a:lnTo>
                  <a:pt x="2028965" y="673756"/>
                </a:lnTo>
                <a:lnTo>
                  <a:pt x="2028965" y="673756"/>
                </a:lnTo>
                <a:arcTo wR="886165" hR="503577" stAng="-420601" swAng="-9480427"/>
                <a:close/>
              </a:path>
            </a:pathLst>
          </a:custGeom>
          <a:solidFill>
            <a:srgbClr val="211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Арка 64"/>
          <p:cNvSpPr/>
          <p:nvPr/>
        </p:nvSpPr>
        <p:spPr>
          <a:xfrm rot="10525200">
            <a:off x="5605200" y="5195520"/>
            <a:ext cx="2341440" cy="1428840"/>
          </a:xfrm>
          <a:custGeom>
            <a:avLst/>
            <a:gdLst>
              <a:gd name="textAreaLeft" fmla="*/ 235080 w 2341440"/>
              <a:gd name="textAreaRight" fmla="*/ 2318400 w 2341440"/>
              <a:gd name="textAreaTop" fmla="*/ 0 h 1428840"/>
              <a:gd name="textAreaBottom" fmla="*/ 604800 h 1428840"/>
            </a:gdLst>
            <a:ahLst/>
            <a:rect l="textAreaLeft" t="textAreaTop" r="textAreaRight" b="textAreaBottom"/>
            <a:pathLst>
              <a:path w="2341562" h="1428750">
                <a:moveTo>
                  <a:pt x="235064" y="285012"/>
                </a:moveTo>
                <a:lnTo>
                  <a:pt x="235064" y="285012"/>
                </a:lnTo>
                <a:arcTo wR="1170781" hR="714375" stAng="-9321090" swAng="8900488"/>
                <a:lnTo>
                  <a:pt x="2061955" y="604795"/>
                </a:lnTo>
                <a:lnTo>
                  <a:pt x="2061955" y="604795"/>
                </a:lnTo>
                <a:arcTo wR="917464" hR="461058" stAng="-420598" swAng="-8900496"/>
                <a:close/>
              </a:path>
            </a:pathLst>
          </a:custGeom>
          <a:solidFill>
            <a:srgbClr val="211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928880" y="428760"/>
            <a:ext cx="6429240" cy="6143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1928880" y="3429000"/>
            <a:ext cx="6429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5214960" y="42876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Group 11" descr=""/>
          <p:cNvPicPr/>
          <p:nvPr/>
        </p:nvPicPr>
        <p:blipFill>
          <a:blip r:embed="rId1"/>
          <a:stretch/>
        </p:blipFill>
        <p:spPr>
          <a:xfrm>
            <a:off x="5924520" y="371520"/>
            <a:ext cx="2438280" cy="2536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"/>
          <p:cNvSpPr/>
          <p:nvPr/>
        </p:nvSpPr>
        <p:spPr>
          <a:xfrm rot="1132200">
            <a:off x="7488360" y="1333080"/>
            <a:ext cx="728640" cy="928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6714720" y="3786120"/>
            <a:ext cx="785880" cy="228600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5"/>
          <p:cNvSpPr/>
          <p:nvPr/>
        </p:nvSpPr>
        <p:spPr>
          <a:xfrm>
            <a:off x="4429080" y="5429160"/>
            <a:ext cx="2357640" cy="100008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 flipH="1" rot="644400">
            <a:off x="6193440" y="1231920"/>
            <a:ext cx="1857240" cy="1481040"/>
          </a:xfrm>
          <a:custGeom>
            <a:avLst/>
            <a:gdLst>
              <a:gd name="textAreaLeft" fmla="*/ -360 w 1857240"/>
              <a:gd name="textAreaRight" fmla="*/ 1857240 w 18572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254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 rot="21193200">
            <a:off x="6070320" y="1004760"/>
            <a:ext cx="1332000" cy="18939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7"/>
          <p:cNvSpPr/>
          <p:nvPr/>
        </p:nvSpPr>
        <p:spPr>
          <a:xfrm flipV="1">
            <a:off x="6000840" y="999720"/>
            <a:ext cx="285840" cy="78588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786280" y="1714680"/>
            <a:ext cx="457200" cy="466560"/>
          </a:xfrm>
          <a:prstGeom prst="rect">
            <a:avLst/>
          </a:prstGeom>
          <a:ln w="0">
            <a:noFill/>
          </a:ln>
        </p:spPr>
      </p:pic>
      <p:sp>
        <p:nvSpPr>
          <p:cNvPr id="78" name="Line 42"/>
          <p:cNvSpPr/>
          <p:nvPr/>
        </p:nvSpPr>
        <p:spPr>
          <a:xfrm flipH="1">
            <a:off x="5357880" y="2643120"/>
            <a:ext cx="2286000" cy="714600"/>
          </a:xfrm>
          <a:prstGeom prst="line">
            <a:avLst/>
          </a:prstGeom>
          <a:ln w="254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64"/>
          <p:cNvSpPr/>
          <p:nvPr/>
        </p:nvSpPr>
        <p:spPr>
          <a:xfrm>
            <a:off x="5286240" y="3143160"/>
            <a:ext cx="2286000" cy="6778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1428840" y="428760"/>
            <a:ext cx="6643440" cy="6143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1500120" y="350028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>
            <a:off x="5929200" y="214200"/>
            <a:ext cx="438120" cy="4460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 flipH="1">
            <a:off x="4357440" y="428760"/>
            <a:ext cx="1785960" cy="435744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9"/>
          <p:cNvSpPr/>
          <p:nvPr/>
        </p:nvSpPr>
        <p:spPr>
          <a:xfrm>
            <a:off x="4286160" y="4714920"/>
            <a:ext cx="2857680" cy="0"/>
          </a:xfrm>
          <a:prstGeom prst="line">
            <a:avLst/>
          </a:prstGeom>
          <a:ln w="254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7858080" y="1785960"/>
            <a:ext cx="438120" cy="4460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 flipH="1">
            <a:off x="6429240" y="2071800"/>
            <a:ext cx="1571760" cy="45003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"/>
          <p:cNvSpPr/>
          <p:nvPr/>
        </p:nvSpPr>
        <p:spPr>
          <a:xfrm>
            <a:off x="1500120" y="357120"/>
            <a:ext cx="657216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1500120" y="342900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86280" y="214200"/>
            <a:ext cx="457200" cy="466920"/>
          </a:xfrm>
          <a:prstGeom prst="rect">
            <a:avLst/>
          </a:prstGeom>
          <a:ln w="0">
            <a:noFill/>
          </a:ln>
        </p:spPr>
      </p:pic>
      <p:sp>
        <p:nvSpPr>
          <p:cNvPr id="92" name="Line 18"/>
          <p:cNvSpPr/>
          <p:nvPr/>
        </p:nvSpPr>
        <p:spPr>
          <a:xfrm flipH="1">
            <a:off x="4714560" y="357120"/>
            <a:ext cx="1428840" cy="350064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4714920" y="3429000"/>
            <a:ext cx="214200" cy="47160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4"/>
          <p:cNvSpPr/>
          <p:nvPr/>
        </p:nvSpPr>
        <p:spPr>
          <a:xfrm>
            <a:off x="4929120" y="3071880"/>
            <a:ext cx="2100240" cy="67788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6286680" y="3643200"/>
            <a:ext cx="714240" cy="228600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5"/>
          <p:cNvSpPr/>
          <p:nvPr/>
        </p:nvSpPr>
        <p:spPr>
          <a:xfrm>
            <a:off x="4000680" y="5357880"/>
            <a:ext cx="2286000" cy="1000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25416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7"/>
          <p:cNvSpPr/>
          <p:nvPr/>
        </p:nvSpPr>
        <p:spPr>
          <a:xfrm>
            <a:off x="6000840" y="500040"/>
            <a:ext cx="2071440" cy="0"/>
          </a:xfrm>
          <a:prstGeom prst="line">
            <a:avLst/>
          </a:prstGeom>
          <a:ln w="254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500120" y="35712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50012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858080" y="1571760"/>
            <a:ext cx="457200" cy="466560"/>
          </a:xfrm>
          <a:prstGeom prst="rect">
            <a:avLst/>
          </a:prstGeom>
          <a:ln w="0">
            <a:noFill/>
          </a:ln>
        </p:spPr>
      </p:pic>
      <p:sp>
        <p:nvSpPr>
          <p:cNvPr id="102" name="Line 18"/>
          <p:cNvSpPr/>
          <p:nvPr/>
        </p:nvSpPr>
        <p:spPr>
          <a:xfrm flipH="1">
            <a:off x="3928680" y="785880"/>
            <a:ext cx="2071800" cy="507204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8"/>
          <p:cNvSpPr/>
          <p:nvPr/>
        </p:nvSpPr>
        <p:spPr>
          <a:xfrm flipH="1">
            <a:off x="6143760" y="3357720"/>
            <a:ext cx="1285920" cy="29289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4"/>
          <p:cNvSpPr/>
          <p:nvPr/>
        </p:nvSpPr>
        <p:spPr>
          <a:xfrm>
            <a:off x="6000840" y="428760"/>
            <a:ext cx="2100240" cy="67788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8072280" y="928800"/>
            <a:ext cx="0" cy="78588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4"/>
          <p:cNvSpPr/>
          <p:nvPr/>
        </p:nvSpPr>
        <p:spPr>
          <a:xfrm>
            <a:off x="5143680" y="2714760"/>
            <a:ext cx="2314440" cy="67788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4"/>
          <p:cNvSpPr/>
          <p:nvPr/>
        </p:nvSpPr>
        <p:spPr>
          <a:xfrm rot="10800000">
            <a:off x="3928680" y="5785920"/>
            <a:ext cx="2357640" cy="67788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49"/>
          <p:cNvSpPr/>
          <p:nvPr/>
        </p:nvSpPr>
        <p:spPr>
          <a:xfrm>
            <a:off x="1500120" y="50004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500120" y="350028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4857840" y="57168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43280" y="1857240"/>
            <a:ext cx="457200" cy="466920"/>
          </a:xfrm>
          <a:prstGeom prst="rect">
            <a:avLst/>
          </a:prstGeom>
          <a:ln w="0">
            <a:noFill/>
          </a:ln>
        </p:spPr>
      </p:pic>
      <p:sp>
        <p:nvSpPr>
          <p:cNvPr id="112" name="Line 27"/>
          <p:cNvSpPr/>
          <p:nvPr/>
        </p:nvSpPr>
        <p:spPr>
          <a:xfrm flipV="1">
            <a:off x="4857840" y="499680"/>
            <a:ext cx="642960" cy="1614600"/>
          </a:xfrm>
          <a:prstGeom prst="line">
            <a:avLst/>
          </a:prstGeom>
          <a:ln w="2667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Group 11" descr=""/>
          <p:cNvPicPr/>
          <p:nvPr/>
        </p:nvPicPr>
        <p:blipFill>
          <a:blip r:embed="rId2"/>
          <a:stretch/>
        </p:blipFill>
        <p:spPr>
          <a:xfrm>
            <a:off x="5065560" y="-195120"/>
            <a:ext cx="3224520" cy="1176120"/>
          </a:xfrm>
          <a:prstGeom prst="rect">
            <a:avLst/>
          </a:prstGeom>
          <a:ln w="0">
            <a:noFill/>
          </a:ln>
        </p:spPr>
      </p:pic>
      <p:sp>
        <p:nvSpPr>
          <p:cNvPr id="114" name="Line 14"/>
          <p:cNvSpPr/>
          <p:nvPr/>
        </p:nvSpPr>
        <p:spPr>
          <a:xfrm flipH="1">
            <a:off x="5214600" y="500040"/>
            <a:ext cx="2886120" cy="61437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7"/>
          <p:cNvSpPr/>
          <p:nvPr/>
        </p:nvSpPr>
        <p:spPr>
          <a:xfrm>
            <a:off x="5929200" y="3500280"/>
            <a:ext cx="1500480" cy="0"/>
          </a:xfrm>
          <a:prstGeom prst="line">
            <a:avLst/>
          </a:prstGeom>
          <a:ln w="266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1357200" y="428760"/>
            <a:ext cx="6643800" cy="6143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50012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"/>
          <p:cNvSpPr/>
          <p:nvPr/>
        </p:nvSpPr>
        <p:spPr>
          <a:xfrm>
            <a:off x="5214960" y="2428920"/>
            <a:ext cx="50004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5214960" y="857160"/>
            <a:ext cx="285840" cy="714600"/>
          </a:xfrm>
          <a:prstGeom prst="line">
            <a:avLst/>
          </a:prstGeom>
          <a:ln w="30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6857640" y="1428840"/>
            <a:ext cx="428760" cy="785880"/>
          </a:xfrm>
          <a:prstGeom prst="line">
            <a:avLst/>
          </a:prstGeom>
          <a:ln w="30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Арка 16"/>
          <p:cNvSpPr/>
          <p:nvPr/>
        </p:nvSpPr>
        <p:spPr>
          <a:xfrm rot="12949200">
            <a:off x="4970520" y="904680"/>
            <a:ext cx="2581200" cy="2195280"/>
          </a:xfrm>
          <a:custGeom>
            <a:avLst/>
            <a:gdLst>
              <a:gd name="textAreaLeft" fmla="*/ 1106280 w 2581200"/>
              <a:gd name="textAreaRight" fmla="*/ 2545200 w 2581200"/>
              <a:gd name="textAreaTop" fmla="*/ 0 h 2195280"/>
              <a:gd name="textAreaBottom" fmla="*/ 901440 h 2195280"/>
            </a:gdLst>
            <a:ahLst/>
            <a:rect l="textAreaLeft" t="textAreaTop" r="textAreaRight" b="textAreaBottom"/>
            <a:pathLst>
              <a:path w="2581275" h="2195513">
                <a:moveTo>
                  <a:pt x="1106220" y="11264"/>
                </a:moveTo>
                <a:lnTo>
                  <a:pt x="1106220" y="11264"/>
                </a:lnTo>
                <a:arcTo wR="1290638" hR="1097757" stAng="-5978004" swAng="5281275"/>
                <a:lnTo>
                  <a:pt x="2244564" y="901733"/>
                </a:lnTo>
                <a:lnTo>
                  <a:pt x="2244564" y="901733"/>
                </a:lnTo>
                <a:arcTo wR="984583" hR="791702" stAng="-696727" swAng="-5281279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Арка 18"/>
          <p:cNvSpPr/>
          <p:nvPr/>
        </p:nvSpPr>
        <p:spPr>
          <a:xfrm flipH="1" rot="9988200">
            <a:off x="4562280" y="571320"/>
            <a:ext cx="2711160" cy="2259000"/>
          </a:xfrm>
          <a:custGeom>
            <a:avLst/>
            <a:gdLst>
              <a:gd name="textAreaLeft" fmla="*/ 687240 w 2711160"/>
              <a:gd name="textAreaRight" fmla="*/ 2385360 w 2711160"/>
              <a:gd name="textAreaTop" fmla="*/ 0 h 2259000"/>
              <a:gd name="textAreaBottom" fmla="*/ 567360 h 2259000"/>
            </a:gdLst>
            <a:ahLst/>
            <a:rect l="textAreaLeft" t="textAreaTop" r="textAreaRight" b="textAreaBottom"/>
            <a:pathLst>
              <a:path w="2711450" h="2259013">
                <a:moveTo>
                  <a:pt x="687237" y="146857"/>
                </a:moveTo>
                <a:lnTo>
                  <a:pt x="687237" y="146857"/>
                </a:lnTo>
                <a:arcTo wR="1355725" hR="1129507" stAng="-7453628" swAng="5323557"/>
                <a:lnTo>
                  <a:pt x="2143503" y="567565"/>
                </a:lnTo>
                <a:lnTo>
                  <a:pt x="2143503" y="567565"/>
                </a:lnTo>
                <a:arcTo wR="1063092" hR="836874" stAng="-2130074" swAng="-5323554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Арка 19"/>
          <p:cNvSpPr/>
          <p:nvPr/>
        </p:nvSpPr>
        <p:spPr>
          <a:xfrm flipH="1" rot="8670600">
            <a:off x="3058920" y="2914200"/>
            <a:ext cx="3743280" cy="2629080"/>
          </a:xfrm>
          <a:custGeom>
            <a:avLst/>
            <a:gdLst>
              <a:gd name="textAreaLeft" fmla="*/ 2752200 w 3743280"/>
              <a:gd name="textAreaRight" fmla="*/ 3744000 w 3743280"/>
              <a:gd name="textAreaTop" fmla="*/ 239400 h 2629080"/>
              <a:gd name="textAreaBottom" fmla="*/ 2083320 h 2629080"/>
            </a:gdLst>
            <a:ahLst/>
            <a:rect l="textAreaLeft" t="textAreaTop" r="textAreaRight" b="textAreaBottom"/>
            <a:pathLst>
              <a:path w="3743325" h="2628900">
                <a:moveTo>
                  <a:pt x="2948815" y="239496"/>
                </a:moveTo>
                <a:lnTo>
                  <a:pt x="2948815" y="239496"/>
                </a:lnTo>
                <a:arcTo wR="1871663" hR="1314450" stAng="-2696487" swAng="4307652"/>
                <a:lnTo>
                  <a:pt x="3142007" y="1957612"/>
                </a:lnTo>
                <a:lnTo>
                  <a:pt x="3142007" y="1957612"/>
                </a:lnTo>
                <a:arcTo wR="1607169" hR="1049956" stAng="1611154" swAng="-4307651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 flipH="1">
            <a:off x="5643720" y="4286160"/>
            <a:ext cx="714240" cy="185760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Арка 24"/>
          <p:cNvSpPr/>
          <p:nvPr/>
        </p:nvSpPr>
        <p:spPr>
          <a:xfrm rot="14794800">
            <a:off x="3834360" y="2875680"/>
            <a:ext cx="3291120" cy="2841480"/>
          </a:xfrm>
          <a:custGeom>
            <a:avLst/>
            <a:gdLst>
              <a:gd name="textAreaLeft" fmla="*/ 2747160 w 3291120"/>
              <a:gd name="textAreaRight" fmla="*/ 3291480 w 3291120"/>
              <a:gd name="textAreaTop" fmla="*/ 617760 h 2841480"/>
              <a:gd name="textAreaBottom" fmla="*/ 2242800 h 2841480"/>
            </a:gdLst>
            <a:ahLst/>
            <a:rect l="textAreaLeft" t="textAreaTop" r="textAreaRight" b="textAreaBottom"/>
            <a:pathLst>
              <a:path w="3290888" h="2841625">
                <a:moveTo>
                  <a:pt x="3002833" y="617735"/>
                </a:moveTo>
                <a:lnTo>
                  <a:pt x="3002833" y="617735"/>
                </a:lnTo>
                <a:arcTo wR="1645444" hR="1420813" stAng="-1836599" swAng="3726112"/>
                <a:lnTo>
                  <a:pt x="2746810" y="2095511"/>
                </a:lnTo>
                <a:lnTo>
                  <a:pt x="2746810" y="2095511"/>
                </a:lnTo>
                <a:arcTo wR="1365686" hR="1141054" stAng="1889501" swAng="-3726109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3571560" y="3214800"/>
            <a:ext cx="857160" cy="264312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4"/>
          <p:cNvSpPr/>
          <p:nvPr/>
        </p:nvSpPr>
        <p:spPr>
          <a:xfrm rot="10800000">
            <a:off x="3571920" y="5751000"/>
            <a:ext cx="2100240" cy="67788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4"/>
          <p:cNvSpPr/>
          <p:nvPr/>
        </p:nvSpPr>
        <p:spPr>
          <a:xfrm>
            <a:off x="5429160" y="500040"/>
            <a:ext cx="1928880" cy="928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06T22:07:30Z</dcterms:modified>
  <cp:revision>71</cp:revision>
  <dc:subject/>
  <dc:title>Слайд 1</dc:title>
</cp:coreProperties>
</file>