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bomb.wav" ContentType="audio/x-wav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5.wmf" ContentType="image/x-wmf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691813" cy="7559675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61880" y="510840"/>
            <a:ext cx="3600360" cy="254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9D82-2769-4569-B038-447836C9F52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1333-7B12-43F3-AD51-D087882AB00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162240" y="511200"/>
            <a:ext cx="3600360" cy="254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EA9A-D352-4438-B2CC-76AA5ECB2CDC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162240" y="511200"/>
            <a:ext cx="3600360" cy="254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C1CF-87BA-4FF3-A961-C8F98AE9FEF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162240" y="511200"/>
            <a:ext cx="3600360" cy="25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624640" y="6458040"/>
            <a:ext cx="430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2996-FCBE-43F1-BAAF-55BFF5070B1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162240" y="511200"/>
            <a:ext cx="3600360" cy="254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BF3-8CBD-4CBF-B648-9AF1772F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922320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5120" y="4519080"/>
            <a:ext cx="922320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07D-E013-45BA-AD97-845DD9DA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120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5120" y="451908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1200" y="451908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7DE-9ABE-4B71-A511-69C7A662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3800" y="201312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2120" y="201312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5120" y="451908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3800" y="451908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2120" y="4519080"/>
            <a:ext cx="29696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EB4-868B-4665-8492-B7E7CC67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5120" y="2013120"/>
            <a:ext cx="922320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F2A-A926-4085-8644-AD959F9A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92232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5E2-3023-47CF-8D21-1FF12FFB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45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1200" y="2013120"/>
            <a:ext cx="45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67C-87AF-4558-84C5-ACF9D6AB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B89-ADCC-4C80-A180-2DF764F1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32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48C-A91D-40F8-885C-30DEC141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1200" y="2013120"/>
            <a:ext cx="45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5120" y="451908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650-C99F-45EB-A2EA-7E8776F1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45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120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1200" y="451908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291-4B15-4A8F-8FD1-88576FBF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512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1200" y="2013120"/>
            <a:ext cx="45007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5120" y="4519080"/>
            <a:ext cx="922320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30E-F7DF-4C82-87EB-F633576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5120" y="2013120"/>
            <a:ext cx="92232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012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188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03280" indent="-1998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03240" indent="-1998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03240" indent="-1998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03240" indent="-1998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476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1680" y="7008840"/>
            <a:ext cx="36100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5136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898989"/>
                </a:solidFill>
                <a:latin typeface="Times New Roman Cy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9DB1-10BF-4385-876A-83F7046BEC2F}" type="slidenum">
              <a:rPr b="1" lang="ru-RU" sz="1000" spc="-1" strike="noStrike">
                <a:solidFill>
                  <a:srgbClr val="898989"/>
                </a:solidFill>
                <a:latin typeface="Times New Roman Cyr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360" y="1044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ru-RU" sz="4100" spc="-1" strike="noStrike">
                <a:solidFill>
                  <a:srgbClr val="993366"/>
                </a:solidFill>
                <a:latin typeface="Calibri Light"/>
              </a:rPr>
              <a:t>ТЕМА УРОКА: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4520" y="1871640"/>
            <a:ext cx="9090000" cy="176544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txBody>
          <a:bodyPr anchor="t">
            <a:normAutofit/>
          </a:bodyPr>
          <a:p>
            <a:pPr marL="200160" indent="-20016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ru-RU" sz="3200" spc="-1" strike="noStrike">
                <a:solidFill>
                  <a:srgbClr val="44546a"/>
                </a:solidFill>
                <a:latin typeface="Calibri"/>
              </a:rPr>
              <a:t>«Инженерная защита населения от чрезвычайных ситуаций мирного и военного времен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C228B19-1E35-4710-9EFC-1FEF9DE00DC8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386000" y="181080"/>
            <a:ext cx="79930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f6000"/>
                </a:solidFill>
                <a:latin typeface="Times New Roman Cyr"/>
              </a:rPr>
              <a:t>ОБЖ. 10 класс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52" name="Picture 5" descr="12_2"/>
          <p:cNvPicPr/>
          <p:nvPr/>
        </p:nvPicPr>
        <p:blipFill>
          <a:blip r:embed="rId1"/>
          <a:stretch/>
        </p:blipFill>
        <p:spPr>
          <a:xfrm>
            <a:off x="2854440" y="4057560"/>
            <a:ext cx="460836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DF4B27C-DCBE-4D62-90C4-74AA38A29657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90" name="Picture 5" descr="15_1"/>
          <p:cNvPicPr/>
          <p:nvPr/>
        </p:nvPicPr>
        <p:blipFill>
          <a:blip r:embed="rId1"/>
          <a:stretch/>
        </p:blipFill>
        <p:spPr>
          <a:xfrm>
            <a:off x="644400" y="1271520"/>
            <a:ext cx="3492720" cy="345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15_2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232160" y="366840"/>
            <a:ext cx="3467160" cy="336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16_1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2306520" y="4514760"/>
            <a:ext cx="5245200" cy="289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08_1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7794720" y="396720"/>
            <a:ext cx="2730240" cy="6070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738360" y="133200"/>
            <a:ext cx="3686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Убежище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2CE6B4E-582B-4F71-BE70-049A745B6C40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96" name="Picture 5" descr="11_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39960" y="1271520"/>
            <a:ext cx="4343400" cy="2565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1_3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626080" y="74520"/>
            <a:ext cx="3517920" cy="250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1_2"/>
          <p:cNvPicPr/>
          <p:nvPr/>
        </p:nvPicPr>
        <p:blipFill>
          <a:blip r:embed="rId3"/>
          <a:stretch/>
        </p:blipFill>
        <p:spPr>
          <a:xfrm>
            <a:off x="939960" y="4033800"/>
            <a:ext cx="2887560" cy="2760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14_4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8442360" y="2197080"/>
            <a:ext cx="2108160" cy="459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14_2"/>
          <p:cNvPicPr/>
          <p:nvPr/>
        </p:nvPicPr>
        <p:blipFill>
          <a:blip r:embed="rId5"/>
          <a:stretch/>
        </p:blipFill>
        <p:spPr>
          <a:xfrm>
            <a:off x="4483080" y="3421080"/>
            <a:ext cx="3352680" cy="38354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817640" y="252360"/>
            <a:ext cx="3465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Убежище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F0D72C9-D2D9-401D-B0A2-9F58BB429645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3" name="Picture 4" descr="06_1"/>
          <p:cNvPicPr/>
          <p:nvPr/>
        </p:nvPicPr>
        <p:blipFill>
          <a:blip r:embed="rId1"/>
          <a:stretch/>
        </p:blipFill>
        <p:spPr>
          <a:xfrm>
            <a:off x="5707080" y="324000"/>
            <a:ext cx="4702320" cy="597528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04" name="Picture 5" descr="05_1"/>
          <p:cNvPicPr/>
          <p:nvPr/>
        </p:nvPicPr>
        <p:blipFill>
          <a:blip r:embed="rId2"/>
          <a:stretch/>
        </p:blipFill>
        <p:spPr>
          <a:xfrm>
            <a:off x="738360" y="1566720"/>
            <a:ext cx="4667040" cy="597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TextBox 1"/>
          <p:cNvSpPr/>
          <p:nvPr/>
        </p:nvSpPr>
        <p:spPr>
          <a:xfrm>
            <a:off x="2033640" y="324000"/>
            <a:ext cx="3168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Убежище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E1BE9FF-5412-484B-991C-8339144E8988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7" name="Picture 5" descr="14_1"/>
          <p:cNvPicPr/>
          <p:nvPr/>
        </p:nvPicPr>
        <p:blipFill>
          <a:blip r:embed="rId1"/>
          <a:stretch/>
        </p:blipFill>
        <p:spPr>
          <a:xfrm>
            <a:off x="6859440" y="4460760"/>
            <a:ext cx="2868840" cy="29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7" descr="9_1"/>
          <p:cNvPicPr/>
          <p:nvPr/>
        </p:nvPicPr>
        <p:blipFill>
          <a:blip r:embed="rId2"/>
          <a:stretch/>
        </p:blipFill>
        <p:spPr>
          <a:xfrm>
            <a:off x="522360" y="4233960"/>
            <a:ext cx="3414600" cy="29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TextBox 1"/>
          <p:cNvSpPr/>
          <p:nvPr/>
        </p:nvSpPr>
        <p:spPr>
          <a:xfrm>
            <a:off x="378000" y="1810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 Cyr"/>
              </a:rPr>
              <a:t>Противорадиационные укрытия (ПРУ)</a:t>
            </a: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766800"/>
            <a:ext cx="6048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3700" spc="-1" strike="noStrike">
                <a:solidFill>
                  <a:srgbClr val="002060"/>
                </a:solidFill>
                <a:latin typeface="Times New Roman Cyr"/>
              </a:rPr>
              <a:t>обеспечивают защиту: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95200" y="1422360"/>
            <a:ext cx="1002024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ионизирующего изл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светового изл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проникающей ради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ично от ударной вол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попадания в органы дыхания, на кожу и одежду РВ, ОВ, Б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26254ED-98FE-44FF-86B2-5DC3B366C3B9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13" name="Picture 4" descr="4_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63720" y="2276640"/>
            <a:ext cx="4608360" cy="395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Picture 5" descr="5_1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918040" y="324000"/>
            <a:ext cx="4248360" cy="36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6" descr="4_1"/>
          <p:cNvPicPr/>
          <p:nvPr/>
        </p:nvPicPr>
        <p:blipFill>
          <a:blip r:embed="rId3"/>
          <a:stretch/>
        </p:blipFill>
        <p:spPr>
          <a:xfrm>
            <a:off x="6170760" y="4726080"/>
            <a:ext cx="3744720" cy="300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Прямоугольник 1"/>
          <p:cNvSpPr/>
          <p:nvPr/>
        </p:nvSpPr>
        <p:spPr>
          <a:xfrm>
            <a:off x="1257480" y="577800"/>
            <a:ext cx="444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 Cyr"/>
              </a:rPr>
              <a:t>Противорадиационные укрытия </a:t>
            </a:r>
            <a:endParaRPr b="1" lang="en-US" sz="2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9280" y="180720"/>
            <a:ext cx="1001088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4100" spc="-1" strike="noStrike">
                <a:solidFill>
                  <a:srgbClr val="cc3300"/>
                </a:solidFill>
                <a:latin typeface="Calibri Light"/>
              </a:rPr>
              <a:t>Простейшие защитные сооружения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>
            <a:biLevel thresh="50000"/>
            <a:lum bright="-24000"/>
          </a:blip>
          <a:srcRect l="0" t="0" r="0" b="46048"/>
          <a:stretch/>
        </p:blipFill>
        <p:spPr>
          <a:xfrm>
            <a:off x="252360" y="1220760"/>
            <a:ext cx="5202360" cy="403236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sp>
        <p:nvSpPr>
          <p:cNvPr id="119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1206B65-B8BA-4A62-BBB2-79F544F85DEE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>
            <a:biLevel thresh="50000"/>
            <a:lum bright="-18000"/>
          </a:blip>
          <a:srcRect l="0" t="52380" r="8553" b="0"/>
          <a:stretch/>
        </p:blipFill>
        <p:spPr>
          <a:xfrm>
            <a:off x="5537160" y="1220760"/>
            <a:ext cx="5111640" cy="40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1" name="Text Box 7"/>
          <p:cNvSpPr/>
          <p:nvPr/>
        </p:nvSpPr>
        <p:spPr>
          <a:xfrm>
            <a:off x="604800" y="5400720"/>
            <a:ext cx="98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Рис. Перекрытая щель. Схема щели (а) и ее перекрытие (б). Размеры даны в миллиметрах.</a:t>
            </a:r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14360" y="5884920"/>
            <a:ext cx="100807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Times New Roman Cyr"/>
              </a:rPr>
              <a:t>Защищают: частично от всех видов оружия массового применения при наличие средств индивидуальной защиты органов дыхания и кожи.</a:t>
            </a:r>
            <a:endParaRPr b="1" lang="en-US" sz="2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2E9929E-D593-45C5-9F8F-2D51CBB1A848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24" name="Picture 4" descr="4_1"/>
          <p:cNvPicPr/>
          <p:nvPr/>
        </p:nvPicPr>
        <p:blipFill>
          <a:blip r:embed="rId1"/>
          <a:stretch/>
        </p:blipFill>
        <p:spPr>
          <a:xfrm>
            <a:off x="809640" y="209520"/>
            <a:ext cx="4319640" cy="324000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25" name="Picture 5" descr="5-8"/>
          <p:cNvPicPr/>
          <p:nvPr/>
        </p:nvPicPr>
        <p:blipFill>
          <a:blip r:embed="rId2"/>
          <a:stretch/>
        </p:blipFill>
        <p:spPr>
          <a:xfrm>
            <a:off x="598320" y="4108320"/>
            <a:ext cx="4248360" cy="338472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  <p:pic>
        <p:nvPicPr>
          <p:cNvPr id="126" name="Picture 6" descr="vop1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346720" y="209520"/>
            <a:ext cx="4753080" cy="325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7" descr="9_1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5353200" y="4140360"/>
            <a:ext cx="4746600" cy="31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TextBox 2"/>
          <p:cNvSpPr/>
          <p:nvPr/>
        </p:nvSpPr>
        <p:spPr>
          <a:xfrm>
            <a:off x="1746360" y="3462480"/>
            <a:ext cx="7416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Простейшие укрытия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8360" y="-360"/>
            <a:ext cx="90900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2560" indent="0" algn="ctr">
              <a:lnSpc>
                <a:spcPct val="90000"/>
              </a:lnSpc>
              <a:buNone/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5500" spc="-1" strike="noStrike">
                <a:solidFill>
                  <a:srgbClr val="385840"/>
                </a:solidFill>
                <a:latin typeface="Calibri Light"/>
              </a:rPr>
              <a:t>2. Эвакуация населения</a:t>
            </a:r>
            <a:endParaRPr b="0" lang="en-US" sz="5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FCC097D-66F2-4A7E-B044-002C56174BF5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31" name="Picture 4" descr="{544AFF90-292D-4B63-8C73-A8C034377B42}"/>
          <p:cNvPicPr/>
          <p:nvPr/>
        </p:nvPicPr>
        <p:blipFill>
          <a:blip r:embed="rId1"/>
          <a:stretch/>
        </p:blipFill>
        <p:spPr>
          <a:xfrm>
            <a:off x="738360" y="1630440"/>
            <a:ext cx="965016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16CD000-0881-49C1-88E3-B7C49F1407D3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719360" y="468360"/>
            <a:ext cx="8845560" cy="38080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 Black"/>
              </a:rPr>
              <a:t>Общая эвакуация в военное время– 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водится на территории всей страны или на территории отдельного региона и предполагает вывоз (вывод) всех категорий населения,          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за исключением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lnSpc>
                <a:spcPct val="100000"/>
              </a:lnSpc>
              <a:buClr>
                <a:srgbClr val="00cc00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етранспортабельных больных и  обслуживающего их персонала и </a:t>
            </a: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lnSpc>
                <a:spcPct val="100000"/>
              </a:lnSpc>
              <a:buClr>
                <a:srgbClr val="00cc00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лиц, имеющих мобилизационные   предписания</a:t>
            </a: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  <a:p>
            <a:pPr lvl="2" marL="10429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719360" y="5005440"/>
            <a:ext cx="8872560" cy="24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cc3300"/>
                </a:solidFill>
                <a:latin typeface="Arial Black"/>
              </a:rPr>
              <a:t>Общая  эвакуация при ЧС природного и техногенного характер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-       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7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ru-RU" sz="2700" spc="-1" strike="noStrike">
                <a:solidFill>
                  <a:srgbClr val="000099"/>
                </a:solidFill>
                <a:latin typeface="Times New Roman"/>
              </a:rPr>
              <a:t>вывод из зоны ЧС всего населения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9640" y="181080"/>
            <a:ext cx="909000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 Light"/>
              </a:rPr>
              <a:t>Основные показатели марша пеших колонн при эвакуации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93280" y="1836360"/>
            <a:ext cx="964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количество человек в колонне – 500-1000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скорость движения колонны – 3- 4 км/час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суточный переход (за 10-12 часов) – 30- 40 км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через 1-1,5 часа назначаются малые привалы на 15-20 мин.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в начале второй половины суточного перехода – большой привал на 1,5-2 часа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Calibri"/>
              </a:rPr>
              <a:t>расстояние между колоннами – 500 м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233743B-6E3E-4625-A782-F17F689E28DD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9640" y="615600"/>
            <a:ext cx="9090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Учебные вопросы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35280" y="1836720"/>
            <a:ext cx="8858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4880" indent="-704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000" spc="-1" strike="noStrike">
                <a:solidFill>
                  <a:srgbClr val="7f6000"/>
                </a:solidFill>
                <a:latin typeface="Calibri"/>
              </a:rPr>
              <a:t>Инженерная защи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04880" indent="-704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000" spc="-1" strike="noStrike">
                <a:solidFill>
                  <a:srgbClr val="7f6000"/>
                </a:solidFill>
                <a:latin typeface="Calibri"/>
              </a:rPr>
              <a:t>Эвакуация населения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9AF0F22-66D8-449F-8945-DB9471FFD405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56" name="Picture 4" descr="12_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243080" y="4068720"/>
            <a:ext cx="5168880" cy="280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4_1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004160" y="3938760"/>
            <a:ext cx="26002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3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7F04084-DBE3-458A-8B19-0E24A15AC37D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600200" y="2529000"/>
            <a:ext cx="4152960" cy="1236600"/>
          </a:xfrm>
          <a:prstGeom prst="rect">
            <a:avLst/>
          </a:prstGeom>
          <a:gradFill rotWithShape="0">
            <a:gsLst>
              <a:gs pos="0">
                <a:srgbClr val="9b9b00"/>
              </a:gs>
              <a:gs pos="50000">
                <a:srgbClr val="cccc00"/>
              </a:gs>
              <a:gs pos="100000">
                <a:srgbClr val="9b9b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Г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перативные группы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 вывозу населения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102360" y="2544840"/>
            <a:ext cx="4116240" cy="1236600"/>
          </a:xfrm>
          <a:prstGeom prst="rect">
            <a:avLst/>
          </a:prstGeom>
          <a:gradFill rotWithShape="0">
            <a:gsLst>
              <a:gs pos="0">
                <a:srgbClr val="9b9b00"/>
              </a:gs>
              <a:gs pos="50000">
                <a:srgbClr val="cccc00"/>
              </a:gs>
              <a:gs pos="100000">
                <a:srgbClr val="9b9b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ГУ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руппы управления на </a:t>
            </a:r>
            <a:endParaRPr b="1" lang="en-US" sz="25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еших маршрутах эвакуации</a:t>
            </a:r>
            <a:endParaRPr b="1" lang="en-US" sz="25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165720" y="4186080"/>
            <a:ext cx="3980160" cy="123696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ЭП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емные эвакуационные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746360" y="4170240"/>
            <a:ext cx="3983040" cy="123696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ПК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вакоприемные 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604880" y="795240"/>
            <a:ext cx="4149720" cy="1235160"/>
          </a:xfrm>
          <a:prstGeom prst="rect">
            <a:avLst/>
          </a:prstGeom>
          <a:gradFill rotWithShape="0">
            <a:gsLst>
              <a:gs pos="0">
                <a:srgbClr val="9b9b00"/>
              </a:gs>
              <a:gs pos="50000">
                <a:srgbClr val="cccc00"/>
              </a:gs>
              <a:gs pos="100000">
                <a:srgbClr val="9b9b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К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вакуационные 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78600" y="795240"/>
            <a:ext cx="4081320" cy="1235160"/>
          </a:xfrm>
          <a:prstGeom prst="rect">
            <a:avLst/>
          </a:prstGeom>
          <a:gradFill rotWithShape="0">
            <a:gsLst>
              <a:gs pos="0">
                <a:srgbClr val="9b9b00"/>
              </a:gs>
              <a:gs pos="50000">
                <a:srgbClr val="cccc00"/>
              </a:gs>
              <a:gs pos="100000">
                <a:srgbClr val="9b9b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ЭП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борные эвакуационные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600360" y="5818320"/>
            <a:ext cx="3475080" cy="1234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cc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ПЭ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межуточные 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ункты эвакуации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380960" y="0"/>
            <a:ext cx="79758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7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1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F16F-3CEA-4F0D-B51F-D2F5DA60FD87}" type="slidenum">
              <a:rPr b="1" lang="ru-RU" sz="1000" spc="-1" strike="noStrike">
                <a:solidFill>
                  <a:srgbClr val="898989"/>
                </a:solidFill>
                <a:latin typeface="Times New Roman Cyr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817640" y="252360"/>
            <a:ext cx="8425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Вывод: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buClr>
                <a:srgbClr val="002060"/>
              </a:buClr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 Cyr"/>
              </a:rPr>
              <a:t>Основным способом защиты населения от отравляющих веществ (ОВ), аварийно химически опасных веществ (АХОВ) и радиоактивных веществ (РВ) является его укрытие в убежищах, ПРУ и простейших укрытиях.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buClr>
                <a:srgbClr val="002060"/>
              </a:buClr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49" name="Picture 5" descr="5-8"/>
          <p:cNvPicPr/>
          <p:nvPr/>
        </p:nvPicPr>
        <p:blipFill>
          <a:blip r:embed="rId1"/>
          <a:stretch/>
        </p:blipFill>
        <p:spPr>
          <a:xfrm>
            <a:off x="5634000" y="4932360"/>
            <a:ext cx="3154320" cy="2513160"/>
          </a:xfrm>
          <a:prstGeom prst="rect">
            <a:avLst/>
          </a:prstGeom>
          <a:ln w="9360">
            <a:solidFill>
              <a:srgbClr val="5b9b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B921786-5B9B-450E-A11E-BCA400DF66A8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51" name="Picture 2" descr="j0343747"/>
          <p:cNvPicPr/>
          <p:nvPr/>
        </p:nvPicPr>
        <p:blipFill>
          <a:blip r:embed="rId1">
            <a:lum contrast="12000"/>
          </a:blip>
          <a:stretch/>
        </p:blipFill>
        <p:spPr>
          <a:xfrm rot="2177400">
            <a:off x="161640" y="2268000"/>
            <a:ext cx="1503360" cy="1700280"/>
          </a:xfrm>
          <a:prstGeom prst="rect">
            <a:avLst/>
          </a:prstGeom>
          <a:ln w="0">
            <a:noFill/>
          </a:ln>
        </p:spPr>
      </p:pic>
      <p:sp>
        <p:nvSpPr>
          <p:cNvPr id="152" name="Document"/>
          <p:cNvSpPr/>
          <p:nvPr/>
        </p:nvSpPr>
        <p:spPr>
          <a:xfrm>
            <a:off x="1890720" y="181080"/>
            <a:ext cx="8251920" cy="7127640"/>
          </a:xfrm>
          <a:prstGeom prst="pi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marL="390600" indent="-390600"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просы для закрепления знаний:</a:t>
            </a: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Как классифицируются защитные сооружения?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Дайте характеристику основных видов защитных сооружений гражданской обороны и расскажите об их предназначении.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Какие основные помещения предусматриваются в защитных сооружениях?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Что такое «ПРУ» и от каких поражающих факторов оно обеспечивает защиту?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От чего защищают простейшие защитные сооружения?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Какие способы эвакуации населения вы знаете?</a:t>
            </a: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  <a:p>
            <a:pPr marL="390600" indent="-390600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4267080" y="5797440"/>
            <a:ext cx="5759640" cy="1221480"/>
          </a:xfrm>
          <a:prstGeom prst="rect">
            <a:avLst/>
          </a:prstGeom>
          <a:noFill/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Times New Roman Cyr"/>
              </a:rPr>
              <a:t>Домашнее задание: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Times New Roman Cyr"/>
              </a:rPr>
              <a:t>стр.176 §.33, задания 1-4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9760" y="204480"/>
            <a:ext cx="1029168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Используемые интернет ресурсы и литератур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22000" y="1115640"/>
            <a:ext cx="9720360" cy="75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406080">
              <a:lnSpc>
                <a:spcPct val="90000"/>
              </a:lnSpc>
              <a:spcBef>
                <a:spcPts val="1125"/>
              </a:spcBef>
              <a:buClr>
                <a:srgbClr val="0033cc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800" spc="-1" strike="noStrike" u="sng">
                <a:solidFill>
                  <a:srgbClr val="0033cc"/>
                </a:solidFill>
                <a:uFillTx/>
                <a:latin typeface="Calibri"/>
              </a:rPr>
              <a:t>Литература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Постановление Правительства РФ от 22.06.2004 года « 303 «О порядке эвакуации населения материальных и культурных ценностей в безопасные райо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Приказ министра МЧС от 21.12.2005г. № 993 «Об утверждении Положения об организации обеспечения населения СИЗ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Руководство по эвакуации населения в ЧС природного и техногенного характера. ВНИИ ГОЧС, 199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Постановление Главы Администрации Ростовской области № 214 - 1994г. «О мерах по накоплению и использованию имущества ГО Ростовской област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400" spc="-1" strike="noStrike">
                <a:solidFill>
                  <a:srgbClr val="404040"/>
                </a:solidFill>
                <a:latin typeface="Calibri"/>
              </a:rPr>
              <a:t>Учебник «ОБЖ. 10 класс» авт. А.Т.Смирнов, Б.О. Хренников,  «Просвещение»,2013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Тематическое и поурочное планирование по ОБЖ. Ю.П.Подолян.10 клас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Интернет ресур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Портал МЧС России </a:t>
            </a: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http://www.mchs.gov.ru/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Портал «Культура безопасности жизнедеятельности -  </a:t>
            </a: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http://www.culture.mchs.gov.ru/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Методические пособия для учителей </a:t>
            </a: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http://spas-extreme.ru/obg#manuals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г</a:t>
            </a: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азета «Безопасность» №3 2015Г. мку «УПРАВЛЕНИЕ ПО ДЕЛАМ ГРАЖДАНСКОЙ ОБОРОНЫ И ЧРЕЗВЫЧАЙНЫМ СИТУАЦИЯМ г. РОСТОВА – на – ДОНУ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>
              <a:lnSpc>
                <a:spcPct val="80000"/>
              </a:lnSpc>
              <a:spcBef>
                <a:spcPts val="1100"/>
              </a:spcBef>
              <a:buClr>
                <a:srgbClr val="0563c1"/>
              </a:buClr>
              <a:buSzPct val="65000"/>
              <a:buFont typeface="Calibri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78000" indent="406080" algn="just">
              <a:lnSpc>
                <a:spcPct val="90000"/>
              </a:lnSpc>
              <a:spcBef>
                <a:spcPts val="1100"/>
              </a:spcBef>
              <a:buClr>
                <a:srgbClr val="993366"/>
              </a:buClr>
              <a:buFont typeface="Calibri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1CAFB65-1A97-42AC-AD18-9CE4FDAB9351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722160" y="6732720"/>
            <a:ext cx="90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 Cyr"/>
              </a:rPr>
              <a:t>Фотографии с сайта МЧС Росс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http://www.mchs.gov.ru/</a:t>
            </a: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0280" y="547200"/>
            <a:ext cx="7705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4600" spc="-1" strike="noStrike">
                <a:solidFill>
                  <a:srgbClr val="7f6000"/>
                </a:solidFill>
                <a:latin typeface="Calibri Light"/>
              </a:rPr>
              <a:t>Инженерная защита населения и территории это -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9600" y="1992240"/>
            <a:ext cx="9937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комплекс организационных и инженерно-технических мероприятий, проводимых заблаговременно, а также в оперативном порядке и направленных на предотвращение или максимальное снижение потерь населения при ЧС мирного и военного времени путем укрытия их в защитных сооружения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D539226-D8E4-4347-AE4E-7E89BA02A1DE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252360"/>
            <a:ext cx="809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700" spc="-1" strike="noStrike">
                <a:solidFill>
                  <a:srgbClr val="006600"/>
                </a:solidFill>
                <a:latin typeface="Times New Roman Cyr"/>
              </a:rPr>
              <a:t>1.</a:t>
            </a: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62" name="Picture 5" descr="12_2"/>
          <p:cNvPicPr/>
          <p:nvPr/>
        </p:nvPicPr>
        <p:blipFill>
          <a:blip r:embed="rId1"/>
          <a:stretch/>
        </p:blipFill>
        <p:spPr>
          <a:xfrm>
            <a:off x="3114720" y="5059440"/>
            <a:ext cx="4608360" cy="250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AD138FF-7BB2-435E-AD9E-C25BA86F1085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06360" y="252360"/>
            <a:ext cx="101584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spAutoFit/>
          </a:bodyPr>
          <a:p>
            <a:pPr marL="522360" indent="-522360" algn="ctr">
              <a:spcBef>
                <a:spcPts val="181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2900" spc="-1" strike="noStrike">
                <a:solidFill>
                  <a:srgbClr val="9933ff"/>
                </a:solidFill>
                <a:latin typeface="Times New Roman Cyr"/>
              </a:rPr>
              <a:t>Защитное сооружение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 Cyr"/>
              </a:rPr>
              <a:t> – это инженерное сооружение, предназначенное для укрытия людей, техники и имущества от опасностей, возникающих в результате аварий,  катастроф на потенциально опасных объектах либо стихийных бедствий в районе размещения этих объектов, а также воздействия современных средств поражения</a:t>
            </a:r>
            <a:r>
              <a:rPr b="1" lang="ru-RU" sz="2900" spc="-1" strike="noStrike">
                <a:solidFill>
                  <a:srgbClr val="000000"/>
                </a:solidFill>
                <a:latin typeface="Times New Roman Cyr"/>
              </a:rPr>
              <a:t> (ГОСТ Р22.0.02-90)</a:t>
            </a:r>
            <a:endParaRPr b="1" lang="en-US" sz="29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65" name="Picture 3" descr="08_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682720" y="4356000"/>
            <a:ext cx="51944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32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ru-RU" sz="39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35120" y="2013120"/>
            <a:ext cx="92232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lnSpc>
                <a:spcPct val="90000"/>
              </a:lnSpc>
              <a:spcBef>
                <a:spcPts val="1100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48F583B-5DD5-4311-AE6D-3CA37C46D8E1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69" name="Picture 4" descr="03_1"/>
          <p:cNvPicPr/>
          <p:nvPr/>
        </p:nvPicPr>
        <p:blipFill>
          <a:blip r:embed="rId1"/>
          <a:stretch/>
        </p:blipFill>
        <p:spPr>
          <a:xfrm>
            <a:off x="666720" y="181080"/>
            <a:ext cx="9576000" cy="7181640"/>
          </a:xfrm>
          <a:prstGeom prst="rect">
            <a:avLst/>
          </a:prstGeom>
          <a:ln w="0">
            <a:noFill/>
          </a:ln>
        </p:spPr>
      </p:pic>
      <p:sp>
        <p:nvSpPr>
          <p:cNvPr id="70" name="WordArt 6"/>
          <p:cNvSpPr txBox="1"/>
          <p:nvPr/>
        </p:nvSpPr>
        <p:spPr>
          <a:xfrm>
            <a:off x="593640" y="539640"/>
            <a:ext cx="4537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ие поражающие</a:t>
            </a:r>
            <a:endParaRPr b="1" lang="en-US" sz="37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 ОМП</a:t>
            </a:r>
            <a:endParaRPr b="1" lang="en-US" sz="37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знаете?</a:t>
            </a:r>
            <a:endParaRPr b="1" lang="en-US" sz="37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3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848BDCC-0EB0-44FF-97F6-470350EF7B1F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174760"/>
            <a:ext cx="108014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spAutoFit/>
          </a:bodyPr>
          <a:p>
            <a:pPr marL="522360" indent="-522360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46120" y="84240"/>
            <a:ext cx="9683640" cy="516960"/>
          </a:xfrm>
          <a:prstGeom prst="rect">
            <a:avLst/>
          </a:prstGeom>
          <a:noFill/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spAutoFit/>
          </a:bodyPr>
          <a:p>
            <a:pPr marL="522360" indent="-522360"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9933ff"/>
                </a:solidFill>
                <a:latin typeface="Times New Roman Cyr"/>
              </a:rPr>
              <a:t>Классификация защитных сооружений</a:t>
            </a:r>
            <a:endParaRPr b="1" lang="en-US" sz="2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38880" y="3613320"/>
            <a:ext cx="209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120" rIns="1051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527800" y="3613320"/>
            <a:ext cx="209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120" rIns="1051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7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025640" y="790560"/>
            <a:ext cx="8515080" cy="66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 Cyr"/>
              </a:rPr>
              <a:t>по назначению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для укрытия населения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для размещения органов управления ГО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 Cyr"/>
              </a:rPr>
              <a:t>по защитным свойствам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убежища; 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противорадиационные укрытия (ПРУ); 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простейшие укрытия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 Cyr"/>
              </a:rPr>
              <a:t>по срокам строительства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построенными заблаговременно; 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быстровозводимыми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 Cyr"/>
              </a:rPr>
              <a:t>по обеспечению фильтровентиляционным оборудованием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ЗС, обеспеченные ФВО промышленного изготовления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ЗС, обеспеченные простейшими ФВО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imes New Roman Cyr"/>
              </a:rPr>
              <a:t>по вместительности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малые – до 600 чел.: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средние – от 600 до 2000 чел.;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indent="309600" algn="just">
              <a:buClr>
                <a:srgbClr val="000000"/>
              </a:buClr>
              <a:buFont typeface="Times New Roman Cyr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большие - - свыше 2000 чел..</a:t>
            </a:r>
            <a:endParaRPr b="1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8410AFD-4131-4D66-A30E-6590345946A7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227240" y="345960"/>
            <a:ext cx="8731080" cy="450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Times New Roman Cyr"/>
              </a:rPr>
              <a:t>Убежищами называю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ru-RU" sz="3200" spc="-1" strike="noStrike">
                <a:solidFill>
                  <a:srgbClr val="7f6000"/>
                </a:solidFill>
                <a:latin typeface="Times New Roman Cyr"/>
              </a:rPr>
              <a:t>защитные сооружения герметичного типа, обеспечивающие коллективную защиту укрываемых от воздействия поражающих факторов современного оружия, высоких температур и продуктов горения при пожарах, от ОВ и АХОВ, радиоактивных веществ</a:t>
            </a:r>
            <a:r>
              <a:rPr b="1" lang="ru-RU" sz="3200" spc="-1" strike="noStrike">
                <a:solidFill>
                  <a:srgbClr val="7f6000"/>
                </a:solidFill>
                <a:latin typeface="Times New Roman Cyr"/>
              </a:rPr>
              <a:t> </a:t>
            </a:r>
            <a:r>
              <a:rPr b="0" i="1" lang="ru-RU" sz="3200" spc="-1" strike="noStrike">
                <a:solidFill>
                  <a:srgbClr val="7f6000"/>
                </a:solidFill>
                <a:latin typeface="Times New Roman Cyr"/>
              </a:rPr>
              <a:t>и биологических средств.</a:t>
            </a: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79" name="Picture 5" descr="12_2"/>
          <p:cNvPicPr/>
          <p:nvPr/>
        </p:nvPicPr>
        <p:blipFill>
          <a:blip r:embed="rId1"/>
          <a:stretch/>
        </p:blipFill>
        <p:spPr>
          <a:xfrm>
            <a:off x="3114720" y="5059440"/>
            <a:ext cx="46083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09640" y="252360"/>
            <a:ext cx="9090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ru-RU" sz="2900" spc="-1" strike="noStrike">
                <a:solidFill>
                  <a:srgbClr val="9933ff"/>
                </a:solidFill>
                <a:latin typeface="Calibri Light"/>
              </a:rPr>
              <a:t>Характеристика защитных сооружений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1" name="Object 8"/>
          <p:cNvGraphicFramePr/>
          <p:nvPr/>
        </p:nvGraphicFramePr>
        <p:xfrm>
          <a:off x="1000080" y="669960"/>
          <a:ext cx="8707320" cy="444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669960"/>
                    <a:ext cx="870732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Номер слайда 5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174F8FB-5C6D-4751-A551-E5F45DC9A9D5}" type="slidenum">
              <a:rPr b="1" lang="ru-RU" sz="1600" spc="-1" strike="noStrike">
                <a:solidFill>
                  <a:srgbClr val="e7e6e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84" name="Picture 10" descr="02_2"/>
          <p:cNvPicPr/>
          <p:nvPr/>
        </p:nvPicPr>
        <p:blipFill>
          <a:blip r:embed="rId3"/>
          <a:stretch/>
        </p:blipFill>
        <p:spPr>
          <a:xfrm>
            <a:off x="227160" y="5065560"/>
            <a:ext cx="5905440" cy="235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01"/>
          <p:cNvPicPr/>
          <p:nvPr/>
        </p:nvPicPr>
        <p:blipFill>
          <a:blip r:embed="rId4"/>
          <a:stretch/>
        </p:blipFill>
        <p:spPr>
          <a:xfrm>
            <a:off x="6251400" y="4900680"/>
            <a:ext cx="432144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0" y="5580000"/>
            <a:ext cx="10693440" cy="19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e4e4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ис. Схема убежища для длительной защиты от воздействия оружия массового пораж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защитно-герметические двери;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шлюзовые камеры;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санитарно-бытовые помещения;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помещение для укрываемых;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галерея и оголовок аварийного вых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фильтровентиляционные камеры (отсеки);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медицинская комнат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кладовая для продуктов;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дизельная электростан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551720" y="7008840"/>
            <a:ext cx="2406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9173486-03BB-4B78-A077-FF139D56C139}" type="slidenum">
              <a:rPr b="1" lang="ru-RU" sz="16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16:48:58Z</dcterms:created>
  <dc:creator>Кузьмин Александр</dc:creator>
  <dc:description/>
  <dc:language>en-US</dc:language>
  <cp:lastModifiedBy>Пользователь</cp:lastModifiedBy>
  <dcterms:modified xsi:type="dcterms:W3CDTF">2022-02-15T09:46:03Z</dcterms:modified>
  <cp:revision>171</cp:revision>
  <dc:subject/>
  <dc:title>Академия гражданской защиты МЧС   России</dc:title>
</cp:coreProperties>
</file>