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bomb.wav" ContentType="audio/x-wav"/>
  <Override PartName="/ppt/media/image31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5.wmf" ContentType="image/x-wmf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691813" cy="7559675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61880" y="510840"/>
            <a:ext cx="3600360" cy="254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DA6A-5ED8-4334-B22B-E6DED2D9155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624640" y="6458040"/>
            <a:ext cx="430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E3B5-4682-4636-BFED-35665F38B7D2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162240" y="511200"/>
            <a:ext cx="3600360" cy="254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624640" y="6458040"/>
            <a:ext cx="430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1690-3C83-48DE-97E7-8CEE555208C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162240" y="511200"/>
            <a:ext cx="3600360" cy="2546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624640" y="6458040"/>
            <a:ext cx="430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43E7-296E-4511-ABDF-83FBE8FBEB4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162240" y="511200"/>
            <a:ext cx="3600360" cy="25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624640" y="6458040"/>
            <a:ext cx="430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A033-ABA7-49C5-81F7-1CE8E9A7DBBC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162240" y="511200"/>
            <a:ext cx="3600360" cy="254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1D1-8137-4D21-8323-C5E1AAE3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5120" y="2013120"/>
            <a:ext cx="922320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5120" y="4519080"/>
            <a:ext cx="922320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D14-DE09-4EFD-BF49-BCBEF69F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5120" y="201312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1200" y="201312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5120" y="451908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1200" y="451908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7B1-AF9C-4BDA-8F10-663820A7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5120" y="2013120"/>
            <a:ext cx="29696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53800" y="2013120"/>
            <a:ext cx="29696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2120" y="2013120"/>
            <a:ext cx="29696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5120" y="4519080"/>
            <a:ext cx="29696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53800" y="4519080"/>
            <a:ext cx="29696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2120" y="4519080"/>
            <a:ext cx="29696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11C-A236-451E-A3DA-459A51E1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5120" y="2013120"/>
            <a:ext cx="922320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A4D-9037-4042-808A-8882E0ED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5120" y="2013120"/>
            <a:ext cx="92232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3E2-F9FA-4B3D-9332-57D090AE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5120" y="2013120"/>
            <a:ext cx="4500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1200" y="2013120"/>
            <a:ext cx="4500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A64-FE55-424B-8218-A18D1F63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9FD-FCE9-4E92-90E8-5FB8486D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5120" y="402840"/>
            <a:ext cx="92232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737A-7D60-4868-BD30-16AD04F9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5120" y="201312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1200" y="2013120"/>
            <a:ext cx="4500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5120" y="451908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7FBF-CDB8-4990-8755-098DFCBC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5120" y="2013120"/>
            <a:ext cx="4500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1200" y="201312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1200" y="451908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45F-980C-40A5-911D-56100AEE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5120" y="201312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1200" y="201312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5120" y="4519080"/>
            <a:ext cx="922320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DCA-46F8-43AA-AEEA-EF82992D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5120" y="2013120"/>
            <a:ext cx="92232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0160" indent="-2001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0120" indent="-2001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1880" indent="-2001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03280" indent="-1998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03240" indent="-1998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03240" indent="-1998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03240" indent="-1998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476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1680" y="7008840"/>
            <a:ext cx="36100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5136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898989"/>
                </a:solidFill>
                <a:latin typeface="Times New Roman Cy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BA86-0695-4D8B-AF3D-A9C22009C692}" type="slidenum">
              <a:rPr b="1" lang="ru-RU" sz="1000" spc="-1" strike="noStrike">
                <a:solidFill>
                  <a:srgbClr val="898989"/>
                </a:solidFill>
                <a:latin typeface="Times New Roman Cyr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360" y="1044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ru-RU" sz="4100" spc="-1" strike="noStrike">
                <a:solidFill>
                  <a:srgbClr val="993366"/>
                </a:solidFill>
                <a:latin typeface="Calibri Light"/>
              </a:rPr>
              <a:t>ТЕМА УРОКА: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4520" y="1871640"/>
            <a:ext cx="9090000" cy="1765440"/>
          </a:xfrm>
          <a:prstGeom prst="rect">
            <a:avLst/>
          </a:prstGeom>
          <a:noFill/>
          <a:ln w="9360">
            <a:solidFill>
              <a:srgbClr val="5b9bd5"/>
            </a:solidFill>
            <a:miter/>
          </a:ln>
        </p:spPr>
        <p:txBody>
          <a:bodyPr anchor="t">
            <a:normAutofit/>
          </a:bodyPr>
          <a:p>
            <a:pPr marL="200160" indent="-20016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ru-RU" sz="3200" spc="-1" strike="noStrike">
                <a:solidFill>
                  <a:srgbClr val="44546a"/>
                </a:solidFill>
                <a:latin typeface="Calibri"/>
              </a:rPr>
              <a:t>«Инженерная защита населения от чрезвычайных ситуаций мирного и военного времен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0160" indent="-20016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0160" indent="-20016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D48870B-0A7E-4FC7-B50A-E70793BBD9DA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386000" y="181080"/>
            <a:ext cx="79930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f6000"/>
                </a:solidFill>
                <a:latin typeface="Times New Roman Cyr"/>
              </a:rPr>
              <a:t>ОБЖ. 10 класс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52" name="Picture 5" descr="12_2"/>
          <p:cNvPicPr/>
          <p:nvPr/>
        </p:nvPicPr>
        <p:blipFill>
          <a:blip r:embed="rId1"/>
          <a:stretch/>
        </p:blipFill>
        <p:spPr>
          <a:xfrm>
            <a:off x="2854440" y="4057560"/>
            <a:ext cx="460836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040F61D-A679-48D2-81A0-FC185ECE246C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90" name="Picture 5" descr="15_1"/>
          <p:cNvPicPr/>
          <p:nvPr/>
        </p:nvPicPr>
        <p:blipFill>
          <a:blip r:embed="rId1"/>
          <a:stretch/>
        </p:blipFill>
        <p:spPr>
          <a:xfrm>
            <a:off x="644400" y="1271520"/>
            <a:ext cx="3492720" cy="345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15_2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4232160" y="366840"/>
            <a:ext cx="3467160" cy="3365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16_1"/>
          <p:cNvPicPr/>
          <p:nvPr/>
        </p:nvPicPr>
        <p:blipFill>
          <a:blip r:embed="rId3">
            <a:lum contrast="-12000"/>
          </a:blip>
          <a:stretch/>
        </p:blipFill>
        <p:spPr>
          <a:xfrm>
            <a:off x="2306520" y="4514760"/>
            <a:ext cx="5245200" cy="2895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08_1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7794720" y="396720"/>
            <a:ext cx="2730240" cy="6070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738360" y="133200"/>
            <a:ext cx="3686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 Cyr"/>
              </a:rPr>
              <a:t>Убежище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14A5D35-C3B6-4309-B3A9-DE0552F16B55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96" name="Picture 5" descr="11_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939960" y="1271520"/>
            <a:ext cx="4343400" cy="2565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11_3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626080" y="74520"/>
            <a:ext cx="3517920" cy="2502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11_2"/>
          <p:cNvPicPr/>
          <p:nvPr/>
        </p:nvPicPr>
        <p:blipFill>
          <a:blip r:embed="rId3"/>
          <a:stretch/>
        </p:blipFill>
        <p:spPr>
          <a:xfrm>
            <a:off x="939960" y="4033800"/>
            <a:ext cx="2887560" cy="2760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14_4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8442360" y="2197080"/>
            <a:ext cx="2108160" cy="459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14_2"/>
          <p:cNvPicPr/>
          <p:nvPr/>
        </p:nvPicPr>
        <p:blipFill>
          <a:blip r:embed="rId5"/>
          <a:stretch/>
        </p:blipFill>
        <p:spPr>
          <a:xfrm>
            <a:off x="4483080" y="3421080"/>
            <a:ext cx="3352680" cy="38354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1817640" y="252360"/>
            <a:ext cx="3465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 Cyr"/>
              </a:rPr>
              <a:t>Убежище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2E47371-CF98-4D51-9328-BD13330EE1AE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03" name="Picture 4" descr="06_1"/>
          <p:cNvPicPr/>
          <p:nvPr/>
        </p:nvPicPr>
        <p:blipFill>
          <a:blip r:embed="rId1"/>
          <a:stretch/>
        </p:blipFill>
        <p:spPr>
          <a:xfrm>
            <a:off x="5707080" y="324000"/>
            <a:ext cx="4702320" cy="597528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  <p:pic>
        <p:nvPicPr>
          <p:cNvPr id="104" name="Picture 5" descr="05_1"/>
          <p:cNvPicPr/>
          <p:nvPr/>
        </p:nvPicPr>
        <p:blipFill>
          <a:blip r:embed="rId2"/>
          <a:stretch/>
        </p:blipFill>
        <p:spPr>
          <a:xfrm>
            <a:off x="738360" y="1566720"/>
            <a:ext cx="4667040" cy="597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TextBox 1"/>
          <p:cNvSpPr/>
          <p:nvPr/>
        </p:nvSpPr>
        <p:spPr>
          <a:xfrm>
            <a:off x="2033640" y="324000"/>
            <a:ext cx="3168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 Cyr"/>
              </a:rPr>
              <a:t>Убежище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5DB30E3-A076-437C-9947-8998CCF9EA2F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07" name="Picture 5" descr="14_1"/>
          <p:cNvPicPr/>
          <p:nvPr/>
        </p:nvPicPr>
        <p:blipFill>
          <a:blip r:embed="rId1"/>
          <a:stretch/>
        </p:blipFill>
        <p:spPr>
          <a:xfrm>
            <a:off x="6859440" y="4460760"/>
            <a:ext cx="2868840" cy="294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Picture 7" descr="9_1"/>
          <p:cNvPicPr/>
          <p:nvPr/>
        </p:nvPicPr>
        <p:blipFill>
          <a:blip r:embed="rId2"/>
          <a:stretch/>
        </p:blipFill>
        <p:spPr>
          <a:xfrm>
            <a:off x="522360" y="4233960"/>
            <a:ext cx="3414600" cy="29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TextBox 1"/>
          <p:cNvSpPr/>
          <p:nvPr/>
        </p:nvSpPr>
        <p:spPr>
          <a:xfrm>
            <a:off x="378000" y="1810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 Cyr"/>
              </a:rPr>
              <a:t>Противорадиационные укрытия (ПРУ)</a:t>
            </a:r>
            <a:endParaRPr b="1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766800"/>
            <a:ext cx="60483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3700" spc="-1" strike="noStrike">
                <a:solidFill>
                  <a:srgbClr val="002060"/>
                </a:solidFill>
                <a:latin typeface="Times New Roman Cyr"/>
              </a:rPr>
              <a:t>обеспечивают защиту: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95200" y="1422360"/>
            <a:ext cx="10020240" cy="25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ионизирующего изл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0160" indent="-2001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светового изл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0160" indent="-2001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проникающей ради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0160" indent="-2001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астично от ударной вол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0160" indent="-2001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попадания в органы дыхания, на кожу и одежду РВ, ОВ, Б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CBAFC44-C0B4-41D2-88EC-D26CADD416EA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13" name="Picture 4" descr="4_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963720" y="2276640"/>
            <a:ext cx="4608360" cy="395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Picture 5" descr="5_1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918040" y="324000"/>
            <a:ext cx="4248360" cy="36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Picture 6" descr="4_1"/>
          <p:cNvPicPr/>
          <p:nvPr/>
        </p:nvPicPr>
        <p:blipFill>
          <a:blip r:embed="rId3"/>
          <a:stretch/>
        </p:blipFill>
        <p:spPr>
          <a:xfrm>
            <a:off x="6170760" y="4726080"/>
            <a:ext cx="3744720" cy="300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Прямоугольник 1"/>
          <p:cNvSpPr/>
          <p:nvPr/>
        </p:nvSpPr>
        <p:spPr>
          <a:xfrm>
            <a:off x="1257480" y="577800"/>
            <a:ext cx="444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 Cyr"/>
              </a:rPr>
              <a:t>Противорадиационные укрытия </a:t>
            </a:r>
            <a:endParaRPr b="1" lang="en-US" sz="2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9280" y="180720"/>
            <a:ext cx="1001088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4100" spc="-1" strike="noStrike">
                <a:solidFill>
                  <a:srgbClr val="cc3300"/>
                </a:solidFill>
                <a:latin typeface="Calibri Light"/>
              </a:rPr>
              <a:t>Простейшие защитные сооружения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>
            <a:biLevel thresh="50000"/>
            <a:lum bright="-24000"/>
          </a:blip>
          <a:srcRect l="0" t="0" r="0" b="46048"/>
          <a:stretch/>
        </p:blipFill>
        <p:spPr>
          <a:xfrm>
            <a:off x="252360" y="1220760"/>
            <a:ext cx="5202360" cy="403236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  <p:sp>
        <p:nvSpPr>
          <p:cNvPr id="119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3EE9FAD-32D1-46E5-AB9F-086D638024FD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2">
            <a:biLevel thresh="50000"/>
            <a:lum bright="-18000"/>
          </a:blip>
          <a:srcRect l="0" t="52380" r="8553" b="0"/>
          <a:stretch/>
        </p:blipFill>
        <p:spPr>
          <a:xfrm>
            <a:off x="5537160" y="1220760"/>
            <a:ext cx="5111640" cy="403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1" name="Text Box 7"/>
          <p:cNvSpPr/>
          <p:nvPr/>
        </p:nvSpPr>
        <p:spPr>
          <a:xfrm>
            <a:off x="604800" y="5400720"/>
            <a:ext cx="98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Рис. Перекрытая щель. Схема щели (а) и ее перекрытие (б). Размеры даны в миллиметрах.</a:t>
            </a:r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14360" y="5884920"/>
            <a:ext cx="10080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Times New Roman Cyr"/>
              </a:rPr>
              <a:t>Защищают: частично от всех видов оружия массового применения при наличие средств индивидуальной защиты органов дыхания и кожи.</a:t>
            </a:r>
            <a:endParaRPr b="1" lang="en-US" sz="2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A0F6B0E-6B2A-4F33-8BDF-5E6F0E1047BF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24" name="Picture 4" descr="4_1"/>
          <p:cNvPicPr/>
          <p:nvPr/>
        </p:nvPicPr>
        <p:blipFill>
          <a:blip r:embed="rId1"/>
          <a:stretch/>
        </p:blipFill>
        <p:spPr>
          <a:xfrm>
            <a:off x="809640" y="209520"/>
            <a:ext cx="4319640" cy="324000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  <p:pic>
        <p:nvPicPr>
          <p:cNvPr id="125" name="Picture 5" descr="5-8"/>
          <p:cNvPicPr/>
          <p:nvPr/>
        </p:nvPicPr>
        <p:blipFill>
          <a:blip r:embed="rId2"/>
          <a:stretch/>
        </p:blipFill>
        <p:spPr>
          <a:xfrm>
            <a:off x="598320" y="4108320"/>
            <a:ext cx="4248360" cy="338472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  <p:pic>
        <p:nvPicPr>
          <p:cNvPr id="126" name="Picture 6" descr="vop1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346720" y="209520"/>
            <a:ext cx="4753080" cy="325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7" descr="9_1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5353200" y="4140360"/>
            <a:ext cx="4746600" cy="319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TextBox 2"/>
          <p:cNvSpPr/>
          <p:nvPr/>
        </p:nvSpPr>
        <p:spPr>
          <a:xfrm>
            <a:off x="1746360" y="3462480"/>
            <a:ext cx="7416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 Cyr"/>
              </a:rPr>
              <a:t>Простейшие укрытия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8360" y="-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52560" indent="0" algn="ctr">
              <a:lnSpc>
                <a:spcPct val="90000"/>
              </a:lnSpc>
              <a:buNone/>
              <a:tabLst>
                <a:tab algn="l" pos="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ru-RU" sz="5500" spc="-1" strike="noStrike">
                <a:solidFill>
                  <a:srgbClr val="385840"/>
                </a:solidFill>
                <a:latin typeface="Calibri Light"/>
              </a:rPr>
              <a:t>2. Эвакуация населения</a:t>
            </a:r>
            <a:endParaRPr b="0" lang="en-US" sz="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C2C6F71-5977-4EFF-80A4-57AA39F6CC27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31" name="Picture 4" descr="{544AFF90-292D-4B63-8C73-A8C034377B42}"/>
          <p:cNvPicPr/>
          <p:nvPr/>
        </p:nvPicPr>
        <p:blipFill>
          <a:blip r:embed="rId1"/>
          <a:stretch/>
        </p:blipFill>
        <p:spPr>
          <a:xfrm>
            <a:off x="738360" y="1630440"/>
            <a:ext cx="965016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3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D30CF34-F6DA-49AF-8B2D-35F0B6382948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719360" y="468360"/>
            <a:ext cx="8845560" cy="38080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 Black"/>
              </a:rPr>
              <a:t>Общая эвакуация в военное время– 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водится на территории всей страны или на территории отдельного региона и предполагает вывоз (вывод) всех категорий населения,          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за исключением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Times New Roman Cyr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Times New Roman Cyr"/>
            </a:endParaRPr>
          </a:p>
          <a:p>
            <a:pPr algn="just">
              <a:lnSpc>
                <a:spcPct val="100000"/>
              </a:lnSpc>
              <a:buClr>
                <a:srgbClr val="00cc00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нетранспортабельных больных и  обслуживающего их персонала и </a:t>
            </a:r>
            <a:endParaRPr b="1" lang="en-US" sz="2100" spc="-1" strike="noStrike">
              <a:solidFill>
                <a:srgbClr val="000000"/>
              </a:solidFill>
              <a:latin typeface="Times New Roman Cyr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Times New Roman Cyr"/>
            </a:endParaRPr>
          </a:p>
          <a:p>
            <a:pPr algn="just">
              <a:lnSpc>
                <a:spcPct val="100000"/>
              </a:lnSpc>
              <a:buClr>
                <a:srgbClr val="00cc00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лиц, имеющих мобилизационные   предписания</a:t>
            </a:r>
            <a:endParaRPr b="1" lang="en-US" sz="2100" spc="-1" strike="noStrike">
              <a:solidFill>
                <a:srgbClr val="000000"/>
              </a:solidFill>
              <a:latin typeface="Times New Roman Cyr"/>
            </a:endParaRPr>
          </a:p>
          <a:p>
            <a:pPr lvl="2" marL="10429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719360" y="5005440"/>
            <a:ext cx="8872560" cy="248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300" spc="-1" strike="noStrike">
                <a:solidFill>
                  <a:srgbClr val="cc3300"/>
                </a:solidFill>
                <a:latin typeface="Arial Black"/>
              </a:rPr>
              <a:t>Общая  эвакуация при ЧС природного и техногенного характер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-       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7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lang="ru-RU" sz="2700" spc="-1" strike="noStrike">
                <a:solidFill>
                  <a:srgbClr val="000099"/>
                </a:solidFill>
                <a:latin typeface="Times New Roman"/>
              </a:rPr>
              <a:t>вывод из зоны ЧС всего населения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9640" y="181080"/>
            <a:ext cx="9090000" cy="12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 Light"/>
              </a:rPr>
              <a:t>Основные показатели марша пеших колонн при эвакуации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93280" y="1836360"/>
            <a:ext cx="964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lnSpc>
                <a:spcPct val="90000"/>
              </a:lnSpc>
              <a:spcBef>
                <a:spcPts val="1100"/>
              </a:spcBef>
              <a:buClr>
                <a:srgbClr val="000099"/>
              </a:buClr>
              <a:buFont typeface="Calibri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Calibri"/>
              </a:rPr>
              <a:t>количество человек в колонне – 500-1000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90000"/>
              </a:lnSpc>
              <a:spcBef>
                <a:spcPts val="1100"/>
              </a:spcBef>
              <a:buClr>
                <a:srgbClr val="000099"/>
              </a:buClr>
              <a:buFont typeface="Calibri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Calibri"/>
              </a:rPr>
              <a:t>скорость движения колонны – 3- 4 км/час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90000"/>
              </a:lnSpc>
              <a:spcBef>
                <a:spcPts val="1100"/>
              </a:spcBef>
              <a:buClr>
                <a:srgbClr val="000099"/>
              </a:buClr>
              <a:buFont typeface="Calibri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Calibri"/>
              </a:rPr>
              <a:t>суточный переход (за 10-12 часов) – 30- 40 км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90000"/>
              </a:lnSpc>
              <a:spcBef>
                <a:spcPts val="1100"/>
              </a:spcBef>
              <a:buClr>
                <a:srgbClr val="000099"/>
              </a:buClr>
              <a:buFont typeface="Calibri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Calibri"/>
              </a:rPr>
              <a:t>через 1-1,5 часа назначаются малые привалы на 15-20 мин.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90000"/>
              </a:lnSpc>
              <a:spcBef>
                <a:spcPts val="1100"/>
              </a:spcBef>
              <a:buClr>
                <a:srgbClr val="000099"/>
              </a:buClr>
              <a:buFont typeface="Calibri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Calibri"/>
              </a:rPr>
              <a:t>в начале второй половины суточного перехода – большой привал на 1,5-2 часа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90000"/>
              </a:lnSpc>
              <a:spcBef>
                <a:spcPts val="1100"/>
              </a:spcBef>
              <a:buClr>
                <a:srgbClr val="000099"/>
              </a:buClr>
              <a:buFont typeface="Calibri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Calibri"/>
              </a:rPr>
              <a:t>расстояние между колоннами – 500 м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F62E67B-98DE-4657-AFF0-95EE54DCE61D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9640" y="615600"/>
            <a:ext cx="9090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Учебные вопросы: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835280" y="1836720"/>
            <a:ext cx="8858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4880" indent="-704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000" spc="-1" strike="noStrike">
                <a:solidFill>
                  <a:srgbClr val="7f6000"/>
                </a:solidFill>
                <a:latin typeface="Calibri"/>
              </a:rPr>
              <a:t>Инженерная защи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04880" indent="-704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000" spc="-1" strike="noStrike">
                <a:solidFill>
                  <a:srgbClr val="7f6000"/>
                </a:solidFill>
                <a:latin typeface="Calibri"/>
              </a:rPr>
              <a:t>Эвакуация населения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05E7195-A51C-4889-B0F8-638E008E42EE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56" name="Picture 4" descr="12_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243080" y="4068720"/>
            <a:ext cx="5168880" cy="280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4_1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004160" y="3938760"/>
            <a:ext cx="260028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3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80F2728-DB35-429F-A915-24B920ECC0B5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600200" y="2529000"/>
            <a:ext cx="4152960" cy="1236600"/>
          </a:xfrm>
          <a:prstGeom prst="rect">
            <a:avLst/>
          </a:prstGeom>
          <a:gradFill rotWithShape="0">
            <a:gsLst>
              <a:gs pos="0">
                <a:srgbClr val="9b9b00"/>
              </a:gs>
              <a:gs pos="50000">
                <a:srgbClr val="cccc00"/>
              </a:gs>
              <a:gs pos="100000">
                <a:srgbClr val="9b9b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Г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перативные группы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 вывозу населения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102360" y="2544840"/>
            <a:ext cx="4116240" cy="1236600"/>
          </a:xfrm>
          <a:prstGeom prst="rect">
            <a:avLst/>
          </a:prstGeom>
          <a:gradFill rotWithShape="0">
            <a:gsLst>
              <a:gs pos="0">
                <a:srgbClr val="9b9b00"/>
              </a:gs>
              <a:gs pos="50000">
                <a:srgbClr val="cccc00"/>
              </a:gs>
              <a:gs pos="100000">
                <a:srgbClr val="9b9b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ГУ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Группы управления на </a:t>
            </a:r>
            <a:endParaRPr b="1" lang="en-US" sz="25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еших маршрутах эвакуации</a:t>
            </a:r>
            <a:endParaRPr b="1" lang="en-US" sz="2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165720" y="4186080"/>
            <a:ext cx="3980160" cy="1236960"/>
          </a:xfrm>
          <a:prstGeom prst="rect">
            <a:avLst/>
          </a:prstGeom>
          <a:gradFill rotWithShape="0">
            <a:gsLst>
              <a:gs pos="0">
                <a:srgbClr val="c29b74"/>
              </a:gs>
              <a:gs pos="50000">
                <a:srgbClr val="ffcc99"/>
              </a:gs>
              <a:gs pos="100000">
                <a:srgbClr val="c29b74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ЭП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иемные эвакуационные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ункты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746360" y="4170240"/>
            <a:ext cx="3983040" cy="1236960"/>
          </a:xfrm>
          <a:prstGeom prst="rect">
            <a:avLst/>
          </a:prstGeom>
          <a:gradFill rotWithShape="0">
            <a:gsLst>
              <a:gs pos="0">
                <a:srgbClr val="c29b74"/>
              </a:gs>
              <a:gs pos="50000">
                <a:srgbClr val="ffcc99"/>
              </a:gs>
              <a:gs pos="100000">
                <a:srgbClr val="c29b74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ЭПК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Эвакоприемные 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омиссии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604880" y="795240"/>
            <a:ext cx="4149720" cy="1235160"/>
          </a:xfrm>
          <a:prstGeom prst="rect">
            <a:avLst/>
          </a:prstGeom>
          <a:gradFill rotWithShape="0">
            <a:gsLst>
              <a:gs pos="0">
                <a:srgbClr val="9b9b00"/>
              </a:gs>
              <a:gs pos="50000">
                <a:srgbClr val="cccc00"/>
              </a:gs>
              <a:gs pos="100000">
                <a:srgbClr val="9b9b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ЭК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Эвакуационные 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омиссии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78600" y="795240"/>
            <a:ext cx="4081320" cy="1235160"/>
          </a:xfrm>
          <a:prstGeom prst="rect">
            <a:avLst/>
          </a:prstGeom>
          <a:gradFill rotWithShape="0">
            <a:gsLst>
              <a:gs pos="0">
                <a:srgbClr val="9b9b00"/>
              </a:gs>
              <a:gs pos="50000">
                <a:srgbClr val="cccc00"/>
              </a:gs>
              <a:gs pos="100000">
                <a:srgbClr val="9b9b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ЭП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борные эвакуационные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ункты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600360" y="5818320"/>
            <a:ext cx="3475080" cy="1234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ccc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ПЭ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омежуточные 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ункты эвакуации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1380960" y="0"/>
            <a:ext cx="79758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3700" spc="-1" strike="noStrike">
                <a:solidFill>
                  <a:srgbClr val="ff0066"/>
                </a:solidFill>
                <a:latin typeface="Times New Roman"/>
              </a:rPr>
              <a:t>Эвакуационные органы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1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FDE5-5D36-44E8-B1E4-D08C0A4B3AF8}" type="slidenum">
              <a:rPr b="1" lang="ru-RU" sz="1000" spc="-1" strike="noStrike">
                <a:solidFill>
                  <a:srgbClr val="898989"/>
                </a:solidFill>
                <a:latin typeface="Times New Roman Cyr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1817640" y="252360"/>
            <a:ext cx="842508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 Cyr"/>
              </a:rPr>
              <a:t>Вывод: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buClr>
                <a:srgbClr val="002060"/>
              </a:buClr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 Cyr"/>
              </a:rPr>
              <a:t>Основным способом защиты населения от отравляющих веществ (ОВ), аварийно химически опасных веществ (АХОВ) и радиоактивных веществ (РВ) является его укрытие в убежищах, ПРУ и простейших укрытиях.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buClr>
                <a:srgbClr val="002060"/>
              </a:buClr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49" name="Picture 5" descr="5-8"/>
          <p:cNvPicPr/>
          <p:nvPr/>
        </p:nvPicPr>
        <p:blipFill>
          <a:blip r:embed="rId1"/>
          <a:stretch/>
        </p:blipFill>
        <p:spPr>
          <a:xfrm>
            <a:off x="5634000" y="4932360"/>
            <a:ext cx="3154320" cy="251316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7ACD948-4065-49EB-A0F3-4079228ABFC0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51" name="Picture 2" descr="j0343747"/>
          <p:cNvPicPr/>
          <p:nvPr/>
        </p:nvPicPr>
        <p:blipFill>
          <a:blip r:embed="rId1">
            <a:lum contrast="12000"/>
          </a:blip>
          <a:stretch/>
        </p:blipFill>
        <p:spPr>
          <a:xfrm rot="2177400">
            <a:off x="161640" y="2268000"/>
            <a:ext cx="1503360" cy="1700280"/>
          </a:xfrm>
          <a:prstGeom prst="rect">
            <a:avLst/>
          </a:prstGeom>
          <a:ln w="0">
            <a:noFill/>
          </a:ln>
        </p:spPr>
      </p:pic>
      <p:sp>
        <p:nvSpPr>
          <p:cNvPr id="152" name="Document"/>
          <p:cNvSpPr/>
          <p:nvPr/>
        </p:nvSpPr>
        <p:spPr>
          <a:xfrm>
            <a:off x="1890720" y="181080"/>
            <a:ext cx="8251920" cy="7127640"/>
          </a:xfrm>
          <a:prstGeom prst="pi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marL="390600" indent="-390600"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просы для закрепления знаний:</a:t>
            </a:r>
            <a:endParaRPr b="1" lang="en-US" sz="32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Arial"/>
              </a:rPr>
              <a:t>Как классифицируются защитные сооружения?</a:t>
            </a: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Arial"/>
              </a:rPr>
              <a:t>Дайте характеристику основных видов защитных сооружений гражданской обороны и расскажите об их предназначении.</a:t>
            </a: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Arial"/>
              </a:rPr>
              <a:t>Какие основные помещения предусматриваются в защитных сооружениях?</a:t>
            </a: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Arial"/>
              </a:rPr>
              <a:t>Что такое «ПРУ» и от каких поражающих факторов оно обеспечивает защиту?</a:t>
            </a: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Arial"/>
              </a:rPr>
              <a:t>От чего защищают простейшие защитные сооружения?</a:t>
            </a: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Arial"/>
              </a:rPr>
              <a:t>Какие способы эвакуации населения вы знаете?</a:t>
            </a: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4267080" y="5797440"/>
            <a:ext cx="5759640" cy="1221480"/>
          </a:xfrm>
          <a:prstGeom prst="rect">
            <a:avLst/>
          </a:prstGeom>
          <a:noFill/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c00000"/>
                </a:solidFill>
                <a:latin typeface="Times New Roman Cyr"/>
              </a:rPr>
              <a:t>Домашнее задание: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c00000"/>
                </a:solidFill>
                <a:latin typeface="Times New Roman Cyr"/>
              </a:rPr>
              <a:t>стр.176 §.33, задания 1-4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9760" y="204480"/>
            <a:ext cx="1029168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Используемые интернет ресурсы и литератур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22000" y="1115640"/>
            <a:ext cx="9720360" cy="75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406080">
              <a:lnSpc>
                <a:spcPct val="90000"/>
              </a:lnSpc>
              <a:spcBef>
                <a:spcPts val="1125"/>
              </a:spcBef>
              <a:buClr>
                <a:srgbClr val="0033cc"/>
              </a:buClr>
              <a:buFont typeface="Wingdings 3" charset="2"/>
              <a:buChar char="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800" spc="-1" strike="noStrike" u="sng">
                <a:solidFill>
                  <a:srgbClr val="0033cc"/>
                </a:solidFill>
                <a:uFillTx/>
                <a:latin typeface="Calibri"/>
              </a:rPr>
              <a:t>Литература</a:t>
            </a: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 algn="just">
              <a:lnSpc>
                <a:spcPct val="90000"/>
              </a:lnSpc>
              <a:spcBef>
                <a:spcPts val="1100"/>
              </a:spcBef>
              <a:buClr>
                <a:srgbClr val="993366"/>
              </a:buClr>
              <a:buFont typeface="Calibri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Calibri"/>
              </a:rPr>
              <a:t>Постановление Правительства РФ от 22.06.2004 года « 303 «О порядке эвакуации населения материальных и культурных ценностей в безопасные район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 algn="just">
              <a:lnSpc>
                <a:spcPct val="90000"/>
              </a:lnSpc>
              <a:spcBef>
                <a:spcPts val="1100"/>
              </a:spcBef>
              <a:buClr>
                <a:srgbClr val="993366"/>
              </a:buClr>
              <a:buFont typeface="Calibri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Calibri"/>
              </a:rPr>
              <a:t>Приказ министра МЧС от 21.12.2005г. № 993 «Об утверждении Положения об организации обеспечения населения СИЗ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 algn="just">
              <a:lnSpc>
                <a:spcPct val="90000"/>
              </a:lnSpc>
              <a:spcBef>
                <a:spcPts val="1100"/>
              </a:spcBef>
              <a:buClr>
                <a:srgbClr val="993366"/>
              </a:buClr>
              <a:buFont typeface="Calibri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Calibri"/>
              </a:rPr>
              <a:t>Руководство по эвакуации населения в ЧС природного и техногенного характера. ВНИИ ГОЧС, 199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 algn="just">
              <a:lnSpc>
                <a:spcPct val="90000"/>
              </a:lnSpc>
              <a:spcBef>
                <a:spcPts val="1100"/>
              </a:spcBef>
              <a:buClr>
                <a:srgbClr val="993366"/>
              </a:buClr>
              <a:buFont typeface="Calibri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Calibri"/>
              </a:rPr>
              <a:t>Постановление Главы Администрации Ростовской области № 214 - 1994г. «О мерах по накоплению и использованию имущества ГО Ростовской области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 algn="just">
              <a:lnSpc>
                <a:spcPct val="90000"/>
              </a:lnSpc>
              <a:spcBef>
                <a:spcPts val="1100"/>
              </a:spcBef>
              <a:buClr>
                <a:srgbClr val="993366"/>
              </a:buClr>
              <a:buFont typeface="Calibri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Calibri"/>
              </a:rPr>
              <a:t>Учебник «ОБЖ. 10 класс» авт. А.Т.Смирнов, Б.О. Хренников,  «Просвещение»,2013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 algn="just">
              <a:lnSpc>
                <a:spcPct val="90000"/>
              </a:lnSpc>
              <a:spcBef>
                <a:spcPts val="1100"/>
              </a:spcBef>
              <a:buClr>
                <a:srgbClr val="993366"/>
              </a:buClr>
              <a:buFont typeface="Calibri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Тематическое и поурочное планирование по ОБЖ. Ю.П.Подолян.10 клас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Интернет ресур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>
              <a:lnSpc>
                <a:spcPct val="90000"/>
              </a:lnSpc>
              <a:spcBef>
                <a:spcPts val="1100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Портал МЧС России </a:t>
            </a: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http://www.mchs.gov.ru/</a:t>
            </a: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>
              <a:lnSpc>
                <a:spcPct val="90000"/>
              </a:lnSpc>
              <a:spcBef>
                <a:spcPts val="1100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Портал «Культура безопасности жизнедеятельности -  </a:t>
            </a: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http://www.culture.mchs.gov.ru/</a:t>
            </a: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>
              <a:lnSpc>
                <a:spcPct val="90000"/>
              </a:lnSpc>
              <a:spcBef>
                <a:spcPts val="1100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Методические пособия для учителей </a:t>
            </a: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http://spas-extreme.ru/obg#manuals</a:t>
            </a: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>
              <a:lnSpc>
                <a:spcPct val="90000"/>
              </a:lnSpc>
              <a:spcBef>
                <a:spcPts val="1100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г</a:t>
            </a: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азета «Безопасность» №3 2015Г. мку «УПРАВЛЕНИЕ ПО ДЕЛАМ ГРАЖДАНСКОЙ ОБОРОНЫ И ЧРЕЗВЫЧАЙНЫМ СИТУАЦИЯМ г. РОСТОВА – на – ДОНУ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>
              <a:lnSpc>
                <a:spcPct val="90000"/>
              </a:lnSpc>
              <a:spcBef>
                <a:spcPts val="1100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>
              <a:lnSpc>
                <a:spcPct val="90000"/>
              </a:lnSpc>
              <a:spcBef>
                <a:spcPts val="1100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 algn="just">
              <a:lnSpc>
                <a:spcPct val="90000"/>
              </a:lnSpc>
              <a:spcBef>
                <a:spcPts val="1100"/>
              </a:spcBef>
              <a:buClr>
                <a:srgbClr val="993366"/>
              </a:buClr>
              <a:buFont typeface="Calibri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>
              <a:lnSpc>
                <a:spcPct val="80000"/>
              </a:lnSpc>
              <a:spcBef>
                <a:spcPts val="1100"/>
              </a:spcBef>
              <a:buClr>
                <a:srgbClr val="0563c1"/>
              </a:buClr>
              <a:buSzPct val="65000"/>
              <a:buFont typeface="Calibri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 algn="just">
              <a:lnSpc>
                <a:spcPct val="90000"/>
              </a:lnSpc>
              <a:spcBef>
                <a:spcPts val="1100"/>
              </a:spcBef>
              <a:buClr>
                <a:srgbClr val="993366"/>
              </a:buClr>
              <a:buFont typeface="Calibri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7926849-0721-4C4D-BE51-AB5C4D73AB8C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722160" y="6732720"/>
            <a:ext cx="904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 Cyr"/>
              </a:rPr>
              <a:t>Фотографии с сайта МЧС Росс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http://www.mchs.gov.ru/</a:t>
            </a: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 Cyr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0280" y="547200"/>
            <a:ext cx="7705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4600" spc="-1" strike="noStrike">
                <a:solidFill>
                  <a:srgbClr val="7f6000"/>
                </a:solidFill>
                <a:latin typeface="Calibri Light"/>
              </a:rPr>
              <a:t>Инженерная защита населения и территории это -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9600" y="1992240"/>
            <a:ext cx="9937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Calibri"/>
              </a:rPr>
              <a:t>комплекс организационных и инженерно-технических мероприятий, проводимых заблаговременно, а также в оперативном порядке и направленных на предотвращение или максимальное снижение потерь населения при ЧС мирного и военного времени путем укрытия их в защитных сооружения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F435C1A-9355-4048-B2D1-7CD36EB27C86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0" y="252360"/>
            <a:ext cx="8096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3700" spc="-1" strike="noStrike">
                <a:solidFill>
                  <a:srgbClr val="006600"/>
                </a:solidFill>
                <a:latin typeface="Times New Roman Cyr"/>
              </a:rPr>
              <a:t>1.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62" name="Picture 5" descr="12_2"/>
          <p:cNvPicPr/>
          <p:nvPr/>
        </p:nvPicPr>
        <p:blipFill>
          <a:blip r:embed="rId1"/>
          <a:stretch/>
        </p:blipFill>
        <p:spPr>
          <a:xfrm>
            <a:off x="3114720" y="5059440"/>
            <a:ext cx="4608360" cy="250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3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9BA214A-6EC5-489E-B8A6-E7339233BFC8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06360" y="252360"/>
            <a:ext cx="101584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120" rIns="105120" tIns="52560" bIns="52560" anchor="t">
            <a:spAutoFit/>
          </a:bodyPr>
          <a:p>
            <a:pPr marL="522360" indent="-522360" algn="ctr">
              <a:spcBef>
                <a:spcPts val="181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2900" spc="-1" strike="noStrike">
                <a:solidFill>
                  <a:srgbClr val="9933ff"/>
                </a:solidFill>
                <a:latin typeface="Times New Roman Cyr"/>
              </a:rPr>
              <a:t>Защитное сооружение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 Cyr"/>
              </a:rPr>
              <a:t> – это инженерное сооружение, предназначенное для укрытия людей, техники и имущества от опасностей, возникающих в результате аварий,  катастроф на потенциально опасных объектах либо стихийных бедствий в районе размещения этих объектов, а также воздействия современных средств поражения</a:t>
            </a:r>
            <a:r>
              <a:rPr b="1" lang="ru-RU" sz="2900" spc="-1" strike="noStrike">
                <a:solidFill>
                  <a:srgbClr val="000000"/>
                </a:solidFill>
                <a:latin typeface="Times New Roman Cyr"/>
              </a:rPr>
              <a:t> (ГОСТ Р22.0.02-90)</a:t>
            </a:r>
            <a:endParaRPr b="1" lang="en-US" sz="29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65" name="Picture 3" descr="08_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682720" y="4356000"/>
            <a:ext cx="51944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ru-RU" sz="39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35120" y="2013120"/>
            <a:ext cx="92232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lnSpc>
                <a:spcPct val="90000"/>
              </a:lnSpc>
              <a:spcBef>
                <a:spcPts val="1100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7298F90-81A0-4569-ABDD-9ECBBF3F6E12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69" name="Picture 4" descr="03_1"/>
          <p:cNvPicPr/>
          <p:nvPr/>
        </p:nvPicPr>
        <p:blipFill>
          <a:blip r:embed="rId1"/>
          <a:stretch/>
        </p:blipFill>
        <p:spPr>
          <a:xfrm>
            <a:off x="666720" y="181080"/>
            <a:ext cx="9576000" cy="7181640"/>
          </a:xfrm>
          <a:prstGeom prst="rect">
            <a:avLst/>
          </a:prstGeom>
          <a:ln w="0">
            <a:noFill/>
          </a:ln>
        </p:spPr>
      </p:pic>
      <p:sp>
        <p:nvSpPr>
          <p:cNvPr id="70" name="WordArt 6"/>
          <p:cNvSpPr txBox="1"/>
          <p:nvPr/>
        </p:nvSpPr>
        <p:spPr>
          <a:xfrm>
            <a:off x="593640" y="539640"/>
            <a:ext cx="453708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ие поражающие</a:t>
            </a:r>
            <a:endParaRPr b="1" lang="en-US" sz="37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акторы ОМП</a:t>
            </a:r>
            <a:endParaRPr b="1" lang="en-US" sz="37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 знаете?</a:t>
            </a:r>
            <a:endParaRPr b="1" lang="en-US" sz="37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3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3A3514D-0266-4697-8D6F-579CECAEE46B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174760"/>
            <a:ext cx="108014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120" rIns="105120" tIns="52560" bIns="52560" anchor="t">
            <a:spAutoFit/>
          </a:bodyPr>
          <a:p>
            <a:pPr marL="522360" indent="-522360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46120" y="84240"/>
            <a:ext cx="9683640" cy="516960"/>
          </a:xfrm>
          <a:prstGeom prst="rect">
            <a:avLst/>
          </a:prstGeom>
          <a:noFill/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120" rIns="105120" tIns="52560" bIns="52560" anchor="t">
            <a:spAutoFit/>
          </a:bodyPr>
          <a:p>
            <a:pPr marL="522360" indent="-522360"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9933ff"/>
                </a:solidFill>
                <a:latin typeface="Times New Roman Cyr"/>
              </a:rPr>
              <a:t>Классификация защитных сооружений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38880" y="3613320"/>
            <a:ext cx="209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120" rIns="1051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5527800" y="3613320"/>
            <a:ext cx="209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120" rIns="1051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025640" y="790560"/>
            <a:ext cx="8515080" cy="66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120" rIns="105120" tIns="52560" bIns="5256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imes New Roman Cyr"/>
              </a:rPr>
              <a:t>по назначению: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для укрытия населения;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для размещения органов управления ГО;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imes New Roman Cyr"/>
              </a:rPr>
              <a:t>по защитным свойствам: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убежища; 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противорадиационные укрытия (ПРУ); 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простейшие укрытия;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imes New Roman Cyr"/>
              </a:rPr>
              <a:t>по срокам строительства: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построенными заблаговременно; 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быстровозводимыми;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imes New Roman Cyr"/>
              </a:rPr>
              <a:t>по обеспечению фильтровентиляционным оборудованием: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ЗС, обеспеченные ФВО промышленного изготовления;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ЗС, обеспеченные простейшими ФВО;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imes New Roman Cyr"/>
              </a:rPr>
              <a:t>по вместительности: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малые – до 600 чел.: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средние – от 600 до 2000 чел.;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большие - - свыше 2000 чел..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C1CC54E-9897-4CED-B2C0-D1696D0D60FA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227240" y="345960"/>
            <a:ext cx="8731080" cy="450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120" rIns="105120" tIns="52560" bIns="52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Times New Roman Cyr"/>
              </a:rPr>
              <a:t>Убежищами называются</a:t>
            </a:r>
            <a:r>
              <a:rPr b="1" lang="ru-RU" sz="3200" spc="-1" strike="noStrike">
                <a:solidFill>
                  <a:srgbClr val="000000"/>
                </a:solidFill>
                <a:latin typeface="Times New Roman Cyr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 Cyr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ru-RU" sz="3200" spc="-1" strike="noStrike">
                <a:solidFill>
                  <a:srgbClr val="7f6000"/>
                </a:solidFill>
                <a:latin typeface="Times New Roman Cyr"/>
              </a:rPr>
              <a:t>защитные сооружения герметичного типа, обеспечивающие коллективную защиту укрываемых от воздействия поражающих факторов современного оружия, высоких температур и продуктов горения при пожарах, от ОВ и АХОВ, радиоактивных веществ</a:t>
            </a:r>
            <a:r>
              <a:rPr b="1" lang="ru-RU" sz="3200" spc="-1" strike="noStrike">
                <a:solidFill>
                  <a:srgbClr val="7f6000"/>
                </a:solidFill>
                <a:latin typeface="Times New Roman Cyr"/>
              </a:rPr>
              <a:t> </a:t>
            </a:r>
            <a:r>
              <a:rPr b="0" i="1" lang="ru-RU" sz="3200" spc="-1" strike="noStrike">
                <a:solidFill>
                  <a:srgbClr val="7f6000"/>
                </a:solidFill>
                <a:latin typeface="Times New Roman Cyr"/>
              </a:rPr>
              <a:t>и биологических средств.</a:t>
            </a:r>
            <a:endParaRPr b="1" lang="en-US" sz="3200" spc="-1" strike="noStrike">
              <a:solidFill>
                <a:srgbClr val="000000"/>
              </a:solidFill>
              <a:latin typeface="Times New Roman Cyr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79" name="Picture 5" descr="12_2"/>
          <p:cNvPicPr/>
          <p:nvPr/>
        </p:nvPicPr>
        <p:blipFill>
          <a:blip r:embed="rId1"/>
          <a:stretch/>
        </p:blipFill>
        <p:spPr>
          <a:xfrm>
            <a:off x="3114720" y="5059440"/>
            <a:ext cx="46083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09640" y="252360"/>
            <a:ext cx="90900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2900" spc="-1" strike="noStrike">
                <a:solidFill>
                  <a:srgbClr val="9933ff"/>
                </a:solidFill>
                <a:latin typeface="Calibri Light"/>
              </a:rPr>
              <a:t>Характеристика защитных сооружений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1" name="Object 8"/>
          <p:cNvGraphicFramePr/>
          <p:nvPr/>
        </p:nvGraphicFramePr>
        <p:xfrm>
          <a:off x="1000080" y="669960"/>
          <a:ext cx="8707320" cy="444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669960"/>
                    <a:ext cx="8707320" cy="44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8FBBB78-9540-423E-99C9-F448F4EF95C8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84" name="Picture 10" descr="02_2"/>
          <p:cNvPicPr/>
          <p:nvPr/>
        </p:nvPicPr>
        <p:blipFill>
          <a:blip r:embed="rId3"/>
          <a:stretch/>
        </p:blipFill>
        <p:spPr>
          <a:xfrm>
            <a:off x="227160" y="5065560"/>
            <a:ext cx="5905440" cy="235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01"/>
          <p:cNvPicPr/>
          <p:nvPr/>
        </p:nvPicPr>
        <p:blipFill>
          <a:blip r:embed="rId4"/>
          <a:stretch/>
        </p:blipFill>
        <p:spPr>
          <a:xfrm>
            <a:off x="6251400" y="4900680"/>
            <a:ext cx="432144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0" y="5580000"/>
            <a:ext cx="10693440" cy="198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e4e4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ис. Схема убежища для длительной защиты от воздействия оружия массового пораж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защитно-герметические двери;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шлюзовые камеры;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санитарно-бытовые помещения;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помещение для укрываемых;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галерея и оголовок аварийного выход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фильтровентиляционные камеры (отсеки);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медицинская комнат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кладовая для продуктов;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дизельная электростан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7E3FEF4-3D06-42AD-B822-4DF3F168F116}" type="slidenum">
              <a:rPr b="1" lang="ru-RU" sz="16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16:48:58Z</dcterms:created>
  <dc:creator>Кузьмин Александр</dc:creator>
  <dc:description/>
  <dc:language>en-US</dc:language>
  <cp:lastModifiedBy>Пользователь</cp:lastModifiedBy>
  <dcterms:modified xsi:type="dcterms:W3CDTF">2022-02-15T09:46:03Z</dcterms:modified>
  <cp:revision>171</cp:revision>
  <dc:subject/>
  <dc:title>Академия гражданской защиты МЧС   России</dc:title>
</cp:coreProperties>
</file>