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3.wmf" ContentType="image/x-wmf"/>
  <Override PartName="/ppt/media/image18.jpeg" ContentType="image/jpeg"/>
  <Override PartName="/ppt/media/image27.gif" ContentType="image/gif"/>
  <Override PartName="/ppt/media/image22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15.jpeg" ContentType="image/jpeg"/>
  <Override PartName="/ppt/media/image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F6D-33E4-482D-91EE-2A1F66E1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808-E776-45A6-BC62-B23938E3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BF3-1C8A-4BE3-9981-56CB260E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F44-9CED-4A61-B471-D099DEC6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7698-32A6-459D-B877-13ED028E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6726-E8C5-4477-9C11-232CA56B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C53A-D72B-4E6B-9907-5E3F0550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EE19-6B75-4F80-B6E5-D508F40C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F741-2CCF-4F60-9E94-4F325BE6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5C19-D932-4FE7-B35C-0AAE0342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C6B8-BD17-43C7-A5F1-ECE1907B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F0E-B140-4CCB-A111-53DC0C54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84DC-3141-40B4-B52A-4A881EC6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5C7F-0934-4F8D-9FAA-C9079809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DAB5-402D-4089-9ED4-47700544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5F9E-35AF-4B6A-BC01-8B50E8AA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996A-4B0B-42DB-BE5B-D5A9027B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1F2-B510-4564-815F-9AE9883A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843-AA97-4271-9530-26F497F7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420-2190-4316-BBD4-8DCBEF88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20B-B3D8-4D90-BAAE-47C4D158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04A-75C1-4749-BF9C-00E4E3DF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344-E915-4AFA-8F5F-9805C513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7A3-9921-45A7-ABAB-A2C00C9B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6CF1-AC12-449F-A209-5B760B6AEC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D8F8-B7C4-425A-8422-BBB6A72315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685440"/>
            <a:ext cx="84960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999900"/>
                </a:solidFill>
                <a:latin typeface="Garamond"/>
              </a:rPr>
              <a:t>Пожарная безопасность. Правила личной безопасности при пожаре.  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920" y="3499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00"/>
                </a:solidFill>
                <a:latin typeface="Verdana"/>
              </a:rPr>
              <a:t>ОБ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00"/>
                </a:solidFill>
                <a:latin typeface="Verdana"/>
              </a:rPr>
              <a:t>11 клас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j0346565"/>
          <p:cNvPicPr/>
          <p:nvPr/>
        </p:nvPicPr>
        <p:blipFill>
          <a:blip r:embed="rId1"/>
          <a:stretch/>
        </p:blipFill>
        <p:spPr>
          <a:xfrm>
            <a:off x="93600" y="3473280"/>
            <a:ext cx="2070000" cy="18464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93" name="Picture 6" descr="11[1]%20copy"/>
          <p:cNvPicPr/>
          <p:nvPr/>
        </p:nvPicPr>
        <p:blipFill>
          <a:blip r:embed="rId2"/>
          <a:stretch/>
        </p:blipFill>
        <p:spPr>
          <a:xfrm>
            <a:off x="6777000" y="3287880"/>
            <a:ext cx="2043000" cy="221616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18000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Гор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ru-RU" sz="2800" spc="-1" strike="noStrike" u="sng">
                <a:solidFill>
                  <a:srgbClr val="003366"/>
                </a:solidFill>
                <a:uFillTx/>
                <a:latin typeface="Verdana"/>
              </a:rPr>
              <a:t>это реакция окисления</a:t>
            </a:r>
            <a:r>
              <a:rPr b="0" i="1" lang="ru-RU" sz="2800" spc="-1" strike="noStrike">
                <a:solidFill>
                  <a:srgbClr val="003366"/>
                </a:solidFill>
                <a:latin typeface="Verdana"/>
              </a:rPr>
              <a:t>, сопровождающаяся интенсивным выделением теплоты и св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50920" y="2060640"/>
            <a:ext cx="8642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Verdana"/>
              </a:rPr>
              <a:t>Пожар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- это </a:t>
            </a: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Verdana"/>
              </a:rPr>
              <a:t>неконтролируемый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, быстропротекающий при высокой температуре </a:t>
            </a: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Verdana"/>
              </a:rPr>
              <a:t>химический процесс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, сопровождающийся выделением большого количества теплоты, уничтожающий материальные ценности и создающий опасность для жизни людей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Как правило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, пожар возникает из-за </a:t>
            </a: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Verdana"/>
              </a:rPr>
              <a:t>несоблюдения мер предосторожности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 при работе с огнём и нарушения правил противопожарной безопасности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6" descr="j0346565"/>
          <p:cNvPicPr/>
          <p:nvPr/>
        </p:nvPicPr>
        <p:blipFill>
          <a:blip r:embed="rId1"/>
          <a:stretch/>
        </p:blipFill>
        <p:spPr>
          <a:xfrm>
            <a:off x="7812000" y="3357720"/>
            <a:ext cx="1009800" cy="9000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pozh_1"/>
          <p:cNvPicPr/>
          <p:nvPr/>
        </p:nvPicPr>
        <p:blipFill>
          <a:blip r:embed="rId1"/>
          <a:stretch/>
        </p:blipFill>
        <p:spPr>
          <a:xfrm>
            <a:off x="324000" y="189000"/>
            <a:ext cx="4208400" cy="597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pozh_2"/>
          <p:cNvPicPr/>
          <p:nvPr/>
        </p:nvPicPr>
        <p:blipFill>
          <a:blip r:embed="rId2"/>
          <a:stretch/>
        </p:blipFill>
        <p:spPr>
          <a:xfrm>
            <a:off x="4716360" y="189000"/>
            <a:ext cx="432144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pozh_4"/>
          <p:cNvPicPr/>
          <p:nvPr/>
        </p:nvPicPr>
        <p:blipFill>
          <a:blip r:embed="rId1"/>
          <a:stretch/>
        </p:blipFill>
        <p:spPr>
          <a:xfrm>
            <a:off x="633240" y="333360"/>
            <a:ext cx="3749760" cy="532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pozh_3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859280" y="333360"/>
            <a:ext cx="4022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11280" y="4759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Причины пожаров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8" name="Picture 3" descr="37921"/>
          <p:cNvPicPr/>
          <p:nvPr/>
        </p:nvPicPr>
        <p:blipFill>
          <a:blip r:embed="rId1"/>
          <a:stretch/>
        </p:blipFill>
        <p:spPr>
          <a:xfrm>
            <a:off x="324000" y="620640"/>
            <a:ext cx="3816360" cy="36324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29" name="Picture 4" descr="36462"/>
          <p:cNvPicPr/>
          <p:nvPr/>
        </p:nvPicPr>
        <p:blipFill>
          <a:blip r:embed="rId2"/>
          <a:stretch/>
        </p:blipFill>
        <p:spPr>
          <a:xfrm>
            <a:off x="4211640" y="2133720"/>
            <a:ext cx="4680000" cy="41446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30" name="Picture 5" descr="j0346565"/>
          <p:cNvPicPr/>
          <p:nvPr/>
        </p:nvPicPr>
        <p:blipFill>
          <a:blip r:embed="rId3"/>
          <a:stretch/>
        </p:blipFill>
        <p:spPr>
          <a:xfrm>
            <a:off x="1116000" y="4508640"/>
            <a:ext cx="2232000" cy="19904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348000" y="189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чины пожаро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3" descr="35246"/>
          <p:cNvPicPr/>
          <p:nvPr/>
        </p:nvPicPr>
        <p:blipFill>
          <a:blip r:embed="rId1"/>
          <a:stretch/>
        </p:blipFill>
        <p:spPr>
          <a:xfrm>
            <a:off x="395280" y="901800"/>
            <a:ext cx="3375000" cy="54007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33" name="Picture 4" descr="24755"/>
          <p:cNvPicPr/>
          <p:nvPr/>
        </p:nvPicPr>
        <p:blipFill>
          <a:blip r:embed="rId2"/>
          <a:stretch/>
        </p:blipFill>
        <p:spPr>
          <a:xfrm>
            <a:off x="4067280" y="907920"/>
            <a:ext cx="4565520" cy="52578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Основными причинами пожаров  являются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41749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Verdana"/>
              </a:rPr>
              <a:t>- неосторожное обращение с огнём, курение  и приготовление пищи </a:t>
            </a:r>
            <a:r>
              <a:rPr b="1" i="1" lang="ru-RU" sz="1600" spc="-1" strike="noStrike" u="sng">
                <a:solidFill>
                  <a:srgbClr val="800000"/>
                </a:solidFill>
                <a:uFillTx/>
                <a:latin typeface="Verdana"/>
              </a:rPr>
              <a:t>– более 40%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Verdana"/>
              </a:rPr>
              <a:t>- аварийная работа электробытовых приборов – </a:t>
            </a:r>
            <a:r>
              <a:rPr b="1" i="1" lang="ru-RU" sz="1600" spc="-1" strike="noStrike" u="sng">
                <a:solidFill>
                  <a:srgbClr val="003366"/>
                </a:solidFill>
                <a:uFillTx/>
                <a:latin typeface="Verdana"/>
              </a:rPr>
              <a:t>более 20%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- шалость детей с огнём – </a:t>
            </a:r>
            <a:r>
              <a:rPr b="1" i="1" lang="ru-RU" sz="1600" spc="-1" strike="noStrike" u="sng">
                <a:solidFill>
                  <a:srgbClr val="666600"/>
                </a:solidFill>
                <a:uFillTx/>
                <a:latin typeface="Verdana"/>
              </a:rPr>
              <a:t>около 10%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Verdana"/>
              </a:rPr>
              <a:t>- проведение электрогазосварочных  и ремонтных работ – </a:t>
            </a:r>
            <a:r>
              <a:rPr b="1" i="1" lang="ru-RU" sz="1600" spc="-1" strike="noStrike" u="sng">
                <a:solidFill>
                  <a:srgbClr val="800000"/>
                </a:solidFill>
                <a:uFillTx/>
                <a:latin typeface="Verdana"/>
              </a:rPr>
              <a:t>около 10%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Verdana"/>
              </a:rPr>
              <a:t>- деятельность коммерческих структур, размещающих свои взрывопожароопасные производства – </a:t>
            </a:r>
            <a:r>
              <a:rPr b="1" i="1" lang="ru-RU" sz="1600" spc="-1" strike="noStrike" u="sng">
                <a:solidFill>
                  <a:srgbClr val="003366"/>
                </a:solidFill>
                <a:uFillTx/>
                <a:latin typeface="Verdana"/>
              </a:rPr>
              <a:t>примерно 10%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Плакат2"/>
          <p:cNvPicPr/>
          <p:nvPr/>
        </p:nvPicPr>
        <p:blipFill>
          <a:blip r:embed="rId1"/>
          <a:stretch/>
        </p:blipFill>
        <p:spPr>
          <a:xfrm>
            <a:off x="4703760" y="1628640"/>
            <a:ext cx="3776760" cy="22798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37" name="Picture 5" descr="Плакат2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716360" y="4149720"/>
            <a:ext cx="3743280" cy="22208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9900"/>
                </a:solidFill>
                <a:uFillTx/>
                <a:latin typeface="Garamond"/>
              </a:rPr>
              <a:t>При обнаружении пожара или признаков горения</a:t>
            </a: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 (задымление, запах гари, повышение температуры и т.д.) необходимо: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800000"/>
                </a:solidFill>
                <a:uFillTx/>
                <a:latin typeface="Verdana"/>
              </a:rPr>
              <a:t>незамедлительно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Verdana"/>
              </a:rPr>
              <a:t> </a:t>
            </a:r>
            <a:r>
              <a:rPr b="0" i="1" lang="ru-RU" sz="2800" spc="-1" strike="noStrike" u="sng">
                <a:solidFill>
                  <a:srgbClr val="800000"/>
                </a:solidFill>
                <a:uFillTx/>
                <a:latin typeface="Verdana"/>
              </a:rPr>
              <a:t>сообщить</a:t>
            </a:r>
            <a:r>
              <a:rPr b="0" i="1" lang="ru-RU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об этом в пожарную охрану, при этом назвать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1.  адрес объек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2.  место возникновения пожар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3.  сообщить свою фамилию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i="1" lang="ru-RU" sz="2800" spc="-1" strike="noStrike" u="sng">
                <a:solidFill>
                  <a:srgbClr val="800000"/>
                </a:solidFill>
                <a:uFillTx/>
                <a:latin typeface="Verdana"/>
              </a:rPr>
              <a:t>принять меры по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1.  эвакуации люд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2.  тушению пожара (по возможност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3.  сохранности материальных ценност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j0346565"/>
          <p:cNvPicPr/>
          <p:nvPr/>
        </p:nvPicPr>
        <p:blipFill>
          <a:blip r:embed="rId1"/>
          <a:stretch/>
        </p:blipFill>
        <p:spPr>
          <a:xfrm>
            <a:off x="7451640" y="3357720"/>
            <a:ext cx="1224000" cy="10918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5"/>
          <p:cNvGrpSpPr/>
          <p:nvPr/>
        </p:nvGrpSpPr>
        <p:grpSpPr>
          <a:xfrm>
            <a:off x="1403280" y="333360"/>
            <a:ext cx="6702480" cy="980640"/>
            <a:chOff x="1403280" y="333360"/>
            <a:chExt cx="6702480" cy="980640"/>
          </a:xfrm>
        </p:grpSpPr>
        <p:sp>
          <p:nvSpPr>
            <p:cNvPr id="142" name="Rectangle 6"/>
            <p:cNvSpPr/>
            <p:nvPr/>
          </p:nvSpPr>
          <p:spPr>
            <a:xfrm>
              <a:off x="1403280" y="333360"/>
              <a:ext cx="6702480" cy="980640"/>
            </a:xfrm>
            <a:prstGeom prst="rect">
              <a:avLst/>
            </a:prstGeom>
            <a:solidFill>
              <a:srgbClr val="ffe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1422360" y="660240"/>
              <a:ext cx="6683040" cy="326520"/>
            </a:xfrm>
            <a:prstGeom prst="rect">
              <a:avLst/>
            </a:prstGeom>
            <a:solidFill>
              <a:srgbClr val="d9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4" name="Picture 8" descr="Плакат 7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4"/>
          <p:cNvGraphicFramePr/>
          <p:nvPr/>
        </p:nvGraphicFramePr>
        <p:xfrm>
          <a:off x="250920" y="115920"/>
          <a:ext cx="889308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5920"/>
                    <a:ext cx="88930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0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Verdana"/>
              </a:rPr>
              <a:t> </a:t>
            </a:r>
            <a:r>
              <a:rPr b="1" lang="ru-RU" sz="4400" spc="-1" strike="noStrike">
                <a:solidFill>
                  <a:srgbClr val="990000"/>
                </a:solidFill>
                <a:latin typeface="Verdana"/>
              </a:rPr>
              <a:t>Помните, что пожар намного легче предупредить, чем потушить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1258920" y="4221000"/>
            <a:ext cx="6680160" cy="1603440"/>
            <a:chOff x="1258920" y="4221000"/>
            <a:chExt cx="6680160" cy="1603440"/>
          </a:xfrm>
        </p:grpSpPr>
        <p:pic>
          <p:nvPicPr>
            <p:cNvPr id="149" name="Picture 4" descr="Плакат1"/>
            <p:cNvPicPr/>
            <p:nvPr/>
          </p:nvPicPr>
          <p:blipFill>
            <a:blip r:embed="rId1"/>
            <a:stretch/>
          </p:blipFill>
          <p:spPr>
            <a:xfrm>
              <a:off x="1258920" y="4221000"/>
              <a:ext cx="28573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5" descr="Плакат1"/>
            <p:cNvPicPr/>
            <p:nvPr/>
          </p:nvPicPr>
          <p:blipFill>
            <a:blip r:embed="rId2"/>
            <a:stretch/>
          </p:blipFill>
          <p:spPr>
            <a:xfrm>
              <a:off x="4116240" y="4221000"/>
              <a:ext cx="18288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6" descr="Плакат1"/>
            <p:cNvPicPr/>
            <p:nvPr/>
          </p:nvPicPr>
          <p:blipFill>
            <a:blip r:embed="rId3"/>
            <a:stretch/>
          </p:blipFill>
          <p:spPr>
            <a:xfrm>
              <a:off x="5945400" y="4221000"/>
              <a:ext cx="1993680" cy="160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Учебные цели: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комить обучаемых с историей создания пожарной безопасности в Росс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вести до учащихся основные причины возникновения пожара и общие  действия населения при обнаружении пожар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ить с учащимися правила поведения при пожаре в различных условия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5" descr="untitled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5805360"/>
            <a:ext cx="8569440" cy="9414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3. ПАМЯТКА УЧАЩИМСЯ ПО СОБЛЮДЕНИЮ ПРАВИЛ ПОЖАРНОЙ БЕЗОПАСНОСТ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Если ты почувствовал запах дыма или увидел огонь, сразу позвони пожарным. Если огонь тебе не угрожает, сделать это можно с домашнего телефона. В других случаях лучше сразу покинуть квартиру, а затем вызвать пожарных по телефону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01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. 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Обязательно сообщи о пожаре взрослым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По телефону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ты должен точно назвать пожарным свой адрес: улицу, дом, квартиру. Чётко произнеси свои имя и фамилию. Если сможешь, объясни, что именно горит. Постарайся говорить спокойно и не торопяс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Постарайся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ответить на все вопросы оператора - как лучше подъехать к твоему дому, какой код домофона и т. д. Знай: в это время опытные люди уже спешат к тебе на помощь. А всю дополнительную информацию пожарная команда получит от оператора по р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Помни: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любая твоя информация поможет специалистам быстрее справиться с огнем, оператор не задаст тебе ни одного лишнего вопроса.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j0346565"/>
          <p:cNvPicPr/>
          <p:nvPr/>
        </p:nvPicPr>
        <p:blipFill>
          <a:blip r:embed="rId1"/>
          <a:stretch/>
        </p:blipFill>
        <p:spPr>
          <a:xfrm>
            <a:off x="7740720" y="907920"/>
            <a:ext cx="755640" cy="6746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55" name="Picture 5" descr="image003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00000" y="836640"/>
            <a:ext cx="6476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785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  </a:t>
            </a: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Выходя из горящего помещения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, плотно закрой за собой все двери, чтобы задержать распространение огня на 10-15 минут - этого времени достаточно, чтобы дом смогли покинуть твои родные и сосед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Помни: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от твоих первых действий зависит, насколько быстро будет распространяться дым и огонь по подъез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ЗНАЙ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: вызов пожарной команды просто так, из шалости или любопытства, не только отвлечёт спасателей от настоящего происшествия, но и будет иметь весьма неприятные последств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Заведомо ложный вызов пожарных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 (так же, как и милиции, "скорой помощи", других специальных служб) является нарушением закона и наказывается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штрафом, который придётся заплатить твоим родителя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4" descr="j0346565"/>
          <p:cNvPicPr/>
          <p:nvPr/>
        </p:nvPicPr>
        <p:blipFill>
          <a:blip r:embed="rId1"/>
          <a:stretch/>
        </p:blipFill>
        <p:spPr>
          <a:xfrm>
            <a:off x="4284720" y="5589720"/>
            <a:ext cx="1042920" cy="9302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aramond"/>
              </a:rPr>
              <a:t>Недопустимо:</a:t>
            </a:r>
            <a:r>
              <a:rPr b="0" lang="ru-RU" sz="4400" spc="-1" strike="noStrike">
                <a:solidFill>
                  <a:srgbClr val="800000"/>
                </a:solidFill>
                <a:latin typeface="Garamond"/>
              </a:rPr>
              <a:t> 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 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бороться с огнем самостоятельно, не вызвав пожарны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гасить водой воспламенившиеся электроприборы, не отключив от электросети (можно получить удар током!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открывать окна и двери, чтобы выпустить дым (горение усилится из-за притока воздуха!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пользоваться лифтом, если пламенем охвачена уже значительная площадь (можно застрять и задохнуться!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пытаться выйти через задымленный коридор или лестницу (дым токсичен, горячий воздух может обжечь легкие!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опускаться по водосточным трубам и стоякам с помощью простыней и веревок (падение почти всегда неизбежно!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прыгать из окна (выше 3-го этажа каждый второй прыжок смертелен!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0716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Garamond"/>
              </a:rPr>
              <a:t>Права и обязанности граждан</a:t>
            </a:r>
            <a:r>
              <a:rPr b="1" lang="ru-RU" sz="3200" spc="-1" strike="noStrike" u="sng">
                <a:solidFill>
                  <a:srgbClr val="999900"/>
                </a:solidFill>
                <a:uFillTx/>
                <a:latin typeface="Garamond"/>
              </a:rPr>
              <a:t> в области пожарной безопасности (</a:t>
            </a: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глава 5                  ФЗ «О пожарной безопасности» </a:t>
            </a:r>
            <a:r>
              <a:rPr b="1" lang="ru-RU" sz="3200" spc="-1" strike="noStrike" u="sng">
                <a:solidFill>
                  <a:srgbClr val="999900"/>
                </a:solidFill>
                <a:uFillTx/>
                <a:latin typeface="Garamond"/>
              </a:rPr>
              <a:t>ст.37</a:t>
            </a: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Verdana"/>
              </a:rPr>
              <a:t>Граждане имеют право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защиту</a:t>
            </a: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 их жизни, здоровья и имущества в случае пожар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возмещение</a:t>
            </a: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 ущерба причиненного пожар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участие</a:t>
            </a: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 в установлении причин пожара, нанесшего ущерб их здоровью и имуществ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получение </a:t>
            </a: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информации по вопросам пожарной безопас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участие</a:t>
            </a: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 в пожарной безопас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66"/>
                </a:solidFill>
                <a:uFillTx/>
                <a:latin typeface="Garamond"/>
              </a:rPr>
              <a:t>Граждане обязаны</a:t>
            </a:r>
            <a:r>
              <a:rPr b="1" lang="ru-RU" sz="4000" spc="-1" strike="noStrike" u="sng">
                <a:solidFill>
                  <a:srgbClr val="999900"/>
                </a:solidFill>
                <a:uFillTx/>
                <a:latin typeface="Garamond"/>
              </a:rPr>
              <a:t> </a:t>
            </a:r>
            <a:r>
              <a:rPr b="1" lang="ru-RU" sz="3200" spc="-1" strike="noStrike" u="sng">
                <a:solidFill>
                  <a:srgbClr val="999900"/>
                </a:solidFill>
                <a:uFillTx/>
                <a:latin typeface="Garamond"/>
              </a:rPr>
              <a:t>(</a:t>
            </a: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глава 5                  ФЗ «О пожарной безопасности» </a:t>
            </a:r>
            <a:r>
              <a:rPr b="1" lang="ru-RU" sz="3200" spc="-1" strike="noStrike" u="sng">
                <a:solidFill>
                  <a:srgbClr val="999900"/>
                </a:solidFill>
                <a:uFillTx/>
                <a:latin typeface="Garamond"/>
              </a:rPr>
              <a:t>ст.37</a:t>
            </a: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)</a:t>
            </a:r>
            <a:r>
              <a:rPr b="1" lang="ru-RU" sz="4000" spc="-1" strike="noStrike" u="sng">
                <a:solidFill>
                  <a:srgbClr val="999900"/>
                </a:solidFill>
                <a:uFillTx/>
                <a:latin typeface="Garamond"/>
              </a:rPr>
              <a:t> 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соблюдать</a:t>
            </a: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требования пожарной безопас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иметь</a:t>
            </a: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в  помещениях и строениях, находящихся в их собственности (пользовании) первичные средства тушения пожаров и противопожарный инвентарь в соответствии с правилами пожарной безопас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при обнаружении пожара немедленно </a:t>
            </a: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уведомить</a:t>
            </a: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об этом пожарную охран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до прибытия пожарной охраны </a:t>
            </a: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принимать</a:t>
            </a: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посильные меры по спасению людей, имущества и тушению пожар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выполнять</a:t>
            </a: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предписания, постановления и иные законодательные требования должностных лиц пожарной охра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предоставлять</a:t>
            </a: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в порядке, установленном законодательством РФ возможность должностным лицам пожарной охраны проводить обследования и проверки по вопросам общественной пожарной безопасно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Вопросы для закрепления: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Знаешь ли ты пути эвакуации из класса? Допустим, мы находимся: 1) в актовом зале, 2) в кабинете химии на третьем этаж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Что нужно сделать, если человек оказался в зоне пожара, и на нём загорелась одежда? Ваши действия по порядку. Объяснить, на чём они основа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ак оказать первую помощь человеку, получившему термический ожог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озникло возгорание спирта на твоём рабочем столе при выполнении практической работы по химии. Твои действия, как потушить пролитый горящий спирт. А как вообще правильно пользоваться спиртовкой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1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Вопросы для самостоятельной работы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1000" y="14126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Что  такое пожа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еречислите все возможные средства тушения пожар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Каковы должны быть ваши действия, если из работающего телевизора или из какого-то другого электроприбора пошёл дым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Чем нельзя тушить электропроводку под напряжением? Почему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Как быть, если загорелся пролитый возле гаража бензин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Как правильно вызвать пожарную команду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Что делать при сильном задымлении квартиры едким густым дымом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Что необходимо предпринять, если произошла утечка газа в квартире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441360" y="5805360"/>
            <a:ext cx="84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машнее задание: § 1-2 учебника ОБЖ 11 класс, стр. 6-17. Выполнить задание на стр. 10 с помощью интернета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-387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Литература по теме: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75240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едеральный закон РФ «О пожарной безопасности» от 21 декабря 1994 года., № 69-ФЗ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авила пожарной безопасности в Российской Федерации ППБ 01-0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авила пожарной безопасности для общеобразовательных школ, профессионально- технических училищ, школ-интернатов, детских домов, дошкольных, внешкольных и других учебно-воспитательных учреждений. ППБ 101-8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ПБ 104-03 «Системы оповещения и управления эвакуацией людей при пожарах в зданиях и сооружениях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нПиН 2.4.2.1178-02, санитарно-эпидемиологические правила и нормативы «Гигиенические требования к условиям обучения в общеобразовательных учреждениях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.С.Савельев «Пожары - катастрофы», Москва, Стройиздат., 1983 год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.С.Ложкин «Пожарная безопасность школ и внешкольных учебных заведений», издательство «Безопасность труда и жизни»., 2007 год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.Б.Карницкий и др. «Огнёвщики», г. Ростов-на-Дону, издательский центр «Комплекс»., 1998 год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ы безопасности жизнедеятельности. Академический школьный учебник под редакцией А.Т.Смирнова, Москва, «Просвещение», 2015 го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Учебные вопросы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Пожарная безопасность. История пожарной безопас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Правила личной безопасности при пожа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Памятка учащимся по соблюдению правил пожарной безопас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picture"/>
          <p:cNvPicPr/>
          <p:nvPr/>
        </p:nvPicPr>
        <p:blipFill>
          <a:blip r:embed="rId1"/>
          <a:stretch/>
        </p:blipFill>
        <p:spPr>
          <a:xfrm>
            <a:off x="324000" y="4221000"/>
            <a:ext cx="8569080" cy="2482920"/>
          </a:xfrm>
          <a:prstGeom prst="rect">
            <a:avLst/>
          </a:prstGeom>
          <a:ln w="9360">
            <a:solidFill>
              <a:srgbClr val="800000"/>
            </a:solidFill>
            <a:round/>
          </a:ln>
        </p:spPr>
      </p:pic>
      <p:sp>
        <p:nvSpPr>
          <p:cNvPr id="100" name="Text Box 7"/>
          <p:cNvSpPr/>
          <p:nvPr/>
        </p:nvSpPr>
        <p:spPr>
          <a:xfrm>
            <a:off x="395280" y="4365720"/>
            <a:ext cx="8569440" cy="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Verdana"/>
              </a:rPr>
              <a:t>Управление государственной противопожарной службы Ростовской области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Пожарная безопасность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21.12.1994 года Президентом РФ был подписан федеральный закон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«О пожарной безопасности»,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 который определяет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бщие правовые, экономические и социальные основы обеспечения пожарной безопасности в Российской Федер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регулирует в этой области отношения между органами государственной власти, органами местного самоуправления, учреждениями, организациями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24000" y="5516640"/>
            <a:ext cx="85690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ПОЖАРНАЯ БЕЗОПАСНОСТЬ –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состояние защищённости личности, имущества, общества и государства от пожаров.</a:t>
            </a: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189000"/>
            <a:ext cx="9431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1вопрос. Пожарная безопасность. История пожарной безопасности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4319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казом Екатерины-II от 15 декабря 1763 года в Петербурге учреждается пожарная коман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782 году по царскому указу в штат каждой полицейской части города Петербурга вводится брандмейстер или огнегасительный масте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вывоза пожарного инвентаря при полицейских частях имелись специальные пожарные лошад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picture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716360" y="333360"/>
            <a:ext cx="4248360" cy="619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4 июля 1803 года впервые в России организуется профессиональная пожарная охран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863 году Московский машиностроительный завод Листа начал выпускать паровые пожарные насосы с конной тягой. Завод изготовлял также и центробежные насос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7 апреля 1918 года Председатель Совета народных Комиссаров РСФСР подписал Декрет "Об организации государственных мер борьбы с огнем"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788000" y="115920"/>
            <a:ext cx="4248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>
            <a:lum contrast="-24000"/>
          </a:blip>
          <a:stretch/>
        </p:blipFill>
        <p:spPr>
          <a:xfrm rot="5400000">
            <a:off x="2373840" y="-781920"/>
            <a:ext cx="3817800" cy="5613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611280" y="3933720"/>
            <a:ext cx="7846920" cy="2485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 концу 1927 года на вооружении пожарной охраны страны насчитывалось уже около 400 пожарных автомобилей. Организовалось массовое производство ручных пожарных насосов и огнетушителей.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1994 году Государственной Думой принимается Федеральный закон "О пожарной безопасности" N69-ФЗ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День пожарной охраны отмечается ежегодно 30 апреля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395280" y="0"/>
            <a:ext cx="4757760" cy="67420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3196800" y="188280"/>
            <a:ext cx="47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етровская пожарная часть в наши дни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364000" y="1484280"/>
            <a:ext cx="352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Вывод: 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Несмотря на то, что за многие годы пожарная безопасность в России достигла больших результатов в своём развитии, в настоящее время продолжается поиск новых путей защиты от пожаров и способов их тушения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2-й учебный вопрос.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Garamond"/>
              </a:rPr>
              <a:t>«Правила поведения при пожаре».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тистика пожаров по России показывает, что более 70% пожаров происходит в жилье и в местах с массовым пребыванием людей.  Здесь же гибель и травматизм людей от дыма и огня составляет 9 случаев из 1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324000" y="4508640"/>
            <a:ext cx="8568720" cy="2232000"/>
            <a:chOff x="324000" y="4508640"/>
            <a:chExt cx="8568720" cy="2232000"/>
          </a:xfrm>
        </p:grpSpPr>
        <p:pic>
          <p:nvPicPr>
            <p:cNvPr id="117" name="Picture 5" descr="Плакат1"/>
            <p:cNvPicPr/>
            <p:nvPr/>
          </p:nvPicPr>
          <p:blipFill>
            <a:blip r:embed="rId1"/>
            <a:stretch/>
          </p:blipFill>
          <p:spPr>
            <a:xfrm>
              <a:off x="324000" y="4508640"/>
              <a:ext cx="3665520" cy="222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6" descr="Плакат1"/>
            <p:cNvPicPr/>
            <p:nvPr/>
          </p:nvPicPr>
          <p:blipFill>
            <a:blip r:embed="rId2"/>
            <a:stretch/>
          </p:blipFill>
          <p:spPr>
            <a:xfrm>
              <a:off x="3989520" y="4508640"/>
              <a:ext cx="2345760" cy="222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7" descr="Плакат1"/>
            <p:cNvPicPr/>
            <p:nvPr/>
          </p:nvPicPr>
          <p:blipFill>
            <a:blip r:embed="rId3"/>
            <a:stretch/>
          </p:blipFill>
          <p:spPr>
            <a:xfrm>
              <a:off x="6335280" y="4508640"/>
              <a:ext cx="2557440" cy="223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1:00:47Z</dcterms:created>
  <dc:creator>Admin</dc:creator>
  <dc:description/>
  <dc:language>en-US</dc:language>
  <cp:lastModifiedBy>Пользователь</cp:lastModifiedBy>
  <dcterms:modified xsi:type="dcterms:W3CDTF">2022-02-15T09:46:34Z</dcterms:modified>
  <cp:revision>140</cp:revision>
  <dc:subject/>
  <dc:title>Слайд 1</dc:title>
</cp:coreProperties>
</file>