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gif" ContentType="image/gif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9.png" ContentType="image/png"/>
  <Override PartName="/ppt/media/image29.gif" ContentType="image/gif"/>
  <Override PartName="/ppt/media/image14.png" ContentType="image/png"/>
  <Override PartName="/ppt/media/image11.gif" ContentType="image/gif"/>
  <Override PartName="/ppt/media/image13.gif" ContentType="image/gif"/>
  <Override PartName="/ppt/media/image16.png" ContentType="image/png"/>
  <Override PartName="/ppt/media/image30.png" ContentType="image/png"/>
  <Override PartName="/ppt/media/image5.png" ContentType="image/png"/>
  <Override PartName="/ppt/media/image18.png" ContentType="image/png"/>
  <Override PartName="/ppt/media/image25.gif" ContentType="image/gif"/>
  <Override PartName="/ppt/media/image33.gif" ContentType="image/gif"/>
  <Override PartName="/ppt/media/image15.png" ContentType="image/png"/>
  <Override PartName="/ppt/media/image12.gif" ContentType="image/gif"/>
  <Override PartName="/ppt/media/image35.gif" ContentType="image/gif"/>
  <Override PartName="/ppt/media/image36.gif" ContentType="image/gif"/>
  <Override PartName="/ppt/media/image31.jpeg" ContentType="image/jpeg"/>
  <Override PartName="/ppt/media/image38.gif" ContentType="image/gif"/>
  <Override PartName="/ppt/media/image7.png" ContentType="image/png"/>
  <Override PartName="/ppt/media/image27.gif" ContentType="image/gif"/>
  <Override PartName="/ppt/media/image4.gif" ContentType="image/gif"/>
  <Override PartName="/ppt/media/image34.gif" ContentType="image/gif"/>
  <Override PartName="/ppt/media/image10.png" ContentType="image/png"/>
  <Override PartName="/ppt/media/image2.gif" ContentType="image/gif"/>
  <Override PartName="/ppt/media/image32.gif" ContentType="image/gif"/>
  <Override PartName="/ppt/media/image8.png" ContentType="image/png"/>
  <Override PartName="/ppt/media/image28.gif" ContentType="image/gif"/>
  <Override PartName="/ppt/media/image3.wmf" ContentType="image/x-wmf"/>
  <Override PartName="/ppt/media/image37.gif" ContentType="image/gif"/>
  <Override PartName="/ppt/media/image6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87D-F23E-4A29-AA52-5511A536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B22-EF75-430B-ACA9-2DAF26D7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FC5-1208-4309-8E5A-752C6987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15A-E9F4-495C-BF37-79D4ED8F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A7684-EB36-4BAA-AA68-11C503F4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46E24-8E47-4E95-947B-C6531FFA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B6327-E6C8-4489-AB87-CF75F9C5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FBEE0-05FA-439E-965F-690DD6DC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B5929-B99C-4716-8035-4EC454A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C4A66-8C63-41CB-83F4-950BFE50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C57F3-7578-4A71-8E84-CA8E2887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23D-D0DE-487C-A4EA-F776D86D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A4D36-CDF2-4022-A67F-127EB8FD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58860-7FF4-4398-97AA-51CD12C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D2281-9629-4071-93B9-C78574FC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4C4A1-AC77-4600-A4DD-728133C6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4F103-D5B5-497B-AA71-09A85528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B23-1B4F-4212-B400-C2B0B21F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55B-8AAD-421D-B4FB-8F407E6C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1E7-9366-4E10-911A-9CADB9DB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8CE-F702-4FA5-9114-A6F43DD0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8B0-D080-447B-A4A5-1C30402D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B54-AC88-4085-928C-964872A8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C53-57E1-4CF8-84B3-35CA772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FA8F-E172-4A6C-B911-9D9A7486C6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907F-F2E8-4AFB-A09A-7570153F3F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258920" y="620640"/>
            <a:ext cx="6985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емлетрясения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3780000" y="4005360"/>
            <a:ext cx="49719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риал к уроку по ОБЖ</a:t>
            </a:r>
            <a:endParaRPr b="0" lang="en-US" sz="1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7 классе</a:t>
            </a:r>
            <a:endParaRPr b="0" lang="en-US" sz="1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5640" cy="718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-ти бальная сейсмическая шкала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981000"/>
          <a:ext cx="8229600" cy="5516640"/>
        </p:xfrm>
        <a:graphic>
          <a:graphicData uri="http://schemas.openxmlformats.org/drawingml/2006/table">
            <a:tbl>
              <a:tblPr/>
              <a:tblGrid>
                <a:gridCol w="503280"/>
                <a:gridCol w="3095640"/>
                <a:gridCol w="46306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землетряс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ая 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замет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мечается только сейсмическими прибор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слаб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щущается отдельными людьми в состоянии поко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б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щущается лишь небольшой частью насе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гкое дребезжание и колебание предметов, посу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вольно си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ясение зданий, мебели, трещины стен, ок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щущают все, все падает, откалывается штукатур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силь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щины в стенах каменных дом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ушитель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щины в сырой почве, опрокидываются памят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устошитель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ое повреждение и разрушение каменных дом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ничтожающе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олзни, обвалы, разрушение каменных построек, ж.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астроф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рокие трещины в земле, много оползней, обва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ая катастроф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 сооружения разрушены, возникли водопады, отклонения течения рек, в почве огромные трещ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75520" cy="896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00"/>
                </a:solidFill>
                <a:latin typeface="Arial"/>
              </a:rPr>
              <a:t>Краткая характеристика землетрясения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6516720" y="4005360"/>
            <a:ext cx="2293920" cy="2592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3635280" y="2133720"/>
            <a:ext cx="2521080" cy="3255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Условно землетрясения подразделяются на</a:t>
            </a:r>
            <a:r>
              <a:rPr b="1" lang="ru-RU" sz="1600" spc="-1" strike="noStrike">
                <a:solidFill>
                  <a:srgbClr val="808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8000"/>
                </a:solidFill>
                <a:uFillTx/>
                <a:latin typeface="Arial"/>
              </a:rPr>
              <a:t>слабые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( 1 – 4 балл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8000"/>
                </a:solidFill>
                <a:uFillTx/>
                <a:latin typeface="Arial"/>
              </a:rPr>
              <a:t>сильные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( 5 – 7 балл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8000"/>
                </a:solidFill>
                <a:uFillTx/>
                <a:latin typeface="Arial"/>
              </a:rPr>
              <a:t>разрушительные </a:t>
            </a:r>
            <a:r>
              <a:rPr b="1" i="1" lang="ru-RU" sz="1600" spc="-1" strike="noStrike">
                <a:solidFill>
                  <a:srgbClr val="808000"/>
                </a:solidFill>
                <a:latin typeface="Arial"/>
              </a:rPr>
              <a:t>( 8 и более балл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659640" y="3573360"/>
            <a:ext cx="208764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0b05"/>
                </a:solidFill>
                <a:latin typeface="Arial"/>
              </a:rPr>
              <a:t>Нефтегорск. 1995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24000" y="1413000"/>
            <a:ext cx="3025800" cy="50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При землетрясениях лопаются и вылетают стекла, качаются люстры, в стенах появляются трещины, появляется запах газа.   Все это сопровождается оглушительным шум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После 10 – 20 секунд тряски подземные толчки усиливаются, в результате чего происходят разрушения зданий и сооруж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Всего десяток сильных сотрясений разрушает все зда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В среднем землетрясение  длится 5 – 20 секун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При землетрясении в г. Нефте- горске Сахалинской области под обломками разрушенного города погибло около 2 тыс.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6443640" y="1413000"/>
            <a:ext cx="2381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2440" cy="67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Поражающие факторы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2889360" cy="40352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3780000" y="1125360"/>
            <a:ext cx="5113080" cy="41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Основные опасности для жизни и здоровья людей созда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в результате разрушения (обрушения) строительных конструкций зданий и сооруж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и разрушениях на потенциально-опасных объектах, нефтепродукто- и газопровод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и разломах земной к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и образовании завал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при разрушении систем жизнеобеспе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835280" y="5300640"/>
            <a:ext cx="5976720" cy="1372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Arial"/>
              </a:rPr>
              <a:t>7 декабря 1988 года сильное землетрясение произошло в Армении, одной из республик СССР. Землетрясение имело магнитуду около 7 по шкале Рихтера. Полностью был стерт с лица земли город Спитак, располагавшийся в непосредственной близости от эпицентра землетрясения. Более 80% жилого фонда было разрушено в Ленинакан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859880" cy="752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3. Последствия землетрясений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39640" y="1125360"/>
            <a:ext cx="7705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Их нужно хорошо знать, чтобы быть готовым действовать при возникновении угрозы землетрясения, во время него и в последующий период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5280" y="1484280"/>
            <a:ext cx="835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4000" y="1849320"/>
          <a:ext cx="8157960" cy="4999320"/>
        </p:xfrm>
        <a:graphic>
          <a:graphicData uri="http://schemas.openxmlformats.org/drawingml/2006/table">
            <a:tbl>
              <a:tblPr/>
              <a:tblGrid>
                <a:gridCol w="2671560"/>
                <a:gridCol w="2743200"/>
                <a:gridCol w="2743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риродные последствия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92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Последствия для городов и населенных</a:t>
                      </a:r>
                      <a:r>
                        <a:rPr b="1" lang="ru-RU" sz="28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пунктов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c1427"/>
                          </a:solidFill>
                          <a:latin typeface="Arial"/>
                        </a:rPr>
                        <a:t>Последствия для человека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92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Трещины в почве, сотрясения почвы, толчки, провалы земной поверхности и морского дна, активизация вулканов, возникновение селей, оползней, обвалов, камнепадов, на море образование цунами, выход подземных газов, беспокойное поведение животных, реки могут поменять свои русл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6f92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Рушатся жилые дома, про изводственные здания и постройки, линии электропередач и газопроводы, что ведет к пожарам и взрывам. Могут происходить аварии на предприятиях, на АЭС, химически опасных объектах, прорывы плотин ГЭС, аварии на транспорте, объектах жизнеобеспечения, что может привести к эпидемия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c1427"/>
                          </a:solidFill>
                          <a:latin typeface="Arial"/>
                        </a:rPr>
                        <a:t>При сильных землетрясениях- травмы (ушибы, перело- мы, порезы, сдавливания), а также гибель людей. Люди могут гибнуть  по неосторожности, из-за паники, неумелого оказания помощи (само- помощи). Многие испытывают психичес-  кие потрясения и рас-  стройства, теряют работоспособнос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ПОМНИ: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 ТЯЖЕЛЫЕ ПОСЛЕДСТВИЯ ЛЕГЧЕ ПЕРЕНОСЯТ 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те люди, которые хорошо знают о перечисленных возможных бедах, психологически готовы к ним, твердо знают правила поведения до и после землетрясения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225600" cy="2438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1042920" y="4797360"/>
            <a:ext cx="14400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1427"/>
                </a:solidFill>
                <a:latin typeface="Arial"/>
              </a:rPr>
              <a:t>Перу, 1970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780000" y="2133720"/>
            <a:ext cx="51130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мая 1970 года в Перу произошло сильное землетрясение с магнитудой М=7.8 по шкале Рихтера. Это была величайшая сейсмическая катастрофа в Западном полуша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Землетрясением оказалась охвачена территория размером 100 тысяч кв.км. Эпицентр находился в 25 км от берега к западу от Чимботе - морского порта с населением около 120 тысяч жителей. Человеческих жертв в Чимботе, к cчастью, было сравнительно немного: как только начались толчки, люди выбежали на улицы, погибло 500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3124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755640" y="3500280"/>
            <a:ext cx="18003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ССР, 1966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24000" y="4005360"/>
            <a:ext cx="8280360" cy="26542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63416"/>
                </a:solidFill>
                <a:latin typeface="Arial"/>
              </a:rPr>
              <a:t>25 апреля 1966 года произошло землетрясение в городе Ташкент (СССР). Магнитуда землетрясения была небольшая, всего 5.3 по шкале Рихтера. Поскольку здания строились без учета сейсмической обстановки в этом районе, город был настолько разрушен, что его пришлось строить почти зан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643280" y="620640"/>
            <a:ext cx="4032360" cy="2562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Число жертв зависит не только и не столько от силы землетрясения (интенсивности колебаний на поверхности), сколько от плотности населения в пораженной местности, сейсмостойкости построек, оперативности спасательных работ и других факто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91520" cy="679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416"/>
                </a:solidFill>
                <a:latin typeface="Arial"/>
              </a:rPr>
              <a:t>Говорят очевидцы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11280" y="119700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т как очевидец описывает землетрясение: "Земля вздрогнула; ее первая судорога длилась почти 10 секунд: треск и скрип оконных рам, звон стекол, грохот падающих лестниц разбудили спящих… Как бумажный разрывался потолок… в темноте все казалось падало. Земля глухо гудела… Вздрогнув и пошатываясь, здания наклонялись, по их белым стенам, как молнии, змеились трещины, и стены рассыпались, заваливая улицы и людей среди них тяжелыми грудами острых кусков камня…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84360" y="4005360"/>
            <a:ext cx="7920000" cy="201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ногда наблюдаются земные волны в буквальном смысле слова: волны движутся по земле как по озеру. Они особенно опасны. Они раскалывают строения, встряхивая их так, что рушатся даже прочные стены. В городских районах здания вибрируют настолько сильно, что распадаются на части. При этом часто возникают пожары, так как разрушаются газовые магистрали и происходят замыкания в электрических цеп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4. Рекомендации по правилам безопасного поведения при землетрясении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003640" y="4591080"/>
            <a:ext cx="3670560" cy="22669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539640" y="1484280"/>
            <a:ext cx="8064720" cy="283824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16"/>
                </a:solidFill>
                <a:latin typeface="Arial"/>
              </a:rPr>
              <a:t>Когда произойдет землетрясение, земля будет ощутимо сотрясаться в течение довольно короткого времени - быть может всего несколько секунд, а при сильном землетрясении - до минуты. Сотрясения могут Вас испугать, однако у вас нет другого выхода, как дождаться их окончания. Если вы будете действовать спокойно и продуманно, то увеличите свои шансы уберечься. Кроме того, ваше спокойствие передастся окружающим вас людям и поможет им успокои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68360" y="4581360"/>
            <a:ext cx="4103640" cy="1067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3416"/>
                </a:solidFill>
                <a:latin typeface="Arial"/>
              </a:rPr>
              <a:t>В первые часы и дни в зоне землетрясения будет ощущаться нехватка воды и пищи, медикаментов, теплой одежды, мест для ночлег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39640" y="6093000"/>
            <a:ext cx="42483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Да! Человек пока слаб перед силами природы. Но не беспомощен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67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ак подготовиться к землетрясению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6" name="Picture 4" descr="j0236272"/>
          <p:cNvPicPr/>
          <p:nvPr/>
        </p:nvPicPr>
        <p:blipFill>
          <a:blip r:embed="rId1"/>
          <a:stretch/>
        </p:blipFill>
        <p:spPr>
          <a:xfrm>
            <a:off x="7667640" y="544500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236251"/>
          <p:cNvPicPr/>
          <p:nvPr/>
        </p:nvPicPr>
        <p:blipFill>
          <a:blip r:embed="rId2"/>
          <a:stretch/>
        </p:blipFill>
        <p:spPr>
          <a:xfrm>
            <a:off x="324000" y="5300640"/>
            <a:ext cx="1295280" cy="1200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1979640" y="1125360"/>
            <a:ext cx="475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Заранее продумайте план своих дей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835280" y="1557360"/>
            <a:ext cx="5184720" cy="5806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Держите в удобном месте документы, деньги, карманный фонарик и запасные батарей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619280" y="2349360"/>
            <a:ext cx="54007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мейте дома запас питьевой воды и консервов в расчете на несколько дн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58920" y="3068640"/>
            <a:ext cx="748836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Уберите кровати от окон и наружных стен. Закрепите шкафы, полки и стеллажи, с верхних полок снимите тяжелые предме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332000" y="3789360"/>
            <a:ext cx="7634160" cy="824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Все жильцы должны знать, где отключается электроэнергия, где находятся газовые и водопроводные краны, чтобы в случае необходимости отключить электричество, газ и во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2050920" y="5157720"/>
            <a:ext cx="54723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Опасные вещества (ядохимикаты, горючие жидкости) храните в надежном, хорошо изолированном мес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8440" cy="752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1427"/>
                </a:solidFill>
                <a:latin typeface="Arial"/>
              </a:rPr>
              <a:t>Как действовать во время землетрясени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5" name="Picture 4" descr="j0283205"/>
          <p:cNvPicPr/>
          <p:nvPr/>
        </p:nvPicPr>
        <p:blipFill>
          <a:blip r:embed="rId1"/>
          <a:stretch/>
        </p:blipFill>
        <p:spPr>
          <a:xfrm>
            <a:off x="6804000" y="4859280"/>
            <a:ext cx="2043000" cy="199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285261"/>
          <p:cNvPicPr/>
          <p:nvPr/>
        </p:nvPicPr>
        <p:blipFill>
          <a:blip r:embed="rId2"/>
          <a:stretch/>
        </p:blipFill>
        <p:spPr>
          <a:xfrm>
            <a:off x="0" y="4365720"/>
            <a:ext cx="1711440" cy="2217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468360" y="1052640"/>
            <a:ext cx="8207280" cy="5806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ставьте себя хранить спокойствие и не делать ничего, что может дезорганизовать окружающих (не кричите и не мечитесь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68360" y="1773360"/>
            <a:ext cx="8351640" cy="1554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Если вы находитесь в помещении, немедленно перейдите в безопасное место. Спрячьтесь, если возможно, под письменный или обеденный стол. Станьте в проеме внутренней двери или в углу комнаты. Оберегайтесь от падающих обломков или тяжелой мебели. Стойте дальше от окон и тяжелых предметов (станков, холодильников), которые могут опрокинуться или сдвинуться с мес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95280" y="3500280"/>
            <a:ext cx="8497800" cy="1067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Общее правило - не выбегайте из здания. Падающие рядом со зданием обломки представляют наибольшую опасность. Лучше искать спасения там, где вы находитесь, дождаться конца землетрясения и затем спокойно покинуть помещение, если это необходи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547640" y="4869000"/>
            <a:ext cx="5040360" cy="1310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Если вы находитесь в высоком здании, не бросайтесь к лестнице или лифту. Выходы скорее всего будут забиты толпой, а лифты по большей части прекращают работу. Ищите спасение там, где вы находите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зучаемые вопрос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13" descr="j0219082"/>
          <p:cNvPicPr/>
          <p:nvPr/>
        </p:nvPicPr>
        <p:blipFill>
          <a:blip r:embed="rId1"/>
          <a:stretch/>
        </p:blipFill>
        <p:spPr>
          <a:xfrm>
            <a:off x="7675560" y="2565360"/>
            <a:ext cx="1101600" cy="111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j0232138"/>
          <p:cNvPicPr/>
          <p:nvPr/>
        </p:nvPicPr>
        <p:blipFill>
          <a:blip r:embed="rId2"/>
          <a:stretch/>
        </p:blipFill>
        <p:spPr>
          <a:xfrm>
            <a:off x="395280" y="4941720"/>
            <a:ext cx="1932120" cy="1608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6"/>
          <p:cNvSpPr/>
          <p:nvPr/>
        </p:nvSpPr>
        <p:spPr>
          <a:xfrm>
            <a:off x="1258920" y="1557360"/>
            <a:ext cx="61196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схождение землетряс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.  Основные параметры землетряс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  Последствия землетряс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  Рекомендации по правилам безопасного поведения во время землетряс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1" descr="j0254488"/>
          <p:cNvPicPr/>
          <p:nvPr/>
        </p:nvPicPr>
        <p:blipFill>
          <a:blip r:embed="rId3"/>
          <a:stretch/>
        </p:blipFill>
        <p:spPr>
          <a:xfrm>
            <a:off x="4067280" y="4508640"/>
            <a:ext cx="186516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j0285311"/>
          <p:cNvPicPr/>
          <p:nvPr/>
        </p:nvPicPr>
        <p:blipFill>
          <a:blip r:embed="rId1"/>
          <a:stretch/>
        </p:blipFill>
        <p:spPr>
          <a:xfrm>
            <a:off x="7142040" y="4437000"/>
            <a:ext cx="2001960" cy="2421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j0283780"/>
          <p:cNvPicPr/>
          <p:nvPr/>
        </p:nvPicPr>
        <p:blipFill>
          <a:blip r:embed="rId2"/>
          <a:stretch/>
        </p:blipFill>
        <p:spPr>
          <a:xfrm>
            <a:off x="179280" y="5013360"/>
            <a:ext cx="1200240" cy="12970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95280" y="260280"/>
            <a:ext cx="820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24000" y="0"/>
            <a:ext cx="8569080" cy="1067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е пугайтесь, если выключат электричество или если начнут звонить сигналы тревоги лифтов, противопожарных установок или охранных систем, либо включатся противопожарные распылители воды; будьте готовы услышать звон бьющейся посуды, треск стен, грохот падающих предме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24000" y="1268280"/>
            <a:ext cx="8569080" cy="106740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Если вы находитесь в несейсмостойком кирпичном доме или другой небезопасной постройке, вы можете решить, что лучше оставить помещение, чем находиться внутри. В таком случае выбегайте быстро, но осторожно, уберегаясь от падающих кирпичей, оборвавшихся проводов и других источников опас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24000" y="2781360"/>
            <a:ext cx="8640720" cy="1797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Если вы проходите рядом с высоким зданием, станьте в дверной проем, чтобы уберечься от падающих облом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Если вы находитесь вне помещения, постарайтесь выйти на открытое пространство, удалившись от зданий и линий электропереда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Если вы едете в автомобиле, спокойно остановитесь по возможности вдали от высоких зданий, путепроводов и мостов. Оставайтесь в машине до прекращения колеб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403280" y="4797360"/>
            <a:ext cx="5905440" cy="824040"/>
          </a:xfrm>
          <a:prstGeom prst="rect">
            <a:avLst/>
          </a:prstGeom>
          <a:solidFill>
            <a:srgbClr val="e3e3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Не удивляйтесь, если вы почувствуете новые толчки. После первого сильного толчка может наступить временное затишье, а затем новый толч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692360" y="6021360"/>
            <a:ext cx="5473440" cy="580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1427"/>
                </a:solidFill>
                <a:latin typeface="Arial"/>
              </a:rPr>
              <a:t>Не пользуйтесь свечками, спичками, зажигалками – при утечке газа возможен взрыв и пожар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075520" cy="67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ак действовать после землетрясени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667560" y="5276880"/>
            <a:ext cx="2476440" cy="1581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468360" y="981000"/>
            <a:ext cx="8064360" cy="580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Окажите первую медицинскую помощь нуждающимся. Освободите попавших в легкоустранимые завал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68360" y="1628640"/>
            <a:ext cx="8209080" cy="5806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Будьте осторожны! Подчиняйтесь указаниям местных властей, штаба по ликвидации последствий стихийного бедств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468360" y="2349360"/>
            <a:ext cx="8351640" cy="58068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Будьте готовы к сильным повторным толчкам, т. к. наиболее опасны первые 2 – 3 часа после землетряс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95280" y="3068640"/>
            <a:ext cx="8497800" cy="5806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0b05"/>
                </a:solidFill>
                <a:latin typeface="Arial"/>
              </a:rPr>
              <a:t>Если вы оказались в завале, спокойно оцените обстановку, по возможности окажите себе медицинскую помощ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24000" y="3860640"/>
            <a:ext cx="8640720" cy="580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е отчаивайся, не плачь и не бойся. Может быть, через несколько часов, а вероятнее, через несколько дней тебя обязательно найдут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4000" y="4653000"/>
            <a:ext cx="85690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Экономь силы и не трать их попусту. Покричи или постучи по стене, по трубам, если услышишь голоса. Зажигать огонь нельзя, воду из бочка унитаза можно пить, а трубы и батарее можно использовать для подачи сигн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24000" y="5661000"/>
            <a:ext cx="6048360" cy="106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1427"/>
                </a:solidFill>
                <a:latin typeface="Arial"/>
              </a:rPr>
              <a:t>Главный фактор выживания – это ты, твоя подготовленность, спокойствие, сообразительность и терпение!  Человек может обходиться без пищи более полумесяц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679320"/>
          </a:xfrm>
          <a:prstGeom prst="rect">
            <a:avLst/>
          </a:prstGeom>
          <a:solidFill>
            <a:srgbClr val="ffffff"/>
          </a:solidFill>
          <a:ln w="9360">
            <a:solidFill>
              <a:srgbClr val="e3e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Бывают ли землетрясения на Луне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9" name="Picture 4" descr="j0182769"/>
          <p:cNvPicPr/>
          <p:nvPr/>
        </p:nvPicPr>
        <p:blipFill>
          <a:blip r:embed="rId1"/>
          <a:stretch/>
        </p:blipFill>
        <p:spPr>
          <a:xfrm>
            <a:off x="324000" y="3789360"/>
            <a:ext cx="1984320" cy="2500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j0219080"/>
          <p:cNvPicPr/>
          <p:nvPr/>
        </p:nvPicPr>
        <p:blipFill>
          <a:blip r:embed="rId2"/>
          <a:stretch/>
        </p:blipFill>
        <p:spPr>
          <a:xfrm>
            <a:off x="324000" y="112536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j0303441"/>
          <p:cNvPicPr/>
          <p:nvPr/>
        </p:nvPicPr>
        <p:blipFill>
          <a:blip r:embed="rId3"/>
          <a:stretch/>
        </p:blipFill>
        <p:spPr>
          <a:xfrm>
            <a:off x="7407360" y="4653000"/>
            <a:ext cx="1736640" cy="15508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2771640" y="119700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лунный сейсмограф был установлен американцами в 1969 г. Сейчас имеются свидетельства десятков лунотрясений, исходящих из ее недр, не говоря о десятков сотрясений от метеоритных ударов и ударов рак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2627280" y="4724280"/>
            <a:ext cx="42498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Еще больше загадок таят в себе Марс и Венера. На этих планетах, как оказалось, тоже происходят сотряс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9" descr="j0219072"/>
          <p:cNvPicPr/>
          <p:nvPr/>
        </p:nvPicPr>
        <p:blipFill>
          <a:blip r:embed="rId4"/>
          <a:stretch/>
        </p:blipFill>
        <p:spPr>
          <a:xfrm>
            <a:off x="7164360" y="2781360"/>
            <a:ext cx="1173240" cy="118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j0219073"/>
          <p:cNvPicPr/>
          <p:nvPr/>
        </p:nvPicPr>
        <p:blipFill>
          <a:blip r:embed="rId5"/>
          <a:stretch/>
        </p:blipFill>
        <p:spPr>
          <a:xfrm>
            <a:off x="7097760" y="1268280"/>
            <a:ext cx="11746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62800" cy="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опросы для контрол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50920" y="1413000"/>
            <a:ext cx="1511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Что тако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484360" y="1125360"/>
            <a:ext cx="1727280" cy="39888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эпицентр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340000" y="3284640"/>
            <a:ext cx="2087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16"/>
                </a:solidFill>
                <a:latin typeface="Arial"/>
              </a:rPr>
              <a:t>сейсмолог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411280" y="2565360"/>
            <a:ext cx="20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3416"/>
                </a:solidFill>
                <a:latin typeface="Arial"/>
              </a:rPr>
              <a:t>сейсмограф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484360" y="1773360"/>
            <a:ext cx="20178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магниту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2340000" y="4149720"/>
            <a:ext cx="2521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шкала Рихтер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292720" y="1268280"/>
            <a:ext cx="3311640" cy="43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Ответь на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акие последствия землетрясений видны на фото и рисунках на стр. 33 – 39 учебника ОБЖ (7 класс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акие воздействия землетрясения и их последствия оказывают на здоровье и психику челове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1" descr="j0189224"/>
          <p:cNvPicPr/>
          <p:nvPr/>
        </p:nvPicPr>
        <p:blipFill>
          <a:blip r:embed="rId1"/>
          <a:stretch/>
        </p:blipFill>
        <p:spPr>
          <a:xfrm>
            <a:off x="250920" y="4941720"/>
            <a:ext cx="2307960" cy="1698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j0234762"/>
          <p:cNvPicPr/>
          <p:nvPr/>
        </p:nvPicPr>
        <p:blipFill>
          <a:blip r:embed="rId2"/>
          <a:stretch/>
        </p:blipFill>
        <p:spPr>
          <a:xfrm>
            <a:off x="2843280" y="4941720"/>
            <a:ext cx="1573200" cy="1689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j0219109"/>
          <p:cNvPicPr/>
          <p:nvPr/>
        </p:nvPicPr>
        <p:blipFill>
          <a:blip r:embed="rId3"/>
          <a:stretch/>
        </p:blipFill>
        <p:spPr>
          <a:xfrm>
            <a:off x="179280" y="2349360"/>
            <a:ext cx="194472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67932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Литература</a:t>
            </a: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Ж, учебник 7 класс, Москва, издательство АСТ, 2005-2010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иблиотечка по защите населения в чрезвычайных ситуациях природного характера. Выпуск 1, Москва, Папирус, 199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нциклопедия для детей. Геология. Том 4, Москва, «Аванта+», 1995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щита населения и территорий от чрезвычайных ситуаций природного и техногенного характера .Поражающие факторы. МЧС России. Москва, 199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62800" cy="67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Сколько землетрясений в год происходит на земле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181908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2476440" cy="158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3"/>
          <a:stretch/>
        </p:blipFill>
        <p:spPr>
          <a:xfrm>
            <a:off x="6659640" y="3429000"/>
            <a:ext cx="1554120" cy="2171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4"/>
          <a:stretch/>
        </p:blipFill>
        <p:spPr>
          <a:xfrm>
            <a:off x="6084720" y="1557360"/>
            <a:ext cx="2467080" cy="1676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"/>
          <p:cNvPicPr/>
          <p:nvPr/>
        </p:nvPicPr>
        <p:blipFill>
          <a:blip r:embed="rId5"/>
          <a:stretch/>
        </p:blipFill>
        <p:spPr>
          <a:xfrm>
            <a:off x="3276720" y="3573360"/>
            <a:ext cx="2381040" cy="196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"/>
          <p:cNvPicPr/>
          <p:nvPr/>
        </p:nvPicPr>
        <p:blipFill>
          <a:blip r:embed="rId6"/>
          <a:stretch/>
        </p:blipFill>
        <p:spPr>
          <a:xfrm>
            <a:off x="324000" y="3573360"/>
            <a:ext cx="2438280" cy="1866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1042920" y="5661000"/>
            <a:ext cx="7416720" cy="95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Ежегодно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приборами регистрируется </a:t>
            </a: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около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100 тыс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. слабых толч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Сильных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землетрясений происходит </a:t>
            </a: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в год около 100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по всему земному шар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Сильнейшие землетрясения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 сотрясают планету приблизительно </a:t>
            </a:r>
            <a:r>
              <a:rPr b="1" lang="ru-RU" sz="1400" spc="-1" strike="noStrike" u="sng">
                <a:solidFill>
                  <a:srgbClr val="463416"/>
                </a:solidFill>
                <a:uFillTx/>
                <a:latin typeface="Arial"/>
              </a:rPr>
              <a:t>1 раз в 10 лет</a:t>
            </a: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0ea18"/>
                </a:solidFill>
                <a:uFillTx/>
                <a:latin typeface="Arial"/>
              </a:rPr>
              <a:t>Землетрясение</a:t>
            </a:r>
            <a:r>
              <a:rPr b="1" i="1" lang="ru-RU" sz="2800" spc="-1" strike="noStrike">
                <a:solidFill>
                  <a:srgbClr val="e0ea18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e3e3ff"/>
                </a:solidFill>
                <a:latin typeface="Arial"/>
              </a:rPr>
              <a:t>–</a:t>
            </a:r>
            <a:r>
              <a:rPr b="0" i="1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3e3ff"/>
                </a:solidFill>
                <a:latin typeface="Arial"/>
              </a:rPr>
              <a:t>подземные колебания и толчки в результате сейсмических волн и подвижек определенных участков земной коры.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e0ea18"/>
                </a:solidFill>
                <a:uFillTx/>
                <a:latin typeface="Arial"/>
              </a:rPr>
              <a:t>Проявление</a:t>
            </a:r>
            <a:r>
              <a:rPr b="1" i="1" lang="ru-RU" sz="2400" spc="-1" strike="noStrike">
                <a:solidFill>
                  <a:srgbClr val="e0ea18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e3e3ff"/>
                </a:solidFill>
                <a:latin typeface="Arial"/>
              </a:rPr>
              <a:t>колебание земли, образование трещин, обвалы, оползни, сели и.д.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e0ea18"/>
                </a:solidFill>
                <a:uFillTx/>
                <a:latin typeface="Arial"/>
              </a:rPr>
              <a:t>Землетрясения</a:t>
            </a:r>
            <a:r>
              <a:rPr b="1" i="1" lang="ru-RU" sz="2400" spc="-1" strike="noStrike" u="sng">
                <a:solidFill>
                  <a:srgbClr val="e3e3ff"/>
                </a:solidFill>
                <a:uFillTx/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e3e3ff"/>
                </a:solidFill>
                <a:latin typeface="Arial"/>
              </a:rPr>
              <a:t>занимают первое место в ряду стихийных бедствий по человеческим жертвам и ущербу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7" descr="j0219079"/>
          <p:cNvPicPr/>
          <p:nvPr/>
        </p:nvPicPr>
        <p:blipFill>
          <a:blip r:embed="rId1"/>
          <a:stretch/>
        </p:blipFill>
        <p:spPr>
          <a:xfrm>
            <a:off x="0" y="0"/>
            <a:ext cx="2100240" cy="2130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0" descr="j0219083"/>
          <p:cNvPicPr/>
          <p:nvPr/>
        </p:nvPicPr>
        <p:blipFill>
          <a:blip r:embed="rId2"/>
          <a:stretch/>
        </p:blipFill>
        <p:spPr>
          <a:xfrm>
            <a:off x="7667640" y="476280"/>
            <a:ext cx="1054080" cy="1068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1"/>
          <p:cNvSpPr/>
          <p:nvPr/>
        </p:nvSpPr>
        <p:spPr>
          <a:xfrm>
            <a:off x="1692360" y="765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e0ea18"/>
                </a:solidFill>
                <a:latin typeface="Arial"/>
              </a:rPr>
              <a:t>1. Происхождение землетряс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f929"/>
                </a:solidFill>
                <a:latin typeface="Arial"/>
              </a:rPr>
              <a:t>Причины землетрясений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звержения вулк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рушения подземных пустот и руд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адения космических т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тественные глубинные тектонические процессы (изменения) в земной коре (главная причина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дерные взрывы большой мощ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292720" y="1557360"/>
            <a:ext cx="3240000" cy="64260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463416"/>
                </a:solidFill>
                <a:uFillTx/>
                <a:latin typeface="Arial"/>
              </a:rPr>
              <a:t>«Сейсмос»</a:t>
            </a:r>
            <a:r>
              <a:rPr b="1" i="1" lang="ru-RU" sz="1800" spc="-1" strike="noStrike">
                <a:solidFill>
                  <a:srgbClr val="463416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463416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463416"/>
                </a:solidFill>
                <a:latin typeface="Arial"/>
              </a:rPr>
              <a:t>по–гречески землетряс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292720" y="2492280"/>
            <a:ext cx="3024360" cy="64260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b05"/>
                </a:solidFill>
                <a:uFillTx/>
                <a:latin typeface="Arial"/>
              </a:rPr>
              <a:t>Сейсмология </a:t>
            </a:r>
            <a:r>
              <a:rPr b="1" i="1" lang="ru-RU" sz="1800" spc="-1" strike="noStrike">
                <a:solidFill>
                  <a:srgbClr val="0f0b05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f0b05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f0b05"/>
                </a:solidFill>
                <a:latin typeface="Arial"/>
              </a:rPr>
              <a:t>наука о землетряс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364000" y="4724280"/>
            <a:ext cx="3240360" cy="119124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пицентр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часток поверхности Земли, находящийся  над очагом землетряс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j0223736"/>
          <p:cNvPicPr/>
          <p:nvPr/>
        </p:nvPicPr>
        <p:blipFill>
          <a:blip r:embed="rId1"/>
          <a:stretch/>
        </p:blipFill>
        <p:spPr>
          <a:xfrm>
            <a:off x="7308720" y="620640"/>
            <a:ext cx="1333800" cy="743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5364000" y="3357720"/>
            <a:ext cx="3095640" cy="916920"/>
          </a:xfrm>
          <a:prstGeom prst="rect">
            <a:avLst/>
          </a:prstGeom>
          <a:solidFill>
            <a:srgbClr val="d6f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f0b05"/>
                </a:solidFill>
                <a:uFillTx/>
                <a:latin typeface="Arial"/>
              </a:rPr>
              <a:t>Сейсмограф </a:t>
            </a:r>
            <a:r>
              <a:rPr b="1" i="1" lang="ru-RU" sz="1800" spc="-1" strike="noStrike">
                <a:solidFill>
                  <a:srgbClr val="0f0b05"/>
                </a:solidFill>
                <a:latin typeface="Arial"/>
              </a:rPr>
              <a:t>– прибор, регистрирующий землетряс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Сейсмическое районирование России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Можно ли предсказывать землетрясения?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68360" y="155736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и прогноза пока нет, она разрабатывается, но отдельные успешные опыты прогнозирования  уже име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3438720" cy="2641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672000" y="3213000"/>
            <a:ext cx="54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йсмограф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наружения и регистрации всех типов сейсмических волн используются специальные приборы - сейсмографы. В наше время это сложные электронные устройства. У современных сейсмографов были свои предшественники. Первый сейсмограф появился в 132 г. в Кита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5076720" y="1916280"/>
            <a:ext cx="36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 землетрясением могут неспокойно вести себя животные, птицы, лаять соба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3e3ff"/>
                </a:solidFill>
                <a:latin typeface="Arial"/>
              </a:rPr>
              <a:t>Природа землетряс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24000" y="1413000"/>
            <a:ext cx="7704000" cy="173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Сейсмические вол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и землетрясении в очаге частицы горных пород перемещаются, колеблются. Они толкают, колеблют соседние частицы, которые передают колебания еще дальше в виде акустической волны. Акустические волны, которые возникают при землетрясении, называются сейсмически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24000" y="3860640"/>
            <a:ext cx="5473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3416"/>
                </a:solidFill>
                <a:latin typeface="Arial"/>
              </a:rPr>
              <a:t>Верхнюю часть земной коры составляют около десятка огромных блоков - тектонических плит. Эти плиты перемещаются под воздействием конвекционных течений, поднимающихся из высокотемпературной мантии. Одни плиты двигаются навстречу друг другу (как, например, в районе Красного мор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0" descr=""/>
          <p:cNvPicPr/>
          <p:nvPr/>
        </p:nvPicPr>
        <p:blipFill>
          <a:blip r:embed="rId1"/>
          <a:stretch/>
        </p:blipFill>
        <p:spPr>
          <a:xfrm>
            <a:off x="5580000" y="3559320"/>
            <a:ext cx="356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859880" cy="752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2.Основные параметры землетряс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5267520" cy="2878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95280" y="1484280"/>
            <a:ext cx="5184720" cy="2167920"/>
          </a:xfrm>
          <a:prstGeom prst="rect">
            <a:avLst/>
          </a:prstGeom>
          <a:solidFill>
            <a:srgbClr val="e3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Мерой общей энергии сейсмических волн служит </a:t>
            </a:r>
            <a:r>
              <a:rPr b="1" i="1" lang="ru-RU" sz="1600" spc="-1" strike="noStrike" u="sng">
                <a:solidFill>
                  <a:srgbClr val="663300"/>
                </a:solidFill>
                <a:uFillTx/>
                <a:latin typeface="Arial"/>
              </a:rPr>
              <a:t>магнитуда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землетрясения – условное число М, зависящее от максимальной амплитуды смещения частиц почв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Чем больше амплитуда смещения частиц почвы, фиксируемая сейсмографом, тем больше количество выделившейся энергии и тем больше магниту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96000" y="996840"/>
            <a:ext cx="2952720" cy="5866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Существует специальная шкала оценки магнитуд –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шкала Рихт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Сила землетрясения оценивается в баллах (от1 до 12)</a:t>
            </a:r>
            <a:r>
              <a:rPr b="1" i="1" lang="en-US" sz="1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по международной сейсмической шкале М</a:t>
            </a:r>
            <a:r>
              <a:rPr b="1" i="1" lang="en-US" sz="1800" spc="-1" strike="noStrike">
                <a:solidFill>
                  <a:srgbClr val="808000"/>
                </a:solidFill>
                <a:latin typeface="Arial"/>
              </a:rPr>
              <a:t>S</a:t>
            </a:r>
            <a:r>
              <a:rPr b="1" i="1" lang="ru-RU" sz="1800" spc="-1" strike="noStrike">
                <a:solidFill>
                  <a:srgbClr val="808000"/>
                </a:solidFill>
                <a:latin typeface="Arial"/>
              </a:rPr>
              <a:t>К -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Баллы не являются физическими единицами, но служат для удобства определения силы землетрясения по внешним признакам: воздействие на людей, предметы, строения, природные объек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31:27Z</dcterms:created>
  <dc:creator>wlad</dc:creator>
  <dc:description/>
  <dc:language>en-US</dc:language>
  <cp:lastModifiedBy>Пользователь</cp:lastModifiedBy>
  <dcterms:modified xsi:type="dcterms:W3CDTF">2022-02-15T09:47:00Z</dcterms:modified>
  <cp:revision>103</cp:revision>
  <dc:subject/>
  <dc:title>Слайд 1</dc:title>
</cp:coreProperties>
</file>