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gif" ContentType="image/gif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6ED-8CC7-4FD7-BE3F-A61C9D1B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C03-7C9E-4CDC-8E09-D96316ED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015-ACB6-4653-8CE8-8F8DF508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2D2-0322-4932-B38B-BBADD410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0EB-5466-4979-9258-FCEDA4FC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192-525C-466B-8DD0-D16B5E8C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8B8-FB39-4FA6-A882-D7BA728F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34E-71CC-42C3-81DF-1B8774DF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02E-C8F2-431B-8366-9DB7F888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E4A-802A-4ABA-960F-19FB1E15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270-14C9-4D97-BCD1-7B6B744D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2AC-9EAA-4AFA-B87A-F568180D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C753-A81F-4CE9-9BA5-C7396A23C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Line 3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Rectangle 4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49" name="Picture 10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e9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e9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e9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244e9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244e93"/>
              </a:buClr>
              <a:buFont typeface="Arial Narro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93" name="Picture 10" descr="GEARS4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blogs.mail.ru/mail/galina-alik/tag/&#1055;&#1083;&#1077;&#1081;&#1082;&#1072;&#1089;&#1090;" TargetMode="External"/><Relationship Id="rId2" Type="http://schemas.openxmlformats.org/officeDocument/2006/relationships/hyperlink" Target="http://fotki.yandex.ru/users/nataliysha/view/19338/" TargetMode="External"/><Relationship Id="rId3" Type="http://schemas.openxmlformats.org/officeDocument/2006/relationships/hyperlink" Target="http://fotki.yandex.ru/users/serg19522008/view/77725?page=10" TargetMode="External"/><Relationship Id="rId4" Type="http://schemas.openxmlformats.org/officeDocument/2006/relationships/hyperlink" Target="http://www.grafamania.net/clipart/clipart_images/68573-autumn-leaves.html" TargetMode="External"/><Relationship Id="rId5" Type="http://schemas.openxmlformats.org/officeDocument/2006/relationships/hyperlink" Target="http://www.cross-stitch-club.ru/forum/lofiversion/index.php?t3417-700.html" TargetMode="External"/><Relationship Id="rId6" Type="http://schemas.openxmlformats.org/officeDocument/2006/relationships/hyperlink" Target="http://podrobnosti.ua/news/allnews/2006/06/16/page_7.html" TargetMode="External"/><Relationship Id="rId7" Type="http://schemas.openxmlformats.org/officeDocument/2006/relationships/hyperlink" Target="http://womantalks.ru/lofiversion/index.php/t66612-450.html" TargetMode="External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гости к осе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56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Почему в природе 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происходит листопад?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72" name="Picture 5" descr="1242236679_001_234"/>
          <p:cNvPicPr/>
          <p:nvPr/>
        </p:nvPicPr>
        <p:blipFill>
          <a:blip r:embed="rId1"/>
          <a:stretch/>
        </p:blipFill>
        <p:spPr>
          <a:xfrm>
            <a:off x="179280" y="333360"/>
            <a:ext cx="4105440" cy="2717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73" name="Rectangle 6"/>
          <p:cNvSpPr/>
          <p:nvPr/>
        </p:nvSpPr>
        <p:spPr>
          <a:xfrm>
            <a:off x="250920" y="3141720"/>
            <a:ext cx="8532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С наступлением холодов почва охлаждается, а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вместе с ней и почвенная влага. Охлаждённую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воду корни растений не всасывают.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Кроме того оставшиеся на зиму листья послужили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бы для растений источником бедствия: ветви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Narrow"/>
              </a:rPr>
              <a:t>ломались бы от снега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66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Какие изменения </a:t>
            </a:r>
            <a:br>
              <a:rPr sz="3600"/>
            </a:b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происходят осенью </a:t>
            </a:r>
            <a:br>
              <a:rPr sz="3600"/>
            </a:b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в жизни насекомых?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9280" y="2491920"/>
            <a:ext cx="8280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244e9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Больше или меньше стало насекомых с приходом осени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244e9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В какую погоду их становится меньше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244e9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Где они прячутся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90880" cy="15429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089080" cy="1530360"/>
          </a:xfrm>
          <a:prstGeom prst="rect">
            <a:avLst/>
          </a:prstGeom>
          <a:ln w="38160">
            <a:solidFill>
              <a:srgbClr val="969696"/>
            </a:solidFill>
            <a:miter/>
          </a:ln>
        </p:spPr>
      </p:pic>
      <p:pic>
        <p:nvPicPr>
          <p:cNvPr id="178" name="Picture 6" descr=""/>
          <p:cNvPicPr/>
          <p:nvPr/>
        </p:nvPicPr>
        <p:blipFill>
          <a:blip r:embed="rId3"/>
          <a:stretch/>
        </p:blipFill>
        <p:spPr>
          <a:xfrm>
            <a:off x="6659640" y="5013360"/>
            <a:ext cx="2235240" cy="1639800"/>
          </a:xfrm>
          <a:prstGeom prst="rect">
            <a:avLst/>
          </a:prstGeom>
          <a:ln w="38160">
            <a:solidFill>
              <a:srgbClr val="3399ff"/>
            </a:solidFill>
            <a:miter/>
          </a:ln>
        </p:spPr>
      </p:pic>
      <p:pic>
        <p:nvPicPr>
          <p:cNvPr id="179" name="Picture 7" descr=""/>
          <p:cNvPicPr/>
          <p:nvPr/>
        </p:nvPicPr>
        <p:blipFill>
          <a:blip r:embed="rId4"/>
          <a:stretch/>
        </p:blipFill>
        <p:spPr>
          <a:xfrm>
            <a:off x="250920" y="5013360"/>
            <a:ext cx="2233440" cy="1625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80" name="Text Box 8"/>
          <p:cNvSpPr/>
          <p:nvPr/>
        </p:nvSpPr>
        <p:spPr>
          <a:xfrm>
            <a:off x="395280" y="2133720"/>
            <a:ext cx="842472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У насекомых температура тела  непостоянная. Она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изменяется в соответствии с изменением её в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окружающей среде. С наступлением холодов часть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насекомых забирается в укромные места, а другие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зимуют в стадии личинки или куколки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Жизнь птиц осенью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82" name="Picture 4" descr="10"/>
          <p:cNvPicPr/>
          <p:nvPr/>
        </p:nvPicPr>
        <p:blipFill>
          <a:blip r:embed="rId2"/>
          <a:stretch/>
        </p:blipFill>
        <p:spPr>
          <a:xfrm>
            <a:off x="395280" y="2060640"/>
            <a:ext cx="2444760" cy="325908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183" name="Picture 5" descr="11"/>
          <p:cNvPicPr/>
          <p:nvPr/>
        </p:nvPicPr>
        <p:blipFill>
          <a:blip r:embed="rId3"/>
          <a:stretch/>
        </p:blipFill>
        <p:spPr>
          <a:xfrm>
            <a:off x="4140360" y="2133720"/>
            <a:ext cx="4543200" cy="31575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184" name="Text Box 6"/>
          <p:cNvSpPr/>
          <p:nvPr/>
        </p:nvSpPr>
        <p:spPr>
          <a:xfrm>
            <a:off x="1853640" y="602136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 Narrow"/>
              </a:rPr>
              <a:t>Чем питаются птицы?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95720" y="5300640"/>
            <a:ext cx="21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журавли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598360" y="5229360"/>
            <a:ext cx="15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утки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    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244e93"/>
                </a:solidFill>
                <a:latin typeface="Arial Narrow"/>
              </a:rPr>
              <a:t>Птицы питаются разнообразным кормом. Для многих из них основным кормом служат насекомые, плоды и семена растений. С наступлением холодов исчезают насекомые, на растениях уже не видно обилия плодов и семян.</a:t>
            </a:r>
            <a:endParaRPr b="0" lang="en-US" sz="4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708360" y="333360"/>
            <a:ext cx="1943280" cy="703440"/>
          </a:xfrm>
          <a:prstGeom prst="rect">
            <a:avLst/>
          </a:prstGeom>
          <a:solidFill>
            <a:srgbClr val="fbdf5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 Narrow"/>
              </a:rPr>
              <a:t>ОСЕНЬ</a:t>
            </a:r>
            <a:endParaRPr b="0" lang="en-US" sz="40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881080" y="1916280"/>
            <a:ext cx="3477600" cy="581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ПОХОЛОДАНИ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0200" y="3284640"/>
            <a:ext cx="2797920" cy="130572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Arial Narrow"/>
              </a:rPr>
              <a:t>исчезают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Arial Narrow"/>
              </a:rPr>
              <a:t>насекомые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708360" y="3284640"/>
            <a:ext cx="2016000" cy="130572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Arial Narrow"/>
              </a:rPr>
              <a:t>увядают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Arial Narrow"/>
              </a:rPr>
              <a:t>травы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516720" y="3284640"/>
            <a:ext cx="2303280" cy="130572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Arial Narrow"/>
              </a:rPr>
              <a:t>замерзают 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Arial Narrow"/>
              </a:rPr>
              <a:t>водоёмы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595600" y="5661000"/>
            <a:ext cx="4553280" cy="703440"/>
          </a:xfrm>
          <a:prstGeom prst="rect">
            <a:avLst/>
          </a:prstGeom>
          <a:solidFill>
            <a:srgbClr val="00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4e93"/>
                </a:solidFill>
                <a:latin typeface="Arial Narrow"/>
              </a:rPr>
              <a:t>УЛЕТАЮТ ПТИЦЫ</a:t>
            </a:r>
            <a:endParaRPr b="0" lang="en-US" sz="40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4643280" y="1125360"/>
            <a:ext cx="0" cy="71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4643280" y="256536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7" name="Line 13"/>
          <p:cNvSpPr/>
          <p:nvPr/>
        </p:nvSpPr>
        <p:spPr>
          <a:xfrm flipH="1">
            <a:off x="1692000" y="2565360"/>
            <a:ext cx="295092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4643280" y="2565360"/>
            <a:ext cx="309744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99" name="AutoShape 15"/>
          <p:cNvSpPr/>
          <p:nvPr/>
        </p:nvSpPr>
        <p:spPr>
          <a:xfrm rot="16200000">
            <a:off x="4248000" y="799560"/>
            <a:ext cx="647640" cy="8353440"/>
          </a:xfrm>
          <a:custGeom>
            <a:avLst/>
            <a:gdLst>
              <a:gd name="textAreaLeft" fmla="*/ 414000 w 647640"/>
              <a:gd name="textAreaRight" fmla="*/ 648000 w 647640"/>
              <a:gd name="textAreaTop" fmla="*/ 217800 h 8353440"/>
              <a:gd name="textAreaBottom" fmla="*/ 8135640 h 835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08"/>
                </a:lnTo>
                <a:cubicBezTo>
                  <a:pt x="10800" y="10308"/>
                  <a:pt x="5400" y="11208"/>
                  <a:pt x="0" y="11208"/>
                </a:cubicBezTo>
                <a:cubicBezTo>
                  <a:pt x="5400" y="11208"/>
                  <a:pt x="10800" y="12108"/>
                  <a:pt x="10800" y="130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Какие птицы называются перелётными?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201" name="Picture 4" descr="kjgjk"/>
          <p:cNvPicPr/>
          <p:nvPr/>
        </p:nvPicPr>
        <p:blipFill>
          <a:blip r:embed="rId1"/>
          <a:stretch/>
        </p:blipFill>
        <p:spPr>
          <a:xfrm>
            <a:off x="826920" y="1773360"/>
            <a:ext cx="7417080" cy="4662360"/>
          </a:xfrm>
          <a:prstGeom prst="rect">
            <a:avLst/>
          </a:prstGeom>
          <a:ln w="57240">
            <a:solidFill>
              <a:srgbClr val="969696"/>
            </a:solidFill>
            <a:miter/>
          </a:ln>
        </p:spPr>
      </p:pic>
      <p:sp>
        <p:nvSpPr>
          <p:cNvPr id="202" name="Text Box 5"/>
          <p:cNvSpPr/>
          <p:nvPr/>
        </p:nvSpPr>
        <p:spPr>
          <a:xfrm>
            <a:off x="919080" y="549360"/>
            <a:ext cx="69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4e93"/>
                </a:solidFill>
                <a:latin typeface="Arial Narrow"/>
              </a:rPr>
              <a:t>Все ли птицы улетают осенью?</a:t>
            </a:r>
            <a:endParaRPr b="0" lang="en-US" sz="4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Жизнь птиц сильно меняется по сезонам. Птицы,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совершающие осенние  перелёты из наших мест в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тёплые страны  и весенние возвращения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называются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 Narrow"/>
              </a:rPr>
              <a:t>перелётными 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(ласточки, стрижи,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кукушки, соловьи, журавли)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Птицы, постоянно живущие в нашей местности,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называются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 Narrow"/>
              </a:rPr>
              <a:t>осёдлыми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(голуби, воробьи, сороки,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галки, рябчики, тетерева, лесные совы, ястребы)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204" name="Picture 4" descr="12"/>
          <p:cNvPicPr/>
          <p:nvPr/>
        </p:nvPicPr>
        <p:blipFill>
          <a:blip r:embed="rId1"/>
          <a:stretch/>
        </p:blipFill>
        <p:spPr>
          <a:xfrm>
            <a:off x="250920" y="189000"/>
            <a:ext cx="1815840" cy="1743120"/>
          </a:xfrm>
          <a:prstGeom prst="rect">
            <a:avLst/>
          </a:prstGeom>
          <a:ln w="38160">
            <a:solidFill>
              <a:srgbClr val="969696"/>
            </a:solidFill>
            <a:miter/>
          </a:ln>
        </p:spPr>
      </p:pic>
      <p:pic>
        <p:nvPicPr>
          <p:cNvPr id="205" name="Picture 5" descr="13"/>
          <p:cNvPicPr/>
          <p:nvPr/>
        </p:nvPicPr>
        <p:blipFill>
          <a:blip r:embed="rId2"/>
          <a:stretch/>
        </p:blipFill>
        <p:spPr>
          <a:xfrm>
            <a:off x="2411280" y="189000"/>
            <a:ext cx="1882800" cy="1773000"/>
          </a:xfrm>
          <a:prstGeom prst="rect">
            <a:avLst/>
          </a:prstGeom>
          <a:ln w="38160">
            <a:solidFill>
              <a:srgbClr val="969696"/>
            </a:solidFill>
            <a:miter/>
          </a:ln>
        </p:spPr>
      </p:pic>
      <p:pic>
        <p:nvPicPr>
          <p:cNvPr id="206" name="Picture 6" descr="14"/>
          <p:cNvPicPr/>
          <p:nvPr/>
        </p:nvPicPr>
        <p:blipFill>
          <a:blip r:embed="rId3"/>
          <a:stretch/>
        </p:blipFill>
        <p:spPr>
          <a:xfrm>
            <a:off x="4643280" y="189000"/>
            <a:ext cx="1872000" cy="1735200"/>
          </a:xfrm>
          <a:prstGeom prst="rect">
            <a:avLst/>
          </a:prstGeom>
          <a:ln w="28440">
            <a:solidFill>
              <a:srgbClr val="4d4d4d"/>
            </a:solidFill>
            <a:miter/>
          </a:ln>
        </p:spPr>
      </p:pic>
      <p:pic>
        <p:nvPicPr>
          <p:cNvPr id="207" name="Picture 7" descr="15"/>
          <p:cNvPicPr/>
          <p:nvPr/>
        </p:nvPicPr>
        <p:blipFill>
          <a:blip r:embed="rId4"/>
          <a:stretch/>
        </p:blipFill>
        <p:spPr>
          <a:xfrm>
            <a:off x="6877080" y="189000"/>
            <a:ext cx="2016000" cy="1727280"/>
          </a:xfrm>
          <a:prstGeom prst="rect">
            <a:avLst/>
          </a:prstGeom>
          <a:ln w="38160">
            <a:solidFill>
              <a:srgbClr val="969696"/>
            </a:solidFill>
            <a:miter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6624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Работа по учебнику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44e9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Прочитайте текст в учебнике на с. 26 «Из жизни птиц»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2.  Ответь на вопросы: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44e9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Как изменилась жизнь птиц осенью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44e9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Каких птиц называют перелётными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44e9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Tahoma"/>
              </a:rPr>
              <a:t>Почему птицы улетают в тёплые края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210" name="Picture 5" descr="normal_Lastochki_avg_2009"/>
          <p:cNvPicPr/>
          <p:nvPr/>
        </p:nvPicPr>
        <p:blipFill>
          <a:blip r:embed="rId2"/>
          <a:stretch/>
        </p:blipFill>
        <p:spPr>
          <a:xfrm>
            <a:off x="5819760" y="1773360"/>
            <a:ext cx="3063960" cy="4608360"/>
          </a:xfrm>
          <a:prstGeom prst="rect">
            <a:avLst/>
          </a:prstGeom>
          <a:ln w="38160">
            <a:solidFill>
              <a:srgbClr val="4d4d4d"/>
            </a:solidFill>
            <a:miter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О каких осенних изменениях в неживой природе мы сегодня говорили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Какие происходят изменения в живой природе с приходом осени?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Источники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http://blogs.mail.ru/mail/galina-alik/tag/Плейкаст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http://fotki.yandex.ru/users/nataliysha/view/19338/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3"/>
              </a:rPr>
              <a:t>http://fotki.yandex.ru/users/serg19522008/view/77725?page=10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4"/>
              </a:rPr>
              <a:t>http://www.grafamania.net/clipart/clipart_images/68573-autumn-leaves.html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5"/>
              </a:rPr>
              <a:t>http://www.cross-stitch-club.ru/forum/lofiversion/index.php?t3417-700.html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6"/>
              </a:rPr>
              <a:t>http://podrobnosti.ua/news/allnews/2006/06/16/page_7.html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 Narrow"/>
                <a:hlinkClick r:id="rId7"/>
              </a:rPr>
              <a:t>http://womantalks.ru/lofiversion/index.php/t66612-450.html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kalitva.ru/2010/01/19/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e-vko.gov.kz/museum/EcoMuseum/Maps/7/405/Index.htm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photoforum.ru/photo/505927/index.ru.html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famtoys.ru/catalog/age/3/good/1727/print/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artrussia.ru/russian/artists/works_s.php?id=407&amp;foa=f&amp;page=4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artlib.ru/index.php?id=11&amp;idp=0&amp;fp=2&amp;uid=9830&amp;iid=123855&amp;idg=0&amp;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blogs.privet.ru/user/alex8898/tags/37937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http://www.viki.rdf.ru/item/1058/    - шаблоны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1116000" y="1197000"/>
            <a:ext cx="70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олнце скрыто за тучами. Идёт мелкий моросящий дождь. Косяк журавлей, курлыча, пролетает над лесом. Порывистый ветер срывает с деревьев последние листочки. Только ели да сосны радуются своему зелёному наряду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256400" y="4941720"/>
            <a:ext cx="68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Monotype Corsiva"/>
              </a:rPr>
              <a:t>Какое это время года?</a:t>
            </a:r>
            <a:endParaRPr b="0" lang="en-US" sz="4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4"/>
          <p:cNvSpPr/>
          <p:nvPr/>
        </p:nvSpPr>
        <p:spPr>
          <a:xfrm>
            <a:off x="179280" y="189000"/>
            <a:ext cx="6842160" cy="1727280"/>
          </a:xfrm>
          <a:prstGeom prst="cloudCallout">
            <a:avLst>
              <a:gd name="adj1" fmla="val -43759"/>
              <a:gd name="adj2" fmla="val 58365"/>
            </a:avLst>
          </a:prstGeom>
          <a:solidFill>
            <a:srgbClr val="99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44680" y="76500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 объекты  неживой природы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1403280" y="2205000"/>
            <a:ext cx="4824360" cy="396072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246400" y="2627280"/>
            <a:ext cx="336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о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лака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адки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в водоёмах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04320" y="62064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 погоду летом и осенью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270360" y="2421000"/>
            <a:ext cx="133596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летом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463080" y="2349360"/>
            <a:ext cx="157680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осенью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6624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Работа по учебнику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4000" y="1989000"/>
            <a:ext cx="460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44e9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ahoma"/>
              </a:rPr>
              <a:t>Прочитайте текст в учебнике на с. 26 «Неживая природа осенью»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ahoma"/>
              </a:rPr>
              <a:t>(Текст читает учитель или дети цепочкой)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47" name="Picture 6" descr="1255026629_83_unknown"/>
          <p:cNvPicPr/>
          <p:nvPr/>
        </p:nvPicPr>
        <p:blipFill>
          <a:blip r:embed="rId2"/>
          <a:stretch/>
        </p:blipFill>
        <p:spPr>
          <a:xfrm>
            <a:off x="5651640" y="1628640"/>
            <a:ext cx="3135240" cy="4718160"/>
          </a:xfrm>
          <a:prstGeom prst="rect">
            <a:avLst/>
          </a:prstGeom>
          <a:ln w="57240">
            <a:solidFill>
              <a:srgbClr val="969696"/>
            </a:solidFill>
            <a:miter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a396c"/>
                </a:solidFill>
                <a:latin typeface="Tahoma"/>
              </a:rPr>
              <a:t>Какие осенние явления не относятся к неживой природе?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250920" y="1413000"/>
            <a:ext cx="2735280" cy="934920"/>
          </a:xfrm>
          <a:prstGeom prst="cloudCallout">
            <a:avLst>
              <a:gd name="adj1" fmla="val -38046"/>
              <a:gd name="adj2" fmla="val -111967"/>
            </a:avLst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опад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6227640" y="1268280"/>
            <a:ext cx="2735280" cy="935280"/>
          </a:xfrm>
          <a:prstGeom prst="cloudCallout">
            <a:avLst>
              <a:gd name="adj1" fmla="val 43037"/>
              <a:gd name="adj2" fmla="val -94990"/>
            </a:avLst>
          </a:prstGeom>
          <a:solidFill>
            <a:srgbClr val="ff9966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достав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2771640" y="1916280"/>
            <a:ext cx="3600720" cy="792000"/>
          </a:xfrm>
          <a:prstGeom prst="cloudCallout">
            <a:avLst>
              <a:gd name="adj1" fmla="val -17814"/>
              <a:gd name="adj2" fmla="val 113925"/>
            </a:avLst>
          </a:prstGeom>
          <a:solidFill>
            <a:srgbClr val="99cc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холодание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395280" y="2997360"/>
            <a:ext cx="2881440" cy="934920"/>
          </a:xfrm>
          <a:prstGeom prst="cloudCallout">
            <a:avLst>
              <a:gd name="adj1" fmla="val -52203"/>
              <a:gd name="adj2" fmla="val 85143"/>
            </a:avLst>
          </a:prstGeom>
          <a:solidFill>
            <a:srgbClr val="66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орозки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3" name="AutoShape 18"/>
          <p:cNvSpPr/>
          <p:nvPr/>
        </p:nvSpPr>
        <p:spPr>
          <a:xfrm>
            <a:off x="5796000" y="4221000"/>
            <a:ext cx="3024000" cy="1008360"/>
          </a:xfrm>
          <a:prstGeom prst="cloudCallout">
            <a:avLst>
              <a:gd name="adj1" fmla="val 39712"/>
              <a:gd name="adj2" fmla="val 93148"/>
            </a:avLst>
          </a:prstGeom>
          <a:solidFill>
            <a:srgbClr val="b7fbd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ман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6084720" y="2421000"/>
            <a:ext cx="2735280" cy="1224000"/>
          </a:xfrm>
          <a:prstGeom prst="cloudCallout">
            <a:avLst>
              <a:gd name="adj1" fmla="val 45240"/>
              <a:gd name="adj2" fmla="val 64527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ядание трав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3995640" y="3500280"/>
            <a:ext cx="1871640" cy="863640"/>
          </a:xfrm>
          <a:prstGeom prst="cloudCallout">
            <a:avLst>
              <a:gd name="adj1" fmla="val -70185"/>
              <a:gd name="adj2" fmla="val 95402"/>
            </a:avLst>
          </a:prstGeom>
          <a:solidFill>
            <a:srgbClr val="fbdf53"/>
          </a:soli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ей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6" name="AutoShape 21"/>
          <p:cNvSpPr/>
          <p:nvPr/>
        </p:nvSpPr>
        <p:spPr>
          <a:xfrm>
            <a:off x="324000" y="4437000"/>
            <a:ext cx="2592360" cy="1224000"/>
          </a:xfrm>
          <a:prstGeom prst="cloudCallout">
            <a:avLst>
              <a:gd name="adj1" fmla="val -42407"/>
              <a:gd name="adj2" fmla="val 59597"/>
            </a:avLst>
          </a:prstGeom>
          <a:solidFill>
            <a:srgbClr val="cc99ff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ёт птиц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7" name="AutoShape 22"/>
          <p:cNvSpPr/>
          <p:nvPr/>
        </p:nvSpPr>
        <p:spPr>
          <a:xfrm>
            <a:off x="2556000" y="5084640"/>
            <a:ext cx="4103640" cy="1224000"/>
          </a:xfrm>
          <a:prstGeom prst="cloudCallout">
            <a:avLst>
              <a:gd name="adj1" fmla="val 40833"/>
              <a:gd name="adj2" fmla="val 63490"/>
            </a:avLst>
          </a:prstGeom>
          <a:solidFill>
            <a:srgbClr val="00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чезновение насекомых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Tahoma"/>
              </a:rPr>
              <a:t>Назовите главный признак осени.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3141720"/>
            <a:ext cx="8229600" cy="26258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последняя гроза                       затяжные дожди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первые заморозки                    появление инея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густые туманы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первый снег                              ледостав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40200" y="4292640"/>
            <a:ext cx="29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похолодание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6"/>
          <p:cNvSpPr/>
          <p:nvPr/>
        </p:nvSpPr>
        <p:spPr>
          <a:xfrm>
            <a:off x="2124000" y="2852640"/>
            <a:ext cx="5112000" cy="2288520"/>
          </a:xfrm>
          <a:prstGeom prst="rect">
            <a:avLst/>
          </a:prstGeom>
          <a:solidFill>
            <a:srgbClr val="fbdf53"/>
          </a:solidFill>
          <a:ln w="57240">
            <a:solidFill>
              <a:srgbClr val="22f2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ения            грибы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бы                  птицы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екомые         звери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актерии            человек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2124000" y="260280"/>
            <a:ext cx="5472360" cy="1152720"/>
          </a:xfrm>
          <a:prstGeom prst="cloudCallout">
            <a:avLst>
              <a:gd name="adj1" fmla="val -42458"/>
              <a:gd name="adj2" fmla="val 1199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179280" y="260280"/>
            <a:ext cx="8748720" cy="1656000"/>
          </a:xfrm>
          <a:prstGeom prst="cloudCallout">
            <a:avLst>
              <a:gd name="adj1" fmla="val -28898"/>
              <a:gd name="adj2" fmla="val 37824"/>
            </a:avLst>
          </a:prstGeom>
          <a:solidFill>
            <a:srgbClr val="66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-283680" y="692280"/>
            <a:ext cx="94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Осенние изменения в живой природе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196640" y="404640"/>
            <a:ext cx="6679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Tahoma"/>
              </a:rPr>
              <a:t>Вспомните и назовите 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4e93"/>
                </a:solidFill>
                <a:latin typeface="Tahoma"/>
              </a:rPr>
              <a:t>объекты живой природы 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a396c"/>
                </a:solidFill>
                <a:latin typeface="Tahoma"/>
              </a:rPr>
              <a:t>Какие изменения происходят осенью</a:t>
            </a:r>
            <a:br>
              <a:rPr sz="3200"/>
            </a:br>
            <a:r>
              <a:rPr b="0" lang="ru-RU" sz="3200" spc="-1" strike="noStrike">
                <a:solidFill>
                  <a:srgbClr val="1a396c"/>
                </a:solidFill>
                <a:latin typeface="Tahoma"/>
              </a:rPr>
              <a:t>в жизни деревьев и кустарников?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67" name="Picture 4" descr="4"/>
          <p:cNvPicPr/>
          <p:nvPr/>
        </p:nvPicPr>
        <p:blipFill>
          <a:blip r:embed="rId2"/>
          <a:stretch/>
        </p:blipFill>
        <p:spPr>
          <a:xfrm>
            <a:off x="1258920" y="1628640"/>
            <a:ext cx="663876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                    </a:t>
            </a: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Листопад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69" name="Picture 4" descr="5"/>
          <p:cNvPicPr/>
          <p:nvPr/>
        </p:nvPicPr>
        <p:blipFill>
          <a:blip r:embed="rId2"/>
          <a:stretch/>
        </p:blipFill>
        <p:spPr>
          <a:xfrm>
            <a:off x="395280" y="836640"/>
            <a:ext cx="2843280" cy="50403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70" name="Text Box 5"/>
          <p:cNvSpPr/>
          <p:nvPr/>
        </p:nvSpPr>
        <p:spPr>
          <a:xfrm>
            <a:off x="3154680" y="1268280"/>
            <a:ext cx="592056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С приходом осени листья на деревь-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ях и кустарниках изменили свою 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окраску и начали опадать. С пониже-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нием температуры воздуха, измене-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ние окраски листьев идёт всё интен-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сивнее. Быстрее идёт и листопад. 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Особенно сильно опадают листья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после заморозков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55:11Z</dcterms:created>
  <dc:creator>мама</dc:creator>
  <dc:description/>
  <dc:language>en-US</dc:language>
  <cp:lastModifiedBy>user</cp:lastModifiedBy>
  <dcterms:modified xsi:type="dcterms:W3CDTF">2022-02-15T05:25:19Z</dcterms:modified>
  <cp:revision>17</cp:revision>
  <dc:subject/>
  <dc:title>В гости к осени.</dc:title>
</cp:coreProperties>
</file>