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6C2-681B-49F6-9D7D-2A7E7276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11E-F991-435B-A73A-9C69CF8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DAB-4713-4B04-81D7-867B815B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ED7-5F81-49C2-A10F-C97F1848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2B2-5586-401C-868A-B31524A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232-C700-4FB5-BDDC-1B12C37D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801-7DC2-4F0B-A1D8-F3E198BE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278-C418-45C5-8EA0-A0F6A4D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EB4-A82F-4D68-AE0D-58AAF2EB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B6F-8F2A-44F2-BFDA-95E7A8D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4E7-6CD5-4AA6-AE01-5A4019C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713-D2B5-40A4-A2B6-DB16804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F7B-B195-4147-B9CF-E98EE5ABF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49" name="Picture 10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93" name="Picture 10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logs.mail.ru/mail/galina-alik/tag/&#1055;&#1083;&#1077;&#1081;&#1082;&#1072;&#1089;&#1090;" TargetMode="External"/><Relationship Id="rId2" Type="http://schemas.openxmlformats.org/officeDocument/2006/relationships/hyperlink" Target="http://fotki.yandex.ru/users/nataliysha/view/19338/" TargetMode="External"/><Relationship Id="rId3" Type="http://schemas.openxmlformats.org/officeDocument/2006/relationships/hyperlink" Target="http://fotki.yandex.ru/users/serg19522008/view/77725?page=10" TargetMode="External"/><Relationship Id="rId4" Type="http://schemas.openxmlformats.org/officeDocument/2006/relationships/hyperlink" Target="http://www.grafamania.net/clipart/clipart_images/68573-autumn-leaves.html" TargetMode="External"/><Relationship Id="rId5" Type="http://schemas.openxmlformats.org/officeDocument/2006/relationships/hyperlink" Target="http://www.cross-stitch-club.ru/forum/lofiversion/index.php?t3417-700.html" TargetMode="External"/><Relationship Id="rId6" Type="http://schemas.openxmlformats.org/officeDocument/2006/relationships/hyperlink" Target="http://podrobnosti.ua/news/allnews/2006/06/16/page_7.html" TargetMode="External"/><Relationship Id="rId7" Type="http://schemas.openxmlformats.org/officeDocument/2006/relationships/hyperlink" Target="http://womantalks.ru/lofiversion/index.php/t66612-450.html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и к осе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6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Почему в природе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происходит листопад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72" name="Picture 5" descr="1242236679_001_234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2717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3" name="Rectangle 6"/>
          <p:cNvSpPr/>
          <p:nvPr/>
        </p:nvSpPr>
        <p:spPr>
          <a:xfrm>
            <a:off x="250920" y="3141720"/>
            <a:ext cx="8532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С наступлением холодов почва охлаждается, а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вместе с ней и почвенная влага. Охлаждённую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воду корни растений не всасывают.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Кроме того оставшиеся на зиму листья послужили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бы для растений источником бедствия: ветв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ломались бы от снега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Какие изменения 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роисходят осенью 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в жизни насекомых?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8280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Больше или меньше стало насекомых с приходом осени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В какую погоду их становится меньше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Где они прячутся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90880" cy="15429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89080" cy="153036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2235240" cy="16398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2233440" cy="1625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80" name="Text Box 8"/>
          <p:cNvSpPr/>
          <p:nvPr/>
        </p:nvSpPr>
        <p:spPr>
          <a:xfrm>
            <a:off x="395280" y="2133720"/>
            <a:ext cx="84247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 насекомых температура тела  непостоянная. Он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изменяется в соответствии с изменением её в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кружающей среде. С наступлением холодов часть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секомых забирается в укромные места, а другие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зимуют в стадии личинки или куколки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Жизнь птиц осенью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82" name="Picture 4" descr="10"/>
          <p:cNvPicPr/>
          <p:nvPr/>
        </p:nvPicPr>
        <p:blipFill>
          <a:blip r:embed="rId2"/>
          <a:stretch/>
        </p:blipFill>
        <p:spPr>
          <a:xfrm>
            <a:off x="395280" y="2060640"/>
            <a:ext cx="2444760" cy="32590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183" name="Picture 5" descr="11"/>
          <p:cNvPicPr/>
          <p:nvPr/>
        </p:nvPicPr>
        <p:blipFill>
          <a:blip r:embed="rId3"/>
          <a:stretch/>
        </p:blipFill>
        <p:spPr>
          <a:xfrm>
            <a:off x="4140360" y="2133720"/>
            <a:ext cx="4543200" cy="31575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184" name="Text Box 6"/>
          <p:cNvSpPr/>
          <p:nvPr/>
        </p:nvSpPr>
        <p:spPr>
          <a:xfrm>
            <a:off x="1853640" y="602136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Narrow"/>
              </a:rPr>
              <a:t>Чем питаются птицы?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95720" y="5300640"/>
            <a:ext cx="21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журавл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598360" y="522936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тк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Птицы питаются разнообразным кормом. Для многих из них основным кормом служат насекомые, плоды и семена растений. С наступлением холодов исчезают насекомые, на растениях уже не видно обилия плодов и семян.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708360" y="333360"/>
            <a:ext cx="1943280" cy="703440"/>
          </a:xfrm>
          <a:prstGeom prst="rect">
            <a:avLst/>
          </a:prstGeom>
          <a:solidFill>
            <a:srgbClr val="fbdf5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 Narrow"/>
              </a:rPr>
              <a:t>ОСЕНЬ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881080" y="1916280"/>
            <a:ext cx="3477600" cy="581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ХОЛОДАНИ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" y="3284640"/>
            <a:ext cx="279792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исчезают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насекомые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708360" y="3284640"/>
            <a:ext cx="201600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увядают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трав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516720" y="3284640"/>
            <a:ext cx="230328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замерзают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водоём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595600" y="5661000"/>
            <a:ext cx="4553280" cy="703440"/>
          </a:xfrm>
          <a:prstGeom prst="rect">
            <a:avLst/>
          </a:prstGeom>
          <a:solidFill>
            <a:srgbClr val="00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УЛЕТАЮТ ПТИЦЫ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643280" y="1125360"/>
            <a:ext cx="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643280" y="256536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1692000" y="2565360"/>
            <a:ext cx="2950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4643280" y="2565360"/>
            <a:ext cx="309744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9" name="AutoShape 15"/>
          <p:cNvSpPr/>
          <p:nvPr/>
        </p:nvSpPr>
        <p:spPr>
          <a:xfrm rot="16200000">
            <a:off x="4248000" y="799560"/>
            <a:ext cx="647640" cy="8353440"/>
          </a:xfrm>
          <a:custGeom>
            <a:avLst/>
            <a:gdLst>
              <a:gd name="textAreaLeft" fmla="*/ 414000 w 647640"/>
              <a:gd name="textAreaRight" fmla="*/ 648000 w 647640"/>
              <a:gd name="textAreaTop" fmla="*/ 217800 h 8353440"/>
              <a:gd name="textAreaBottom" fmla="*/ 8135640 h 83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08"/>
                </a:lnTo>
                <a:cubicBezTo>
                  <a:pt x="10800" y="10308"/>
                  <a:pt x="5400" y="11208"/>
                  <a:pt x="0" y="11208"/>
                </a:cubicBezTo>
                <a:cubicBezTo>
                  <a:pt x="5400" y="11208"/>
                  <a:pt x="10800" y="12108"/>
                  <a:pt x="10800" y="130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Какие птицы называются перелётными?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201" name="Picture 4" descr="kjgjk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6623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919080" y="549360"/>
            <a:ext cx="69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Все ли птицы улетают осенью?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Жизнь птиц сильно меняется по сезонам. Птицы,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овершающие осенние  перелёты из наших мест в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тёплые страны  и весенние возвращения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зываются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перелётными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(ласточки, стриж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кукушки, соловьи, журавли)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тицы, постоянно живущие в нашей местност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зываются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осёдлым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(голуби, воробьи, сорок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галки, рябчики, тетерева, лесные совы, ястребы)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04" name="Picture 4" descr="12"/>
          <p:cNvPicPr/>
          <p:nvPr/>
        </p:nvPicPr>
        <p:blipFill>
          <a:blip r:embed="rId1"/>
          <a:stretch/>
        </p:blipFill>
        <p:spPr>
          <a:xfrm>
            <a:off x="250920" y="189000"/>
            <a:ext cx="1815840" cy="174312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205" name="Picture 5" descr="13"/>
          <p:cNvPicPr/>
          <p:nvPr/>
        </p:nvPicPr>
        <p:blipFill>
          <a:blip r:embed="rId2"/>
          <a:stretch/>
        </p:blipFill>
        <p:spPr>
          <a:xfrm>
            <a:off x="2411280" y="189000"/>
            <a:ext cx="1882800" cy="177300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206" name="Picture 6" descr="14"/>
          <p:cNvPicPr/>
          <p:nvPr/>
        </p:nvPicPr>
        <p:blipFill>
          <a:blip r:embed="rId3"/>
          <a:stretch/>
        </p:blipFill>
        <p:spPr>
          <a:xfrm>
            <a:off x="4643280" y="189000"/>
            <a:ext cx="1872000" cy="173520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207" name="Picture 7" descr="15"/>
          <p:cNvPicPr/>
          <p:nvPr/>
        </p:nvPicPr>
        <p:blipFill>
          <a:blip r:embed="rId4"/>
          <a:stretch/>
        </p:blipFill>
        <p:spPr>
          <a:xfrm>
            <a:off x="6877080" y="189000"/>
            <a:ext cx="2016000" cy="172728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Работа по учебнику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Прочитайте текст в учебнике на с. 26 «Из жизни птиц»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2.  Ответь на вопросы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Как изменилась жизнь птиц осенью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Каких птиц называют перелётными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Почему птицы улетают в тёплые края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10" name="Picture 5" descr="normal_Lastochki_avg_2009"/>
          <p:cNvPicPr/>
          <p:nvPr/>
        </p:nvPicPr>
        <p:blipFill>
          <a:blip r:embed="rId2"/>
          <a:stretch/>
        </p:blipFill>
        <p:spPr>
          <a:xfrm>
            <a:off x="5819760" y="1773360"/>
            <a:ext cx="3063960" cy="46083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 каких осенних изменениях в неживой природе мы сегодня говорил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Какие происходят изменения в живой природе с приходом осен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Источник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blogs.mail.ru/mail/galina-alik/tag/Плейкаст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http://fotki.yandex.ru/users/nataliysha/view/19338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http://fotki.yandex.ru/users/serg19522008/view/77725?page=10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http://www.grafamania.net/clipart/clipart_images/68573-autumn-leaves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5"/>
              </a:rPr>
              <a:t>http://www.cross-stitch-club.ru/forum/lofiversion/index.php?t3417-700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6"/>
              </a:rPr>
              <a:t>http://podrobnosti.ua/news/allnews/2006/06/16/page_7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7"/>
              </a:rPr>
              <a:t>http://womantalks.ru/lofiversion/index.php/t66612-450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kalitva.ru/2010/01/19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e-vko.gov.kz/museum/EcoMuseum/Maps/7/405/Index.htm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photoforum.ru/photo/505927/index.ru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famtoys.ru/catalog/age/3/good/1727/print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artrussia.ru/russian/artists/works_s.php?id=407&amp;foa=f&amp;page=4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artlib.ru/index.php?id=11&amp;idp=0&amp;fp=2&amp;uid=9830&amp;iid=123855&amp;idg=0&amp;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blogs.privet.ru/user/alex8898/tags/37937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viki.rdf.ru/item/1058/    - шаблоны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1116000" y="1197000"/>
            <a:ext cx="70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олнце скрыто за тучами. Идёт мелкий моросящий дождь. Косяк журавлей, курлыча, пролетает над лесом. Порывистый ветер срывает с деревьев последние листочки. Только ели да сосны радуются своему зелёному наряду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256400" y="4941720"/>
            <a:ext cx="68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Какое это время года?</a:t>
            </a:r>
            <a:endParaRPr b="0" lang="en-US" sz="4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179280" y="189000"/>
            <a:ext cx="6842160" cy="1727280"/>
          </a:xfrm>
          <a:prstGeom prst="cloudCallout">
            <a:avLst>
              <a:gd name="adj1" fmla="val -43759"/>
              <a:gd name="adj2" fmla="val 58365"/>
            </a:avLst>
          </a:prstGeom>
          <a:solidFill>
            <a:srgbClr val="99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44680" y="7650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объекты  неживой природы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403280" y="2205000"/>
            <a:ext cx="4824360" cy="39607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46400" y="2627280"/>
            <a:ext cx="336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в водоёмах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04320" y="62064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 погоду летом и осенью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70360" y="2421000"/>
            <a:ext cx="13359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летом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463080" y="2349360"/>
            <a:ext cx="157680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сенью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Работа по учебнику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Прочитайте текст в учебнике на с. 26 «Неживая природа осенью»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(Текст читает учитель или дети цепочкой)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7" name="Picture 6" descr="1255026629_83_unknown"/>
          <p:cNvPicPr/>
          <p:nvPr/>
        </p:nvPicPr>
        <p:blipFill>
          <a:blip r:embed="rId2"/>
          <a:stretch/>
        </p:blipFill>
        <p:spPr>
          <a:xfrm>
            <a:off x="5651640" y="1628640"/>
            <a:ext cx="3135240" cy="47181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Какие осенние явления не относятся к неживой природе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250920" y="1413000"/>
            <a:ext cx="2735280" cy="934920"/>
          </a:xfrm>
          <a:prstGeom prst="cloudCallout">
            <a:avLst>
              <a:gd name="adj1" fmla="val -38046"/>
              <a:gd name="adj2" fmla="val -111967"/>
            </a:avLst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опад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6227640" y="1268280"/>
            <a:ext cx="2735280" cy="935280"/>
          </a:xfrm>
          <a:prstGeom prst="cloudCallout">
            <a:avLst>
              <a:gd name="adj1" fmla="val 43037"/>
              <a:gd name="adj2" fmla="val -94990"/>
            </a:avLst>
          </a:prstGeom>
          <a:solidFill>
            <a:srgbClr val="ff996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оста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2771640" y="1916280"/>
            <a:ext cx="3600720" cy="792000"/>
          </a:xfrm>
          <a:prstGeom prst="cloudCallout">
            <a:avLst>
              <a:gd name="adj1" fmla="val -17814"/>
              <a:gd name="adj2" fmla="val 113925"/>
            </a:avLst>
          </a:prstGeom>
          <a:solidFill>
            <a:srgbClr val="99cc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олодание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395280" y="2997360"/>
            <a:ext cx="2881440" cy="934920"/>
          </a:xfrm>
          <a:prstGeom prst="cloudCallout">
            <a:avLst>
              <a:gd name="adj1" fmla="val -52203"/>
              <a:gd name="adj2" fmla="val 85143"/>
            </a:avLst>
          </a:prstGeom>
          <a:solidFill>
            <a:srgbClr val="66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орозк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5796000" y="4221000"/>
            <a:ext cx="3024000" cy="1008360"/>
          </a:xfrm>
          <a:prstGeom prst="cloudCallout">
            <a:avLst>
              <a:gd name="adj1" fmla="val 39712"/>
              <a:gd name="adj2" fmla="val 93148"/>
            </a:avLst>
          </a:prstGeom>
          <a:solidFill>
            <a:srgbClr val="b7fbd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6084720" y="2421000"/>
            <a:ext cx="2735280" cy="1224000"/>
          </a:xfrm>
          <a:prstGeom prst="cloudCallout">
            <a:avLst>
              <a:gd name="adj1" fmla="val 45240"/>
              <a:gd name="adj2" fmla="val 64527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ядание тра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3995640" y="3500280"/>
            <a:ext cx="1871640" cy="863640"/>
          </a:xfrm>
          <a:prstGeom prst="cloudCallout">
            <a:avLst>
              <a:gd name="adj1" fmla="val -70185"/>
              <a:gd name="adj2" fmla="val 95402"/>
            </a:avLst>
          </a:prstGeom>
          <a:solidFill>
            <a:srgbClr val="fbdf53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324000" y="4437000"/>
            <a:ext cx="2592360" cy="1224000"/>
          </a:xfrm>
          <a:prstGeom prst="cloudCallout">
            <a:avLst>
              <a:gd name="adj1" fmla="val -42407"/>
              <a:gd name="adj2" fmla="val 59597"/>
            </a:avLst>
          </a:prstGeom>
          <a:solidFill>
            <a:srgbClr val="cc99ff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ёт птиц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556000" y="5084640"/>
            <a:ext cx="4103640" cy="1224000"/>
          </a:xfrm>
          <a:prstGeom prst="cloudCallout">
            <a:avLst>
              <a:gd name="adj1" fmla="val 40833"/>
              <a:gd name="adj2" fmla="val 63490"/>
            </a:avLst>
          </a:prstGeom>
          <a:solidFill>
            <a:srgbClr val="00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чезновение насекомых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Назовите главный признак осени.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3141720"/>
            <a:ext cx="8229600" cy="2625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следняя гроза                       затяжные дожд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ервые заморозки                    появление инея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густые туманы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ервый снег                              ледостав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40200" y="4292640"/>
            <a:ext cx="29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холодани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124000" y="2852640"/>
            <a:ext cx="5112000" cy="2288520"/>
          </a:xfrm>
          <a:prstGeom prst="rect">
            <a:avLst/>
          </a:prstGeom>
          <a:solidFill>
            <a:srgbClr val="fbdf53"/>
          </a:solidFill>
          <a:ln w="57240">
            <a:solidFill>
              <a:srgbClr val="22f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            гриб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                  птиц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         звери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            человек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124000" y="260280"/>
            <a:ext cx="5472360" cy="1152720"/>
          </a:xfrm>
          <a:prstGeom prst="cloudCallout">
            <a:avLst>
              <a:gd name="adj1" fmla="val -42458"/>
              <a:gd name="adj2" fmla="val 119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79280" y="260280"/>
            <a:ext cx="8748720" cy="1656000"/>
          </a:xfrm>
          <a:prstGeom prst="cloudCallout">
            <a:avLst>
              <a:gd name="adj1" fmla="val -28898"/>
              <a:gd name="adj2" fmla="val 37824"/>
            </a:avLst>
          </a:prstGeom>
          <a:solidFill>
            <a:srgbClr val="66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-283680" y="692280"/>
            <a:ext cx="94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Осенние изменения в живой природе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96640" y="404640"/>
            <a:ext cx="667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Вспомните и назовите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объекты живой природы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Какие изменения происходят осенью</a:t>
            </a:r>
            <a:br>
              <a:rPr sz="3200"/>
            </a:b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в жизни деревьев и кустарников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67" name="Picture 4" descr="4"/>
          <p:cNvPicPr/>
          <p:nvPr/>
        </p:nvPicPr>
        <p:blipFill>
          <a:blip r:embed="rId2"/>
          <a:stretch/>
        </p:blipFill>
        <p:spPr>
          <a:xfrm>
            <a:off x="1258920" y="1628640"/>
            <a:ext cx="663876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Листопад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69" name="Picture 4" descr="5"/>
          <p:cNvPicPr/>
          <p:nvPr/>
        </p:nvPicPr>
        <p:blipFill>
          <a:blip r:embed="rId2"/>
          <a:stretch/>
        </p:blipFill>
        <p:spPr>
          <a:xfrm>
            <a:off x="395280" y="836640"/>
            <a:ext cx="2843280" cy="50403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70" name="Text Box 5"/>
          <p:cNvSpPr/>
          <p:nvPr/>
        </p:nvSpPr>
        <p:spPr>
          <a:xfrm>
            <a:off x="3154680" y="1268280"/>
            <a:ext cx="59205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С приходом осени листья на деревь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ях и кустарниках изменили свою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окраску и начали опадать. С пониже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нием температуры воздуха, измене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ние окраски листьев идёт всё интен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сивнее. Быстрее идёт и листопад.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Особенно сильно опадают листья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сле заморозков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5:11Z</dcterms:created>
  <dc:creator>мама</dc:creator>
  <dc:description/>
  <dc:language>en-US</dc:language>
  <cp:lastModifiedBy>user</cp:lastModifiedBy>
  <dcterms:modified xsi:type="dcterms:W3CDTF">2022-02-15T05:25:19Z</dcterms:modified>
  <cp:revision>17</cp:revision>
  <dc:subject/>
  <dc:title>В гости к осени.</dc:title>
</cp:coreProperties>
</file>