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7D6-6215-46CA-BD11-6E7C915C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359-C086-44CA-918C-FEA6938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64D-60D1-43FD-894E-08166B96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06F-B8C5-4E23-9F62-2CEF17B3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BE56-AD93-4F68-9FA9-1C2D37DB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93C-2031-4829-99A2-4B2130E6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387-7000-4E84-922B-C25EF980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820-0465-4320-9766-040E35B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7AE8-8F65-4110-8340-3668DBC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6AA8-9178-4374-B2D7-512395E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FCF0-574E-46D5-8038-D2B6644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CD6-AE79-4D12-805C-70A66AB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7AD-2745-4452-8BAA-3AB063F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DC2-2E30-4C0B-8436-0BA9D784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2898-950B-44AD-A671-B3EDCB9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DF8-F7E5-4A58-9DAC-26843B88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8E7C-53CD-44B8-A8F5-53582EA8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82B-A341-4F40-B57D-2776DB91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603-0DD7-4CA6-BD5E-31A646D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BBD-1350-44B9-ABB9-4229D03A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384-AAF8-4157-8C3E-BFFE6D7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429-4E17-4859-878C-AB709D4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EDA-E731-4A5B-B524-94C8181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8EE-8F4B-4376-830E-876B7B2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BAB-AA7E-42F0-9856-910E26219C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32CD-CF6E-4313-B480-19C8A6EF26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zhivojoffice.ru/kt1/tov/4619" TargetMode="External"/><Relationship Id="rId2" Type="http://schemas.openxmlformats.org/officeDocument/2006/relationships/hyperlink" Target="http://snab-td.ru/index.php?categoryID=193" TargetMode="External"/><Relationship Id="rId3" Type="http://schemas.openxmlformats.org/officeDocument/2006/relationships/hyperlink" Target="http://www.ua.all-biz.info/g337535/" TargetMode="External"/><Relationship Id="rId4" Type="http://schemas.openxmlformats.org/officeDocument/2006/relationships/hyperlink" Target="http://www.ua.all-biz.info/g269541/" TargetMode="External"/><Relationship Id="rId5" Type="http://schemas.openxmlformats.org/officeDocument/2006/relationships/hyperlink" Target="http://www.geocollect.ru/thematic.html" TargetMode="External"/><Relationship Id="rId6" Type="http://schemas.openxmlformats.org/officeDocument/2006/relationships/hyperlink" Target="http://www.ua.all-biz.info/buy/goods/?rubric=1267&amp;city=426&amp;page=3" TargetMode="External"/><Relationship Id="rId7" Type="http://schemas.openxmlformats.org/officeDocument/2006/relationships/hyperlink" Target="http://www.conspekt.info/pluss089/8214931268" TargetMode="External"/><Relationship Id="rId8" Type="http://schemas.openxmlformats.org/officeDocument/2006/relationships/hyperlink" Target="http://www.rudim.ru/cat/id-29.html" TargetMode="External"/><Relationship Id="rId9" Type="http://schemas.openxmlformats.org/officeDocument/2006/relationships/hyperlink" Target="http://www.stroyip.ru/site/17704-1399.html" TargetMode="External"/><Relationship Id="rId10" Type="http://schemas.openxmlformats.org/officeDocument/2006/relationships/hyperlink" Target="http://www.dmufa.ru/catalog-2s91.html" TargetMode="External"/><Relationship Id="rId11" Type="http://schemas.openxmlformats.org/officeDocument/2006/relationships/hyperlink" Target="http://shop.lithotherapy.ru/product/collection30_1/" TargetMode="External"/><Relationship Id="rId12" Type="http://schemas.openxmlformats.org/officeDocument/2006/relationships/hyperlink" Target="http://basik.ru/forum/index.php?showtopic=336" TargetMode="External"/><Relationship Id="rId13" Type="http://schemas.openxmlformats.org/officeDocument/2006/relationships/hyperlink" Target="http://blog.imhonet.ru/author/071080kk/?page=6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rshov-geomuz.narod.ru/sistemat.htm" TargetMode="External"/><Relationship Id="rId2" Type="http://schemas.openxmlformats.org/officeDocument/2006/relationships/hyperlink" Target="http://all-pages.com/city_photo/1/1/1/40/" TargetMode="External"/><Relationship Id="rId3" Type="http://schemas.openxmlformats.org/officeDocument/2006/relationships/hyperlink" Target="http://www.mosrif.ru/" TargetMode="External"/><Relationship Id="rId4" Type="http://schemas.openxmlformats.org/officeDocument/2006/relationships/hyperlink" Target="http://www.spb-guide.ru/page_480_5.htm" TargetMode="External"/><Relationship Id="rId5" Type="http://schemas.openxmlformats.org/officeDocument/2006/relationships/hyperlink" Target="http://forum-ok.ru/?p=2344" TargetMode="External"/><Relationship Id="rId6" Type="http://schemas.openxmlformats.org/officeDocument/2006/relationships/hyperlink" Target="http://liverss.ru/cat44/page10/feed39717/" TargetMode="External"/><Relationship Id="rId7" Type="http://schemas.openxmlformats.org/officeDocument/2006/relationships/hyperlink" Target="http://fotki.yandex.ru/users/elza1410/view/113280/" TargetMode="External"/><Relationship Id="rId8" Type="http://schemas.openxmlformats.org/officeDocument/2006/relationships/hyperlink" Target="http://deal.by/p104477-stely-pilony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313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39257"/>
                </a:solidFill>
                <a:latin typeface="Arial"/>
              </a:rPr>
              <a:t>Заглянем в кладовые Земли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513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2_2_2"/>
          <p:cNvPicPr/>
          <p:nvPr/>
        </p:nvPicPr>
        <p:blipFill>
          <a:blip r:embed="rId1"/>
          <a:stretch/>
        </p:blipFill>
        <p:spPr>
          <a:xfrm>
            <a:off x="250920" y="260280"/>
            <a:ext cx="3632040" cy="2724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  <p:pic>
        <p:nvPicPr>
          <p:cNvPr id="214" name="Picture 5" descr="poleziskop_01"/>
          <p:cNvPicPr/>
          <p:nvPr/>
        </p:nvPicPr>
        <p:blipFill>
          <a:blip r:embed="rId2"/>
          <a:stretch/>
        </p:blipFill>
        <p:spPr>
          <a:xfrm>
            <a:off x="5003640" y="260280"/>
            <a:ext cx="3667320" cy="2751120"/>
          </a:xfrm>
          <a:prstGeom prst="rect">
            <a:avLst/>
          </a:prstGeom>
          <a:ln w="38160">
            <a:solidFill>
              <a:srgbClr val="b3925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21"/>
          <p:cNvPicPr/>
          <p:nvPr/>
        </p:nvPicPr>
        <p:blipFill>
          <a:blip r:embed="rId1"/>
          <a:stretch/>
        </p:blipFill>
        <p:spPr>
          <a:xfrm>
            <a:off x="3276720" y="1989000"/>
            <a:ext cx="5538600" cy="41547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81" name="Picture 9" descr="22"/>
          <p:cNvPicPr/>
          <p:nvPr/>
        </p:nvPicPr>
        <p:blipFill>
          <a:blip r:embed="rId2"/>
          <a:stretch/>
        </p:blipFill>
        <p:spPr>
          <a:xfrm>
            <a:off x="3384720" y="1844640"/>
            <a:ext cx="5364000" cy="4486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2" name="Picture 10" descr="23"/>
          <p:cNvPicPr/>
          <p:nvPr/>
        </p:nvPicPr>
        <p:blipFill>
          <a:blip r:embed="rId3"/>
          <a:stretch/>
        </p:blipFill>
        <p:spPr>
          <a:xfrm>
            <a:off x="3205080" y="2349360"/>
            <a:ext cx="5543640" cy="3684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24"/>
          <p:cNvPicPr/>
          <p:nvPr/>
        </p:nvPicPr>
        <p:blipFill>
          <a:blip r:embed="rId1"/>
          <a:stretch/>
        </p:blipFill>
        <p:spPr>
          <a:xfrm>
            <a:off x="3276720" y="1916280"/>
            <a:ext cx="5465520" cy="4098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6" name="Picture 8" descr="25"/>
          <p:cNvPicPr/>
          <p:nvPr/>
        </p:nvPicPr>
        <p:blipFill>
          <a:blip r:embed="rId2"/>
          <a:stretch/>
        </p:blipFill>
        <p:spPr>
          <a:xfrm>
            <a:off x="3132000" y="1916280"/>
            <a:ext cx="5715000" cy="42861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287" name="Picture 9" descr="26"/>
          <p:cNvPicPr/>
          <p:nvPr/>
        </p:nvPicPr>
        <p:blipFill>
          <a:blip r:embed="rId3"/>
          <a:stretch/>
        </p:blipFill>
        <p:spPr>
          <a:xfrm>
            <a:off x="3059280" y="1916280"/>
            <a:ext cx="5905440" cy="3970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288" name="Picture 10" descr="27"/>
          <p:cNvPicPr/>
          <p:nvPr/>
        </p:nvPicPr>
        <p:blipFill>
          <a:blip r:embed="rId4"/>
          <a:stretch/>
        </p:blipFill>
        <p:spPr>
          <a:xfrm>
            <a:off x="3132000" y="1916280"/>
            <a:ext cx="5818320" cy="389412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www.zhivojoffice.ru/kt1/tov/46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snab-td.ru/index.php?categoryID=1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http://www.ua.all-biz.info/g3375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http://www.ua.all-biz.info/g2695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www.geocollect.ru/thematic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6"/>
              </a:rPr>
              <a:t>http://www.ua.all-biz.info/buy/goods/?rubric=1267&amp;city=426&amp;page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7"/>
              </a:rPr>
              <a:t>http://www.conspekt.info/pluss089/82149312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8"/>
              </a:rPr>
              <a:t>http://www.rudim.ru/cat/id-2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9"/>
              </a:rPr>
              <a:t>http://www.stroyip.ru/site/17704-139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0"/>
              </a:rPr>
              <a:t>http://www.dmufa.ru/catalog-2s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1"/>
              </a:rPr>
              <a:t>http://shop.lithotherapy.ru/product/collection30_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2"/>
              </a:rPr>
              <a:t>http://basik.ru/forum/index.php?showtopic=3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33"/>
                </a:solidFill>
                <a:uFillTx/>
                <a:latin typeface="Arial"/>
                <a:hlinkClick r:id="rId13"/>
              </a:rPr>
              <a:t>http://blog.imhonet.ru/author/071080kk/?page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1"/>
              </a:rPr>
              <a:t>http://ershov-geomuz.narod.ru/sistem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2"/>
              </a:rPr>
              <a:t>http://all-pages.com/city_photo/1/1/1/4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3"/>
              </a:rPr>
              <a:t>http://www.mosrif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4"/>
              </a:rPr>
              <a:t>http://www.spb-guide.ru/page_480_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forum-ok.ru/?p=23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6"/>
              </a:rPr>
              <a:t>http://liverss.ru/cat44/page10/feed3971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7"/>
              </a:rPr>
              <a:t>http://fotki.yandex.ru/users/elza1410/view/11328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33"/>
                </a:solidFill>
                <a:uFillTx/>
                <a:latin typeface="Arial"/>
                <a:hlinkClick r:id="rId8"/>
              </a:rPr>
              <a:t>http://deal.by/p104477-stely-pil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yaroslavl.tiu.ru/tags/Ярославль;c1482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pgor/view/2549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bud.ua/?cat=rating&amp;type=1&amp;cpp=17&amp;lng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tarichki.ru/news/view/3/Dom-i-Semwwja/1241/Jekologicheski-chistaja-russkaja-glinjanaja-posu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scstroydom.ru/poleznie-stati-pro-derevyannie-doma/Page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tvetin.ru/zdorovkrasiv/page/6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1908000" y="2060640"/>
            <a:ext cx="5616720" cy="2303280"/>
          </a:xfrm>
          <a:prstGeom prst="wedgeRectCallout">
            <a:avLst>
              <a:gd name="adj1" fmla="val -28662"/>
              <a:gd name="adj2" fmla="val 4393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272320" y="2349360"/>
            <a:ext cx="48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астер белый-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не лежит без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гает по до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т белый сл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1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174924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18" name="Text Box 9"/>
          <p:cNvSpPr/>
          <p:nvPr/>
        </p:nvSpPr>
        <p:spPr>
          <a:xfrm>
            <a:off x="2026080" y="278136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Monotype Corsiva"/>
              </a:rPr>
              <a:t>Отгадай заг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982520" y="2349360"/>
            <a:ext cx="553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нужен дет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на дорожках во дв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на стройке и на пляж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 в стекле расплавлен 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2"/>
          <p:cNvPicPr/>
          <p:nvPr/>
        </p:nvPicPr>
        <p:blipFill>
          <a:blip r:embed="rId2"/>
          <a:stretch/>
        </p:blipFill>
        <p:spPr>
          <a:xfrm>
            <a:off x="5724360" y="189000"/>
            <a:ext cx="3141720" cy="176040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1" name="Text Box 13"/>
          <p:cNvSpPr/>
          <p:nvPr/>
        </p:nvSpPr>
        <p:spPr>
          <a:xfrm>
            <a:off x="2270880" y="2349360"/>
            <a:ext cx="483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стретишь на доро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увязнут сильно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делать миску или ваз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понадобиться с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3"/>
          <p:cNvPicPr/>
          <p:nvPr/>
        </p:nvPicPr>
        <p:blipFill>
          <a:blip r:embed="rId3"/>
          <a:stretch/>
        </p:blipFill>
        <p:spPr>
          <a:xfrm>
            <a:off x="179280" y="4564080"/>
            <a:ext cx="2952720" cy="207792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3" name="Text Box 15"/>
          <p:cNvSpPr/>
          <p:nvPr/>
        </p:nvSpPr>
        <p:spPr>
          <a:xfrm>
            <a:off x="2129400" y="2276640"/>
            <a:ext cx="519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прочен и уп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елям – надёжный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, ступени, поста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 будут и заме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4"/>
          <p:cNvPicPr/>
          <p:nvPr/>
        </p:nvPicPr>
        <p:blipFill>
          <a:blip r:embed="rId4"/>
          <a:stretch/>
        </p:blipFill>
        <p:spPr>
          <a:xfrm>
            <a:off x="5724360" y="4600440"/>
            <a:ext cx="3130560" cy="2078280"/>
          </a:xfrm>
          <a:prstGeom prst="rect">
            <a:avLst/>
          </a:prstGeom>
          <a:ln w="38160">
            <a:solidFill>
              <a:srgbClr val="b1a887"/>
            </a:solidFill>
            <a:miter/>
          </a:ln>
        </p:spPr>
      </p:pic>
      <p:sp>
        <p:nvSpPr>
          <p:cNvPr id="225" name="Text Box 17"/>
          <p:cNvSpPr/>
          <p:nvPr/>
        </p:nvSpPr>
        <p:spPr>
          <a:xfrm>
            <a:off x="2409480" y="2637000"/>
            <a:ext cx="445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 обще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этим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908000" y="2637000"/>
            <a:ext cx="56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, песок, глина, гранит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лезные ископаем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то такое полезные ископаемы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поверхность земли состоит из го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д. Камушки на берегу реки, мел, которым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ите на доске, уголь – всё это горные по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горных пород, называемых рудами, доб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мета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горные породы, полезные для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и называются – полезные ископаемые. Поч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паемые? Потому что многие из них наход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землёй, закрыты от нашего взгляда, их на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лечь («ископать» говорили в старину) из-п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5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С какими горными породами мы познакомились в 1 классе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1" name="Picture 4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3527640" cy="295416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32" name="Picture 6" descr="8"/>
          <p:cNvPicPr/>
          <p:nvPr/>
        </p:nvPicPr>
        <p:blipFill>
          <a:blip r:embed="rId2"/>
          <a:stretch/>
        </p:blipFill>
        <p:spPr>
          <a:xfrm>
            <a:off x="4859280" y="476280"/>
            <a:ext cx="3673440" cy="302400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233" name="Text Box 7"/>
          <p:cNvSpPr/>
          <p:nvPr/>
        </p:nvSpPr>
        <p:spPr>
          <a:xfrm>
            <a:off x="279360" y="3800520"/>
            <a:ext cx="211464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33880" y="3860640"/>
            <a:ext cx="148968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448080" y="6176880"/>
            <a:ext cx="181152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6"/>
          <p:cNvPicPr/>
          <p:nvPr/>
        </p:nvPicPr>
        <p:blipFill>
          <a:blip r:embed="rId3"/>
          <a:stretch/>
        </p:blipFill>
        <p:spPr>
          <a:xfrm>
            <a:off x="2627280" y="2997360"/>
            <a:ext cx="3745080" cy="295272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  <p:pic>
        <p:nvPicPr>
          <p:cNvPr id="237" name="Picture 11" descr="11"/>
          <p:cNvPicPr/>
          <p:nvPr/>
        </p:nvPicPr>
        <p:blipFill>
          <a:blip r:embed="rId4"/>
          <a:stretch/>
        </p:blipFill>
        <p:spPr>
          <a:xfrm>
            <a:off x="1258920" y="1700280"/>
            <a:ext cx="6624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9257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749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кусочки гран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03040" y="2421000"/>
            <a:ext cx="4851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цвет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евой шп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03760" y="3860640"/>
            <a:ext cx="534564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полупрозрачные зёр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р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02320" y="5300640"/>
            <a:ext cx="464472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чёрные блест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ёрна. Это минерал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10"/>
          <p:cNvPicPr/>
          <p:nvPr/>
        </p:nvPicPr>
        <p:blipFill>
          <a:blip r:embed="rId1"/>
          <a:stretch/>
        </p:blipFill>
        <p:spPr>
          <a:xfrm>
            <a:off x="6012000" y="2421000"/>
            <a:ext cx="2916000" cy="38876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44" name="Line 15"/>
          <p:cNvSpPr/>
          <p:nvPr/>
        </p:nvSpPr>
        <p:spPr>
          <a:xfrm>
            <a:off x="4859280" y="5805360"/>
            <a:ext cx="158436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 flipV="1">
            <a:off x="5580000" y="4076640"/>
            <a:ext cx="2376720" cy="2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5076720" y="2852640"/>
            <a:ext cx="1943280" cy="14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8" name="Picture 7" descr="12"/>
          <p:cNvPicPr/>
          <p:nvPr/>
        </p:nvPicPr>
        <p:blipFill>
          <a:blip r:embed="rId1"/>
          <a:stretch/>
        </p:blipFill>
        <p:spPr>
          <a:xfrm>
            <a:off x="250920" y="260280"/>
            <a:ext cx="2539800" cy="249876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49" name="Picture 8" descr="13"/>
          <p:cNvPicPr/>
          <p:nvPr/>
        </p:nvPicPr>
        <p:blipFill>
          <a:blip r:embed="rId2"/>
          <a:stretch/>
        </p:blipFill>
        <p:spPr>
          <a:xfrm>
            <a:off x="3276720" y="260280"/>
            <a:ext cx="2609640" cy="2467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pic>
        <p:nvPicPr>
          <p:cNvPr id="250" name="Picture 9" descr="14"/>
          <p:cNvPicPr/>
          <p:nvPr/>
        </p:nvPicPr>
        <p:blipFill>
          <a:blip r:embed="rId3"/>
          <a:stretch/>
        </p:blipFill>
        <p:spPr>
          <a:xfrm>
            <a:off x="6227640" y="260280"/>
            <a:ext cx="2657520" cy="244800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251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439080" y="4653000"/>
            <a:ext cx="217728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30920" y="5589720"/>
            <a:ext cx="8288280" cy="100764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и минералы, соединяясь вместе, образую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ную породу гран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solidFill>
            <a:srgbClr val="ffff99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Чем отличаются горные породы от минералов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26520" y="3213000"/>
            <a:ext cx="4147560" cy="947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родное по сост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922680" y="4826160"/>
            <a:ext cx="2561040" cy="13737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450760" y="1916280"/>
            <a:ext cx="28447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ая по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42920" y="1916280"/>
            <a:ext cx="223380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нера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955400" y="3213000"/>
            <a:ext cx="395712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состои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их минер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08720" y="4826160"/>
            <a:ext cx="2663640" cy="1800360"/>
          </a:xfrm>
          <a:prstGeom prst="rect">
            <a:avLst/>
          </a:prstGeom>
          <a:solidFill>
            <a:srgbClr val="d7d1b9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212400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6877080" y="249228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212400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877080" y="422100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41160" y="3284640"/>
            <a:ext cx="165456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15"/>
          <p:cNvPicPr/>
          <p:nvPr/>
        </p:nvPicPr>
        <p:blipFill>
          <a:blip r:embed="rId1"/>
          <a:stretch/>
        </p:blipFill>
        <p:spPr>
          <a:xfrm>
            <a:off x="2916360" y="1916280"/>
            <a:ext cx="5688000" cy="426528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1" name="Picture 7" descr="16"/>
          <p:cNvPicPr/>
          <p:nvPr/>
        </p:nvPicPr>
        <p:blipFill>
          <a:blip r:embed="rId2"/>
          <a:stretch/>
        </p:blipFill>
        <p:spPr>
          <a:xfrm>
            <a:off x="2843280" y="1844640"/>
            <a:ext cx="5859360" cy="446256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2" name="Picture 8" descr="17"/>
          <p:cNvPicPr/>
          <p:nvPr/>
        </p:nvPicPr>
        <p:blipFill>
          <a:blip r:embed="rId3"/>
          <a:stretch/>
        </p:blipFill>
        <p:spPr>
          <a:xfrm>
            <a:off x="3851280" y="1773360"/>
            <a:ext cx="4336920" cy="4752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666633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41520" y="3284640"/>
            <a:ext cx="235404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18"/>
          <p:cNvPicPr/>
          <p:nvPr/>
        </p:nvPicPr>
        <p:blipFill>
          <a:blip r:embed="rId1"/>
          <a:stretch/>
        </p:blipFill>
        <p:spPr>
          <a:xfrm>
            <a:off x="4427640" y="1844640"/>
            <a:ext cx="3695760" cy="457200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6" name="Picture 8" descr="19"/>
          <p:cNvPicPr/>
          <p:nvPr/>
        </p:nvPicPr>
        <p:blipFill>
          <a:blip r:embed="rId2"/>
          <a:stretch/>
        </p:blipFill>
        <p:spPr>
          <a:xfrm>
            <a:off x="3708360" y="1773360"/>
            <a:ext cx="4780080" cy="4779720"/>
          </a:xfrm>
          <a:prstGeom prst="rect">
            <a:avLst/>
          </a:prstGeom>
          <a:ln w="57240">
            <a:solidFill>
              <a:srgbClr val="666633"/>
            </a:solidFill>
            <a:miter/>
          </a:ln>
        </p:spPr>
      </p:pic>
      <p:pic>
        <p:nvPicPr>
          <p:cNvPr id="277" name="Picture 9" descr="20"/>
          <p:cNvPicPr/>
          <p:nvPr/>
        </p:nvPicPr>
        <p:blipFill>
          <a:blip r:embed="rId3"/>
          <a:stretch/>
        </p:blipFill>
        <p:spPr>
          <a:xfrm>
            <a:off x="4356000" y="1628640"/>
            <a:ext cx="3727440" cy="496908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6:48:18Z</dcterms:created>
  <dc:creator>мама</dc:creator>
  <dc:description/>
  <dc:language>en-US</dc:language>
  <cp:lastModifiedBy>user</cp:lastModifiedBy>
  <dcterms:modified xsi:type="dcterms:W3CDTF">2022-02-15T05:34:38Z</dcterms:modified>
  <cp:revision>5</cp:revision>
  <dc:subject/>
  <dc:title>Заглянем в кладовые Земли</dc:title>
</cp:coreProperties>
</file>