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8E3-CFE0-4D3C-A8C2-0998F02D06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71D-F12C-4FF8-A580-636E01F38A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1C9-AA49-42CB-922A-F54DC444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178-8B0F-4358-8D54-0DD7E9C8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3B-A428-4A8A-B969-6E162F1E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F8E-B720-4978-81EF-9227DFEC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D3EF-21C1-41A4-9816-B8B2D80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B65-D347-4EDF-901E-C687AFE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2D9F-9D7C-4030-BB26-DCEF8366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1C49-52B1-487F-8137-FE042DDD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F50-9603-4E0A-979A-B4819349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6168-C631-4946-89F8-F8BD218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D4B-FACE-4165-8ABB-CC60922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6FC-9E3E-4A55-8589-44080BF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E85A-75BD-47AC-8B50-6510E75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DCC-D3EA-4E70-A2C1-3D28CA8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E199-60B2-474E-B776-B1FC40D2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97BB-6980-4217-B57D-3ED3E08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FE7D-A11A-4E99-844F-271A992D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BE28A-5265-47D7-8609-BD96DD9E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B45B2-E7B0-44A2-A6E2-66B5107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FF2E5-FFEF-4ECE-A4DB-4E8E86CE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28F30-DDE6-4DA9-87BA-E2A52EC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EFD1A-0CFB-4314-9F94-B45F20F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BB1-4B85-4BA3-B561-E74934F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5BD53-6C55-418F-B8E2-07DCE31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35529-593F-428E-8A5F-A8D1741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5F25C-B822-4945-8D3D-7C545F9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62E9-6F6E-4991-A9AC-D68378A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56383-C540-4E60-A1AE-89947E4D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A94B0-DD1A-4DF4-8B11-F2CD1798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E0085-45E0-4E3A-85D9-46E7A694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0851-7F3F-46AC-A8AB-773EDC34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36AA-8F6A-4669-AA9C-21B5428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4434-DF76-422B-A718-880137F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40E-0834-428C-AAF4-5CCA80D6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EA60-A27E-4A17-8257-1640673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CE98-1DC0-4A2C-8B54-3A4713EE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7AAB-63BD-4DE4-8EA3-AAFE275B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37C6-959F-4B79-B781-1C7CCED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7861-CE65-4DF7-86D6-05EA2E8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A2E7-2B2F-4DC5-B918-5B43837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DB2A-16D4-41B0-82E2-0DE89767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FF5D9-F5B4-4008-B399-20D1F0A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0777-8471-44DA-A090-C5E4869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B308-6D6A-4247-9A55-E6DC8AD6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DC3-869F-407F-8F65-809B5F2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0B5B-028D-463D-BED2-E8E2334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30E9-F902-4B13-8A7C-18CE99B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8D6F-C2AD-44DA-B7F3-61771645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46CA-420C-424B-AB96-7AB1E73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C028D-D359-4992-8CC7-4542C7FF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8B63-DF07-4F3D-9517-A17DEE6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18C6-2F4B-4E2F-9C5E-0B03DDB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74F9-422E-4A61-9D73-BEF5564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DEBE-B4EB-4CB4-9498-5566CFB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4D11E-19BE-4DA9-A55A-ED9BA0A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81D-9E02-43EC-8525-C81EDC3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5023-F636-453A-9F36-79A749F8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88EC-960F-413D-A0BD-36BF80D7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F4D6-FB02-44FD-A08A-969DCB0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7F38-5E05-4B8E-B940-ADBFACC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7149-0737-4B81-8825-F844A950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3309-0953-4BB4-9FD8-4706191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A23A5-B829-4F30-BC5A-EA9E1F6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4E13E-4869-4DB3-9A10-DC0372E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C41D-5B6C-4211-B7CD-4D2368F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8343-DA52-46A7-AE2B-8E0FB19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54D-BA9B-4868-95B8-1B765C0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794F-0346-4877-B948-4D82452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46AEC-067F-47A0-8D56-FCA88734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00F6F-FAB5-4CD0-B8DA-86AE43AC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3BA77-895B-490E-B076-67F6C1D3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C308C-DF84-421D-A9F4-D5EEB1E5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8FCBB-3AB8-42E8-9E7C-A859E81C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F3208-F498-40EE-AE80-02F8A23C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901EF-74E8-4B1C-9A6A-0D722A0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B3063-D2D5-40C1-B0A7-BCAC57C6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D577C-5F7D-47B1-8B8F-0E5CA5F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EEF-0D1F-4DE9-9507-5FEE899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65252-8F7F-48FA-B64E-E27F947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1B8B0-E2DA-45CD-A8B8-1F0F54A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D913F-681F-4C4D-A3F4-880C9F2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E36B8-7D42-40C8-804D-736F405A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F78AC-A07A-46F5-82E0-7AFF714F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11-2246-4C6A-8DEE-879B329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F88-4C3E-42D2-97EA-D415BB4328A6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E96-7D1D-4CD5-B4B4-71A2CA2465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BE0F-8001-439E-A62B-05D44CF93170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10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13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" name="Rectangle 11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13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Oval 13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14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1B04-A1B1-4D85-BC33-CF03DE9E743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18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19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" name="Rectangle 6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19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19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20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7FA-FCE3-4616-9444-30D6298152C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7"/>
          <p:cNvGrpSpPr/>
          <p:nvPr/>
        </p:nvGrpSpPr>
        <p:grpSpPr>
          <a:xfrm>
            <a:off x="0" y="3860640"/>
            <a:ext cx="9144000" cy="2997360"/>
            <a:chOff x="0" y="3860640"/>
            <a:chExt cx="9144000" cy="2997360"/>
          </a:xfrm>
        </p:grpSpPr>
        <p:pic>
          <p:nvPicPr>
            <p:cNvPr id="24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0640"/>
              <a:ext cx="91440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Rectangle 8"/>
          <p:cNvGrpSpPr/>
          <p:nvPr/>
        </p:nvGrpSpPr>
        <p:grpSpPr>
          <a:xfrm>
            <a:off x="0" y="0"/>
            <a:ext cx="9144000" cy="3873600"/>
            <a:chOff x="0" y="0"/>
            <a:chExt cx="9144000" cy="3873600"/>
          </a:xfrm>
        </p:grpSpPr>
        <p:pic>
          <p:nvPicPr>
            <p:cNvPr id="24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6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Oval 10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25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0C4-87B0-44AC-8A2A-C278B1BBB35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Rectangle 6"/>
          <p:cNvGrpSpPr/>
          <p:nvPr/>
        </p:nvGrpSpPr>
        <p:grpSpPr>
          <a:xfrm>
            <a:off x="0" y="5105520"/>
            <a:ext cx="9144000" cy="1752480"/>
            <a:chOff x="0" y="5105520"/>
            <a:chExt cx="9144000" cy="1752480"/>
          </a:xfrm>
        </p:grpSpPr>
        <p:pic>
          <p:nvPicPr>
            <p:cNvPr id="29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5520"/>
              <a:ext cx="9144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3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" name="Rectangle 7"/>
          <p:cNvGrpSpPr/>
          <p:nvPr/>
        </p:nvGrpSpPr>
        <p:grpSpPr>
          <a:xfrm>
            <a:off x="0" y="0"/>
            <a:ext cx="9144000" cy="5118120"/>
            <a:chOff x="0" y="0"/>
            <a:chExt cx="9144000" cy="5118120"/>
          </a:xfrm>
        </p:grpSpPr>
        <p:pic>
          <p:nvPicPr>
            <p:cNvPr id="30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6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Oval 9"/>
          <p:cNvGrpSpPr/>
          <p:nvPr/>
        </p:nvGrpSpPr>
        <p:grpSpPr>
          <a:xfrm>
            <a:off x="0" y="1600200"/>
            <a:ext cx="9144000" cy="5105520"/>
            <a:chOff x="0" y="1600200"/>
            <a:chExt cx="9144000" cy="5105520"/>
          </a:xfrm>
        </p:grpSpPr>
        <p:pic>
          <p:nvPicPr>
            <p:cNvPr id="30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9144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10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906E-AFBE-4D07-87DC-CEBE630CABE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cc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"/>
          <p:cNvPicPr/>
          <p:nvPr/>
        </p:nvPicPr>
        <p:blipFill>
          <a:blip r:embed="rId1"/>
          <a:stretch/>
        </p:blipFill>
        <p:spPr>
          <a:xfrm>
            <a:off x="217440" y="4834080"/>
            <a:ext cx="2698920" cy="20239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468360" y="11890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юных фехтовальщиков-саблис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209760" y="6207120"/>
            <a:ext cx="33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т-Петербур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3564000" y="3898800"/>
            <a:ext cx="53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: Хоров Михаил Юрьевич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 repeatCount="indefinite">
                <p:stCondLst>
                  <p:cond delay="indefinite"/>
                  <p:cond evt="onBegin"/>
                </p:stCondLst>
                <p:childTnLst>
                  <p:par>
                    <p:cTn id="3" nodeType="clickEffect" fill="hold">
                      <p:stCondLst>
                        <p:cond delay="indefinite"/>
                        <p:cond evt="onBegin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924 0.24861 E">
                                      <p:cBhvr>
                                        <p:cTn id="6" dur="30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6924 0.24861 L 0 0 E">
                                      <p:cBhvr>
                                        <p:cTn id="11" dur="30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" dur="30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1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16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11"/>
          <p:cNvSpPr/>
          <p:nvPr/>
        </p:nvSpPr>
        <p:spPr>
          <a:xfrm>
            <a:off x="-368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314"/>
          <p:cNvSpPr/>
          <p:nvPr/>
        </p:nvSpPr>
        <p:spPr>
          <a:xfrm>
            <a:off x="-17953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320"/>
          <p:cNvSpPr/>
          <p:nvPr/>
        </p:nvSpPr>
        <p:spPr>
          <a:xfrm>
            <a:off x="890640" y="57571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- Этапы педагогического эксперимента  и этапы контрол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AutoShape 13"/>
          <p:cNvSpPr/>
          <p:nvPr/>
        </p:nvSpPr>
        <p:spPr>
          <a:xfrm rot="16200000">
            <a:off x="-125280" y="1106280"/>
            <a:ext cx="3976560" cy="2484360"/>
          </a:xfrm>
          <a:custGeom>
            <a:avLst/>
            <a:gdLst>
              <a:gd name="textAreaLeft" fmla="*/ 493200 w 3976560"/>
              <a:gd name="textAreaRight" fmla="*/ 3483360 w 3976560"/>
              <a:gd name="textAreaTop" fmla="*/ 308160 h 2484360"/>
              <a:gd name="textAreaBottom" fmla="*/ 2176200 h 24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" y="21600"/>
                </a:lnTo>
                <a:lnTo>
                  <a:pt x="1984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7"/>
          <p:cNvSpPr/>
          <p:nvPr/>
        </p:nvSpPr>
        <p:spPr>
          <a:xfrm rot="16200000">
            <a:off x="3960720" y="1091880"/>
            <a:ext cx="3976920" cy="2484360"/>
          </a:xfrm>
          <a:custGeom>
            <a:avLst/>
            <a:gdLst>
              <a:gd name="textAreaLeft" fmla="*/ 493200 w 3976920"/>
              <a:gd name="textAreaRight" fmla="*/ 3483720 w 3976920"/>
              <a:gd name="textAreaTop" fmla="*/ 308160 h 2484360"/>
              <a:gd name="textAreaBottom" fmla="*/ 2176200 h 24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" y="21600"/>
                </a:lnTo>
                <a:lnTo>
                  <a:pt x="1984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AutoShape 12"/>
          <p:cNvSpPr/>
          <p:nvPr/>
        </p:nvSpPr>
        <p:spPr>
          <a:xfrm>
            <a:off x="1017720" y="4197240"/>
            <a:ext cx="1885680" cy="712800"/>
          </a:xfrm>
          <a:prstGeom prst="upArrowCallout">
            <a:avLst>
              <a:gd name="adj1" fmla="val 75010"/>
              <a:gd name="adj2" fmla="val 75003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-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5006880" y="4238640"/>
            <a:ext cx="1886040" cy="628560"/>
          </a:xfrm>
          <a:prstGeom prst="upArrowCallout">
            <a:avLst>
              <a:gd name="adj1" fmla="val 75021"/>
              <a:gd name="adj2" fmla="val 75014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-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1052640" y="81900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еодоление препят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10"/>
          <p:cNvSpPr/>
          <p:nvPr/>
        </p:nvSpPr>
        <p:spPr>
          <a:xfrm>
            <a:off x="1049400" y="187956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остановку «маховой» ноги на дорожк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1055520" y="2979720"/>
            <a:ext cx="1724040" cy="781200"/>
          </a:xfrm>
          <a:custGeom>
            <a:avLst/>
            <a:gdLst>
              <a:gd name="textAreaLeft" fmla="*/ 0 w 1724040"/>
              <a:gd name="textAreaRight" fmla="*/ 1724400 w 172404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динамическое равновес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775040" y="642960"/>
            <a:ext cx="2219400" cy="78120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оцессуальную точность в безопорном положении, вне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4775040" y="1527120"/>
            <a:ext cx="2190960" cy="781200"/>
          </a:xfrm>
          <a:custGeom>
            <a:avLst/>
            <a:gdLst>
              <a:gd name="textAreaLeft" fmla="*/ 0 w 2190960"/>
              <a:gd name="textAreaRight" fmla="*/ 2190960 w 21909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процессуальную точность в опорном положении, вне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4764240" y="2411280"/>
            <a:ext cx="2162160" cy="78120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финальную точность в опорном положении, в зависимости от информации, поступающей от телерецептор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2"/>
          <p:cNvSpPr/>
          <p:nvPr/>
        </p:nvSpPr>
        <p:spPr>
          <a:xfrm>
            <a:off x="4764240" y="3262320"/>
            <a:ext cx="2190600" cy="78120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 на финальную точность в опорном положении, в зависимости от информации, поступающей от телерецепторов и изменений ок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среды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AutoShape 8"/>
          <p:cNvSpPr/>
          <p:nvPr/>
        </p:nvSpPr>
        <p:spPr>
          <a:xfrm rot="16200000">
            <a:off x="1518480" y="4528080"/>
            <a:ext cx="890640" cy="1857600"/>
          </a:xfrm>
          <a:custGeom>
            <a:avLst/>
            <a:gdLst>
              <a:gd name="textAreaLeft" fmla="*/ 0 w 890640"/>
              <a:gd name="textAreaRight" fmla="*/ 891000 w 8906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1"/>
          <p:cNvSpPr/>
          <p:nvPr/>
        </p:nvSpPr>
        <p:spPr>
          <a:xfrm rot="16200000">
            <a:off x="5439600" y="4487040"/>
            <a:ext cx="890640" cy="1857600"/>
          </a:xfrm>
          <a:custGeom>
            <a:avLst/>
            <a:gdLst>
              <a:gd name="textAreaLeft" fmla="*/ 0 w 890640"/>
              <a:gd name="textAreaRight" fmla="*/ 891000 w 8906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AutoShape 14"/>
          <p:cNvSpPr/>
          <p:nvPr/>
        </p:nvSpPr>
        <p:spPr>
          <a:xfrm rot="16200000">
            <a:off x="2892960" y="1544760"/>
            <a:ext cx="1886040" cy="1392480"/>
          </a:xfrm>
          <a:prstGeom prst="upArrowCallout">
            <a:avLst>
              <a:gd name="adj1" fmla="val 53229"/>
              <a:gd name="adj2" fmla="val 53218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– обеспечение фундамента физподготовлен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AutoShape 15"/>
          <p:cNvSpPr/>
          <p:nvPr/>
        </p:nvSpPr>
        <p:spPr>
          <a:xfrm rot="16200000">
            <a:off x="7045560" y="1525680"/>
            <a:ext cx="1892160" cy="1425600"/>
          </a:xfrm>
          <a:prstGeom prst="upArrowCallout">
            <a:avLst>
              <a:gd name="adj1" fmla="val 31735"/>
              <a:gd name="adj2" fmla="val 37440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 обеспечение высокого уровня специальной подготовлен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985680" y="5121360"/>
            <a:ext cx="194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формирующего педагогического экспери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Прямоугольник 22"/>
          <p:cNvSpPr/>
          <p:nvPr/>
        </p:nvSpPr>
        <p:spPr>
          <a:xfrm>
            <a:off x="4956120" y="5064120"/>
            <a:ext cx="20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формирующего педагогического экспери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50"/>
          <p:cNvSpPr/>
          <p:nvPr/>
        </p:nvSpPr>
        <p:spPr>
          <a:xfrm>
            <a:off x="1258920" y="5084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62"/>
          <p:cNvSpPr/>
          <p:nvPr/>
        </p:nvSpPr>
        <p:spPr>
          <a:xfrm>
            <a:off x="539640" y="-145080"/>
            <a:ext cx="8269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езультаты педагогического эксперимента в контрольной и экспериментальной группах (прирост показателей координационных способностей) на обще-подготовительном этапе трениров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11280" y="1125360"/>
          <a:ext cx="7421400" cy="5212080"/>
        </p:xfrm>
        <a:graphic>
          <a:graphicData uri="http://schemas.openxmlformats.org/drawingml/2006/table">
            <a:tbl>
              <a:tblPr/>
              <a:tblGrid>
                <a:gridCol w="1027080"/>
                <a:gridCol w="1785960"/>
                <a:gridCol w="1127160"/>
                <a:gridCol w="1304640"/>
                <a:gridCol w="1059120"/>
                <a:gridCol w="11174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экспери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экспери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ент Стьюд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оординированности – преодоление полосы препятствий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 координация – точность постановки «маховой» ноги на дорожку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 динамическое равновесие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-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оценка координированности – преодоление полосы препятствий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 координация – точность постановки «маховой» ноги на дорожку (бал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 на  динамическое равновесие(с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981"/>
          <p:cNvSpPr/>
          <p:nvPr/>
        </p:nvSpPr>
        <p:spPr>
          <a:xfrm>
            <a:off x="-1536840" y="656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-4602240" y="53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-2103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-25257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893880" y="138600"/>
            <a:ext cx="7596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4 – Сопоставление показателей координационной подготовленности в контрольной и экспериментальной группах на специально-подготовительном этапе трениров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19280" y="1685880"/>
          <a:ext cx="7943760" cy="4407120"/>
        </p:xfrm>
        <a:graphic>
          <a:graphicData uri="http://schemas.openxmlformats.org/drawingml/2006/table">
            <a:tbl>
              <a:tblPr/>
              <a:tblGrid>
                <a:gridCol w="1749240"/>
                <a:gridCol w="1228680"/>
                <a:gridCol w="1338480"/>
                <a:gridCol w="1336680"/>
                <a:gridCol w="1144440"/>
                <a:gridCol w="1146240"/>
              </a:tblGrid>
              <a:tr h="1567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ент Стью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0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5±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6±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±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1±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39±0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2±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±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±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±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4±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7±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4±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7±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2±0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-4602240" y="53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-2103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-25257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3480" y="62888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намика показателей основных видов координационных способностей  в контрольной и экспериментальной группах в ходе специально-подготовительного периода подготов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2455920" y="1598760"/>
            <a:ext cx="4584600" cy="1519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2455920" y="3116160"/>
            <a:ext cx="4584600" cy="1752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2455920" y="4865760"/>
            <a:ext cx="4584600" cy="1374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8"/>
          <p:cNvSpPr/>
          <p:nvPr/>
        </p:nvSpPr>
        <p:spPr>
          <a:xfrm>
            <a:off x="1518840" y="546372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4"/>
          <a:stretch/>
        </p:blipFill>
        <p:spPr>
          <a:xfrm>
            <a:off x="2455920" y="0"/>
            <a:ext cx="4584600" cy="16351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5614560" y="66096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388880" y="2192400"/>
            <a:ext cx="5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388880" y="3732480"/>
            <a:ext cx="5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С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439560" y="-202320"/>
            <a:ext cx="8264880" cy="70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становлено, что координационные способности - - одна из составляющих физических способностей, то есть свойство организма к согласованию отдельных элементов движения в единое смысловое целое для решения конкретной двигательной задачи; в фехтовании координация движений тесно взаимосвязана с другими физическими качествами, и высокий уровень ее развития определяет способность фехтовальщиков к выполнению технико-тактических действий, которые отличаются особой координационной сложностью в сабельном фехтовании, а также технико-тактической импровизации в боях с различными противниками.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явлено, что у фехтовальщиков-саблистов структура координационной подготовленности имеет сходную конфигурацию – лучше всего у них развиты быстрота, дифференцировка движений в пространстве и возможности к комплексному проявлению координационных способностей в двигательной деятельности; спортсмены этапа спортивного совершенствования опережают спортсменов этапа углубленной подготовки  по большинству тестов, при этом в выборке спортсменов этапа спортивного совершенствования наиболее велико отставание менее успешных фехтовальщиков от более успешных по таким параметрам, как дифференцировка движений в пространстве и динамическое равновеси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становлено, что в тренировке фехтовальщиков-саблистов этапа спортивного совершенствования целесообразно применять методику развития координационных способностей, основанную на комплексном использовании средств развития координации, т.е. применении как общих, так и специальных средств, направленных на развитие тех из элементарных координационных способностей, которые, как показал, констатирующий педагогический эксперимент, необходимы для успешной соревновательной деятельности в фехтовании.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явлено, что использование в тренировочном процессе фехтовальщиков-саблистов этапа спортивного совершенствования методики развития координационных способностей, основанной на комплексном использовании средств развития координации приводит в ходе как обще-подготовительного, так и специально-подготовительного этапов подготовки к более значительному, по сравнению с использованием традиционной методики, достоверному приросту  (р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0,05) показателей общей и специализированной координации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1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2340000" y="1979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Рисунок 2" descr=""/>
          <p:cNvPicPr/>
          <p:nvPr/>
        </p:nvPicPr>
        <p:blipFill>
          <a:blip r:embed="rId1"/>
          <a:stretch/>
        </p:blipFill>
        <p:spPr>
          <a:xfrm>
            <a:off x="250920" y="2981160"/>
            <a:ext cx="4825800" cy="38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250920" y="267480"/>
            <a:ext cx="8062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исследован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возможности оптимизации процесса развития координационных способностей высококвалифицированных фехтовальщиков-саб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buClr>
                <a:srgbClr val="000000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780640" y="16938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30160" y="197748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следовать содержание координационных способностей, как разновидности физических способностей человека и особенности их развития на разных возрастных этапах, а также обосновать необходимость координационной подготовки в таком виде спорта, как фехт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взаимосвязь уровня развития координационных способностей фехтовальщиков-саблистов с уровнем их спортивного мастерст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ть методику развития координационных способностей фехтовальщиков-саблистов на этапе совершенствования спортивного мастерства и предложить ее для внедрения в тренировочный проце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эффективность методики развития координационных способностей фехтовальщиков-саблистов этапа совершенствования спортивного мастерства на разных этапах годового тренировочного цик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755640" y="802800"/>
            <a:ext cx="7632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я - координационные способности спортсме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мет исследования – особенности, структура и возможности оптимизации развития  координационных способностей фехтовальщиков-саблистов на этапе совершенствования спортивного масте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Рисунок 4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22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30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27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9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30" dur="30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2" dur="30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4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5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95280" y="498240"/>
            <a:ext cx="8423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ипотеза исследования – предполагалось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структуры и особенностей координационных способностей фехтовальщиков-саблистов на этапе совершенствования спортивного мастерства позволит оптимизировать темпы развития тех из числа этих способностей, которые наиболее важны для успешности в фехтов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 repeatCount="indefinite">
                <p:stCondLst>
                  <p:cond delay="indefinite"/>
                  <p:cond evt="onBegin"/>
                </p:stCondLst>
                <p:childTnLst>
                  <p:par>
                    <p:cTn id="38" nodeType="clickEffect" fill="hold">
                      <p:stCondLst>
                        <p:cond delay="indefinite"/>
                        <p:cond evt="onBegin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41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30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46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48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49" dur="30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51" dur="30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5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54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008000" y="781200"/>
            <a:ext cx="7128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учение и анализ литературных источ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дагогический экспери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кспертная оцен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indent="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Метод математической обработки результатов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5925960" y="5229360"/>
            <a:ext cx="30355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969 0.24861 E">
                                      <p:cBhvr>
                                        <p:cTn id="60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0969 0.24861 L -0.21843 0.24861 E">
                                      <p:cBhvr>
                                        <p:cTn id="65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67" nodeType="afterEffect" fill="hold" presetClass="path" presetID="0" repeatCount="100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21843 0.24861 L 0 0 E">
                                      <p:cBhvr>
                                        <p:cTn id="68" dur="3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1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70" dur="30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7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" dur="5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15"/>
          <p:cNvSpPr/>
          <p:nvPr/>
        </p:nvSpPr>
        <p:spPr>
          <a:xfrm>
            <a:off x="863640" y="140400"/>
            <a:ext cx="72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казатели оценки уровня координационных способностей исследуемых – участников эксперимента (условные бал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320"/>
          <p:cNvSpPr/>
          <p:nvPr/>
        </p:nvSpPr>
        <p:spPr>
          <a:xfrm>
            <a:off x="1263600" y="142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512"/>
          <p:cNvSpPr/>
          <p:nvPr/>
        </p:nvSpPr>
        <p:spPr>
          <a:xfrm>
            <a:off x="-604800" y="564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863640" y="1638360"/>
          <a:ext cx="7645320" cy="4819680"/>
        </p:xfrm>
        <a:graphic>
          <a:graphicData uri="http://schemas.openxmlformats.org/drawingml/2006/table">
            <a:tbl>
              <a:tblPr/>
              <a:tblGrid>
                <a:gridCol w="1760400"/>
                <a:gridCol w="725760"/>
                <a:gridCol w="725400"/>
                <a:gridCol w="725400"/>
                <a:gridCol w="725400"/>
                <a:gridCol w="725400"/>
                <a:gridCol w="669960"/>
                <a:gridCol w="901800"/>
                <a:gridCol w="685800"/>
              </a:tblGrid>
              <a:tr h="34128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исследу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арные проявления координационных способ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проявление координационных способ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ческое равновес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ка движение в пространств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овая дифференциро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онная способ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о-ритмовая способ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к согласовыванию движ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 координации в двигательной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спортивного совершенствования в цело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углубленной подготовки n=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а спортивного совершенствования - победите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65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1068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1072"/>
          <p:cNvSpPr/>
          <p:nvPr/>
        </p:nvSpPr>
        <p:spPr>
          <a:xfrm>
            <a:off x="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075"/>
          <p:cNvSpPr/>
          <p:nvPr/>
        </p:nvSpPr>
        <p:spPr>
          <a:xfrm>
            <a:off x="-601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076"/>
          <p:cNvSpPr/>
          <p:nvPr/>
        </p:nvSpPr>
        <p:spPr>
          <a:xfrm>
            <a:off x="1692360" y="470412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унок 1 - Показатели оценки уровня координационных способностей исследуемых – участников эксперимента (условные балл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Рисунок 8" descr=""/>
          <p:cNvPicPr/>
          <p:nvPr/>
        </p:nvPicPr>
        <p:blipFill>
          <a:blip r:embed="rId1"/>
          <a:stretch/>
        </p:blipFill>
        <p:spPr>
          <a:xfrm>
            <a:off x="2050920" y="407880"/>
            <a:ext cx="9387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869"/>
          <p:cNvSpPr/>
          <p:nvPr/>
        </p:nvSpPr>
        <p:spPr>
          <a:xfrm>
            <a:off x="1116000" y="-29520"/>
            <a:ext cx="73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2 - Особенности экспериментальной методики тренировочного процесса фехтовальщиков-саблистов  этапа совершенствования спортивного мастерства в двух группах в плане развития координационных способностей в среднем в пересчете на одно тренировочное занятие (ми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332000" y="2349360"/>
          <a:ext cx="6462720" cy="4280040"/>
        </p:xfrm>
        <a:graphic>
          <a:graphicData uri="http://schemas.openxmlformats.org/drawingml/2006/table">
            <a:tbl>
              <a:tblPr/>
              <a:tblGrid>
                <a:gridCol w="2378160"/>
                <a:gridCol w="1854000"/>
                <a:gridCol w="2230560"/>
              </a:tblGrid>
              <a:tr h="784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средств тренир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2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ы упражнений на дифференцировку движений (параметров движений) в пространств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на динамическое равновес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7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фехтовальные технико-тактические упражнения с постоянным изменением пространственных характеристик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1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11"/>
          <p:cNvSpPr/>
          <p:nvPr/>
        </p:nvSpPr>
        <p:spPr>
          <a:xfrm>
            <a:off x="-368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14"/>
          <p:cNvSpPr/>
          <p:nvPr/>
        </p:nvSpPr>
        <p:spPr>
          <a:xfrm>
            <a:off x="-179532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320"/>
          <p:cNvSpPr/>
          <p:nvPr/>
        </p:nvSpPr>
        <p:spPr>
          <a:xfrm>
            <a:off x="1258920" y="4461480"/>
            <a:ext cx="69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сунок 2 – Блоки экспериментальной методики развития координационных способностей фехтовальщиков-саблис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321" descr="Безымянный 2"/>
          <p:cNvPicPr/>
          <p:nvPr/>
        </p:nvPicPr>
        <p:blipFill>
          <a:blip r:embed="rId1"/>
          <a:srcRect l="21353" t="33806" r="19065" b="35961"/>
          <a:stretch/>
        </p:blipFill>
        <p:spPr>
          <a:xfrm>
            <a:off x="179280" y="765000"/>
            <a:ext cx="87346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21:50Z</dcterms:created>
  <dc:creator>Алекс</dc:creator>
  <dc:description/>
  <dc:language>en-US</dc:language>
  <cp:lastModifiedBy>Microsoft Office User</cp:lastModifiedBy>
  <dcterms:modified xsi:type="dcterms:W3CDTF">2022-02-15T20:30:03Z</dcterms:modified>
  <cp:revision>56</cp:revision>
  <dc:subject/>
  <dc:title>ЭКСПЕРИМЕНТАЛЬНАЯ МЕТОДИКА РАЗВИТИЯ ГИБКОСТИ У БОРЦОВ ДЗЮДО </dc:title>
</cp:coreProperties>
</file>