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A55D-5AF1-496F-9A2A-EDF95C2997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7246-C82A-461B-884D-55A2B006AD5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BEF-B745-495B-82DF-3E3B93B1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F5EA-FA68-4B14-906A-0976CD07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B976-241E-4D9C-A8C0-D5DCE133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5B95-B10E-4757-A61D-71F2468D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C392-7403-4275-86F2-2B27BDEE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D905-DD0D-4059-B57C-9C0EA4DE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BFB6-8A8A-4F7C-B165-B3F75924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E3AF-C1BE-4A33-8E5F-0BC92C26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CDAC-840D-4371-A140-A5184654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A275-9369-4DCE-B88F-6280D48C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D668-6EC9-48C2-A3AD-FD1E26D4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705E-18E1-495A-A0AC-03DD136C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EAC6-88D8-4963-8435-88C02D6C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DE77-BB8D-49E1-8394-1D21C759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2722-DB92-45D2-BBB2-898C5C61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C71D-7765-4C19-B982-79B0CCB3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932D-D3F8-4CED-B4AC-97933367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EBB395-ECA6-4535-BA2B-73CFF839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D4A6AE-B17A-4063-A602-5E3B529D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ABE5F-F75B-4F84-B511-4A96B560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064579-6F96-4A72-B898-E3B44075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33491-0490-4F24-88C6-E30C985E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A22-FDC8-46F8-A17D-43C2A468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CA608-E5A3-4200-AC9C-53F0E284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540D96-00D5-4C94-B3FD-B591E9AB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521DF-707B-4DE5-A368-78AD1A6E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07A9F6-6ECA-4CF2-A405-ED791247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4E8A5C-F67B-44F9-9136-C7250159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69FBDF-0D5A-4054-B091-4A78118E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1090A-1FCE-4901-87A1-C4686660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06118-01CA-4394-A5E9-7CC7F4ED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4DD0A-60EF-479B-AAF2-49DA9B9C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A9233-CF79-4780-9BA8-E0AE5B52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9A2-30FB-46BF-B015-5934B343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4306D-DABB-4371-A76A-4F6C67FD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92B18-6EF9-4DD7-86AA-1C18D9B0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B6F82-854E-454A-AD3A-8C059229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AF739-6EC3-4994-A258-87DA611B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19DCB-587B-4005-BAEE-6CF042FB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54EE3-AD83-4AF0-88AC-4C8D9447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8C804-CDE3-4DD5-A9C3-79466465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56F69-8034-4C47-ABDC-2B73ACE9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0D942-AB3F-4DFB-82F2-B0C2574C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5D8A2-C6CB-4F3B-AC1D-6B71A8D4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80B3-1B3B-4550-A38C-ECE04373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31784-C1B4-478D-BA92-80D002DA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9494E-77A2-4EBB-BDF8-05A8F6F9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B750A-CC48-4349-83A4-82C76EA4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8DFD1-91DD-48AE-A22B-26662E30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67973-DB87-43A3-840B-DE441C80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BADC4-B5FE-41C9-ADC9-C86A929E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CA470-8C3B-4798-A822-41761972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1A01C-DE46-4575-B4BE-B937D20D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B21A9-8DDD-407F-A219-EF7EE943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9C69F-E686-4621-8978-0D9420CA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0608-EDC8-4808-9648-C9E0D8D0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0E4B9-30A0-43F2-A0CC-543D16F4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1A9DC-7189-489A-A4D3-4479642A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E218A-15E7-4005-BD93-EF7880BA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9B255-30DE-43D8-B79F-27088976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1D8B6-472C-4B32-B11C-A80E223D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EACFA-75AB-4E8E-A122-980D8CA5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F9746-C533-4FAC-99B0-85AE4AB6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F8C48-94C5-46BC-8688-F6BAE7C2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497C1-DE21-43A6-8ADC-686BC92B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20403-EB1F-47CD-ABC4-617A827A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7D44-BCEB-4E04-8DF6-E49620CE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364B5-AB1C-42F1-B9C3-96123DF8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076C8-C1AB-4A40-8510-3BF4A674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635D9-705E-453E-98AD-741F5B99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BBB37D-17AE-410D-AC1E-CF90D800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4DA543-DB33-4FA4-A331-7A1B76B1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09F59D-55A6-4D23-8D9E-5310A4C6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AABEBF-68B9-4EEC-ACD4-E34E80D2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0D723E-5589-4A6D-8F5D-AB8EA6EC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AA36C4-1080-4F3D-A9B2-5B85A8AD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0502D5-95C3-4A03-8136-6EDD2DD0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578-1935-4EBB-A443-67E7B999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7D59DB-3C6A-4C6B-8D31-E9940F04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D68C91-E687-42F4-AD01-3D15FED4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46205B-7143-458B-A577-B6473993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3691D1-9534-4102-9F01-F5994B9C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E99090-1AE6-423B-AEA8-C91C5B01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E5EF-A624-4B4C-B54A-F9B93DC6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1CBB-B195-4CD3-A519-04F1577EC90E}" type="slidenum">
              <a:rPr b="0" lang="ru-RU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ectangle 6"/>
          <p:cNvGrpSpPr/>
          <p:nvPr/>
        </p:nvGrpSpPr>
        <p:grpSpPr>
          <a:xfrm>
            <a:off x="0" y="5105520"/>
            <a:ext cx="9144000" cy="1752480"/>
            <a:chOff x="0" y="5105520"/>
            <a:chExt cx="9144000" cy="1752480"/>
          </a:xfrm>
        </p:grpSpPr>
        <p:pic>
          <p:nvPicPr>
            <p:cNvPr id="4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5520"/>
              <a:ext cx="91440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3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" name="Rectangle 7"/>
          <p:cNvGrpSpPr/>
          <p:nvPr/>
        </p:nvGrpSpPr>
        <p:grpSpPr>
          <a:xfrm>
            <a:off x="0" y="0"/>
            <a:ext cx="9144000" cy="5118120"/>
            <a:chOff x="0" y="0"/>
            <a:chExt cx="9144000" cy="5118120"/>
          </a:xfrm>
        </p:grpSpPr>
        <p:pic>
          <p:nvPicPr>
            <p:cNvPr id="4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6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" name="Oval 9"/>
          <p:cNvGrpSpPr/>
          <p:nvPr/>
        </p:nvGrpSpPr>
        <p:grpSpPr>
          <a:xfrm>
            <a:off x="0" y="1600200"/>
            <a:ext cx="9144000" cy="5105520"/>
            <a:chOff x="0" y="1600200"/>
            <a:chExt cx="9144000" cy="5105520"/>
          </a:xfrm>
        </p:grpSpPr>
        <p:pic>
          <p:nvPicPr>
            <p:cNvPr id="4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0200"/>
              <a:ext cx="914400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0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E070-CA6B-41B0-9D9A-EB2EE39D537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6A87-E12E-46DF-BD51-643FD8011CDD}" type="slidenum">
              <a:rPr b="0" lang="ru-RU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10"/>
          <p:cNvGrpSpPr/>
          <p:nvPr/>
        </p:nvGrpSpPr>
        <p:grpSpPr>
          <a:xfrm>
            <a:off x="0" y="3860640"/>
            <a:ext cx="9144000" cy="2997360"/>
            <a:chOff x="0" y="3860640"/>
            <a:chExt cx="9144000" cy="2997360"/>
          </a:xfrm>
        </p:grpSpPr>
        <p:pic>
          <p:nvPicPr>
            <p:cNvPr id="13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0640"/>
              <a:ext cx="9144000" cy="29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3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6" name="Rectangle 11"/>
          <p:cNvGrpSpPr/>
          <p:nvPr/>
        </p:nvGrpSpPr>
        <p:grpSpPr>
          <a:xfrm>
            <a:off x="0" y="0"/>
            <a:ext cx="9144000" cy="3873600"/>
            <a:chOff x="0" y="0"/>
            <a:chExt cx="9144000" cy="3873600"/>
          </a:xfrm>
        </p:grpSpPr>
        <p:pic>
          <p:nvPicPr>
            <p:cNvPr id="13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6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" name="Oval 13"/>
          <p:cNvGrpSpPr/>
          <p:nvPr/>
        </p:nvGrpSpPr>
        <p:grpSpPr>
          <a:xfrm>
            <a:off x="0" y="1600200"/>
            <a:ext cx="9144000" cy="5105520"/>
            <a:chOff x="0" y="1600200"/>
            <a:chExt cx="9144000" cy="5105520"/>
          </a:xfrm>
        </p:grpSpPr>
        <p:pic>
          <p:nvPicPr>
            <p:cNvPr id="14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0200"/>
              <a:ext cx="914400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0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1C66-E4E0-4B47-9577-95A1F8F8A4C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5105520"/>
            <a:ext cx="9144000" cy="1752480"/>
            <a:chOff x="0" y="5105520"/>
            <a:chExt cx="9144000" cy="175248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5520"/>
              <a:ext cx="91440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3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" name="Rectangle 7"/>
          <p:cNvGrpSpPr/>
          <p:nvPr/>
        </p:nvGrpSpPr>
        <p:grpSpPr>
          <a:xfrm>
            <a:off x="0" y="0"/>
            <a:ext cx="9144000" cy="5118120"/>
            <a:chOff x="0" y="0"/>
            <a:chExt cx="9144000" cy="5118120"/>
          </a:xfrm>
        </p:grpSpPr>
        <p:pic>
          <p:nvPicPr>
            <p:cNvPr id="18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6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" name="Oval 9"/>
          <p:cNvGrpSpPr/>
          <p:nvPr/>
        </p:nvGrpSpPr>
        <p:grpSpPr>
          <a:xfrm>
            <a:off x="0" y="1600200"/>
            <a:ext cx="9144000" cy="5105520"/>
            <a:chOff x="0" y="1600200"/>
            <a:chExt cx="9144000" cy="5105520"/>
          </a:xfrm>
        </p:grpSpPr>
        <p:pic>
          <p:nvPicPr>
            <p:cNvPr id="19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0200"/>
              <a:ext cx="914400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10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4" name="Rectangle 6"/>
          <p:cNvGrpSpPr/>
          <p:nvPr/>
        </p:nvGrpSpPr>
        <p:grpSpPr>
          <a:xfrm>
            <a:off x="0" y="3860640"/>
            <a:ext cx="9144000" cy="2997360"/>
            <a:chOff x="0" y="3860640"/>
            <a:chExt cx="9144000" cy="2997360"/>
          </a:xfrm>
        </p:grpSpPr>
        <p:pic>
          <p:nvPicPr>
            <p:cNvPr id="195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0640"/>
              <a:ext cx="9144000" cy="29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3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" name="Rectangle 7"/>
          <p:cNvGrpSpPr/>
          <p:nvPr/>
        </p:nvGrpSpPr>
        <p:grpSpPr>
          <a:xfrm>
            <a:off x="0" y="0"/>
            <a:ext cx="9144000" cy="3873600"/>
            <a:chOff x="0" y="0"/>
            <a:chExt cx="9144000" cy="3873600"/>
          </a:xfrm>
        </p:grpSpPr>
        <p:pic>
          <p:nvPicPr>
            <p:cNvPr id="198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16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" name="Oval 9"/>
          <p:cNvGrpSpPr/>
          <p:nvPr/>
        </p:nvGrpSpPr>
        <p:grpSpPr>
          <a:xfrm>
            <a:off x="0" y="1600200"/>
            <a:ext cx="9144000" cy="5105520"/>
            <a:chOff x="0" y="1600200"/>
            <a:chExt cx="9144000" cy="5105520"/>
          </a:xfrm>
        </p:grpSpPr>
        <p:pic>
          <p:nvPicPr>
            <p:cNvPr id="202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0200"/>
              <a:ext cx="914400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20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B8F9-2F7D-49A9-A95C-562754A56CA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Rectangle 7"/>
          <p:cNvGrpSpPr/>
          <p:nvPr/>
        </p:nvGrpSpPr>
        <p:grpSpPr>
          <a:xfrm>
            <a:off x="0" y="3860640"/>
            <a:ext cx="9144000" cy="2997360"/>
            <a:chOff x="0" y="3860640"/>
            <a:chExt cx="9144000" cy="2997360"/>
          </a:xfrm>
        </p:grpSpPr>
        <p:pic>
          <p:nvPicPr>
            <p:cNvPr id="24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0640"/>
              <a:ext cx="9144000" cy="29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3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8" name="Rectangle 8"/>
          <p:cNvGrpSpPr/>
          <p:nvPr/>
        </p:nvGrpSpPr>
        <p:grpSpPr>
          <a:xfrm>
            <a:off x="0" y="0"/>
            <a:ext cx="9144000" cy="3873600"/>
            <a:chOff x="0" y="0"/>
            <a:chExt cx="9144000" cy="3873600"/>
          </a:xfrm>
        </p:grpSpPr>
        <p:pic>
          <p:nvPicPr>
            <p:cNvPr id="249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6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1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2" name="Oval 10"/>
          <p:cNvGrpSpPr/>
          <p:nvPr/>
        </p:nvGrpSpPr>
        <p:grpSpPr>
          <a:xfrm>
            <a:off x="0" y="1600200"/>
            <a:ext cx="9144000" cy="5105520"/>
            <a:chOff x="0" y="1600200"/>
            <a:chExt cx="9144000" cy="5105520"/>
          </a:xfrm>
        </p:grpSpPr>
        <p:pic>
          <p:nvPicPr>
            <p:cNvPr id="253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0200"/>
              <a:ext cx="914400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10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D0A6-9C21-4F49-9F82-5258F95EA5F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Rectangle 6"/>
          <p:cNvGrpSpPr/>
          <p:nvPr/>
        </p:nvGrpSpPr>
        <p:grpSpPr>
          <a:xfrm>
            <a:off x="0" y="5105520"/>
            <a:ext cx="9144000" cy="1752480"/>
            <a:chOff x="0" y="5105520"/>
            <a:chExt cx="9144000" cy="1752480"/>
          </a:xfrm>
        </p:grpSpPr>
        <p:pic>
          <p:nvPicPr>
            <p:cNvPr id="29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5520"/>
              <a:ext cx="91440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 Box 3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9" name="Rectangle 7"/>
          <p:cNvGrpSpPr/>
          <p:nvPr/>
        </p:nvGrpSpPr>
        <p:grpSpPr>
          <a:xfrm>
            <a:off x="0" y="0"/>
            <a:ext cx="9144000" cy="5118120"/>
            <a:chOff x="0" y="0"/>
            <a:chExt cx="9144000" cy="5118120"/>
          </a:xfrm>
        </p:grpSpPr>
        <p:pic>
          <p:nvPicPr>
            <p:cNvPr id="300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6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2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3" name="Oval 9"/>
          <p:cNvGrpSpPr/>
          <p:nvPr/>
        </p:nvGrpSpPr>
        <p:grpSpPr>
          <a:xfrm>
            <a:off x="0" y="1600200"/>
            <a:ext cx="9144000" cy="5105520"/>
            <a:chOff x="0" y="1600200"/>
            <a:chExt cx="9144000" cy="5105520"/>
          </a:xfrm>
        </p:grpSpPr>
        <p:pic>
          <p:nvPicPr>
            <p:cNvPr id="304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0200"/>
              <a:ext cx="914400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10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AADF-FDC4-40D9-B11C-71FB8EB65B0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cc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Рисунок 2" descr=""/>
          <p:cNvPicPr/>
          <p:nvPr/>
        </p:nvPicPr>
        <p:blipFill>
          <a:blip r:embed="rId1"/>
          <a:stretch/>
        </p:blipFill>
        <p:spPr>
          <a:xfrm>
            <a:off x="217440" y="4834080"/>
            <a:ext cx="2698920" cy="202392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7"/>
          <p:cNvSpPr/>
          <p:nvPr/>
        </p:nvSpPr>
        <p:spPr>
          <a:xfrm>
            <a:off x="468360" y="118908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координационных способностей у юных фехтовальщиков-саблис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Box 4"/>
          <p:cNvSpPr/>
          <p:nvPr/>
        </p:nvSpPr>
        <p:spPr>
          <a:xfrm>
            <a:off x="3209760" y="6207120"/>
            <a:ext cx="33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т-Петербург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02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Box 1"/>
          <p:cNvSpPr/>
          <p:nvPr/>
        </p:nvSpPr>
        <p:spPr>
          <a:xfrm>
            <a:off x="3564000" y="3898800"/>
            <a:ext cx="53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ыполнил: Хоров Михаил Юрьевич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Д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 repeatCount="indefinite">
                <p:stCondLst>
                  <p:cond delay="indefinite"/>
                  <p:cond evt="onBegin"/>
                </p:stCondLst>
                <p:childTnLst>
                  <p:par>
                    <p:cTn id="3" nodeType="clickEffect" fill="hold">
                      <p:stCondLst>
                        <p:cond delay="indefinite"/>
                        <p:cond evt="onBegin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924 0.24861 E">
                                      <p:cBhvr>
                                        <p:cTn id="6" dur="30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30000" fill="hold"/>
                                        <p:tgtEl>
                                          <p:spTgt spid="3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" nodeType="afterEffect" fill="hold" presetClass="path" presetID="0" repeatCount="100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0.06924 0.24861 L 0 0 E">
                                      <p:cBhvr>
                                        <p:cTn id="11" dur="30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6" repeatCount="1000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13" dur="30000" fill="hold"/>
                                        <p:tgtEl>
                                          <p:spTgt spid="3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65000"/>
                            </p:stCondLst>
                            <p:childTnLst>
                              <p:par>
                                <p:cTn id="15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E">
                                      <p:cBhvr>
                                        <p:cTn id="16" dur="5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11"/>
          <p:cNvSpPr/>
          <p:nvPr/>
        </p:nvSpPr>
        <p:spPr>
          <a:xfrm>
            <a:off x="-36828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Rectangle 314"/>
          <p:cNvSpPr/>
          <p:nvPr/>
        </p:nvSpPr>
        <p:spPr>
          <a:xfrm>
            <a:off x="-179532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320"/>
          <p:cNvSpPr/>
          <p:nvPr/>
        </p:nvSpPr>
        <p:spPr>
          <a:xfrm>
            <a:off x="890640" y="575712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3 - Этапы педагогического эксперимента  и этапы контрол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AutoShape 13"/>
          <p:cNvSpPr/>
          <p:nvPr/>
        </p:nvSpPr>
        <p:spPr>
          <a:xfrm rot="16200000">
            <a:off x="-125280" y="1106280"/>
            <a:ext cx="3976560" cy="2484360"/>
          </a:xfrm>
          <a:custGeom>
            <a:avLst/>
            <a:gdLst>
              <a:gd name="textAreaLeft" fmla="*/ 493200 w 3976560"/>
              <a:gd name="textAreaRight" fmla="*/ 3483360 w 3976560"/>
              <a:gd name="textAreaTop" fmla="*/ 308160 h 2484360"/>
              <a:gd name="textAreaBottom" fmla="*/ 2176200 h 24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" y="21600"/>
                </a:lnTo>
                <a:lnTo>
                  <a:pt x="1984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AutoShape 7"/>
          <p:cNvSpPr/>
          <p:nvPr/>
        </p:nvSpPr>
        <p:spPr>
          <a:xfrm rot="16200000">
            <a:off x="3960720" y="1091880"/>
            <a:ext cx="3976920" cy="2484360"/>
          </a:xfrm>
          <a:custGeom>
            <a:avLst/>
            <a:gdLst>
              <a:gd name="textAreaLeft" fmla="*/ 493200 w 3976920"/>
              <a:gd name="textAreaRight" fmla="*/ 3483720 w 3976920"/>
              <a:gd name="textAreaTop" fmla="*/ 308160 h 2484360"/>
              <a:gd name="textAreaBottom" fmla="*/ 2176200 h 24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" y="21600"/>
                </a:lnTo>
                <a:lnTo>
                  <a:pt x="1984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AutoShape 12"/>
          <p:cNvSpPr/>
          <p:nvPr/>
        </p:nvSpPr>
        <p:spPr>
          <a:xfrm>
            <a:off x="1017720" y="4197240"/>
            <a:ext cx="1885680" cy="712800"/>
          </a:xfrm>
          <a:prstGeom prst="upArrowCallout">
            <a:avLst>
              <a:gd name="adj1" fmla="val 75010"/>
              <a:gd name="adj2" fmla="val 75003"/>
              <a:gd name="adj3" fmla="val 16667"/>
              <a:gd name="adj4" fmla="val 666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е-подготовительный этап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AutoShape 6"/>
          <p:cNvSpPr/>
          <p:nvPr/>
        </p:nvSpPr>
        <p:spPr>
          <a:xfrm>
            <a:off x="5006880" y="4238640"/>
            <a:ext cx="1886040" cy="628560"/>
          </a:xfrm>
          <a:prstGeom prst="upArrowCallout">
            <a:avLst>
              <a:gd name="adj1" fmla="val 75021"/>
              <a:gd name="adj2" fmla="val 75014"/>
              <a:gd name="adj3" fmla="val 16667"/>
              <a:gd name="adj4" fmla="val 666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циально-подготовительный этап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AutoShape 11"/>
          <p:cNvSpPr/>
          <p:nvPr/>
        </p:nvSpPr>
        <p:spPr>
          <a:xfrm>
            <a:off x="1052640" y="819000"/>
            <a:ext cx="1724040" cy="781200"/>
          </a:xfrm>
          <a:custGeom>
            <a:avLst/>
            <a:gdLst>
              <a:gd name="textAreaLeft" fmla="*/ 0 w 1724040"/>
              <a:gd name="textAreaRight" fmla="*/ 1724400 w 172404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ест на преодоление препятств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10"/>
          <p:cNvSpPr/>
          <p:nvPr/>
        </p:nvSpPr>
        <p:spPr>
          <a:xfrm>
            <a:off x="1049400" y="1879560"/>
            <a:ext cx="1724040" cy="781200"/>
          </a:xfrm>
          <a:custGeom>
            <a:avLst/>
            <a:gdLst>
              <a:gd name="textAreaLeft" fmla="*/ 0 w 1724040"/>
              <a:gd name="textAreaRight" fmla="*/ 1724400 w 172404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ест на постановку «маховой» ноги на дорожк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AutoShape 9"/>
          <p:cNvSpPr/>
          <p:nvPr/>
        </p:nvSpPr>
        <p:spPr>
          <a:xfrm>
            <a:off x="1055520" y="2979720"/>
            <a:ext cx="1724040" cy="781200"/>
          </a:xfrm>
          <a:custGeom>
            <a:avLst/>
            <a:gdLst>
              <a:gd name="textAreaLeft" fmla="*/ 0 w 1724040"/>
              <a:gd name="textAreaRight" fmla="*/ 1724400 w 172404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ест на динамическое равновес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4775040" y="642960"/>
            <a:ext cx="2219400" cy="781200"/>
          </a:xfrm>
          <a:custGeom>
            <a:avLst/>
            <a:gdLst>
              <a:gd name="textAreaLeft" fmla="*/ 0 w 2219400"/>
              <a:gd name="textAreaRight" fmla="*/ 2219760 w 221940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Тест на процессуальную точность в безопорном положении, вне зависимости от информации, поступающей от телерецепторов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AutoShape 4"/>
          <p:cNvSpPr/>
          <p:nvPr/>
        </p:nvSpPr>
        <p:spPr>
          <a:xfrm>
            <a:off x="4775040" y="1527120"/>
            <a:ext cx="2190960" cy="781200"/>
          </a:xfrm>
          <a:custGeom>
            <a:avLst/>
            <a:gdLst>
              <a:gd name="textAreaLeft" fmla="*/ 0 w 2190960"/>
              <a:gd name="textAreaRight" fmla="*/ 2190960 w 21909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Тест на процессуальную точность в опорном положении, вне зависимости от информации, поступающей от телерецепторов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AutoShape 3"/>
          <p:cNvSpPr/>
          <p:nvPr/>
        </p:nvSpPr>
        <p:spPr>
          <a:xfrm>
            <a:off x="4764240" y="2411280"/>
            <a:ext cx="2162160" cy="78120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Тест на финальную точность в опорном положении, в зависимости от информации, поступающей от телерецепторов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AutoShape 2"/>
          <p:cNvSpPr/>
          <p:nvPr/>
        </p:nvSpPr>
        <p:spPr>
          <a:xfrm>
            <a:off x="4764240" y="3262320"/>
            <a:ext cx="2190600" cy="781200"/>
          </a:xfrm>
          <a:custGeom>
            <a:avLst/>
            <a:gdLst>
              <a:gd name="textAreaLeft" fmla="*/ 0 w 2190600"/>
              <a:gd name="textAreaRight" fmla="*/ 2190960 w 219060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ст на финальную точность в опорном положении, в зависимости от информации, поступающей от телерецепторов и изменений ок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среды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AutoShape 8"/>
          <p:cNvSpPr/>
          <p:nvPr/>
        </p:nvSpPr>
        <p:spPr>
          <a:xfrm rot="16200000">
            <a:off x="1518480" y="4528080"/>
            <a:ext cx="890640" cy="1857600"/>
          </a:xfrm>
          <a:custGeom>
            <a:avLst/>
            <a:gdLst>
              <a:gd name="textAreaLeft" fmla="*/ 0 w 890640"/>
              <a:gd name="textAreaRight" fmla="*/ 891000 w 890640"/>
              <a:gd name="textAreaTop" fmla="*/ 0 h 1857600"/>
              <a:gd name="textAreaBottom" fmla="*/ 1857960 h 18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AutoShape 1"/>
          <p:cNvSpPr/>
          <p:nvPr/>
        </p:nvSpPr>
        <p:spPr>
          <a:xfrm rot="16200000">
            <a:off x="5439600" y="4487040"/>
            <a:ext cx="890640" cy="1857600"/>
          </a:xfrm>
          <a:custGeom>
            <a:avLst/>
            <a:gdLst>
              <a:gd name="textAreaLeft" fmla="*/ 0 w 890640"/>
              <a:gd name="textAreaRight" fmla="*/ 891000 w 890640"/>
              <a:gd name="textAreaTop" fmla="*/ 0 h 1857600"/>
              <a:gd name="textAreaBottom" fmla="*/ 1857960 h 18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AutoShape 14"/>
          <p:cNvSpPr/>
          <p:nvPr/>
        </p:nvSpPr>
        <p:spPr>
          <a:xfrm rot="16200000">
            <a:off x="2892960" y="1544760"/>
            <a:ext cx="1886040" cy="1392480"/>
          </a:xfrm>
          <a:prstGeom prst="upArrowCallout">
            <a:avLst>
              <a:gd name="adj1" fmla="val 53229"/>
              <a:gd name="adj2" fmla="val 53218"/>
              <a:gd name="adj3" fmla="val 16667"/>
              <a:gd name="adj4" fmla="val 666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ь – обеспечение фундамента физподготовленност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AutoShape 15"/>
          <p:cNvSpPr/>
          <p:nvPr/>
        </p:nvSpPr>
        <p:spPr>
          <a:xfrm rot="16200000">
            <a:off x="7045560" y="1525680"/>
            <a:ext cx="1892160" cy="1425600"/>
          </a:xfrm>
          <a:prstGeom prst="upArrowCallout">
            <a:avLst>
              <a:gd name="adj1" fmla="val 31735"/>
              <a:gd name="adj2" fmla="val 37440"/>
              <a:gd name="adj3" fmla="val 16667"/>
              <a:gd name="adj4" fmla="val 666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ь обеспечение высокого уровня специальной подготовленност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Прямоугольник 21"/>
          <p:cNvSpPr/>
          <p:nvPr/>
        </p:nvSpPr>
        <p:spPr>
          <a:xfrm>
            <a:off x="985680" y="5121360"/>
            <a:ext cx="1949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этап формирующего педагогического экспери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Прямоугольник 22"/>
          <p:cNvSpPr/>
          <p:nvPr/>
        </p:nvSpPr>
        <p:spPr>
          <a:xfrm>
            <a:off x="4956120" y="5064120"/>
            <a:ext cx="20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этап формирующего педагогического экспери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550"/>
          <p:cNvSpPr/>
          <p:nvPr/>
        </p:nvSpPr>
        <p:spPr>
          <a:xfrm>
            <a:off x="1258920" y="5084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662"/>
          <p:cNvSpPr/>
          <p:nvPr/>
        </p:nvSpPr>
        <p:spPr>
          <a:xfrm>
            <a:off x="539640" y="-145080"/>
            <a:ext cx="82695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Результаты педагогического эксперимента в контрольной и экспериментальной группах (прирост показателей координационных способностей) на обще-подготовительном этапе трениров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611280" y="1125360"/>
          <a:ext cx="7421400" cy="5212080"/>
        </p:xfrm>
        <a:graphic>
          <a:graphicData uri="http://schemas.openxmlformats.org/drawingml/2006/table">
            <a:tbl>
              <a:tblPr/>
              <a:tblGrid>
                <a:gridCol w="1027080"/>
                <a:gridCol w="1785960"/>
                <a:gridCol w="1127160"/>
                <a:gridCol w="1304640"/>
                <a:gridCol w="1059120"/>
                <a:gridCol w="111744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 зна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экспериме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 зна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экспериме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циент Стьюде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им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68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ая оценка координированности – преодоление полосы препятствий (балл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начи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 координация – точность постановки «маховой» ноги на дорожку (балл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начи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 на  динамическое равновесие(с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начи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68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имен-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ая оценка координированности – преодоление полосы препятствий (балл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 координация – точность постановки «маховой» ноги на дорожку (балл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 на  динамическое равновесие(с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6" name="Rectangle 981"/>
          <p:cNvSpPr/>
          <p:nvPr/>
        </p:nvSpPr>
        <p:spPr>
          <a:xfrm>
            <a:off x="-1536840" y="656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6"/>
          <p:cNvSpPr/>
          <p:nvPr/>
        </p:nvSpPr>
        <p:spPr>
          <a:xfrm>
            <a:off x="-4602240" y="53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0" y="215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16"/>
          <p:cNvSpPr/>
          <p:nvPr/>
        </p:nvSpPr>
        <p:spPr>
          <a:xfrm>
            <a:off x="-21034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0"/>
          <p:cNvSpPr/>
          <p:nvPr/>
        </p:nvSpPr>
        <p:spPr>
          <a:xfrm>
            <a:off x="-252576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21"/>
          <p:cNvSpPr/>
          <p:nvPr/>
        </p:nvSpPr>
        <p:spPr>
          <a:xfrm>
            <a:off x="893880" y="138600"/>
            <a:ext cx="7596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а 4 – Сопоставление показателей координационной подготовленности в контрольной и экспериментальной группах на специально-подготовительном этапе трениров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719280" y="1685880"/>
          <a:ext cx="7943760" cy="4407120"/>
        </p:xfrm>
        <a:graphic>
          <a:graphicData uri="http://schemas.openxmlformats.org/drawingml/2006/table">
            <a:tbl>
              <a:tblPr/>
              <a:tblGrid>
                <a:gridCol w="1749240"/>
                <a:gridCol w="1228680"/>
                <a:gridCol w="1338480"/>
                <a:gridCol w="1336680"/>
                <a:gridCol w="1144440"/>
                <a:gridCol w="1146240"/>
              </a:tblGrid>
              <a:tr h="156708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 зна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эксперим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 зна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эксперим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циент Стьюд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и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320">
                <a:tc rowSpan="4"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0±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0±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начи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5±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6±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начи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0±0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1±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начи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39±0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2±0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начи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4240">
                <a:tc rowSpan="4"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имента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±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±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9±0,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4±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7±0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4±0,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97±0,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92±0,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6"/>
          <p:cNvSpPr/>
          <p:nvPr/>
        </p:nvSpPr>
        <p:spPr>
          <a:xfrm>
            <a:off x="-4602240" y="53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0" y="215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16"/>
          <p:cNvSpPr/>
          <p:nvPr/>
        </p:nvSpPr>
        <p:spPr>
          <a:xfrm>
            <a:off x="-21034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Rectangle 20"/>
          <p:cNvSpPr/>
          <p:nvPr/>
        </p:nvSpPr>
        <p:spPr>
          <a:xfrm>
            <a:off x="-252576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Rectangle 21"/>
          <p:cNvSpPr/>
          <p:nvPr/>
        </p:nvSpPr>
        <p:spPr>
          <a:xfrm>
            <a:off x="33480" y="628884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инамика показателей основных видов координационных способностей  в контрольной и экспериментальной группах в ходе специально-подготовительного периода подготовк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2455920" y="1598760"/>
            <a:ext cx="4584600" cy="15192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2455920" y="3116160"/>
            <a:ext cx="4584600" cy="1752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" descr=""/>
          <p:cNvPicPr/>
          <p:nvPr/>
        </p:nvPicPr>
        <p:blipFill>
          <a:blip r:embed="rId3"/>
          <a:stretch/>
        </p:blipFill>
        <p:spPr>
          <a:xfrm>
            <a:off x="2455920" y="4865760"/>
            <a:ext cx="4584600" cy="137484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8"/>
          <p:cNvSpPr/>
          <p:nvPr/>
        </p:nvSpPr>
        <p:spPr>
          <a:xfrm>
            <a:off x="1518840" y="5463720"/>
            <a:ext cx="51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С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4"/>
          <a:stretch/>
        </p:blipFill>
        <p:spPr>
          <a:xfrm>
            <a:off x="2455920" y="0"/>
            <a:ext cx="4584600" cy="163512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5614560" y="660960"/>
            <a:ext cx="51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С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1388880" y="2192400"/>
            <a:ext cx="51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1388880" y="3732480"/>
            <a:ext cx="51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С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5"/>
          <p:cNvSpPr/>
          <p:nvPr/>
        </p:nvSpPr>
        <p:spPr>
          <a:xfrm>
            <a:off x="439560" y="-202320"/>
            <a:ext cx="8264880" cy="70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buClr>
                <a:srgbClr val="000000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Установлено, что координационные способности - - одна из составляющих физических способностей, то есть свойство организма к согласованию отдельных элементов движения в единое смысловое целое для решения конкретной двигательной задачи; в фехтовании координация движений тесно взаимосвязана с другими физическими качествами, и высокий уровень ее развития определяет способность фехтовальщиков к выполнению технико-тактических действий, которые отличаются особой координационной сложностью в сабельном фехтовании, а также технико-тактической импровизации в боях с различными противниками.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buClr>
                <a:srgbClr val="000000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buClr>
                <a:srgbClr val="000000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ыявлено, что у фехтовальщиков-саблистов структура координационной подготовленности имеет сходную конфигурацию – лучше всего у них развиты быстрота, дифференцировка движений в пространстве и возможности к комплексному проявлению координационных способностей в двигательной деятельности; спортсмены этапа спортивного совершенствования опережают спортсменов этапа углубленной подготовки  по большинству тестов, при этом в выборке спортсменов этапа спортивного совершенствования наиболее велико отставание менее успешных фехтовальщиков от более успешных по таким параметрам, как дифференцировка движений в пространстве и динамическое равновесие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buClr>
                <a:srgbClr val="000000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buClr>
                <a:srgbClr val="000000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Установлено, что в тренировке фехтовальщиков-саблистов этапа спортивного совершенствования целесообразно применять методику развития координационных способностей, основанную на комплексном использовании средств развития координации, т.е. применении как общих, так и специальных средств, направленных на развитие тех из элементарных координационных способностей, которые, как показал, констатирующий педагогический эксперимент, необходимы для успешной соревновательной деятельности в фехтовании.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buClr>
                <a:srgbClr val="000000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buClr>
                <a:srgbClr val="000000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ыявлено, что использование в тренировочном процессе фехтовальщиков-саблистов этапа спортивного совершенствования методики развития координационных способностей, основанной на комплексном использовании средств развития координации приводит в ходе как обще-подготовительного, так и специально-подготовительного этапов подготовки к более значительному, по сравнению с использованием традиционной методики, достоверному приросту  (р</a:t>
            </a:r>
            <a:r>
              <a:rPr b="0" lang="ru-RU" sz="13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0,05) показателей общей и специализированной координации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d1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4"/>
          <p:cNvSpPr/>
          <p:nvPr/>
        </p:nvSpPr>
        <p:spPr>
          <a:xfrm>
            <a:off x="2340000" y="197964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8" name="Рисунок 2" descr=""/>
          <p:cNvPicPr/>
          <p:nvPr/>
        </p:nvPicPr>
        <p:blipFill>
          <a:blip r:embed="rId1"/>
          <a:stretch/>
        </p:blipFill>
        <p:spPr>
          <a:xfrm>
            <a:off x="250920" y="2981160"/>
            <a:ext cx="4825800" cy="38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4"/>
          <p:cNvSpPr/>
          <p:nvPr/>
        </p:nvSpPr>
        <p:spPr>
          <a:xfrm>
            <a:off x="250920" y="267480"/>
            <a:ext cx="806292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ель исследования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явление возможности оптимизации процесса развития координационных способностей высококвалифицированных фехтовальщиков-саблист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buClr>
                <a:srgbClr val="000000"/>
              </a:buClr>
              <a:buFont typeface="Tahoma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2780640" y="169380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чи исследов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830160" y="1977480"/>
            <a:ext cx="748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7200" algn="just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следовать содержание координационных способностей, как разновидности физических способностей человека и особенности их развития на разных возрастных этапах, а также обосновать необходимость координационной подготовки в таком виде спорта, как фехтова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7200" algn="just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ределить взаимосвязь уровня развития координационных способностей фехтовальщиков-саблистов с уровнем их спортивного мастерств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7200" algn="just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работать методику развития координационных способностей фехтовальщиков-саблистов на этапе совершенствования спортивного мастерства и предложить ее для внедрения в тренировочный процес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7200" algn="just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верить эффективность методики развития координационных способностей фехтовальщиков-саблистов этапа совершенствования спортивного мастерства на разных этапах годового тренировочного цикл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"/>
          <p:cNvSpPr/>
          <p:nvPr/>
        </p:nvSpPr>
        <p:spPr>
          <a:xfrm>
            <a:off x="755640" y="802800"/>
            <a:ext cx="763272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ъек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следования - координационные способности спортсме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мет исследования – особенности, структура и возможности оптимизации развития  координационных способностей фехтовальщиков-саблистов на этапе совершенствования спортивного мастер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2" name="Рисунок 4" descr=""/>
          <p:cNvPicPr/>
          <p:nvPr/>
        </p:nvPicPr>
        <p:blipFill>
          <a:blip r:embed="rId1"/>
          <a:stretch/>
        </p:blipFill>
        <p:spPr>
          <a:xfrm>
            <a:off x="5925960" y="5229360"/>
            <a:ext cx="303552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0969 0.24861 E">
                                      <p:cBhvr>
                                        <p:cTn id="22" dur="30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30000" fill="hold"/>
                                        <p:tgtEl>
                                          <p:spTgt spid="3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6" nodeType="afterEffect" fill="hold" presetClass="path" presetID="0" repeatCount="100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0.20969 0.24861 L -0.21843 0.24861 E">
                                      <p:cBhvr>
                                        <p:cTn id="27" dur="30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5000"/>
                            </p:stCondLst>
                            <p:childTnLst>
                              <p:par>
                                <p:cTn id="29" nodeType="afterEffect" fill="hold" presetClass="path" presetID="0" repeatCount="100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0.21843 0.24861 L 0 0 E">
                                      <p:cBhvr>
                                        <p:cTn id="30" dur="30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6" repeatCount="1000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32" dur="30000" fill="hold"/>
                                        <p:tgtEl>
                                          <p:spTgt spid="3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00"/>
                            </p:stCondLst>
                            <p:childTnLst>
                              <p:par>
                                <p:cTn id="34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E">
                                      <p:cBhvr>
                                        <p:cTn id="35" dur="5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Рисунок 5" descr=""/>
          <p:cNvPicPr/>
          <p:nvPr/>
        </p:nvPicPr>
        <p:blipFill>
          <a:blip r:embed="rId1"/>
          <a:stretch/>
        </p:blipFill>
        <p:spPr>
          <a:xfrm>
            <a:off x="5925960" y="5229360"/>
            <a:ext cx="3035520" cy="141120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7"/>
          <p:cNvSpPr/>
          <p:nvPr/>
        </p:nvSpPr>
        <p:spPr>
          <a:xfrm>
            <a:off x="395280" y="498240"/>
            <a:ext cx="842328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ипотеза исследования – предполагалось, чт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ка структуры и особенностей координационных способностей фехтовальщиков-саблистов на этапе совершенствования спортивного мастерства позволит оптимизировать темпы развития тех из числа этих способностей, которые наиболее важны для успешности в фехтовальной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 repeatCount="indefinite">
                <p:stCondLst>
                  <p:cond delay="indefinite"/>
                  <p:cond evt="onBegin"/>
                </p:stCondLst>
                <p:childTnLst>
                  <p:par>
                    <p:cTn id="38" nodeType="clickEffect" fill="hold">
                      <p:stCondLst>
                        <p:cond delay="indefinite"/>
                        <p:cond evt="onBegin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0969 0.24861 E">
                                      <p:cBhvr>
                                        <p:cTn id="41" dur="30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30000" fill="hold"/>
                                        <p:tgtEl>
                                          <p:spTgt spid="3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45" nodeType="afterEffect" fill="hold" presetClass="path" presetID="0" repeatCount="100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0.20969 0.24861 L -0.21843 0.24861 E">
                                      <p:cBhvr>
                                        <p:cTn id="46" dur="30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5000"/>
                            </p:stCondLst>
                            <p:childTnLst>
                              <p:par>
                                <p:cTn id="48" nodeType="afterEffect" fill="hold" presetClass="path" presetID="0" repeatCount="100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0.21843 0.24861 L 0 0 E">
                                      <p:cBhvr>
                                        <p:cTn id="49" dur="30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6" repeatCount="1000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51" dur="30000" fill="hold"/>
                                        <p:tgtEl>
                                          <p:spTgt spid="3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00"/>
                            </p:stCondLst>
                            <p:childTnLst>
                              <p:par>
                                <p:cTn id="53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E">
                                      <p:cBhvr>
                                        <p:cTn id="54" dur="5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4"/>
          <p:cNvSpPr/>
          <p:nvPr/>
        </p:nvSpPr>
        <p:spPr>
          <a:xfrm>
            <a:off x="1008000" y="781200"/>
            <a:ext cx="712800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етоды исследовани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учение и анализ литературных источник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дагогический эксперимен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кспертная оценк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indent="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Метод математической обработки результатов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6" name="Рисунок 4" descr=""/>
          <p:cNvPicPr/>
          <p:nvPr/>
        </p:nvPicPr>
        <p:blipFill>
          <a:blip r:embed="rId1"/>
          <a:stretch/>
        </p:blipFill>
        <p:spPr>
          <a:xfrm>
            <a:off x="5925960" y="5229360"/>
            <a:ext cx="303552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0969 0.24861 E">
                                      <p:cBhvr>
                                        <p:cTn id="60" dur="30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30000" fill="hold"/>
                                        <p:tgtEl>
                                          <p:spTgt spid="3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64" nodeType="afterEffect" fill="hold" presetClass="path" presetID="0" repeatCount="100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0.20969 0.24861 L -0.21843 0.24861 E">
                                      <p:cBhvr>
                                        <p:cTn id="65" dur="30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65000"/>
                            </p:stCondLst>
                            <p:childTnLst>
                              <p:par>
                                <p:cTn id="67" nodeType="afterEffect" fill="hold" presetClass="path" presetID="0" repeatCount="100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0.21843 0.24861 L 0 0 E">
                                      <p:cBhvr>
                                        <p:cTn id="68" dur="30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6" repeatCount="1000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70" dur="30000" fill="hold"/>
                                        <p:tgtEl>
                                          <p:spTgt spid="3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00"/>
                            </p:stCondLst>
                            <p:childTnLst>
                              <p:par>
                                <p:cTn id="72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E">
                                      <p:cBhvr>
                                        <p:cTn id="73" dur="5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215"/>
          <p:cNvSpPr/>
          <p:nvPr/>
        </p:nvSpPr>
        <p:spPr>
          <a:xfrm>
            <a:off x="863640" y="140400"/>
            <a:ext cx="727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Показатели оценки уровня координационных способностей исследуемых – участников эксперимента (условные баллы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1320"/>
          <p:cNvSpPr/>
          <p:nvPr/>
        </p:nvSpPr>
        <p:spPr>
          <a:xfrm>
            <a:off x="1263600" y="1427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Rectangle 1512"/>
          <p:cNvSpPr/>
          <p:nvPr/>
        </p:nvSpPr>
        <p:spPr>
          <a:xfrm>
            <a:off x="-604800" y="564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863640" y="1638360"/>
          <a:ext cx="7645320" cy="4819680"/>
        </p:xfrm>
        <a:graphic>
          <a:graphicData uri="http://schemas.openxmlformats.org/drawingml/2006/table">
            <a:tbl>
              <a:tblPr/>
              <a:tblGrid>
                <a:gridCol w="1760400"/>
                <a:gridCol w="725760"/>
                <a:gridCol w="725400"/>
                <a:gridCol w="725400"/>
                <a:gridCol w="725400"/>
                <a:gridCol w="725400"/>
                <a:gridCol w="669960"/>
                <a:gridCol w="901800"/>
                <a:gridCol w="685800"/>
              </a:tblGrid>
              <a:tr h="34128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исследуем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т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арные проявления координационных способ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ое проявление координационных способ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мическое равновес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о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ровка движение в пространств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овая дифференциров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ационная способно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о-ритмовая способно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к согласовыванию движ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явление координации в двигательной деятель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а спортивного совершенствования в целом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а углубленной подготовки n=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а спортивного совершенствования - победители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065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Rectangle 1068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1072"/>
          <p:cNvSpPr/>
          <p:nvPr/>
        </p:nvSpPr>
        <p:spPr>
          <a:xfrm>
            <a:off x="0" y="229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Rectangle 1075"/>
          <p:cNvSpPr/>
          <p:nvPr/>
        </p:nvSpPr>
        <p:spPr>
          <a:xfrm>
            <a:off x="-60156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Rectangle 1076"/>
          <p:cNvSpPr/>
          <p:nvPr/>
        </p:nvSpPr>
        <p:spPr>
          <a:xfrm>
            <a:off x="1692360" y="470412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унок 1 - Показатели оценки уровня координационных способностей исследуемых – участников эксперимента (условные баллы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6" name="Рисунок 8" descr=""/>
          <p:cNvPicPr/>
          <p:nvPr/>
        </p:nvPicPr>
        <p:blipFill>
          <a:blip r:embed="rId1"/>
          <a:stretch/>
        </p:blipFill>
        <p:spPr>
          <a:xfrm>
            <a:off x="2050920" y="407880"/>
            <a:ext cx="93870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869"/>
          <p:cNvSpPr/>
          <p:nvPr/>
        </p:nvSpPr>
        <p:spPr>
          <a:xfrm>
            <a:off x="1116000" y="-29520"/>
            <a:ext cx="7343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а 2 - Особенности экспериментальной методики тренировочного процесса фехтовальщиков-саблистов  этапа совершенствования спортивного мастерства в двух группах в плане развития координационных способностей в среднем в пересчете на одно тренировочное занятие (мин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332000" y="2349360"/>
          <a:ext cx="6462720" cy="4280040"/>
        </p:xfrm>
        <a:graphic>
          <a:graphicData uri="http://schemas.openxmlformats.org/drawingml/2006/table">
            <a:tbl>
              <a:tblPr/>
              <a:tblGrid>
                <a:gridCol w="2378160"/>
                <a:gridCol w="1854000"/>
                <a:gridCol w="2230560"/>
              </a:tblGrid>
              <a:tr h="7844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 средств трениро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ая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иментальная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26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ы упражнений на дифференцировку движений (параметров движений) в пространств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8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жнения на динамическое равновес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70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фехтовальные технико-тактические упражнения с постоянным изменением пространственных характеристик вы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d1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11"/>
          <p:cNvSpPr/>
          <p:nvPr/>
        </p:nvSpPr>
        <p:spPr>
          <a:xfrm>
            <a:off x="-36828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Rectangle 314"/>
          <p:cNvSpPr/>
          <p:nvPr/>
        </p:nvSpPr>
        <p:spPr>
          <a:xfrm>
            <a:off x="-179532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Rectangle 320"/>
          <p:cNvSpPr/>
          <p:nvPr/>
        </p:nvSpPr>
        <p:spPr>
          <a:xfrm>
            <a:off x="1258920" y="4461480"/>
            <a:ext cx="691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исунок 2 – Блоки экспериментальной методики развития координационных способностей фехтовальщиков-саблист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2" name="Picture 321" descr="Безымянный 2"/>
          <p:cNvPicPr/>
          <p:nvPr/>
        </p:nvPicPr>
        <p:blipFill>
          <a:blip r:embed="rId1"/>
          <a:srcRect l="21353" t="33806" r="19065" b="35961"/>
          <a:stretch/>
        </p:blipFill>
        <p:spPr>
          <a:xfrm>
            <a:off x="179280" y="765000"/>
            <a:ext cx="873468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6:21:50Z</dcterms:created>
  <dc:creator>Алекс</dc:creator>
  <dc:description/>
  <dc:language>en-US</dc:language>
  <cp:lastModifiedBy>Microsoft Office User</cp:lastModifiedBy>
  <dcterms:modified xsi:type="dcterms:W3CDTF">2022-02-15T20:30:03Z</dcterms:modified>
  <cp:revision>56</cp:revision>
  <dc:subject/>
  <dc:title>ЭКСПЕРИМЕНТАЛЬНАЯ МЕТОДИКА РАЗВИТИЯ ГИБКОСТИ У БОРЦОВ ДЗЮДО </dc:title>
</cp:coreProperties>
</file>