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0.jpeg" ContentType="image/jpeg"/>
  <Override PartName="/ppt/media/image14.gif" ContentType="image/gif"/>
  <Override PartName="/ppt/media/image19.jpeg" ContentType="image/jpeg"/>
  <Override PartName="/ppt/media/image18.gif" ContentType="image/gif"/>
  <Override PartName="/ppt/media/image17.gif" ContentType="image/gif"/>
  <Override PartName="/ppt/media/image16.gif" ContentType="image/gif"/>
  <Override PartName="/ppt/media/image1.png" ContentType="image/png"/>
  <Override PartName="/ppt/media/image15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4.jpeg" ContentType="image/jpeg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EBB6-C1F8-4474-9897-6828D3A5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DF6B-F57D-42B6-9F82-9D9085FB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737D-C7B0-4A01-B632-EB81D5AA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D5FD-8833-41B1-A28E-92FE462F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12F3-221E-45BC-BFF5-FDDE7317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1818-EA73-4461-9EAA-739A2561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92D1-215A-42E9-B1AA-B173D6F9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CEAF-E525-42B2-8BAC-06BD18D9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8F08-C177-4A78-96CE-014473B6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B9E6-B4D7-4467-A7D6-D3079A96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2DDF-2EC0-45C0-B0A3-898A7FD4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54BD-6FBD-45C6-BF5D-8B490FCD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4F6F-9315-4EC3-A240-8DD43FEB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33E3-078B-4325-BB67-8C235203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AEE9-74FF-426C-92EC-1D5A0400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197F-7812-4866-8DEA-B646F70A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520E-7FF5-4F9E-A936-164D08B3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06AC-66F2-4025-A2D8-91687C35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6A0E-4D48-45BD-9D0B-76A82467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2FC7-B06B-4ACE-906D-C29984A3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CF80-0589-400E-909A-ED121734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027D-44E5-441B-B147-CCA7B48C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E4A9-3BB4-4966-855C-72BB818D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EA70-1C1C-4245-9CCF-60D5812C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5257-04AF-4B50-8566-6BE1ECD226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4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7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9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0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2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3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4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5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3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FB96-7484-40B4-8F93-A515314BF8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556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420000" y="2060640"/>
            <a:ext cx="404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вёздное неб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c96b04db3307a94bbec3db7ee0fadce4"/>
          <p:cNvPicPr/>
          <p:nvPr/>
        </p:nvPicPr>
        <p:blipFill>
          <a:blip r:embed="rId1"/>
          <a:stretch/>
        </p:blipFill>
        <p:spPr>
          <a:xfrm>
            <a:off x="179280" y="3933720"/>
            <a:ext cx="3060720" cy="273060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8920" y="4320720"/>
            <a:ext cx="871380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ками разной величины на карте показ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ёзды от ярчайших до менее заме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звезда имеет своё наз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е яркие из них – Полярная звез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га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48410907_sever_skymap"/>
          <p:cNvPicPr/>
          <p:nvPr/>
        </p:nvPicPr>
        <p:blipFill>
          <a:blip r:embed="rId1"/>
          <a:stretch/>
        </p:blipFill>
        <p:spPr>
          <a:xfrm>
            <a:off x="2411280" y="260280"/>
            <a:ext cx="4762800" cy="3962520"/>
          </a:xfrm>
          <a:prstGeom prst="rect">
            <a:avLst/>
          </a:prstGeom>
          <a:ln w="0">
            <a:noFill/>
          </a:ln>
        </p:spPr>
      </p:pic>
      <p:sp>
        <p:nvSpPr>
          <p:cNvPr id="155" name="Line 5"/>
          <p:cNvSpPr/>
          <p:nvPr/>
        </p:nvSpPr>
        <p:spPr>
          <a:xfrm flipH="1" flipV="1">
            <a:off x="5003280" y="2491920"/>
            <a:ext cx="2737080" cy="1368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 flipH="1" flipV="1">
            <a:off x="6804000" y="691920"/>
            <a:ext cx="1728720" cy="8650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99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1-ый абзац на стр. 31 и отв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Что такое созвезд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65200" y="3716280"/>
            <a:ext cx="7963920" cy="1068840"/>
          </a:xfrm>
          <a:prstGeom prst="rect">
            <a:avLst/>
          </a:prstGeom>
          <a:solidFill>
            <a:srgbClr val="ffff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вездие – это группа наиболее ярки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тных на тёмном небе звёз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88160" y="5130720"/>
            <a:ext cx="761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С какими созвездиями м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познакомились в 1 класс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48414444_volopas"/>
          <p:cNvPicPr/>
          <p:nvPr/>
        </p:nvPicPr>
        <p:blipFill>
          <a:blip r:embed="rId1"/>
          <a:stretch/>
        </p:blipFill>
        <p:spPr>
          <a:xfrm>
            <a:off x="3059280" y="260280"/>
            <a:ext cx="5736960" cy="4781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48405365_lev"/>
          <p:cNvPicPr/>
          <p:nvPr/>
        </p:nvPicPr>
        <p:blipFill>
          <a:blip r:embed="rId2"/>
          <a:stretch/>
        </p:blipFill>
        <p:spPr>
          <a:xfrm>
            <a:off x="179280" y="1773360"/>
            <a:ext cx="5399280" cy="4535280"/>
          </a:xfrm>
          <a:prstGeom prst="rect">
            <a:avLst/>
          </a:prstGeom>
          <a:ln w="0">
            <a:noFill/>
          </a:ln>
        </p:spPr>
      </p:pic>
      <p:sp>
        <p:nvSpPr>
          <p:cNvPr id="165" name="Line 6"/>
          <p:cNvSpPr/>
          <p:nvPr/>
        </p:nvSpPr>
        <p:spPr>
          <a:xfrm flipV="1">
            <a:off x="3492360" y="5734080"/>
            <a:ext cx="0" cy="1008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"/>
          <p:cNvSpPr/>
          <p:nvPr/>
        </p:nvSpPr>
        <p:spPr>
          <a:xfrm flipV="1">
            <a:off x="7667640" y="2133360"/>
            <a:ext cx="0" cy="31669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Кассиоп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7"/>
          <p:cNvPicPr/>
          <p:nvPr/>
        </p:nvPicPr>
        <p:blipFill>
          <a:blip r:embed="rId1"/>
          <a:stretch/>
        </p:blipFill>
        <p:spPr>
          <a:xfrm>
            <a:off x="1619280" y="1413000"/>
            <a:ext cx="5905440" cy="44892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2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692000" y="4508640"/>
            <a:ext cx="5986440" cy="204768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W» [дабл ю] к ЦЕФЕЮ близ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 «woman» по-англий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жена царя ЦЕФ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да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АССИОПЕ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7"/>
          <p:cNvPicPr/>
          <p:nvPr/>
        </p:nvPicPr>
        <p:blipFill>
          <a:blip r:embed="rId1"/>
          <a:stretch/>
        </p:blipFill>
        <p:spPr>
          <a:xfrm>
            <a:off x="2124000" y="404640"/>
            <a:ext cx="4969080" cy="37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Ори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6"/>
          <p:cNvPicPr/>
          <p:nvPr/>
        </p:nvPicPr>
        <p:blipFill>
          <a:blip r:embed="rId1"/>
          <a:stretch/>
        </p:blipFill>
        <p:spPr>
          <a:xfrm>
            <a:off x="1476360" y="1413000"/>
            <a:ext cx="6097680" cy="45734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3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6"/>
          <p:cNvPicPr/>
          <p:nvPr/>
        </p:nvPicPr>
        <p:blipFill>
          <a:blip r:embed="rId1"/>
          <a:stretch/>
        </p:blipFill>
        <p:spPr>
          <a:xfrm>
            <a:off x="4859280" y="907920"/>
            <a:ext cx="4033800" cy="43214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324000" y="907920"/>
            <a:ext cx="4248000" cy="484884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поясавшись потуж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хоты снаряжё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упает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РИ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е звезды из высшей л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РИОНЕ - это РИГ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авом нижнем угол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но бант на башма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на левом эполет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ТЕЛЬГЕЙЗЕ ярко све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 звезды наиско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ашают пояс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Леб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4"/>
          <p:cNvPicPr/>
          <p:nvPr/>
        </p:nvPicPr>
        <p:blipFill>
          <a:blip r:embed="rId1"/>
          <a:stretch/>
        </p:blipFill>
        <p:spPr>
          <a:xfrm>
            <a:off x="1403280" y="1341360"/>
            <a:ext cx="6031080" cy="45165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4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4"/>
          <p:cNvPicPr/>
          <p:nvPr/>
        </p:nvPicPr>
        <p:blipFill>
          <a:blip r:embed="rId1"/>
          <a:stretch/>
        </p:blipFill>
        <p:spPr>
          <a:xfrm>
            <a:off x="0" y="1197000"/>
            <a:ext cx="4464000" cy="40640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4572000" y="1052640"/>
            <a:ext cx="4392720" cy="411732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ЦЕФЕЕМ и ЛИР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лья раскинув над мир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ЛЕБЕД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спеш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ит в высо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рко сверк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Б на хво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сною ноч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Млечном Пу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верный Кре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райся най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тешествие по Зодиа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1"/>
          <p:cNvPicPr/>
          <p:nvPr/>
        </p:nvPicPr>
        <p:blipFill>
          <a:blip r:embed="rId1"/>
          <a:stretch/>
        </p:blipFill>
        <p:spPr>
          <a:xfrm>
            <a:off x="468360" y="1557360"/>
            <a:ext cx="7775640" cy="42051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320400" y="6021360"/>
            <a:ext cx="81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те текст в учебнике на стр.32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гадай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147160" cy="2549520"/>
          </a:xfrm>
          <a:prstGeom prst="rect">
            <a:avLst/>
          </a:prstGeom>
          <a:solidFill>
            <a:srgbClr val="6699ff"/>
          </a:solidFill>
          <a:ln w="381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ёмному небу рассыпан гороше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ной карамели из сахарной крош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только тогда, когда утро настан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я карамель та внезапно раст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277080" y="5373720"/>
            <a:ext cx="211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Звёз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067280" y="1267920"/>
            <a:ext cx="540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Зоди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всего созвездий в Зодиа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«гостит» солнце у каждого созвезд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акого созвездия принято начинать путешествие по Зодиа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6"/>
          <p:cNvPicPr/>
          <p:nvPr/>
        </p:nvPicPr>
        <p:blipFill>
          <a:blip r:embed="rId1"/>
          <a:stretch/>
        </p:blipFill>
        <p:spPr>
          <a:xfrm>
            <a:off x="250920" y="1773360"/>
            <a:ext cx="3676680" cy="3809880"/>
          </a:xfrm>
          <a:prstGeom prst="rect">
            <a:avLst/>
          </a:prstGeom>
          <a:ln w="57240">
            <a:solidFill>
              <a:srgbClr val="66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nhome.ru/prose/153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onbass.ua/news/technology/space/2009/08/06/zvezda-pljuetsja-v-nebo-foto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sunhome.ru/tags/publications/звезды+гиг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is.3dn.ru/load/31-3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astrogalaxy.ru/736.ht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karaoke.ru/user/Nektok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goodfon.ru/wallpaper/43024.ht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sovestilizator.bestpersons.ru/feed/post8413951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planeta.rambler.ru/community/astrologica/47938398.html?parent_id=4794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684360" y="580536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Monotype Corsiva"/>
              </a:rPr>
              <a:t>- Что вы знаете о звёзда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6"/>
          <p:cNvPicPr/>
          <p:nvPr/>
        </p:nvPicPr>
        <p:blipFill>
          <a:blip r:embed="rId1"/>
          <a:stretch/>
        </p:blipFill>
        <p:spPr>
          <a:xfrm>
            <a:off x="900000" y="692280"/>
            <a:ext cx="7201080" cy="48211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звёзд очень разнообразен. В безоблачный ясный вечер небо над вашей головой усыпано множеством звёзд. Они кажутся маленькими сверкающими точками, потому что находятся очень далеко от Земли. В действительности каждая звезда – это огромный светящийся раскалённый ш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1"/>
          <p:cNvPicPr/>
          <p:nvPr/>
        </p:nvPicPr>
        <p:blipFill>
          <a:blip r:embed="rId1"/>
          <a:stretch/>
        </p:blipFill>
        <p:spPr>
          <a:xfrm>
            <a:off x="2916360" y="4365720"/>
            <a:ext cx="3311280" cy="23842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507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е горячие звёзды  голуб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а, другие, менее горячие – крас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2005-0322cluster-full"/>
          <p:cNvPicPr/>
          <p:nvPr/>
        </p:nvPicPr>
        <p:blipFill>
          <a:blip r:embed="rId1"/>
          <a:stretch/>
        </p:blipFill>
        <p:spPr>
          <a:xfrm>
            <a:off x="1979640" y="1557360"/>
            <a:ext cx="4979880" cy="492912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ть звёзды – гиганты, а 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ёзды – кар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2"/>
          <p:cNvPicPr/>
          <p:nvPr/>
        </p:nvPicPr>
        <p:blipFill>
          <a:blip r:embed="rId1"/>
          <a:stretch/>
        </p:blipFill>
        <p:spPr>
          <a:xfrm>
            <a:off x="5508720" y="333360"/>
            <a:ext cx="2879640" cy="2230560"/>
          </a:xfrm>
          <a:prstGeom prst="rect">
            <a:avLst/>
          </a:prstGeom>
          <a:ln w="0">
            <a:noFill/>
          </a:ln>
        </p:spPr>
      </p:pic>
      <p:sp>
        <p:nvSpPr>
          <p:cNvPr id="134" name="Line 5"/>
          <p:cNvSpPr/>
          <p:nvPr/>
        </p:nvSpPr>
        <p:spPr>
          <a:xfrm flipV="1">
            <a:off x="4067280" y="1052280"/>
            <a:ext cx="1655640" cy="360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5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207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776160" y="1125360"/>
            <a:ext cx="3141720" cy="64260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езда-гиг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H="1">
            <a:off x="1692360" y="5300640"/>
            <a:ext cx="151272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3512160" y="5013360"/>
            <a:ext cx="3268440" cy="64260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езда-карл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6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лнце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cme-x-class-26oct03"/>
          <p:cNvPicPr/>
          <p:nvPr/>
        </p:nvPicPr>
        <p:blipFill>
          <a:blip r:embed="rId1"/>
          <a:stretch/>
        </p:blipFill>
        <p:spPr>
          <a:xfrm>
            <a:off x="1979640" y="1484280"/>
            <a:ext cx="4716360" cy="471636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  <p:sp>
        <p:nvSpPr>
          <p:cNvPr id="142" name="Text Box 6"/>
          <p:cNvSpPr/>
          <p:nvPr/>
        </p:nvSpPr>
        <p:spPr>
          <a:xfrm>
            <a:off x="4788000" y="434880"/>
            <a:ext cx="376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одна из звёз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050920" y="259920"/>
            <a:ext cx="55548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глаз воор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со звездами др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лечный путь увидеть чт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жен мощны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4427640" y="3429000"/>
            <a:ext cx="194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653440" y="1989000"/>
            <a:ext cx="20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елеско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Drawn_wallpapers_Vector_Wallpapers_Telescope_015787_"/>
          <p:cNvPicPr/>
          <p:nvPr/>
        </p:nvPicPr>
        <p:blipFill>
          <a:blip r:embed="rId1"/>
          <a:stretch/>
        </p:blipFill>
        <p:spPr>
          <a:xfrm>
            <a:off x="1763640" y="2781360"/>
            <a:ext cx="5040360" cy="37796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708000" y="836640"/>
            <a:ext cx="519444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ескопом сотни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ают жизнь пла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расскажет обо вс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ный дяд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588720" y="2492280"/>
            <a:ext cx="22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астро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аст"/>
          <p:cNvPicPr/>
          <p:nvPr/>
        </p:nvPicPr>
        <p:blipFill>
          <a:blip r:embed="rId1"/>
          <a:stretch/>
        </p:blipFill>
        <p:spPr>
          <a:xfrm>
            <a:off x="395280" y="3357720"/>
            <a:ext cx="3384720" cy="331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3:44:07Z</dcterms:created>
  <dc:creator>мама</dc:creator>
  <dc:description/>
  <dc:language>en-US</dc:language>
  <cp:lastModifiedBy>user</cp:lastModifiedBy>
  <dcterms:modified xsi:type="dcterms:W3CDTF">2022-02-15T05:33:37Z</dcterms:modified>
  <cp:revision>6</cp:revision>
  <dc:subject/>
  <dc:title>Слайд 1</dc:title>
</cp:coreProperties>
</file>