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3F-8835-4BA3-9B31-6B90CD1B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5D3-445C-4B24-B135-A8A7945C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EBE-766E-4FE9-BFB4-CC0E5D42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D0E-20B4-4F03-B473-0712C8B0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0C6-4221-42E6-81B2-697483F4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C78-76C4-4F99-AA0F-DE08E22C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B99-5793-45D0-975E-A79DC9E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74A8-79B9-459F-920F-EA4FF64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3B4F-0105-4C15-B0A2-B11BC1E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38B5-ECD5-40DE-8897-7004203E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7AC7-7E13-4C4B-B1D6-45342F6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B38-9702-49E3-A35A-15D63DC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4DC-0002-4426-BEDD-EC75EBB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A801-53F2-4C7D-BAD0-55A829A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1F9-6461-473C-8BF1-E810C9D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FC2-2E90-4079-9417-7CE45E3E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4E9-8F67-4B99-AAFD-3B1B4BA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023-07DB-464B-9F9B-A9DF521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A68-0A81-4E96-903E-A86332EA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43F-C943-430A-8BE6-862421C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256-7CB8-44F5-AE98-1A8E955D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EF-520D-4E9D-A100-04CC69E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822-656D-4B11-A438-98453D9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2DE-9B0A-4C40-8FE3-0F8BA4D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763-F1DE-4EDD-A911-11F9294031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2BE8-6D7A-47D1-A62F-50C0AC80E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65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strogalaxy.ru/736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goodfon.ru/wallpaper/43024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user</cp:lastModifiedBy>
  <dcterms:modified xsi:type="dcterms:W3CDTF">2022-02-15T05:33:37Z</dcterms:modified>
  <cp:revision>6</cp:revision>
  <dc:subject/>
  <dc:title>Слайд 1</dc:title>
</cp:coreProperties>
</file>