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7F7-8886-4A5D-A784-0179B80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A3E-8AB1-49D0-A447-F1161B6E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D5B-EEBA-4C28-8633-93C9AEEB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4AB-13E8-4FBD-8E9E-501EB68E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ACFA-DB0B-4261-B110-E8FAAA7C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D72-314E-4466-80AC-30EF9041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116A-7891-4C26-9966-5A1789E5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F746-94AD-49ED-9B79-9EB6E330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D51-F750-49E8-B1B8-75A8A3C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CFB7-1AD7-49B5-96EE-30C61C9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F730-4940-4C9C-84B6-EFFFD7E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D4B-B195-43E2-BED6-5402645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9D6C-863B-44C4-B06B-E1E6F50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A7E1-B2BF-4814-BD22-96F1B3B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E138-4D5C-4A11-A4F8-0605B7A0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C85-1DE7-4A05-B064-A26677FF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D892-B1E0-466F-9307-1456FC7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5F5A-B095-44B4-BCB2-12CF1B1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03AA-E709-4585-9C73-EEE222B9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5539-AD54-470A-896C-C0B47E0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9C6F-FBAC-4BAA-B785-CE22CA6F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1164-539D-42A5-8D48-2FEE14F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F31-20A3-4EA2-B84F-FC05179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6EAA-4064-4019-B6C7-AD5AA89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4A7E-2E69-4A1F-9698-6583B89F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0C16-4560-4AEB-9E2B-CDE5932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9010-D914-494F-81C4-97D2407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F24B-2963-4D75-9172-6B0C65B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29A4-3B39-44F6-8388-DDC60461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D599-9029-4963-9114-57C3E1D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CF11-D011-4CF2-896B-305A10E6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D7D57-39D2-40E4-A498-F79F7FE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81FB-227A-4FDB-A920-A26B63C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A00-01B3-4CD1-85B6-24279DB0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893C-B373-4FE8-989B-ECB29744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540F-92E4-41E4-A754-0C253D4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7E28-048B-4C71-B24B-DE1C5037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FF8B-5C60-4678-BA8A-4D4BD5C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2228-DA8A-4A23-9B6E-925D377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6670-2B99-4B18-B547-0D6A900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2811-0EEF-43BF-BCEF-77DC7C5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49DE-5389-49DB-91FF-BA67B9F5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D5C2-A6B3-4EF2-BCCC-A99C6C4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0B87-B725-48D9-8904-51382822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475-3851-4403-96FB-9C77DA1D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719F-35C4-48CB-9C24-B188466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8BFB-771D-4E54-8DEE-F43CD3EA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38BE-9CEC-4E1D-9FF3-44FAC94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5E037-637D-4002-9A31-9BADB5D3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EC54-05B4-45FE-9B33-FD7207E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F867-E81A-435F-810F-8C6EA09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9ED9-DA3D-44D5-97B8-9A4E681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12CD-4F9B-47EE-BC64-CC983B7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92BA-9295-4A69-9649-5E2BDDB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A6C9-5428-48AB-9DB1-151205B6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221-48AB-45DF-BF68-089394C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A7F0-9375-429A-891F-BF421BAC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4B53-5DEB-4D7F-85BA-B727C793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946F-D0FD-4FB6-8FC2-F393B427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C7AF-A3D7-4DD5-B523-E1C9DBE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0738F-F284-4466-8BE4-0444510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2E2D-3CE3-4478-9CBE-1F035582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E18D-42F8-417A-87D8-EDF0178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550A-2354-40E8-8BC9-0D8CB63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3F70-00B5-4A12-B609-A2ED22E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1645-C964-4431-9B21-7ACBE2D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553-AF63-4129-84D2-894C431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4679E-309D-46D7-84CF-6D507766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A85D-C710-4884-B993-6C3756E3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30BB-5369-416A-907A-24BA78D5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F79A-B551-4A1A-8BFC-4790CB4F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7085-C564-42B4-838F-0203ECB2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46E9-52FB-454E-A020-7BEC5B9C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599A7-E35A-40B3-8EF4-9961636E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1269-C913-49A6-8856-E11FDAF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4A31-40F3-4509-89F3-A5F7623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F4B0-D6DE-4F48-BE3F-BFDDCD4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263-CA5B-4EEF-AE38-A1BE9CB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3829-9269-4067-8AED-02D418C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BC41-CB32-481E-BD11-EEBDD16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A9798-4F4C-45BC-B283-1A4C2F0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1A42-F742-4615-92C4-E37696EF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D7EFE-CBE7-4A81-A903-6D321654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FB23C-8142-4C6E-80BC-2252EA58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C5CBD-771D-4375-9E34-D650FA1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E926-96F4-412B-88D9-17063FC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DBC4A-B97D-47A9-A15D-D8A4925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7670-3C4E-4431-B14D-18EF62BA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689-A96C-49D3-874F-A1CAEAD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10D97-1D4C-4477-B127-CE7B595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F570-36AE-48C1-BB05-A369D012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9561-6664-4AA8-9B4A-01DDCF3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C47B-7A97-45B6-B8C9-FFBAA1B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0037-94BA-43FB-9BDE-C9D74583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10B00-5E25-4239-9598-81677E7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B7D7-EB8C-4F36-B6E6-669F1A7E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3361-B4A4-4F08-BF90-731D4B2D925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056-0AF9-4184-B610-9FEB3FA1C75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CD8-C4BA-40E8-93E4-FF5AAA1913D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8E0-00C4-47C4-BB5D-37AC985A02E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186-013F-422C-880A-EB304BCE3D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5BCC-F879-4EA3-9EE9-475755005A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CA4-B3DE-4FB4-AEFC-8C7DBAF1EE4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147-8755-45BD-BC8E-DBA8291C886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772400" cy="30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нергозатраты человека и пищевой рацион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Как зависят энерготраты человека от интенсивности труда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величением интенсивности физического труда растут энерготраты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ичество энергии, затраченной человеком за определенный промежуток времен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белков – </a:t>
            </a:r>
            <a:r>
              <a:rPr b="1" lang="ru-RU" sz="3600" spc="-1" strike="noStrike">
                <a:solidFill>
                  <a:srgbClr val="39639d"/>
                </a:solidFill>
                <a:latin typeface="Times New Roman"/>
                <a:ea typeface="Times New Roman"/>
              </a:rPr>
              <a:t>17,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4.1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углеводов – </a:t>
            </a:r>
            <a:r>
              <a:rPr b="1" lang="ru-RU" sz="3600" spc="-1" strike="noStrike">
                <a:solidFill>
                  <a:srgbClr val="39639d"/>
                </a:solidFill>
                <a:latin typeface="Times New Roman"/>
                <a:ea typeface="Times New Roman"/>
              </a:rPr>
              <a:t>17,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4.1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паде 1 г жиров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,9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Дж энерги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ориях 9,3 кка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 поступающей с пищей и расходуемой человеком в процессе жизнедеятельности энергии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в определенном количестве и соотношении питательных веществ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режима питания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2204640"/>
            <a:ext cx="8229600" cy="380196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2" descr=""/>
          <p:cNvPicPr/>
          <p:nvPr/>
        </p:nvPicPr>
        <p:blipFill>
          <a:blip r:embed="rId2"/>
          <a:stretch/>
        </p:blipFill>
        <p:spPr>
          <a:xfrm>
            <a:off x="457200" y="176040"/>
            <a:ext cx="8229600" cy="1897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http://www.arastiralim.net/ilk/wp-content/uploads/2011/06/Boynu-B%C3%BCk%C3%BCk-680x453.jpg"/>
          <p:cNvPicPr/>
          <p:nvPr/>
        </p:nvPicPr>
        <p:blipFill>
          <a:blip r:embed="rId3"/>
          <a:stretch/>
        </p:blipFill>
        <p:spPr>
          <a:xfrm>
            <a:off x="1403280" y="2205000"/>
            <a:ext cx="582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eti.ru/uploads/posts/2012-02/1328548029_roditeli-na-grani_34971_s__55.jpg"/>
          <p:cNvPicPr/>
          <p:nvPr/>
        </p:nvPicPr>
        <p:blipFill>
          <a:blip r:embed="rId3"/>
          <a:stretch/>
        </p:blipFill>
        <p:spPr>
          <a:xfrm>
            <a:off x="1692360" y="14842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ые и полные люди – это болезнь. Это все зависит,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питания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одвижного образа жизни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я обмена веществ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для детей и подростков (для вас) требуется примерно на 30% энергии больше, чем затратил организм?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должен соблюдать режим питания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,5 тонн белк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,5 тонн жир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0 тонн углеводов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-3 тонн поваренной сол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егулярно принимайте витамины, особенно зимой и весн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потребляйте в пищу больше овощ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ушайте много жирного мя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дневно, употребляйте в пищу, свежую зелен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ипучие конфеты обязательная полезная часть вашего рацио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ждый вечер съедайте по одному пирожному или кусочку тор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потребляйте пищу, содержащую белки, жиры, угле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Каждый день выпивайте не менее 2 литров «Кока-колы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Ешьте яблоки с кожицей, в ней много витаминов и клетчат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Пейте зеленый чай, в нем много антиоксидантов, помощников в борьбе с болезням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Каждую перемену съедайте по 1 пачке чипс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Соблюдайте режим питан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Плотно ужинайте перед сн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Кушайте один раз в день, но большой порци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е материал п. 38 и выполните в тетради задания из презента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ят энерготраты человека?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а пищ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й или высокой температуры окружающей сред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й работ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й деятельност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549360" y="274680"/>
            <a:ext cx="8137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сновной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Общий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9360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4"/>
          <p:cNvCxnSpPr/>
          <p:nvPr/>
        </p:nvCxnSpPr>
        <p:spPr>
          <a:xfrm flipH="1">
            <a:off x="2123640" y="1267920"/>
            <a:ext cx="1224720" cy="100872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380" name="Прямая со стрелкой 6"/>
          <p:cNvCxnSpPr/>
          <p:nvPr/>
        </p:nvCxnSpPr>
        <p:spPr>
          <a:xfrm>
            <a:off x="5651640" y="1267920"/>
            <a:ext cx="1297440" cy="99468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обмен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нтенсивность обмена веществ при соблюдении стандартных условии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уточного голода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из рациона белковых продуктов в течение 3-х дне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мпературе комфор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олного психического поко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ать физической и ум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ат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зраста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выше, чем у взрослых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ла: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ужчин выше, чем у женщин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енетического особенностей человека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стояния здоровь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обмен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актические энерготраты, совершаемые человеком за единицу времен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4:53:40Z</dcterms:created>
  <dc:creator>геля</dc:creator>
  <dc:description/>
  <dc:language>en-US</dc:language>
  <cp:lastModifiedBy>Ларина Ольга</cp:lastModifiedBy>
  <dcterms:modified xsi:type="dcterms:W3CDTF">2022-02-16T17:24:13Z</dcterms:modified>
  <cp:revision>34</cp:revision>
  <dc:subject/>
  <dc:title>Тема урока</dc:title>
</cp:coreProperties>
</file>