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B7EC-2379-4D72-BC7A-80377EEC9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1064-A835-41EA-A635-C63528B3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EE40-8219-4BFA-9ACF-FA17AD404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88C9-F909-4C9E-893A-715D1C33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4AE8-ADFD-4254-A99D-87619A581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F4AE-2D77-49D9-BDEF-8BAA7D57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1526-22A9-4FFB-BEB5-D2371081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8287-840A-43B2-BF31-0764F89C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B51F-EC01-44FF-902F-6FAA1C7D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BE0E-2CF8-4E6B-A9D7-5A518BCE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7DCB-470C-4675-A949-969AE164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2735-C923-4848-9E18-BDCAFD27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25EE-FEBB-4BA7-B643-C0B517DF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7B70-FDD8-46C7-A901-1A28A61F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D5EE-9761-4E61-85B8-E1223DA8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EF11-2C19-4545-A835-82543EAE0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E544-A1F7-4166-A0BE-47F778638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9F56E-7ED4-4D88-BFA2-8AD041C5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2AF53-C092-4833-BF89-B0B059CD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9B1EA-3C04-4348-BB4A-421CF625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C20FD-A8C6-43F0-8C90-EBC4381E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D2FB2-D4BB-4C74-BB05-78ACCD25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3782-99D8-44A7-986E-CC0CF9DE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18C4F-6A70-475D-94F7-4D78FE71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B10E8-2502-4653-94B9-73F0C314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BC406-0D3B-428A-A9E8-E5C8B6E1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27E4F-E3CB-457B-B379-48CFE310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30AEE-D8B4-4AB6-8CED-56DED99C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1157D-D69A-43A4-A5E8-F9305CF47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38BE9-F0BF-4B7E-9A41-92C690A90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17F8A-C851-44CA-B8B0-3D3EC824A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8C142-FFA0-423E-B162-A5EBDD57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D171A-E882-44A3-B5D4-2FD06175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8F48-15AE-4C5B-91F8-4BCDAC83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FF0D8-4D04-484E-91A8-50789E91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E4ECE-248C-4A1F-8DD0-3CA52632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ACA5D-C14F-4A63-B5BA-5FE77B9D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5583B-7532-4F0A-92AC-25DB72B4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D59F7-CFB5-43CC-AAEA-9F418287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BEF80-632B-4B91-9BFB-2A34FD67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ABA76-6CCC-456E-BEF4-2B7F02C1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74954-D519-4C5C-96F8-06D76C4C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5CB76-1D5C-4316-92BB-B65CE6C3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1F303-DB71-47A1-B1CC-07056DB0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4EA4-7FEF-4320-B670-D803E612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E59B1-27BD-453A-A878-85B24763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AA553-C99C-439D-A1EB-BEDEBE02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AF3C4-C7D9-41FF-B2FE-BCFD8F62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55BA9-370B-419F-8AB7-D97539AD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754C2-57C2-4C0B-A10F-CA3DE122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A23E5-1B5F-40EF-80DF-FAF82409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40C2E-7EE4-41BE-BEC0-DE20B7E7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17574-0CFE-49DB-AF91-DB9221C8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35861-9EAF-4A16-8A61-6FD33EF7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6A69C-0005-4FD3-817B-E067D817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93D3-F8BA-4300-8FEE-7D91F2F0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3234A-BDDA-4BAC-97F4-290AF308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F4104-93E0-4B0F-B7BC-13F50AC8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CFA54-74E4-4392-9CEC-83351D4F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5C7B6-AA9E-4195-B0FB-6F5B19A0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C7B47-9D7E-4977-9D7A-1E27E33D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6380F-DA4A-4E81-802B-84CF309B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A030B-F76C-4E2B-9937-75927187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AE876-7CEB-40BF-9143-44A82357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F2744-3305-4ABA-AEA9-C46BFBE2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0AA69-26A4-49B3-8D68-C6339527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E73A-6194-42B6-B0F4-000C7F52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225E9-2A2C-4E82-A934-02CFA9E2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6F44F-423E-45E5-BF75-5028C2E4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69D40-D8F4-4847-83D2-3D2DF14EE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0035A-49E9-4DB0-BE3B-662B1D6BF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6155A-EB9C-4F6A-98F9-5E9EEDF3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C8C12-999B-4E1D-A4DA-091CC494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F8292-7C4F-4B47-B3C7-58775395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B0553-695B-4F07-88EC-F9EA8994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88B77-AC30-47CA-9C7E-0A0BD2A5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7AEBD-0866-44CC-BE05-58EDBA72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325A-F226-4009-9439-1DF96E7D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3AFF8-000B-495B-8378-FC53F57A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7FE00-9E96-41C7-AA8F-E29E364B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87266-2D05-4EA6-9615-1F45F545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EB73E-DC55-4176-BDF3-1AD7FF74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623B0-BB6E-4CCE-91B7-84BB9475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90FC2-07AB-4CE7-AFEC-0DF5D469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F8B8C-B60F-46CA-A3EE-A01A1A26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7FFAA-E991-40E8-9A7C-5CF594F5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F3F35-DB8D-4941-B744-9D203B56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3E479-21A4-4574-874F-AB133B1D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014C-46D6-45B2-A9D9-B9AA7E80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14493-9356-4825-AA7B-558A6606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625E7-60E7-4F34-B705-29945440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6DBAA-0133-4A2E-8A66-574EC149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E994D-FC7E-4E05-B421-EB65EDE5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D2A44-A840-4345-91D9-5FEA0348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70D0E-B4C1-4D12-A118-07AF5F211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CD959-6228-44C5-870D-6F33F9D5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0D92-582F-4ACE-836B-64FB3F4BD3E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DBD9-A8E0-4695-A0F6-F7A27AFE9297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59FB-D9EA-4C4E-99C0-A7A553F2900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7C1C-BBAE-4A37-8FF5-833E54DF833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8B72-4BCB-484D-B53F-829BA9FE0CD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F112-F1AA-4785-8490-2716921F3D5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B4DD-4006-4C3F-BBA3-90677673584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377E-3DAE-4A3A-BDB2-8E897490CD04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772400" cy="303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Энергозатраты человека и пищевой рацион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Lucida Sans Unicode"/>
              </a:rPr>
              <a:t>Как зависят энерготраты человека от интенсивности труда?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величением интенсивности физического труда растут энерготраты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773360"/>
            <a:ext cx="822960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количество энергии, затраченной человеком за определенный промежуток времени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спаде 1 г белков – </a:t>
            </a:r>
            <a:r>
              <a:rPr b="1" lang="ru-RU" sz="3600" spc="-1" strike="noStrike">
                <a:solidFill>
                  <a:srgbClr val="39639d"/>
                </a:solidFill>
                <a:latin typeface="Times New Roman"/>
                <a:ea typeface="Times New Roman"/>
              </a:rPr>
              <a:t>17,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Дж энергии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лориях 4.1 ккал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спаде 1 г углеводов – </a:t>
            </a:r>
            <a:r>
              <a:rPr b="1" lang="ru-RU" sz="3600" spc="-1" strike="noStrike">
                <a:solidFill>
                  <a:srgbClr val="39639d"/>
                </a:solidFill>
                <a:latin typeface="Times New Roman"/>
                <a:ea typeface="Times New Roman"/>
              </a:rPr>
              <a:t>17,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Дж энергии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лориях 4.1 ккал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спаде 1 г жиров –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8,9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Дж энергии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лориях 9,3 ккал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6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анс поступающей с пищей и расходуемой человеком в процессе жизнедеятельности энергии;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летворение потребности в определенном количестве и соотношении питательных веществ;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режима питания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457200" y="2204640"/>
            <a:ext cx="8229600" cy="3801960"/>
          </a:xfrm>
          <a:prstGeom prst="rect">
            <a:avLst/>
          </a:prstGeom>
          <a:ln w="0">
            <a:noFill/>
          </a:ln>
        </p:spPr>
      </p:pic>
      <p:pic>
        <p:nvPicPr>
          <p:cNvPr id="400" name="Заголовок 2" descr=""/>
          <p:cNvPicPr/>
          <p:nvPr/>
        </p:nvPicPr>
        <p:blipFill>
          <a:blip r:embed="rId2"/>
          <a:stretch/>
        </p:blipFill>
        <p:spPr>
          <a:xfrm>
            <a:off x="457200" y="176040"/>
            <a:ext cx="8229600" cy="18972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http://www.arastiralim.net/ilk/wp-content/uploads/2011/06/Boynu-B%C3%BCk%C3%BCk-680x453.jpg"/>
          <p:cNvPicPr/>
          <p:nvPr/>
        </p:nvPicPr>
        <p:blipFill>
          <a:blip r:embed="rId3"/>
          <a:stretch/>
        </p:blipFill>
        <p:spPr>
          <a:xfrm>
            <a:off x="1403280" y="2205000"/>
            <a:ext cx="5829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03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http://eti.ru/uploads/posts/2012-02/1328548029_roditeli-na-grani_34971_s__55.jpg"/>
          <p:cNvPicPr/>
          <p:nvPr/>
        </p:nvPicPr>
        <p:blipFill>
          <a:blip r:embed="rId3"/>
          <a:stretch/>
        </p:blipFill>
        <p:spPr>
          <a:xfrm>
            <a:off x="1692360" y="148428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068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ые и полные люди – это болезнь. Это все зависит,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ую очередь,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 питания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вторых,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подвижного образа жизни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третьих,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ушения обмена веществ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для детей и подростков (для вас) требуется примерно на 30% энергии больше, чем затратил организм? 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человек должен соблюдать режим питания?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1773360"/>
            <a:ext cx="822960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2,5 тонн белков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2,5 тонн жиров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10 тонн углеводов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2-3 тонн поваренной соли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егулярно принимайте витамины, особенно зимой и весной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Употребляйте в пищу больше овощей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ушайте много жирного мяс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Ежедневно, употребляйте в пищу, свежую зелень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Шипучие конфеты обязательная полезная часть вашего рацион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Каждый вечер съедайте по одному пирожному или кусочку торт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Употребляйте пищу, содержащую белки, жиры, углевод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Каждый день выпивайте не менее 2 литров «Кока-колы»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Ешьте яблоки с кожицей, в ней много витаминов и клетчатк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Пейте зеленый чай, в нем много антиоксидантов, помощников в борьбе с болезням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Каждую перемену съедайте по 1 пачке чипсов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Соблюдайте режим питани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Плотно ужинайте перед сном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Кушайте один раз в день, но большой порцией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зучите материал п. 38 и выполните в тетради задания из презентаци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чего зависят энерготраты человека?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а пищи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ой или высокой температуры окружающей среды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ечной работы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ственной деятельности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Заголовок 2" descr=""/>
          <p:cNvPicPr/>
          <p:nvPr/>
        </p:nvPicPr>
        <p:blipFill>
          <a:blip r:embed="rId1"/>
          <a:stretch/>
        </p:blipFill>
        <p:spPr>
          <a:xfrm>
            <a:off x="549360" y="274680"/>
            <a:ext cx="81374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Sans Unicode"/>
              </a:rPr>
              <a:t>Основной    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1" lang="ru-RU" sz="4000" spc="-1" strike="noStrike">
                <a:solidFill>
                  <a:srgbClr val="000000"/>
                </a:solidFill>
                <a:latin typeface="Lucida Sans Unicode"/>
              </a:rPr>
              <a:t>Общий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993600"/>
          </a:xfrm>
          <a:prstGeom prst="rect">
            <a:avLst/>
          </a:prstGeom>
          <a:ln w="0">
            <a:noFill/>
          </a:ln>
        </p:spPr>
      </p:pic>
      <p:cxnSp>
        <p:nvCxnSpPr>
          <p:cNvPr id="379" name="Прямая со стрелкой 4"/>
          <p:cNvCxnSpPr/>
          <p:nvPr/>
        </p:nvCxnSpPr>
        <p:spPr>
          <a:xfrm flipH="1">
            <a:off x="2123640" y="1267920"/>
            <a:ext cx="1224720" cy="1008720"/>
          </a:xfrm>
          <a:prstGeom prst="straightConnector1">
            <a:avLst/>
          </a:prstGeom>
          <a:ln w="57240">
            <a:solidFill>
              <a:srgbClr val="2da2bf"/>
            </a:solidFill>
            <a:miter/>
            <a:tailEnd len="med" type="triangle" w="med"/>
          </a:ln>
        </p:spPr>
      </p:cxnSp>
      <p:cxnSp>
        <p:nvCxnSpPr>
          <p:cNvPr id="380" name="Прямая со стрелкой 6"/>
          <p:cNvCxnSpPr/>
          <p:nvPr/>
        </p:nvCxnSpPr>
        <p:spPr>
          <a:xfrm>
            <a:off x="5651640" y="1267920"/>
            <a:ext cx="1297440" cy="994680"/>
          </a:xfrm>
          <a:prstGeom prst="straightConnector1">
            <a:avLst/>
          </a:prstGeom>
          <a:ln w="57240">
            <a:solidFill>
              <a:srgbClr val="2da2b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обмен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интенсивность обмена веществ при соблюдении стандартных условии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суточного голодания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ение из рациона белковых продуктов в течение 3-х дне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о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температуре комфорт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полного психического покоя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овершать физической и умственной деятельност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пат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возраста: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выше, чем у взрослых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пола: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ужчин выше, чем у женщин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генетического особенностей человека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состояния здоровья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й обмен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фактические энерготраты, совершаемые человеком за единицу времени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14:53:40Z</dcterms:created>
  <dc:creator>геля</dc:creator>
  <dc:description/>
  <dc:language>en-US</dc:language>
  <cp:lastModifiedBy>Ларина Ольга</cp:lastModifiedBy>
  <dcterms:modified xsi:type="dcterms:W3CDTF">2022-02-16T17:24:13Z</dcterms:modified>
  <cp:revision>34</cp:revision>
  <dc:subject/>
  <dc:title>Тема урока</dc:title>
</cp:coreProperties>
</file>