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C84-EF79-416E-9229-C3AC78C2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529-4E47-4B24-B6CF-7E215A9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05C7-F5B3-4596-A618-26E6A9D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FFDF-559F-46FD-A2BA-A8261379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277B7-4449-4CEB-8B9C-9332CFA1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2E94B-202F-4C2B-8810-E59BEFE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8546C-0FBD-424F-A433-B83A5413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7139-463C-4AC9-B502-33C5B42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1BE84-4AC4-4188-8825-67CE3CC6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F0CC-6DE0-4242-835C-16F6CEE4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4782-31B4-4D18-A07E-4D10DB14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8BE42-CA49-4B76-ABE4-91790BE6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1CD-83E4-4019-8495-4516F623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4E53-6E60-412B-B091-8218162F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70E53-40B8-4EED-B2EA-750E7757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4A2D-1D46-491C-8864-B5391D3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4D24E-01AC-47E6-9E11-21AF08B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6F0C3-9833-4380-861C-D5C0BAC3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F0349-1FD1-471B-98BE-F29BD33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1EE71-FAE2-4CBF-A112-02AAF76C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69FA1-4E0C-49E9-B6F6-DA0BB7E6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DCDCE-C075-4159-A42E-AC9171F6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CA938-DE73-4C3C-8DCA-F89E24C8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71B-3CF3-4FF8-B352-05F3E32F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8C333-CA20-4CE9-B0A0-7C596390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54A35-6C00-4B61-BB91-48331647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7E27-72CD-40FD-81AC-AE259FF5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65AB4-AAA6-4D66-B84F-EE15FDEB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A773-04E5-4CA7-AA16-6E48760E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58428-422B-42CE-ACBD-D5129E4E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48C63-AAB5-4EFF-A890-1E1A80D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12917-8CB5-4770-B60A-B726CB4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5A929-894E-4475-8549-5AC6B6C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2940-D530-42D7-83D2-BE6844A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0EB9-4D80-4D91-B953-B2E47909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7B5C6-F8EE-42A8-AF19-F8B41F6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A6A7-AF67-48CA-BC83-CEC58029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518C-66CC-42C9-A9A8-A305BD84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64987-D71E-4DDF-809D-1F4FA441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D6B08-4EC3-4BC2-9984-B42836F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997AC-224B-48B4-A8BD-E49A99B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603CA-EDB9-47EF-A725-364E4A31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CFA9-6522-4162-B61E-626AC68A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DE6FD-10BD-4668-B3C5-38639CD9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227FA-8E74-4367-B740-D0630D3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AED3-9E3B-43A0-82AE-5EE5F56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A8E81-99CC-43F8-8E62-9E15964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C55BF-9214-41C0-A2E6-1DAFF52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A16EE-D093-43CD-B469-0731EC60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74ED0-A0FA-41BF-9BEA-E1775DB2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3021B-B96E-44BF-A450-05FC8AD3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0695-9A6D-4174-84D5-9DFD8D0E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19A7-7BD1-4783-8965-8E74AE7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A82D-3B5B-4CC7-8E74-FDCA6820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16B9-30CA-4774-9C03-5D58813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0718-5783-4583-9747-4CA4945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8F9-A098-4624-A723-A9A07C2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E1C8-4D9C-4CE4-9B3A-293B0D3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83B-40E4-4B24-A793-3074EE5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14F2-4B03-4868-AEA0-9071BD0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4378-CDBA-405B-BBF0-045F967F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6E7F-4F84-4364-8260-0A51FF30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248D-0DA6-42AB-8DAB-0CFA5B9F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F8CF-7BAB-413B-A9E8-7FFFB1B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4D61-B30E-4333-A8D8-0D919F3D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E304-7A00-4756-9138-06DBCC1D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1B0C-D472-4C39-8253-7C09269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697-84C8-4350-B056-F726D0A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48BD-04E0-4959-9BC2-D678ECD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77B6-7F61-4D43-9C18-E8F1613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0B2A-6F53-4B85-817B-606290B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F022-C5AC-4FA3-B241-B6A3B61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A210-CC8B-4D92-82F2-E25303B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75A3-5884-463F-A5DC-F4773767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6364-D520-4D22-884E-1836F480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5EFB-C5A3-4070-A989-A282BFCB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3587-E058-429D-BFF3-06211BC5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1922-5B85-4C91-A079-2C04214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70A-DF1B-4D51-BF4B-DD23A71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CE6D-4457-4FC8-8CD2-350A30A6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9141-9AA5-465E-83F1-CD70CA47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7F52-4284-48FA-8B1C-21845C2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38EA-D4B5-4919-B1CA-8FAD030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31FF-E3CB-4622-AF9D-A22CE028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E5719-FF66-4BFB-8ADE-B92CBAE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95A5-DAC7-461B-9E8F-F3BA0DF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807D-8004-4CAD-8C2E-2D7947E7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DC80-374E-43BC-BA96-37D73341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99CA-5613-4524-B73E-8E48085F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FB4-7AA3-4922-80CA-15229B13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2A53-D55B-4047-B25D-BF3DD8C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F538D-4A26-4266-BD3A-B20A2FA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DAFE-3F0E-47A5-8566-9858E616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40E3-5628-4780-A62F-D1EB76D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3D3A-6A4D-41AE-A305-2D1AFFC5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0905-018B-4925-AFFF-8C3F0F9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8A8CF-8712-4327-B7F9-7CB7FFA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16AF-C9CD-4BA3-9B6E-46789B8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23FCF-3820-4F0B-BD7D-1B826A66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257F-6D01-4223-8F9A-5E807D13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C2D-DFF6-4624-A7D4-8F6C3EC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9D30-18F0-4515-9D28-9D04D39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13C57-B113-45E7-824D-FB29C1BE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7C1C4-4C28-4297-BC5D-967AE464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C8079-A330-48F1-A58B-99D79B4C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D6D31-F519-4C7A-84C6-8AFD394C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AE6CD-DC66-4786-8463-8B75E269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342DA-FB26-475B-8746-54F95EF9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F0A6-5AF5-4E94-BDD8-BC5AEAC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AA63-A3AB-429B-B349-B3DDC32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7460-9B30-44C5-9FCC-770D52F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469-1A88-4874-95E9-01FA1D1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B6B38-FAD4-4F4A-A01B-2F0D6A9E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73AC8-3F5D-4AFF-BBAA-81E01815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2E1A1-FD16-4018-B0A7-CE39129E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D0A9-0EA4-4E8C-88C5-BD4AD4FD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2257-B1C4-4971-B944-6A6409D5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6EDE-1F8D-456B-A540-2ADBAA9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63B7F-A5C5-45A6-93D3-FBFD9D51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8198-2E9C-4130-ACD9-8BE6B1F7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67E0-8E79-43C1-8B90-09CAACF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6E5FC-3810-4BD5-BAED-791B1D6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E9A-28C7-444D-AC3C-1261999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00680-20FD-4704-83B9-3108B69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8EB5-028D-4EC4-8C9D-AF11D50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17CC-5DDC-49F8-90F8-75D3C0D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C539-66E0-4394-9A6A-6CBF9DF9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2377-56AC-4C73-A841-8D4508F2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F171-CB77-436C-82AA-6A8A1FE4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9F51-D653-4769-84F3-9A86B9B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43108-2DD9-445F-B7D2-83E3325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3233-36F4-4900-8DE0-3148B1F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72D0D-A6D4-4B3A-AFCA-26B58E4F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177-12CA-476C-9C23-3EE8A16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62E2-6357-4FA6-B45F-255A12F8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401D8-8A7D-4E36-BE8D-16A82AD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75DFC-3AA6-4119-9A51-9B64DF6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F42AC-96CE-47E5-B77F-C504D2A9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751C-36C7-4531-8979-A69B03A8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0C81-572F-40F0-AB4F-EC762B3A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55A66-4055-4153-9069-1C04C3ED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04DA4-D674-4CE1-A8C4-3A45A02E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EAFDE-70BB-4E08-9B3A-C38F969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AE3ED-E263-4EE5-968D-1066578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4128-F492-41D2-A445-B298D17855DF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B0B-9021-4A9F-B582-EE7EC4FC0C19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846-AA1B-4F49-AC5A-EF3DCBABBEFE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F34-5EEE-4BA0-B8D5-357F9F72E0C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382B-87D7-4FBC-91F2-FF726C5BDB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38AB-A390-411E-A861-0FCCC7500C58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480A-42FB-4489-B7A0-F416E7FE1032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C679-5583-446B-9225-C22D31883F98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D925-3E9E-40DA-89EC-BB4BBCA29ABD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6A94-E305-4E43-970F-09DC940A0D92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D99A-0CA6-4D56-BE21-EE871022D083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BD6-0454-4E2B-ABE9-35786ED46727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716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нтерактивные формы работы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одителями воспитанников в ДОУ»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195640" y="494136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воспитатель,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А.Кобельков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508" name="Рисунок 4" descr=""/>
          <p:cNvPicPr/>
          <p:nvPr/>
        </p:nvPicPr>
        <p:blipFill>
          <a:blip r:embed="rId1"/>
          <a:stretch/>
        </p:blipFill>
        <p:spPr>
          <a:xfrm>
            <a:off x="684360" y="2371680"/>
            <a:ext cx="5181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571680" y="714240"/>
          <a:ext cx="7929360" cy="47055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Verdana"/>
                          <a:ea typeface="Verdana"/>
                        </a:rPr>
                        <a:t>Проектная 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7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Verdana"/>
                          <a:ea typeface="Verdana"/>
                        </a:rPr>
                        <a:t>Тематически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727"/>
                    </a:solidFill>
                  </a:tcPr>
                </a:tc>
              </a:tr>
              <a:tr h="39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любой проект, как маленький, на уровне дошкольного учреждения, так и масштабный, включает в себя блок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аботы с семь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. Сюда можно отнести создание выставки, написание мини-сочинений, конкурсы, экскурсии,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одительские собрания и клуб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,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формле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стендов и многое другое. При таком комплексном подходе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одител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становятся самыми активными помощниками и верными соратниками педагогов в любом де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это еще одна из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интерактивных форм работы с родител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. Они направлены на сотрудничество семьи в решении проблем образования и воспитания детей, повышения роли и ответственности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одит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в деле гражданского образования и воспитания ребен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изготовление плакатов «Зимние забавы», поделки «Памятники Тамбова», «Открытка ветерану», «Новогодний калейдоскоп» и т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6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1"/>
          <p:cNvSpPr/>
          <p:nvPr/>
        </p:nvSpPr>
        <p:spPr>
          <a:xfrm>
            <a:off x="928800" y="90792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Самые активные формы работы -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, serif"/>
              </a:rPr>
              <a:t>родительские собр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, где родители являются не пассивными слушателями, а активными участниками раз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На родительском собрании можно применять различные интерактивные методы: работа в мини-группах, дискуссии, деловые, ролевые, имитационные игр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Рисунок 2" descr=""/>
          <p:cNvPicPr/>
          <p:nvPr/>
        </p:nvPicPr>
        <p:blipFill>
          <a:blip r:embed="rId1"/>
          <a:stretch/>
        </p:blipFill>
        <p:spPr>
          <a:xfrm>
            <a:off x="469800" y="335772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"/>
          <p:cNvSpPr/>
          <p:nvPr/>
        </p:nvSpPr>
        <p:spPr>
          <a:xfrm>
            <a:off x="971640" y="62064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Следующая форма работ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– индивидуальные консульт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ндивидуальные консультации особенно необходимы, когда набирается группа. Готовясь к консультации, необходимо определить ряд вопросов, ответы на которые помогут планированию воспитательной работы с групп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оспитатель должен дать возможность родителям рассказать ему всё то, что поможет в профессиональной работе с ребёнко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здоровья ребё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его увлечения, интерес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редпочтения в общении в семь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оведенческие реакци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характе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моральные ценност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4427640" y="3341520"/>
            <a:ext cx="39891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оугольник 1"/>
          <p:cNvSpPr/>
          <p:nvPr/>
        </p:nvSpPr>
        <p:spPr>
          <a:xfrm>
            <a:off x="1187280" y="765000"/>
            <a:ext cx="69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Консуль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семей воспитанников по актуальным вопросам воспитания и образования детей педагогами и  специалистами детского с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Информационно-просветительская и развивающая раб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через: проблемные тематические выступления, направленные на решение актуальных психолого-педагогических задач и способствующих повышению компетентности родителей, что необходимо для создания благоприятных условий развития и образования детей; психолого-педагогический всеобуч родителей, действующими лицами которого помимо педагога-психолога могут быть опытные педагоги и узкие специалисты. Данная форма взаимодействия с родительской общественностью позволяет использовать интерактивные методы психологического воздействия для обнаружения и корректировки пробелов знан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1042920" y="1197000"/>
            <a:ext cx="69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сс – конференция с родителями. Эту форму работы мы предлагаем проводить в конце или начале учебного года. Пресс-конференция от обычного собрания отличается тем, что на неё можно пригласить педагогов и специалистов, старшего воспитателя, заместителя заведующего, заведующего детского сада с тем, чтобы они ответили на интересующие родителей вопросы. Это собрание проводится в форме вопросов и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2" descr=""/>
          <p:cNvPicPr/>
          <p:nvPr/>
        </p:nvPicPr>
        <p:blipFill>
          <a:blip r:embed="rId1"/>
          <a:stretch/>
        </p:blipFill>
        <p:spPr>
          <a:xfrm>
            <a:off x="1692360" y="314316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Рисунок 2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2606760" cy="199368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1"/>
          <p:cNvSpPr/>
          <p:nvPr/>
        </p:nvSpPr>
        <p:spPr>
          <a:xfrm>
            <a:off x="428760" y="571680"/>
            <a:ext cx="821520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Положительной стороной подобных форм является то, что учас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не навязывается готовая точка зрения, их вынуждают думать, искать собственный выход из сложившейся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Семья и дошкольное учреждение – два важных института социализации детей. Их воспитательные функции различны, но для всестороннего развития ребенка необходимо их взаимодейств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Взаимодействие семьи и детского сада - это длительный процесс, долгий и кропотливый труд, требующий от педагогов и родителей терпения, творчества и взаимопонимания. В новых формах взаимодействия с родителями реализуется принцип партнерства, диа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Разнообразие интерактивных форм взаимодействия с родителями, позволяет воспитателям значительно улучшить отношения с семьями, повысить педагогическую культуру родителей, расширить представления детей по различным образовательным обла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2"/>
          <p:cNvSpPr/>
          <p:nvPr/>
        </p:nvSpPr>
        <p:spPr>
          <a:xfrm>
            <a:off x="723960" y="1073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Интерактивный - означ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 способность взаимодействовать или находится в режиме беседы, диалога с чем-либо (например, компьютером) или кем-либо (например,человеком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Интерактивные методы воспитания обозначают воспитание через участие и взаимо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«Я слышу и забываю, я вижу и понимаю,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я делаю и запоминаю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», говорится в китайской поговорке. Методология участия и взаимодействия полностью вовлекает в процесс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072040" y="37861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1"/>
          <p:cNvSpPr/>
          <p:nvPr/>
        </p:nvSpPr>
        <p:spPr>
          <a:xfrm>
            <a:off x="642960" y="85716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03f50"/>
                </a:solidFill>
                <a:latin typeface="Verdana"/>
              </a:rPr>
              <a:t>Цели интерактивного взаимодействия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 могут быть различ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обмен опы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выработка общего 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формирование умений,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создание условия для диал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группового спло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изменения психологической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Задачи: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56800" y="1285560"/>
            <a:ext cx="74041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 Создать условия для благоприятного климата взаимодействия с родителями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Активизировать и обогащать воспитательные и образовательные умения родителей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Предоставить родителям возможность общаться друг с другом, делиться опытом семейного воспитания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- Самой общей задачей педагога в интерактивной технологии является фасилитация (поддержка, облегчение)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Схема 3" descr=""/>
          <p:cNvPicPr/>
          <p:nvPr/>
        </p:nvPicPr>
        <p:blipFill>
          <a:blip r:embed="rId1"/>
          <a:stretch/>
        </p:blipFill>
        <p:spPr>
          <a:xfrm>
            <a:off x="993600" y="853920"/>
            <a:ext cx="715680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754200" y="620640"/>
            <a:ext cx="712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Интерактивные метод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ломают традиционные стереотипы родительского собрания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 оно становится не просто местом, где сообщают об особенностях развития детей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а особым пространством, наделенным специфическим смыслом и содержанием. Их применени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повышает готовность родителей к взаимодействию с психологом, педагогами и другими специалист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2843280" y="3790800"/>
            <a:ext cx="38145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Основные принципы в совместной работе с семьями воспитанников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56800" y="1642680"/>
            <a:ext cx="74041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открытость детского сада для семьи (каждому родителю обеспечиваю возможность знать и видеть, как живет и развивается его ребенок)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сотрудничество педагогов и родителей в воспитании детей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Verdan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создание активной развивающей среды, обеспечивающей единые подходы к развитию личности в семье и детском коллективе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 диагностика общих и частных проблем в развитии и воспитании ребенка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ÐÐ°ÑÑÐ¸Ð½ÐºÐ¸ Ð¿Ð¾ Ð·Ð°Ð¿ÑÐ¾ÑÑ Ð¸Ð½ÑÐµÑÐ°ÐºÑÐ¸Ð²Ð½ÑÐµ ÑÐ¾ÑÐ¼Ñ ÑÐ¾ÑÑÑÐ´Ð½Ð¸ÑÐµÑÑÐ²Ð° Ñ ÑÐµÐ¼ÑÑÐ¹"/>
          <p:cNvPicPr/>
          <p:nvPr/>
        </p:nvPicPr>
        <p:blipFill>
          <a:blip r:embed="rId1"/>
          <a:stretch/>
        </p:blipFill>
        <p:spPr>
          <a:xfrm>
            <a:off x="684360" y="620640"/>
            <a:ext cx="7272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407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Информационно-коммуникативные технологии в работе с родителями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400" y="10717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помогают разнообразить формы поддержки образовательного процесса,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Verdan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повысить качество работы с родителями воспитанников,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Verdan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популяризировать деятельность воспитателя группы и детского сада в целом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Преимущества их использования во взаимодействии с семьями дошкольников заключается в следующем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минимизация времени доступа родителей к информации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возможность воспитателя продемонстрировать любые документы, фотоматериалы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беспечение индивидуального подхода к родителям воспитанников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птимальное сочетание индивидуальной работы с родителями и групповой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рост объема информации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перативное получение информации родителями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беспечение диалога воспитателя и родителей группы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оптимизация взаимодействия педагога с семьей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6:19:32Z</dcterms:created>
  <dc:creator>Пользователь</dc:creator>
  <dc:description/>
  <dc:language>en-US</dc:language>
  <cp:lastModifiedBy>User</cp:lastModifiedBy>
  <dcterms:modified xsi:type="dcterms:W3CDTF">2020-03-22T22:22:21Z</dcterms:modified>
  <cp:revision>71</cp:revision>
  <dc:subject/>
  <dc:title>"Интерактивные формы взаимодействия с родителями дошкольников "Играем вместе"</dc:title>
</cp:coreProperties>
</file>