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3807-B72B-42F0-A74F-FDB7CFAF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54C5-B373-4603-AA0B-35197B52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87423-971C-4781-B665-09FD93A0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1DF0F-E387-49B2-A770-0359FAA5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E4B91-2B51-400B-A859-AB220E0F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B03C4-1586-4696-9BFA-D73507F2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84322-C6BB-4DED-B58C-B62966AE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1421D-4169-4289-96C1-A7AB2D2A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F7BBF-122E-40DA-A572-7B4DA77C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F296E-719A-47FF-945D-CED50CB4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3C50B-D6B5-4658-A8FE-32AC5591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11F9C-3408-42F4-9328-F543533B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3BBD-005C-429C-B6ED-67B9BF4D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58410-C525-4FF6-92C4-BA03A971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DB485-8C76-4761-A781-E93AEA01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12694-2BAB-47EA-B77B-E247411E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64F3E-314A-4BD6-8570-63789E08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E1CBB-65EF-4A5D-B000-BCA392EC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2DE17-F4E7-46F9-9638-55776D58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CF4EA-BD25-4BA7-BB73-918CE5CD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2F3F1-C682-4BC1-A63C-F39FF363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FF2C8-2B7F-4954-9FB5-2FB4E60E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325D8-5F7A-42B5-BF18-95C6C1D2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CCA6-5B5F-4926-B562-2A88ECF8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CB4B6-4779-453E-884E-C5E81944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D57DA-054F-44C8-9DE7-739898C3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CC3FA-3DCD-454D-AC74-37A31646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F9666-F9E9-4D56-BA44-550DCC3D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E9B09-E6C5-49AB-8793-4637A55C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609A5-F90E-4301-AA17-C3B8A065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3C751-E82A-4484-8703-4706CB8B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7496F-D905-4580-939F-3DE416A3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72BFF-2D78-494F-B60A-AD6BBDC6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60090-8E4E-44FE-B8E0-253443D6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76AF-8157-4184-AED6-E473E220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9EAE1-7EAB-4CCD-B713-BE16FC9D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21BC7-7C52-4B09-8AA6-5E4FA04A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20584-54DA-44C9-BC1C-CF61672E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9EA30-81D3-41C7-B178-ECE43611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39A19-375D-4C63-88EC-1859B7C3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1C0ED-66D1-490B-878E-5EE31431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D6AC3-1F36-4607-9CA4-8F9E0812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A0417-8A2E-475C-9982-6416C71C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D92F9-13FC-404C-AB11-A8647617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DA39B-EA31-413C-897D-65E2FDFC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9AEB-3650-42AA-97CB-545D4622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CB72C-EE16-4A59-A40A-D1B7C4B9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70F11-8237-4D68-8233-41BE5E49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43FEF-5593-4E30-BB0D-950C7C97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A9650-5868-4334-8DCD-2C1CFB6B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3E240-6ADC-4103-A6B7-21F9CBAF5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EAB0-3BA5-4CD4-B904-5339AA5E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7FE9-1F93-4B71-8295-E668B653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7956-D2A1-4275-BDAC-94DB4614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6E78-8762-4AAB-BA9E-9AC50FA4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4045-CF4B-4C4D-B3A8-52C0C4F3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3A32-6416-4FC6-9B68-29F8770D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7A0F-5B77-41E2-A014-B07CF0D0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3C09-6A7A-4860-8A51-5BAF7C9B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DB32-AFCF-46EE-BE91-90A7B0A5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C371-DA53-4452-AE95-159BA628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67DB-21FD-40BA-96F1-A9CF24B7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A9D83-EB7F-42A9-B4DD-763B8DE0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217A5-9C38-469A-921F-88C18016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ADCE4-4CED-469B-913D-A64B54C3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2C6B9-2F74-4FFC-AF5C-6F841127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123D7-AB79-4A02-BCFA-85608D86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8317-A19C-4EAE-A1ED-7A9B5F4E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6D2BB-02D2-47BC-900F-F6EDE6D8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F22B6-F383-4DF8-82A7-F711337A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8A57D-9E33-4C1B-AB3B-BE247599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3EDFD-AA11-4701-9A8B-182E1ED8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2200A-4A5F-4423-B896-62EB38CF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781C0-E201-42B7-8B16-1996BEE4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D286A-80BD-4225-A7D5-694CE3EE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9C119-8088-4208-8F05-EE2C8556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A7870-7CEB-4AD7-9E2F-A797B737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55CD3-539D-4C71-91B5-9BCB03DC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C9DE-5278-4F9A-8433-712F882A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029A2-35DA-4BC7-953A-A17D0538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71AE9-5311-4F76-82E4-8C9B538B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A2215-F630-4E56-B8F5-C1F4BD74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86C74-E245-4A12-B579-C82184A5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094A4-4951-49A4-B74B-C18B52D8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E119E-B552-4CE5-979C-77620B3A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EA165-9F52-42FC-9935-C5FD2A36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EE5F2-BEF3-4989-A934-CA17B6E6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0361D-C77A-4A83-8314-DE6D95EE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9A9A5-3D26-4206-BE49-47109A9C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FC35-3737-405D-99EB-71E4D9CA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5F21C-DE89-41E7-8174-6730BD4D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5C115-FEE8-4EED-AAE5-DFDF8EBC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CF554-E56F-4CDE-9D24-2A09FFFF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E0958-477B-4806-925B-B365E581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B570D-4C43-4340-849C-6CF87993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5F5B6-2AF1-4F7B-BA10-ED23218A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84EBC-738C-4B63-B073-E4CD6E95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46A9E-2936-4073-A71A-7EB41BEE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BA476-24D6-4158-BADB-93DD1D0F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AF193-AA7F-4F7C-A4C3-083776BA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2C44-FE9A-4611-9112-BE2CBCF2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2A064-7773-45FB-AC22-165B8F3D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66E89-ECD2-4F19-8522-B46E0D4C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0C4E9-2C23-4158-9492-CC37E18B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9038D-5B88-4CF5-8020-E0ABEB2F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53D54-5B63-4AD3-B453-AAC243B1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E26EE-69F2-4B94-81C7-19655267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952D5-424D-4491-916F-9C44C339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002E4-607D-413B-89D8-65A5404A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9B16B-9985-4A56-B533-0860ECA8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2B318-B226-4A1D-8BDF-A03E65BE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D8C0-5A45-476F-9E7E-042D7664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4BE52-5E91-4A6E-9A9F-8F00ACB1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1FFD5-9C7A-4694-AE9A-8B05A789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6FC4F-07EA-4856-AEE0-40086BAC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4E1D5-7546-4586-B1E0-AEEC7DE8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42C0D-07CD-4EB2-A417-A48688B5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4DFA7-C280-4285-8FAF-44C89F11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45E5C-1386-4DB9-83B2-590C8628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2B3A3-E701-4EAB-95B0-52E9BDA6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E6787-6B94-453E-BB2E-160947D4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9519C-341C-4933-96A2-061E504D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091A-C92A-45E3-BBB0-E1FF2469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7F5ED-CC48-47FA-B474-92B5E9A1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33D67-5C4B-4E72-A284-0B262160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172FE-6F8B-4BAD-9BD9-0FDD33CB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62A9B-A4AA-49F5-AD33-A02DC4BB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1F899-1863-4115-A548-97BE4BAC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FB7A8-72C0-49A1-9D0F-B0FBD4B5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203EB-F6CF-4787-941D-FB7ABB31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74E81-5117-4937-A092-7656F97F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05A95-9AA0-49C5-B48C-C9F73EB0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81615-8941-4F03-8E46-94C7439A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6B65-2F46-4A2A-B55A-4F02D065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543F4-3C6B-4ECC-97F7-9D64868F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406B8-776B-4583-95D7-2537210C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D345B-1B34-4452-AA0C-7968AD30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E4A42-2473-49B5-9AF4-512B60FD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153BD-110E-4BAE-9C90-0AC33B8B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B4653-C155-4DC5-928B-411AFBF5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BE073-1B3A-4C3B-A926-C6FCE31D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C7722-2004-49A5-8A32-F2BA2DFA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EAF62-9175-46AA-99BE-8D2721DE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CB48C-0CEB-4AD7-9D83-7C15EFEB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7701-3759-4688-BE2C-A86F3818576E}" type="slidenum">
              <a:rPr b="0" lang="ru-RU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15C9-A999-4B80-B41B-2EAF29D9776F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23FC-E9FD-478E-BCE5-D3C8D79F43DC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1C20-FACE-4D0F-89BA-35AA87BA7E5C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8AE5-744E-4CC3-A54C-906E89DB588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8284-B7F7-4D72-B6BB-4372A4A3317C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BC8B-602C-40FE-9DAE-C619F4FF19E3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69CF-8BFA-4A72-91F0-8D2CD10DFE5A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C7DE-E7E8-476F-AC40-933ED1FA2B4E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3489-719D-45DF-A876-C7F9DB4FDFA2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04BF-6DBF-4F33-815F-F287C4E93E66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6B51-EB1D-4358-A453-3D1D4BAE9DC7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47160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Интерактивные формы работы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родителями воспитанников в ДОУ»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2195640" y="4941360"/>
            <a:ext cx="6400800" cy="11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: воспитатель,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А.Кобелькова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508" name="Рисунок 4" descr=""/>
          <p:cNvPicPr/>
          <p:nvPr/>
        </p:nvPicPr>
        <p:blipFill>
          <a:blip r:embed="rId1"/>
          <a:stretch/>
        </p:blipFill>
        <p:spPr>
          <a:xfrm>
            <a:off x="684360" y="2371680"/>
            <a:ext cx="51814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571680" y="714240"/>
          <a:ext cx="7929360" cy="4705560"/>
        </p:xfrm>
        <a:graphic>
          <a:graphicData uri="http://schemas.openxmlformats.org/drawingml/2006/table">
            <a:tbl>
              <a:tblPr/>
              <a:tblGrid>
                <a:gridCol w="3963960"/>
                <a:gridCol w="396540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Verdana"/>
                          <a:ea typeface="Verdana"/>
                        </a:rPr>
                        <a:t>Проектная 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b72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Verdana"/>
                          <a:ea typeface="Verdana"/>
                        </a:rPr>
                        <a:t>Тематические 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b727"/>
                    </a:solidFill>
                  </a:tcPr>
                </a:tc>
              </a:tr>
              <a:tr h="399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любой проект, как маленький, на уровне дошкольного учреждения, так и масштабный, включает в себя блок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работы с семье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. Сюда можно отнести создание выставки, написание мини-сочинений, конкурсы, экскурсии,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родительские собрания и клуб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,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оформлени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 стендов и многое другое. При таком комплексном подходе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родител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 становятся самыми активными помощниками и верными соратниками педагогов в любом дел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6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это еще одна из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интерактивных форм работы с родителям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. Они направлены на сотрудничество семьи в решении проблем образования и воспитания детей, повышения роли и ответственности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родителе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 в деле гражданского образования и воспитания ребен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(изготовление плакатов «Зимние забавы», поделки «Памятники Тамбова», «Открытка ветерану», «Новогодний калейдоскоп» и тд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6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Прямоугольник 1"/>
          <p:cNvSpPr/>
          <p:nvPr/>
        </p:nvSpPr>
        <p:spPr>
          <a:xfrm>
            <a:off x="928800" y="907920"/>
            <a:ext cx="757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Самые активные формы работы -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, serif"/>
              </a:rPr>
              <a:t>родительские собр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, где родители являются не пассивными слушателями, а активными участниками разгов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На родительском собрании можно применять различные интерактивные методы: работа в мини-группах, дискуссии, деловые, ролевые, имитационные игры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Рисунок 2" descr=""/>
          <p:cNvPicPr/>
          <p:nvPr/>
        </p:nvPicPr>
        <p:blipFill>
          <a:blip r:embed="rId1"/>
          <a:stretch/>
        </p:blipFill>
        <p:spPr>
          <a:xfrm>
            <a:off x="469800" y="3357720"/>
            <a:ext cx="417348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Прямоугольник 1"/>
          <p:cNvSpPr/>
          <p:nvPr/>
        </p:nvSpPr>
        <p:spPr>
          <a:xfrm>
            <a:off x="971640" y="620640"/>
            <a:ext cx="720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Следующая форма работы 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– индивидуальные консультаци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Индивидуальные консультации особенно необходимы, когда набирается группа. Готовясь к консультации, необходимо определить ряд вопросов, ответы на которые помогут планированию воспитательной работы с групп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Воспитатель должен дать возможность родителям рассказать ему всё то, что поможет в профессиональной работе с ребёнком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•особенности здоровья ребён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•его увлечения, интересы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•предпочтения в общении в семье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•поведенческие реакци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•особенности характер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•моральные ценности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Рисунок 2" descr=""/>
          <p:cNvPicPr/>
          <p:nvPr/>
        </p:nvPicPr>
        <p:blipFill>
          <a:blip r:embed="rId1"/>
          <a:stretch/>
        </p:blipFill>
        <p:spPr>
          <a:xfrm>
            <a:off x="4427640" y="3341520"/>
            <a:ext cx="398916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Прямоугольник 1"/>
          <p:cNvSpPr/>
          <p:nvPr/>
        </p:nvSpPr>
        <p:spPr>
          <a:xfrm>
            <a:off x="1187280" y="765000"/>
            <a:ext cx="691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, serif"/>
              </a:rPr>
              <a:t>Консультиров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 семей воспитанников по актуальным вопросам воспитания и образования детей педагогами и  специалистами детского с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 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, serif"/>
              </a:rPr>
              <a:t>Информационно-просветительская и развивающая рабо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 через: проблемные тематические выступления, направленные на решение актуальных психолого-педагогических задач и способствующих повышению компетентности родителей, что необходимо для создания благоприятных условий развития и образования детей; психолого-педагогический всеобуч родителей, действующими лицами которого помимо педагога-психолога могут быть опытные педагоги и узкие специалисты. Данная форма взаимодействия с родительской общественностью позволяет использовать интерактивные методы психологического воздействия для обнаружения и корректировки пробелов знани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Прямоугольник 1"/>
          <p:cNvSpPr/>
          <p:nvPr/>
        </p:nvSpPr>
        <p:spPr>
          <a:xfrm>
            <a:off x="1042920" y="1197000"/>
            <a:ext cx="691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сс – конференция с родителями. Эту форму работы мы предлагаем проводить в конце или начале учебного года. Пресс-конференция от обычного собрания отличается тем, что на неё можно пригласить педагогов и специалистов, старшего воспитателя, заместителя заведующего, заведующего детского сада с тем, чтобы они ответили на интересующие родителей вопросы. Это собрание проводится в форме вопросов и отв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Рисунок 2" descr=""/>
          <p:cNvPicPr/>
          <p:nvPr/>
        </p:nvPicPr>
        <p:blipFill>
          <a:blip r:embed="rId1"/>
          <a:stretch/>
        </p:blipFill>
        <p:spPr>
          <a:xfrm>
            <a:off x="1692360" y="3143160"/>
            <a:ext cx="417348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Рисунок 2" descr=""/>
          <p:cNvPicPr/>
          <p:nvPr/>
        </p:nvPicPr>
        <p:blipFill>
          <a:blip r:embed="rId1"/>
          <a:stretch/>
        </p:blipFill>
        <p:spPr>
          <a:xfrm>
            <a:off x="6227640" y="4508640"/>
            <a:ext cx="2606760" cy="1993680"/>
          </a:xfrm>
          <a:prstGeom prst="rect">
            <a:avLst/>
          </a:prstGeom>
          <a:ln w="0">
            <a:noFill/>
          </a:ln>
        </p:spPr>
      </p:pic>
      <p:sp>
        <p:nvSpPr>
          <p:cNvPr id="531" name="Прямоугольник 1"/>
          <p:cNvSpPr/>
          <p:nvPr/>
        </p:nvSpPr>
        <p:spPr>
          <a:xfrm>
            <a:off x="428760" y="571680"/>
            <a:ext cx="8215200" cy="39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Verdana"/>
                <a:ea typeface="Verdana"/>
              </a:rPr>
              <a:t>Выво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- Положительной стороной подобных форм является то, что участни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не навязывается готовая точка зрения, их вынуждают думать, искать собственный выход из сложившейся ситу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- Семья и дошкольное учреждение – два важных института социализации детей. Их воспитательные функции различны, но для всестороннего развития ребенка необходимо их взаимодействи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Взаимодействие семьи и детского сада - это длительный процесс, долгий и кропотливый труд, требующий от педагогов и родителей терпения, творчества и взаимопонимания. В новых формах взаимодействия с родителями реализуется принцип партнерства, диало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Разнообразие интерактивных форм взаимодействия с родителями, позволяет воспитателям значительно улучшить отношения с семьями, повысить педагогическую культуру родителей, расширить представления детей по различным образовательным област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Прямоугольник 2"/>
          <p:cNvSpPr/>
          <p:nvPr/>
        </p:nvSpPr>
        <p:spPr>
          <a:xfrm>
            <a:off x="723960" y="1073160"/>
            <a:ext cx="758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, serif"/>
              </a:rPr>
              <a:t>Интерактивный - означа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 способность взаимодействовать или находится в режиме беседы, диалога с чем-либо (например, компьютером) или кем-либо (например,человеком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Интерактивные методы воспитания обозначают воспитание через участие и взаимодейств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«Я слышу и забываю, я вижу и понимаю,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, serif"/>
              </a:rPr>
              <a:t>я делаю и запоминаю</a:t>
            </a: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», говорится в китайской поговорке. Методология участия и взаимодействия полностью вовлекает в процесс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6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5072040" y="3786120"/>
            <a:ext cx="3840120" cy="2879640"/>
          </a:xfrm>
          <a:prstGeom prst="rect">
            <a:avLst/>
          </a:prstGeom>
          <a:ln w="0">
            <a:noFill/>
          </a:ln>
        </p:spPr>
      </p:pic>
      <p:sp>
        <p:nvSpPr>
          <p:cNvPr id="511" name="Прямоугольник 1"/>
          <p:cNvSpPr/>
          <p:nvPr/>
        </p:nvSpPr>
        <p:spPr>
          <a:xfrm>
            <a:off x="642960" y="857160"/>
            <a:ext cx="82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03f50"/>
                </a:solidFill>
                <a:latin typeface="Verdana"/>
              </a:rPr>
              <a:t>Цели интерактивного взаимодействия</a:t>
            </a: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 могут быть различны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- обмен опыт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- выработка общего м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- формирование умений, навы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- создание условия для диало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- группового спло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- изменения психологической атмосф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Verdana"/>
                <a:ea typeface="Verdana"/>
              </a:rPr>
              <a:t>Задачи: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856800" y="1285560"/>
            <a:ext cx="740412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-  Создать условия для благоприятного климата взаимодействия с родителями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- Активизировать и обогащать воспитательные и образовательные умения родителей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- Предоставить родителям возможность общаться друг с другом, делиться опытом семейного воспитания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Verdana"/>
              </a:rPr>
              <a:t>- Самой общей задачей педагога в интерактивной технологии является фасилитация (поддержка, облегчение)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Схема 3" descr=""/>
          <p:cNvPicPr/>
          <p:nvPr/>
        </p:nvPicPr>
        <p:blipFill>
          <a:blip r:embed="rId1"/>
          <a:stretch/>
        </p:blipFill>
        <p:spPr>
          <a:xfrm>
            <a:off x="993600" y="853920"/>
            <a:ext cx="7156800" cy="551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Прямоугольник 1"/>
          <p:cNvSpPr/>
          <p:nvPr/>
        </p:nvSpPr>
        <p:spPr>
          <a:xfrm>
            <a:off x="754200" y="620640"/>
            <a:ext cx="7129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, serif"/>
              </a:rPr>
              <a:t>Интерактивные методы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, serif"/>
              </a:rPr>
              <a:t>ломают традиционные стереотипы родительского собрания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, serif"/>
              </a:rPr>
              <a:t> оно становится не просто местом, где сообщают об особенностях развития детей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, serif"/>
              </a:rPr>
              <a:t>а особым пространством, наделенным специфическим смыслом и содержанием. Их применение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, serif"/>
              </a:rPr>
              <a:t>повышает готовность родителей к взаимодействию с психологом, педагогами и другими специалиста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, serif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Рисунок 2" descr=""/>
          <p:cNvPicPr/>
          <p:nvPr/>
        </p:nvPicPr>
        <p:blipFill>
          <a:blip r:embed="rId1"/>
          <a:stretch/>
        </p:blipFill>
        <p:spPr>
          <a:xfrm>
            <a:off x="2843280" y="3790800"/>
            <a:ext cx="38145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Verdana"/>
                <a:ea typeface="Verdana"/>
              </a:rPr>
              <a:t>Основные принципы в совместной работе с семьями воспитанников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856800" y="1642680"/>
            <a:ext cx="740412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- открытость детского сада для семьи (каждому родителю обеспечиваю возможность знать и видеть, как живет и развивается его ребенок);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- сотрудничество педагогов и родителей в воспитании детей;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Verdana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создание активной развивающей среды, обеспечивающей единые подходы к развитию личности в семье и детском коллективе;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-  диагностика общих и частных проблем в развитии и воспитании ребенка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ÐÐ°ÑÑÐ¸Ð½ÐºÐ¸ Ð¿Ð¾ Ð·Ð°Ð¿ÑÐ¾ÑÑ Ð¸Ð½ÑÐµÑÐ°ÐºÑÐ¸Ð²Ð½ÑÐµ ÑÐ¾ÑÐ¼Ñ ÑÐ¾ÑÑÑÐ´Ð½Ð¸ÑÐµÑÑÐ²Ð° Ñ ÑÐµÐ¼ÑÑÐ¹"/>
          <p:cNvPicPr/>
          <p:nvPr/>
        </p:nvPicPr>
        <p:blipFill>
          <a:blip r:embed="rId1"/>
          <a:stretch/>
        </p:blipFill>
        <p:spPr>
          <a:xfrm>
            <a:off x="684360" y="620640"/>
            <a:ext cx="727236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57160" y="428400"/>
            <a:ext cx="7407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Информационно-коммуникативные технологии в работе с родителями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28400" y="1071720"/>
            <a:ext cx="8358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- помогают разнообразить формы поддержки образовательного процесса,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10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Verdana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повысить качество работы с родителями воспитанников,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10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Verdana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- популяризировать деятельность воспитателя группы и детского сада в целом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Преимущества их использования во взаимодействии с семьями дошкольников заключается в следующем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•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минимизация времени доступа родителей к информации;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•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возможность воспитателя продемонстрировать любые документы, фотоматериалы;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•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обеспечение индивидуального подхода к родителям воспитанников;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•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оптимальное сочетание индивидуальной работы с родителями и групповой;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•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рост объема информации;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•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оперативное получение информации родителями;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•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  <a:ea typeface="Verdana"/>
              </a:rPr>
              <a:t>обеспечение диалога воспитателя и родителей группы;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• </a:t>
            </a: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оптимизация взаимодействия педагога с семьей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0T06:19:32Z</dcterms:created>
  <dc:creator>Пользователь</dc:creator>
  <dc:description/>
  <dc:language>en-US</dc:language>
  <cp:lastModifiedBy>User</cp:lastModifiedBy>
  <dcterms:modified xsi:type="dcterms:W3CDTF">2020-03-22T22:22:21Z</dcterms:modified>
  <cp:revision>71</cp:revision>
  <dc:subject/>
  <dc:title>"Интерактивные формы взаимодействия с родителями дошкольников "Играем вместе"</dc:title>
</cp:coreProperties>
</file>